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887-4A37-4272-A63F-4D9F4125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0DB-6E87-4304-8F6A-7CCA00C2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545-F899-4A68-94F1-3ACAC945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D47-5AFF-4225-BA4C-07F47F5A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4A9-DF17-463C-BC0C-43950542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66A-91CC-49F8-81D3-95E87A56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4FE-C08C-4B77-AC92-ADB52E94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C6A-0D92-4EB2-93AD-109061FF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D39-6C2E-4DBE-BF0C-67D7E5D2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081-F5C4-4CC0-8108-13C040F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B28-9C0A-4413-B244-AC2581FC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38E-E317-4E4F-9B95-C0C4122B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6B0-FAF8-4003-A229-8DF6A2AEE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X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2" descr=""/>
          <p:cNvPicPr/>
          <p:nvPr/>
        </p:nvPicPr>
        <p:blipFill>
          <a:blip r:embed="rId2"/>
          <a:stretch/>
        </p:blipFill>
        <p:spPr>
          <a:xfrm>
            <a:off x="1182600" y="1835280"/>
            <a:ext cx="680256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127320" y="393372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莲都区大洋路学校  陈建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8" descr=""/>
          <p:cNvPicPr/>
          <p:nvPr/>
        </p:nvPicPr>
        <p:blipFill>
          <a:blip r:embed="rId3"/>
          <a:stretch/>
        </p:blipFill>
        <p:spPr>
          <a:xfrm rot="670200">
            <a:off x="6741720" y="378900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9"/>
          <p:cNvSpPr/>
          <p:nvPr/>
        </p:nvSpPr>
        <p:spPr>
          <a:xfrm>
            <a:off x="611280" y="1197000"/>
            <a:ext cx="6121440" cy="3311640"/>
          </a:xfrm>
          <a:prstGeom prst="borderCallout1">
            <a:avLst>
              <a:gd name="adj1" fmla="val 18750"/>
              <a:gd name="adj2" fmla="val -8333"/>
              <a:gd name="adj3" fmla="val 105319"/>
              <a:gd name="adj4" fmla="val 117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怎样判断物质在水中是不是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还知道哪些物质能在水中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想做一做其他物质的溶解实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做，你准备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8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45" name="Picture 9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1" descr="1"/>
          <p:cNvPicPr/>
          <p:nvPr/>
        </p:nvPicPr>
        <p:blipFill>
          <a:blip r:embed="rId3"/>
          <a:stretch/>
        </p:blipFill>
        <p:spPr>
          <a:xfrm>
            <a:off x="468360" y="692280"/>
            <a:ext cx="3960720" cy="267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1567440" y="39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溶解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4788000" y="765000"/>
            <a:ext cx="3544920" cy="2664000"/>
            <a:chOff x="4788000" y="765000"/>
            <a:chExt cx="3544920" cy="2664000"/>
          </a:xfrm>
        </p:grpSpPr>
        <p:pic>
          <p:nvPicPr>
            <p:cNvPr id="50" name="Picture 13" descr="2"/>
            <p:cNvPicPr/>
            <p:nvPr/>
          </p:nvPicPr>
          <p:blipFill>
            <a:blip r:embed="rId4"/>
            <a:stretch/>
          </p:blipFill>
          <p:spPr>
            <a:xfrm>
              <a:off x="6084720" y="765000"/>
              <a:ext cx="22482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AutoShape 14"/>
            <p:cNvSpPr/>
            <p:nvPr/>
          </p:nvSpPr>
          <p:spPr>
            <a:xfrm>
              <a:off x="4788000" y="1916280"/>
              <a:ext cx="936360" cy="360360"/>
            </a:xfrm>
            <a:prstGeom prst="rightArrow">
              <a:avLst>
                <a:gd name="adj1" fmla="val 50000"/>
                <a:gd name="adj2" fmla="val 649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5"/>
          <p:cNvSpPr/>
          <p:nvPr/>
        </p:nvSpPr>
        <p:spPr>
          <a:xfrm>
            <a:off x="1813680" y="5083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是怎么溶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"/>
          <p:cNvPicPr/>
          <p:nvPr/>
        </p:nvPicPr>
        <p:blipFill>
          <a:blip r:embed="rId5"/>
          <a:stretch/>
        </p:blipFill>
        <p:spPr>
          <a:xfrm rot="670200">
            <a:off x="5795640" y="3789000"/>
            <a:ext cx="2401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5"/>
          <p:cNvSpPr/>
          <p:nvPr/>
        </p:nvSpPr>
        <p:spPr>
          <a:xfrm>
            <a:off x="2635920" y="691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不想亲眼看看物质的溶解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10040" y="19152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大家找了一位朋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143440" y="32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能实现大家的愿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947240" y="460548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的名字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932360" y="3789360"/>
            <a:ext cx="3054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高锰酸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3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Rectangle 5"/>
          <p:cNvSpPr/>
          <p:nvPr/>
        </p:nvSpPr>
        <p:spPr>
          <a:xfrm>
            <a:off x="2916360" y="47520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品名： 高锰酸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469760" y="14835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紫色细长斜方柱状结晶，带蓝色的金属光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2592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易溶于水，水溶液不稳定。遇光发生分解，生成灰黑色二氧化锰沉淀并附着于器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813040" y="3789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以用做消毒剂和漂白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5280" y="5383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吸入后可引起呼吸道损害。溅落眼睛内，刺激结膜，重者致灼伤。刺激皮肤。浓溶液或结晶对皮肤有腐蚀性，对组织有刺激性易污染皮肤致黑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3421440" y="40392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330080" y="119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高锰酸钾颗粒放多点好还是放少点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高锰酸钾的数量实验.AVI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Rectangle 5"/>
          <p:cNvSpPr/>
          <p:nvPr/>
        </p:nvSpPr>
        <p:spPr>
          <a:xfrm>
            <a:off x="900000" y="1125360"/>
            <a:ext cx="763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水、玻璃棒、高锰酸钾、小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62728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26920" y="19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装水的烧杯内，轻轻地放入几小粒高锰酸钾，先静观高锰酸钾在水中的分散现象，然后用筷子轻轻搅拌一下水，继续观察水和高锰酸钾的变化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826920" y="472428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锰酸钾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11"/>
          <p:cNvPicPr/>
          <p:nvPr/>
        </p:nvPicPr>
        <p:blipFill>
          <a:blip r:embed="rId3"/>
          <a:stretch/>
        </p:blipFill>
        <p:spPr>
          <a:xfrm>
            <a:off x="3995640" y="4076640"/>
            <a:ext cx="4464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 rot="670200">
            <a:off x="6372000" y="47592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04292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一个什么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900000" y="306864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锰酸钾从可见到不可见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从无色到紫色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紫色由浓变淡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9"/>
          <p:cNvSpPr/>
          <p:nvPr/>
        </p:nvSpPr>
        <p:spPr>
          <a:xfrm>
            <a:off x="4155840" y="9079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2133720"/>
          <a:ext cx="7418160" cy="310500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6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5"/>
          <p:cNvSpPr/>
          <p:nvPr/>
        </p:nvSpPr>
        <p:spPr>
          <a:xfrm>
            <a:off x="4084560" y="1052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133720"/>
          <a:ext cx="7418160" cy="289872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hp</dc:creator>
  <dc:description/>
  <dc:language>en-US</dc:language>
  <cp:lastModifiedBy>Administrator</cp:lastModifiedBy>
  <dcterms:modified xsi:type="dcterms:W3CDTF">2013-10-24T02:00:38Z</dcterms:modified>
  <cp:revision>44</cp:revision>
  <dc:subject/>
  <dc:title>幻灯片 1</dc:title>
</cp:coreProperties>
</file>