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4681-5B8B-47E9-B87C-8F404757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2C51-6AEB-493B-8D43-4A45AF55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B2D-DC36-41A8-A591-D71C86F6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D4CE-C6FC-4401-AD6B-2E7AB743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20F4-856F-4238-BCF4-B447C103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87C1-F468-499E-B683-4AAC4373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5DCA-6D7A-4BDD-B420-CA02BC72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3BFE-0E9E-4200-AA09-00AFF9E6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9DB7-CC92-4CCD-AB9E-9FC21A0F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8C21-9EE2-44B5-9E1C-72714605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9B8-89AC-4A3C-97D4-F8DEFD3E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C1D2-597F-49D1-BAC8-8B1A0F41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ACBC-9680-4257-8074-F6BC6604F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EX1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2" descr=""/>
          <p:cNvPicPr/>
          <p:nvPr/>
        </p:nvPicPr>
        <p:blipFill>
          <a:blip r:embed="rId2"/>
          <a:stretch/>
        </p:blipFill>
        <p:spPr>
          <a:xfrm>
            <a:off x="1182600" y="1835280"/>
            <a:ext cx="6802560" cy="907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3127320" y="3933720"/>
            <a:ext cx="30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莲都区大洋路学校  陈建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-360" y="-360"/>
            <a:ext cx="9141120" cy="6857640"/>
            <a:chOff x="-360" y="-360"/>
            <a:chExt cx="9141120" cy="6857640"/>
          </a:xfrm>
        </p:grpSpPr>
        <p:pic>
          <p:nvPicPr>
            <p:cNvPr id="101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-36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Picture 38" descr=""/>
          <p:cNvPicPr/>
          <p:nvPr/>
        </p:nvPicPr>
        <p:blipFill>
          <a:blip r:embed="rId3"/>
          <a:stretch/>
        </p:blipFill>
        <p:spPr>
          <a:xfrm rot="670200">
            <a:off x="6741720" y="3789000"/>
            <a:ext cx="2401920" cy="25639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39"/>
          <p:cNvSpPr/>
          <p:nvPr/>
        </p:nvSpPr>
        <p:spPr>
          <a:xfrm>
            <a:off x="611280" y="1197000"/>
            <a:ext cx="6121440" cy="3311640"/>
          </a:xfrm>
          <a:prstGeom prst="borderCallout1">
            <a:avLst>
              <a:gd name="adj1" fmla="val 18750"/>
              <a:gd name="adj2" fmla="val -8333"/>
              <a:gd name="adj3" fmla="val 105319"/>
              <a:gd name="adj4" fmla="val 117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怎样判断物质在水中是不是溶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还知道哪些物质能在水中溶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想做一做其他物质的溶解实验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如果做，你准备怎么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8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45" name="Picture 9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11" descr="1"/>
          <p:cNvPicPr/>
          <p:nvPr/>
        </p:nvPicPr>
        <p:blipFill>
          <a:blip r:embed="rId3"/>
          <a:stretch/>
        </p:blipFill>
        <p:spPr>
          <a:xfrm>
            <a:off x="468360" y="692280"/>
            <a:ext cx="3960720" cy="2674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2"/>
          <p:cNvSpPr/>
          <p:nvPr/>
        </p:nvSpPr>
        <p:spPr>
          <a:xfrm>
            <a:off x="1567440" y="3933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食盐在水中溶解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6"/>
          <p:cNvGrpSpPr/>
          <p:nvPr/>
        </p:nvGrpSpPr>
        <p:grpSpPr>
          <a:xfrm>
            <a:off x="4788000" y="765000"/>
            <a:ext cx="3544920" cy="2664000"/>
            <a:chOff x="4788000" y="765000"/>
            <a:chExt cx="3544920" cy="2664000"/>
          </a:xfrm>
        </p:grpSpPr>
        <p:pic>
          <p:nvPicPr>
            <p:cNvPr id="50" name="Picture 13" descr="2"/>
            <p:cNvPicPr/>
            <p:nvPr/>
          </p:nvPicPr>
          <p:blipFill>
            <a:blip r:embed="rId4"/>
            <a:stretch/>
          </p:blipFill>
          <p:spPr>
            <a:xfrm>
              <a:off x="6084720" y="765000"/>
              <a:ext cx="22482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AutoShape 14"/>
            <p:cNvSpPr/>
            <p:nvPr/>
          </p:nvSpPr>
          <p:spPr>
            <a:xfrm>
              <a:off x="4788000" y="1916280"/>
              <a:ext cx="936360" cy="360360"/>
            </a:xfrm>
            <a:prstGeom prst="rightArrow">
              <a:avLst>
                <a:gd name="adj1" fmla="val 50000"/>
                <a:gd name="adj2" fmla="val 6496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15"/>
          <p:cNvSpPr/>
          <p:nvPr/>
        </p:nvSpPr>
        <p:spPr>
          <a:xfrm>
            <a:off x="1813680" y="5083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食盐在水中是怎么溶解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"/>
          <p:cNvPicPr/>
          <p:nvPr/>
        </p:nvPicPr>
        <p:blipFill>
          <a:blip r:embed="rId5"/>
          <a:stretch/>
        </p:blipFill>
        <p:spPr>
          <a:xfrm rot="670200">
            <a:off x="5795640" y="3789000"/>
            <a:ext cx="24019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55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Rectangle 5"/>
          <p:cNvSpPr/>
          <p:nvPr/>
        </p:nvSpPr>
        <p:spPr>
          <a:xfrm>
            <a:off x="2635920" y="6912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想不想亲眼看看物质的溶解过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110040" y="191520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给大家找了一位朋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2143440" y="3213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它能实现大家的愿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947240" y="4605480"/>
            <a:ext cx="20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它的名字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4932360" y="3789360"/>
            <a:ext cx="30542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高锰酸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63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Rectangle 5"/>
          <p:cNvSpPr/>
          <p:nvPr/>
        </p:nvSpPr>
        <p:spPr>
          <a:xfrm>
            <a:off x="2916360" y="475200"/>
            <a:ext cx="25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化学品名： 高锰酸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4469760" y="148356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深紫色细长斜方柱状结晶，带蓝色的金属光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24000" y="2592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易溶于水，水溶液不稳定。遇光发生分解，生成灰黑色二氧化锰沉淀并附着于器皿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2813040" y="378936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可以用做消毒剂和漂白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395280" y="53830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吸入后可引起呼吸道损害。溅落眼睛内，刺激结膜，重者致灼伤。刺激皮肤。浓溶液或结晶对皮肤有腐蚀性，对组织有刺激性易污染皮肤致黑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71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Rectangle 5"/>
          <p:cNvSpPr/>
          <p:nvPr/>
        </p:nvSpPr>
        <p:spPr>
          <a:xfrm>
            <a:off x="3421440" y="40392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锰酸钾的溶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330080" y="1197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想一想：高锰酸钾颗粒放多点好还是放少点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高锰酸钾的数量实验.AVI" descr=""/>
          <p:cNvPicPr/>
          <p:nvPr/>
        </p:nvPicPr>
        <p:blipFill>
          <a:blip r:embed="rId3"/>
          <a:stretch/>
        </p:blipFill>
        <p:spPr>
          <a:xfrm>
            <a:off x="1187280" y="19890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9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77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Rectangle 5"/>
          <p:cNvSpPr/>
          <p:nvPr/>
        </p:nvSpPr>
        <p:spPr>
          <a:xfrm>
            <a:off x="900000" y="1125360"/>
            <a:ext cx="7634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实验器材：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烧杯、水、玻璃棒、高锰酸钾、小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627280" y="260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锰酸钾的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826920" y="1989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验操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一个装水的烧杯内，轻轻地放入几小粒高锰酸钾，先静观高锰酸钾在水中的分散现象，然后用筷子轻轻搅拌一下水，继续观察水和高锰酸钾的变化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826920" y="4724280"/>
            <a:ext cx="32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观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高锰酸钾的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水的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11"/>
          <p:cNvPicPr/>
          <p:nvPr/>
        </p:nvPicPr>
        <p:blipFill>
          <a:blip r:embed="rId3"/>
          <a:stretch/>
        </p:blipFill>
        <p:spPr>
          <a:xfrm>
            <a:off x="3995640" y="4076640"/>
            <a:ext cx="446400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6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85" name="Picture 7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8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5" descr=""/>
          <p:cNvPicPr/>
          <p:nvPr/>
        </p:nvPicPr>
        <p:blipFill>
          <a:blip r:embed="rId3"/>
          <a:stretch/>
        </p:blipFill>
        <p:spPr>
          <a:xfrm rot="670200">
            <a:off x="6372000" y="475920"/>
            <a:ext cx="2401920" cy="2563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1042920" y="155736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是一个什么过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900000" y="3068640"/>
            <a:ext cx="63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锰酸钾从可见到不可见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水从无色到紫色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紫色由浓变淡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60" y="-360"/>
            <a:ext cx="9141120" cy="6857640"/>
            <a:chOff x="-360" y="-360"/>
            <a:chExt cx="9141120" cy="6857640"/>
          </a:xfrm>
        </p:grpSpPr>
        <p:pic>
          <p:nvPicPr>
            <p:cNvPr id="91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-36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Rectangle 9"/>
          <p:cNvSpPr/>
          <p:nvPr/>
        </p:nvSpPr>
        <p:spPr>
          <a:xfrm>
            <a:off x="4155840" y="90792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面粉、沙、食盐、高锰酸钾在水中的状态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4360" y="2133720"/>
          <a:ext cx="7418160" cy="3105000"/>
        </p:xfrm>
        <a:graphic>
          <a:graphicData uri="http://schemas.openxmlformats.org/drawingml/2006/table">
            <a:tbl>
              <a:tblPr/>
              <a:tblGrid>
                <a:gridCol w="2881080"/>
                <a:gridCol w="936720"/>
                <a:gridCol w="863640"/>
                <a:gridCol w="1152360"/>
                <a:gridCol w="158436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面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食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高锰酸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看见颗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布是否均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有沉淀出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用过滤的方法分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溶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96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Rectangle 5"/>
          <p:cNvSpPr/>
          <p:nvPr/>
        </p:nvSpPr>
        <p:spPr>
          <a:xfrm>
            <a:off x="4084560" y="105264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面粉、沙、食盐、高锰酸钾在水中的状态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2133720"/>
          <a:ext cx="7418160" cy="2898720"/>
        </p:xfrm>
        <a:graphic>
          <a:graphicData uri="http://schemas.openxmlformats.org/drawingml/2006/table">
            <a:tbl>
              <a:tblPr/>
              <a:tblGrid>
                <a:gridCol w="2881080"/>
                <a:gridCol w="936720"/>
                <a:gridCol w="863640"/>
                <a:gridCol w="1152360"/>
                <a:gridCol w="15843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面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食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高锰酸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看见颗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分布是否均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有沉淀出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否用过滤的方法分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否溶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3:02:01Z</dcterms:created>
  <dc:creator>hp</dc:creator>
  <dc:description/>
  <dc:language>en-US</dc:language>
  <cp:lastModifiedBy>Administrator</cp:lastModifiedBy>
  <dcterms:modified xsi:type="dcterms:W3CDTF">2013-10-24T02:00:38Z</dcterms:modified>
  <cp:revision>44</cp:revision>
  <dc:subject/>
  <dc:title>幻灯片 1</dc:title>
</cp:coreProperties>
</file>