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8E2-EE35-4E7B-A6C3-7D8AA95D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732-13B2-4846-BB59-BA03D1D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BFA-423B-48C0-9DCF-44BDAC5C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044-15BC-42B2-A0EE-48352D12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502-9CC7-458D-85C0-00FC3C24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5F4-43F6-41A6-B8B3-F3131C23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7B0-BCCA-4CB4-8D6B-AE9C01D7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2BD-933B-4BB6-AFE9-A8AA082E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4A8-0907-4051-8DC2-E8761A54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D9E-A817-484D-A8D8-836FE796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DF1-4F9C-4FF4-BEF1-487C069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E2E-73C6-4331-9D9A-79BA147D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7A6F-ECAD-4A7F-BDBE-5B1F4FEFF4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8.xml"/><Relationship Id="rId9" Type="http://schemas.openxmlformats.org/officeDocument/2006/relationships/slide" Target="slide92.xml"/><Relationship Id="rId10" Type="http://schemas.openxmlformats.org/officeDocument/2006/relationships/slide" Target="slide37.xml"/><Relationship Id="rId11" Type="http://schemas.openxmlformats.org/officeDocument/2006/relationships/slide" Target="slide2.xml"/><Relationship Id="rId12" Type="http://schemas.openxmlformats.org/officeDocument/2006/relationships/slide" Target="slide48.xml"/><Relationship Id="rId13" Type="http://schemas.openxmlformats.org/officeDocument/2006/relationships/slide" Target="slide92.xml"/><Relationship Id="rId14" Type="http://schemas.openxmlformats.org/officeDocument/2006/relationships/slide" Target="slide37.xml"/><Relationship Id="rId15" Type="http://schemas.openxmlformats.org/officeDocument/2006/relationships/image" Target="../media/image2.jpeg"/><Relationship Id="rId16" Type="http://schemas.openxmlformats.org/officeDocument/2006/relationships/slide" Target="slide1.xml"/><Relationship Id="rId17" Type="http://schemas.openxmlformats.org/officeDocument/2006/relationships/slide" Target="slide2.xml"/><Relationship Id="rId18" Type="http://schemas.openxmlformats.org/officeDocument/2006/relationships/slide" Target="slide48.xml"/><Relationship Id="rId19" Type="http://schemas.openxmlformats.org/officeDocument/2006/relationships/slide" Target="slide92.xml"/><Relationship Id="rId20" Type="http://schemas.openxmlformats.org/officeDocument/2006/relationships/slide" Target="slide37.xml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2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0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1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2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3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5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3.jpeg"/><Relationship Id="rId4" Type="http://schemas.openxmlformats.org/officeDocument/2006/relationships/slide" Target="slide36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8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4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8.xml"/><Relationship Id="rId4" Type="http://schemas.openxmlformats.org/officeDocument/2006/relationships/slide" Target="slide7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9.xml"/><Relationship Id="rId4" Type="http://schemas.openxmlformats.org/officeDocument/2006/relationships/slide" Target="slide8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1.xml"/><Relationship Id="rId4" Type="http://schemas.openxmlformats.org/officeDocument/2006/relationships/slide" Target="slide8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2.xml"/><Relationship Id="rId4" Type="http://schemas.openxmlformats.org/officeDocument/2006/relationships/slide" Target="slide8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3.xml"/><Relationship Id="rId4" Type="http://schemas.openxmlformats.org/officeDocument/2006/relationships/slide" Target="slide8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5.xml"/><Relationship Id="rId4" Type="http://schemas.openxmlformats.org/officeDocument/2006/relationships/slide" Target="slide8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6.xml"/><Relationship Id="rId4" Type="http://schemas.openxmlformats.org/officeDocument/2006/relationships/slide" Target="slide8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7.xml"/><Relationship Id="rId4" Type="http://schemas.openxmlformats.org/officeDocument/2006/relationships/slide" Target="slide8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8.xml"/><Relationship Id="rId4" Type="http://schemas.openxmlformats.org/officeDocument/2006/relationships/slide" Target="slide8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9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90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4.xml"/><Relationship Id="rId4" Type="http://schemas.openxmlformats.org/officeDocument/2006/relationships/slide" Target="slide94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95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3160" y="2349360"/>
            <a:ext cx="357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一次完成后，作业答案会留在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脑上，因些重做必须关闭后进入，这样答案会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684360" y="5229360"/>
            <a:ext cx="15112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700360" y="5229360"/>
            <a:ext cx="1440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572000" y="5229360"/>
            <a:ext cx="1512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659640" y="5229360"/>
            <a:ext cx="154944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2560" y="134136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运动前和运动后，我们的呼吸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都会发生变化。运动前呼吸和心跳的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数（          ），运动后呼吸和心跳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都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4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比较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65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快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7280" y="4149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运动时，人体需要更多的氧气，这个氧气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呼吸器官吸入和血液运输。所以呼吸和心跳会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647000" y="1341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（    ）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，在由（   ）通过血管输送到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364760" y="32893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419640" y="33256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96000" y="33415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050000" y="4349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352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83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0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291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1227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1227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9000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中起着消化淀粉作用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唾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fill="hold">
                      <p:stCondLst>
                        <p:cond delay="0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6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2957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3" restart="whenNotActive" nodeType="interactiveSeq" fill="hold">
                <p:stCondLst>
                  <p:cond evt="onClick">
                    <p:tgtEl>
                      <p:spTgt spid="1238"/>
                    </p:tgtEl>
                  </p:cond>
                </p:stCondLst>
                <p:childTnLst>
                  <p:par>
                    <p:cTn id="2964" fill="hold">
                      <p:stCondLst>
                        <p:cond evt="onClick">
                          <p:tgtEl>
                            <p:spTgt spid="1238"/>
                          </p:tgtEl>
                        </p:cond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55480" y="134136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消化食物和吸收养分最主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化器官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 flipH="1">
            <a:off x="320292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0" dur="indefinite" restart="never" nodeType="tmRoot">
          <p:childTnLst>
            <p:seq>
              <p:cTn id="2971" dur="indefinite" nodeType="mainSeq">
                <p:childTnLst>
                  <p:par>
                    <p:cTn id="2972" fill="hold">
                      <p:stCondLst>
                        <p:cond delay="0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500"/>
                            </p:stCondLst>
                            <p:childTnLst>
                              <p:par>
                                <p:cTn id="29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3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2994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3001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05920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器官中，（    ）是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交换的场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55640" y="2909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00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7672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5559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0" restart="whenNotActive" nodeType="interactiveSeq" fill="hold">
                <p:stCondLst>
                  <p:cond evt="onClick">
                    <p:tgtEl>
                      <p:spTgt spid="1265"/>
                    </p:tgtEl>
                  </p:cond>
                </p:stCondLst>
                <p:childTnLst>
                  <p:par>
                    <p:cTn id="3031" fill="hold">
                      <p:stCondLst>
                        <p:cond evt="onClick">
                          <p:tgtEl>
                            <p:spTgt spid="1265"/>
                          </p:tgtEl>
                        </p:cond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7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3038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99360" y="1341360"/>
            <a:ext cx="48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）通过血管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珠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328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500"/>
                            </p:stCondLst>
                            <p:childTnLst>
                              <p:par>
                                <p:cTn id="3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7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3068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4" restart="whenNotActive" nodeType="interactiveSeq" fill="hold">
                <p:stCondLst>
                  <p:cond evt="onClick">
                    <p:tgtEl>
                      <p:spTgt spid="1277"/>
                    </p:tgtEl>
                  </p:cond>
                </p:stCondLst>
                <p:childTnLst>
                  <p:par>
                    <p:cTn id="3075" fill="hold">
                      <p:stCondLst>
                        <p:cond evt="onClick">
                          <p:tgtEl>
                            <p:spTgt spid="1277"/>
                          </p:tgtEl>
                        </p:cond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70520" y="1341360"/>
            <a:ext cx="41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心脏一分钟大约跳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—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—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—1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7308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500"/>
                            </p:stCondLst>
                            <p:childTnLst>
                              <p:par>
                                <p:cTn id="3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4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3105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1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3112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85080" y="1125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在运动时，心跳次数增加的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原因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耗氧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减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43280" y="1700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0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500"/>
                            </p:stCondLst>
                            <p:childTnLst>
                              <p:par>
                                <p:cTn id="3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1304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1304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1303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1303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95560" y="1341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相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变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氮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fill="hold">
                      <p:stCondLst>
                        <p:cond delay="0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"/>
                            </p:stCondLst>
                            <p:childTnLst>
                              <p:par>
                                <p:cTn id="3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3179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316"/>
                    </p:tgtEl>
                  </p:cond>
                </p:stCondLst>
                <p:childTnLst>
                  <p:par>
                    <p:cTn id="3186" fill="hold">
                      <p:stCondLst>
                        <p:cond evt="onClick">
                          <p:tgtEl>
                            <p:spTgt spid="1316"/>
                          </p:tgtEl>
                        </p:cond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1128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牙齿有三种，用于咀嚼磨碎食物的牙齿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7964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050920" y="306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050920" y="3645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21524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500364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2" dur="indefinite" restart="never" nodeType="tmRoot">
          <p:childTnLst>
            <p:seq>
              <p:cTn id="3193" dur="indefinite" nodeType="mainSeq">
                <p:childTnLst>
                  <p:par>
                    <p:cTn id="3194" fill="hold">
                      <p:stCondLst>
                        <p:cond delay="0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500"/>
                            </p:stCondLst>
                            <p:childTnLst>
                              <p:par>
                                <p:cTn id="3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5" restart="whenNotActive" nodeType="interactiveSeq" fill="hold">
                <p:stCondLst>
                  <p:cond evt="onClick">
                    <p:tgtEl>
                      <p:spTgt spid="1330"/>
                    </p:tgtEl>
                  </p:cond>
                </p:stCondLst>
                <p:childTnLst>
                  <p:par>
                    <p:cTn id="3216" fill="hold">
                      <p:stCondLst>
                        <p:cond evt="onClick">
                          <p:tgtEl>
                            <p:spTgt spid="1330"/>
                          </p:tgtEl>
                        </p:cond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3223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7507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心脏的位置在胸口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左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右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3088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738036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0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2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3253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9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3260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392840" y="1557360"/>
            <a:ext cx="115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呼吸器官有：（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、（            ）、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）等。最主要的呼吸器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133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684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20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隔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13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3148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下列哪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58920" y="3068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059280" y="306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580000" y="306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411280" y="4365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0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500"/>
                            </p:stCondLst>
                            <p:childTnLst>
                              <p:par>
                                <p:cTn id="3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9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290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6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329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73440" y="98100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说法中，不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中，氧气减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476360" y="386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实际上是在进行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41128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738036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0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1369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1369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1368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1368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06560" y="100800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嚼慢咽”这个词语中“嚼”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指（     ）完成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3132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0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3" restart="whenNotActive" nodeType="interactiveSeq" fill="hold">
                <p:stCondLst>
                  <p:cond evt="onClick">
                    <p:tgtEl>
                      <p:spTgt spid="1382"/>
                    </p:tgtEl>
                  </p:cond>
                </p:stCondLst>
                <p:childTnLst>
                  <p:par>
                    <p:cTn id="3364" fill="hold">
                      <p:stCondLst>
                        <p:cond evt="onClick">
                          <p:tgtEl>
                            <p:spTgt spid="1382"/>
                          </p:tgtEl>
                        </p:cond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0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3371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088720" y="981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所需要的氧气是由谁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的各个部位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5364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7" dur="indefinite" restart="never" nodeType="tmRoot">
          <p:childTnLst>
            <p:seq>
              <p:cTn id="3378" dur="indefinite" nodeType="mainSeq">
                <p:childTnLst>
                  <p:par>
                    <p:cTn id="3379" fill="hold">
                      <p:stCondLst>
                        <p:cond delay="0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0" restart="whenNotActive" nodeType="interactiveSeq" fill="hold">
                <p:stCondLst>
                  <p:cond evt="onClick">
                    <p:tgtEl>
                      <p:spTgt spid="1395"/>
                    </p:tgtEl>
                  </p:cond>
                </p:stCondLst>
                <p:childTnLst>
                  <p:par>
                    <p:cTn id="3401" fill="hold">
                      <p:stCondLst>
                        <p:cond evt="onClick">
                          <p:tgtEl>
                            <p:spTgt spid="1395"/>
                          </p:tgtEl>
                        </p:cond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7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3408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95280" y="98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玉米棒时，把玉米从玉米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啃下来，主要是用到了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622764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4" dur="indefinite" restart="never" nodeType="tmRoot">
          <p:childTnLst>
            <p:seq>
              <p:cTn id="3415" dur="indefinite" nodeType="mainSeq">
                <p:childTnLst>
                  <p:par>
                    <p:cTn id="3416" fill="hold">
                      <p:stCondLst>
                        <p:cond delay="0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500"/>
                            </p:stCondLst>
                            <p:childTnLst>
                              <p:par>
                                <p:cTn id="3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7" restart="whenNotActive" nodeType="interactiveSeq" fill="hold">
                <p:stCondLst>
                  <p:cond evt="onClick">
                    <p:tgtEl>
                      <p:spTgt spid="1408"/>
                    </p:tgtEl>
                  </p:cond>
                </p:stCondLst>
                <p:childTnLst>
                  <p:par>
                    <p:cTn id="3438" fill="hold">
                      <p:stCondLst>
                        <p:cond evt="onClick">
                          <p:tgtEl>
                            <p:spTgt spid="1408"/>
                          </p:tgtEl>
                        </p:cond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4" restart="whenNotActive" nodeType="interactiveSeq" fill="hold">
                <p:stCondLst>
                  <p:cond evt="onClick">
                    <p:tgtEl>
                      <p:spTgt spid="1407"/>
                    </p:tgtEl>
                  </p:cond>
                </p:stCondLst>
                <p:childTnLst>
                  <p:par>
                    <p:cTn id="3445" fill="hold">
                      <p:stCondLst>
                        <p:cond evt="onClick">
                          <p:tgtEl>
                            <p:spTgt spid="1407"/>
                          </p:tgtEl>
                        </p:cond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9528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形式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四个部分。指挥我们身体工作的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躯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205092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0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500"/>
                            </p:stCondLst>
                            <p:childTnLst>
                              <p:par>
                                <p:cTn id="3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4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347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1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3482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23760" y="981000"/>
            <a:ext cx="68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成年人一般有（    ）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37" name=""/>
          <p:cNvSpPr/>
          <p:nvPr/>
        </p:nvSpPr>
        <p:spPr>
          <a:xfrm>
            <a:off x="665964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500"/>
                            </p:stCondLst>
                            <p:childTnLst>
                              <p:par>
                                <p:cTn id="3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1" restart="whenNotActive" nodeType="interactiveSeq" fill="hold">
                <p:stCondLst>
                  <p:cond evt="onClick">
                    <p:tgtEl>
                      <p:spTgt spid="1434"/>
                    </p:tgtEl>
                  </p:cond>
                </p:stCondLst>
                <p:childTnLst>
                  <p:par>
                    <p:cTn id="3512" fill="hold">
                      <p:stCondLst>
                        <p:cond evt="onClick">
                          <p:tgtEl>
                            <p:spTgt spid="1434"/>
                          </p:tgtEl>
                        </p:cond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8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3519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3320" y="98100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给我们测量平静时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，通常会选择（   ）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育课结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中听音乐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午吃饭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471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0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3549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5" restart="whenNotActive" nodeType="interactiveSeq" fill="hold">
                <p:stCondLst>
                  <p:cond evt="onClick">
                    <p:tgtEl>
                      <p:spTgt spid="1446"/>
                    </p:tgtEl>
                  </p:cond>
                </p:stCondLst>
                <p:childTnLst>
                  <p:par>
                    <p:cTn id="3556" fill="hold">
                      <p:stCondLst>
                        <p:cond evt="onClick">
                          <p:tgtEl>
                            <p:spTgt spid="1446"/>
                          </p:tgtEl>
                        </p:cond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72600" y="98100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几个人体器官中，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器官的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385128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0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5" restart="whenNotActive" nodeType="interactiveSeq" fill="hold">
                <p:stCondLst>
                  <p:cond evt="onClick">
                    <p:tgtEl>
                      <p:spTgt spid="1460"/>
                    </p:tgtEl>
                  </p:cond>
                </p:stCondLst>
                <p:childTnLst>
                  <p:par>
                    <p:cTn id="3586" fill="hold">
                      <p:stCondLst>
                        <p:cond evt="onClick">
                          <p:tgtEl>
                            <p:spTgt spid="1460"/>
                          </p:tgtEl>
                        </p:cond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2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3593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76840" y="12747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900000" y="23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跑步时，身体中的骨骼、关节、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900000" y="2997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时，身体中只有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90000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仰卧起坐时，只有骨骼和关节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rId3" action="ppaction://hlinksldjump"/>
          </p:cNvPr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308720" y="126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9" dur="indefinite" restart="never" nodeType="tmRoot">
          <p:childTnLst>
            <p:seq>
              <p:cTn id="3600" dur="indefinite" nodeType="mainSeq">
                <p:childTnLst>
                  <p:par>
                    <p:cTn id="3601" fill="hold">
                      <p:stCondLst>
                        <p:cond delay="0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7" fill="hold">
                            <p:stCondLst>
                              <p:cond delay="500"/>
                            </p:stCondLst>
                            <p:childTnLst>
                              <p:par>
                                <p:cTn id="3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2" restart="whenNotActive" nodeType="interactiveSeq" fill="hold">
                <p:stCondLst>
                  <p:cond evt="onClick">
                    <p:tgtEl>
                      <p:spTgt spid="1473"/>
                    </p:tgtEl>
                  </p:cond>
                </p:stCondLst>
                <p:childTnLst>
                  <p:par>
                    <p:cTn id="3623" fill="hold">
                      <p:stCondLst>
                        <p:cond evt="onClick">
                          <p:tgtEl>
                            <p:spTgt spid="1473"/>
                          </p:tgtEl>
                        </p:cond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9" restart="whenNotActive" nodeType="interactiveSeq" fill="hold">
                <p:stCondLst>
                  <p:cond evt="onClick">
                    <p:tgtEl>
                      <p:spTgt spid="1472"/>
                    </p:tgtEl>
                  </p:cond>
                </p:stCondLst>
                <p:childTnLst>
                  <p:par>
                    <p:cTn id="3630" fill="hold">
                      <p:stCondLst>
                        <p:cond evt="onClick">
                          <p:tgtEl>
                            <p:spTgt spid="1472"/>
                          </p:tgtEl>
                        </p:cond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616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算呼吸一次，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实际上是在进行（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（         ）进入血液，同进排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，我们每时每刻都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呼吸，伴随着运动量的增加，每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的次数也会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563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呼一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213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交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15960" y="5157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8000" y="263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378520" y="1341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一个塑料袋里装上水、切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馒头和煮熟的蔬菜，反复揉挤这个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这是模拟下列哪个器官的活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40328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92256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2764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4216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740720" y="242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6" dur="indefinite" restart="never" nodeType="tmRoot">
          <p:childTnLst>
            <p:seq>
              <p:cTn id="3637" dur="indefinite" nodeType="mainSeq">
                <p:childTnLst>
                  <p:par>
                    <p:cTn id="3638" fill="hold">
                      <p:stCondLst>
                        <p:cond delay="0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9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3660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6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3667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3" restart="whenNotActive" nodeType="interactiveSeq" fill="hold">
                <p:stCondLst>
                  <p:cond evt="onClick">
                    <p:tgtEl>
                      <p:spTgt spid="1488"/>
                    </p:tgtEl>
                  </p:cond>
                </p:stCondLst>
                <p:childTnLst>
                  <p:par>
                    <p:cTn id="3674" fill="hold">
                      <p:stCondLst>
                        <p:cond evt="onClick">
                          <p:tgtEl>
                            <p:spTgt spid="1488"/>
                          </p:tgtEl>
                        </p:cond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3600" y="148428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呼吸平静时一般每分钟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（   ）次左右，心跳每分钟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左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133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99640" y="4292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运动员的呼吸和心跳次数少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1960" y="155736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需要的氧气由（     ）吸入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，再由（     ）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身体的各个部位，同时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等废物，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2060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3213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伴随着身体运动的增加，人体需要更多的（          ）。（                 ）也逐渐加快，以便输送更多的（         ）和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19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呼吸和心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565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45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128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557360"/>
            <a:ext cx="94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  ）是指一次尽力吸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再尽力呼出的气体总量。我的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 ）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270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4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4221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由最有力的肌肉组成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脏不停地跳动，实际上是在（     ）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把血液从心脏挤到全身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血液流回到心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收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776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舒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81360" y="1484280"/>
            <a:ext cx="758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人体的运输兵，它在全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流动，把（     ）和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全身，又把（        ）和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送到相关部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43657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43280" y="2060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0872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6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26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93640" y="141300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理的休息与良好的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让心脏更好的工作，有利于我们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1884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4221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4560" y="184464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于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每天所吃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23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8200" y="16286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消化器官依次分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）、（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和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56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080" y="148428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一个消化器官都有各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，都需要我们爱护。消化食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消耗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56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3320" y="1844640"/>
            <a:ext cx="61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在我们体内经过的旅程长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，历时约（      ）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1160" y="177336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食物消化开始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，是由（                   ）共同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43280" y="23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、舌头、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119700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按形状分为（　　　　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、（　　　　）。门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　），犬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，臼齿用来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12034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门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犬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臼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0540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的牙齿有不同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76360" y="22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切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292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撕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28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磨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身体重要的消化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。不同形状的牙齿在消化食物中发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各自不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48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77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（      ）可以防止蛀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17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刷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4076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413000"/>
            <a:ext cx="92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2612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4720" y="36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经常运动，（       ）会变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壮，（      ）增大，能为身体提供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9304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68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690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外形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9520" y="230976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分为（   ）、（   ）、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四部分组成。人的身体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888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240" y="235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96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躯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食物在体内消化的好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就会吸收更多的（     ），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生长提供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比，氮气不变，（        ）减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（          ）增加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35280" y="220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052640"/>
            <a:ext cx="92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    ）通过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输送到身体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112536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6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营养是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胃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小肠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我们人体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1052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的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会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变硬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变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35280" y="1628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举哑铃的过程中，手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）和骨骼参与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64000" y="162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爱运动的同学相比，不爱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的同学运动后恢复正常心跳所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更多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一样多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220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7800" y="37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呼吸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4000" y="4581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隔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3956040" cy="4175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64000" y="1628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72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80000" y="465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184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24922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26920" y="2924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6980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1080" y="17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咽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9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908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支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27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消化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5092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12000" y="3789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0360" y="299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0360" y="4437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2276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4108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908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90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72360" y="44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279600" y="1773360"/>
            <a:ext cx="275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身体能够做很多工作，而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总是有多个部位（                    ）、（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时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69640" y="386064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共同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运动起来，人体呼吸和心跳都会加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0380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必须答到运动起来人体需要更多的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25240" y="19749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运动起来，人体需要更多的氧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就需要加快呼吸来提供，加快血液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输送，所以呼吸和心跳就会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5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402360" y="1125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出运动对我们身体有哪些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6920" y="234936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心脏变得强壮，肺活量会增大，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粗壮、肌肉发达、关节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450864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下列消化器官与其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食物运输到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一步磨碎和分解食物，初步消化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食物破碎，并消化少量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食物和吸收养分最主要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收食物残渣中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2133720"/>
            <a:ext cx="151128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2708280"/>
            <a:ext cx="1584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27280" y="2492280"/>
            <a:ext cx="1368360" cy="936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56000" y="1844280"/>
            <a:ext cx="1439640" cy="2305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7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4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人体器官与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送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声波到中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声波转化为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食物运输到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84360" y="2133720"/>
            <a:ext cx="1511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411280" y="1773000"/>
            <a:ext cx="1729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627280" y="3141720"/>
            <a:ext cx="1368360" cy="287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149720"/>
            <a:ext cx="1368360" cy="647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700360" y="4005360"/>
            <a:ext cx="1295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4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87120" y="225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8760" y="289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舌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58760" y="36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24360" y="2852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润滑食物，消化食物中的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1280" y="34765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咬啐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1812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搅拌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2565360"/>
            <a:ext cx="165600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556000" y="2491920"/>
            <a:ext cx="151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27280" y="3068280"/>
            <a:ext cx="1368360" cy="863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人体器官分别属于哪种类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42280" y="17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1960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臂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呼吸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82920" y="306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393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动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1773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循环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84360" y="2133720"/>
            <a:ext cx="187164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2708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43280" y="3429000"/>
            <a:ext cx="1439640" cy="72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556000" y="2133720"/>
            <a:ext cx="180000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48320" y="225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898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捏放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19600" y="361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塑料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08360" y="28051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5640" y="3429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跳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08360" y="2133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43280" y="2565360"/>
            <a:ext cx="18730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360" y="321300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916360" y="2349000"/>
            <a:ext cx="1871640" cy="1582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说说消化器官与运动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3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消化器官提供养份，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器官进行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外形上，人体一般可以分为头、颈、躯干、四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39680" y="2492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体的结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四个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是五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把四肢拆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肢和下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8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19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14880" y="1616040"/>
            <a:ext cx="643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身体里有一个支架，这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）。骨骼（       ）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21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起到支撑和保护内脏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特点都是可以直接观察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内脏一般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直接看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748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用耳听、触摸、手捏等方法来观察我们身体的内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工作时，总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个部位同时参与、共同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39680" y="29973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78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残疾人，我们应该关心并尽力帮助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6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07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可以独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94960" y="299736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、肌肉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必须同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人体才能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持正确的姿势，减少碰撞等，可以避免骨骼受到伤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0400" y="3068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858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伸腿、屈腿时，骨骼、关节和肌肉的运动情况是一致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2368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腿是上面的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肉舒张，下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收缩。屈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时肌肉活动正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2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73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锻炼，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189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吸进去的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是一样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无非是数量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92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时需要消耗大量的氧气，所以呼吸的次数要比平时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939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946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0" y="206064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体的各种运动都是由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收缩带动（                  ）而实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体的骨骼由（          ）块骨头组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骨头与骨头相连的地方叫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、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1417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7960" y="47242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00720" y="365112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1916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后，要恢复平静状态下的呼吸次数，不爱运动的同学比爱运动的同学所需的时间要长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7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968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900000" y="227664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锻炼身体可以增大肺活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2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983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工作量很大，但在两次跳动间隙有休息时间，所以它不会疲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5964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工作量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也会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201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锻炼身体可以增强心脏的力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202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203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需要血液运输更多的氧气，心跳也就逐渐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205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的肌肉收缩、舒张一次，我们就会感觉到一次心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我们每天所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个消化器官都有各自的功能，都需要我们爱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4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2115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2122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4360" y="2276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边吃饭一边看电视不会影响消化，而且能节约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4544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样食物会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进入气管，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生命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0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得太多会增加胃的负担，但饿肚子不会影响胃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胃病主要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是早上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吃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215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21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0" y="1341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的作用（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34136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支撑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保护内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440" y="3695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主要是两个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进入人体后，依次经过口腔、食道、胃、大肠、小肠等消化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738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先到小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再进入大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7" restart="whenNotActive" nodeType="interactiveSeq" fill="hold">
                <p:stCondLst>
                  <p:cond evt="onClick">
                    <p:tgtEl>
                      <p:spTgt spid="894"/>
                    </p:tgtEl>
                  </p:cond>
                </p:stCondLst>
                <p:childTnLst>
                  <p:par>
                    <p:cTn id="2188" fill="hold">
                      <p:stCondLst>
                        <p:cond evt="onClick">
                          <p:tgtEl>
                            <p:spTgt spid="894"/>
                          </p:tgtEl>
                        </p:cond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对食物的初步消化，是由牙齿、舌头、唾液共同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2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2203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9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2210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形状的牙齿在消化食物的过程中发挥着相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0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223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也能把食物变成食糜，所以食物在口腔里不需要多咀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520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口腔中咀嚼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减轻胃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米饭时我们感觉到有甜味，这是因为唾液中的淀粉酶把米饭中的淀粉变成了糖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9440" y="29242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0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2276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身体的各部分器官看似没有关系，实际上关系密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0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949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949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各个器官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2908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313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826920" y="1413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完成肢体动作，需要骨骼、关节、肌肉协同工作。同时，经常参加体育锻炼，又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0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1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2342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在运动过程中要消耗大量的氧气。经常运动，会增大我们的肺活量，获得更多的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0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我们每分钟的呼吸次数和心跳次数都会增加，但是呼吸和心跳之间没有任何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0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5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2386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8400" y="1773360"/>
            <a:ext cx="61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活动由（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共同完成，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的运动形式，骨骼、关节、肌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形式也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00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4508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三者要协调配合，才能完成一个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体内被充分地消化吸收，就能为骨骼、肌肉的生长提供更多的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rId3" action="ppaction://hlinksldjump"/>
          </p:cNvPr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40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40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84360" y="2276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不好，人的消化就会受到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0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2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2423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2430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消化过程中不需要消耗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0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244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452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需要的能量来自消化器官对食物中营养的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95680" y="292428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运动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消化器官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6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2467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3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2474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我们的心跳加快了，说明我们的身体正在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295680" y="2421000"/>
            <a:ext cx="146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输送氧气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度加快，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需要更多的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说明正在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0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8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9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5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496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时，心脏需要向全身输送更多的血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95680" y="33577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个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7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18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口腔里会初步消化，同时口腔也能吸收一些营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9568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淀粉在口腔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唾液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下转化成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被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53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9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540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消化主要在胃里进行，所以在消化过程中不需要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食物消化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氧气，不管在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2555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1" restart="whenNotActive" nodeType="interactiveSeq" fill="hold">
                <p:stCondLst>
                  <p:cond evt="onClick">
                    <p:tgtEl>
                      <p:spTgt spid="1081"/>
                    </p:tgtEl>
                  </p:cond>
                </p:stCondLst>
                <p:childTnLst>
                  <p:par>
                    <p:cTn id="2562" fill="hold">
                      <p:stCondLst>
                        <p:cond evt="onClick">
                          <p:tgtEl>
                            <p:spTgt spid="1081"/>
                          </p:tgtEl>
                        </p:cond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手拿起放在地上的哑铃的时候，只有肌肉参与了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、骨骼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共同作用下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完成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8" dur="indefinite" restart="never" nodeType="tmRoot">
          <p:childTnLst>
            <p:seq>
              <p:cTn id="2569" dur="indefinite" nodeType="mainSeq">
                <p:childTnLst>
                  <p:par>
                    <p:cTn id="2570" fill="hold">
                      <p:stCondLst>
                        <p:cond delay="0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6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577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584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在不停地跳动，没有时间休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67880" y="2421000"/>
            <a:ext cx="23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脏在两次跳动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隙为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但实际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只要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8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可以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0" dur="indefinite" restart="never" nodeType="tmRoot">
          <p:childTnLst>
            <p:seq>
              <p:cTn id="2591" dur="indefinite" nodeType="mainSeq">
                <p:childTnLst>
                  <p:par>
                    <p:cTn id="2592" fill="hold">
                      <p:stCondLst>
                        <p:cond delay="0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8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599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5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606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2320" y="177336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体育锻炼能使我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（      ），肌肉（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节更加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发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13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中进行气体交换的主要场所是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2760" y="2708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0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2621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7" restart="whenNotActive" nodeType="interactiveSeq" fill="hold">
                <p:stCondLst>
                  <p:cond evt="onClick">
                    <p:tgtEl>
                      <p:spTgt spid="1114"/>
                    </p:tgtEl>
                  </p:cond>
                </p:stCondLst>
                <p:childTnLst>
                  <p:par>
                    <p:cTn id="2628" fill="hold">
                      <p:stCondLst>
                        <p:cond evt="onClick">
                          <p:tgtEl>
                            <p:spTgt spid="1114"/>
                          </p:tgtEl>
                        </p:cond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4" restart="whenNotActive" nodeType="interactiveSeq" fill="hold">
                <p:stCondLst>
                  <p:cond evt="onClick">
                    <p:tgtEl>
                      <p:spTgt spid="1115"/>
                    </p:tgtEl>
                  </p:cond>
                </p:stCondLst>
                <p:childTnLst>
                  <p:par>
                    <p:cTn id="2635" fill="hold">
                      <p:stCondLst>
                        <p:cond evt="onClick">
                          <p:tgtEl>
                            <p:spTgt spid="1115"/>
                          </p:tgtEl>
                        </p:cond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3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73120" y="115884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功能中，不属于人体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骼作用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536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支撑我们的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护内脏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971640" y="378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传输人体需要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661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361512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4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665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21760" y="11588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软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硬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248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2702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0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35960" y="1158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拿着重物，弯曲手臂，上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肌肉的运动为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98348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7572240" cy="222084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6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7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0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500"/>
                            </p:stCondLst>
                            <p:childTnLst>
                              <p:par>
                                <p:cTn id="2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8" restart="whenNotActive" nodeType="interactiveSeq" fill="hold">
                <p:stCondLst>
                  <p:cond evt="onClick">
                    <p:tgtEl>
                      <p:spTgt spid="1160"/>
                    </p:tgtEl>
                  </p:cond>
                </p:stCondLst>
                <p:childTnLst>
                  <p:par>
                    <p:cTn id="2729" fill="hold">
                      <p:stCondLst>
                        <p:cond evt="onClick">
                          <p:tgtEl>
                            <p:spTgt spid="1160"/>
                          </p:tgtEl>
                        </p:cond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1161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1161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1120" y="1341360"/>
            <a:ext cx="29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最长的骨头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6476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腿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2492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股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79600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脊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712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500"/>
                            </p:stCondLst>
                            <p:childTnLst>
                              <p:par>
                                <p:cTn id="2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2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2773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482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大约有（    ）块肌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3320" y="25700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534384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9" dur="indefinite" restart="never" nodeType="tmRoot">
          <p:childTnLst>
            <p:seq>
              <p:cTn id="2780" dur="indefinite" nodeType="mainSeq">
                <p:childTnLst>
                  <p:par>
                    <p:cTn id="2781" fill="hold">
                      <p:stCondLst>
                        <p:cond delay="0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2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2803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9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810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1816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头之间连接的地方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97164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419640" y="245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96000" y="24732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7360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fill="hold">
                      <p:stCondLst>
                        <p:cond delay="0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9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2840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6" restart="whenNotActive" nodeType="interactiveSeq" fill="hold">
                <p:stCondLst>
                  <p:cond evt="onClick">
                    <p:tgtEl>
                      <p:spTgt spid="1198"/>
                    </p:tgtEl>
                  </p:cond>
                </p:stCondLst>
                <p:childTnLst>
                  <p:par>
                    <p:cTn id="2847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085200" y="13413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（   ）是不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5640" y="220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的肢体运动由骨骼、关节、肌肉共同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6920" y="2852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进行不同运动时，骨骼、关节、肌肉运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会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26920" y="386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外部有肌肉、皮肤保护，因此我们不用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保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8652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128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0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500"/>
                            </p:stCondLst>
                            <p:childTnLst>
                              <p:par>
                                <p:cTn id="2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2884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30T00:21:52Z</dcterms:modified>
  <cp:revision>396</cp:revision>
  <dc:subject/>
  <dc:title>幻灯片 1</dc:title>
</cp:coreProperties>
</file>