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DBD-17D1-4646-94C6-05EAC103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65F-75F9-4AD5-84D0-CE1068D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A3E-3180-49C8-AC3D-1238E4C5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F26-65E3-41CA-9741-88B3C116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248-DA20-4BA3-A0CC-08F64A38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E1B-45AB-4606-9494-6887CA10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338-2781-44A2-87F3-DBA5CBF2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BB4-BB54-492E-A45E-646AED71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A28-3336-484D-B773-969568E4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848-B6A7-42EA-8D11-FB93741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FEE-4901-41C8-8279-7AAF1F7A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F60-F253-4037-A14D-267535A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87F3-035E-46D6-9417-C657C313A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1.xml"/><Relationship Id="rId9" Type="http://schemas.openxmlformats.org/officeDocument/2006/relationships/slide" Target="slide77.xml"/><Relationship Id="rId10" Type="http://schemas.openxmlformats.org/officeDocument/2006/relationships/slide" Target="slide31.xml"/><Relationship Id="rId11" Type="http://schemas.openxmlformats.org/officeDocument/2006/relationships/image" Target="../media/image2.jpeg"/><Relationship Id="rId12" Type="http://schemas.openxmlformats.org/officeDocument/2006/relationships/slide" Target="slide1.xml"/><Relationship Id="rId13" Type="http://schemas.openxmlformats.org/officeDocument/2006/relationships/slide" Target="slide2.xml"/><Relationship Id="rId14" Type="http://schemas.openxmlformats.org/officeDocument/2006/relationships/slide" Target="slide41.xml"/><Relationship Id="rId15" Type="http://schemas.openxmlformats.org/officeDocument/2006/relationships/slide" Target="slide77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6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5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9.xml"/><Relationship Id="rId4" Type="http://schemas.openxmlformats.org/officeDocument/2006/relationships/slide" Target="slide7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0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8316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00" y="1341360"/>
            <a:ext cx="895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振动的物体有粗有细（如琴弦）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声音（         ），粗的声音（        ）；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有长有短（如钉子），短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，长的声音（          ）；振动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物体有大有小（如碗）小的声音（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844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9396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5520" y="474516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小、少、紧   振动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32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0160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3508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3616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557360"/>
            <a:ext cx="86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尺子伸出桌面越短，振动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 ）；尺子伸出桌面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，振动（              ）发出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2060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036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3480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声音高，振动就快，声音低，振动就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7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28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以（     ）的形式传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声波遇到物体时，会使物体产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，声音就是通过各种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一个地方传播到另一个地方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8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64400" y="47242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4560" y="1628640"/>
            <a:ext cx="71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传播需要一定的条件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   ）、（       ）、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都能传播。固体传声的本领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传声的本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220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固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7616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传播需要一定的媒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84720" y="220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81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32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8664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传播声音的重要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，声音在（       ）中不能传播。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在月球上，由于没有空气，即没有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传播振动的物质，两个人即使相隔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，也不能互相通话。必须要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设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真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4365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线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耳朵分为（       ）、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三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2800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342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57360"/>
            <a:ext cx="946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很（     ），而且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使是很轻的声音，它都会产生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43640" y="1563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1528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78936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把声波转化为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离声源越远，鼓膜的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度越小，听到的声音就（      ）；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离声源越近，鼓膜振动幅度越大，听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声音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2060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9040" y="32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9760" y="148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把手放在耳后，并朝向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出的方向，我们听到的声音会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0400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加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71628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进入耳道的声波更为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82360" y="1413000"/>
            <a:ext cx="48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60280" y="14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听觉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1480" y="303228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5640" y="184464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声音的世界里，有些声音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动听，使有心旷神怡，我们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；有些声音嘈杂刺耳，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心烦意乱，我们称为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99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乐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164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6960" y="1628640"/>
            <a:ext cx="808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或（       ）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可能（      ）我们的听力，所以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要尽量远离这些声，有时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或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162864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162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484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损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87280" y="32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32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戴上保护装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11240" y="148428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旦人的听力严重下降，通常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配戴（         ），这种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能够帮助人们使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68360" y="2060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助听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63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子扩音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0800" y="1871640"/>
            <a:ext cx="708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土电话”是通过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声音的。“听诊器”是通过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声音传播至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844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棉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胶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60000" y="1773360"/>
            <a:ext cx="680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外耳道分泌的液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保护外耳道皮肤各粘住灰尘和小飞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，我们不要经常掏耳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耵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7760" y="1197000"/>
            <a:ext cx="646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（       ）、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、课堂等地方，我们应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自己的声音。尽量要保持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1197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影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119700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医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704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公共场所必须注意控制自己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162864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耳朵里（       ），能时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刻接受各种声音并产生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2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500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作用是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77336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时发出的声音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振动产生的；蚊子发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嗡嗡”声是由（　　　　）振动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2276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450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413000"/>
            <a:ext cx="92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度越大，声音越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幅度越小，声音越（　　　）；物体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速度越快，声音越（　　　），振动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慢，声音越（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49600" y="148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5724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364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1240" y="387972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一定是填高低，振动幅度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填强弱。两者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一个振动的物体会使它周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发生振动，振动的空气到达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的耳朵，引起（　　　）振动。耳朵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再把振动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把振动转化为（　　　　　　）再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把信号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我们就感受到了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468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206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270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小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700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就是我们是怎样听到声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270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耳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16360" y="32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信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3789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神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77080" y="379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04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音叉是一种发声仪器，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920" y="2309760"/>
            <a:ext cx="753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和（         ）。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上的字母表示（         ）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7200" y="2263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调试乐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844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测试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540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叉每秒钟振动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８、收音机传来的钢琴声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振动产生的。写字的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是通过（　　　）传播到紧贴在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上的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喇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1640" y="213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95800" y="371628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传播必须借助一定的媒介，固体、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、气体都可以传播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168280" y="47628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耳朵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1516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050920" y="1989000"/>
            <a:ext cx="4256280" cy="237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844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08360" y="177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5640" y="33577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20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84720" y="256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3645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1128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9564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17080" y="18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72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80720" y="35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180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41440" y="197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72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觉神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0944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602720" y="620640"/>
            <a:ext cx="60634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把耳朵的结构和它的功能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连接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道             传递振动到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传递声波到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小骨           将听觉信号传递到大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觉神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振动转化为听觉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2120" y="4849920"/>
            <a:ext cx="6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耳道、听小骨、听觉神经起到传递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鼓膜、耳蜗起到转化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08000" y="2565360"/>
            <a:ext cx="230364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79640" y="2997360"/>
            <a:ext cx="230508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268360" y="2637000"/>
            <a:ext cx="1943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79640" y="3860640"/>
            <a:ext cx="2305080" cy="50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700360" y="3429000"/>
            <a:ext cx="1584360" cy="9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97520" y="40464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下图，敲击试管时，声音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变化？对着试管口朝水平方向吹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声音高低又是如何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21300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高到低，因为敲是水在振动，杯子里水少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5157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少、薄、紧的物体声音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87280" y="4067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低到高，因为吹是空气在振动，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的空气少，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rId3" action="ppaction://hlinksldjump"/>
          </p:cNvPr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2484360" y="2133720"/>
            <a:ext cx="3888000" cy="1198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11280" y="54936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、小兰和小强一起在实验室做了如下实验：小明把手放在喉头，大声说话，感觉声带振动了：小兰把发声的音叉触及水面，水面荡起了波纹；小强用力拨动钢尺，钢尺发出了声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三位小朋友都在探究什么问题？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上面的实验现象，你得出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964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三位小朋友在探究声音是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样产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3967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声音是物体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190240" y="836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听觉器官，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呵护，那么怎样才能避免听力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伤害？请说出几种保护听力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至少三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324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3068640"/>
            <a:ext cx="107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远离噪声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不要经常使用耳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遇到过高的声音，尽可能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张开嘴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829160" y="476280"/>
            <a:ext cx="50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下面每幅图提供的从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顺序，用高低来表示声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94520" y="530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长——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2409840" cy="1592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801880" cy="1613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3635280" y="1773360"/>
            <a:ext cx="2382840" cy="14666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048360" y="1916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少——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——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4836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—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041200" y="449280"/>
            <a:ext cx="50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组在做“探索尺子音高变化”实验时，记录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0980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332000" y="1125360"/>
            <a:ext cx="7129440" cy="2376720"/>
            <a:chOff x="1332000" y="1125360"/>
            <a:chExt cx="7129440" cy="2376720"/>
          </a:xfrm>
        </p:grpSpPr>
        <p:sp>
          <p:nvSpPr>
            <p:cNvPr id="508" name=""/>
            <p:cNvSpPr/>
            <p:nvPr/>
          </p:nvSpPr>
          <p:spPr>
            <a:xfrm>
              <a:off x="1332000" y="1125360"/>
              <a:ext cx="712944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2000" y="155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2000" y="198900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32000" y="249228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32000" y="299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4328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2000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202480" y="112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尺子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23320" y="155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94600" y="2054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９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4032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２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596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５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5284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到振动快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2448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到音高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482800" y="162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57240" y="2054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85960" y="255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11520" y="306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06400" y="371628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、联系课堂实验，完成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、分析记录表可知：尺子的音高变化与（　　　　　　）有关。尺子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桌面的长度越（　　　　）振动越（　　　　　），声音越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、由以上结论可以推测，用同样力度敲击同样粗细，不同长度的两块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，长铝片发出的声音（　　　　　）短铝片发出的声音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80080" y="156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44880" y="20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17960" y="256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991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50800" y="422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280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5952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3188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7224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图阅读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522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395280" y="1557360"/>
            <a:ext cx="8209080" cy="2881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77080" y="126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6360" y="242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63640" y="29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用同样的力击打大小不同的两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叉，小音叉发出的声音（      ），大音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3840" y="3933720"/>
            <a:ext cx="56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的快，所以声音高，大音叉振动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声音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概括说说声音高低变化的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细、短、少、紧、薄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高。粗、长、多、松、厚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刚好是一对反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472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47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大小不同的两支音叉，小的音叉发出的声音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声音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9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哆”、“ 咪”、“嗖”三个音阶中，“哆”的音最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26560" y="29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熟悉音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1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不同的力敲击同一支音叉，声音的高低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力越大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越高。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小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叉是用来调试乐器和测试音高的一种发声仪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题要记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音叉的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56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一下锣，在一段时间里都能听到锣声，是因为锣一直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6876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要锣不停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永远会持续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去。直到锣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止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橡皮筋没有发出声音，说明橡皮筋没有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橡皮筋不是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变化，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的振动实际上就是物体不断重复往返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95680" y="2492280"/>
            <a:ext cx="146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有满足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条件，一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重复，另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往返运动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，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有的运动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626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6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孩子的音高比大人高，这时因为孩子的声带小而狭窄，振动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23680" y="292428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、短、细、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少的物体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4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4120" y="161604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是指物体在（     ）的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下，不断重复做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162864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2205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往返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是物体往返运动，而且是重复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与物体振动的幅度有关，物体振动的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强弱是同一回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396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两个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，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快慢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，强弱与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692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8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699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强弱用音量来描述，声音的高低用音高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71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1721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只有老的时候才能丧失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些人一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丧失听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736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743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期生活在充满噪声的环境里，会影响我们的听力和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0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765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高或过强的声音时，我们可以捂住耳朵或戴上保护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0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9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780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要避免长时间使用便携式视频或音频播放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0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8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809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发出声音是可以控制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0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1831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的物体传播声音的本领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固体最好，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最差。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中金属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5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1853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锣停止振动后，还能听到锣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停止振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会马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0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86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875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120" y="2060640"/>
            <a:ext cx="86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声音有（          ）和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变化。人靠（           ）振动发出声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1800" y="3933720"/>
            <a:ext cx="51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是同物体的振动产生的，停止振动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会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学校的每个角落都能听到铃声，说明声音可以向四面八方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6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897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雷声是通过雨水的振动传到我们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通过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传到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们耳朵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1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912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919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我们潜入到水里时，就听不到水面上的声音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能传播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水下能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到水面上的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934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月球上，即使两个人相隔不远说话，也不能直接听到对方的说话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月球上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传播声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956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96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出声音的物体一定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于物体的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978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波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0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2000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007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破了，不会听到声音，但如果大脑听觉神经等出现问题，也有可能听不到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里的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器官都有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的作用，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都要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02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2029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越短，振动时发出的声音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22944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出越短，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快，声音越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伸出越长，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会越慢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会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3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2044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空瓶子上面吹气，发出声音是由瓶内的空气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0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2073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装有小石子的发声罐里放放一些海绵，摇动时发出的声音会减轻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010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放了海绵后，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面的空间小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石子就不会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了，声音就会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0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7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2088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6000" y="1341360"/>
            <a:ext cx="69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的强弱可以用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描述，振动（     ）越大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振动幅度越小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音量的单位是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字母（ 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13460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19288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幅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24987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3003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3573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034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分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52760" y="465300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——强弱——音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听歌的播放器，携带很方便，我们可以长时间使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0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117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物体振动幅度大小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体振动的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慢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132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8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2139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的音叉轻触水面，会使水面产生波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铝箔、棉线、尼龙绳和木制米尺这四种材料的传声效果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铝箔最好，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为金属传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本领最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2176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2" restart="whenNotActive" nodeType="interactiveSeq" fill="hold">
                <p:stCondLst>
                  <p:cond evt="onClick">
                    <p:tgtEl>
                      <p:spTgt spid="925"/>
                    </p:tgtEl>
                  </p:cond>
                </p:stCondLst>
                <p:childTnLst>
                  <p:par>
                    <p:cTn id="2183" fill="hold">
                      <p:stCondLst>
                        <p:cond evt="onClick">
                          <p:tgtEl>
                            <p:spTgt spid="925"/>
                          </p:tgtEl>
                        </p:cond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2276640"/>
            <a:ext cx="46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由物体振动产生的。声音的高低可以用音高来描述，声音的强弱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音量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0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198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4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205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掉走后，里面的闹钟发出的声音会变得很轻，甚至听不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29440" y="2708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传播声音的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没有了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就传不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听起来就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9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2220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6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2227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3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34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91160" y="11588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击打过的音叉轻轻触及水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面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72512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产生波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迅速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3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2264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271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068200" y="115884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弯曲钢尺，钢尺不会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时因为钢尺没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受到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断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704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0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01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2308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7160" y="1773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用（       ）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快，声音就越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慢，声音就越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高的单位是（        ），用字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7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83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342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赫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0280" y="486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——高低——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40053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19360" y="115884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的声音是由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嘴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971640" y="3213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喉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4292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6783840" y="119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0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2338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2000" y="1368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棉线和纸杯子制作的“土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”，声音主要是通过（    ）从话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到听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67640" y="30542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419640" y="3054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796000" y="30542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纸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4885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0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500"/>
                            </p:stCondLst>
                            <p:childTnLst>
                              <p:par>
                                <p:cTn id="2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4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37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382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7288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（     ）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4480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8" dur="indefinite" restart="never" nodeType="tmRoot">
          <p:childTnLst>
            <p:seq>
              <p:cTn id="2389" dur="indefinite" nodeType="mainSeq">
                <p:childTnLst>
                  <p:par>
                    <p:cTn id="2390" fill="hold">
                      <p:stCondLst>
                        <p:cond delay="0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500"/>
                            </p:stCondLst>
                            <p:childTnLst>
                              <p:par>
                                <p:cTn id="2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1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2412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8" restart="whenNotActive" nodeType="interactiveSeq" fill="hold">
                <p:stCondLst>
                  <p:cond evt="onClick">
                    <p:tgtEl>
                      <p:spTgt spid="1020"/>
                    </p:tgtEl>
                  </p:cond>
                </p:stCondLst>
                <p:childTnLst>
                  <p:par>
                    <p:cTn id="2419" fill="hold">
                      <p:stCondLst>
                        <p:cond evt="onClick">
                          <p:tgtEl>
                            <p:spTgt spid="1020"/>
                          </p:tgtEl>
                        </p:cond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48640" y="1341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逐渐抽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罩里的闹钟铃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71640" y="28576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19640" y="28940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796000" y="29098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469620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fill="hold">
                      <p:stCondLst>
                        <p:cond delay="0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8" restart="whenNotActive" nodeType="interactiveSeq" fill="hold">
                <p:stCondLst>
                  <p:cond evt="onClick">
                    <p:tgtEl>
                      <p:spTgt spid="1034"/>
                    </p:tgtEl>
                  </p:cond>
                </p:stCondLst>
                <p:childTnLst>
                  <p:par>
                    <p:cTn id="2449" fill="hold">
                      <p:stCondLst>
                        <p:cond evt="onClick">
                          <p:tgtEl>
                            <p:spTgt spid="1034"/>
                          </p:tgtEl>
                        </p:cond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1033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1033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83212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月球上没有传播声音的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人不能直接听到对方的说话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71640" y="25700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线电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708360" y="256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任何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12000" y="256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7288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0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500"/>
                            </p:stCondLst>
                            <p:childTnLst>
                              <p:par>
                                <p:cTn id="2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2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493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5240" y="1368360"/>
            <a:ext cx="64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咪”、“发”、“索”三个音阶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的音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123876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9" dur="indefinite" restart="never" nodeType="tmRoot">
          <p:childTnLst>
            <p:seq>
              <p:cTn id="2500" dur="indefinite" nodeType="mainSeq">
                <p:childTnLst>
                  <p:par>
                    <p:cTn id="2501" fill="hold">
                      <p:stCondLst>
                        <p:cond delay="0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30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97520" y="134136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敲击音叉，我们听到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0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"/>
                            </p:stCondLst>
                            <p:childTnLst>
                              <p:par>
                                <p:cTn id="2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9" restart="whenNotActive" nodeType="interactiveSeq" fill="hold">
                <p:stCondLst>
                  <p:cond evt="onClick">
                    <p:tgtEl>
                      <p:spTgt spid="1073"/>
                    </p:tgtEl>
                  </p:cond>
                </p:stCondLst>
                <p:childTnLst>
                  <p:par>
                    <p:cTn id="2560" fill="hold">
                      <p:stCondLst>
                        <p:cond evt="onClick">
                          <p:tgtEl>
                            <p:spTgt spid="1073"/>
                          </p:tgtEl>
                        </p:cond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6" restart="whenNotActive" nodeType="interactiveSeq" fill="hold">
                <p:stCondLst>
                  <p:cond evt="onClick">
                    <p:tgtEl>
                      <p:spTgt spid="1072"/>
                    </p:tgtEl>
                  </p:cond>
                </p:stCondLst>
                <p:childTnLst>
                  <p:par>
                    <p:cTn id="2567" fill="hold">
                      <p:stCondLst>
                        <p:cond evt="onClick">
                          <p:tgtEl>
                            <p:spTgt spid="1072"/>
                          </p:tgtEl>
                        </p:cond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62600" y="1341360"/>
            <a:ext cx="37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 ）中不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真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 flipH="1">
            <a:off x="4356000" y="134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500"/>
                            </p:stCondLst>
                            <p:childTnLst>
                              <p:par>
                                <p:cTn id="2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6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2597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3" restart="whenNotActive" nodeType="interactiveSeq" fill="hold">
                <p:stCondLst>
                  <p:cond evt="onClick">
                    <p:tgtEl>
                      <p:spTgt spid="1085"/>
                    </p:tgtEl>
                  </p:cond>
                </p:stCondLst>
                <p:childTnLst>
                  <p:par>
                    <p:cTn id="2604" fill="hold">
                      <p:stCondLst>
                        <p:cond evt="onClick">
                          <p:tgtEl>
                            <p:spTgt spid="1085"/>
                          </p:tgtEl>
                        </p:cond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36680" y="1341360"/>
            <a:ext cx="37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做法错误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71640" y="2205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经常掏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971640" y="2997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对着同学大声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971640" y="3716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强的声音要捂住耳朵、张开嘴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6567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00"/>
                            </p:stCondLst>
                            <p:childTnLst>
                              <p:par>
                                <p:cTn id="2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3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634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0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641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4564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短时，拨动它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的声音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291636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7" dur="indefinite" restart="never" nodeType="tmRoot">
          <p:childTnLst>
            <p:seq>
              <p:cTn id="2648" dur="indefinite" nodeType="mainSeq">
                <p:childTnLst>
                  <p:par>
                    <p:cTn id="2649" fill="hold">
                      <p:stCondLst>
                        <p:cond delay="0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0" restart="whenNotActive" nodeType="interactiveSeq" fill="hold">
                <p:stCondLst>
                  <p:cond evt="onClick">
                    <p:tgtEl>
                      <p:spTgt spid="1112"/>
                    </p:tgtEl>
                  </p:cond>
                </p:stCondLst>
                <p:childTnLst>
                  <p:par>
                    <p:cTn id="2671" fill="hold">
                      <p:stCondLst>
                        <p:cond evt="onClick">
                          <p:tgtEl>
                            <p:spTgt spid="1112"/>
                          </p:tgtEl>
                        </p:cond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7" restart="whenNotActive" nodeType="interactiveSeq" fill="hold">
                <p:stCondLst>
                  <p:cond evt="onClick">
                    <p:tgtEl>
                      <p:spTgt spid="1111"/>
                    </p:tgtEl>
                  </p:cond>
                </p:stCondLst>
                <p:childTnLst>
                  <p:par>
                    <p:cTn id="2678" fill="hold">
                      <p:stCondLst>
                        <p:cond evt="onClick">
                          <p:tgtEl>
                            <p:spTgt spid="1111"/>
                          </p:tgtEl>
                        </p:cond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177336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水量不同的玻璃杯，水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声音越（     ），水越多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（      ）；振动的物体有松有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如橡皮筋），紧的声音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的声音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827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859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960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较振动的快慢，也就是声音的高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400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525680" y="13413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同样的力敲打长短不同的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铁钉，发出声音最高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长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短居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6588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0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7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2708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4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2715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40360" y="1268280"/>
            <a:ext cx="33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耳朵结构中，将声波转化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2843280" y="17794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0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500"/>
                            </p:stCondLst>
                            <p:childTnLst>
                              <p:par>
                                <p:cTn id="2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4" restart="whenNotActive" nodeType="interactiveSeq" fill="hold">
                <p:stCondLst>
                  <p:cond evt="onClick">
                    <p:tgtEl>
                      <p:spTgt spid="1138"/>
                    </p:tgtEl>
                  </p:cond>
                </p:stCondLst>
                <p:childTnLst>
                  <p:par>
                    <p:cTn id="2745" fill="hold">
                      <p:stCondLst>
                        <p:cond evt="onClick">
                          <p:tgtEl>
                            <p:spTgt spid="1138"/>
                          </p:tgtEl>
                        </p:cond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1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2752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95400" y="134136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时间使用（      ）不会损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助听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5435640" y="14191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8" dur="indefinite" restart="never" nodeType="tmRoot">
          <p:childTnLst>
            <p:seq>
              <p:cTn id="2759" dur="indefinite" nodeType="mainSeq">
                <p:childTnLst>
                  <p:par>
                    <p:cTn id="2760" fill="hold">
                      <p:stCondLst>
                        <p:cond delay="0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500"/>
                            </p:stCondLst>
                            <p:childTnLst>
                              <p:par>
                                <p:cTn id="27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78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8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092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耳朵紧贴钢轨，可以听见很远的火车在铁路上行驶的声音，这个声音是通过（      ）传到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2765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050920" y="3413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050920" y="39895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钢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0408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贴在哪里，就是靠它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99564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0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"/>
                            </p:stCondLst>
                            <p:childTnLst>
                              <p:par>
                                <p:cTn id="28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8" restart="whenNotActive" nodeType="interactiveSeq" fill="hold">
                <p:stCondLst>
                  <p:cond evt="onClick">
                    <p:tgtEl>
                      <p:spTgt spid="1164"/>
                    </p:tgtEl>
                  </p:cond>
                </p:stCondLst>
                <p:childTnLst>
                  <p:par>
                    <p:cTn id="2819" fill="hold">
                      <p:stCondLst>
                        <p:cond evt="onClick">
                          <p:tgtEl>
                            <p:spTgt spid="1164"/>
                          </p:tgtEl>
                        </p:cond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5" restart="whenNotActive" nodeType="interactiveSeq" fill="hold">
                <p:stCondLst>
                  <p:cond evt="onClick">
                    <p:tgtEl>
                      <p:spTgt spid="1163"/>
                    </p:tgtEl>
                  </p:cond>
                </p:stCondLst>
                <p:childTnLst>
                  <p:par>
                    <p:cTn id="2826" fill="hold">
                      <p:stCondLst>
                        <p:cond evt="onClick">
                          <p:tgtEl>
                            <p:spTgt spid="1163"/>
                          </p:tgtEl>
                        </p:cond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381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）中传播速度最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40160" y="386064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固体传播本领比液体好，液体传播本领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好。桌子是固体，所以选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399564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0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5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856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2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2863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67912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与物体振动的关系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慢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大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高跟物体振动的快慢有关，跟物体振动幅度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7380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"/>
                            </p:stCondLst>
                            <p:childTnLst>
                              <p:par>
                                <p:cTn id="28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2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2893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9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900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478240" y="98100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可以用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，振动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用音量来描述，跟振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658800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500"/>
                            </p:stCondLst>
                            <p:childTnLst>
                              <p:par>
                                <p:cTn id="2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9" restart="whenNotActive" nodeType="interactiveSeq" fill="hold">
                <p:stCondLst>
                  <p:cond evt="onClick">
                    <p:tgtEl>
                      <p:spTgt spid="1203"/>
                    </p:tgtEl>
                  </p:cond>
                </p:stCondLst>
                <p:childTnLst>
                  <p:par>
                    <p:cTn id="2930" fill="hold">
                      <p:stCondLst>
                        <p:cond evt="onClick">
                          <p:tgtEl>
                            <p:spTgt spid="1203"/>
                          </p:tgtEl>
                        </p:cond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6" restart="whenNotActive" nodeType="interactiveSeq" fill="hold">
                <p:stCondLst>
                  <p:cond evt="onClick">
                    <p:tgtEl>
                      <p:spTgt spid="1202"/>
                    </p:tgtEl>
                  </p:cond>
                </p:stCondLst>
                <p:childTnLst>
                  <p:par>
                    <p:cTn id="2937" fill="hold">
                      <p:stCondLst>
                        <p:cond evt="onClick">
                          <p:tgtEl>
                            <p:spTgt spid="1202"/>
                          </p:tgtEl>
                        </p:cond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074760" y="98100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于噪声的说法，你认为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烟花爆竹发出很强的声音，捂上耳朵或张开嘴巴能避免声音对我们听力的伤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900000" y="34862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会影响听力，但一般不影响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900000" y="41338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悦耳动听，使人心旷神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147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6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2967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3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2974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85080" y="1341360"/>
            <a:ext cx="21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锣发出声音的时候，用手按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锣面，锣声就消失，这是因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971640" y="25700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使锣面停止了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314172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阻止了空气的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97164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挡住了声音的传播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337200" y="4581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由于物体的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94836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0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3" restart="whenNotActive" nodeType="interactiveSeq" fill="hold">
                <p:stCondLst>
                  <p:cond evt="onClick">
                    <p:tgtEl>
                      <p:spTgt spid="1232"/>
                    </p:tgtEl>
                  </p:cond>
                </p:stCondLst>
                <p:childTnLst>
                  <p:par>
                    <p:cTn id="3004" fill="hold">
                      <p:stCondLst>
                        <p:cond evt="onClick">
                          <p:tgtEl>
                            <p:spTgt spid="1232"/>
                          </p:tgtEl>
                        </p:cond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1230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1230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7" restart="whenNotActive" nodeType="interactiveSeq" fill="hold">
                <p:stCondLst>
                  <p:cond evt="onClick">
                    <p:tgtEl>
                      <p:spTgt spid="1231"/>
                    </p:tgtEl>
                  </p:cond>
                </p:stCondLst>
                <p:childTnLst>
                  <p:par>
                    <p:cTn id="3018" fill="hold">
                      <p:stCondLst>
                        <p:cond evt="onClick">
                          <p:tgtEl>
                            <p:spTgt spid="1231"/>
                          </p:tgtEl>
                        </p:cond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9T03:10:00Z</dcterms:modified>
  <cp:revision>291</cp:revision>
  <dc:subject/>
  <dc:title>幻灯片 1</dc:title>
</cp:coreProperties>
</file>