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B8E-86A3-4D0C-97C8-2101B776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1AF-647F-47F5-AC66-E0B7E867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CD9-064A-446B-9610-30107BAA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99B-A36E-4BBF-AD55-E7C60304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3E0-53F5-4608-80F9-6F82F664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FE6-ED3D-4AC3-88F1-BF31BB5D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6A3-3E19-4433-9C81-8F62708D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CBB-DADC-4A15-9059-CB7C1185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1D0-2EEF-4915-A02A-C112D8D6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F0A-4933-4F12-94FA-276D6A4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588-14C7-442C-9D12-6FCB4D24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176-54FD-43F3-A080-F4FF1944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D393-4211-4125-8DB9-117BE9328A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image" Target="../media/image2.jpeg"/><Relationship Id="rId8" Type="http://schemas.openxmlformats.org/officeDocument/2006/relationships/slide" Target="slide1.xml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1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0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1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2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2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3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3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5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2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1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32.xm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2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3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1.xml"/><Relationship Id="rId7" Type="http://schemas.openxmlformats.org/officeDocument/2006/relationships/image" Target="../media/image7.png"/><Relationship Id="rId8" Type="http://schemas.openxmlformats.org/officeDocument/2006/relationships/slide" Target="slide3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34.xm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" Target="slide3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" Target="slide36.xml"/><Relationship Id="rId6" Type="http://schemas.openxmlformats.org/officeDocument/2006/relationships/image" Target="../media/image4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slide" Target="slide1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38.xml"/><Relationship Id="rId6" Type="http://schemas.openxmlformats.org/officeDocument/2006/relationships/slide" Target="slide3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" Target="slide5.xml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0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1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2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3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1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6.xml"/><Relationship Id="rId4" Type="http://schemas.openxmlformats.org/officeDocument/2006/relationships/slide" Target="slide4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9.xml"/><Relationship Id="rId4" Type="http://schemas.openxmlformats.org/officeDocument/2006/relationships/slide" Target="slide5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0.xml"/><Relationship Id="rId4" Type="http://schemas.openxmlformats.org/officeDocument/2006/relationships/slide" Target="slide5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3.xml"/><Relationship Id="rId4" Type="http://schemas.openxmlformats.org/officeDocument/2006/relationships/slide" Target="slide5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4.xml"/><Relationship Id="rId4" Type="http://schemas.openxmlformats.org/officeDocument/2006/relationships/slide" Target="slide5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5.xml"/><Relationship Id="rId4" Type="http://schemas.openxmlformats.org/officeDocument/2006/relationships/slide" Target="slide5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6.xml"/><Relationship Id="rId4" Type="http://schemas.openxmlformats.org/officeDocument/2006/relationships/slide" Target="slide5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8.xml"/><Relationship Id="rId4" Type="http://schemas.openxmlformats.org/officeDocument/2006/relationships/slide" Target="slide5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59.xml"/><Relationship Id="rId4" Type="http://schemas.openxmlformats.org/officeDocument/2006/relationships/slide" Target="slide6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7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0.xml"/><Relationship Id="rId4" Type="http://schemas.openxmlformats.org/officeDocument/2006/relationships/slide" Target="slide6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1.xml"/><Relationship Id="rId4" Type="http://schemas.openxmlformats.org/officeDocument/2006/relationships/slide" Target="slide6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3.xml"/><Relationship Id="rId4" Type="http://schemas.openxmlformats.org/officeDocument/2006/relationships/slide" Target="slide6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4.xml"/><Relationship Id="rId4" Type="http://schemas.openxmlformats.org/officeDocument/2006/relationships/slide" Target="slide65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5.xml"/><Relationship Id="rId4" Type="http://schemas.openxmlformats.org/officeDocument/2006/relationships/slide" Target="slide66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7.xml"/><Relationship Id="rId4" Type="http://schemas.openxmlformats.org/officeDocument/2006/relationships/slide" Target="slide6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8.xml"/><Relationship Id="rId4" Type="http://schemas.openxmlformats.org/officeDocument/2006/relationships/slide" Target="slide69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8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0.xml"/><Relationship Id="rId4" Type="http://schemas.openxmlformats.org/officeDocument/2006/relationships/slide" Target="slide7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71.xml"/><Relationship Id="rId4" Type="http://schemas.openxmlformats.org/officeDocument/2006/relationships/slide" Target="slide72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74.xml"/><Relationship Id="rId6" Type="http://schemas.openxmlformats.org/officeDocument/2006/relationships/slide" Target="slide7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76.xml"/><Relationship Id="rId5" Type="http://schemas.openxmlformats.org/officeDocument/2006/relationships/slide" Target="slide76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77.xml"/><Relationship Id="rId9" Type="http://schemas.openxmlformats.org/officeDocument/2006/relationships/image" Target="../media/image4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7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7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9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3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4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4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5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5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6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7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7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8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8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89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89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0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slide" Target="slide10.xml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0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1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1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2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92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93.xml"/><Relationship Id="rId7" Type="http://schemas.openxmlformats.org/officeDocument/2006/relationships/image" Target="../media/image4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395280" y="5805360"/>
            <a:ext cx="165564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2268360" y="5805360"/>
            <a:ext cx="158292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4067280" y="5877000"/>
            <a:ext cx="15843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5796000" y="5805360"/>
            <a:ext cx="1584360" cy="71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7524720" y="5877000"/>
            <a:ext cx="144000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11880" y="2349360"/>
            <a:ext cx="357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使用说明：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退出程序，请按电脑键盘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同学们在使用时，最好是一个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容一个内容进行复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、采用的形式可以是自测、同学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测、教师抽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437000"/>
            <a:ext cx="1871640" cy="10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4365720"/>
            <a:ext cx="1800360" cy="1077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4508640"/>
            <a:ext cx="17272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3080" y="4508640"/>
            <a:ext cx="1657080" cy="93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568800" y="1628640"/>
            <a:ext cx="105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测量气温时应选择（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，这个地方的温度才能反映当地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。每天要在（                               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864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室外阴凉、通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6880" y="2716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一时间、同一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46400" y="4005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是用气温计测气温的一个标准，否则测量出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不准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720" y="1557360"/>
            <a:ext cx="841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通常情况下，一天中（  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气温最高，凌晨和（                  ）的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温最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59640" y="15638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20667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出前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0400" y="3500280"/>
            <a:ext cx="40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许多同学都误认为一天中最高气温是中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，其实气温最高出现在下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984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2400" y="1773360"/>
            <a:ext cx="612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可以利用（        ）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来观察温度在一天当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1773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折线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23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柱状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37880" y="3500280"/>
            <a:ext cx="538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掌握这两种图表的画法。一般情况下如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格子，是画柱状图，如果没有格子出现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画折线图，一定要看清题目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1628640"/>
            <a:ext cx="703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用温度计时，要等到温度计里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液柱停止（      ）或（      ）后才能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。视线要与液柱（      ）齐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20500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2781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顶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21560" y="37893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计和水温计读数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133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下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23080" y="1557360"/>
            <a:ext cx="625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可以通过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感知，可以用（     ）和（    ）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1557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然界事物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88000" y="2133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4320" y="38037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的十三个等级表中有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风向是指风（         ）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由北向南吹来的是（        ），由西南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北吹来的是（           ）。当红旗飘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东南时，吹的是（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14922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2060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256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3147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292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红旗飘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557360"/>
            <a:ext cx="946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  ）来测量。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的箭头指向风（    ）的方向。如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箭头指向西北，就是（    ）风。用红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巾来判断风向，红领巾向西北方向飘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是（     ）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14842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21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吹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2637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964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4508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搞清楚风的方向就是风向标的箭头指向。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物件飘动的方向与风向正好相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48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（    ）方位来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向，分别是（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148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八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11400" y="206064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、南、西、北、东南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2637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东北、西南、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37162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与数学课学过的上北下南，左西右东的方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66760" y="1484280"/>
            <a:ext cx="676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是以风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计算的。（       ）是测量风速的仪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气象学家把风速记为（     ）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们的天气日历中可以（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来划分风速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32360" y="148428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秒行进多少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206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速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2637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0360" y="3213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风、微风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37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4437000"/>
            <a:ext cx="89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不动为无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红旗微动为微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红旗展开为大风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3320" y="1413000"/>
            <a:ext cx="68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）是天气的一个基本特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记录降水量的单位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2120" y="137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24360" y="19242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毫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1480" y="3032280"/>
            <a:ext cx="86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降水量是测量雨量器里边水的高度，而不是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多少。因此单位是毫米，不是毫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23320" y="1844640"/>
            <a:ext cx="548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的形式很多，常见的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、（    ）、（       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427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2421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2421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94360" y="350028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雾、霜冻、露水不是降水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11120" y="1628640"/>
            <a:ext cx="653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   ）是测量降水量多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装置。气象学家根据一天（     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水量来确定下雨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40120" y="163512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量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22114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65360" y="3789360"/>
            <a:ext cx="10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雨量器必须是上下一样大的、透明的物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2760" y="1484280"/>
            <a:ext cx="56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是由千千万万的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（       ）组成的。云可以看作是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43640" y="1484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水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198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冰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40000" y="256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342900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和积云是由小水滴组成的，高空中的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由冰晶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1112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69000" y="184464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根据云量的多少把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（     ）、（    ）和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3558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00720" y="24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48360" y="2421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63840" y="40244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95520" y="1773360"/>
            <a:ext cx="594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在对云描述时，通常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云的高度和形状把云分成三类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、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4360" y="23558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29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92360" y="29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卷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364500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高度来看，卷云高于积云，积云高于层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从形状上看，层云扁平状，积云像棉花堆，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纤细的羽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2080" y="1197000"/>
            <a:ext cx="78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的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层云，层云通常是（     ）的。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厚会形成（                 ），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也称（       ）。高于层云，看上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   ）叫积云，积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有可能发展成（         ），并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的天气。（            ）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3640" y="126828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扁平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灰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2349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毛毛雨、大雨或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95640" y="2852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雨层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342900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像棉花一样的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4005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积雨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450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雷阵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32360" y="4508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纤细的羽状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81080" y="5157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1628640"/>
            <a:ext cx="936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信息进行（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以帮助我们认识天气的某些（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天气变化的一些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5960" y="1628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整理、总结和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49484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2781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40000" y="3933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177336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动植物能预报天气，如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打开，表示天气（       ），松果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紧闭，表示天气（      ）。蜻蜓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表示（       ），蚂蚁搬家表示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，燕子低飞天气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59280" y="234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436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4005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72360" y="4005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要下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51280" y="48117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155736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质量预报分为（    ）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舒适度指数预报分为（    ）级；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度分为（     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12560" y="162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56560" y="220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87640" y="2708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3408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70280" y="4730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22960" y="170820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气总是（         ）变化着，它影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04960" y="2309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我们的（      ），也影响着地球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的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08200" y="-8334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断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702936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都在变化，跟我们人类的关系是非常密切相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00560" y="-10494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549440" y="1700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1989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6 0.07477 L 0.0901 0.36482 E">
                                      <p:cBhvr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0.06019 L -0.23142 0.49074 E">
                                      <p:cBhvr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8 0.06875 L 0.47535 0.17384 E">
                                      <p:cBhvr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22222E-006 L -0.01372 -0.42431 E">
                                      <p:cBhvr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8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165480" y="83664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永远无法改变天气。这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28160" y="2349360"/>
            <a:ext cx="16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这种说法不对。因为干旱时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人工降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87200" y="39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人类活动可以改变天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699360" y="620640"/>
            <a:ext cx="18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把降水量分为六个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级，请填写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68360" y="1989000"/>
            <a:ext cx="8280360" cy="1800360"/>
            <a:chOff x="468360" y="1989000"/>
            <a:chExt cx="8280360" cy="1800360"/>
          </a:xfrm>
        </p:grpSpPr>
        <p:sp>
          <p:nvSpPr>
            <p:cNvPr id="410" name=""/>
            <p:cNvSpPr/>
            <p:nvPr/>
          </p:nvSpPr>
          <p:spPr>
            <a:xfrm>
              <a:off x="468360" y="1989000"/>
              <a:ext cx="828036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8360" y="2781360"/>
              <a:ext cx="82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19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328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24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4836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00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24720" y="198900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98240" y="1916280"/>
            <a:ext cx="7922160" cy="1780920"/>
            <a:chOff x="498240" y="1916280"/>
            <a:chExt cx="7922160" cy="1780920"/>
          </a:xfrm>
        </p:grpSpPr>
        <p:sp>
          <p:nvSpPr>
            <p:cNvPr id="419" name=""/>
            <p:cNvSpPr/>
            <p:nvPr/>
          </p:nvSpPr>
          <p:spPr>
            <a:xfrm>
              <a:off x="756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等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0908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180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1272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38160" y="213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45080" y="2133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13080" y="2333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暴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13080" y="1916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特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240" y="270828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2720" y="3176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降水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694160" y="2852640"/>
            <a:ext cx="948960" cy="830880"/>
            <a:chOff x="1694160" y="2852640"/>
            <a:chExt cx="948960" cy="830880"/>
          </a:xfrm>
        </p:grpSpPr>
        <p:sp>
          <p:nvSpPr>
            <p:cNvPr id="430" name=""/>
            <p:cNvSpPr/>
            <p:nvPr/>
          </p:nvSpPr>
          <p:spPr>
            <a:xfrm>
              <a:off x="1694160" y="285264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.1~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40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845440" y="2852640"/>
            <a:ext cx="1011240" cy="830880"/>
            <a:chOff x="2845440" y="2852640"/>
            <a:chExt cx="1011240" cy="830880"/>
          </a:xfrm>
        </p:grpSpPr>
        <p:sp>
          <p:nvSpPr>
            <p:cNvPr id="433" name=""/>
            <p:cNvSpPr/>
            <p:nvPr/>
          </p:nvSpPr>
          <p:spPr>
            <a:xfrm>
              <a:off x="2845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~24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6404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069440" y="2852640"/>
            <a:ext cx="1011240" cy="830880"/>
            <a:chOff x="4069440" y="2852640"/>
            <a:chExt cx="1011240" cy="830880"/>
          </a:xfrm>
        </p:grpSpPr>
        <p:sp>
          <p:nvSpPr>
            <p:cNvPr id="436" name=""/>
            <p:cNvSpPr/>
            <p:nvPr/>
          </p:nvSpPr>
          <p:spPr>
            <a:xfrm>
              <a:off x="406944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~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4512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221800" y="2852640"/>
            <a:ext cx="1011240" cy="830880"/>
            <a:chOff x="5221800" y="2852640"/>
            <a:chExt cx="1011240" cy="830880"/>
          </a:xfrm>
        </p:grpSpPr>
        <p:sp>
          <p:nvSpPr>
            <p:cNvPr id="439" name=""/>
            <p:cNvSpPr/>
            <p:nvPr/>
          </p:nvSpPr>
          <p:spPr>
            <a:xfrm>
              <a:off x="5221800" y="285264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~9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4040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230520" y="2852640"/>
            <a:ext cx="1264320" cy="830880"/>
            <a:chOff x="6230520" y="2852640"/>
            <a:chExt cx="1264320" cy="830880"/>
          </a:xfrm>
        </p:grpSpPr>
        <p:sp>
          <p:nvSpPr>
            <p:cNvPr id="442" name=""/>
            <p:cNvSpPr/>
            <p:nvPr/>
          </p:nvSpPr>
          <p:spPr>
            <a:xfrm>
              <a:off x="6230520" y="2852640"/>
              <a:ext cx="126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~24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9276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7722000" y="2852640"/>
            <a:ext cx="685080" cy="830880"/>
            <a:chOff x="7722000" y="2852640"/>
            <a:chExt cx="685080" cy="830880"/>
          </a:xfrm>
        </p:grpSpPr>
        <p:sp>
          <p:nvSpPr>
            <p:cNvPr id="445" name=""/>
            <p:cNvSpPr/>
            <p:nvPr/>
          </p:nvSpPr>
          <p:spPr>
            <a:xfrm>
              <a:off x="7722000" y="2852640"/>
              <a:ext cx="68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≥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45480" y="3284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毫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617280" y="4240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>
            <a:off x="507528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5"/>
          <a:stretch/>
        </p:blipFill>
        <p:spPr>
          <a:xfrm>
            <a:off x="3995640" y="59022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56360" y="595008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059280" y="5950080"/>
            <a:ext cx="80928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3028320" y="620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的高低与哪些因素有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温变化有什么规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1773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的高低与季节、天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及一天中不同的时刻有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5229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气温变化的规律：夏天气温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冬季气温低，晴天气温高，雨天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低，中午气温高，早晨、晚上气温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035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7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048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了解天气的方法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63640" y="1773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看报纸、听广播、看电视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电话查询、上网查询、观察动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物的行为变化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06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3555000" y="836640"/>
            <a:ext cx="18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图如何来表示云量的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46280" y="4365720"/>
            <a:ext cx="44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晴天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多云天空中的云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¾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，阴天空中的云占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4/4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到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067280" y="2060640"/>
          <a:ext cx="1584360" cy="15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2556000" y="1989000"/>
          <a:ext cx="79200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1989000"/>
                    <a:ext cx="792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1763640" y="1989000"/>
            <a:ext cx="1584360" cy="1511280"/>
            <a:chOff x="1763640" y="1989000"/>
            <a:chExt cx="1584360" cy="1511280"/>
          </a:xfrm>
        </p:grpSpPr>
        <p:sp>
          <p:nvSpPr>
            <p:cNvPr id="480" name=""/>
            <p:cNvSpPr/>
            <p:nvPr/>
          </p:nvSpPr>
          <p:spPr>
            <a:xfrm>
              <a:off x="1763640" y="198900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63640" y="27813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6000" y="198900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67280" y="2062080"/>
            <a:ext cx="1584360" cy="1511280"/>
            <a:chOff x="4067280" y="2062080"/>
            <a:chExt cx="1584360" cy="1511280"/>
          </a:xfrm>
        </p:grpSpPr>
        <p:sp>
          <p:nvSpPr>
            <p:cNvPr id="484" name=""/>
            <p:cNvSpPr/>
            <p:nvPr/>
          </p:nvSpPr>
          <p:spPr>
            <a:xfrm>
              <a:off x="4067280" y="206208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67280" y="28540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59280" y="206208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6300720" y="2060640"/>
          <a:ext cx="1584360" cy="15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060640"/>
                    <a:ext cx="1584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9" name=""/>
          <p:cNvGrpSpPr/>
          <p:nvPr/>
        </p:nvGrpSpPr>
        <p:grpSpPr>
          <a:xfrm>
            <a:off x="6300720" y="2060640"/>
            <a:ext cx="1584360" cy="1511280"/>
            <a:chOff x="6300720" y="2060640"/>
            <a:chExt cx="1584360" cy="1511280"/>
          </a:xfrm>
        </p:grpSpPr>
        <p:sp>
          <p:nvSpPr>
            <p:cNvPr id="490" name=""/>
            <p:cNvSpPr/>
            <p:nvPr/>
          </p:nvSpPr>
          <p:spPr>
            <a:xfrm>
              <a:off x="6300720" y="2060640"/>
              <a:ext cx="158436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0720" y="2852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93080" y="2060640"/>
              <a:ext cx="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289600" y="35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70840" y="37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97960" y="378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9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1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9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00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11280" y="836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天气预报有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63640" y="1773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天气预报内容包括：气温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向风速、云量、降水概率、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质量、舒适度指数、紫外线强度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08000" y="39337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4316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506920" y="57816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3492360" y="580536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516720" y="580536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16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516" name="">
            <a:hlinkClick r:id="rId5" action="ppaction://hlinksldjump"/>
          </p:cNvPr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总是在不断地变化着，它影响着地球上的生物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373440" y="299736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跟人类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持着密切的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2205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天气是指我们居住的地区，在某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的（              ）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781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7876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其实是地球上所特有的现象，因为地球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大气层包围，而月球上就没有天气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27162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气状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4360" y="22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带来的变化，我们并不能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都感觉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每天在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预报图中的不同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符号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相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影响天气变化的因素联系起来考虑，可以更好地认识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在不断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变化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0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日历中，一般要记录日期和时间、云量和降水情况、风速和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373440" y="299736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天气日历中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录风速分为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、微风、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风三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6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在观察记录天气时，不需要收听或收看当地的天气预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95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一个月的天气观察，我们能找到这个月天气变化的简单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所以我们要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作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9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310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84360" y="227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8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339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4360" y="2276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教室里的温度和教室外的温度是一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45440" y="299736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一般冬天室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温度低于室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夏天室外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高于室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354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0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要等到温度计里的液柱停止上升或下降后，才能读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5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376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般情况下，同一天中午的气温要比早上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0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1280" y="1616040"/>
            <a:ext cx="545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知道的天气现象有（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166212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晴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349360"/>
            <a:ext cx="9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多云、阴、小雨、大雨、雾、冰雹、小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中雪、扬沙、沙尘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2100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要准确区分天气现象与天气特征的不同，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特征是指气温、降水、云量、风向、风速这几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某小组测得的温度与其他组不一样，肯定是温度计坏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92676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能是误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是指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442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449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一般用八个方位来描述风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1464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471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和风速是天气观察中的重要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0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493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是天气的一个基本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0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1508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降水量的单位是毫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69280" y="2997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毫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论什么形状的透明杯子，都可以用来做雨器的刻度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445440" y="2997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下要一样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0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1552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8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559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模拟降雨的实验中，喷壶与雨量器要有一定的间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0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1581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云实际上是由无数的小水滴或小冰晶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云实际上是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上的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9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的时候，天空中一定是没有云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86960" y="301788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占天空中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0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618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4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625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240" y="206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（              ）是记录每天各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）的（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19954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日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256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气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34040" y="264312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表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23120" y="393372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记录每天天气现象的表格不是天气表，也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气温表，而是天气日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684360" y="2276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可能会发展成积雨云，并形成雷阵雨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9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640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6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1647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靠近地球表面形成扁平层状的云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是层云，它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于天空最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1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662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1669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天气观察记录中的信息进行整理、总结和分析，可以帮助我们认识天气的某些特征，了解天气变化的一些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3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684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0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91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探测仪器和卫星技术可以准确地观测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0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1706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1713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天气情况的记录中，不同的符号表示不同的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0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7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1728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735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利用天气日历，我们可以方便地分析一段时间的天气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9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1750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6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1757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根据一个月的天气变化，我们可以推测一年的气候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1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772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、风向、降水量、云量都是天气日历中重要的记录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3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1794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0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801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一时间，阳光下和背阴处的温度一定是相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373440" y="2997360"/>
            <a:ext cx="146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阳光下的气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背阴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我们测气温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应把气温计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在背阴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0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8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1823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的箭头指向风吹来的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0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4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845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2240" y="1687680"/>
            <a:ext cx="75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的天气日历中，一般要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）、（      ），如果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还要记录云的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3480" y="2276640"/>
            <a:ext cx="21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2276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220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78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、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46400" y="335772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类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2781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日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12320" y="4292640"/>
            <a:ext cx="17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如果空格很少，则可以把内容合拼，如：气温、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水合在一起，如果空格多可以把内容分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75564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云分为积云、层云、卷云三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65964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373440" y="29973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6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黑压压的乌云实际上就是卷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372360" y="292428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卷云在高空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，看不到。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般黑压压乌云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层云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6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7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fill="hold">
                      <p:stCondLst>
                        <p:cond delay="0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1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882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8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889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776160"/>
            <a:ext cx="9144000" cy="5748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032640" y="2602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判断题题型自测天地，祝你取得好成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84360" y="2276640"/>
            <a:ext cx="46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的等级只能用风速仪来测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56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300360" y="2924280"/>
            <a:ext cx="146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比如撑伞步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行是六级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用风速仪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可以判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659640" y="17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3"/>
          <a:stretch/>
        </p:blipFill>
        <p:spPr>
          <a:xfrm>
            <a:off x="507672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4"/>
          <a:stretch/>
        </p:blipFill>
        <p:spPr>
          <a:xfrm>
            <a:off x="5867280" y="5661000"/>
            <a:ext cx="857520" cy="666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5"/>
          <a:stretch/>
        </p:blipFill>
        <p:spPr>
          <a:xfrm>
            <a:off x="6877080" y="57340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6"/>
          <a:stretch/>
        </p:blipFill>
        <p:spPr>
          <a:xfrm>
            <a:off x="7740720" y="573408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1904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1911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00" name="">
            <a:hlinkClick r:id="rId5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28320" y="11588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记录每天天气现象的表格，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们常叫做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54620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日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31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0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7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948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4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955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955520" y="1158840"/>
            <a:ext cx="46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天气符号    表示的天气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189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963360" cy="60948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138312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rId4" action="ppaction://hlinksldjump"/>
          </p:cNvPr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rId5" action="ppaction://hlinksldjump"/>
          </p:cNvPr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6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7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0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1989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5" restart="whenNotActive" nodeType="interactiveSeq" fill="hold">
                <p:stCondLst>
                  <p:cond evt="onClick">
                    <p:tgtEl>
                      <p:spTgt spid="928"/>
                    </p:tgtEl>
                  </p:cond>
                </p:stCondLst>
                <p:childTnLst>
                  <p:par>
                    <p:cTn id="1996" fill="hold">
                      <p:stCondLst>
                        <p:cond evt="onClick">
                          <p:tgtEl>
                            <p:spTgt spid="928"/>
                          </p:tgtEl>
                        </p:cond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724040" y="115884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观察记录一个月的气温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做法错误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767040" y="257004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每天的同一时间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42920" y="32130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周末和假期，应该停止观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11600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在同一地点进行观察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84800" y="4797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49834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5" restart="whenNotActive" nodeType="interactiveSeq" fill="hold">
                <p:stCondLst>
                  <p:cond evt="onClick">
                    <p:tgtEl>
                      <p:spTgt spid="940"/>
                    </p:tgtEl>
                  </p:cond>
                </p:stCondLst>
                <p:childTnLst>
                  <p:par>
                    <p:cTn id="2026" fill="hold">
                      <p:stCondLst>
                        <p:cond evt="onClick">
                          <p:tgtEl>
                            <p:spTgt spid="940"/>
                          </p:tgtEl>
                        </p:cond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2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6400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可以用（    ）来测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54224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498348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0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9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070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976840" y="1341360"/>
            <a:ext cx="31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每秒行进的距离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71442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500"/>
                            </p:stCondLst>
                            <p:childTnLst>
                              <p:par>
                                <p:cTn id="20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2107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21040" y="1773360"/>
            <a:ext cx="697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每天都能感觉到天气带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化，通过（     ）、（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、（           ）等天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来描述天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349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气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22827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云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924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向风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33280" y="46004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这四个方面就是天气的基本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2929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风向标的箭头指向东时，风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7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979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979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978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978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973600" y="1341360"/>
            <a:ext cx="29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气象学家通常把风速分为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等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750456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500"/>
                            </p:stCondLst>
                            <p:childTnLst>
                              <p:par>
                                <p:cTn id="2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3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2174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991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991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07840" y="1341360"/>
            <a:ext cx="32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面的天气现象中，（   ）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降水的形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6476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暴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19640" y="26067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796000" y="26226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冰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663948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500"/>
                            </p:stCondLst>
                            <p:childTnLst>
                              <p:par>
                                <p:cTn id="2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0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2211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7" restart="whenNotActive" nodeType="interactiveSeq" fill="hold">
                <p:stCondLst>
                  <p:cond evt="onClick">
                    <p:tgtEl>
                      <p:spTgt spid="1004"/>
                    </p:tgtEl>
                  </p:cond>
                </p:stCondLst>
                <p:childTnLst>
                  <p:par>
                    <p:cTn id="2218" fill="hold">
                      <p:stCondLst>
                        <p:cond evt="onClick">
                          <p:tgtEl>
                            <p:spTgt spid="1004"/>
                          </p:tgtEl>
                        </p:cond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064320" y="1341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制雨量器的刻度纸条是用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20080" y="257004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模拟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测量降水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收集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10227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4" dur="indefinite" restart="never" nodeType="tmRoot">
          <p:childTnLst>
            <p:seq>
              <p:cTn id="2225" dur="indefinite" nodeType="mainSeq">
                <p:childTnLst>
                  <p:par>
                    <p:cTn id="2226" fill="hold">
                      <p:stCondLst>
                        <p:cond delay="0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7" restart="whenNotActive" nodeType="interactiveSeq" fill="hold">
                <p:stCondLst>
                  <p:cond evt="onClick">
                    <p:tgtEl>
                      <p:spTgt spid="1018"/>
                    </p:tgtEl>
                  </p:cond>
                </p:stCondLst>
                <p:childTnLst>
                  <p:par>
                    <p:cTn id="2248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4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2255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585160" y="13413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天中的降水量是指（   ）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的降水总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948600" y="25700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685692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1" dur="indefinite" restart="never" nodeType="tmRoot">
          <p:childTnLst>
            <p:seq>
              <p:cTn id="2262" dur="indefinite" nodeType="mainSeq">
                <p:childTnLst>
                  <p:par>
                    <p:cTn id="2263" fill="hold">
                      <p:stCondLst>
                        <p:cond delay="0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228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1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2292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492640" y="134136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今天下了暴雨，我知道降水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（    ）毫米之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84360" y="26938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635280" y="26938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372360" y="269388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4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15274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fill="hold">
                      <p:stCondLst>
                        <p:cond delay="0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500"/>
                            </p:stCondLst>
                            <p:childTnLst>
                              <p:par>
                                <p:cTn id="2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1" restart="whenNotActive" nodeType="interactiveSeq" fill="hold">
                <p:stCondLst>
                  <p:cond evt="onClick">
                    <p:tgtEl>
                      <p:spTgt spid="1044"/>
                    </p:tgtEl>
                  </p:cond>
                </p:stCondLst>
                <p:childTnLst>
                  <p:par>
                    <p:cTn id="2322" fill="hold">
                      <p:stCondLst>
                        <p:cond evt="onClick">
                          <p:tgtEl>
                            <p:spTgt spid="1044"/>
                          </p:tgtEl>
                        </p:cond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8" restart="whenNotActive" nodeType="interactiveSeq" fill="hold">
                <p:stCondLst>
                  <p:cond evt="onClick">
                    <p:tgtEl>
                      <p:spTgt spid="1043"/>
                    </p:tgtEl>
                  </p:cond>
                </p:stCondLst>
                <p:childTnLst>
                  <p:par>
                    <p:cTn id="2329" fill="hold">
                      <p:stCondLst>
                        <p:cond evt="onClick">
                          <p:tgtEl>
                            <p:spTgt spid="1043"/>
                          </p:tgtEl>
                        </p:cond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156480" y="1341360"/>
            <a:ext cx="21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所有的天空都被云遮掩，这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称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多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3348000" y="1989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5" dur="indefinite" restart="never" nodeType="tmRoot">
          <p:childTnLst>
            <p:seq>
              <p:cTn id="2336" dur="indefinite" nodeType="mainSeq">
                <p:childTnLst>
                  <p:par>
                    <p:cTn id="2337" fill="hold">
                      <p:stCondLst>
                        <p:cond delay="0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8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2359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2366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73680" y="1341360"/>
            <a:ext cx="43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纤细的羽状云是（     ），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由微小的冰晶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73" name=""/>
          <p:cNvSpPr/>
          <p:nvPr/>
        </p:nvSpPr>
        <p:spPr>
          <a:xfrm>
            <a:off x="615636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0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500"/>
                            </p:stCondLst>
                            <p:childTnLst>
                              <p:par>
                                <p:cTn id="2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5" restart="whenNotActive" nodeType="interactiveSeq" fill="hold">
                <p:stCondLst>
                  <p:cond evt="onClick">
                    <p:tgtEl>
                      <p:spTgt spid="1070"/>
                    </p:tgtEl>
                  </p:cond>
                </p:stCondLst>
                <p:childTnLst>
                  <p:par>
                    <p:cTn id="2396" fill="hold">
                      <p:stCondLst>
                        <p:cond evt="onClick">
                          <p:tgtEl>
                            <p:spTgt spid="1070"/>
                          </p:tgtEl>
                        </p:cond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2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2403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49200" y="134136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看上去像棉花一样的云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>
            <a:off x="111600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500"/>
                            </p:stCondLst>
                            <p:childTnLst>
                              <p:par>
                                <p:cTn id="2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2433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9" restart="whenNotActive" nodeType="interactiveSeq" fill="hold">
                <p:stCondLst>
                  <p:cond evt="onClick">
                    <p:tgtEl>
                      <p:spTgt spid="1082"/>
                    </p:tgtEl>
                  </p:cond>
                </p:stCondLst>
                <p:childTnLst>
                  <p:par>
                    <p:cTn id="2440" fill="hold">
                      <p:stCondLst>
                        <p:cond evt="onClick">
                          <p:tgtEl>
                            <p:spTgt spid="1082"/>
                          </p:tgtEl>
                        </p:cond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437920" y="1341360"/>
            <a:ext cx="35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我们记录风速的时候，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微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大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2700360" y="184464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6" dur="indefinite" restart="never" nodeType="tmRoot">
          <p:childTnLst>
            <p:seq>
              <p:cTn id="2447" dur="indefinite" nodeType="mainSeq">
                <p:childTnLst>
                  <p:par>
                    <p:cTn id="2448" fill="hold">
                      <p:stCondLst>
                        <p:cond delay="0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9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2470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6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2477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400560" y="260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进入概念填空自测题，祝你成功！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6676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5600" y="1773360"/>
            <a:ext cx="594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观察天气应该在每天的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，同一（     ）。一个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天气变化（         ）这一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候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2355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285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9360" y="4456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不同时间段，不同地点，室外测得气温是不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042920" y="56894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3059280" y="568944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1979640" y="5641920"/>
            <a:ext cx="8571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0920" y="134136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作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979640" y="220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摄氏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050920" y="2852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050920" y="342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十七摄氏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341880" y="4508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450072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627280" y="141300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3" dur="indefinite" restart="never" nodeType="tmRoot">
          <p:childTnLst>
            <p:seq>
              <p:cTn id="2484" dur="indefinite" nodeType="mainSeq">
                <p:childTnLst>
                  <p:par>
                    <p:cTn id="2485" fill="hold">
                      <p:stCondLst>
                        <p:cond delay="0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500"/>
                            </p:stCondLst>
                            <p:childTnLst>
                              <p:par>
                                <p:cTn id="2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6" restart="whenNotActive" nodeType="interactiveSeq" fill="hold">
                <p:stCondLst>
                  <p:cond evt="onClick">
                    <p:tgtEl>
                      <p:spTgt spid="1109"/>
                    </p:tgtEl>
                  </p:cond>
                </p:stCondLst>
                <p:childTnLst>
                  <p:par>
                    <p:cTn id="2507" fill="hold">
                      <p:stCondLst>
                        <p:cond evt="onClick">
                          <p:tgtEl>
                            <p:spTgt spid="1109"/>
                          </p:tgtEl>
                        </p:cond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3" restart="whenNotActive" nodeType="interactiveSeq" fill="hold">
                <p:stCondLst>
                  <p:cond evt="onClick">
                    <p:tgtEl>
                      <p:spTgt spid="1108"/>
                    </p:tgtEl>
                  </p:cond>
                </p:stCondLst>
                <p:childTnLst>
                  <p:par>
                    <p:cTn id="2514" fill="hold">
                      <p:stCondLst>
                        <p:cond evt="onClick">
                          <p:tgtEl>
                            <p:spTgt spid="1108"/>
                          </p:tgtEl>
                        </p:cond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675520" y="1341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红旗朝东飘扬时，风向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971640" y="25700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西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140328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8" fill="hold">
                            <p:stCondLst>
                              <p:cond delay="500"/>
                            </p:stCondLst>
                            <p:childTnLst>
                              <p:par>
                                <p:cTn id="25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3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2544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0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2551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236240" y="1341360"/>
            <a:ext cx="59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是测量降水量多少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雨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向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温度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5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2987640" y="134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7" dur="indefinite" restart="never" nodeType="tmRoot">
          <p:childTnLst>
            <p:seq>
              <p:cTn id="2558" dur="indefinite" nodeType="mainSeq">
                <p:childTnLst>
                  <p:par>
                    <p:cTn id="2559" fill="hold">
                      <p:stCondLst>
                        <p:cond delay="0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0" restart="whenNotActive" nodeType="interactiveSeq" fill="hold">
                <p:stCondLst>
                  <p:cond evt="onClick">
                    <p:tgtEl>
                      <p:spTgt spid="1136"/>
                    </p:tgtEl>
                  </p:cond>
                </p:stCondLst>
                <p:childTnLst>
                  <p:par>
                    <p:cTn id="2581" fill="hold">
                      <p:stCondLst>
                        <p:cond evt="onClick">
                          <p:tgtEl>
                            <p:spTgt spid="1136"/>
                          </p:tgtEl>
                        </p:cond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7" restart="whenNotActive" nodeType="interactiveSeq" fill="hold">
                <p:stCondLst>
                  <p:cond evt="onClick">
                    <p:tgtEl>
                      <p:spTgt spid="1135"/>
                    </p:tgtEl>
                  </p:cond>
                </p:stCondLst>
                <p:childTnLst>
                  <p:par>
                    <p:cTn id="2588" fill="hold">
                      <p:stCondLst>
                        <p:cond evt="onClick">
                          <p:tgtEl>
                            <p:spTgt spid="1135"/>
                          </p:tgtEl>
                        </p:cond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3603600" y="1890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欢迎你进入选择题型练习。加油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532520" y="136836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天有城堡云，地上雷雨临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谚语中的“城堡云”就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971640" y="2570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19640" y="26067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层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084720" y="2637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卷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184200" y="3879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对不起，没有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516720" y="191628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402080" y="51577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题型已结束，谢谢！请单击退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3"/>
          <a:stretch/>
        </p:blipFill>
        <p:spPr>
          <a:xfrm>
            <a:off x="4500720" y="5950080"/>
            <a:ext cx="857160" cy="6667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4"/>
          <a:stretch/>
        </p:blipFill>
        <p:spPr>
          <a:xfrm>
            <a:off x="550872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2" name="" descr=""/>
          <p:cNvPicPr/>
          <p:nvPr/>
        </p:nvPicPr>
        <p:blipFill>
          <a:blip r:embed="rId5"/>
          <a:stretch/>
        </p:blipFill>
        <p:spPr>
          <a:xfrm>
            <a:off x="3565440" y="60228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53" name="" descr=""/>
          <p:cNvPicPr/>
          <p:nvPr/>
        </p:nvPicPr>
        <p:blipFill>
          <a:blip r:embed="rId6"/>
          <a:stretch/>
        </p:blipFill>
        <p:spPr>
          <a:xfrm>
            <a:off x="6445080" y="6022800"/>
            <a:ext cx="809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0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500"/>
                            </p:stCondLst>
                            <p:childTnLst>
                              <p:par>
                                <p:cTn id="26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7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2618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4" restart="whenNotActive" nodeType="interactiveSeq" fill="hold">
                <p:stCondLst>
                  <p:cond evt="onClick">
                    <p:tgtEl>
                      <p:spTgt spid="1150"/>
                    </p:tgtEl>
                  </p:cond>
                </p:stCondLst>
                <p:childTnLst>
                  <p:par>
                    <p:cTn id="2625" fill="hold">
                      <p:stCondLst>
                        <p:cond evt="onClick">
                          <p:tgtEl>
                            <p:spTgt spid="1150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1" restart="whenNotActive" nodeType="interactiveSeq" fill="hold">
                <p:stCondLst>
                  <p:cond evt="onClick">
                    <p:tgtEl>
                      <p:spTgt spid="1151"/>
                    </p:tgtEl>
                  </p:cond>
                </p:stCondLst>
                <p:childTnLst>
                  <p:par>
                    <p:cTn id="2632" fill="hold">
                      <p:stCondLst>
                        <p:cond evt="onClick">
                          <p:tgtEl>
                            <p:spTgt spid="1151"/>
                          </p:tgtEl>
                        </p:cond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1:13:52Z</dcterms:created>
  <dc:creator>雨林木风</dc:creator>
  <dc:description/>
  <dc:language>en-US</dc:language>
  <cp:lastModifiedBy>微软用户</cp:lastModifiedBy>
  <dcterms:modified xsi:type="dcterms:W3CDTF">2013-12-27T03:31:08Z</dcterms:modified>
  <cp:revision>186</cp:revision>
  <dc:subject/>
  <dc:title>幻灯片 1</dc:title>
</cp:coreProperties>
</file>