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DA4-42CC-41F3-B73C-79051E87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7BA-8228-45C9-B1DA-B8B96270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8F81-DFC0-4AE3-9D85-A74C2253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033-9322-4536-B9D0-1E132787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DD9-363A-4C1E-AD80-9AAA54DF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804-189F-41CE-892E-CF2F5ECE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8F8-51FE-4F71-8402-39FED06A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3B5-D8C5-44A5-8AF4-06D5AB21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046-917A-4ECA-9220-CCE355F6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CA0-AA9C-4697-BD6E-12C76114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857-D031-48C6-A7F2-B88EBE91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A70A-5DCC-453A-8544-700AB9C5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ECA5-4D4D-4C31-B809-435B5E48BC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.xml"/><Relationship Id="rId8" Type="http://schemas.openxmlformats.org/officeDocument/2006/relationships/slide" Target="slide41.xml"/><Relationship Id="rId9" Type="http://schemas.openxmlformats.org/officeDocument/2006/relationships/slide" Target="slide77.xml"/><Relationship Id="rId10" Type="http://schemas.openxmlformats.org/officeDocument/2006/relationships/slide" Target="slide31.xml"/><Relationship Id="rId11" Type="http://schemas.openxmlformats.org/officeDocument/2006/relationships/image" Target="../media/image2.jpeg"/><Relationship Id="rId12" Type="http://schemas.openxmlformats.org/officeDocument/2006/relationships/slide" Target="slide1.xml"/><Relationship Id="rId13" Type="http://schemas.openxmlformats.org/officeDocument/2006/relationships/slide" Target="slide2.xml"/><Relationship Id="rId14" Type="http://schemas.openxmlformats.org/officeDocument/2006/relationships/slide" Target="slide41.xml"/><Relationship Id="rId15" Type="http://schemas.openxmlformats.org/officeDocument/2006/relationships/slide" Target="slide77.xml"/><Relationship Id="rId16" Type="http://schemas.openxmlformats.org/officeDocument/2006/relationships/slide" Target="slide31.xml"/><Relationship Id="rId1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2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3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4.xml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6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40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41.xml"/><Relationship Id="rId6" Type="http://schemas.openxmlformats.org/officeDocument/2006/relationships/slide" Target="slide4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3.xml"/><Relationship Id="rId4" Type="http://schemas.openxmlformats.org/officeDocument/2006/relationships/slide" Target="slide4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6.xml"/><Relationship Id="rId4" Type="http://schemas.openxmlformats.org/officeDocument/2006/relationships/slide" Target="slide4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7.xml"/><Relationship Id="rId4" Type="http://schemas.openxmlformats.org/officeDocument/2006/relationships/slide" Target="slide4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2.xml"/><Relationship Id="rId4" Type="http://schemas.openxmlformats.org/officeDocument/2006/relationships/slide" Target="slide7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4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75.xml"/><Relationship Id="rId4" Type="http://schemas.openxmlformats.org/officeDocument/2006/relationships/slide" Target="slide7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7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79.xml"/><Relationship Id="rId4" Type="http://schemas.openxmlformats.org/officeDocument/2006/relationships/slide" Target="slide79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80.xml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9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8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10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9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24000" y="5013360"/>
            <a:ext cx="180000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2556000" y="5157720"/>
            <a:ext cx="172872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4788000" y="5084640"/>
            <a:ext cx="180000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020000" y="5084640"/>
            <a:ext cx="180000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83160" y="2349360"/>
            <a:ext cx="357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324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4" action="ppaction://hlinksldjump"/>
          </p:cNvPr>
          <p:cNvSpPr/>
          <p:nvPr/>
        </p:nvSpPr>
        <p:spPr>
          <a:xfrm>
            <a:off x="2484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4788000" y="5373720"/>
            <a:ext cx="1655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6948360" y="5373720"/>
            <a:ext cx="165600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00" y="1341360"/>
            <a:ext cx="895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振动的物体有粗有细（如琴弦）细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声音（         ），粗的声音（        ）；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物体有长有短（如钉子），短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，长的声音（          ）；振动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物体有大有小（如碗）小的声音（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的声音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1844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93960" y="1844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75520" y="474516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细、短、小、少、紧   振动快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9322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01600" y="292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35082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36160" y="4005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557360"/>
            <a:ext cx="863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尺子伸出桌面越短，振动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出的声音（           ）；尺子伸出桌面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长，振动（              ）发出的声音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59280" y="206064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0360" y="26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34800" y="436572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声音高，振动就快，声音低，振动就越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4360" y="1484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2708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280" y="177336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以（     ）的形式传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声波遇到物体时，会使物体产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，声音就是通过各种物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一个地方传播到另一个地方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5600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2852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64400" y="472428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，对不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4560" y="1628640"/>
            <a:ext cx="718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传播需要一定的条件，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（       ）、（       ）、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都能传播。固体传声的本领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体传声的本领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220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固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76160" y="43657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传播需要一定的媒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84720" y="2205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液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278136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51280" y="32846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最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86640" y="1557360"/>
            <a:ext cx="62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传播声音的重要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，声音在（       ）中不能传播。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在月球上，由于没有空气，即没有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传播振动的物质，两个人即使相隔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，也不能互相通话。必须要使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设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8436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1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真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4365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无线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484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人的耳朵分为（       ）、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）三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76720" y="14922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外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28000" y="1484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中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198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内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76360" y="3429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57360"/>
            <a:ext cx="946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很（     ），而且有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即使是很轻的声音，它都会产生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43640" y="15638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弹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15280" y="213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378936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鼓膜把声波转化为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148428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离声源越远，鼓膜的振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幅度越小，听到的声音就（      ）；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朵离声源越近，鼓膜振动幅度越大，听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声音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12000" y="2060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越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9040" y="32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越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03280" y="4508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69760" y="148428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把手放在耳后，并朝向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出的方向，我们听到的声音会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0400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加清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3716280"/>
            <a:ext cx="89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进入耳道的声波更为集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82360" y="1413000"/>
            <a:ext cx="48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是我们的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60280" y="141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听觉器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1480" y="303228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5640" y="184464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声音的世界里，有些声音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动听，使有心旷神怡，我们称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；有些声音嘈杂刺耳，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心烦意乱，我们称为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58920" y="2997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乐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164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噪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8520" y="450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6960" y="1628640"/>
            <a:ext cx="808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或（       ）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可能（      ）我们的听力，所以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要尽量远离这些声，有时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或（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84360" y="162864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16286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5780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484360" y="220500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损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87280" y="328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捂住耳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27640" y="3284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戴上保护装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11240" y="1484280"/>
            <a:ext cx="703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旦人的听力严重下降，通常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配戴（         ），这种小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）能够帮助人们使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68360" y="2060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助听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637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电子扩音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4076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90800" y="1871640"/>
            <a:ext cx="708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土电话”是通过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播声音的。“听诊器”是通过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声音传播至耳朵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8446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棉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2000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胶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60000" y="1773360"/>
            <a:ext cx="680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）是外耳道分泌的液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保护外耳道皮肤各粘住灰尘和小飞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此，我们不要经常掏耳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17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耵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3860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67760" y="1197000"/>
            <a:ext cx="646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（       ）、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、课堂等地方，我们应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自己的声音。尽量要保持安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1640" y="119700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电影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119700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医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16000" y="177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图书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07040" y="414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公共场所必须注意控制自己的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1628640"/>
            <a:ext cx="93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的耳朵里（       ），能时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刻接受各种声音并产生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7232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鼓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50028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鼓膜作用是将声波转化为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1773360"/>
            <a:ext cx="86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说话时发出的声音是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振动产生的；蚊子发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“嗡嗡”声是由（　　　　）振动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87280" y="227664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声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翅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80000" y="4508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33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1413000"/>
            <a:ext cx="925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幅度越大，声音越（　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幅度越小，声音越（　　　）；物体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速度越快，声音越（　　　），振动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慢，声音越（　　　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49600" y="148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57240" y="198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03640" y="2565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61240" y="3879720"/>
            <a:ext cx="89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快慢一定是填高低，振动幅度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填强弱。两者是不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92360" y="3141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1052640"/>
            <a:ext cx="925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、一个振动的物体会使它周围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）发生振动，振动的空气到达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的耳朵，引起（　　　）振动。耳朵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）再把振动传递给（　　　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蜗把振动转化为（　　　　　　）再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　）把信号传递给（　　　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我们就感受到了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84680" y="162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11640" y="2060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鼓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00000" y="2708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小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47000" y="51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就是我们是怎样听到声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59640" y="2708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耳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716360" y="328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觉信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3789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觉神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77080" y="37958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40400" y="162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音叉是一种发声仪器，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4920" y="2309760"/>
            <a:ext cx="753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和（         ）。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叉上的字母表示（         ），数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（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45813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37200" y="2263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调试乐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58440" y="227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测试音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5400" y="28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35002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叉每秒钟振动的次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0920" y="1052640"/>
            <a:ext cx="92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８、收音机传来的钢琴声是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　　　）振动产生的。写字的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是通过（　　　）传播到紧贴在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上的耳朵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162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喇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71640" y="213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桌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95800" y="371628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传播必须借助一定的媒介，固体、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、气体都可以传播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83000" y="49878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不起，本题型结束，请单击退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960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168280" y="47628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写耳朵示意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15160" y="51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2050920" y="1989000"/>
            <a:ext cx="4256280" cy="237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23984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1280" y="18446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708360" y="177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55640" y="33577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64000" y="206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84720" y="2565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03640" y="36450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41128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9564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7672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17080" y="1805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32720" y="32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780720" y="3500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鼓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141800" y="162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听小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41440" y="1973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耳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72360" y="2492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听觉神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91708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外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5708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中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50944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内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7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5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086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602720" y="620640"/>
            <a:ext cx="60634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把耳朵的结构和它的功能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连接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道             传递振动到内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传递声波到中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小骨           将听觉信号传递到大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将声波转化为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觉神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将振动转化为听觉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52120" y="4849920"/>
            <a:ext cx="6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耳道、听小骨、听觉神经起到传递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鼓膜、耳蜗起到转化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rId3" action="ppaction://hlinksldjump"/>
          </p:cNvPr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908000" y="2565360"/>
            <a:ext cx="2303640" cy="432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979640" y="2997360"/>
            <a:ext cx="2305080" cy="863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268360" y="2637000"/>
            <a:ext cx="194328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979640" y="3860640"/>
            <a:ext cx="2305080" cy="505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700360" y="3429000"/>
            <a:ext cx="1584360" cy="936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5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6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7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0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0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1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132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2297520" y="40464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下图，敲击试管时，声音高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变化？对着试管口朝水平方向吹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声音高低又是如何变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21300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从高到低，因为敲是水在振动，杯子里水少振动就快，声音就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84360" y="5157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ff"/>
                </a:solidFill>
                <a:latin typeface="Arial"/>
                <a:ea typeface="楷体_GB2312"/>
              </a:rPr>
              <a:t>细、短、少、薄、紧的物体声音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187280" y="4067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从低到高，因为吹是空气在振动，杯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里的空气少，振动就快，声音就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rId3" action="ppaction://hlinksldjump"/>
          </p:cNvPr>
          <p:cNvSpPr/>
          <p:nvPr/>
        </p:nvSpPr>
        <p:spPr>
          <a:xfrm>
            <a:off x="0" y="0"/>
            <a:ext cx="9144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2484360" y="2133720"/>
            <a:ext cx="3888000" cy="11984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6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152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611280" y="549360"/>
            <a:ext cx="82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明、小兰和小强一起在实验室做了如下实验：小明把手放在喉头，大声说话，感觉声带振动了：小兰把发声的音叉触及水面，水面荡起了波纹；小强用力拨动钢尺，钢尺发出了声音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三位小朋友都在探究什么问题？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分析上面的实验现象，你得出什么结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39640" y="28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这三位小朋友在探究声音是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样产生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5280" y="3967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声音是物体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9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87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2190240" y="83664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朵是我们的听觉器官，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心呵护，那么怎样才能避免听力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伤害？请说出几种保护听力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至少三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23240" y="5013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1280" y="3068640"/>
            <a:ext cx="107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远离噪声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不要经常使用耳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遇到过高的声音，尽可能捂住耳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或张开嘴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7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208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829160" y="476280"/>
            <a:ext cx="506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根据下面每幅图提供的从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顺序，用高低来表示声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494520" y="5300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55640" y="386064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长——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——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684360" y="2205000"/>
            <a:ext cx="2409840" cy="15922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3276720" y="3573360"/>
            <a:ext cx="2801880" cy="1613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5"/>
          <a:stretch/>
        </p:blipFill>
        <p:spPr>
          <a:xfrm>
            <a:off x="3635280" y="1773360"/>
            <a:ext cx="2382840" cy="14666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6048360" y="191628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少——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——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48360" y="386064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粗——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——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8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1245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2041200" y="449280"/>
            <a:ext cx="50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小组在做“探索尺子音高变化”实验时，记录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709800" y="53737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332000" y="1125360"/>
            <a:ext cx="7129440" cy="2376720"/>
            <a:chOff x="1332000" y="1125360"/>
            <a:chExt cx="7129440" cy="2376720"/>
          </a:xfrm>
        </p:grpSpPr>
        <p:sp>
          <p:nvSpPr>
            <p:cNvPr id="508" name=""/>
            <p:cNvSpPr/>
            <p:nvPr/>
          </p:nvSpPr>
          <p:spPr>
            <a:xfrm>
              <a:off x="1332000" y="1125360"/>
              <a:ext cx="7129440" cy="23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32000" y="155736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32000" y="198900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32000" y="249228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32000" y="2997360"/>
              <a:ext cx="71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43280" y="1125360"/>
              <a:ext cx="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20000" y="1125360"/>
              <a:ext cx="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2202480" y="1125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尺子伸出桌面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623320" y="155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６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94600" y="20541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９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40320" y="24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２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95960" y="299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５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52840" y="112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看到振动快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224480" y="112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听到音高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482800" y="1628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57240" y="2054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较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85960" y="2557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较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411520" y="3062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606400" y="371628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１、联系课堂实验，完成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２、分析记录表可知：尺子的音高变化与（　　　　　　）有关。尺子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桌面的长度越（　　　　）振动越（　　　　　），声音越（　　　　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３、由以上结论可以推测，用同样力度敲击同样粗细，不同长度的两块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，长铝片发出的声音（　　　　　）短铝片发出的声音（　　　　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80080" y="1562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544880" y="2060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较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617960" y="2565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较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499160" y="2997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08720" y="3933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伸出桌面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50800" y="4221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82800" y="429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59520" y="429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31880" y="486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72240" y="486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332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8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33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看图阅读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56000" y="5229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7"/>
          <a:stretch/>
        </p:blipFill>
        <p:spPr>
          <a:xfrm>
            <a:off x="395280" y="1557360"/>
            <a:ext cx="8209080" cy="28814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77080" y="1268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76360" y="2421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63640" y="2924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03640" y="29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58920" y="3435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16360" y="3435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413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用同样的力击打大小不同的两个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叉，小音叉发出的声音（      ），大音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出的声音（          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2060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3840" y="3933720"/>
            <a:ext cx="56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音叉振动的快，所以声音高，大音叉振动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以声音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2637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概括说说声音高低变化的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1773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细、短、少、紧、薄的物体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声较高。粗、长、多、松、厚的物体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声较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下刚好是一对反义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0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4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465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1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472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47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72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击大小不同的两支音叉，小的音叉发出的声音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6876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音叉振动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声音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0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3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494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501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84360" y="2276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哆”、“ 咪”、“嗖”三个音阶中，“哆”的音最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226560" y="2997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熟悉音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0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5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516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523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不同的力敲击同一支音叉，声音的高低会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6876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力越大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越高。用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小，声音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0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7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538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4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545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叉是用来调试乐器和测试音高的一种发声仪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概念题要记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音叉的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0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9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560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6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567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684360" y="227664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一下锣，在一段时间里都能听到锣声，是因为锣一直在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68760" y="2997360"/>
            <a:ext cx="146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只要锣不停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，声音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永远会持续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去。直到锣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止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0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1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582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8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1589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橡皮筋没有发出声音，说明橡皮筋没有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橡皮筋不是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变化，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没有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0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3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604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0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611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的振动实际上就是物体不断重复往返运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295680" y="2492280"/>
            <a:ext cx="1460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只有满足两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条件，一个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重复，另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往返运动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振动，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有的运动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0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5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626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2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633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情况下，孩子的音高比大人高，这时因为孩子的声带小而狭窄，振动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223680" y="292428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、短、细、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少的物体振动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7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648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4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655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24120" y="1616040"/>
            <a:ext cx="37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是指物体在（     ）的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下，不断重复做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162864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2205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往返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3640" y="3716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是物体往返运动，而且是重复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强弱与物体振动的幅度有关，物体振动的幅度越大，声音越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6876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幅度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强弱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9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670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6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1677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与强弱是同一回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439680" y="299736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两个不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概念，高低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快慢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关，强弱与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的幅度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0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1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692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8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1699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强弱用音量来描述，声音的高低用音高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0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3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714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0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1721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只有老的时候才能丧失听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831360" y="299736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些人一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丧失听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0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5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1736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2" restart="whenNotActive" nodeType="interactiveSeq" fill="hold">
                <p:stCondLst>
                  <p:cond evt="onClick">
                    <p:tgtEl>
                      <p:spTgt spid="705"/>
                    </p:tgtEl>
                  </p:cond>
                </p:stCondLst>
                <p:childTnLst>
                  <p:par>
                    <p:cTn id="1743" fill="hold">
                      <p:stCondLst>
                        <p:cond evt="onClick">
                          <p:tgtEl>
                            <p:spTgt spid="705"/>
                          </p:tgtEl>
                        </p:cond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期生活在充满噪声的环境里，会影响我们的听力和身体健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9" dur="indefinite" restart="never" nodeType="tmRoot">
          <p:childTnLst>
            <p:seq>
              <p:cTn id="1750" dur="indefinite" nodeType="mainSeq">
                <p:childTnLst>
                  <p:par>
                    <p:cTn id="1751" fill="hold">
                      <p:stCondLst>
                        <p:cond delay="0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7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758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4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1765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过高或过强的声音时，我们可以捂住耳朵或戴上保护装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fill="hold">
                      <p:stCondLst>
                        <p:cond delay="0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9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780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6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1787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要避免长时间使用便携式视频或音频播放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3" dur="indefinite" restart="never" nodeType="tmRoot">
          <p:childTnLst>
            <p:seq>
              <p:cTn id="1794" dur="indefinite" nodeType="mainSeq">
                <p:childTnLst>
                  <p:par>
                    <p:cTn id="1795" fill="hold">
                      <p:stCondLst>
                        <p:cond delay="0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1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802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8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1809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发出声音是可以控制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5" dur="indefinite" restart="never" nodeType="tmRoot">
          <p:childTnLst>
            <p:seq>
              <p:cTn id="1816" dur="indefinite" nodeType="mainSeq">
                <p:childTnLst>
                  <p:par>
                    <p:cTn id="1817" fill="hold">
                      <p:stCondLst>
                        <p:cond delay="0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3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1824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0" restart="whenNotActive" nodeType="interactiveSeq" fill="hold">
                <p:stCondLst>
                  <p:cond evt="onClick">
                    <p:tgtEl>
                      <p:spTgt spid="749"/>
                    </p:tgtEl>
                  </p:cond>
                </p:stCondLst>
                <p:childTnLst>
                  <p:par>
                    <p:cTn id="1831" fill="hold">
                      <p:stCondLst>
                        <p:cond evt="onClick">
                          <p:tgtEl>
                            <p:spTgt spid="749"/>
                          </p:tgtEl>
                        </p:cond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同的物体传播声音的本领是不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固体最好，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体最差。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中金属最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fill="hold">
                      <p:stCondLst>
                        <p:cond delay="0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5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1846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2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1853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锣停止振动后，还能听到锣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301800" y="299736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停止振动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会马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9" dur="indefinite" restart="never" nodeType="tmRoot">
          <p:childTnLst>
            <p:seq>
              <p:cTn id="1860" dur="indefinite" nodeType="mainSeq">
                <p:childTnLst>
                  <p:par>
                    <p:cTn id="1861" fill="hold">
                      <p:stCondLst>
                        <p:cond delay="0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7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868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4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1875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5120" y="2060640"/>
            <a:ext cx="86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声音有（          ）和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变化。人靠（           ）振动发出声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9890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206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强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26431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声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51800" y="3933720"/>
            <a:ext cx="51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是同物体的振动产生的，停止振动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就会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学校的每个角落都能听到铃声，说明声音可以向四面八方传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0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9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890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6" restart="whenNotActive" nodeType="interactiveSeq" fill="hold">
                <p:stCondLst>
                  <p:cond evt="onClick">
                    <p:tgtEl>
                      <p:spTgt spid="782"/>
                    </p:tgtEl>
                  </p:cond>
                </p:stCondLst>
                <p:childTnLst>
                  <p:par>
                    <p:cTn id="1897" fill="hold">
                      <p:stCondLst>
                        <p:cond evt="onClick">
                          <p:tgtEl>
                            <p:spTgt spid="782"/>
                          </p:tgtEl>
                        </p:cond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雷声是通过雨水的振动传到我们耳朵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301800" y="299736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通过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传到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们耳朵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0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1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1912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1919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我们潜入到水里时，就听不到水面上的声音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水能传播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以水下能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到水面上的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0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3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934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0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1941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月球上，即使两个人相隔不远说话，也不能直接听到对方的说话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月球上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传播声音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7" dur="indefinite" restart="never" nodeType="tmRoot">
          <p:childTnLst>
            <p:seq>
              <p:cTn id="1948" dur="indefinite" nodeType="mainSeq">
                <p:childTnLst>
                  <p:par>
                    <p:cTn id="1949" fill="hold">
                      <p:stCondLst>
                        <p:cond delay="0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5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956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2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1963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出声音的物体一定在振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产生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由于物体的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0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7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1978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4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1985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以波的形式传播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1" dur="indefinite" restart="never" nodeType="tmRoot">
          <p:childTnLst>
            <p:seq>
              <p:cTn id="1992" dur="indefinite" nodeType="mainSeq">
                <p:childTnLst>
                  <p:par>
                    <p:cTn id="1993" fill="hold">
                      <p:stCondLst>
                        <p:cond delay="0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9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2000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6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2007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破了，不会听到声音，但如果大脑听觉神经等出现问题，也有可能听不到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耳朵里的各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器官都有各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的作用，因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都要保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0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1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2022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8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2029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尺子伸出桌面越短，振动时发出的声音越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229440" y="2924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伸出越短，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越快，声音越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伸出越长，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动会越慢，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会越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0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3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2044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0" restart="whenNotActive" nodeType="interactiveSeq" fill="hold">
                <p:stCondLst>
                  <p:cond evt="onClick">
                    <p:tgtEl>
                      <p:spTgt spid="859"/>
                    </p:tgtEl>
                  </p:cond>
                </p:stCondLst>
                <p:childTnLst>
                  <p:par>
                    <p:cTn id="2051" fill="hold">
                      <p:stCondLst>
                        <p:cond evt="onClick">
                          <p:tgtEl>
                            <p:spTgt spid="859"/>
                          </p:tgtEl>
                        </p:cond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空瓶子上面吹气，发出声音是由瓶内的空气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fill="hold">
                      <p:stCondLst>
                        <p:cond delay="0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2066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2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2073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装有小石子的发声罐里放放一些海绵，摇动时发出的声音会减轻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301080" y="299736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放了海绵后，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面的空间小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小石子就不会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了，声音就会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0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7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2088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4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2095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6000" y="1341360"/>
            <a:ext cx="698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的强弱可以用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描述，振动（     ）越大，声音就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，振动幅度越小，声音就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。音量的单位是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字母（       ）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134604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19288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幅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24987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30034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27280" y="357336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d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300348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分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52760" y="465300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的幅度——强弱——音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随身听”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P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听歌的播放器，携带很方便，我们可以长时间使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新宋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1" dur="indefinite" restart="never" nodeType="tmRoot">
          <p:childTnLst>
            <p:seq>
              <p:cTn id="2102" dur="indefinite" nodeType="mainSeq">
                <p:childTnLst>
                  <p:par>
                    <p:cTn id="2103" fill="hold">
                      <p:stCondLst>
                        <p:cond delay="0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9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2110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6" restart="whenNotActive" nodeType="interactiveSeq" fill="hold">
                <p:stCondLst>
                  <p:cond evt="onClick">
                    <p:tgtEl>
                      <p:spTgt spid="892"/>
                    </p:tgtEl>
                  </p:cond>
                </p:stCondLst>
                <p:childTnLst>
                  <p:par>
                    <p:cTn id="2117" fill="hold">
                      <p:stCondLst>
                        <p:cond evt="onClick">
                          <p:tgtEl>
                            <p:spTgt spid="892"/>
                          </p:tgtEl>
                        </p:cond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与物体振动幅度大小有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高低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物体振动的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慢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3" dur="indefinite" restart="never" nodeType="tmRoot">
          <p:childTnLst>
            <p:seq>
              <p:cTn id="2124" dur="indefinite" nodeType="mainSeq">
                <p:childTnLst>
                  <p:par>
                    <p:cTn id="2125" fill="hold">
                      <p:stCondLst>
                        <p:cond delay="0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1" restart="whenNotActive" nodeType="interactiveSeq" fill="hold">
                <p:stCondLst>
                  <p:cond evt="onClick">
                    <p:tgtEl>
                      <p:spTgt spid="902"/>
                    </p:tgtEl>
                  </p:cond>
                </p:stCondLst>
                <p:childTnLst>
                  <p:par>
                    <p:cTn id="2132" fill="hold">
                      <p:stCondLst>
                        <p:cond evt="onClick">
                          <p:tgtEl>
                            <p:spTgt spid="902"/>
                          </p:tgtEl>
                        </p:cond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8" restart="whenNotActive" nodeType="interactiveSeq" fill="hold">
                <p:stCondLst>
                  <p:cond evt="onClick">
                    <p:tgtEl>
                      <p:spTgt spid="903"/>
                    </p:tgtEl>
                  </p:cond>
                </p:stCondLst>
                <p:childTnLst>
                  <p:par>
                    <p:cTn id="2139" fill="hold">
                      <p:stCondLst>
                        <p:cond evt="onClick">
                          <p:tgtEl>
                            <p:spTgt spid="903"/>
                          </p:tgtEl>
                        </p:cond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的音叉轻触水面，会使水面产生波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0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3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2154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0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2161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铝箔、棉线、尼龙绳和木制米尺这四种材料的传声效果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59640" y="17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铝箔最好，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为金属传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本领最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7" dur="indefinite" restart="never" nodeType="tmRoot">
          <p:childTnLst>
            <p:seq>
              <p:cTn id="2168" dur="indefinite" nodeType="mainSeq">
                <p:childTnLst>
                  <p:par>
                    <p:cTn id="2169" fill="hold">
                      <p:stCondLst>
                        <p:cond delay="0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5" restart="whenNotActive" nodeType="interactiveSeq" fill="hold">
                <p:stCondLst>
                  <p:cond evt="onClick">
                    <p:tgtEl>
                      <p:spTgt spid="924"/>
                    </p:tgtEl>
                  </p:cond>
                </p:stCondLst>
                <p:childTnLst>
                  <p:par>
                    <p:cTn id="2176" fill="hold">
                      <p:stCondLst>
                        <p:cond evt="onClick">
                          <p:tgtEl>
                            <p:spTgt spid="924"/>
                          </p:tgtEl>
                        </p:cond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2" restart="whenNotActive" nodeType="interactiveSeq" fill="hold">
                <p:stCondLst>
                  <p:cond evt="onClick">
                    <p:tgtEl>
                      <p:spTgt spid="925"/>
                    </p:tgtEl>
                  </p:cond>
                </p:stCondLst>
                <p:childTnLst>
                  <p:par>
                    <p:cTn id="2183" fill="hold">
                      <p:stCondLst>
                        <p:cond evt="onClick">
                          <p:tgtEl>
                            <p:spTgt spid="925"/>
                          </p:tgtEl>
                        </p:cond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84360" y="2276640"/>
            <a:ext cx="467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由物体振动产生的。声音的高低可以用音高来描述，声音的强弱可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音量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00360" y="29242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0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7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2198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4" restart="whenNotActive" nodeType="interactiveSeq" fill="hold">
                <p:stCondLst>
                  <p:cond evt="onClick">
                    <p:tgtEl>
                      <p:spTgt spid="936"/>
                    </p:tgtEl>
                  </p:cond>
                </p:stCondLst>
                <p:childTnLst>
                  <p:par>
                    <p:cTn id="2205" fill="hold">
                      <p:stCondLst>
                        <p:cond evt="onClick">
                          <p:tgtEl>
                            <p:spTgt spid="936"/>
                          </p:tgtEl>
                        </p:cond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玻璃钟罩里的空气掉走后，里面的闹钟发出的声音会变得很轻，甚至听不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229440" y="2708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传播声音的媒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没有了，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间就传不出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听起来就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变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65964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1" dur="indefinite" restart="never" nodeType="tmRoot">
          <p:childTnLst>
            <p:seq>
              <p:cTn id="2212" dur="indefinite" nodeType="mainSeq">
                <p:childTnLst>
                  <p:par>
                    <p:cTn id="2213" fill="hold">
                      <p:stCondLst>
                        <p:cond delay="0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9" restart="whenNotActive" nodeType="interactiveSeq" fill="hold">
                <p:stCondLst>
                  <p:cond evt="onClick">
                    <p:tgtEl>
                      <p:spTgt spid="946"/>
                    </p:tgtEl>
                  </p:cond>
                </p:stCondLst>
                <p:childTnLst>
                  <p:par>
                    <p:cTn id="2220" fill="hold">
                      <p:stCondLst>
                        <p:cond evt="onClick">
                          <p:tgtEl>
                            <p:spTgt spid="946"/>
                          </p:tgtEl>
                        </p:cond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6" restart="whenNotActive" nodeType="interactiveSeq" fill="hold">
                <p:stCondLst>
                  <p:cond evt="onClick">
                    <p:tgtEl>
                      <p:spTgt spid="947"/>
                    </p:tgtEl>
                  </p:cond>
                </p:stCondLst>
                <p:childTnLst>
                  <p:par>
                    <p:cTn id="2227" fill="hold">
                      <p:stCondLst>
                        <p:cond evt="onClick">
                          <p:tgtEl>
                            <p:spTgt spid="947"/>
                          </p:tgtEl>
                        </p:cond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3" restart="whenNotActive" nodeType="interactiveSeq" fill="hold">
                <p:stCondLst>
                  <p:cond evt="onClick">
                    <p:tgtEl>
                      <p:spTgt spid="948"/>
                    </p:tgtEl>
                  </p:cond>
                </p:stCondLst>
                <p:childTnLst>
                  <p:par>
                    <p:cTn id="2234" fill="hold">
                      <p:stCondLst>
                        <p:cond evt="onClick">
                          <p:tgtEl>
                            <p:spTgt spid="948"/>
                          </p:tgtEl>
                        </p:cond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56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891160" y="115884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击打过的音叉轻轻触及水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水面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72512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没有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419640" y="26067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产生波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迅速上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31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0" dur="indefinite" restart="never" nodeType="tmRoot">
          <p:childTnLst>
            <p:seq>
              <p:cTn id="2241" dur="indefinite" nodeType="mainSeq">
                <p:childTnLst>
                  <p:par>
                    <p:cTn id="2242" fill="hold">
                      <p:stCondLst>
                        <p:cond delay="0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3" restart="whenNotActive" nodeType="interactiveSeq" fill="hold">
                <p:stCondLst>
                  <p:cond evt="onClick">
                    <p:tgtEl>
                      <p:spTgt spid="968"/>
                    </p:tgtEl>
                  </p:cond>
                </p:stCondLst>
                <p:childTnLst>
                  <p:par>
                    <p:cTn id="2264" fill="hold">
                      <p:stCondLst>
                        <p:cond evt="onClick">
                          <p:tgtEl>
                            <p:spTgt spid="968"/>
                          </p:tgtEl>
                        </p:cond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0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2271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068200" y="115884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力弯曲钢尺，钢尺不会发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时因为钢尺没有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971640" y="25700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受到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断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70420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>
            <a:hlinkClick r:id="rId3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5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6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0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0" restart="whenNotActive" nodeType="interactiveSeq" fill="hold">
                <p:stCondLst>
                  <p:cond evt="onClick">
                    <p:tgtEl>
                      <p:spTgt spid="982"/>
                    </p:tgtEl>
                  </p:cond>
                </p:stCondLst>
                <p:childTnLst>
                  <p:par>
                    <p:cTn id="2301" fill="hold">
                      <p:stCondLst>
                        <p:cond evt="onClick">
                          <p:tgtEl>
                            <p:spTgt spid="982"/>
                          </p:tgtEl>
                        </p:cond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7" restart="whenNotActive" nodeType="interactiveSeq" fill="hold">
                <p:stCondLst>
                  <p:cond evt="onClick">
                    <p:tgtEl>
                      <p:spTgt spid="983"/>
                    </p:tgtEl>
                  </p:cond>
                </p:stCondLst>
                <p:childTnLst>
                  <p:par>
                    <p:cTn id="2308" fill="hold">
                      <p:stCondLst>
                        <p:cond evt="onClick">
                          <p:tgtEl>
                            <p:spTgt spid="983"/>
                          </p:tgtEl>
                        </p:cond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47160" y="1773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高低用（       ）来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振动得越快，声音就越（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振动得越慢，声音就越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高的单位是（        ），用字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1773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音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83280" y="227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4836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3429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赫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0280" y="48690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振动快慢——高低——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400536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619360" y="115884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说话的声音是由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3676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嘴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971640" y="321300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喉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04292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358160" y="47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6783840" y="1197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4" dur="indefinite" restart="never" nodeType="tmRoot">
          <p:childTnLst>
            <p:seq>
              <p:cTn id="2315" dur="indefinite" nodeType="mainSeq">
                <p:childTnLst>
                  <p:par>
                    <p:cTn id="2316" fill="hold">
                      <p:stCondLst>
                        <p:cond delay="0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7" restart="whenNotActive" nodeType="interactiveSeq" fill="hold">
                <p:stCondLst>
                  <p:cond evt="onClick">
                    <p:tgtEl>
                      <p:spTgt spid="995"/>
                    </p:tgtEl>
                  </p:cond>
                </p:stCondLst>
                <p:childTnLst>
                  <p:par>
                    <p:cTn id="2338" fill="hold">
                      <p:stCondLst>
                        <p:cond evt="onClick">
                          <p:tgtEl>
                            <p:spTgt spid="995"/>
                          </p:tgtEl>
                        </p:cond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4" restart="whenNotActive" nodeType="interactiveSeq" fill="hold">
                <p:stCondLst>
                  <p:cond evt="onClick">
                    <p:tgtEl>
                      <p:spTgt spid="994"/>
                    </p:tgtEl>
                  </p:cond>
                </p:stCondLst>
                <p:childTnLst>
                  <p:par>
                    <p:cTn id="2345" fill="hold">
                      <p:stCondLst>
                        <p:cond evt="onClick">
                          <p:tgtEl>
                            <p:spTgt spid="994"/>
                          </p:tgtEl>
                        </p:cond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692000" y="1368360"/>
            <a:ext cx="53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棉线和纸杯子制作的“土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话”，声音主要是通过（    ）从话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到听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67640" y="30542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419640" y="30542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棉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796000" y="30542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纸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078080" y="4292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0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54885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1" dur="indefinite" restart="never" nodeType="tmRoot">
          <p:childTnLst>
            <p:seq>
              <p:cTn id="2352" dur="indefinite" nodeType="mainSeq">
                <p:childTnLst>
                  <p:par>
                    <p:cTn id="2353" fill="hold">
                      <p:stCondLst>
                        <p:cond delay="0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500"/>
                            </p:stCondLst>
                            <p:childTnLst>
                              <p:par>
                                <p:cTn id="23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4" restart="whenNotActive" nodeType="interactiveSeq" fill="hold">
                <p:stCondLst>
                  <p:cond evt="onClick">
                    <p:tgtEl>
                      <p:spTgt spid="1008"/>
                    </p:tgtEl>
                  </p:cond>
                </p:stCondLst>
                <p:childTnLst>
                  <p:par>
                    <p:cTn id="2375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1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2382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97288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是以（     ）的形式传播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/>
          <p:nvPr/>
        </p:nvSpPr>
        <p:spPr>
          <a:xfrm>
            <a:off x="448056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8" dur="indefinite" restart="never" nodeType="tmRoot">
          <p:childTnLst>
            <p:seq>
              <p:cTn id="2389" dur="indefinite" nodeType="mainSeq">
                <p:childTnLst>
                  <p:par>
                    <p:cTn id="2390" fill="hold">
                      <p:stCondLst>
                        <p:cond delay="0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500"/>
                            </p:stCondLst>
                            <p:childTnLst>
                              <p:par>
                                <p:cTn id="2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1" restart="whenNotActive" nodeType="interactiveSeq" fill="hold">
                <p:stCondLst>
                  <p:cond evt="onClick">
                    <p:tgtEl>
                      <p:spTgt spid="1021"/>
                    </p:tgtEl>
                  </p:cond>
                </p:stCondLst>
                <p:childTnLst>
                  <p:par>
                    <p:cTn id="2412" fill="hold">
                      <p:stCondLst>
                        <p:cond evt="onClick">
                          <p:tgtEl>
                            <p:spTgt spid="1021"/>
                          </p:tgtEl>
                        </p:cond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8" restart="whenNotActive" nodeType="interactiveSeq" fill="hold">
                <p:stCondLst>
                  <p:cond evt="onClick">
                    <p:tgtEl>
                      <p:spTgt spid="1020"/>
                    </p:tgtEl>
                  </p:cond>
                </p:stCondLst>
                <p:childTnLst>
                  <p:par>
                    <p:cTn id="2419" fill="hold">
                      <p:stCondLst>
                        <p:cond evt="onClick">
                          <p:tgtEl>
                            <p:spTgt spid="1020"/>
                          </p:tgtEl>
                        </p:cond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348640" y="134136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玻璃钟罩里的空气逐渐抽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钟罩里的闹钟铃声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971640" y="28576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越来越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419640" y="28940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越来越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796000" y="29098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37" name=""/>
          <p:cNvSpPr/>
          <p:nvPr/>
        </p:nvSpPr>
        <p:spPr>
          <a:xfrm>
            <a:off x="469620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5" dur="indefinite" restart="never" nodeType="tmRoot">
          <p:childTnLst>
            <p:seq>
              <p:cTn id="2426" dur="indefinite" nodeType="mainSeq">
                <p:childTnLst>
                  <p:par>
                    <p:cTn id="2427" fill="hold">
                      <p:stCondLst>
                        <p:cond delay="0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fill="hold">
                            <p:stCondLst>
                              <p:cond delay="500"/>
                            </p:stCondLst>
                            <p:childTnLst>
                              <p:par>
                                <p:cTn id="24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8" restart="whenNotActive" nodeType="interactiveSeq" fill="hold">
                <p:stCondLst>
                  <p:cond evt="onClick">
                    <p:tgtEl>
                      <p:spTgt spid="1034"/>
                    </p:tgtEl>
                  </p:cond>
                </p:stCondLst>
                <p:childTnLst>
                  <p:par>
                    <p:cTn id="2449" fill="hold">
                      <p:stCondLst>
                        <p:cond evt="onClick">
                          <p:tgtEl>
                            <p:spTgt spid="1034"/>
                          </p:tgtEl>
                        </p:cond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5" restart="whenNotActive" nodeType="interactiveSeq" fill="hold">
                <p:stCondLst>
                  <p:cond evt="onClick">
                    <p:tgtEl>
                      <p:spTgt spid="1033"/>
                    </p:tgtEl>
                  </p:cond>
                </p:stCondLst>
                <p:childTnLst>
                  <p:par>
                    <p:cTn id="2456" fill="hold">
                      <p:stCondLst>
                        <p:cond evt="onClick">
                          <p:tgtEl>
                            <p:spTgt spid="1033"/>
                          </p:tgtEl>
                        </p:cond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832120" y="134136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月球上没有传播声音的（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人不能直接听到对方的说话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971640" y="25700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线电设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708360" y="2565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任何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012000" y="256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728856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2" dur="indefinite" restart="never" nodeType="tmRoot">
          <p:childTnLst>
            <p:seq>
              <p:cTn id="2463" dur="indefinite" nodeType="mainSeq">
                <p:childTnLst>
                  <p:par>
                    <p:cTn id="2464" fill="hold">
                      <p:stCondLst>
                        <p:cond delay="0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0" fill="hold">
                            <p:stCondLst>
                              <p:cond delay="500"/>
                            </p:stCondLst>
                            <p:childTnLst>
                              <p:par>
                                <p:cTn id="24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5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486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2" restart="whenNotActive" nodeType="interactiveSeq" fill="hold">
                <p:stCondLst>
                  <p:cond evt="onClick">
                    <p:tgtEl>
                      <p:spTgt spid="1046"/>
                    </p:tgtEl>
                  </p:cond>
                </p:stCondLst>
                <p:childTnLst>
                  <p:par>
                    <p:cTn id="2493" fill="hold">
                      <p:stCondLst>
                        <p:cond evt="onClick">
                          <p:tgtEl>
                            <p:spTgt spid="1046"/>
                          </p:tgtEl>
                        </p:cond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5240" y="1368360"/>
            <a:ext cx="640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咪”、“发”、“索”三个音阶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的音最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1238760" y="198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9" dur="indefinite" restart="never" nodeType="tmRoot">
          <p:childTnLst>
            <p:seq>
              <p:cTn id="2500" dur="indefinite" nodeType="mainSeq">
                <p:childTnLst>
                  <p:par>
                    <p:cTn id="2501" fill="hold">
                      <p:stCondLst>
                        <p:cond delay="0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500"/>
                            </p:stCondLst>
                            <p:childTnLst>
                              <p:par>
                                <p:cTn id="25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2" restart="whenNotActive" nodeType="interactiveSeq" fill="hold">
                <p:stCondLst>
                  <p:cond evt="onClick">
                    <p:tgtEl>
                      <p:spTgt spid="1060"/>
                    </p:tgtEl>
                  </p:cond>
                </p:stCondLst>
                <p:childTnLst>
                  <p:par>
                    <p:cTn id="2523" fill="hold">
                      <p:stCondLst>
                        <p:cond evt="onClick">
                          <p:tgtEl>
                            <p:spTgt spid="1060"/>
                          </p:tgtEl>
                        </p:cond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9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2530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197520" y="1341360"/>
            <a:ext cx="23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力敲击音叉，我们听到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7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fill="hold">
                      <p:stCondLst>
                        <p:cond delay="0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"/>
                            </p:stCondLst>
                            <p:childTnLst>
                              <p:par>
                                <p:cTn id="2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9" restart="whenNotActive" nodeType="interactiveSeq" fill="hold">
                <p:stCondLst>
                  <p:cond evt="onClick">
                    <p:tgtEl>
                      <p:spTgt spid="1073"/>
                    </p:tgtEl>
                  </p:cond>
                </p:stCondLst>
                <p:childTnLst>
                  <p:par>
                    <p:cTn id="2560" fill="hold">
                      <p:stCondLst>
                        <p:cond evt="onClick">
                          <p:tgtEl>
                            <p:spTgt spid="1073"/>
                          </p:tgtEl>
                        </p:cond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6" restart="whenNotActive" nodeType="interactiveSeq" fill="hold">
                <p:stCondLst>
                  <p:cond evt="onClick">
                    <p:tgtEl>
                      <p:spTgt spid="1072"/>
                    </p:tgtEl>
                  </p:cond>
                </p:stCondLst>
                <p:childTnLst>
                  <p:par>
                    <p:cTn id="2567" fill="hold">
                      <p:stCondLst>
                        <p:cond evt="onClick">
                          <p:tgtEl>
                            <p:spTgt spid="1072"/>
                          </p:tgtEl>
                        </p:cond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7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262600" y="1341360"/>
            <a:ext cx="37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在（     ）中不传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3676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木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真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 flipH="1">
            <a:off x="4356000" y="1341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3" dur="indefinite" restart="never" nodeType="tmRoot">
          <p:childTnLst>
            <p:seq>
              <p:cTn id="2574" dur="indefinite" nodeType="mainSeq">
                <p:childTnLst>
                  <p:par>
                    <p:cTn id="2575" fill="hold">
                      <p:stCondLst>
                        <p:cond delay="0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1" fill="hold">
                            <p:stCondLst>
                              <p:cond delay="500"/>
                            </p:stCondLst>
                            <p:childTnLst>
                              <p:par>
                                <p:cTn id="25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6" restart="whenNotActive" nodeType="interactiveSeq" fill="hold">
                <p:stCondLst>
                  <p:cond evt="onClick">
                    <p:tgtEl>
                      <p:spTgt spid="1086"/>
                    </p:tgtEl>
                  </p:cond>
                </p:stCondLst>
                <p:childTnLst>
                  <p:par>
                    <p:cTn id="2597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3" restart="whenNotActive" nodeType="interactiveSeq" fill="hold">
                <p:stCondLst>
                  <p:cond evt="onClick">
                    <p:tgtEl>
                      <p:spTgt spid="1085"/>
                    </p:tgtEl>
                  </p:cond>
                </p:stCondLst>
                <p:childTnLst>
                  <p:par>
                    <p:cTn id="2604" fill="hold">
                      <p:stCondLst>
                        <p:cond evt="onClick">
                          <p:tgtEl>
                            <p:spTgt spid="1085"/>
                          </p:tgtEl>
                        </p:cond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236680" y="1341360"/>
            <a:ext cx="37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做法错误的是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971640" y="2205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经常掏耳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971640" y="2997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能对着同学大声说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971640" y="3716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过强的声音要捂住耳朵、张开嘴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078080" y="4653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0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02" name=""/>
          <p:cNvSpPr/>
          <p:nvPr/>
        </p:nvSpPr>
        <p:spPr>
          <a:xfrm>
            <a:off x="656784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0" dur="indefinite" restart="never" nodeType="tmRoot">
          <p:childTnLst>
            <p:seq>
              <p:cTn id="2611" dur="indefinite" nodeType="mainSeq">
                <p:childTnLst>
                  <p:par>
                    <p:cTn id="2612" fill="hold">
                      <p:stCondLst>
                        <p:cond delay="0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500"/>
                            </p:stCondLst>
                            <p:childTnLst>
                              <p:par>
                                <p:cTn id="26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3" restart="whenNotActive" nodeType="interactiveSeq" fill="hold">
                <p:stCondLst>
                  <p:cond evt="onClick">
                    <p:tgtEl>
                      <p:spTgt spid="1099"/>
                    </p:tgtEl>
                  </p:cond>
                </p:stCondLst>
                <p:childTnLst>
                  <p:par>
                    <p:cTn id="2634" fill="hold">
                      <p:stCondLst>
                        <p:cond evt="onClick">
                          <p:tgtEl>
                            <p:spTgt spid="1099"/>
                          </p:tgtEl>
                        </p:cond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0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2641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645640" y="134136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尺子伸出桌面短时，拨动它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的声音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291636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7" dur="indefinite" restart="never" nodeType="tmRoot">
          <p:childTnLst>
            <p:seq>
              <p:cTn id="2648" dur="indefinite" nodeType="mainSeq">
                <p:childTnLst>
                  <p:par>
                    <p:cTn id="2649" fill="hold">
                      <p:stCondLst>
                        <p:cond delay="0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5" fill="hold">
                            <p:stCondLst>
                              <p:cond delay="500"/>
                            </p:stCondLst>
                            <p:childTnLst>
                              <p:par>
                                <p:cTn id="26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0" restart="whenNotActive" nodeType="interactiveSeq" fill="hold">
                <p:stCondLst>
                  <p:cond evt="onClick">
                    <p:tgtEl>
                      <p:spTgt spid="1112"/>
                    </p:tgtEl>
                  </p:cond>
                </p:stCondLst>
                <p:childTnLst>
                  <p:par>
                    <p:cTn id="2671" fill="hold">
                      <p:stCondLst>
                        <p:cond evt="onClick">
                          <p:tgtEl>
                            <p:spTgt spid="1112"/>
                          </p:tgtEl>
                        </p:cond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7" restart="whenNotActive" nodeType="interactiveSeq" fill="hold">
                <p:stCondLst>
                  <p:cond evt="onClick">
                    <p:tgtEl>
                      <p:spTgt spid="1111"/>
                    </p:tgtEl>
                  </p:cond>
                </p:stCondLst>
                <p:childTnLst>
                  <p:par>
                    <p:cTn id="2678" fill="hold">
                      <p:stCondLst>
                        <p:cond evt="onClick">
                          <p:tgtEl>
                            <p:spTgt spid="1111"/>
                          </p:tgtEl>
                        </p:cond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44800" y="1773360"/>
            <a:ext cx="566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敲击水量不同的玻璃杯，水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，声音越（     ），水越多，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（      ）；振动的物体有松有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如橡皮筋），紧的声音（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的声音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2827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2859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88000" y="3429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29600" y="5013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较振动的快慢，也就是声音的高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48000" y="400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525680" y="13413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同样的力敲打长短不同的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枚铁钉，发出声音最高的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971640" y="2637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最短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971640" y="321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最长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971640" y="3860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短居中的铁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157360" y="472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6588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4" dur="indefinite" restart="never" nodeType="tmRoot">
          <p:childTnLst>
            <p:seq>
              <p:cTn id="2685" dur="indefinite" nodeType="mainSeq">
                <p:childTnLst>
                  <p:par>
                    <p:cTn id="2686" fill="hold">
                      <p:stCondLst>
                        <p:cond delay="0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500"/>
                            </p:stCondLst>
                            <p:childTnLst>
                              <p:par>
                                <p:cTn id="26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0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5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6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7" restart="whenNotActive" nodeType="interactiveSeq" fill="hold">
                <p:stCondLst>
                  <p:cond evt="onClick">
                    <p:tgtEl>
                      <p:spTgt spid="1125"/>
                    </p:tgtEl>
                  </p:cond>
                </p:stCondLst>
                <p:childTnLst>
                  <p:par>
                    <p:cTn id="2708" fill="hold">
                      <p:stCondLst>
                        <p:cond evt="onClick">
                          <p:tgtEl>
                            <p:spTgt spid="1125"/>
                          </p:tgtEl>
                        </p:cond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2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4" restart="whenNotActive" nodeType="interactiveSeq" fill="hold">
                <p:stCondLst>
                  <p:cond evt="onClick">
                    <p:tgtEl>
                      <p:spTgt spid="1124"/>
                    </p:tgtEl>
                  </p:cond>
                </p:stCondLst>
                <p:childTnLst>
                  <p:par>
                    <p:cTn id="2715" fill="hold">
                      <p:stCondLst>
                        <p:cond evt="onClick">
                          <p:tgtEl>
                            <p:spTgt spid="1124"/>
                          </p:tgtEl>
                        </p:cond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340360" y="1268280"/>
            <a:ext cx="330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耳朵结构中，将声波转化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的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971640" y="25700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听小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708360" y="263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耳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鼓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2843280" y="17794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1" dur="indefinite" restart="never" nodeType="tmRoot">
          <p:childTnLst>
            <p:seq>
              <p:cTn id="2722" dur="indefinite" nodeType="mainSeq">
                <p:childTnLst>
                  <p:par>
                    <p:cTn id="2723" fill="hold">
                      <p:stCondLst>
                        <p:cond delay="0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fill="hold">
                            <p:stCondLst>
                              <p:cond delay="500"/>
                            </p:stCondLst>
                            <p:childTnLst>
                              <p:par>
                                <p:cTn id="27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2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4" restart="whenNotActive" nodeType="interactiveSeq" fill="hold">
                <p:stCondLst>
                  <p:cond evt="onClick">
                    <p:tgtEl>
                      <p:spTgt spid="1138"/>
                    </p:tgtEl>
                  </p:cond>
                </p:stCondLst>
                <p:childTnLst>
                  <p:par>
                    <p:cTn id="2745" fill="hold">
                      <p:stCondLst>
                        <p:cond evt="onClick">
                          <p:tgtEl>
                            <p:spTgt spid="1138"/>
                          </p:tgtEl>
                        </p:cond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1" restart="whenNotActive" nodeType="interactiveSeq" fill="hold">
                <p:stCondLst>
                  <p:cond evt="onClick">
                    <p:tgtEl>
                      <p:spTgt spid="1137"/>
                    </p:tgtEl>
                  </p:cond>
                </p:stCondLst>
                <p:childTnLst>
                  <p:par>
                    <p:cTn id="2752" fill="hold">
                      <p:stCondLst>
                        <p:cond evt="onClick">
                          <p:tgtEl>
                            <p:spTgt spid="1137"/>
                          </p:tgtEl>
                        </p:cond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95400" y="1341360"/>
            <a:ext cx="516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长时间使用（      ）不会损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的听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971640" y="25700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随身听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419640" y="2565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助听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057200" y="3879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5435640" y="14191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8" dur="indefinite" restart="never" nodeType="tmRoot">
          <p:childTnLst>
            <p:seq>
              <p:cTn id="2759" dur="indefinite" nodeType="mainSeq">
                <p:childTnLst>
                  <p:par>
                    <p:cTn id="2760" fill="hold">
                      <p:stCondLst>
                        <p:cond delay="0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500"/>
                            </p:stCondLst>
                            <p:childTnLst>
                              <p:par>
                                <p:cTn id="27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1" restart="whenNotActive" nodeType="interactiveSeq" fill="hold">
                <p:stCondLst>
                  <p:cond evt="onClick">
                    <p:tgtEl>
                      <p:spTgt spid="1151"/>
                    </p:tgtEl>
                  </p:cond>
                </p:stCondLst>
                <p:childTnLst>
                  <p:par>
                    <p:cTn id="2782" fill="hold">
                      <p:stCondLst>
                        <p:cond evt="onClick">
                          <p:tgtEl>
                            <p:spTgt spid="1151"/>
                          </p:tgtEl>
                        </p:cond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8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789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5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50920" y="9810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耳朵紧贴钢轨，可以听见很远的火车在铁路上行驶的声音，这个声音是通过（      ）传到耳朵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79640" y="27655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050920" y="34131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地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050920" y="39895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钢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104080" y="4710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耳朵贴在哪里，就是靠它传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>
            <a:off x="3995640" y="213372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5" dur="indefinite" restart="never" nodeType="tmRoot">
          <p:childTnLst>
            <p:seq>
              <p:cTn id="2796" dur="indefinite" nodeType="mainSeq">
                <p:childTnLst>
                  <p:par>
                    <p:cTn id="2797" fill="hold">
                      <p:stCondLst>
                        <p:cond delay="0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2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3" fill="hold">
                            <p:stCondLst>
                              <p:cond delay="500"/>
                            </p:stCondLst>
                            <p:childTnLst>
                              <p:par>
                                <p:cTn id="28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2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8" restart="whenNotActive" nodeType="interactiveSeq" fill="hold">
                <p:stCondLst>
                  <p:cond evt="onClick">
                    <p:tgtEl>
                      <p:spTgt spid="1164"/>
                    </p:tgtEl>
                  </p:cond>
                </p:stCondLst>
                <p:childTnLst>
                  <p:par>
                    <p:cTn id="2819" fill="hold">
                      <p:stCondLst>
                        <p:cond evt="onClick">
                          <p:tgtEl>
                            <p:spTgt spid="1164"/>
                          </p:tgtEl>
                        </p:cond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4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5" restart="whenNotActive" nodeType="interactiveSeq" fill="hold">
                <p:stCondLst>
                  <p:cond evt="onClick">
                    <p:tgtEl>
                      <p:spTgt spid="1163"/>
                    </p:tgtEl>
                  </p:cond>
                </p:stCondLst>
                <p:childTnLst>
                  <p:par>
                    <p:cTn id="2826" fill="hold">
                      <p:stCondLst>
                        <p:cond evt="onClick">
                          <p:tgtEl>
                            <p:spTgt spid="1163"/>
                          </p:tgtEl>
                        </p:cond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0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1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6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73816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在（    ）中传播速度最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桌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540160" y="3860640"/>
            <a:ext cx="444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因为固体传播本领比液体好，液体传播本领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空气好。桌子是固体，所以选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7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3995640" y="1413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2" dur="indefinite" restart="never" nodeType="tmRoot">
          <p:childTnLst>
            <p:seq>
              <p:cTn id="2833" dur="indefinite" nodeType="mainSeq">
                <p:childTnLst>
                  <p:par>
                    <p:cTn id="2834" fill="hold">
                      <p:stCondLst>
                        <p:cond delay="0"/>
                      </p:stCondLst>
                      <p:childTnLst>
                        <p:par>
                          <p:cTn id="2835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500"/>
                            </p:stCondLst>
                            <p:childTnLst>
                              <p:par>
                                <p:cTn id="28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3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8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9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3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5" restart="whenNotActive" nodeType="interactiveSeq" fill="hold">
                <p:stCondLst>
                  <p:cond evt="onClick">
                    <p:tgtEl>
                      <p:spTgt spid="1177"/>
                    </p:tgtEl>
                  </p:cond>
                </p:stCondLst>
                <p:childTnLst>
                  <p:par>
                    <p:cTn id="2856" fill="hold">
                      <p:stCondLst>
                        <p:cond evt="onClick">
                          <p:tgtEl>
                            <p:spTgt spid="1177"/>
                          </p:tgtEl>
                        </p:cond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2" restart="whenNotActive" nodeType="interactiveSeq" fill="hold">
                <p:stCondLst>
                  <p:cond evt="onClick">
                    <p:tgtEl>
                      <p:spTgt spid="1176"/>
                    </p:tgtEl>
                  </p:cond>
                </p:stCondLst>
                <p:childTnLst>
                  <p:par>
                    <p:cTn id="2863" fill="hold">
                      <p:stCondLst>
                        <p:cond evt="onClick">
                          <p:tgtEl>
                            <p:spTgt spid="1176"/>
                          </p:tgtEl>
                        </p:cond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8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679120" y="1341360"/>
            <a:ext cx="34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高与物体振动的关系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速度慢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速度快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476360" y="3860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振动幅大，声音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11280" y="4724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音高跟物体振动的快慢有关，跟物体振动幅度无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9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738036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9" dur="indefinite" restart="never" nodeType="tmRoot">
          <p:childTnLst>
            <p:seq>
              <p:cTn id="2870" dur="indefinite" nodeType="mainSeq">
                <p:childTnLst>
                  <p:par>
                    <p:cTn id="2871" fill="hold">
                      <p:stCondLst>
                        <p:cond delay="0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500"/>
                            </p:stCondLst>
                            <p:childTnLst>
                              <p:par>
                                <p:cTn id="28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6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2" restart="whenNotActive" nodeType="interactiveSeq" fill="hold">
                <p:stCondLst>
                  <p:cond evt="onClick">
                    <p:tgtEl>
                      <p:spTgt spid="1190"/>
                    </p:tgtEl>
                  </p:cond>
                </p:stCondLst>
                <p:childTnLst>
                  <p:par>
                    <p:cTn id="2893" fill="hold">
                      <p:stCondLst>
                        <p:cond evt="onClick">
                          <p:tgtEl>
                            <p:spTgt spid="1190"/>
                          </p:tgtEl>
                        </p:cond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9" restart="whenNotActive" nodeType="interactiveSeq" fill="hold">
                <p:stCondLst>
                  <p:cond evt="onClick">
                    <p:tgtEl>
                      <p:spTgt spid="1189"/>
                    </p:tgtEl>
                  </p:cond>
                </p:stCondLst>
                <p:childTnLst>
                  <p:par>
                    <p:cTn id="2900" fill="hold">
                      <p:stCondLst>
                        <p:cond evt="onClick">
                          <p:tgtEl>
                            <p:spTgt spid="1189"/>
                          </p:tgtEl>
                        </p:cond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9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478240" y="981000"/>
            <a:ext cx="37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声音的强弱可以用（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，振动幅度越大，声音越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403280" y="2205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403280" y="2997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476360" y="3860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音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11280" y="4724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强弱用音量来描述，跟振动的幅度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0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6588000" y="98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6" dur="indefinite" restart="never" nodeType="tmRoot">
          <p:childTnLst>
            <p:seq>
              <p:cTn id="2907" dur="indefinite" nodeType="mainSeq">
                <p:childTnLst>
                  <p:par>
                    <p:cTn id="2908" fill="hold">
                      <p:stCondLst>
                        <p:cond delay="0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3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500"/>
                            </p:stCondLst>
                            <p:childTnLst>
                              <p:par>
                                <p:cTn id="29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7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2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3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9" restart="whenNotActive" nodeType="interactiveSeq" fill="hold">
                <p:stCondLst>
                  <p:cond evt="onClick">
                    <p:tgtEl>
                      <p:spTgt spid="1203"/>
                    </p:tgtEl>
                  </p:cond>
                </p:stCondLst>
                <p:childTnLst>
                  <p:par>
                    <p:cTn id="2930" fill="hold">
                      <p:stCondLst>
                        <p:cond evt="onClick">
                          <p:tgtEl>
                            <p:spTgt spid="1203"/>
                          </p:tgtEl>
                        </p:cond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4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5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6" restart="whenNotActive" nodeType="interactiveSeq" fill="hold">
                <p:stCondLst>
                  <p:cond evt="onClick">
                    <p:tgtEl>
                      <p:spTgt spid="1202"/>
                    </p:tgtEl>
                  </p:cond>
                </p:stCondLst>
                <p:childTnLst>
                  <p:par>
                    <p:cTn id="2937" fill="hold">
                      <p:stCondLst>
                        <p:cond evt="onClick">
                          <p:tgtEl>
                            <p:spTgt spid="1202"/>
                          </p:tgtEl>
                        </p:cond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074760" y="98100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于噪声的说法，你认为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900000" y="23385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烟花爆竹发出很强的声音，捂上耳朵或张开嘴巴能避免声音对我们听力的伤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900000" y="34862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噪音会影响听力，但一般不影响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900000" y="413388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噪音悦耳动听，使人心旷神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90800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1476360" y="1628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0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fill="hold">
                            <p:stCondLst>
                              <p:cond delay="500"/>
                            </p:stCondLst>
                            <p:childTnLst>
                              <p:par>
                                <p:cTn id="29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6" restart="whenNotActive" nodeType="interactiveSeq" fill="hold">
                <p:stCondLst>
                  <p:cond evt="onClick">
                    <p:tgtEl>
                      <p:spTgt spid="1216"/>
                    </p:tgtEl>
                  </p:cond>
                </p:stCondLst>
                <p:childTnLst>
                  <p:par>
                    <p:cTn id="2967" fill="hold">
                      <p:stCondLst>
                        <p:cond evt="onClick">
                          <p:tgtEl>
                            <p:spTgt spid="1216"/>
                          </p:tgtEl>
                        </p:cond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1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2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3" restart="whenNotActive" nodeType="interactiveSeq" fill="hold">
                <p:stCondLst>
                  <p:cond evt="onClick">
                    <p:tgtEl>
                      <p:spTgt spid="1215"/>
                    </p:tgtEl>
                  </p:cond>
                </p:stCondLst>
                <p:childTnLst>
                  <p:par>
                    <p:cTn id="2974" fill="hold">
                      <p:stCondLst>
                        <p:cond evt="onClick">
                          <p:tgtEl>
                            <p:spTgt spid="1215"/>
                          </p:tgtEl>
                        </p:cond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385080" y="1341360"/>
            <a:ext cx="214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锣发出声音的时候，用手按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锣面，锣声就消失，这是因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971640" y="25700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使锣面停止了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971640" y="314172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阻止了空气的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97164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手挡住了声音的传播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337200" y="45813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声音的产生是由于物体的振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94836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23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0" dur="indefinite" restart="never" nodeType="tmRoot">
          <p:childTnLst>
            <p:seq>
              <p:cTn id="2981" dur="indefinite" nodeType="mainSeq">
                <p:childTnLst>
                  <p:par>
                    <p:cTn id="2982" fill="hold">
                      <p:stCondLst>
                        <p:cond delay="0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500"/>
                            </p:stCondLst>
                            <p:childTnLst>
                              <p:par>
                                <p:cTn id="29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6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3" restart="whenNotActive" nodeType="interactiveSeq" fill="hold">
                <p:stCondLst>
                  <p:cond evt="onClick">
                    <p:tgtEl>
                      <p:spTgt spid="1232"/>
                    </p:tgtEl>
                  </p:cond>
                </p:stCondLst>
                <p:childTnLst>
                  <p:par>
                    <p:cTn id="3004" fill="hold">
                      <p:stCondLst>
                        <p:cond evt="onClick">
                          <p:tgtEl>
                            <p:spTgt spid="1232"/>
                          </p:tgtEl>
                        </p:cond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0" restart="whenNotActive" nodeType="interactiveSeq" fill="hold">
                <p:stCondLst>
                  <p:cond evt="onClick">
                    <p:tgtEl>
                      <p:spTgt spid="1230"/>
                    </p:tgtEl>
                  </p:cond>
                </p:stCondLst>
                <p:childTnLst>
                  <p:par>
                    <p:cTn id="3011" fill="hold">
                      <p:stCondLst>
                        <p:cond evt="onClick">
                          <p:tgtEl>
                            <p:spTgt spid="1230"/>
                          </p:tgtEl>
                        </p:cond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7" restart="whenNotActive" nodeType="interactiveSeq" fill="hold">
                <p:stCondLst>
                  <p:cond evt="onClick">
                    <p:tgtEl>
                      <p:spTgt spid="1231"/>
                    </p:tgtEl>
                  </p:cond>
                </p:stCondLst>
                <p:childTnLst>
                  <p:par>
                    <p:cTn id="3018" fill="hold">
                      <p:stCondLst>
                        <p:cond evt="onClick">
                          <p:tgtEl>
                            <p:spTgt spid="1231"/>
                          </p:tgtEl>
                        </p:cond>
                      </p:stCondLst>
                      <p:childTnLst>
                        <p:par>
                          <p:cTn id="3019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29T03:10:00Z</dcterms:modified>
  <cp:revision>291</cp:revision>
  <dc:subject/>
  <dc:title>幻灯片 1</dc:title>
</cp:coreProperties>
</file>