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C12-71AA-410A-8AD9-A813D0E6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F36-9BAC-44BC-BEEC-0F0B3EE2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B70-F4F1-40A3-BBF0-51248CCF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A1F-995F-4E42-9EA1-B3E59649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F25-1CF4-4C72-B607-3E5B18AC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8CE-6D31-46C1-BB9D-FBFFC4E9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A54-5899-46F3-B3A5-F23A389F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982-F4AD-4B44-A1C4-B2F46E95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C72-CB53-45E1-B973-EBBA1F55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C60-DB02-4F38-845B-1F5AE4FB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744-FB2E-4D12-B75D-19E3C66F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2E0-AB01-421F-BF87-2E38AC6C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CABC-478D-45C7-82DA-7F4733618C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2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3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" Target="slide36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0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3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76.xml"/><Relationship Id="rId5" Type="http://schemas.openxmlformats.org/officeDocument/2006/relationships/slide" Target="slide76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77.xml"/><Relationship Id="rId9" Type="http://schemas.openxmlformats.org/officeDocument/2006/relationships/image" Target="../media/image4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1188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437000"/>
            <a:ext cx="1871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365720"/>
            <a:ext cx="1800360" cy="107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508640"/>
            <a:ext cx="17272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4508640"/>
            <a:ext cx="16570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568800" y="1628640"/>
            <a:ext cx="105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测量气温时应选择（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，这个地方的温度才能反映当地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。每天要在（                               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864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室外阴凉、通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6880" y="271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一时间、同一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46400" y="4005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用气温计测气温的一个标准，否则测量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不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20" y="1557360"/>
            <a:ext cx="841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通常情况下，一天中（  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气温最高，凌晨和（                  ）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15638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0667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出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0400" y="3500280"/>
            <a:ext cx="40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许多同学都误认为一天中最高气温是中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，其实气温最高出现在下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2400" y="1773360"/>
            <a:ext cx="612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利用（        ）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来观察温度在一天当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23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柱状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37880" y="3500280"/>
            <a:ext cx="538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掌握这两种图表的画法。一般情况下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格子，是画柱状图，如果没有格子出现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画折线图，一定要看清题目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28640"/>
            <a:ext cx="70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温度计时，要等到温度计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柱停止（      ）或（      ）后才能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。视线要与液柱（      ）齐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20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27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21560" y="378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计和水温计读数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3080" y="1557360"/>
            <a:ext cx="62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可以通过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感知，可以用（     ）和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界事物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4320" y="3803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的十三个等级表中有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风向是指风（         ）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由北向南吹来的是（        ），由西南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北吹来的是（           ）。当红旗飘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南时，吹的是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147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292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红旗飘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57360"/>
            <a:ext cx="946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  ）来测量。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的箭头指向风（    ）的方向。如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箭头指向西北，就是（    ）风。用红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巾来判断风向，红领巾向西北方向飘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是（     ）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4842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263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4508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搞清楚风的方向就是风向标的箭头指向。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件飘动的方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48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（    ）方位来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，分别是（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1400" y="206064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、南、西、北、东南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26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北、西南、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3716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与数学课学过的上北下南，左西右东的方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484280"/>
            <a:ext cx="67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是以风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计算的。（       ）是测量风速的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气象学家把风速记为（     ）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的天气日历中可以（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来划分风速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14842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秒行进多少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速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风、微风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4437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不动为无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红旗微动为微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展开为大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1413000"/>
            <a:ext cx="68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）是天气的一个基本特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记录降水量的单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212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19242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1480" y="303228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降水量是测量雨量器里边水的高度，而不是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多少。因此单位是毫米，不是毫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3320" y="184464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的形式很多，常见的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、（    ）、（       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427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4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42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94360" y="3500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雾、霜冻、露水不是降水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11120" y="162864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是测量降水量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装置。气象学家根据一天（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水量来确定下雨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40120" y="16351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量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211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360" y="378936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雨量器必须是上下一样大的、透明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148428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是由千千万万的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（       ）组成的。云可以看作是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43640" y="148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4000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3429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和积云是由小水滴组成的，高空中的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冰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9000" y="184464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根据云量的多少把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（     ）、（    ）和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3558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00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2421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95520" y="177336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在对云描述时，通常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云的高度和形状把云分成三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2355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9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卷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364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高度来看，卷云高于积云，积云高于层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形状上看，层云扁平状，积云像棉花堆，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纤细的羽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2080" y="119700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的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层云，层云通常是（     ）的。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厚会形成（                 ）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也称（       ）。高于层云，看上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 ）叫积云，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可能发展成（         ），并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天气。（            ）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126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扁平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灰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234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毛毛雨、大雨或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9564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42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像棉花一样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400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50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雷阵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32360" y="450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纤细的羽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080" y="5157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信息进行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帮助我们认识天气的某些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天气变化的一些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596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整理、总结和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948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77336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动植物能预报天气，如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打开，表示天气（       ），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紧闭，表示天气（      ）。蜻蜓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表示（       ），蚂蚁搬家表示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燕子低飞天气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234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40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005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1280" y="4811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质量预报分为（    ）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适度指数预报分为（    ）级；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度分为（     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256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5656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270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3408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70280" y="4730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22960" y="170820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气总是（         ）变化着，它影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04960" y="2309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我们的（      ），也影响着地球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08200" y="-833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断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029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都在变化，跟我们人类的关系是非常密切相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00560" y="-1049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49440" y="17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7477 L 0.0901 0.36482 E">
                                      <p:cBhvr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0.06019 L -0.23142 0.49074 E">
                                      <p:cBhvr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6875 L 0.47535 0.17384 E">
                                      <p:cBhvr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01372 -0.42431 E">
                                      <p:cBhvr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165480" y="836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永远无法改变天气。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28160" y="2349360"/>
            <a:ext cx="16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种说法不对。因为干旱时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人工降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720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类活动可以改变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699360" y="62064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把降水量分为六个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，请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68360" y="1989000"/>
            <a:ext cx="8280360" cy="1800360"/>
            <a:chOff x="468360" y="1989000"/>
            <a:chExt cx="8280360" cy="1800360"/>
          </a:xfrm>
        </p:grpSpPr>
        <p:sp>
          <p:nvSpPr>
            <p:cNvPr id="410" name=""/>
            <p:cNvSpPr/>
            <p:nvPr/>
          </p:nvSpPr>
          <p:spPr>
            <a:xfrm>
              <a:off x="468360" y="1989000"/>
              <a:ext cx="828036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360" y="2781360"/>
              <a:ext cx="82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19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3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4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00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98240" y="1916280"/>
            <a:ext cx="7922160" cy="1780920"/>
            <a:chOff x="498240" y="1916280"/>
            <a:chExt cx="7922160" cy="1780920"/>
          </a:xfrm>
        </p:grpSpPr>
        <p:sp>
          <p:nvSpPr>
            <p:cNvPr id="419" name=""/>
            <p:cNvSpPr/>
            <p:nvPr/>
          </p:nvSpPr>
          <p:spPr>
            <a:xfrm>
              <a:off x="756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0908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180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2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3816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4508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3080" y="2333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13080" y="191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特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240" y="27082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20" y="3176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降水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694160" y="2852640"/>
            <a:ext cx="948960" cy="830880"/>
            <a:chOff x="1694160" y="2852640"/>
            <a:chExt cx="948960" cy="830880"/>
          </a:xfrm>
        </p:grpSpPr>
        <p:sp>
          <p:nvSpPr>
            <p:cNvPr id="430" name=""/>
            <p:cNvSpPr/>
            <p:nvPr/>
          </p:nvSpPr>
          <p:spPr>
            <a:xfrm>
              <a:off x="1694160" y="285264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~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0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845440" y="2852640"/>
            <a:ext cx="1011240" cy="830880"/>
            <a:chOff x="2845440" y="2852640"/>
            <a:chExt cx="1011240" cy="830880"/>
          </a:xfrm>
        </p:grpSpPr>
        <p:sp>
          <p:nvSpPr>
            <p:cNvPr id="433" name=""/>
            <p:cNvSpPr/>
            <p:nvPr/>
          </p:nvSpPr>
          <p:spPr>
            <a:xfrm>
              <a:off x="2845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~24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4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69440" y="2852640"/>
            <a:ext cx="1011240" cy="830880"/>
            <a:chOff x="4069440" y="2852640"/>
            <a:chExt cx="1011240" cy="830880"/>
          </a:xfrm>
        </p:grpSpPr>
        <p:sp>
          <p:nvSpPr>
            <p:cNvPr id="436" name=""/>
            <p:cNvSpPr/>
            <p:nvPr/>
          </p:nvSpPr>
          <p:spPr>
            <a:xfrm>
              <a:off x="4069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~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4512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21800" y="2852640"/>
            <a:ext cx="1011240" cy="830880"/>
            <a:chOff x="5221800" y="2852640"/>
            <a:chExt cx="1011240" cy="830880"/>
          </a:xfrm>
        </p:grpSpPr>
        <p:sp>
          <p:nvSpPr>
            <p:cNvPr id="439" name=""/>
            <p:cNvSpPr/>
            <p:nvPr/>
          </p:nvSpPr>
          <p:spPr>
            <a:xfrm>
              <a:off x="522180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~9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040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30520" y="2852640"/>
            <a:ext cx="1264320" cy="830880"/>
            <a:chOff x="6230520" y="2852640"/>
            <a:chExt cx="1264320" cy="830880"/>
          </a:xfrm>
        </p:grpSpPr>
        <p:sp>
          <p:nvSpPr>
            <p:cNvPr id="442" name=""/>
            <p:cNvSpPr/>
            <p:nvPr/>
          </p:nvSpPr>
          <p:spPr>
            <a:xfrm>
              <a:off x="6230520" y="285264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~2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276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722000" y="2852640"/>
            <a:ext cx="685080" cy="830880"/>
            <a:chOff x="7722000" y="2852640"/>
            <a:chExt cx="685080" cy="830880"/>
          </a:xfrm>
        </p:grpSpPr>
        <p:sp>
          <p:nvSpPr>
            <p:cNvPr id="445" name=""/>
            <p:cNvSpPr/>
            <p:nvPr/>
          </p:nvSpPr>
          <p:spPr>
            <a:xfrm>
              <a:off x="7722000" y="2852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≥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548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617280" y="424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2832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的高低与哪些因素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变化有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177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的高低与季节、天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及一天中不同的时刻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522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变化的规律：夏天气温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冬季气温低，晴天气温高，雨天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，中午气温高，早晨、晚上气温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了解天气的方法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6364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看报纸、听广播、看电视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电话查询、上网查询、观察动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的行为变化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555000" y="83664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图如何来表示云量的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46280" y="4365720"/>
            <a:ext cx="44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晴天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多云天空中的云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¾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，阴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4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067280" y="2060640"/>
          <a:ext cx="158436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2556000" y="1989000"/>
          <a:ext cx="79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989000"/>
                    <a:ext cx="79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1763640" y="1989000"/>
            <a:ext cx="1584360" cy="1511280"/>
            <a:chOff x="1763640" y="1989000"/>
            <a:chExt cx="1584360" cy="1511280"/>
          </a:xfrm>
        </p:grpSpPr>
        <p:sp>
          <p:nvSpPr>
            <p:cNvPr id="480" name=""/>
            <p:cNvSpPr/>
            <p:nvPr/>
          </p:nvSpPr>
          <p:spPr>
            <a:xfrm>
              <a:off x="1763640" y="198900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6000" y="198900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67280" y="2062080"/>
            <a:ext cx="1584360" cy="1511280"/>
            <a:chOff x="4067280" y="2062080"/>
            <a:chExt cx="1584360" cy="1511280"/>
          </a:xfrm>
        </p:grpSpPr>
        <p:sp>
          <p:nvSpPr>
            <p:cNvPr id="484" name=""/>
            <p:cNvSpPr/>
            <p:nvPr/>
          </p:nvSpPr>
          <p:spPr>
            <a:xfrm>
              <a:off x="4067280" y="206208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67280" y="28540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9280" y="206208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6300720" y="2060640"/>
          <a:ext cx="158436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"/>
          <p:cNvGrpSpPr/>
          <p:nvPr/>
        </p:nvGrpSpPr>
        <p:grpSpPr>
          <a:xfrm>
            <a:off x="6300720" y="2060640"/>
            <a:ext cx="1584360" cy="1511280"/>
            <a:chOff x="6300720" y="2060640"/>
            <a:chExt cx="1584360" cy="1511280"/>
          </a:xfrm>
        </p:grpSpPr>
        <p:sp>
          <p:nvSpPr>
            <p:cNvPr id="490" name=""/>
            <p:cNvSpPr/>
            <p:nvPr/>
          </p:nvSpPr>
          <p:spPr>
            <a:xfrm>
              <a:off x="6300720" y="206064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0720" y="285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3080" y="2060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2896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7084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97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9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0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天气预报有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3640" y="177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天气预报内容包括：气温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向风速、云量、降水概率、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、舒适度指数、紫外线强度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总是在不断地变化着，它影响着地球上的生物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跟人类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持着密切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220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天气是指我们居住的地区，在某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的（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781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876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其实是地球上所特有的现象，因为地球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气层包围，而月球上就没有天气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716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带来的变化，我们并不能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感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在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预报图中的不同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符号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影响天气变化的因素联系起来考虑，可以更好地认识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在不断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化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日历中，一般要记录日期和时间、云量和降水情况、风速和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日历中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录风速分为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、微风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三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在观察记录天气时，不需要收听或收看当地的天气预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一个月的天气观察，我们能找到这个月天气变化的简单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我们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作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10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教室里的温度和教室外的温度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5440" y="299736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一般冬天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温度低于室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夏天室外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高于室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等到温度计里的液柱停止上升或下降后，才能读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同一天中午的气温要比早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1280" y="1616040"/>
            <a:ext cx="54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知道的天气现象有（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66212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34936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、阴、小雨、大雨、雾、冰雹、小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雪、扬沙、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21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准确区分天气现象与天气特征的不同，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特征是指气温、降水、云量、风向、风速这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小组测得的温度与其他组不一样，肯定是温度计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92676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能是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是指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4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八个方位来描述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和风速是天气观察中的重要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是天气的一个基本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量的单位是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928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毫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什么形状的透明杯子，都可以用来做雨器的刻度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45440" y="299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要一样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模拟降雨的实验中，喷壶与雨量器要有一定的间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实际上是由无数的小水滴或小冰晶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实际上是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的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的时候，天空中一定是没有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86960" y="30178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占天空中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0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24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（              ）是记录每天各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）的（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19954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日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404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312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记录每天天气现象的表格不是天气表，也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表，而是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可能会发展成积雨云，并形成雷阵雨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6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647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扁平层状的云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层云，它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于天空最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66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观察记录中的信息进行整理、总结和分析，可以帮助我们认识天气的某些特征，了解天气变化的一些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探测仪器和卫星技术可以准确地观测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情况的记录中，不同的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72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天气日历，我们可以方便地分析一段时间的天气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6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一个月的天气变化，我们可以推测一年的气候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、风向、降水量、云量都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一时间，阳光下和背阴处的温度一定是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7344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阳光下的气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背阴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我们测气温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应把气温计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背阴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8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823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的箭头指向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0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4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845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2240" y="1687680"/>
            <a:ext cx="75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的天气日历中，一般要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）、（      ），如果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还要记录云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2766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2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7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、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4640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781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2320" y="4292640"/>
            <a:ext cx="17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空格很少，则可以把内容合拼，如：气温、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合在一起，如果空格多可以把内容分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云分为积云、层云、卷云三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黑压压的乌云实际上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72360" y="292428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卷云在高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看不到。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般黑压压乌云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889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的等级只能用风速仪来测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360" y="29242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如撑伞步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行是六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用风速仪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3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28320" y="11588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录每天天气现象的表格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常叫做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462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日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0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7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48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4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55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955520" y="1158840"/>
            <a:ext cx="46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符号    表示的天气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3831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rId4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rId5" action="ppaction://hlinksldjump"/>
          </p:cNvPr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6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7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0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1996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24040" y="115884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观察记录一个月的气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做法错误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67040" y="257004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每天的同一时间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42920" y="3213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周末和假期，应该停止观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同一地点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4800" y="479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9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2026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400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）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5422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498348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0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70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768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每秒行进的距离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44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21040" y="1773360"/>
            <a:ext cx="69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每天都能感觉到天气带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，通过（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    ）等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来描述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349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2827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3328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四个方面就是天气的基本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929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风向标的箭头指向东时，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9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3600" y="1341360"/>
            <a:ext cx="29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风速分为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504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17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07840" y="1341360"/>
            <a:ext cx="32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的天气现象中，（   ）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降水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冰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66394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0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211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21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43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制雨量器的刻度纸条是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20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模拟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量降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0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2248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4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2255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58516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天中的降水量是指（   ）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降水总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685692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0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2292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92640" y="13413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下了暴雨，我知道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）毫米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26938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635280" y="2693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2360" y="269388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0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1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322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8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2329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56480" y="1341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所有的天空都被云遮掩，这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0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8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359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7368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纤细的羽状云是（     ）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微小的冰晶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6156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5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396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40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49200" y="134136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上去像棉花一样的云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2433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1082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1082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37920" y="1341360"/>
            <a:ext cx="35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记录风速的时候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00360" y="1844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470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6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477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560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天气应该在每天的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同一（     ）。一个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变化（         ）这一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候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355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285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9360" y="4456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时间段，不同地点，室外测得气温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0920" y="134136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作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79640" y="220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摄氏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050920" y="2852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342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41880" y="450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500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27280" y="1413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0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500"/>
                            </p:stCondLst>
                            <p:childTnLst>
                              <p:par>
                                <p:cTn id="2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6" restart="whenNotActive" nodeType="interactiveSeq" fill="hold">
                <p:stCondLst>
                  <p:cond evt="onClick">
                    <p:tgtEl>
                      <p:spTgt spid="1109"/>
                    </p:tgtEl>
                  </p:cond>
                </p:stCondLst>
                <p:childTnLst>
                  <p:par>
                    <p:cTn id="2507" fill="hold">
                      <p:stCondLst>
                        <p:cond evt="onClick">
                          <p:tgtEl>
                            <p:spTgt spid="1109"/>
                          </p:tgtEl>
                        </p:cond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3" restart="whenNotActive" nodeType="interactiveSeq" fill="hold">
                <p:stCondLst>
                  <p:cond evt="onClick">
                    <p:tgtEl>
                      <p:spTgt spid="1108"/>
                    </p:tgtEl>
                  </p:cond>
                </p:stCondLst>
                <p:childTnLst>
                  <p:par>
                    <p:cTn id="2514" fill="hold">
                      <p:stCondLst>
                        <p:cond evt="onClick">
                          <p:tgtEl>
                            <p:spTgt spid="1108"/>
                          </p:tgtEl>
                        </p:cond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67552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红旗朝东飘扬时，风向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140328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500"/>
                            </p:stCondLst>
                            <p:childTnLst>
                              <p:par>
                                <p:cTn id="2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3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2544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2551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236240" y="1341360"/>
            <a:ext cx="59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是测量降水量多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雨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298764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136"/>
                    </p:tgtEl>
                  </p:cond>
                </p:stCondLst>
                <p:childTnLst>
                  <p:par>
                    <p:cTn id="2581" fill="hold">
                      <p:stCondLst>
                        <p:cond evt="onClick">
                          <p:tgtEl>
                            <p:spTgt spid="1136"/>
                          </p:tgtEl>
                        </p:cond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7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58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32520" y="136836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天有城堡云，地上雷雨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谚语中的“城堡云”就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1672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5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6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261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63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7T03:31:08Z</dcterms:modified>
  <cp:revision>186</cp:revision>
  <dc:subject/>
  <dc:title>幻灯片 1</dc:title>
</cp:coreProperties>
</file>