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wmf" ContentType="image/x-wmf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2BC-3B11-485F-BFB4-BE4E9991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C22-7907-4C7E-9D52-06EDAB42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F0C0-1841-41AA-AD1A-8123D005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27E-B589-460C-AAAB-00C8CE42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1CA8-340B-4FAC-8463-2B641E91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1B40-53BD-453E-A4FA-58D1E1FF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3867-CDC4-4CF4-8081-CD62B50C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FB98-D141-48A8-8E3B-75C44EF6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3D4E-96A9-42F6-A60F-A7601DAA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6CC5-E477-4687-85C4-4DB319D6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EAA8-E28C-42A9-969C-020339F9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E0D-B679-4DAC-B94D-2E18E726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B64D-433F-4047-A33C-21092E78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3823-607F-4F11-B70D-A14D06DA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720F-8224-4CA3-B01D-27AE1BEB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A5D3-F554-4E88-B432-FEC1D757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82A3-A59C-4999-8A20-45A5256F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3CA63-CF5B-4DF1-92D2-A10F649E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70951-6A90-4ED9-9ECC-296660A5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ADD52-E841-4F8E-A98E-DE01FF03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F639C-6CD8-4F1B-A253-D9C1CA77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9A56E-9DC8-4E6A-9646-F4668896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317-0954-4702-B078-F4FC75A2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0B4E0-47AE-424B-8297-6E337C2C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4373-42CF-4082-9A95-2F4FB713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9C026-A9B1-46E1-A365-8F746563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3DDF8-DC4D-4850-AD97-F3650A10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C227A-C78D-4C52-9EE0-C92B0BCD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BAA22-128A-43BD-AEF5-07CC7B9A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5B29-F5B2-4D8C-96A6-62D1C895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F8F57-654D-436F-9E9C-1EAA34D4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32401-3B12-440F-9A30-F6B2A680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69A41-4DAE-410C-B11B-59717324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F9D-50D4-45A4-A91A-E6CC4993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91F86-5A6A-407F-A535-9047BD2B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EEDB7-8E82-4044-AEFC-39194645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0DF12-4FAE-4B16-9BA2-B5E6F439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7DD69-2FAF-43B2-8D1A-7C9D58E3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039BE-6752-45DF-9E27-358143D2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5A1CF-58C8-4ED9-9ECB-74EB5C67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FA855-5A6A-4F9B-872F-D6C865BC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066C3-0F3E-492A-AFBC-4BE199DF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6FF86-CE53-4584-B74D-8A0C448E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0C427-1792-49B3-9F00-C6281680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0A8C-3A06-44CC-8441-3F05E9B1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A5236-996C-4B04-9545-333899BA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CF89C-1A5E-47CE-81C6-15AFC27D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13B98-47A5-409A-B446-FD8C1BA9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5FA35-65C2-4708-AC18-145BD9CB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1AEBD-6CFA-4332-AFD1-1D9B566E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EA267-F2C2-4388-A083-01AD3A9D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7516E-2DBC-4527-A475-68BAE6A5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6782C-08EA-4374-8628-3E224039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4C12C-4F60-4938-8CCE-65CF19F9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2ECDF-07AD-4868-9C0E-1D795508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20A-10B6-4930-9348-E1BA199F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53A25-1D69-4631-BD10-6A771AC7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857B7-84D3-45F4-B990-B3025C5C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CD1E6-5411-4D57-8323-71AF8800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3F5F5-C7BF-47DC-A42A-04108F04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D6996-7873-476F-977B-5F8E583F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A08C8-5FE2-43EE-8775-215007C9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2D997-5207-4A7C-BD48-E92384E4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E588A-DDC9-46B6-B8F6-5B06C851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8FBA1-1BFA-4C35-BC4D-2C068EC9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E90DE-7ED0-493D-92E8-8A460A13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B16-09A9-4DCC-A732-D18A1399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AA1FD-C8C0-4297-B165-E09E821E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51CF6-7A68-4E0A-8CE1-4F848431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D28F5-CED9-45CB-96A8-C8742C93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73D2-C307-42D7-9A02-BDC48A4F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E9B8-7251-4DD5-9954-BB720D00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31E3-1BEC-4A14-95BB-83B304FDA5B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10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15F1-9394-45B3-9000-8BB869655E7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E507-0DFD-424A-A083-08418135F2A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2D52-8DBD-4BC6-95C5-390002917D7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5132-7593-4319-B6ED-408517CE7B11}" type="slidenum"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E170-1EB8-4D2D-A3FE-5CE876902AFB}" type="slidenum"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563868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68580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525780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72400" y="358128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905120" y="1447920"/>
            <a:ext cx="6962760" cy="5048280"/>
            <a:chOff x="1905120" y="1447920"/>
            <a:chExt cx="6962760" cy="5048280"/>
          </a:xfrm>
        </p:grpSpPr>
        <p:sp>
          <p:nvSpPr>
            <p:cNvPr id="257" name=""/>
            <p:cNvSpPr txBox="1"/>
            <p:nvPr/>
          </p:nvSpPr>
          <p:spPr>
            <a:xfrm>
              <a:off x="1905120" y="1447920"/>
              <a:ext cx="6324480" cy="167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33cc33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幼圆"/>
                </a:rPr>
                <a:t>食物中的营养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  <a:ea typeface="幼圆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5486400" y="6172200"/>
              <a:ext cx="3381480" cy="3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1" strike="noStrike">
                  <a:ln w="1260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浙江省建德市新安江第一小学 秦爱军</a:t>
              </a:r>
              <a:endParaRPr b="0" lang="en-US" sz="10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73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066680" y="13716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a5442"/>
                </a:solidFill>
                <a:latin typeface="Arial"/>
              </a:rPr>
              <a:t>维生素和矿物质有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调节身体机能</a:t>
            </a:r>
            <a:r>
              <a:rPr b="0" lang="zh-CN" sz="4800" spc="-1" strike="noStrike">
                <a:solidFill>
                  <a:srgbClr val="0a5442"/>
                </a:solidFill>
                <a:latin typeface="Arial"/>
              </a:rPr>
              <a:t>的作用，它们的种类非常多，是我们保持健康不可缺少的营养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0880" y="533520"/>
            <a:ext cx="5562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幼圆"/>
              </a:rPr>
              <a:t>怎样才知道食物中含有哪些营养呢？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75" name=""/>
          <p:cNvSpPr/>
          <p:nvPr/>
        </p:nvSpPr>
        <p:spPr>
          <a:xfrm>
            <a:off x="2666880" y="13716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我们可以通过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实验和查阅资料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的方法辨别食物中含有的营养成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934320" y="2514600"/>
            <a:ext cx="186048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833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脂肪的辨别方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用棉签蘸一点食用油，涂在白纸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分别用肥肉、花生米等在白纸上挤压、滑动。含有脂肪的食物在白纸上会留下油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563400"/>
            <a:ext cx="9144000" cy="629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9608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淀粉的辨别方法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1. 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在淀粉糊中滴入一滴碘酒，会看到淀粉变成蓝色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2. 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分别在不同的食物上滴一滴碘酒，观察实验现象。如果发现有变蓝色的现象出现，说明这种食物中含有淀粉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219320" y="213120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我们的身体需要各种营养，这些营养都储存在种类丰富的食物中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丰富的食物是能够摄取各种丰富的营养的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380880"/>
            <a:ext cx="1828800" cy="7621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66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结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方正姚体"/>
                <a:ea typeface="方正姚体"/>
              </a:rPr>
              <a:t>考考你：填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把食物放在白纸上挤压滑动，白纸上留下油渍，说明这种食物含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(          );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在食物上滴碘酒，是为了检验食物中是否含有（           ）；想知道食物中是否含有蛋白质、维生素等可以看食品标签或（                      ）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把食物放在白纸上挤压滑动，白纸上留下油渍，说明这种食物含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(          );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在食物上滴碘酒，是为了检验食物中是否含有（           ）；想知道食物中是否含有蛋白质、维生素等可以看食品标签或（                      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1143000"/>
            <a:ext cx="85341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人体维持健康需要蛋白质（            ）、（      ）、（        ）、矿物质、水和膳食纤维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09480" y="1676520"/>
            <a:ext cx="70628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，你有哪些收获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267080" y="3581280"/>
            <a:ext cx="3657600" cy="2892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28600" y="914400"/>
            <a:ext cx="69343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们能从种类丰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的食物中获得什么营养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181480" y="3689280"/>
            <a:ext cx="396252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295280" y="216360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</a:rPr>
              <a:t>食物所含的营养成分非常丰富，通常分为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蛋白质、糖类、脂肪、维生素和矿物质以及水</a:t>
            </a:r>
            <a:r>
              <a:rPr b="1" lang="zh-CN" sz="54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e6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19320" y="426384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■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人体是由无数细胞构成的，蛋白质是其主要部分，因此构成和修补人体组织是蛋白质最主要的生理功能。人体细胞要不断地更新，所以每天都必须摄入一定量的蛋白质，作为构成和修补组织的“建筑材料”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■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蛋白质参与构成人体的各类重要的生命活性物质。体内蛋白质的种类数以千计，其中包括人类赖以生存的无数的酶类、多种激素、抗体等，这些酶、激素、抗体大都由蛋白质构成的。此外，蛋白质还参与调节渗透压和体内酸碱平衡以及供给能量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8947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资料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1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762120"/>
            <a:ext cx="4952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蛋白质是构成人体肌肉、内脏、</a:t>
            </a:r>
            <a:endParaRPr b="0" lang="en-US" sz="2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头发、指甲和血液的主要成分。</a:t>
            </a:r>
            <a:endParaRPr b="0" lang="en-US" sz="2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0880" y="17524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脂肪和糖类是人体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能量的主要来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我们的身体可以储存大量的脂肪和糖类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0912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资料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63600" y="4265280"/>
            <a:ext cx="78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几乎一切天然食物中都含有脂类，脂类是一种很重要的有机化合物，是人体必不可少的组成成份之一。其主要分为动物脂肪和植物脂肪，它们由于所含化学元素的种类、数量以及结构不同，而各有各的功能、营养价值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18741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a5442"/>
                </a:solidFill>
                <a:latin typeface="Arial"/>
              </a:rPr>
              <a:t>糖类在人体内消化后，主要以</a:t>
            </a:r>
            <a:r>
              <a:rPr b="0" lang="zh-CN" sz="3600" spc="-1" strike="noStrike">
                <a:solidFill>
                  <a:srgbClr val="003300"/>
                </a:solidFill>
                <a:latin typeface="Arial"/>
              </a:rPr>
              <a:t>葡萄糖</a:t>
            </a:r>
            <a:r>
              <a:rPr b="0" lang="zh-CN" sz="3600" spc="-1" strike="noStrike">
                <a:solidFill>
                  <a:srgbClr val="0a5442"/>
                </a:solidFill>
                <a:latin typeface="Arial"/>
              </a:rPr>
              <a:t>的形式被吸收利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8T07:44:4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