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BA4-7AC1-4484-89A0-FE3EDBA5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632-9FE4-42E4-B19A-56CC04B8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9D8-E2D0-47CA-B97B-EAFBB873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3FE-96DD-4AC9-ADC3-FD33AADE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0FBC-A3BA-4138-B490-6140F4CB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0BEA-F5F0-4588-9EAF-953E4C1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B028-CF11-4CAC-B5E6-A03C1B03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D9FD-ABA5-41EB-8354-9BD864B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28AC-04DF-487D-84F1-AA0E3D00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95A2-1539-4AEF-9C31-51CF56A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9431-1AAB-443E-A89C-4C1162C0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223-0928-4262-9AE2-2FF44AF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FC1A-774A-4894-AE2D-138F62F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E1F6-F25B-4D0B-A412-9968DA8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29EC-4F36-4178-9ACC-9F0DB550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FE2A-396C-4371-B13D-CED2BE28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A63A-0C8E-49B3-8F43-DDFCA322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46CB-A3AF-4093-8FDD-F8FAF148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80EE-4E1B-4A15-99D9-CB4EA8F7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5E68-DC3C-4C4C-875C-02BAC97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FDE5-2215-4072-8CCC-E4E6C069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718A-64A1-41EB-BCF3-1F11CCCD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CA9-9788-4370-8704-E249CD3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FE33-C5E3-444B-A070-5A4B5699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A84B-E5FA-4C08-B786-80A8A5CC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9691-C1C0-4CD8-BAB9-209A6A4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98FA-3FC2-4229-A4BD-C4BAB71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C306-C670-464B-80B5-AEE9783C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5F31-9F43-4A3F-BE6B-8472D71E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DA33-6E94-4319-9815-63E3FF45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3D1F-06DB-4DC0-84F0-C6198229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52AE-2CD5-488A-BDED-555C815B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6B54-420C-4FC0-8AD3-80C01A3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B8B-9089-422B-B4A6-C57DA00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BB5A-99B7-4BCA-A310-CC693745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D3BA-D09C-48B9-9116-B9404588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AECA-67AE-403B-B308-2C761226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0ECA-7DCD-4CAD-AFDF-5E57641B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CAD1-6EC6-43E0-8823-A6646A0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04EB-E8C4-44C7-9C8E-12717091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7EA2-7831-4158-A207-6135907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87F2-1D4E-4BC4-A0A9-048FB0A7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DF37-132A-48A0-8B57-88A3656E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85DA-AFE3-4949-A727-E140FF7D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5FA-2B2D-4590-81C9-61D799E9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8C19-340D-474F-8E0A-405A0DE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AA5C-5B8F-4766-9B55-5928F581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30D39-5BCC-4711-8206-1C3913A2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71235-8C7B-4B62-91CE-259BB2AE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663F-BFF8-4F6A-93FB-F283AC06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7344-4679-417E-A3FB-171BC47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747A-0352-4301-B15B-48AE51E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7A27A-471F-498C-9741-A7ADAFE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F3212-ACA3-42DA-A0E8-0520E457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64974-38EC-44A2-AA91-F6E313BE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D7C-A2A2-41A9-904A-309C45D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F1B6-D03A-454D-9F1A-E0CBCF48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64465-9FC4-49A6-A471-834FD931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E58B7-A93A-4562-B71B-44DC92A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AD7B-94E3-445C-9565-01BAC538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81DA-550C-4219-A1B5-9429400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AEC1-20D3-425B-8E6A-F1C31389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7EE6-630A-4CED-A268-46C40728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4B7FB-C29F-4C80-8369-16F8B76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BE922-BCEF-4CAD-BF6E-FBF1BEF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6048F-5AD3-47DC-AF4E-6A26C7C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102-517B-43CC-AEEA-E17EF95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8EE1E-6DAF-4C6B-9595-E53620D5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9D8B-84BD-46B8-812E-E1E6CA54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C9B0-4E8D-4570-898E-616818E4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564-E34B-4070-A2DF-82D9CF2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83D-D1C8-44A4-A865-3D091B4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C4CF-8677-4326-B809-24B7A98C277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CE28-56F2-48ED-A125-B10C5FEA6AE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8E8-7A87-47E4-A93A-A03DB8A248A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0831-1340-401A-84E3-B3156220C71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9FE3-20E6-48BE-A7C0-313607FB334C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FB3C-9F7A-4B64-8090-2651021E9029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85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257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5812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5120" y="1447920"/>
            <a:ext cx="6962760" cy="5048280"/>
            <a:chOff x="1905120" y="1447920"/>
            <a:chExt cx="6962760" cy="5048280"/>
          </a:xfrm>
        </p:grpSpPr>
        <p:sp>
          <p:nvSpPr>
            <p:cNvPr id="257" name=""/>
            <p:cNvSpPr txBox="1"/>
            <p:nvPr/>
          </p:nvSpPr>
          <p:spPr>
            <a:xfrm>
              <a:off x="1905120" y="1447920"/>
              <a:ext cx="632448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33cc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食物中的营养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86400" y="6172200"/>
              <a:ext cx="338148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73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666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维生素和矿物质有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调节身体机能</a:t>
            </a: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的作用，它们的种类非常多，是我们保持健康不可缺少的营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5335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怎样才知道食物中含有哪些营养呢？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我们可以通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实验和查阅资料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的方法辨别食物中含有的营养成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8604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33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脂肪的辨别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棉签蘸一点食用油，涂在白纸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分别用肥肉、花生米等在白纸上挤压、滑动。含有脂肪的食物在白纸上会留下油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96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淀粉的辨别方法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1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在淀粉糊中滴入一滴碘酒，会看到淀粉变成蓝色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2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分别在不同的食物上滴一滴碘酒，观察实验现象。如果发现有变蓝色的现象出现，说明这种食物中含有淀粉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21312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们的身体需要各种营养，这些营养都储存在种类丰富的食物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丰富的食物是能够摄取各种丰富的营养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808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66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考考你：填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人体维持健康需要蛋白质（            ）、（      ）、（        ）、矿物质、水和膳食纤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1676520"/>
            <a:ext cx="7062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，你有哪些收获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657600" cy="28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914400"/>
            <a:ext cx="69343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能从种类丰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食物中获得什么营养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68928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21636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食物所含的营养成分非常丰富，通常分为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蛋白质、糖类、脂肪、维生素和矿物质以及水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e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42638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人体是由无数细胞构成的，蛋白质是其主要部分，因此构成和修补人体组织是蛋白质最主要的生理功能。人体细胞要不断地更新，所以每天都必须摄入一定量的蛋白质，作为构成和修补组织的“建筑材料”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蛋白质参与构成人体的各类重要的生命活性物质。体内蛋白质的种类数以千计，其中包括人类赖以生存的无数的酶类、多种激素、抗体等，这些酶、激素、抗体大都由蛋白质构成的。此外，蛋白质还参与调节渗透压和体内酸碱平衡以及供给能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94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7621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蛋白质是构成人体肌肉、内脏、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头发、指甲和血液的主要成分。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脂肪和糖类是人体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能量的主要来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我们的身体可以储存大量的脂肪和糖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3600" y="4265280"/>
            <a:ext cx="78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几乎一切天然食物中都含有脂类，脂类是一种很重要的有机化合物，是人体必不可少的组成成份之一。其主要分为动物脂肪和植物脂肪，它们由于所含化学元素的种类、数量以及结构不同，而各有各的功能、营养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74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糖类在人体内消化后，主要以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的形式被吸收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4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