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wmf" ContentType="image/x-wmf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6F8-2CE8-4C84-8E6F-349B3C8C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DCB-576D-44C7-9D47-AF931CC8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958-9B86-4E89-895F-3B92D99C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59F-C726-44AE-A5D2-A70D1189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26CE-CE8A-4F53-B46B-25F50CDE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5B14-3615-4C19-B5C1-F9323154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73A8-9E62-4E74-824F-DE494DB7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582A-9AFF-4AE2-B638-4ABE9B90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67E3-EFB9-4E86-AD6D-DAAF3F55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1F69-050D-4360-8BDB-88AA9FA5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4E01-37A5-467A-8CB1-E78C2267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EE4-2C4D-462C-8C4B-1E02AD01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73E5-588F-495A-91E6-0B802784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ABD7-2664-4D3C-AB9A-D5346E49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5794-D65B-43DF-8967-92E5A7D3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4425-3C43-45F6-80BA-9F1524E9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ED27-C9C3-454B-9006-33175647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35778-770F-4148-9214-9FD8DB12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51A60-A168-492D-AEE2-F323E17D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7DE4C-CFC9-4242-BC8D-17D93BD5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1F46-2F36-4D72-829C-D9EE98B0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AF762-2F11-48CF-9DF5-0FF32BA3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40E-CBEA-4A47-B9D5-8C49577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9B6B-32DA-410A-8373-18E84B5A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F275-CDAD-44D7-B326-B2FB9EEC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BE41-6B17-4FE9-B8A5-33DBDD71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2658-7493-43D9-9F78-830A977B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83CA-BB47-40AA-9A7D-4841E757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C550-A436-4792-8506-39A42356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839F-B414-45BA-8D41-0F4D168E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BCC06-870E-45B8-A0C6-DEB9F64D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543F7-E719-4919-807A-988CE93C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4979-5754-44AB-8360-F1671A07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901-AEB2-4650-B56A-04A9FE1E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1DCBB-7BC4-43EB-A58B-0AD96990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0B7F-1E89-45FD-9D40-46CAE8F5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0EB4F-2A49-45DE-BD8D-CD09F211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20446-067F-4337-9FA7-788B52DA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8DB5-CBEB-4350-BD94-07335672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7DA4D-A722-4DE6-97FD-C8CCE4C5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EAA7C-BED9-4F2C-9A5B-0DAC6A69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7891-9479-4C57-AB2A-C575FEA7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E2EAF-5BB7-43FF-9222-2B287804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B671B-77BB-4B48-AB54-48C286B9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793-DBA8-46F7-A954-2B8CFB42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C8F46-6879-4AB8-A319-53504930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454AE-CDD7-4853-AAD3-0FCA230F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02EB-EE47-4153-BD48-04F02E6B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F5021-7AA0-4B1D-8204-81D0FD25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35FB3-519B-45E0-A7A2-4B2DB49F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CD774-26BC-4E18-BC70-267F1D5D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6C29A-C36B-4DE8-B029-E5854EF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D9E52-85D1-49D4-AA0A-D70A243B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9E959-1DDD-4D91-AA17-C8DCFED4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6D67-288C-4069-897D-6A1E7CCB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BC3-F060-409A-895E-95259411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86BA4-50EF-4349-B7FB-CE4B99F3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545E0-FBEC-4A3C-B3DF-E9DC22F8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5A7EF-A0F2-4C54-8783-08972635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142BB-DCF4-48D6-9ED5-B32D1D37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BF3B8-8D24-473D-A7F4-03F8FD07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F1F53-61FC-4EE5-94E3-438A1B75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9C78C-C6AF-4FD2-9745-7E40940A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9A509-7A8C-45DD-9695-EF9C513E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8CC46-B898-4E7B-B5FB-7307BD90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4F118-F124-445E-B11D-317C3852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828-93EB-4E0A-ABC0-A1CBB4D0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ED649-FA1D-4A0C-84A9-02DB41E9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CCB30-A390-4BC8-AC1B-9706CF51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DE2F9-63CF-4F2C-932C-45340234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B62-A2F1-4929-98CA-031464E9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7EF-08BA-4362-B6EC-B549D37F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9FA0-5AA9-4A7B-A24B-D6AF1CFB758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10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2CDB-69A1-4420-B613-F67B6C3C913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096E-31C6-4E20-91BC-0D473EC177A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6DD9-7FF6-42A8-877A-EA46BC979E4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81B1-6F0F-4A07-AC98-00EA29FF7207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CCCB-A772-41A4-8BD8-8CC54883116C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56386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685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5257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35812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05120" y="1447920"/>
            <a:ext cx="6962760" cy="5048280"/>
            <a:chOff x="1905120" y="1447920"/>
            <a:chExt cx="6962760" cy="5048280"/>
          </a:xfrm>
        </p:grpSpPr>
        <p:sp>
          <p:nvSpPr>
            <p:cNvPr id="257" name=""/>
            <p:cNvSpPr txBox="1"/>
            <p:nvPr/>
          </p:nvSpPr>
          <p:spPr>
            <a:xfrm>
              <a:off x="1905120" y="1447920"/>
              <a:ext cx="632448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33cc33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食物中的营养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5486400" y="6172200"/>
              <a:ext cx="338148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73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66680" y="1371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维生素和矿物质有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调节身体机能</a:t>
            </a: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的作用，它们的种类非常多，是我们保持健康不可缺少的营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0880" y="533520"/>
            <a:ext cx="556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幼圆"/>
              </a:rPr>
              <a:t>怎样才知道食物中含有哪些营养呢？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1371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我们可以通过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实验和查阅资料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的方法辨别食物中含有的营养成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186048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33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脂肪的辨别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用棉签蘸一点食用油，涂在白纸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分别用肥肉、花生米等在白纸上挤压、滑动。含有脂肪的食物在白纸上会留下油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563400"/>
            <a:ext cx="9144000" cy="629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960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淀粉的辨别方法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1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在淀粉糊中滴入一滴碘酒，会看到淀粉变成蓝色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2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分别在不同的食物上滴一滴碘酒，观察实验现象。如果发现有变蓝色的现象出现，说明这种食物中含有淀粉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19320" y="213120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我们的身体需要各种营养，这些营养都储存在种类丰富的食物中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丰富的食物是能够摄取各种丰富的营养的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380880"/>
            <a:ext cx="1828800" cy="7621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66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结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方正姚体"/>
                <a:ea typeface="方正姚体"/>
              </a:rPr>
              <a:t>考考你：填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143000"/>
            <a:ext cx="8534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人体维持健康需要蛋白质（            ）、（      ）、（        ）、矿物质、水和膳食纤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09480" y="1676520"/>
            <a:ext cx="70628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，你有哪些收获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3657600" cy="289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28600" y="914400"/>
            <a:ext cx="69343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能从种类丰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的食物中获得什么营养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81480" y="3689280"/>
            <a:ext cx="396252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95280" y="21636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食物所含的营养成分非常丰富，通常分为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蛋白质、糖类、脂肪、维生素和矿物质以及水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e6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19320" y="42638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人体是由无数细胞构成的，蛋白质是其主要部分，因此构成和修补人体组织是蛋白质最主要的生理功能。人体细胞要不断地更新，所以每天都必须摄入一定量的蛋白质，作为构成和修补组织的“建筑材料”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蛋白质参与构成人体的各类重要的生命活性物质。体内蛋白质的种类数以千计，其中包括人类赖以生存的无数的酶类、多种激素、抗体等，这些酶、激素、抗体大都由蛋白质构成的。此外，蛋白质还参与调节渗透压和体内酸碱平衡以及供给能量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8947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762120"/>
            <a:ext cx="4952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蛋白质是构成人体肌肉、内脏、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头发、指甲和血液的主要成分。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1752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脂肪和糖类是人体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能量的主要来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我们的身体可以储存大量的脂肪和糖类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0912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63600" y="4265280"/>
            <a:ext cx="78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几乎一切天然食物中都含有脂类，脂类是一种很重要的有机化合物，是人体必不可少的组成成份之一。其主要分为动物脂肪和植物脂肪，它们由于所含化学元素的种类、数量以及结构不同，而各有各的功能、营养价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18741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糖类在人体内消化后，主要以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葡萄糖</a:t>
            </a: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的形式被吸收利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4:4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