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wmf" ContentType="image/x-wmf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5B1-1D48-417F-9999-579C5685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147-2C31-436B-9CF7-22652479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B97-6C48-4F3B-97EA-AAA2D048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A657-6624-4E34-9F37-2E5CC9A7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C1C7-C1B1-4952-9D9B-D46C2F8E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F580-42C2-40B2-8404-AA717F93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FA40-CBEE-4DBB-939D-6057085C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D2E2-273E-411A-8C12-20C47067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FE9E-7260-4690-A95A-B9DCC594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127C-1309-4172-9723-AD056FD0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93F4-1B9E-4D98-85B8-30CA9123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664-11EB-45A4-823D-3869D5AA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A66B-FC08-44C7-BF54-3DFD8DE6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0406-5F88-41AE-89C0-F0D78419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CBB8-CC19-4311-B424-BEED7FD2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F788-0CAB-4CF8-BC12-3EAC645F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65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29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F873-9C4F-46D2-864D-8479E5C5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8D2-8D8C-4EA8-9BA9-53F261C0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4670-4829-4910-A7FF-CE77F09A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C5D-3229-47A1-8B7D-3300BA3D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26640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D6B-66CD-4C29-9E00-96789AFB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AE0-6318-481B-AD14-3085CA8C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29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DA3-923A-4C0B-A155-A1ECF231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65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29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4A3-D0EE-4CAE-B6B5-E3D962D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33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09D1-0962-4D30-8EB6-5B01767978E4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360" y="2706480"/>
            <a:ext cx="511344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E447-204E-462F-AE21-EB005AADC549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laser.wav" TargetMode="External"/><Relationship Id="rId2" Type="http://schemas.openxmlformats.org/officeDocument/2006/relationships/image" Target="../media/image3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410080" y="6019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47920" y="1981080"/>
            <a:ext cx="7467480" cy="4572000"/>
            <a:chOff x="1447920" y="1981080"/>
            <a:chExt cx="7467480" cy="4572000"/>
          </a:xfrm>
        </p:grpSpPr>
        <p:sp>
          <p:nvSpPr>
            <p:cNvPr id="85" name=""/>
            <p:cNvSpPr txBox="1"/>
            <p:nvPr/>
          </p:nvSpPr>
          <p:spPr>
            <a:xfrm>
              <a:off x="1447920" y="1981080"/>
              <a:ext cx="624816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幼圆"/>
                </a:rPr>
                <a:t>营养要均衡</a:t>
              </a:r>
              <a:endPara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  <a:ea typeface="幼圆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5562720" y="6248520"/>
              <a:ext cx="3352680" cy="30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1" strike="noStrike">
                  <a:ln w="12600">
                    <a:solidFill>
                      <a:srgbClr val="800080"/>
                    </a:solidFill>
                    <a:miter/>
                  </a:ln>
                  <a:solidFill>
                    <a:srgbClr val="80008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整理者：浙江省建德市新安江第一小学 秦爱军</a:t>
              </a:r>
              <a:endParaRPr b="0" lang="en-US" sz="10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469880"/>
            <a:ext cx="48006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15000" y="3733920"/>
            <a:ext cx="2838600" cy="2377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743200" y="6858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是小小营养师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400040" cy="112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3733920"/>
            <a:ext cx="51609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小组合作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利用今天所学的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知识配制一份营养午餐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981080"/>
            <a:ext cx="456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讨论一下你的食物营养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搭配原则是什么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41008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876920" y="4495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新宋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819e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000" y="2664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我的膳食营养搭配原则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搭配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每天都吃适当的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和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运动量比较大，需要多吃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类食物，补充足够的能量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、最近手指间有一些 脱皮，需要多吃富含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______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的食物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23880" y="2133720"/>
            <a:ext cx="66294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你学会了什么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898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宋体"/>
              </a:rPr>
              <a:t>我们从食物中获取各种营养，这些营养必须合理搭配，才能保证我们正常生活和成长，这就是营养的均衡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32767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679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66680" y="22860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营养均衡吗？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0" y="21337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132600" cy="6629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20" y="990720"/>
            <a:ext cx="911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均衡膳食宝塔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152388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1371600" cy="799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4267080" y="2514600"/>
            <a:ext cx="1295640" cy="1209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343400" y="4191120"/>
            <a:ext cx="1228680" cy="904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48320" y="5638680"/>
            <a:ext cx="904680" cy="48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38088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“ </a:t>
            </a:r>
            <a:r>
              <a:rPr b="1" lang="zh-CN" sz="3200" spc="-1" strike="noStrike">
                <a:solidFill>
                  <a:srgbClr val="4ff5fd"/>
                </a:solidFill>
                <a:latin typeface="幼圆"/>
                <a:ea typeface="幼圆"/>
              </a:rPr>
              <a:t>宝塔” 中</a:t>
            </a: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哪类食物能支持我们的生长发育？</a:t>
            </a:r>
            <a:r>
              <a:rPr b="1" lang="zh-CN" sz="3200" spc="-1" strike="noStrike">
                <a:solidFill>
                  <a:srgbClr val="cc00cc"/>
                </a:solidFill>
                <a:latin typeface="幼圆"/>
                <a:ea typeface="幼圆"/>
              </a:rPr>
              <a:t>哪类食物能给我们提供能量？</a:t>
            </a:r>
            <a:r>
              <a:rPr b="1" lang="zh-CN" sz="3200" spc="-1" strike="noStrike">
                <a:solidFill>
                  <a:srgbClr val="009900"/>
                </a:solidFill>
                <a:latin typeface="幼圆"/>
                <a:ea typeface="幼圆"/>
              </a:rPr>
              <a:t>哪类食物能使我们保持健康？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487692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宝塔”中不同种类食物食用量的多少， 又告诉了我们什么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86400" y="3479760"/>
            <a:ext cx="3657600" cy="3378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43400" y="388620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42000" y="2743200"/>
            <a:ext cx="34020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2743200"/>
            <a:ext cx="1676520" cy="533520"/>
          </a:xfrm>
          <a:prstGeom prst="leftArrow">
            <a:avLst>
              <a:gd name="adj1" fmla="val 50000"/>
              <a:gd name="adj2" fmla="val 78559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14800" y="1752480"/>
            <a:ext cx="4129200" cy="510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40240" cy="4800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819520" y="609480"/>
            <a:ext cx="2209680" cy="1981440"/>
          </a:xfrm>
          <a:prstGeom prst="leftArrow">
            <a:avLst>
              <a:gd name="adj1" fmla="val 50000"/>
              <a:gd name="adj2" fmla="val 27880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497560" cy="5943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29360" y="1066680"/>
            <a:ext cx="391464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95480" y="762120"/>
            <a:ext cx="2667240" cy="761760"/>
          </a:xfrm>
          <a:prstGeom prst="leftArrow">
            <a:avLst>
              <a:gd name="adj1" fmla="val 50000"/>
              <a:gd name="adj2" fmla="val 87535"/>
            </a:avLst>
          </a:prstGeom>
          <a:solidFill>
            <a:srgbClr val="1ebde1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这么多食物中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多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些食物应该少吃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哪种食物最营养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有包含人类需要的所有营养吗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能总结一下吗？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914400"/>
          <a:ext cx="5254560" cy="676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5254560" cy="67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 txBox="1"/>
          <p:nvPr/>
        </p:nvSpPr>
        <p:spPr>
          <a:xfrm>
            <a:off x="228600" y="380880"/>
            <a:ext cx="4572000" cy="1676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华文新魏"/>
              </a:rPr>
              <a:t>一位小学生一天的食谱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华文新魏"/>
              <a:ea typeface="华文新魏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2-18T07:43:24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