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734-E606-4F3A-9952-BF2656DF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BB9-7153-4949-88BB-9EC78B7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43F-D3C3-4F51-A953-71582F15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BCE-E344-4539-BD3E-3265C726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A08B-0E51-43B0-898A-470C0AD6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65BB-F13C-4A52-BF26-3530AC2B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1D16-7DF8-4BE4-9F3A-89D314D8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DB77-AC16-4DEB-A462-7673E377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F20A-5D3E-4D57-A9AD-46C4FA4C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3D62-2FB0-4FF2-BB73-01467CBA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69E1-0FBA-497C-A586-655799BD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120-E5AE-4177-997E-7D7089B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C8CD-C8C3-490B-A22C-C436C1E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397F-9C28-40C5-A4DC-2541806E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ECC3-52FF-4446-9095-22F5127A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7E3A-A8F9-4F7F-BC0F-B106EB0E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CCF4-F508-47AF-B563-16C5083C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131-D617-4FD3-BCBF-381FE56D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56F-8768-4CB4-AA3E-976A9B42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523-A6B8-4A92-B568-032C1177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DF7-A312-435A-8EA7-0104516D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9CC-AC7C-4922-BF02-D97A889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ADC-AC1F-4AED-A4F7-B77EC16D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D45-47AE-4316-9114-EA26D60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8CE4-607A-41A0-8378-DE26EFAFD344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B801-29CD-45AC-8002-49C8A54452A6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10080" y="6019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1981080"/>
            <a:ext cx="7467480" cy="4572000"/>
            <a:chOff x="1447920" y="1981080"/>
            <a:chExt cx="7467480" cy="4572000"/>
          </a:xfrm>
        </p:grpSpPr>
        <p:sp>
          <p:nvSpPr>
            <p:cNvPr id="85" name=""/>
            <p:cNvSpPr txBox="1"/>
            <p:nvPr/>
          </p:nvSpPr>
          <p:spPr>
            <a:xfrm>
              <a:off x="1447920" y="1981080"/>
              <a:ext cx="62481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营养要均衡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562720" y="6248520"/>
              <a:ext cx="33526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469880"/>
            <a:ext cx="48006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838600" cy="2377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4320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是小小营养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00040" cy="112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3733920"/>
            <a:ext cx="516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小组合作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利用今天所学的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知识配制一份营养午餐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8108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讨论一下你的食物营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搭配原则是什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4100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876920" y="4495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新宋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81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膳食营养搭配原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每天都吃适当的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运动量比较大，需要多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类食物，补充足够的能量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手指间有一些 脱皮，需要多吃富含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的食物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21337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你学会了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898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我们从食物中获取各种营养，这些营养必须合理搭配，才能保证我们正常生活和成长，这就是营养的均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2767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67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680" y="22860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营养均衡吗？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13260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20" y="990720"/>
            <a:ext cx="91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均衡膳食宝塔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152388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137160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267080" y="2514600"/>
            <a:ext cx="129564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43400" y="4191120"/>
            <a:ext cx="122868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48320" y="5638680"/>
            <a:ext cx="904680" cy="4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38088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“ </a:t>
            </a: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宝塔” 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哪类食物能支持我们的生长发育？</a:t>
            </a:r>
            <a:r>
              <a:rPr b="1" lang="zh-CN" sz="3200" spc="-1" strike="noStrike">
                <a:solidFill>
                  <a:srgbClr val="cc00cc"/>
                </a:solidFill>
                <a:latin typeface="幼圆"/>
                <a:ea typeface="幼圆"/>
              </a:rPr>
              <a:t>哪类食物能给我们提供能量？</a:t>
            </a:r>
            <a:r>
              <a:rPr b="1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哪类食物能使我们保持健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4876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宝塔”中不同种类食物食用量的多少， 又告诉了我们什么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479760"/>
            <a:ext cx="365760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38862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42000" y="2743200"/>
            <a:ext cx="340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27432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0" y="1752480"/>
            <a:ext cx="41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9520" y="609480"/>
            <a:ext cx="2209680" cy="1981440"/>
          </a:xfrm>
          <a:prstGeom prst="leftArrow">
            <a:avLst>
              <a:gd name="adj1" fmla="val 50000"/>
              <a:gd name="adj2" fmla="val 27880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49756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29360" y="1066680"/>
            <a:ext cx="391464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95480" y="762120"/>
            <a:ext cx="2667240" cy="761760"/>
          </a:xfrm>
          <a:prstGeom prst="leftArrow">
            <a:avLst>
              <a:gd name="adj1" fmla="val 50000"/>
              <a:gd name="adj2" fmla="val 87535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这么多食物中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多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少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种食物最营养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包含人类需要的所有营养吗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能总结一下吗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914400"/>
          <a:ext cx="5254560" cy="67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254560" cy="67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 txBox="1"/>
          <p:nvPr/>
        </p:nvSpPr>
        <p:spPr>
          <a:xfrm>
            <a:off x="228600" y="380880"/>
            <a:ext cx="45720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一位小学生一天的食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3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