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9.wmf" ContentType="image/x-wmf"/>
  <Override PartName="/ppt/media/image6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28.png" ContentType="image/pn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7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4087-AF4F-49A7-BFCB-D239854A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53BF-4F4D-49F9-A5C1-019E4D06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CCE0-39EA-48E7-9D6E-9384E57D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F790-1B3F-4760-8616-73BB969B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478C-3A42-469E-AA07-12DFAFEA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749F-E0DC-4A5E-83E1-CB55879B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C539-2DD8-49DE-88D4-7A239818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5191-36F5-4031-8EB5-F0CC6573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F6E2-4F6C-47CF-B4D8-5DE03D67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F3FB-5B5C-459E-A1C0-8CF8C71D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A54B-18E4-4802-9AC7-B0CCA4C0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0051-A420-474A-A951-C4476984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1642-741F-4377-AFDC-966B0B43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CFC9-BFE5-40C9-9374-6BA88BE2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035D-BBF1-4823-85C8-E8305894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3330-FDBE-4617-B074-36A4D21A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062D-93BC-431E-AA81-75D5C03A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BA0BB2-13B7-45DD-B1A9-0119A6B1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6C8C8C-405E-4C42-8CE1-52CE6D87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09D0EB-215D-4BDB-8475-23F90C01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D67F97-6BE6-4ACA-BC22-CE76BE68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333A0C-020E-4458-B881-F119486E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9D33-4D26-4B8C-B913-E05BC5EA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571856-58E3-4BD5-84BA-B88A07A9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AF49CE-1FB5-4B99-B4EE-821EF7D9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B4FF17-FE79-4127-AFAF-5414FD20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FB1CC2-2FAA-4FFF-B5FA-67145200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261FAF-CB8A-444D-827A-251F7045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2ECD1C-2C5B-4118-8243-F615A4D6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DE8989-99CF-46B3-91B8-7A5600E4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DA5BA-B564-43EE-847E-3442EBC1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1466D-8B54-4B6A-AECD-4B33D68E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0D295-F7E4-4F4E-BB61-44C7C6B2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23A1-6FFD-4D88-B29F-4647DD9E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12429-5278-49E7-8D35-363E13A4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8CA4A-F0AB-4B97-8252-86DBC801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9EA7B-34B9-4353-945C-F2CC223E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22789-BA20-4B99-85B7-79D0C34D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1E3F3-367B-423A-995A-94558C8E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8FF48-4599-4D32-97A7-C16631FB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7110C-B660-41FA-93DA-4FEEF4F2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31982-6246-4A5B-9DD8-049FC082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78A69-B1A0-4947-AC4F-2EB23584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F5E753-B344-40BA-908A-38E92DB0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78D1-D0D1-421A-826D-A92E75EE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F17020-8B0F-4B3F-91A9-4C81C39F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CE3B45-BE30-47D3-8975-BB156890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93FA6A-9D43-4E05-8AFE-C085D6D0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29E775-F7B2-4AB2-8CFF-45886416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EF577F-18CF-47F4-8DC6-DED86176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9D417B-AACB-424B-97B0-0B0BA20E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975409-613B-4C9A-A093-4F78974B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9BFC97-A0D6-4745-80F5-C58F947F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710DAB-6503-4B87-A715-5D502607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E54A45-4C97-49AC-9AE1-C2B72269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39DE-CAB9-4AD0-AFD8-910481B6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64BFA6-5E85-4DFE-B955-F21015FE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77FC41-19A4-40C8-896E-3269A958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BA8438-445F-443C-B701-BD1B29AF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4ABEF0-E4B1-47C0-846F-E8A899B3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BEC483-6B16-48C1-9283-F0993CED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3578FE-E4CB-4F83-8F38-6C09D300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12EF0F-B1B8-4999-A076-4C688735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208AEE-E725-48D6-9E6E-FD796F58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26C10D-AC5E-43E8-A69B-B9B778F3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28A975-12ED-43C0-B021-87B050EA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B54E-8324-4BF0-AB4B-24A7413C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C086BD-8133-4DF6-82B1-D7FC331E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F09F3E-ECDF-4FD9-B5E1-209CBBB1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DF4D2C-9D5E-46F4-88BE-59676C6D3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D1D85-6735-40AB-B916-763EC66A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08293-777F-4B64-BB2D-3B6388B2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036FF-420A-4DAA-B9E5-7D93DBE6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110AA-FE7A-406C-80EB-7675A21C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24BF8-D151-442C-9FF9-0E4E31B6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4DB1B-D557-4376-BCDD-1B948B4D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76121-D1D6-4E9A-A5CF-E422EFB0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D797-3CC3-46D2-9948-8C949CF3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5A6D1-A0D5-4D26-9A7E-891D7728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CCD32-E9C5-4AB0-A1E2-AB95EFC6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A7E7A-35C3-4DAC-8DBA-8B4768F2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E5D0A-7699-41A3-847B-598F46B7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24970-D3CF-46D6-BB1A-7992D683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7A6B1-8510-43C8-BB88-5B233232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CE815-2168-4227-AFC0-7FDC8F86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B9690-88D4-4270-8FC8-DF1544BC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51C86-6EA8-49A4-A8FC-1746F9FD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E637E-0E6D-495F-AEDC-F55FA555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F9BA-1B60-474B-B4DB-E0B5224E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82BAB-7E91-4F17-A3A6-90238F9D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9A27C-6FE3-465E-BF48-CABAF664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54178-A3B5-4B60-A171-3A6262C9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D3B79-C85C-444C-BEC4-2F0E240E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F1003-21A7-4C76-81F9-9F4C9C7F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2BFCB-06CB-44DC-A643-09361687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24327-A760-4A53-87B6-62D57CAE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73.xml"/><Relationship Id="rId13" Type="http://schemas.openxmlformats.org/officeDocument/2006/relationships/slideLayout" Target="../slideLayouts/slideLayout74.xml"/><Relationship Id="rId14" Type="http://schemas.openxmlformats.org/officeDocument/2006/relationships/slideLayout" Target="../slideLayouts/slideLayout75.xml"/><Relationship Id="rId15" Type="http://schemas.openxmlformats.org/officeDocument/2006/relationships/slideLayout" Target="../slideLayouts/slideLayout76.xml"/><Relationship Id="rId16" Type="http://schemas.openxmlformats.org/officeDocument/2006/relationships/slideLayout" Target="../slideLayouts/slideLayout77.xml"/><Relationship Id="rId17" Type="http://schemas.openxmlformats.org/officeDocument/2006/relationships/slideLayout" Target="../slideLayouts/slideLayout78.xml"/><Relationship Id="rId18" Type="http://schemas.openxmlformats.org/officeDocument/2006/relationships/slideLayout" Target="../slideLayouts/slideLayout79.xml"/><Relationship Id="rId19" Type="http://schemas.openxmlformats.org/officeDocument/2006/relationships/slideLayout" Target="../slideLayouts/slideLayout80.xml"/><Relationship Id="rId20" Type="http://schemas.openxmlformats.org/officeDocument/2006/relationships/slideLayout" Target="../slideLayouts/slideLayout81.xml"/><Relationship Id="rId21" Type="http://schemas.openxmlformats.org/officeDocument/2006/relationships/slideLayout" Target="../slideLayouts/slideLayout82.xml"/><Relationship Id="rId22" Type="http://schemas.openxmlformats.org/officeDocument/2006/relationships/slideLayout" Target="../slideLayouts/slideLayout83.xml"/><Relationship Id="rId2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937040"/>
            <a:ext cx="9144000" cy="1927440"/>
          </a:xfrm>
          <a:prstGeom prst="rect">
            <a:avLst/>
          </a:prstGeom>
          <a:gradFill rotWithShape="0">
            <a:gsLst>
              <a:gs pos="0">
                <a:srgbClr val="525252">
                  <a:alpha val="0"/>
                </a:srgbClr>
              </a:gs>
              <a:gs pos="100000">
                <a:srgbClr val="b2b2b2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163080" y="-7920"/>
            <a:ext cx="1440" cy="6870600"/>
          </a:xfrm>
          <a:prstGeom prst="rect">
            <a:avLst/>
          </a:prstGeom>
          <a:solidFill>
            <a:srgbClr val="00bf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213600" y="-7920"/>
            <a:ext cx="2730240" cy="6870600"/>
          </a:xfrm>
          <a:custGeom>
            <a:avLst/>
            <a:gdLst/>
            <a:ahLst/>
            <a:rect l="l" t="t" r="r" b="b"/>
            <a:pathLst>
              <a:path w="858" h="2164">
                <a:moveTo>
                  <a:pt x="724" y="1264"/>
                </a:moveTo>
                <a:cubicBezTo>
                  <a:pt x="858" y="761"/>
                  <a:pt x="764" y="273"/>
                  <a:pt x="515" y="0"/>
                </a:cubicBezTo>
                <a:cubicBezTo>
                  <a:pt x="455" y="0"/>
                  <a:pt x="455" y="0"/>
                  <a:pt x="455" y="0"/>
                </a:cubicBezTo>
                <a:cubicBezTo>
                  <a:pt x="472" y="15"/>
                  <a:pt x="488" y="30"/>
                  <a:pt x="503" y="46"/>
                </a:cubicBezTo>
                <a:cubicBezTo>
                  <a:pt x="752" y="307"/>
                  <a:pt x="846" y="774"/>
                  <a:pt x="712" y="1253"/>
                </a:cubicBezTo>
                <a:cubicBezTo>
                  <a:pt x="604" y="1642"/>
                  <a:pt x="370" y="1952"/>
                  <a:pt x="98" y="2113"/>
                </a:cubicBezTo>
                <a:cubicBezTo>
                  <a:pt x="66" y="2132"/>
                  <a:pt x="33" y="2149"/>
                  <a:pt x="0" y="2164"/>
                </a:cubicBezTo>
                <a:cubicBezTo>
                  <a:pt x="110" y="2164"/>
                  <a:pt x="110" y="2164"/>
                  <a:pt x="110" y="2164"/>
                </a:cubicBezTo>
                <a:cubicBezTo>
                  <a:pt x="382" y="1995"/>
                  <a:pt x="616" y="1671"/>
                  <a:pt x="724" y="1264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dede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564240" y="-7920"/>
            <a:ext cx="2598840" cy="6870600"/>
          </a:xfrm>
          <a:custGeom>
            <a:avLst/>
            <a:gdLst/>
            <a:ahLst/>
            <a:rect l="l" t="t" r="r" b="b"/>
            <a:pathLst>
              <a:path w="817" h="2164">
                <a:moveTo>
                  <a:pt x="405" y="0"/>
                </a:moveTo>
                <a:cubicBezTo>
                  <a:pt x="654" y="273"/>
                  <a:pt x="748" y="761"/>
                  <a:pt x="614" y="1264"/>
                </a:cubicBezTo>
                <a:cubicBezTo>
                  <a:pt x="506" y="1671"/>
                  <a:pt x="272" y="1995"/>
                  <a:pt x="0" y="2164"/>
                </a:cubicBezTo>
                <a:cubicBezTo>
                  <a:pt x="817" y="2164"/>
                  <a:pt x="817" y="2164"/>
                  <a:pt x="817" y="2164"/>
                </a:cubicBezTo>
                <a:cubicBezTo>
                  <a:pt x="817" y="0"/>
                  <a:pt x="817" y="0"/>
                  <a:pt x="817" y="0"/>
                </a:cubicBezTo>
                <a:lnTo>
                  <a:pt x="405" y="0"/>
                </a:lnTo>
                <a:close/>
              </a:path>
            </a:pathLst>
          </a:custGeom>
          <a:gradFill rotWithShape="0">
            <a:gsLst>
              <a:gs pos="0">
                <a:srgbClr val="001d70"/>
              </a:gs>
              <a:gs pos="100000">
                <a:srgbClr val="0013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6850440" y="6633360"/>
            <a:ext cx="289080" cy="29988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178" y="32"/>
                </a:moveTo>
                <a:lnTo>
                  <a:pt x="110" y="59"/>
                </a:lnTo>
                <a:lnTo>
                  <a:pt x="66" y="0"/>
                </a:lnTo>
                <a:lnTo>
                  <a:pt x="68" y="75"/>
                </a:lnTo>
                <a:lnTo>
                  <a:pt x="0" y="99"/>
                </a:lnTo>
                <a:lnTo>
                  <a:pt x="70" y="119"/>
                </a:lnTo>
                <a:lnTo>
                  <a:pt x="72" y="189"/>
                </a:lnTo>
                <a:lnTo>
                  <a:pt x="112" y="131"/>
                </a:lnTo>
                <a:lnTo>
                  <a:pt x="182" y="151"/>
                </a:lnTo>
                <a:lnTo>
                  <a:pt x="138" y="93"/>
                </a:lnTo>
                <a:lnTo>
                  <a:pt x="178" y="3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5400000">
            <a:off x="7864200" y="5533920"/>
            <a:ext cx="298440" cy="289080"/>
          </a:xfrm>
          <a:custGeom>
            <a:avLst/>
            <a:gdLst/>
            <a:ahLst/>
            <a:rect l="l" t="t" r="r" b="b"/>
            <a:pathLst>
              <a:path w="188" h="182">
                <a:moveTo>
                  <a:pt x="148" y="0"/>
                </a:moveTo>
                <a:lnTo>
                  <a:pt x="92" y="46"/>
                </a:lnTo>
                <a:lnTo>
                  <a:pt x="32" y="6"/>
                </a:lnTo>
                <a:lnTo>
                  <a:pt x="56" y="74"/>
                </a:lnTo>
                <a:lnTo>
                  <a:pt x="0" y="118"/>
                </a:lnTo>
                <a:lnTo>
                  <a:pt x="72" y="116"/>
                </a:lnTo>
                <a:lnTo>
                  <a:pt x="96" y="182"/>
                </a:lnTo>
                <a:lnTo>
                  <a:pt x="116" y="114"/>
                </a:lnTo>
                <a:lnTo>
                  <a:pt x="188" y="110"/>
                </a:lnTo>
                <a:lnTo>
                  <a:pt x="128" y="7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5400000">
            <a:off x="8142480" y="5088600"/>
            <a:ext cx="295200" cy="299880"/>
          </a:xfrm>
          <a:custGeom>
            <a:avLst/>
            <a:gdLst/>
            <a:ahLst/>
            <a:rect l="l" t="t" r="r" b="b"/>
            <a:pathLst>
              <a:path w="186" h="189">
                <a:moveTo>
                  <a:pt x="130" y="0"/>
                </a:moveTo>
                <a:lnTo>
                  <a:pt x="82" y="54"/>
                </a:lnTo>
                <a:lnTo>
                  <a:pt x="16" y="22"/>
                </a:lnTo>
                <a:lnTo>
                  <a:pt x="50" y="86"/>
                </a:lnTo>
                <a:lnTo>
                  <a:pt x="0" y="138"/>
                </a:lnTo>
                <a:lnTo>
                  <a:pt x="72" y="126"/>
                </a:lnTo>
                <a:lnTo>
                  <a:pt x="106" y="189"/>
                </a:lnTo>
                <a:lnTo>
                  <a:pt x="114" y="116"/>
                </a:lnTo>
                <a:lnTo>
                  <a:pt x="186" y="104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5400000">
            <a:off x="8362440" y="4619520"/>
            <a:ext cx="295560" cy="295560"/>
          </a:xfrm>
          <a:custGeom>
            <a:avLst/>
            <a:gdLst/>
            <a:ahLst/>
            <a:rect l="l" t="t" r="r" b="b"/>
            <a:pathLst>
              <a:path w="186" h="186">
                <a:moveTo>
                  <a:pt x="130" y="0"/>
                </a:moveTo>
                <a:lnTo>
                  <a:pt x="80" y="52"/>
                </a:lnTo>
                <a:lnTo>
                  <a:pt x="14" y="22"/>
                </a:lnTo>
                <a:lnTo>
                  <a:pt x="50" y="86"/>
                </a:lnTo>
                <a:lnTo>
                  <a:pt x="0" y="136"/>
                </a:lnTo>
                <a:lnTo>
                  <a:pt x="70" y="124"/>
                </a:lnTo>
                <a:lnTo>
                  <a:pt x="104" y="186"/>
                </a:lnTo>
                <a:lnTo>
                  <a:pt x="114" y="116"/>
                </a:lnTo>
                <a:lnTo>
                  <a:pt x="186" y="102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5400000">
            <a:off x="8543160" y="4126680"/>
            <a:ext cx="285840" cy="300240"/>
          </a:xfrm>
          <a:custGeom>
            <a:avLst/>
            <a:gdLst/>
            <a:ahLst/>
            <a:rect l="l" t="t" r="r" b="b"/>
            <a:pathLst>
              <a:path w="180" h="189">
                <a:moveTo>
                  <a:pt x="110" y="0"/>
                </a:moveTo>
                <a:lnTo>
                  <a:pt x="68" y="59"/>
                </a:lnTo>
                <a:lnTo>
                  <a:pt x="0" y="36"/>
                </a:lnTo>
                <a:lnTo>
                  <a:pt x="42" y="95"/>
                </a:lnTo>
                <a:lnTo>
                  <a:pt x="0" y="153"/>
                </a:lnTo>
                <a:lnTo>
                  <a:pt x="68" y="131"/>
                </a:lnTo>
                <a:lnTo>
                  <a:pt x="110" y="189"/>
                </a:lnTo>
                <a:lnTo>
                  <a:pt x="110" y="117"/>
                </a:lnTo>
                <a:lnTo>
                  <a:pt x="180" y="95"/>
                </a:lnTo>
                <a:lnTo>
                  <a:pt x="110" y="73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rot="5400000">
            <a:off x="8677800" y="3612600"/>
            <a:ext cx="298440" cy="299880"/>
          </a:xfrm>
          <a:custGeom>
            <a:avLst/>
            <a:gdLst/>
            <a:ahLst/>
            <a:rect l="l" t="t" r="r" b="b"/>
            <a:pathLst>
              <a:path w="188" h="189">
                <a:moveTo>
                  <a:pt x="106" y="0"/>
                </a:moveTo>
                <a:lnTo>
                  <a:pt x="72" y="64"/>
                </a:lnTo>
                <a:lnTo>
                  <a:pt x="0" y="52"/>
                </a:lnTo>
                <a:lnTo>
                  <a:pt x="52" y="104"/>
                </a:lnTo>
                <a:lnTo>
                  <a:pt x="18" y="169"/>
                </a:lnTo>
                <a:lnTo>
                  <a:pt x="82" y="136"/>
                </a:lnTo>
                <a:lnTo>
                  <a:pt x="132" y="189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rot="5400000">
            <a:off x="8769240" y="3095640"/>
            <a:ext cx="298440" cy="295200"/>
          </a:xfrm>
          <a:custGeom>
            <a:avLst/>
            <a:gdLst/>
            <a:ahLst/>
            <a:rect l="l" t="t" r="r" b="b"/>
            <a:pathLst>
              <a:path w="188" h="186">
                <a:moveTo>
                  <a:pt x="106" y="0"/>
                </a:moveTo>
                <a:lnTo>
                  <a:pt x="72" y="64"/>
                </a:lnTo>
                <a:lnTo>
                  <a:pt x="0" y="50"/>
                </a:lnTo>
                <a:lnTo>
                  <a:pt x="52" y="104"/>
                </a:lnTo>
                <a:lnTo>
                  <a:pt x="18" y="166"/>
                </a:lnTo>
                <a:lnTo>
                  <a:pt x="82" y="136"/>
                </a:lnTo>
                <a:lnTo>
                  <a:pt x="132" y="186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5400000">
            <a:off x="8815320" y="2568600"/>
            <a:ext cx="301680" cy="285840"/>
          </a:xfrm>
          <a:custGeom>
            <a:avLst/>
            <a:gdLst/>
            <a:ahLst/>
            <a:rect l="l" t="t" r="r" b="b"/>
            <a:pathLst>
              <a:path w="190" h="180">
                <a:moveTo>
                  <a:pt x="98" y="0"/>
                </a:moveTo>
                <a:lnTo>
                  <a:pt x="74" y="68"/>
                </a:lnTo>
                <a:lnTo>
                  <a:pt x="0" y="66"/>
                </a:lnTo>
                <a:lnTo>
                  <a:pt x="58" y="110"/>
                </a:lnTo>
                <a:lnTo>
                  <a:pt x="34" y="178"/>
                </a:lnTo>
                <a:lnTo>
                  <a:pt x="92" y="138"/>
                </a:lnTo>
                <a:lnTo>
                  <a:pt x="150" y="180"/>
                </a:lnTo>
                <a:lnTo>
                  <a:pt x="130" y="112"/>
                </a:lnTo>
                <a:lnTo>
                  <a:pt x="190" y="72"/>
                </a:lnTo>
                <a:lnTo>
                  <a:pt x="118" y="70"/>
                </a:lnTo>
                <a:lnTo>
                  <a:pt x="9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5400000">
            <a:off x="8796960" y="2032920"/>
            <a:ext cx="299880" cy="29196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89" y="0"/>
                </a:moveTo>
                <a:lnTo>
                  <a:pt x="75" y="70"/>
                </a:lnTo>
                <a:lnTo>
                  <a:pt x="0" y="78"/>
                </a:lnTo>
                <a:lnTo>
                  <a:pt x="65" y="114"/>
                </a:lnTo>
                <a:lnTo>
                  <a:pt x="51" y="184"/>
                </a:lnTo>
                <a:lnTo>
                  <a:pt x="103" y="136"/>
                </a:lnTo>
                <a:lnTo>
                  <a:pt x="165" y="172"/>
                </a:lnTo>
                <a:lnTo>
                  <a:pt x="137" y="106"/>
                </a:lnTo>
                <a:lnTo>
                  <a:pt x="189" y="58"/>
                </a:lnTo>
                <a:lnTo>
                  <a:pt x="117" y="66"/>
                </a:lnTo>
                <a:lnTo>
                  <a:pt x="89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rot="5400000">
            <a:off x="8731440" y="1499040"/>
            <a:ext cx="292320" cy="303480"/>
          </a:xfrm>
          <a:custGeom>
            <a:avLst/>
            <a:gdLst/>
            <a:ahLst/>
            <a:rect l="l" t="t" r="r" b="b"/>
            <a:pathLst>
              <a:path w="184" h="191">
                <a:moveTo>
                  <a:pt x="74" y="0"/>
                </a:moveTo>
                <a:lnTo>
                  <a:pt x="70" y="72"/>
                </a:lnTo>
                <a:lnTo>
                  <a:pt x="0" y="92"/>
                </a:lnTo>
                <a:lnTo>
                  <a:pt x="70" y="118"/>
                </a:lnTo>
                <a:lnTo>
                  <a:pt x="66" y="191"/>
                </a:lnTo>
                <a:lnTo>
                  <a:pt x="110" y="134"/>
                </a:lnTo>
                <a:lnTo>
                  <a:pt x="178" y="158"/>
                </a:lnTo>
                <a:lnTo>
                  <a:pt x="138" y="98"/>
                </a:lnTo>
                <a:lnTo>
                  <a:pt x="184" y="42"/>
                </a:lnTo>
                <a:lnTo>
                  <a:pt x="114" y="62"/>
                </a:lnTo>
                <a:lnTo>
                  <a:pt x="74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5400000">
            <a:off x="8600040" y="991080"/>
            <a:ext cx="289080" cy="30024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72" y="0"/>
                </a:moveTo>
                <a:lnTo>
                  <a:pt x="70" y="72"/>
                </a:lnTo>
                <a:lnTo>
                  <a:pt x="0" y="90"/>
                </a:lnTo>
                <a:lnTo>
                  <a:pt x="68" y="117"/>
                </a:lnTo>
                <a:lnTo>
                  <a:pt x="64" y="189"/>
                </a:lnTo>
                <a:lnTo>
                  <a:pt x="108" y="133"/>
                </a:lnTo>
                <a:lnTo>
                  <a:pt x="176" y="159"/>
                </a:lnTo>
                <a:lnTo>
                  <a:pt x="136" y="99"/>
                </a:lnTo>
                <a:lnTo>
                  <a:pt x="182" y="40"/>
                </a:lnTo>
                <a:lnTo>
                  <a:pt x="112" y="60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rot="5400000">
            <a:off x="8411400" y="5119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57" y="0"/>
                </a:moveTo>
                <a:lnTo>
                  <a:pt x="67" y="70"/>
                </a:lnTo>
                <a:lnTo>
                  <a:pt x="0" y="102"/>
                </a:lnTo>
                <a:lnTo>
                  <a:pt x="73" y="116"/>
                </a:lnTo>
                <a:lnTo>
                  <a:pt x="81" y="186"/>
                </a:lnTo>
                <a:lnTo>
                  <a:pt x="115" y="124"/>
                </a:lnTo>
                <a:lnTo>
                  <a:pt x="185" y="136"/>
                </a:lnTo>
                <a:lnTo>
                  <a:pt x="137" y="84"/>
                </a:lnTo>
                <a:lnTo>
                  <a:pt x="171" y="20"/>
                </a:lnTo>
                <a:lnTo>
                  <a:pt x="107" y="52"/>
                </a:lnTo>
                <a:lnTo>
                  <a:pt x="57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rot="5400000">
            <a:off x="8157240" y="79920"/>
            <a:ext cx="298440" cy="287280"/>
          </a:xfrm>
          <a:custGeom>
            <a:avLst/>
            <a:gdLst/>
            <a:ahLst/>
            <a:rect l="l" t="t" r="r" b="b"/>
            <a:pathLst>
              <a:path w="188" h="181">
                <a:moveTo>
                  <a:pt x="34" y="2"/>
                </a:moveTo>
                <a:lnTo>
                  <a:pt x="58" y="70"/>
                </a:lnTo>
                <a:lnTo>
                  <a:pt x="0" y="114"/>
                </a:lnTo>
                <a:lnTo>
                  <a:pt x="72" y="112"/>
                </a:lnTo>
                <a:lnTo>
                  <a:pt x="96" y="181"/>
                </a:lnTo>
                <a:lnTo>
                  <a:pt x="118" y="112"/>
                </a:lnTo>
                <a:lnTo>
                  <a:pt x="188" y="110"/>
                </a:lnTo>
                <a:lnTo>
                  <a:pt x="130" y="70"/>
                </a:lnTo>
                <a:lnTo>
                  <a:pt x="152" y="0"/>
                </a:lnTo>
                <a:lnTo>
                  <a:pt x="94" y="44"/>
                </a:lnTo>
                <a:lnTo>
                  <a:pt x="34" y="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8956800" y="0"/>
            <a:ext cx="1872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7575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1100160" y="5754600"/>
            <a:ext cx="504720" cy="486000"/>
          </a:xfrm>
          <a:custGeom>
            <a:avLst/>
            <a:gdLst/>
            <a:ahLst/>
            <a:rect l="l" t="t" r="r" b="b"/>
            <a:pathLst>
              <a:path w="157" h="151">
                <a:moveTo>
                  <a:pt x="114" y="89"/>
                </a:moveTo>
                <a:cubicBezTo>
                  <a:pt x="157" y="54"/>
                  <a:pt x="157" y="54"/>
                  <a:pt x="157" y="54"/>
                </a:cubicBezTo>
                <a:cubicBezTo>
                  <a:pt x="102" y="57"/>
                  <a:pt x="102" y="57"/>
                  <a:pt x="102" y="57"/>
                </a:cubicBezTo>
                <a:cubicBezTo>
                  <a:pt x="100" y="57"/>
                  <a:pt x="98" y="55"/>
                  <a:pt x="97" y="53"/>
                </a:cubicBezTo>
                <a:cubicBezTo>
                  <a:pt x="82" y="16"/>
                  <a:pt x="82" y="16"/>
                  <a:pt x="82" y="16"/>
                </a:cubicBezTo>
                <a:cubicBezTo>
                  <a:pt x="76" y="0"/>
                  <a:pt x="76" y="0"/>
                  <a:pt x="76" y="0"/>
                </a:cubicBezTo>
                <a:cubicBezTo>
                  <a:pt x="60" y="55"/>
                  <a:pt x="60" y="55"/>
                  <a:pt x="60" y="55"/>
                </a:cubicBezTo>
                <a:cubicBezTo>
                  <a:pt x="59" y="57"/>
                  <a:pt x="57" y="58"/>
                  <a:pt x="55" y="58"/>
                </a:cubicBezTo>
                <a:cubicBezTo>
                  <a:pt x="0" y="61"/>
                  <a:pt x="0" y="61"/>
                  <a:pt x="0" y="61"/>
                </a:cubicBezTo>
                <a:cubicBezTo>
                  <a:pt x="46" y="92"/>
                  <a:pt x="46" y="92"/>
                  <a:pt x="46" y="92"/>
                </a:cubicBezTo>
                <a:cubicBezTo>
                  <a:pt x="48" y="93"/>
                  <a:pt x="49" y="96"/>
                  <a:pt x="48" y="98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35" y="149"/>
                  <a:pt x="35" y="149"/>
                  <a:pt x="35" y="149"/>
                </a:cubicBezTo>
                <a:cubicBezTo>
                  <a:pt x="79" y="117"/>
                  <a:pt x="79" y="117"/>
                  <a:pt x="79" y="117"/>
                </a:cubicBezTo>
                <a:cubicBezTo>
                  <a:pt x="80" y="116"/>
                  <a:pt x="83" y="115"/>
                  <a:pt x="85" y="117"/>
                </a:cubicBezTo>
                <a:cubicBezTo>
                  <a:pt x="131" y="148"/>
                  <a:pt x="131" y="148"/>
                  <a:pt x="131" y="148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2" y="92"/>
                  <a:pt x="113" y="90"/>
                  <a:pt x="114" y="89"/>
                </a:cubicBezTo>
                <a:close/>
              </a:path>
            </a:pathLst>
          </a:custGeom>
          <a:solidFill>
            <a:srgbClr val="aeaeae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127080" y="5180040"/>
            <a:ext cx="796680" cy="763560"/>
          </a:xfrm>
          <a:custGeom>
            <a:avLst/>
            <a:gdLst/>
            <a:ahLst/>
            <a:rect l="l" t="t" r="r" b="b"/>
            <a:pathLst>
              <a:path w="248" h="238">
                <a:moveTo>
                  <a:pt x="179" y="141"/>
                </a:moveTo>
                <a:cubicBezTo>
                  <a:pt x="248" y="86"/>
                  <a:pt x="248" y="86"/>
                  <a:pt x="248" y="86"/>
                </a:cubicBezTo>
                <a:cubicBezTo>
                  <a:pt x="160" y="90"/>
                  <a:pt x="160" y="90"/>
                  <a:pt x="160" y="90"/>
                </a:cubicBezTo>
                <a:cubicBezTo>
                  <a:pt x="158" y="90"/>
                  <a:pt x="155" y="88"/>
                  <a:pt x="154" y="86"/>
                </a:cubicBezTo>
                <a:cubicBezTo>
                  <a:pt x="120" y="0"/>
                  <a:pt x="120" y="0"/>
                  <a:pt x="120" y="0"/>
                </a:cubicBezTo>
                <a:cubicBezTo>
                  <a:pt x="99" y="70"/>
                  <a:pt x="99" y="70"/>
                  <a:pt x="99" y="70"/>
                </a:cubicBezTo>
                <a:cubicBezTo>
                  <a:pt x="94" y="88"/>
                  <a:pt x="94" y="88"/>
                  <a:pt x="94" y="88"/>
                </a:cubicBezTo>
                <a:cubicBezTo>
                  <a:pt x="93" y="91"/>
                  <a:pt x="91" y="93"/>
                  <a:pt x="88" y="93"/>
                </a:cubicBezTo>
                <a:cubicBezTo>
                  <a:pt x="0" y="97"/>
                  <a:pt x="0" y="97"/>
                  <a:pt x="0" y="97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77" y="148"/>
                  <a:pt x="78" y="151"/>
                  <a:pt x="77" y="153"/>
                </a:cubicBezTo>
                <a:cubicBezTo>
                  <a:pt x="53" y="237"/>
                  <a:pt x="53" y="237"/>
                  <a:pt x="53" y="237"/>
                </a:cubicBezTo>
                <a:cubicBezTo>
                  <a:pt x="52" y="238"/>
                  <a:pt x="52" y="238"/>
                  <a:pt x="52" y="238"/>
                </a:cubicBezTo>
                <a:cubicBezTo>
                  <a:pt x="126" y="184"/>
                  <a:pt x="126" y="184"/>
                  <a:pt x="126" y="184"/>
                </a:cubicBezTo>
                <a:cubicBezTo>
                  <a:pt x="128" y="182"/>
                  <a:pt x="130" y="182"/>
                  <a:pt x="133" y="184"/>
                </a:cubicBezTo>
                <a:cubicBezTo>
                  <a:pt x="207" y="234"/>
                  <a:pt x="207" y="234"/>
                  <a:pt x="207" y="234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5"/>
                  <a:pt x="177" y="143"/>
                  <a:pt x="179" y="141"/>
                </a:cubicBezTo>
                <a:close/>
              </a:path>
            </a:pathLst>
          </a:custGeom>
          <a:solidFill>
            <a:srgbClr val="bababa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-20520" y="5340240"/>
            <a:ext cx="2334960" cy="1544760"/>
          </a:xfrm>
          <a:custGeom>
            <a:avLst/>
            <a:gdLst/>
            <a:ahLst/>
            <a:rect l="l" t="t" r="r" b="b"/>
            <a:pathLst>
              <a:path w="727" h="481">
                <a:moveTo>
                  <a:pt x="262" y="204"/>
                </a:moveTo>
                <a:cubicBezTo>
                  <a:pt x="175" y="146"/>
                  <a:pt x="175" y="146"/>
                  <a:pt x="175" y="146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23" y="191"/>
                  <a:pt x="129" y="191"/>
                  <a:pt x="135" y="192"/>
                </a:cubicBezTo>
                <a:cubicBezTo>
                  <a:pt x="135" y="193"/>
                  <a:pt x="135" y="193"/>
                  <a:pt x="135" y="193"/>
                </a:cubicBezTo>
                <a:cubicBezTo>
                  <a:pt x="141" y="194"/>
                  <a:pt x="147" y="195"/>
                  <a:pt x="153" y="196"/>
                </a:cubicBezTo>
                <a:cubicBezTo>
                  <a:pt x="153" y="196"/>
                  <a:pt x="153" y="196"/>
                  <a:pt x="154" y="196"/>
                </a:cubicBezTo>
                <a:cubicBezTo>
                  <a:pt x="159" y="197"/>
                  <a:pt x="165" y="198"/>
                  <a:pt x="170" y="199"/>
                </a:cubicBezTo>
                <a:cubicBezTo>
                  <a:pt x="171" y="199"/>
                  <a:pt x="171" y="199"/>
                  <a:pt x="171" y="199"/>
                </a:cubicBezTo>
                <a:cubicBezTo>
                  <a:pt x="177" y="201"/>
                  <a:pt x="183" y="202"/>
                  <a:pt x="188" y="203"/>
                </a:cubicBezTo>
                <a:cubicBezTo>
                  <a:pt x="188" y="203"/>
                  <a:pt x="188" y="203"/>
                  <a:pt x="189" y="203"/>
                </a:cubicBezTo>
                <a:cubicBezTo>
                  <a:pt x="246" y="217"/>
                  <a:pt x="299" y="236"/>
                  <a:pt x="346" y="259"/>
                </a:cubicBezTo>
                <a:cubicBezTo>
                  <a:pt x="346" y="259"/>
                  <a:pt x="346" y="259"/>
                  <a:pt x="346" y="259"/>
                </a:cubicBezTo>
                <a:cubicBezTo>
                  <a:pt x="351" y="261"/>
                  <a:pt x="355" y="263"/>
                  <a:pt x="360" y="265"/>
                </a:cubicBezTo>
                <a:cubicBezTo>
                  <a:pt x="360" y="265"/>
                  <a:pt x="360" y="265"/>
                  <a:pt x="360" y="265"/>
                </a:cubicBezTo>
                <a:cubicBezTo>
                  <a:pt x="365" y="268"/>
                  <a:pt x="369" y="270"/>
                  <a:pt x="374" y="272"/>
                </a:cubicBezTo>
                <a:cubicBezTo>
                  <a:pt x="374" y="272"/>
                  <a:pt x="374" y="272"/>
                  <a:pt x="374" y="272"/>
                </a:cubicBezTo>
                <a:cubicBezTo>
                  <a:pt x="387" y="227"/>
                  <a:pt x="387" y="227"/>
                  <a:pt x="387" y="227"/>
                </a:cubicBezTo>
                <a:cubicBezTo>
                  <a:pt x="331" y="190"/>
                  <a:pt x="331" y="190"/>
                  <a:pt x="331" y="190"/>
                </a:cubicBezTo>
                <a:cubicBezTo>
                  <a:pt x="329" y="189"/>
                  <a:pt x="328" y="186"/>
                  <a:pt x="328" y="184"/>
                </a:cubicBezTo>
                <a:cubicBezTo>
                  <a:pt x="329" y="182"/>
                  <a:pt x="331" y="181"/>
                  <a:pt x="333" y="181"/>
                </a:cubicBezTo>
                <a:cubicBezTo>
                  <a:pt x="400" y="178"/>
                  <a:pt x="400" y="178"/>
                  <a:pt x="400" y="178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03" y="126"/>
                  <a:pt x="393" y="120"/>
                  <a:pt x="382" y="114"/>
                </a:cubicBezTo>
                <a:cubicBezTo>
                  <a:pt x="382" y="114"/>
                  <a:pt x="382" y="114"/>
                  <a:pt x="382" y="114"/>
                </a:cubicBezTo>
                <a:cubicBezTo>
                  <a:pt x="377" y="111"/>
                  <a:pt x="371" y="108"/>
                  <a:pt x="366" y="105"/>
                </a:cubicBezTo>
                <a:cubicBezTo>
                  <a:pt x="366" y="105"/>
                  <a:pt x="365" y="104"/>
                  <a:pt x="365" y="104"/>
                </a:cubicBezTo>
                <a:cubicBezTo>
                  <a:pt x="360" y="101"/>
                  <a:pt x="355" y="99"/>
                  <a:pt x="350" y="96"/>
                </a:cubicBezTo>
                <a:cubicBezTo>
                  <a:pt x="349" y="96"/>
                  <a:pt x="348" y="95"/>
                  <a:pt x="348" y="95"/>
                </a:cubicBezTo>
                <a:cubicBezTo>
                  <a:pt x="343" y="92"/>
                  <a:pt x="338" y="90"/>
                  <a:pt x="333" y="87"/>
                </a:cubicBezTo>
                <a:cubicBezTo>
                  <a:pt x="332" y="87"/>
                  <a:pt x="331" y="86"/>
                  <a:pt x="330" y="86"/>
                </a:cubicBezTo>
                <a:cubicBezTo>
                  <a:pt x="325" y="83"/>
                  <a:pt x="320" y="81"/>
                  <a:pt x="316" y="79"/>
                </a:cubicBezTo>
                <a:cubicBezTo>
                  <a:pt x="314" y="78"/>
                  <a:pt x="313" y="78"/>
                  <a:pt x="311" y="77"/>
                </a:cubicBezTo>
                <a:cubicBezTo>
                  <a:pt x="307" y="75"/>
                  <a:pt x="302" y="73"/>
                  <a:pt x="298" y="71"/>
                </a:cubicBezTo>
                <a:cubicBezTo>
                  <a:pt x="296" y="70"/>
                  <a:pt x="295" y="69"/>
                  <a:pt x="293" y="69"/>
                </a:cubicBezTo>
                <a:cubicBezTo>
                  <a:pt x="289" y="67"/>
                  <a:pt x="284" y="65"/>
                  <a:pt x="280" y="63"/>
                </a:cubicBezTo>
                <a:cubicBezTo>
                  <a:pt x="280" y="63"/>
                  <a:pt x="280" y="63"/>
                  <a:pt x="280" y="63"/>
                </a:cubicBezTo>
                <a:cubicBezTo>
                  <a:pt x="236" y="98"/>
                  <a:pt x="236" y="98"/>
                  <a:pt x="236" y="98"/>
                </a:cubicBezTo>
                <a:cubicBezTo>
                  <a:pt x="271" y="197"/>
                  <a:pt x="271" y="197"/>
                  <a:pt x="271" y="197"/>
                </a:cubicBezTo>
                <a:cubicBezTo>
                  <a:pt x="271" y="199"/>
                  <a:pt x="271" y="202"/>
                  <a:pt x="269" y="203"/>
                </a:cubicBezTo>
                <a:cubicBezTo>
                  <a:pt x="266" y="205"/>
                  <a:pt x="264" y="205"/>
                  <a:pt x="262" y="204"/>
                </a:cubicBezTo>
                <a:close/>
                <a:moveTo>
                  <a:pt x="28" y="182"/>
                </a:moveTo>
                <a:cubicBezTo>
                  <a:pt x="33" y="182"/>
                  <a:pt x="39" y="182"/>
                  <a:pt x="44" y="183"/>
                </a:cubicBezTo>
                <a:cubicBezTo>
                  <a:pt x="45" y="183"/>
                  <a:pt x="46" y="183"/>
                  <a:pt x="48" y="183"/>
                </a:cubicBezTo>
                <a:cubicBezTo>
                  <a:pt x="54" y="183"/>
                  <a:pt x="59" y="184"/>
                  <a:pt x="65" y="184"/>
                </a:cubicBezTo>
                <a:cubicBezTo>
                  <a:pt x="66" y="184"/>
                  <a:pt x="66" y="184"/>
                  <a:pt x="67" y="184"/>
                </a:cubicBezTo>
                <a:cubicBezTo>
                  <a:pt x="73" y="185"/>
                  <a:pt x="80" y="185"/>
                  <a:pt x="86" y="186"/>
                </a:cubicBezTo>
                <a:cubicBezTo>
                  <a:pt x="86" y="186"/>
                  <a:pt x="86" y="186"/>
                  <a:pt x="86" y="186"/>
                </a:cubicBezTo>
                <a:cubicBezTo>
                  <a:pt x="110" y="104"/>
                  <a:pt x="110" y="104"/>
                  <a:pt x="110" y="104"/>
                </a:cubicBezTo>
                <a:cubicBezTo>
                  <a:pt x="24" y="46"/>
                  <a:pt x="24" y="46"/>
                  <a:pt x="24" y="46"/>
                </a:cubicBezTo>
                <a:cubicBezTo>
                  <a:pt x="22" y="45"/>
                  <a:pt x="21" y="42"/>
                  <a:pt x="22" y="40"/>
                </a:cubicBezTo>
                <a:cubicBezTo>
                  <a:pt x="22" y="37"/>
                  <a:pt x="25" y="35"/>
                  <a:pt x="27" y="35"/>
                </a:cubicBezTo>
                <a:cubicBezTo>
                  <a:pt x="130" y="31"/>
                  <a:pt x="130" y="31"/>
                  <a:pt x="130" y="31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24" y="15"/>
                  <a:pt x="114" y="14"/>
                  <a:pt x="104" y="12"/>
                </a:cubicBezTo>
                <a:cubicBezTo>
                  <a:pt x="103" y="12"/>
                  <a:pt x="103" y="12"/>
                  <a:pt x="102" y="11"/>
                </a:cubicBezTo>
                <a:cubicBezTo>
                  <a:pt x="97" y="11"/>
                  <a:pt x="93" y="10"/>
                  <a:pt x="89" y="9"/>
                </a:cubicBezTo>
                <a:cubicBezTo>
                  <a:pt x="87" y="9"/>
                  <a:pt x="84" y="8"/>
                  <a:pt x="81" y="8"/>
                </a:cubicBezTo>
                <a:cubicBezTo>
                  <a:pt x="78" y="8"/>
                  <a:pt x="74" y="7"/>
                  <a:pt x="71" y="6"/>
                </a:cubicBezTo>
                <a:cubicBezTo>
                  <a:pt x="65" y="6"/>
                  <a:pt x="59" y="5"/>
                  <a:pt x="53" y="4"/>
                </a:cubicBezTo>
                <a:cubicBezTo>
                  <a:pt x="50" y="4"/>
                  <a:pt x="48" y="4"/>
                  <a:pt x="45" y="3"/>
                </a:cubicBezTo>
                <a:cubicBezTo>
                  <a:pt x="41" y="3"/>
                  <a:pt x="36" y="2"/>
                  <a:pt x="31" y="2"/>
                </a:cubicBezTo>
                <a:cubicBezTo>
                  <a:pt x="28" y="2"/>
                  <a:pt x="26" y="2"/>
                  <a:pt x="24" y="1"/>
                </a:cubicBezTo>
                <a:cubicBezTo>
                  <a:pt x="17" y="1"/>
                  <a:pt x="10" y="0"/>
                  <a:pt x="3" y="0"/>
                </a:cubicBezTo>
                <a:cubicBezTo>
                  <a:pt x="3" y="90"/>
                  <a:pt x="3" y="182"/>
                  <a:pt x="3" y="182"/>
                </a:cubicBezTo>
                <a:cubicBezTo>
                  <a:pt x="10" y="182"/>
                  <a:pt x="17" y="182"/>
                  <a:pt x="23" y="182"/>
                </a:cubicBezTo>
                <a:cubicBezTo>
                  <a:pt x="25" y="182"/>
                  <a:pt x="26" y="182"/>
                  <a:pt x="28" y="182"/>
                </a:cubicBezTo>
                <a:close/>
                <a:moveTo>
                  <a:pt x="472" y="175"/>
                </a:moveTo>
                <a:cubicBezTo>
                  <a:pt x="471" y="174"/>
                  <a:pt x="471" y="174"/>
                  <a:pt x="470" y="173"/>
                </a:cubicBezTo>
                <a:cubicBezTo>
                  <a:pt x="462" y="167"/>
                  <a:pt x="455" y="162"/>
                  <a:pt x="446" y="156"/>
                </a:cubicBezTo>
                <a:cubicBezTo>
                  <a:pt x="454" y="175"/>
                  <a:pt x="454" y="175"/>
                  <a:pt x="454" y="175"/>
                </a:cubicBezTo>
                <a:lnTo>
                  <a:pt x="472" y="175"/>
                </a:lnTo>
                <a:close/>
                <a:moveTo>
                  <a:pt x="652" y="358"/>
                </a:moveTo>
                <a:cubicBezTo>
                  <a:pt x="652" y="358"/>
                  <a:pt x="652" y="358"/>
                  <a:pt x="652" y="358"/>
                </a:cubicBezTo>
                <a:cubicBezTo>
                  <a:pt x="649" y="355"/>
                  <a:pt x="647" y="351"/>
                  <a:pt x="644" y="348"/>
                </a:cubicBezTo>
                <a:cubicBezTo>
                  <a:pt x="644" y="348"/>
                  <a:pt x="644" y="348"/>
                  <a:pt x="644" y="348"/>
                </a:cubicBezTo>
                <a:cubicBezTo>
                  <a:pt x="642" y="344"/>
                  <a:pt x="639" y="341"/>
                  <a:pt x="636" y="338"/>
                </a:cubicBezTo>
                <a:cubicBezTo>
                  <a:pt x="636" y="337"/>
                  <a:pt x="636" y="337"/>
                  <a:pt x="636" y="337"/>
                </a:cubicBezTo>
                <a:cubicBezTo>
                  <a:pt x="633" y="334"/>
                  <a:pt x="631" y="330"/>
                  <a:pt x="628" y="327"/>
                </a:cubicBezTo>
                <a:cubicBezTo>
                  <a:pt x="628" y="327"/>
                  <a:pt x="628" y="327"/>
                  <a:pt x="627" y="327"/>
                </a:cubicBezTo>
                <a:cubicBezTo>
                  <a:pt x="625" y="323"/>
                  <a:pt x="622" y="319"/>
                  <a:pt x="619" y="316"/>
                </a:cubicBezTo>
                <a:cubicBezTo>
                  <a:pt x="619" y="316"/>
                  <a:pt x="619" y="316"/>
                  <a:pt x="619" y="316"/>
                </a:cubicBezTo>
                <a:cubicBezTo>
                  <a:pt x="636" y="359"/>
                  <a:pt x="636" y="359"/>
                  <a:pt x="636" y="359"/>
                </a:cubicBezTo>
                <a:lnTo>
                  <a:pt x="652" y="358"/>
                </a:lnTo>
                <a:close/>
                <a:moveTo>
                  <a:pt x="727" y="477"/>
                </a:moveTo>
                <a:cubicBezTo>
                  <a:pt x="727" y="477"/>
                  <a:pt x="727" y="477"/>
                  <a:pt x="726" y="477"/>
                </a:cubicBezTo>
                <a:cubicBezTo>
                  <a:pt x="726" y="477"/>
                  <a:pt x="726" y="476"/>
                  <a:pt x="726" y="476"/>
                </a:cubicBezTo>
                <a:cubicBezTo>
                  <a:pt x="726" y="476"/>
                  <a:pt x="726" y="476"/>
                  <a:pt x="726" y="476"/>
                </a:cubicBezTo>
                <a:cubicBezTo>
                  <a:pt x="726" y="475"/>
                  <a:pt x="726" y="475"/>
                  <a:pt x="726" y="475"/>
                </a:cubicBezTo>
                <a:cubicBezTo>
                  <a:pt x="725" y="474"/>
                  <a:pt x="725" y="474"/>
                  <a:pt x="725" y="473"/>
                </a:cubicBezTo>
                <a:cubicBezTo>
                  <a:pt x="725" y="473"/>
                  <a:pt x="725" y="473"/>
                  <a:pt x="725" y="473"/>
                </a:cubicBezTo>
                <a:cubicBezTo>
                  <a:pt x="719" y="462"/>
                  <a:pt x="704" y="434"/>
                  <a:pt x="678" y="395"/>
                </a:cubicBezTo>
                <a:cubicBezTo>
                  <a:pt x="678" y="395"/>
                  <a:pt x="678" y="395"/>
                  <a:pt x="678" y="395"/>
                </a:cubicBezTo>
                <a:cubicBezTo>
                  <a:pt x="675" y="390"/>
                  <a:pt x="671" y="385"/>
                  <a:pt x="667" y="379"/>
                </a:cubicBezTo>
                <a:cubicBezTo>
                  <a:pt x="667" y="379"/>
                  <a:pt x="667" y="379"/>
                  <a:pt x="667" y="379"/>
                </a:cubicBezTo>
                <a:cubicBezTo>
                  <a:pt x="649" y="394"/>
                  <a:pt x="649" y="394"/>
                  <a:pt x="649" y="394"/>
                </a:cubicBezTo>
                <a:cubicBezTo>
                  <a:pt x="665" y="440"/>
                  <a:pt x="665" y="440"/>
                  <a:pt x="665" y="440"/>
                </a:cubicBezTo>
                <a:cubicBezTo>
                  <a:pt x="666" y="442"/>
                  <a:pt x="665" y="443"/>
                  <a:pt x="664" y="444"/>
                </a:cubicBezTo>
                <a:cubicBezTo>
                  <a:pt x="663" y="446"/>
                  <a:pt x="661" y="446"/>
                  <a:pt x="659" y="445"/>
                </a:cubicBezTo>
                <a:cubicBezTo>
                  <a:pt x="619" y="418"/>
                  <a:pt x="619" y="418"/>
                  <a:pt x="619" y="418"/>
                </a:cubicBezTo>
                <a:cubicBezTo>
                  <a:pt x="595" y="435"/>
                  <a:pt x="595" y="435"/>
                  <a:pt x="595" y="435"/>
                </a:cubicBezTo>
                <a:cubicBezTo>
                  <a:pt x="597" y="437"/>
                  <a:pt x="599" y="438"/>
                  <a:pt x="600" y="440"/>
                </a:cubicBezTo>
                <a:cubicBezTo>
                  <a:pt x="600" y="440"/>
                  <a:pt x="600" y="440"/>
                  <a:pt x="600" y="440"/>
                </a:cubicBezTo>
                <a:cubicBezTo>
                  <a:pt x="601" y="441"/>
                  <a:pt x="603" y="443"/>
                  <a:pt x="604" y="444"/>
                </a:cubicBezTo>
                <a:cubicBezTo>
                  <a:pt x="604" y="444"/>
                  <a:pt x="604" y="444"/>
                  <a:pt x="604" y="444"/>
                </a:cubicBezTo>
                <a:cubicBezTo>
                  <a:pt x="606" y="446"/>
                  <a:pt x="607" y="447"/>
                  <a:pt x="608" y="448"/>
                </a:cubicBezTo>
                <a:cubicBezTo>
                  <a:pt x="608" y="448"/>
                  <a:pt x="608" y="448"/>
                  <a:pt x="608" y="448"/>
                </a:cubicBezTo>
                <a:cubicBezTo>
                  <a:pt x="625" y="466"/>
                  <a:pt x="633" y="477"/>
                  <a:pt x="633" y="477"/>
                </a:cubicBezTo>
                <a:cubicBezTo>
                  <a:pt x="727" y="477"/>
                  <a:pt x="727" y="477"/>
                  <a:pt x="727" y="477"/>
                </a:cubicBezTo>
                <a:cubicBezTo>
                  <a:pt x="727" y="477"/>
                  <a:pt x="727" y="477"/>
                  <a:pt x="727" y="477"/>
                </a:cubicBezTo>
                <a:close/>
                <a:moveTo>
                  <a:pt x="544" y="365"/>
                </a:moveTo>
                <a:cubicBezTo>
                  <a:pt x="545" y="364"/>
                  <a:pt x="546" y="362"/>
                  <a:pt x="548" y="362"/>
                </a:cubicBezTo>
                <a:cubicBezTo>
                  <a:pt x="596" y="360"/>
                  <a:pt x="596" y="360"/>
                  <a:pt x="596" y="360"/>
                </a:cubicBezTo>
                <a:cubicBezTo>
                  <a:pt x="610" y="313"/>
                  <a:pt x="610" y="313"/>
                  <a:pt x="610" y="313"/>
                </a:cubicBezTo>
                <a:cubicBezTo>
                  <a:pt x="610" y="312"/>
                  <a:pt x="612" y="310"/>
                  <a:pt x="613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0" y="306"/>
                  <a:pt x="606" y="302"/>
                  <a:pt x="602" y="297"/>
                </a:cubicBezTo>
                <a:cubicBezTo>
                  <a:pt x="602" y="297"/>
                  <a:pt x="602" y="297"/>
                  <a:pt x="602" y="297"/>
                </a:cubicBezTo>
                <a:cubicBezTo>
                  <a:pt x="590" y="283"/>
                  <a:pt x="577" y="269"/>
                  <a:pt x="564" y="256"/>
                </a:cubicBezTo>
                <a:cubicBezTo>
                  <a:pt x="563" y="255"/>
                  <a:pt x="563" y="255"/>
                  <a:pt x="563" y="255"/>
                </a:cubicBezTo>
                <a:cubicBezTo>
                  <a:pt x="549" y="241"/>
                  <a:pt x="535" y="227"/>
                  <a:pt x="519" y="213"/>
                </a:cubicBezTo>
                <a:cubicBezTo>
                  <a:pt x="519" y="213"/>
                  <a:pt x="518" y="213"/>
                  <a:pt x="518" y="213"/>
                </a:cubicBezTo>
                <a:cubicBezTo>
                  <a:pt x="513" y="208"/>
                  <a:pt x="508" y="204"/>
                  <a:pt x="502" y="199"/>
                </a:cubicBezTo>
                <a:cubicBezTo>
                  <a:pt x="472" y="223"/>
                  <a:pt x="472" y="223"/>
                  <a:pt x="472" y="223"/>
                </a:cubicBezTo>
                <a:cubicBezTo>
                  <a:pt x="495" y="288"/>
                  <a:pt x="495" y="288"/>
                  <a:pt x="495" y="288"/>
                </a:cubicBezTo>
                <a:cubicBezTo>
                  <a:pt x="495" y="290"/>
                  <a:pt x="495" y="292"/>
                  <a:pt x="493" y="293"/>
                </a:cubicBezTo>
                <a:cubicBezTo>
                  <a:pt x="491" y="295"/>
                  <a:pt x="489" y="295"/>
                  <a:pt x="487" y="294"/>
                </a:cubicBezTo>
                <a:cubicBezTo>
                  <a:pt x="431" y="256"/>
                  <a:pt x="431" y="256"/>
                  <a:pt x="431" y="256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9" y="286"/>
                  <a:pt x="404" y="289"/>
                  <a:pt x="409" y="291"/>
                </a:cubicBezTo>
                <a:cubicBezTo>
                  <a:pt x="409" y="292"/>
                  <a:pt x="410" y="292"/>
                  <a:pt x="410" y="292"/>
                </a:cubicBezTo>
                <a:cubicBezTo>
                  <a:pt x="425" y="301"/>
                  <a:pt x="439" y="309"/>
                  <a:pt x="452" y="318"/>
                </a:cubicBezTo>
                <a:cubicBezTo>
                  <a:pt x="452" y="318"/>
                  <a:pt x="453" y="318"/>
                  <a:pt x="453" y="319"/>
                </a:cubicBezTo>
                <a:cubicBezTo>
                  <a:pt x="457" y="321"/>
                  <a:pt x="461" y="324"/>
                  <a:pt x="466" y="327"/>
                </a:cubicBezTo>
                <a:cubicBezTo>
                  <a:pt x="466" y="327"/>
                  <a:pt x="466" y="327"/>
                  <a:pt x="466" y="327"/>
                </a:cubicBezTo>
                <a:cubicBezTo>
                  <a:pt x="475" y="333"/>
                  <a:pt x="483" y="339"/>
                  <a:pt x="491" y="345"/>
                </a:cubicBezTo>
                <a:cubicBezTo>
                  <a:pt x="491" y="345"/>
                  <a:pt x="491" y="345"/>
                  <a:pt x="491" y="345"/>
                </a:cubicBezTo>
                <a:cubicBezTo>
                  <a:pt x="495" y="348"/>
                  <a:pt x="499" y="351"/>
                  <a:pt x="502" y="353"/>
                </a:cubicBezTo>
                <a:cubicBezTo>
                  <a:pt x="503" y="354"/>
                  <a:pt x="503" y="354"/>
                  <a:pt x="504" y="354"/>
                </a:cubicBezTo>
                <a:cubicBezTo>
                  <a:pt x="515" y="363"/>
                  <a:pt x="525" y="371"/>
                  <a:pt x="535" y="379"/>
                </a:cubicBezTo>
                <a:cubicBezTo>
                  <a:pt x="536" y="380"/>
                  <a:pt x="536" y="380"/>
                  <a:pt x="537" y="381"/>
                </a:cubicBezTo>
                <a:cubicBezTo>
                  <a:pt x="539" y="383"/>
                  <a:pt x="542" y="385"/>
                  <a:pt x="545" y="388"/>
                </a:cubicBezTo>
                <a:cubicBezTo>
                  <a:pt x="545" y="388"/>
                  <a:pt x="546" y="388"/>
                  <a:pt x="546" y="389"/>
                </a:cubicBezTo>
                <a:cubicBezTo>
                  <a:pt x="552" y="394"/>
                  <a:pt x="558" y="399"/>
                  <a:pt x="563" y="404"/>
                </a:cubicBezTo>
                <a:cubicBezTo>
                  <a:pt x="564" y="404"/>
                  <a:pt x="564" y="405"/>
                  <a:pt x="565" y="405"/>
                </a:cubicBezTo>
                <a:cubicBezTo>
                  <a:pt x="567" y="407"/>
                  <a:pt x="569" y="409"/>
                  <a:pt x="571" y="411"/>
                </a:cubicBezTo>
                <a:cubicBezTo>
                  <a:pt x="572" y="412"/>
                  <a:pt x="572" y="412"/>
                  <a:pt x="573" y="413"/>
                </a:cubicBezTo>
                <a:cubicBezTo>
                  <a:pt x="575" y="415"/>
                  <a:pt x="577" y="417"/>
                  <a:pt x="580" y="419"/>
                </a:cubicBezTo>
                <a:cubicBezTo>
                  <a:pt x="580" y="419"/>
                  <a:pt x="580" y="419"/>
                  <a:pt x="580" y="420"/>
                </a:cubicBezTo>
                <a:cubicBezTo>
                  <a:pt x="586" y="397"/>
                  <a:pt x="586" y="397"/>
                  <a:pt x="586" y="397"/>
                </a:cubicBezTo>
                <a:cubicBezTo>
                  <a:pt x="546" y="370"/>
                  <a:pt x="546" y="370"/>
                  <a:pt x="546" y="370"/>
                </a:cubicBezTo>
                <a:cubicBezTo>
                  <a:pt x="545" y="369"/>
                  <a:pt x="544" y="367"/>
                  <a:pt x="544" y="365"/>
                </a:cubicBezTo>
                <a:close/>
                <a:moveTo>
                  <a:pt x="0" y="221"/>
                </a:moveTo>
                <a:cubicBezTo>
                  <a:pt x="0" y="274"/>
                  <a:pt x="0" y="328"/>
                  <a:pt x="0" y="328"/>
                </a:cubicBezTo>
                <a:cubicBezTo>
                  <a:pt x="259" y="328"/>
                  <a:pt x="429" y="435"/>
                  <a:pt x="490" y="481"/>
                </a:cubicBezTo>
                <a:cubicBezTo>
                  <a:pt x="575" y="481"/>
                  <a:pt x="575" y="481"/>
                  <a:pt x="575" y="481"/>
                </a:cubicBezTo>
                <a:cubicBezTo>
                  <a:pt x="526" y="419"/>
                  <a:pt x="350" y="237"/>
                  <a:pt x="0" y="221"/>
                </a:cubicBezTo>
                <a:close/>
              </a:path>
            </a:pathLst>
          </a:custGeom>
          <a:solidFill>
            <a:srgbClr val="96969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564240" y="-7920"/>
            <a:ext cx="2598840" cy="6875280"/>
          </a:xfrm>
          <a:prstGeom prst="rect">
            <a:avLst/>
          </a:prstGeom>
          <a:ln w="0">
            <a:noFill/>
          </a:ln>
        </p:spPr>
      </p:pic>
      <p:pic>
        <p:nvPicPr>
          <p:cNvPr id="22" name="" descr=""/>
          <p:cNvPicPr/>
          <p:nvPr/>
        </p:nvPicPr>
        <p:blipFill>
          <a:blip r:embed="rId4">
            <a:lum bright="24000"/>
          </a:blip>
          <a:stretch/>
        </p:blipFill>
        <p:spPr>
          <a:xfrm>
            <a:off x="5857920" y="-19080"/>
            <a:ext cx="2895480" cy="6886440"/>
          </a:xfrm>
          <a:prstGeom prst="rect">
            <a:avLst/>
          </a:prstGeom>
          <a:ln w="0">
            <a:noFill/>
          </a:ln>
        </p:spPr>
      </p:pic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82440" y="188640"/>
            <a:ext cx="70722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ftr" idx="1"/>
          </p:nvPr>
        </p:nvSpPr>
        <p:spPr>
          <a:xfrm>
            <a:off x="2484000" y="6472080"/>
            <a:ext cx="352764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 rot="5400000">
            <a:off x="7223760" y="63223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171" y="22"/>
                </a:moveTo>
                <a:lnTo>
                  <a:pt x="107" y="52"/>
                </a:lnTo>
                <a:lnTo>
                  <a:pt x="56" y="0"/>
                </a:lnTo>
                <a:lnTo>
                  <a:pt x="64" y="72"/>
                </a:lnTo>
                <a:lnTo>
                  <a:pt x="0" y="102"/>
                </a:lnTo>
                <a:lnTo>
                  <a:pt x="70" y="116"/>
                </a:lnTo>
                <a:lnTo>
                  <a:pt x="78" y="186"/>
                </a:lnTo>
                <a:lnTo>
                  <a:pt x="115" y="124"/>
                </a:lnTo>
                <a:lnTo>
                  <a:pt x="185" y="138"/>
                </a:lnTo>
                <a:lnTo>
                  <a:pt x="137" y="84"/>
                </a:lnTo>
                <a:lnTo>
                  <a:pt x="171" y="2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 rot="5400000">
            <a:off x="7571520" y="5944320"/>
            <a:ext cx="298440" cy="293760"/>
          </a:xfrm>
          <a:custGeom>
            <a:avLst/>
            <a:gdLst/>
            <a:ahLst/>
            <a:rect l="l" t="t" r="r" b="b"/>
            <a:pathLst>
              <a:path w="188" h="185">
                <a:moveTo>
                  <a:pt x="164" y="12"/>
                </a:moveTo>
                <a:lnTo>
                  <a:pt x="102" y="48"/>
                </a:lnTo>
                <a:lnTo>
                  <a:pt x="48" y="0"/>
                </a:lnTo>
                <a:lnTo>
                  <a:pt x="62" y="70"/>
                </a:lnTo>
                <a:lnTo>
                  <a:pt x="0" y="106"/>
                </a:lnTo>
                <a:lnTo>
                  <a:pt x="70" y="114"/>
                </a:lnTo>
                <a:lnTo>
                  <a:pt x="86" y="185"/>
                </a:lnTo>
                <a:lnTo>
                  <a:pt x="114" y="118"/>
                </a:lnTo>
                <a:lnTo>
                  <a:pt x="188" y="126"/>
                </a:lnTo>
                <a:lnTo>
                  <a:pt x="134" y="78"/>
                </a:lnTo>
                <a:lnTo>
                  <a:pt x="164" y="1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781280" y="6391440"/>
            <a:ext cx="357120" cy="339480"/>
          </a:xfrm>
          <a:custGeom>
            <a:avLst/>
            <a:gdLst/>
            <a:ahLst/>
            <a:rect l="l" t="t" r="r" b="b"/>
            <a:pathLst>
              <a:path w="111" h="106">
                <a:moveTo>
                  <a:pt x="81" y="62"/>
                </a:moveTo>
                <a:cubicBezTo>
                  <a:pt x="111" y="38"/>
                  <a:pt x="111" y="38"/>
                  <a:pt x="111" y="38"/>
                </a:cubicBezTo>
                <a:cubicBezTo>
                  <a:pt x="73" y="40"/>
                  <a:pt x="73" y="40"/>
                  <a:pt x="73" y="40"/>
                </a:cubicBezTo>
                <a:cubicBezTo>
                  <a:pt x="71" y="40"/>
                  <a:pt x="69" y="39"/>
                  <a:pt x="69" y="37"/>
                </a:cubicBezTo>
                <a:cubicBezTo>
                  <a:pt x="53" y="0"/>
                  <a:pt x="53" y="0"/>
                  <a:pt x="53" y="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40"/>
                  <a:pt x="40" y="41"/>
                  <a:pt x="38" y="41"/>
                </a:cubicBezTo>
                <a:cubicBezTo>
                  <a:pt x="0" y="43"/>
                  <a:pt x="0" y="43"/>
                  <a:pt x="0" y="43"/>
                </a:cubicBezTo>
                <a:cubicBezTo>
                  <a:pt x="32" y="65"/>
                  <a:pt x="32" y="65"/>
                  <a:pt x="32" y="65"/>
                </a:cubicBezTo>
                <a:cubicBezTo>
                  <a:pt x="34" y="66"/>
                  <a:pt x="34" y="67"/>
                  <a:pt x="34" y="69"/>
                </a:cubicBezTo>
                <a:cubicBezTo>
                  <a:pt x="23" y="106"/>
                  <a:pt x="23" y="106"/>
                  <a:pt x="23" y="106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55" y="82"/>
                  <a:pt x="55" y="82"/>
                  <a:pt x="55" y="82"/>
                </a:cubicBezTo>
                <a:cubicBezTo>
                  <a:pt x="57" y="81"/>
                  <a:pt x="59" y="81"/>
                  <a:pt x="60" y="82"/>
                </a:cubicBezTo>
                <a:cubicBezTo>
                  <a:pt x="93" y="104"/>
                  <a:pt x="93" y="104"/>
                  <a:pt x="93" y="104"/>
                </a:cubicBezTo>
                <a:cubicBezTo>
                  <a:pt x="80" y="67"/>
                  <a:pt x="80" y="67"/>
                  <a:pt x="80" y="67"/>
                </a:cubicBezTo>
                <a:cubicBezTo>
                  <a:pt x="79" y="65"/>
                  <a:pt x="80" y="63"/>
                  <a:pt x="81" y="62"/>
                </a:cubicBezTo>
                <a:close/>
              </a:path>
            </a:pathLst>
          </a:custGeom>
          <a:solidFill>
            <a:srgbClr val="a7a7a7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5861160" y="-7920"/>
            <a:ext cx="3044880" cy="6870600"/>
          </a:xfrm>
          <a:custGeom>
            <a:avLst/>
            <a:gdLst/>
            <a:ahLst/>
            <a:rect l="l" t="t" r="r" b="b"/>
            <a:pathLst>
              <a:path w="957" h="2164">
                <a:moveTo>
                  <a:pt x="823" y="1253"/>
                </a:moveTo>
                <a:cubicBezTo>
                  <a:pt x="957" y="774"/>
                  <a:pt x="863" y="307"/>
                  <a:pt x="614" y="46"/>
                </a:cubicBezTo>
                <a:cubicBezTo>
                  <a:pt x="599" y="30"/>
                  <a:pt x="583" y="15"/>
                  <a:pt x="566" y="0"/>
                </a:cubicBezTo>
                <a:cubicBezTo>
                  <a:pt x="507" y="0"/>
                  <a:pt x="507" y="0"/>
                  <a:pt x="507" y="0"/>
                </a:cubicBezTo>
                <a:cubicBezTo>
                  <a:pt x="530" y="17"/>
                  <a:pt x="553" y="36"/>
                  <a:pt x="575" y="56"/>
                </a:cubicBezTo>
                <a:cubicBezTo>
                  <a:pt x="581" y="63"/>
                  <a:pt x="588" y="69"/>
                  <a:pt x="594" y="76"/>
                </a:cubicBezTo>
                <a:cubicBezTo>
                  <a:pt x="643" y="125"/>
                  <a:pt x="686" y="183"/>
                  <a:pt x="722" y="246"/>
                </a:cubicBezTo>
                <a:cubicBezTo>
                  <a:pt x="871" y="507"/>
                  <a:pt x="911" y="873"/>
                  <a:pt x="803" y="1247"/>
                </a:cubicBezTo>
                <a:cubicBezTo>
                  <a:pt x="695" y="1624"/>
                  <a:pt x="461" y="1925"/>
                  <a:pt x="189" y="2081"/>
                </a:cubicBezTo>
                <a:cubicBezTo>
                  <a:pt x="127" y="2116"/>
                  <a:pt x="64" y="2144"/>
                  <a:pt x="0" y="2164"/>
                </a:cubicBezTo>
                <a:cubicBezTo>
                  <a:pt x="111" y="2164"/>
                  <a:pt x="111" y="2164"/>
                  <a:pt x="111" y="2164"/>
                </a:cubicBezTo>
                <a:cubicBezTo>
                  <a:pt x="144" y="2149"/>
                  <a:pt x="177" y="2132"/>
                  <a:pt x="209" y="2113"/>
                </a:cubicBezTo>
                <a:cubicBezTo>
                  <a:pt x="481" y="1952"/>
                  <a:pt x="715" y="1642"/>
                  <a:pt x="823" y="1253"/>
                </a:cubicBezTo>
                <a:close/>
              </a:path>
            </a:pathLst>
          </a:cu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body"/>
          </p:nvPr>
        </p:nvSpPr>
        <p:spPr>
          <a:xfrm>
            <a:off x="187200" y="1006200"/>
            <a:ext cx="8337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dt" idx="2"/>
          </p:nvPr>
        </p:nvSpPr>
        <p:spPr>
          <a:xfrm>
            <a:off x="7913520" y="611172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7913520" y="647208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01c1e"/>
              </a:gs>
              <a:gs pos="100000">
                <a:srgbClr val="7d0f1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100000">
                <a:srgbClr val="ffffff">
                  <a:alpha val="13333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>
            <a:lum bright="-42000"/>
          </a:blip>
          <a:srcRect l="28292" t="0" r="30589" b="0"/>
          <a:stretch/>
        </p:blipFill>
        <p:spPr>
          <a:xfrm>
            <a:off x="5376960" y="-19080"/>
            <a:ext cx="3779640" cy="6896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4937040"/>
            <a:ext cx="9144000" cy="192744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63080" y="-7920"/>
            <a:ext cx="1440" cy="6870600"/>
          </a:xfrm>
          <a:prstGeom prst="rect">
            <a:avLst/>
          </a:prstGeom>
          <a:solidFill>
            <a:srgbClr val="00bf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13600" y="-7920"/>
            <a:ext cx="2730240" cy="6870600"/>
          </a:xfrm>
          <a:custGeom>
            <a:avLst/>
            <a:gdLst/>
            <a:ahLst/>
            <a:rect l="l" t="t" r="r" b="b"/>
            <a:pathLst>
              <a:path w="858" h="2164">
                <a:moveTo>
                  <a:pt x="724" y="1264"/>
                </a:moveTo>
                <a:cubicBezTo>
                  <a:pt x="858" y="761"/>
                  <a:pt x="764" y="273"/>
                  <a:pt x="515" y="0"/>
                </a:cubicBezTo>
                <a:cubicBezTo>
                  <a:pt x="455" y="0"/>
                  <a:pt x="455" y="0"/>
                  <a:pt x="455" y="0"/>
                </a:cubicBezTo>
                <a:cubicBezTo>
                  <a:pt x="472" y="15"/>
                  <a:pt x="488" y="30"/>
                  <a:pt x="503" y="46"/>
                </a:cubicBezTo>
                <a:cubicBezTo>
                  <a:pt x="752" y="307"/>
                  <a:pt x="846" y="774"/>
                  <a:pt x="712" y="1253"/>
                </a:cubicBezTo>
                <a:cubicBezTo>
                  <a:pt x="604" y="1642"/>
                  <a:pt x="370" y="1952"/>
                  <a:pt x="98" y="2113"/>
                </a:cubicBezTo>
                <a:cubicBezTo>
                  <a:pt x="66" y="2132"/>
                  <a:pt x="33" y="2149"/>
                  <a:pt x="0" y="2164"/>
                </a:cubicBezTo>
                <a:cubicBezTo>
                  <a:pt x="110" y="2164"/>
                  <a:pt x="110" y="2164"/>
                  <a:pt x="110" y="2164"/>
                </a:cubicBezTo>
                <a:cubicBezTo>
                  <a:pt x="382" y="1995"/>
                  <a:pt x="616" y="1671"/>
                  <a:pt x="724" y="1264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dede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64240" y="-7920"/>
            <a:ext cx="2598840" cy="6870600"/>
          </a:xfrm>
          <a:custGeom>
            <a:avLst/>
            <a:gdLst/>
            <a:ahLst/>
            <a:rect l="l" t="t" r="r" b="b"/>
            <a:pathLst>
              <a:path w="817" h="2164">
                <a:moveTo>
                  <a:pt x="405" y="0"/>
                </a:moveTo>
                <a:cubicBezTo>
                  <a:pt x="654" y="273"/>
                  <a:pt x="748" y="761"/>
                  <a:pt x="614" y="1264"/>
                </a:cubicBezTo>
                <a:cubicBezTo>
                  <a:pt x="506" y="1671"/>
                  <a:pt x="272" y="1995"/>
                  <a:pt x="0" y="2164"/>
                </a:cubicBezTo>
                <a:cubicBezTo>
                  <a:pt x="817" y="2164"/>
                  <a:pt x="817" y="2164"/>
                  <a:pt x="817" y="2164"/>
                </a:cubicBezTo>
                <a:cubicBezTo>
                  <a:pt x="817" y="0"/>
                  <a:pt x="817" y="0"/>
                  <a:pt x="817" y="0"/>
                </a:cubicBezTo>
                <a:lnTo>
                  <a:pt x="405" y="0"/>
                </a:lnTo>
                <a:close/>
              </a:path>
            </a:pathLst>
          </a:custGeom>
          <a:gradFill rotWithShape="0">
            <a:gsLst>
              <a:gs pos="0">
                <a:srgbClr val="001d70"/>
              </a:gs>
              <a:gs pos="100000">
                <a:srgbClr val="0013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6850440" y="6633360"/>
            <a:ext cx="289080" cy="29988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178" y="32"/>
                </a:moveTo>
                <a:lnTo>
                  <a:pt x="110" y="59"/>
                </a:lnTo>
                <a:lnTo>
                  <a:pt x="66" y="0"/>
                </a:lnTo>
                <a:lnTo>
                  <a:pt x="68" y="75"/>
                </a:lnTo>
                <a:lnTo>
                  <a:pt x="0" y="99"/>
                </a:lnTo>
                <a:lnTo>
                  <a:pt x="70" y="119"/>
                </a:lnTo>
                <a:lnTo>
                  <a:pt x="72" y="189"/>
                </a:lnTo>
                <a:lnTo>
                  <a:pt x="112" y="131"/>
                </a:lnTo>
                <a:lnTo>
                  <a:pt x="182" y="151"/>
                </a:lnTo>
                <a:lnTo>
                  <a:pt x="138" y="93"/>
                </a:lnTo>
                <a:lnTo>
                  <a:pt x="178" y="3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7864200" y="5533920"/>
            <a:ext cx="298440" cy="289080"/>
          </a:xfrm>
          <a:custGeom>
            <a:avLst/>
            <a:gdLst/>
            <a:ahLst/>
            <a:rect l="l" t="t" r="r" b="b"/>
            <a:pathLst>
              <a:path w="188" h="182">
                <a:moveTo>
                  <a:pt x="148" y="0"/>
                </a:moveTo>
                <a:lnTo>
                  <a:pt x="92" y="46"/>
                </a:lnTo>
                <a:lnTo>
                  <a:pt x="32" y="6"/>
                </a:lnTo>
                <a:lnTo>
                  <a:pt x="56" y="74"/>
                </a:lnTo>
                <a:lnTo>
                  <a:pt x="0" y="118"/>
                </a:lnTo>
                <a:lnTo>
                  <a:pt x="72" y="116"/>
                </a:lnTo>
                <a:lnTo>
                  <a:pt x="96" y="182"/>
                </a:lnTo>
                <a:lnTo>
                  <a:pt x="116" y="114"/>
                </a:lnTo>
                <a:lnTo>
                  <a:pt x="188" y="110"/>
                </a:lnTo>
                <a:lnTo>
                  <a:pt x="128" y="7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8142480" y="5088600"/>
            <a:ext cx="295200" cy="299880"/>
          </a:xfrm>
          <a:custGeom>
            <a:avLst/>
            <a:gdLst/>
            <a:ahLst/>
            <a:rect l="l" t="t" r="r" b="b"/>
            <a:pathLst>
              <a:path w="186" h="189">
                <a:moveTo>
                  <a:pt x="130" y="0"/>
                </a:moveTo>
                <a:lnTo>
                  <a:pt x="82" y="54"/>
                </a:lnTo>
                <a:lnTo>
                  <a:pt x="16" y="22"/>
                </a:lnTo>
                <a:lnTo>
                  <a:pt x="50" y="86"/>
                </a:lnTo>
                <a:lnTo>
                  <a:pt x="0" y="138"/>
                </a:lnTo>
                <a:lnTo>
                  <a:pt x="72" y="126"/>
                </a:lnTo>
                <a:lnTo>
                  <a:pt x="106" y="189"/>
                </a:lnTo>
                <a:lnTo>
                  <a:pt x="114" y="116"/>
                </a:lnTo>
                <a:lnTo>
                  <a:pt x="186" y="104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8362440" y="4619520"/>
            <a:ext cx="295560" cy="295560"/>
          </a:xfrm>
          <a:custGeom>
            <a:avLst/>
            <a:gdLst/>
            <a:ahLst/>
            <a:rect l="l" t="t" r="r" b="b"/>
            <a:pathLst>
              <a:path w="186" h="186">
                <a:moveTo>
                  <a:pt x="130" y="0"/>
                </a:moveTo>
                <a:lnTo>
                  <a:pt x="80" y="52"/>
                </a:lnTo>
                <a:lnTo>
                  <a:pt x="14" y="22"/>
                </a:lnTo>
                <a:lnTo>
                  <a:pt x="50" y="86"/>
                </a:lnTo>
                <a:lnTo>
                  <a:pt x="0" y="136"/>
                </a:lnTo>
                <a:lnTo>
                  <a:pt x="70" y="124"/>
                </a:lnTo>
                <a:lnTo>
                  <a:pt x="104" y="186"/>
                </a:lnTo>
                <a:lnTo>
                  <a:pt x="114" y="116"/>
                </a:lnTo>
                <a:lnTo>
                  <a:pt x="186" y="102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8543160" y="4126680"/>
            <a:ext cx="285840" cy="300240"/>
          </a:xfrm>
          <a:custGeom>
            <a:avLst/>
            <a:gdLst/>
            <a:ahLst/>
            <a:rect l="l" t="t" r="r" b="b"/>
            <a:pathLst>
              <a:path w="180" h="189">
                <a:moveTo>
                  <a:pt x="110" y="0"/>
                </a:moveTo>
                <a:lnTo>
                  <a:pt x="68" y="59"/>
                </a:lnTo>
                <a:lnTo>
                  <a:pt x="0" y="36"/>
                </a:lnTo>
                <a:lnTo>
                  <a:pt x="42" y="95"/>
                </a:lnTo>
                <a:lnTo>
                  <a:pt x="0" y="153"/>
                </a:lnTo>
                <a:lnTo>
                  <a:pt x="68" y="131"/>
                </a:lnTo>
                <a:lnTo>
                  <a:pt x="110" y="189"/>
                </a:lnTo>
                <a:lnTo>
                  <a:pt x="110" y="117"/>
                </a:lnTo>
                <a:lnTo>
                  <a:pt x="180" y="95"/>
                </a:lnTo>
                <a:lnTo>
                  <a:pt x="110" y="73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8677800" y="3612600"/>
            <a:ext cx="298440" cy="299880"/>
          </a:xfrm>
          <a:custGeom>
            <a:avLst/>
            <a:gdLst/>
            <a:ahLst/>
            <a:rect l="l" t="t" r="r" b="b"/>
            <a:pathLst>
              <a:path w="188" h="189">
                <a:moveTo>
                  <a:pt x="106" y="0"/>
                </a:moveTo>
                <a:lnTo>
                  <a:pt x="72" y="64"/>
                </a:lnTo>
                <a:lnTo>
                  <a:pt x="0" y="52"/>
                </a:lnTo>
                <a:lnTo>
                  <a:pt x="52" y="104"/>
                </a:lnTo>
                <a:lnTo>
                  <a:pt x="18" y="169"/>
                </a:lnTo>
                <a:lnTo>
                  <a:pt x="82" y="136"/>
                </a:lnTo>
                <a:lnTo>
                  <a:pt x="132" y="189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8769240" y="3095640"/>
            <a:ext cx="298440" cy="295200"/>
          </a:xfrm>
          <a:custGeom>
            <a:avLst/>
            <a:gdLst/>
            <a:ahLst/>
            <a:rect l="l" t="t" r="r" b="b"/>
            <a:pathLst>
              <a:path w="188" h="186">
                <a:moveTo>
                  <a:pt x="106" y="0"/>
                </a:moveTo>
                <a:lnTo>
                  <a:pt x="72" y="64"/>
                </a:lnTo>
                <a:lnTo>
                  <a:pt x="0" y="50"/>
                </a:lnTo>
                <a:lnTo>
                  <a:pt x="52" y="104"/>
                </a:lnTo>
                <a:lnTo>
                  <a:pt x="18" y="166"/>
                </a:lnTo>
                <a:lnTo>
                  <a:pt x="82" y="136"/>
                </a:lnTo>
                <a:lnTo>
                  <a:pt x="132" y="186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8815320" y="2568600"/>
            <a:ext cx="301680" cy="285840"/>
          </a:xfrm>
          <a:custGeom>
            <a:avLst/>
            <a:gdLst/>
            <a:ahLst/>
            <a:rect l="l" t="t" r="r" b="b"/>
            <a:pathLst>
              <a:path w="190" h="180">
                <a:moveTo>
                  <a:pt x="98" y="0"/>
                </a:moveTo>
                <a:lnTo>
                  <a:pt x="74" y="68"/>
                </a:lnTo>
                <a:lnTo>
                  <a:pt x="0" y="66"/>
                </a:lnTo>
                <a:lnTo>
                  <a:pt x="58" y="110"/>
                </a:lnTo>
                <a:lnTo>
                  <a:pt x="34" y="178"/>
                </a:lnTo>
                <a:lnTo>
                  <a:pt x="92" y="138"/>
                </a:lnTo>
                <a:lnTo>
                  <a:pt x="150" y="180"/>
                </a:lnTo>
                <a:lnTo>
                  <a:pt x="130" y="112"/>
                </a:lnTo>
                <a:lnTo>
                  <a:pt x="190" y="72"/>
                </a:lnTo>
                <a:lnTo>
                  <a:pt x="118" y="70"/>
                </a:lnTo>
                <a:lnTo>
                  <a:pt x="9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8796960" y="2032920"/>
            <a:ext cx="299880" cy="29196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89" y="0"/>
                </a:moveTo>
                <a:lnTo>
                  <a:pt x="75" y="70"/>
                </a:lnTo>
                <a:lnTo>
                  <a:pt x="0" y="78"/>
                </a:lnTo>
                <a:lnTo>
                  <a:pt x="65" y="114"/>
                </a:lnTo>
                <a:lnTo>
                  <a:pt x="51" y="184"/>
                </a:lnTo>
                <a:lnTo>
                  <a:pt x="103" y="136"/>
                </a:lnTo>
                <a:lnTo>
                  <a:pt x="165" y="172"/>
                </a:lnTo>
                <a:lnTo>
                  <a:pt x="137" y="106"/>
                </a:lnTo>
                <a:lnTo>
                  <a:pt x="189" y="58"/>
                </a:lnTo>
                <a:lnTo>
                  <a:pt x="117" y="66"/>
                </a:lnTo>
                <a:lnTo>
                  <a:pt x="89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8731440" y="1499040"/>
            <a:ext cx="292320" cy="303480"/>
          </a:xfrm>
          <a:custGeom>
            <a:avLst/>
            <a:gdLst/>
            <a:ahLst/>
            <a:rect l="l" t="t" r="r" b="b"/>
            <a:pathLst>
              <a:path w="184" h="191">
                <a:moveTo>
                  <a:pt x="74" y="0"/>
                </a:moveTo>
                <a:lnTo>
                  <a:pt x="70" y="72"/>
                </a:lnTo>
                <a:lnTo>
                  <a:pt x="0" y="92"/>
                </a:lnTo>
                <a:lnTo>
                  <a:pt x="70" y="118"/>
                </a:lnTo>
                <a:lnTo>
                  <a:pt x="66" y="191"/>
                </a:lnTo>
                <a:lnTo>
                  <a:pt x="110" y="134"/>
                </a:lnTo>
                <a:lnTo>
                  <a:pt x="178" y="158"/>
                </a:lnTo>
                <a:lnTo>
                  <a:pt x="138" y="98"/>
                </a:lnTo>
                <a:lnTo>
                  <a:pt x="184" y="42"/>
                </a:lnTo>
                <a:lnTo>
                  <a:pt x="114" y="62"/>
                </a:lnTo>
                <a:lnTo>
                  <a:pt x="74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8600040" y="991080"/>
            <a:ext cx="289080" cy="30024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72" y="0"/>
                </a:moveTo>
                <a:lnTo>
                  <a:pt x="70" y="72"/>
                </a:lnTo>
                <a:lnTo>
                  <a:pt x="0" y="90"/>
                </a:lnTo>
                <a:lnTo>
                  <a:pt x="68" y="117"/>
                </a:lnTo>
                <a:lnTo>
                  <a:pt x="64" y="189"/>
                </a:lnTo>
                <a:lnTo>
                  <a:pt x="108" y="133"/>
                </a:lnTo>
                <a:lnTo>
                  <a:pt x="176" y="159"/>
                </a:lnTo>
                <a:lnTo>
                  <a:pt x="136" y="99"/>
                </a:lnTo>
                <a:lnTo>
                  <a:pt x="182" y="40"/>
                </a:lnTo>
                <a:lnTo>
                  <a:pt x="112" y="60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8411400" y="5119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57" y="0"/>
                </a:moveTo>
                <a:lnTo>
                  <a:pt x="67" y="70"/>
                </a:lnTo>
                <a:lnTo>
                  <a:pt x="0" y="102"/>
                </a:lnTo>
                <a:lnTo>
                  <a:pt x="73" y="116"/>
                </a:lnTo>
                <a:lnTo>
                  <a:pt x="81" y="186"/>
                </a:lnTo>
                <a:lnTo>
                  <a:pt x="115" y="124"/>
                </a:lnTo>
                <a:lnTo>
                  <a:pt x="185" y="136"/>
                </a:lnTo>
                <a:lnTo>
                  <a:pt x="137" y="84"/>
                </a:lnTo>
                <a:lnTo>
                  <a:pt x="171" y="20"/>
                </a:lnTo>
                <a:lnTo>
                  <a:pt x="107" y="52"/>
                </a:lnTo>
                <a:lnTo>
                  <a:pt x="57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8157240" y="79920"/>
            <a:ext cx="298440" cy="287280"/>
          </a:xfrm>
          <a:custGeom>
            <a:avLst/>
            <a:gdLst/>
            <a:ahLst/>
            <a:rect l="l" t="t" r="r" b="b"/>
            <a:pathLst>
              <a:path w="188" h="181">
                <a:moveTo>
                  <a:pt x="34" y="2"/>
                </a:moveTo>
                <a:lnTo>
                  <a:pt x="58" y="70"/>
                </a:lnTo>
                <a:lnTo>
                  <a:pt x="0" y="114"/>
                </a:lnTo>
                <a:lnTo>
                  <a:pt x="72" y="112"/>
                </a:lnTo>
                <a:lnTo>
                  <a:pt x="96" y="181"/>
                </a:lnTo>
                <a:lnTo>
                  <a:pt x="118" y="112"/>
                </a:lnTo>
                <a:lnTo>
                  <a:pt x="188" y="110"/>
                </a:lnTo>
                <a:lnTo>
                  <a:pt x="130" y="70"/>
                </a:lnTo>
                <a:lnTo>
                  <a:pt x="152" y="0"/>
                </a:lnTo>
                <a:lnTo>
                  <a:pt x="94" y="44"/>
                </a:lnTo>
                <a:lnTo>
                  <a:pt x="34" y="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956800" y="0"/>
            <a:ext cx="1872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7575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00160" y="5754600"/>
            <a:ext cx="504720" cy="486000"/>
          </a:xfrm>
          <a:custGeom>
            <a:avLst/>
            <a:gdLst/>
            <a:ahLst/>
            <a:rect l="l" t="t" r="r" b="b"/>
            <a:pathLst>
              <a:path w="157" h="151">
                <a:moveTo>
                  <a:pt x="114" y="89"/>
                </a:moveTo>
                <a:cubicBezTo>
                  <a:pt x="157" y="54"/>
                  <a:pt x="157" y="54"/>
                  <a:pt x="157" y="54"/>
                </a:cubicBezTo>
                <a:cubicBezTo>
                  <a:pt x="102" y="57"/>
                  <a:pt x="102" y="57"/>
                  <a:pt x="102" y="57"/>
                </a:cubicBezTo>
                <a:cubicBezTo>
                  <a:pt x="100" y="57"/>
                  <a:pt x="98" y="55"/>
                  <a:pt x="97" y="53"/>
                </a:cubicBezTo>
                <a:cubicBezTo>
                  <a:pt x="82" y="16"/>
                  <a:pt x="82" y="16"/>
                  <a:pt x="82" y="16"/>
                </a:cubicBezTo>
                <a:cubicBezTo>
                  <a:pt x="76" y="0"/>
                  <a:pt x="76" y="0"/>
                  <a:pt x="76" y="0"/>
                </a:cubicBezTo>
                <a:cubicBezTo>
                  <a:pt x="60" y="55"/>
                  <a:pt x="60" y="55"/>
                  <a:pt x="60" y="55"/>
                </a:cubicBezTo>
                <a:cubicBezTo>
                  <a:pt x="59" y="57"/>
                  <a:pt x="57" y="58"/>
                  <a:pt x="55" y="58"/>
                </a:cubicBezTo>
                <a:cubicBezTo>
                  <a:pt x="0" y="61"/>
                  <a:pt x="0" y="61"/>
                  <a:pt x="0" y="61"/>
                </a:cubicBezTo>
                <a:cubicBezTo>
                  <a:pt x="46" y="92"/>
                  <a:pt x="46" y="92"/>
                  <a:pt x="46" y="92"/>
                </a:cubicBezTo>
                <a:cubicBezTo>
                  <a:pt x="48" y="93"/>
                  <a:pt x="49" y="96"/>
                  <a:pt x="48" y="98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35" y="149"/>
                  <a:pt x="35" y="149"/>
                  <a:pt x="35" y="149"/>
                </a:cubicBezTo>
                <a:cubicBezTo>
                  <a:pt x="79" y="117"/>
                  <a:pt x="79" y="117"/>
                  <a:pt x="79" y="117"/>
                </a:cubicBezTo>
                <a:cubicBezTo>
                  <a:pt x="80" y="116"/>
                  <a:pt x="83" y="115"/>
                  <a:pt x="85" y="117"/>
                </a:cubicBezTo>
                <a:cubicBezTo>
                  <a:pt x="131" y="148"/>
                  <a:pt x="131" y="148"/>
                  <a:pt x="131" y="148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2" y="92"/>
                  <a:pt x="113" y="90"/>
                  <a:pt x="114" y="8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7080" y="5180040"/>
            <a:ext cx="796680" cy="763560"/>
          </a:xfrm>
          <a:custGeom>
            <a:avLst/>
            <a:gdLst/>
            <a:ahLst/>
            <a:rect l="l" t="t" r="r" b="b"/>
            <a:pathLst>
              <a:path w="248" h="238">
                <a:moveTo>
                  <a:pt x="179" y="141"/>
                </a:moveTo>
                <a:cubicBezTo>
                  <a:pt x="248" y="86"/>
                  <a:pt x="248" y="86"/>
                  <a:pt x="248" y="86"/>
                </a:cubicBezTo>
                <a:cubicBezTo>
                  <a:pt x="160" y="90"/>
                  <a:pt x="160" y="90"/>
                  <a:pt x="160" y="90"/>
                </a:cubicBezTo>
                <a:cubicBezTo>
                  <a:pt x="158" y="90"/>
                  <a:pt x="155" y="88"/>
                  <a:pt x="154" y="86"/>
                </a:cubicBezTo>
                <a:cubicBezTo>
                  <a:pt x="120" y="0"/>
                  <a:pt x="120" y="0"/>
                  <a:pt x="120" y="0"/>
                </a:cubicBezTo>
                <a:cubicBezTo>
                  <a:pt x="99" y="70"/>
                  <a:pt x="99" y="70"/>
                  <a:pt x="99" y="70"/>
                </a:cubicBezTo>
                <a:cubicBezTo>
                  <a:pt x="94" y="88"/>
                  <a:pt x="94" y="88"/>
                  <a:pt x="94" y="88"/>
                </a:cubicBezTo>
                <a:cubicBezTo>
                  <a:pt x="93" y="91"/>
                  <a:pt x="91" y="93"/>
                  <a:pt x="88" y="93"/>
                </a:cubicBezTo>
                <a:cubicBezTo>
                  <a:pt x="0" y="97"/>
                  <a:pt x="0" y="97"/>
                  <a:pt x="0" y="97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77" y="148"/>
                  <a:pt x="78" y="151"/>
                  <a:pt x="77" y="153"/>
                </a:cubicBezTo>
                <a:cubicBezTo>
                  <a:pt x="53" y="237"/>
                  <a:pt x="53" y="237"/>
                  <a:pt x="53" y="237"/>
                </a:cubicBezTo>
                <a:cubicBezTo>
                  <a:pt x="52" y="238"/>
                  <a:pt x="52" y="238"/>
                  <a:pt x="52" y="238"/>
                </a:cubicBezTo>
                <a:cubicBezTo>
                  <a:pt x="126" y="184"/>
                  <a:pt x="126" y="184"/>
                  <a:pt x="126" y="184"/>
                </a:cubicBezTo>
                <a:cubicBezTo>
                  <a:pt x="128" y="182"/>
                  <a:pt x="130" y="182"/>
                  <a:pt x="133" y="184"/>
                </a:cubicBezTo>
                <a:cubicBezTo>
                  <a:pt x="207" y="234"/>
                  <a:pt x="207" y="234"/>
                  <a:pt x="207" y="234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5"/>
                  <a:pt x="177" y="143"/>
                  <a:pt x="179" y="141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20520" y="5340240"/>
            <a:ext cx="2334960" cy="1544760"/>
          </a:xfrm>
          <a:custGeom>
            <a:avLst/>
            <a:gdLst/>
            <a:ahLst/>
            <a:rect l="l" t="t" r="r" b="b"/>
            <a:pathLst>
              <a:path w="727" h="481">
                <a:moveTo>
                  <a:pt x="262" y="204"/>
                </a:moveTo>
                <a:cubicBezTo>
                  <a:pt x="175" y="146"/>
                  <a:pt x="175" y="146"/>
                  <a:pt x="175" y="146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23" y="191"/>
                  <a:pt x="129" y="191"/>
                  <a:pt x="135" y="192"/>
                </a:cubicBezTo>
                <a:cubicBezTo>
                  <a:pt x="135" y="193"/>
                  <a:pt x="135" y="193"/>
                  <a:pt x="135" y="193"/>
                </a:cubicBezTo>
                <a:cubicBezTo>
                  <a:pt x="141" y="194"/>
                  <a:pt x="147" y="195"/>
                  <a:pt x="153" y="196"/>
                </a:cubicBezTo>
                <a:cubicBezTo>
                  <a:pt x="153" y="196"/>
                  <a:pt x="153" y="196"/>
                  <a:pt x="154" y="196"/>
                </a:cubicBezTo>
                <a:cubicBezTo>
                  <a:pt x="159" y="197"/>
                  <a:pt x="165" y="198"/>
                  <a:pt x="170" y="199"/>
                </a:cubicBezTo>
                <a:cubicBezTo>
                  <a:pt x="171" y="199"/>
                  <a:pt x="171" y="199"/>
                  <a:pt x="171" y="199"/>
                </a:cubicBezTo>
                <a:cubicBezTo>
                  <a:pt x="177" y="201"/>
                  <a:pt x="183" y="202"/>
                  <a:pt x="188" y="203"/>
                </a:cubicBezTo>
                <a:cubicBezTo>
                  <a:pt x="188" y="203"/>
                  <a:pt x="188" y="203"/>
                  <a:pt x="189" y="203"/>
                </a:cubicBezTo>
                <a:cubicBezTo>
                  <a:pt x="246" y="217"/>
                  <a:pt x="299" y="236"/>
                  <a:pt x="346" y="259"/>
                </a:cubicBezTo>
                <a:cubicBezTo>
                  <a:pt x="346" y="259"/>
                  <a:pt x="346" y="259"/>
                  <a:pt x="346" y="259"/>
                </a:cubicBezTo>
                <a:cubicBezTo>
                  <a:pt x="351" y="261"/>
                  <a:pt x="355" y="263"/>
                  <a:pt x="360" y="265"/>
                </a:cubicBezTo>
                <a:cubicBezTo>
                  <a:pt x="360" y="265"/>
                  <a:pt x="360" y="265"/>
                  <a:pt x="360" y="265"/>
                </a:cubicBezTo>
                <a:cubicBezTo>
                  <a:pt x="365" y="268"/>
                  <a:pt x="369" y="270"/>
                  <a:pt x="374" y="272"/>
                </a:cubicBezTo>
                <a:cubicBezTo>
                  <a:pt x="374" y="272"/>
                  <a:pt x="374" y="272"/>
                  <a:pt x="374" y="272"/>
                </a:cubicBezTo>
                <a:cubicBezTo>
                  <a:pt x="387" y="227"/>
                  <a:pt x="387" y="227"/>
                  <a:pt x="387" y="227"/>
                </a:cubicBezTo>
                <a:cubicBezTo>
                  <a:pt x="331" y="190"/>
                  <a:pt x="331" y="190"/>
                  <a:pt x="331" y="190"/>
                </a:cubicBezTo>
                <a:cubicBezTo>
                  <a:pt x="329" y="189"/>
                  <a:pt x="328" y="186"/>
                  <a:pt x="328" y="184"/>
                </a:cubicBezTo>
                <a:cubicBezTo>
                  <a:pt x="329" y="182"/>
                  <a:pt x="331" y="181"/>
                  <a:pt x="333" y="181"/>
                </a:cubicBezTo>
                <a:cubicBezTo>
                  <a:pt x="400" y="178"/>
                  <a:pt x="400" y="178"/>
                  <a:pt x="400" y="178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03" y="126"/>
                  <a:pt x="393" y="120"/>
                  <a:pt x="382" y="114"/>
                </a:cubicBezTo>
                <a:cubicBezTo>
                  <a:pt x="382" y="114"/>
                  <a:pt x="382" y="114"/>
                  <a:pt x="382" y="114"/>
                </a:cubicBezTo>
                <a:cubicBezTo>
                  <a:pt x="377" y="111"/>
                  <a:pt x="371" y="108"/>
                  <a:pt x="366" y="105"/>
                </a:cubicBezTo>
                <a:cubicBezTo>
                  <a:pt x="366" y="105"/>
                  <a:pt x="365" y="104"/>
                  <a:pt x="365" y="104"/>
                </a:cubicBezTo>
                <a:cubicBezTo>
                  <a:pt x="360" y="101"/>
                  <a:pt x="355" y="99"/>
                  <a:pt x="350" y="96"/>
                </a:cubicBezTo>
                <a:cubicBezTo>
                  <a:pt x="349" y="96"/>
                  <a:pt x="348" y="95"/>
                  <a:pt x="348" y="95"/>
                </a:cubicBezTo>
                <a:cubicBezTo>
                  <a:pt x="343" y="92"/>
                  <a:pt x="338" y="90"/>
                  <a:pt x="333" y="87"/>
                </a:cubicBezTo>
                <a:cubicBezTo>
                  <a:pt x="332" y="87"/>
                  <a:pt x="331" y="86"/>
                  <a:pt x="330" y="86"/>
                </a:cubicBezTo>
                <a:cubicBezTo>
                  <a:pt x="325" y="83"/>
                  <a:pt x="320" y="81"/>
                  <a:pt x="316" y="79"/>
                </a:cubicBezTo>
                <a:cubicBezTo>
                  <a:pt x="314" y="78"/>
                  <a:pt x="313" y="78"/>
                  <a:pt x="311" y="77"/>
                </a:cubicBezTo>
                <a:cubicBezTo>
                  <a:pt x="307" y="75"/>
                  <a:pt x="302" y="73"/>
                  <a:pt x="298" y="71"/>
                </a:cubicBezTo>
                <a:cubicBezTo>
                  <a:pt x="296" y="70"/>
                  <a:pt x="295" y="69"/>
                  <a:pt x="293" y="69"/>
                </a:cubicBezTo>
                <a:cubicBezTo>
                  <a:pt x="289" y="67"/>
                  <a:pt x="284" y="65"/>
                  <a:pt x="280" y="63"/>
                </a:cubicBezTo>
                <a:cubicBezTo>
                  <a:pt x="280" y="63"/>
                  <a:pt x="280" y="63"/>
                  <a:pt x="280" y="63"/>
                </a:cubicBezTo>
                <a:cubicBezTo>
                  <a:pt x="236" y="98"/>
                  <a:pt x="236" y="98"/>
                  <a:pt x="236" y="98"/>
                </a:cubicBezTo>
                <a:cubicBezTo>
                  <a:pt x="271" y="197"/>
                  <a:pt x="271" y="197"/>
                  <a:pt x="271" y="197"/>
                </a:cubicBezTo>
                <a:cubicBezTo>
                  <a:pt x="271" y="199"/>
                  <a:pt x="271" y="202"/>
                  <a:pt x="269" y="203"/>
                </a:cubicBezTo>
                <a:cubicBezTo>
                  <a:pt x="266" y="205"/>
                  <a:pt x="264" y="205"/>
                  <a:pt x="262" y="204"/>
                </a:cubicBezTo>
                <a:close/>
                <a:moveTo>
                  <a:pt x="28" y="182"/>
                </a:moveTo>
                <a:cubicBezTo>
                  <a:pt x="33" y="182"/>
                  <a:pt x="39" y="182"/>
                  <a:pt x="44" y="183"/>
                </a:cubicBezTo>
                <a:cubicBezTo>
                  <a:pt x="45" y="183"/>
                  <a:pt x="46" y="183"/>
                  <a:pt x="48" y="183"/>
                </a:cubicBezTo>
                <a:cubicBezTo>
                  <a:pt x="54" y="183"/>
                  <a:pt x="59" y="184"/>
                  <a:pt x="65" y="184"/>
                </a:cubicBezTo>
                <a:cubicBezTo>
                  <a:pt x="66" y="184"/>
                  <a:pt x="66" y="184"/>
                  <a:pt x="67" y="184"/>
                </a:cubicBezTo>
                <a:cubicBezTo>
                  <a:pt x="73" y="185"/>
                  <a:pt x="80" y="185"/>
                  <a:pt x="86" y="186"/>
                </a:cubicBezTo>
                <a:cubicBezTo>
                  <a:pt x="86" y="186"/>
                  <a:pt x="86" y="186"/>
                  <a:pt x="86" y="186"/>
                </a:cubicBezTo>
                <a:cubicBezTo>
                  <a:pt x="110" y="104"/>
                  <a:pt x="110" y="104"/>
                  <a:pt x="110" y="104"/>
                </a:cubicBezTo>
                <a:cubicBezTo>
                  <a:pt x="24" y="46"/>
                  <a:pt x="24" y="46"/>
                  <a:pt x="24" y="46"/>
                </a:cubicBezTo>
                <a:cubicBezTo>
                  <a:pt x="22" y="45"/>
                  <a:pt x="21" y="42"/>
                  <a:pt x="22" y="40"/>
                </a:cubicBezTo>
                <a:cubicBezTo>
                  <a:pt x="22" y="37"/>
                  <a:pt x="25" y="35"/>
                  <a:pt x="27" y="35"/>
                </a:cubicBezTo>
                <a:cubicBezTo>
                  <a:pt x="130" y="31"/>
                  <a:pt x="130" y="31"/>
                  <a:pt x="130" y="31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24" y="15"/>
                  <a:pt x="114" y="14"/>
                  <a:pt x="104" y="12"/>
                </a:cubicBezTo>
                <a:cubicBezTo>
                  <a:pt x="103" y="12"/>
                  <a:pt x="103" y="12"/>
                  <a:pt x="102" y="11"/>
                </a:cubicBezTo>
                <a:cubicBezTo>
                  <a:pt x="97" y="11"/>
                  <a:pt x="93" y="10"/>
                  <a:pt x="89" y="9"/>
                </a:cubicBezTo>
                <a:cubicBezTo>
                  <a:pt x="87" y="9"/>
                  <a:pt x="84" y="8"/>
                  <a:pt x="81" y="8"/>
                </a:cubicBezTo>
                <a:cubicBezTo>
                  <a:pt x="78" y="8"/>
                  <a:pt x="74" y="7"/>
                  <a:pt x="71" y="6"/>
                </a:cubicBezTo>
                <a:cubicBezTo>
                  <a:pt x="65" y="6"/>
                  <a:pt x="59" y="5"/>
                  <a:pt x="53" y="4"/>
                </a:cubicBezTo>
                <a:cubicBezTo>
                  <a:pt x="50" y="4"/>
                  <a:pt x="48" y="4"/>
                  <a:pt x="45" y="3"/>
                </a:cubicBezTo>
                <a:cubicBezTo>
                  <a:pt x="41" y="3"/>
                  <a:pt x="36" y="2"/>
                  <a:pt x="31" y="2"/>
                </a:cubicBezTo>
                <a:cubicBezTo>
                  <a:pt x="28" y="2"/>
                  <a:pt x="26" y="2"/>
                  <a:pt x="24" y="1"/>
                </a:cubicBezTo>
                <a:cubicBezTo>
                  <a:pt x="17" y="1"/>
                  <a:pt x="10" y="0"/>
                  <a:pt x="3" y="0"/>
                </a:cubicBezTo>
                <a:cubicBezTo>
                  <a:pt x="3" y="90"/>
                  <a:pt x="3" y="182"/>
                  <a:pt x="3" y="182"/>
                </a:cubicBezTo>
                <a:cubicBezTo>
                  <a:pt x="10" y="182"/>
                  <a:pt x="17" y="182"/>
                  <a:pt x="23" y="182"/>
                </a:cubicBezTo>
                <a:cubicBezTo>
                  <a:pt x="25" y="182"/>
                  <a:pt x="26" y="182"/>
                  <a:pt x="28" y="182"/>
                </a:cubicBezTo>
                <a:close/>
                <a:moveTo>
                  <a:pt x="472" y="175"/>
                </a:moveTo>
                <a:cubicBezTo>
                  <a:pt x="471" y="174"/>
                  <a:pt x="471" y="174"/>
                  <a:pt x="470" y="173"/>
                </a:cubicBezTo>
                <a:cubicBezTo>
                  <a:pt x="462" y="167"/>
                  <a:pt x="455" y="162"/>
                  <a:pt x="446" y="156"/>
                </a:cubicBezTo>
                <a:cubicBezTo>
                  <a:pt x="454" y="175"/>
                  <a:pt x="454" y="175"/>
                  <a:pt x="454" y="175"/>
                </a:cubicBezTo>
                <a:lnTo>
                  <a:pt x="472" y="175"/>
                </a:lnTo>
                <a:close/>
                <a:moveTo>
                  <a:pt x="652" y="358"/>
                </a:moveTo>
                <a:cubicBezTo>
                  <a:pt x="652" y="358"/>
                  <a:pt x="652" y="358"/>
                  <a:pt x="652" y="358"/>
                </a:cubicBezTo>
                <a:cubicBezTo>
                  <a:pt x="649" y="355"/>
                  <a:pt x="647" y="351"/>
                  <a:pt x="644" y="348"/>
                </a:cubicBezTo>
                <a:cubicBezTo>
                  <a:pt x="644" y="348"/>
                  <a:pt x="644" y="348"/>
                  <a:pt x="644" y="348"/>
                </a:cubicBezTo>
                <a:cubicBezTo>
                  <a:pt x="642" y="344"/>
                  <a:pt x="639" y="341"/>
                  <a:pt x="636" y="338"/>
                </a:cubicBezTo>
                <a:cubicBezTo>
                  <a:pt x="636" y="337"/>
                  <a:pt x="636" y="337"/>
                  <a:pt x="636" y="337"/>
                </a:cubicBezTo>
                <a:cubicBezTo>
                  <a:pt x="633" y="334"/>
                  <a:pt x="631" y="330"/>
                  <a:pt x="628" y="327"/>
                </a:cubicBezTo>
                <a:cubicBezTo>
                  <a:pt x="628" y="327"/>
                  <a:pt x="628" y="327"/>
                  <a:pt x="627" y="327"/>
                </a:cubicBezTo>
                <a:cubicBezTo>
                  <a:pt x="625" y="323"/>
                  <a:pt x="622" y="319"/>
                  <a:pt x="619" y="316"/>
                </a:cubicBezTo>
                <a:cubicBezTo>
                  <a:pt x="619" y="316"/>
                  <a:pt x="619" y="316"/>
                  <a:pt x="619" y="316"/>
                </a:cubicBezTo>
                <a:cubicBezTo>
                  <a:pt x="636" y="359"/>
                  <a:pt x="636" y="359"/>
                  <a:pt x="636" y="359"/>
                </a:cubicBezTo>
                <a:lnTo>
                  <a:pt x="652" y="358"/>
                </a:lnTo>
                <a:close/>
                <a:moveTo>
                  <a:pt x="727" y="477"/>
                </a:moveTo>
                <a:cubicBezTo>
                  <a:pt x="727" y="477"/>
                  <a:pt x="727" y="477"/>
                  <a:pt x="726" y="477"/>
                </a:cubicBezTo>
                <a:cubicBezTo>
                  <a:pt x="726" y="477"/>
                  <a:pt x="726" y="476"/>
                  <a:pt x="726" y="476"/>
                </a:cubicBezTo>
                <a:cubicBezTo>
                  <a:pt x="726" y="476"/>
                  <a:pt x="726" y="476"/>
                  <a:pt x="726" y="476"/>
                </a:cubicBezTo>
                <a:cubicBezTo>
                  <a:pt x="726" y="475"/>
                  <a:pt x="726" y="475"/>
                  <a:pt x="726" y="475"/>
                </a:cubicBezTo>
                <a:cubicBezTo>
                  <a:pt x="725" y="474"/>
                  <a:pt x="725" y="474"/>
                  <a:pt x="725" y="473"/>
                </a:cubicBezTo>
                <a:cubicBezTo>
                  <a:pt x="725" y="473"/>
                  <a:pt x="725" y="473"/>
                  <a:pt x="725" y="473"/>
                </a:cubicBezTo>
                <a:cubicBezTo>
                  <a:pt x="719" y="462"/>
                  <a:pt x="704" y="434"/>
                  <a:pt x="678" y="395"/>
                </a:cubicBezTo>
                <a:cubicBezTo>
                  <a:pt x="678" y="395"/>
                  <a:pt x="678" y="395"/>
                  <a:pt x="678" y="395"/>
                </a:cubicBezTo>
                <a:cubicBezTo>
                  <a:pt x="675" y="390"/>
                  <a:pt x="671" y="385"/>
                  <a:pt x="667" y="379"/>
                </a:cubicBezTo>
                <a:cubicBezTo>
                  <a:pt x="667" y="379"/>
                  <a:pt x="667" y="379"/>
                  <a:pt x="667" y="379"/>
                </a:cubicBezTo>
                <a:cubicBezTo>
                  <a:pt x="649" y="394"/>
                  <a:pt x="649" y="394"/>
                  <a:pt x="649" y="394"/>
                </a:cubicBezTo>
                <a:cubicBezTo>
                  <a:pt x="665" y="440"/>
                  <a:pt x="665" y="440"/>
                  <a:pt x="665" y="440"/>
                </a:cubicBezTo>
                <a:cubicBezTo>
                  <a:pt x="666" y="442"/>
                  <a:pt x="665" y="443"/>
                  <a:pt x="664" y="444"/>
                </a:cubicBezTo>
                <a:cubicBezTo>
                  <a:pt x="663" y="446"/>
                  <a:pt x="661" y="446"/>
                  <a:pt x="659" y="445"/>
                </a:cubicBezTo>
                <a:cubicBezTo>
                  <a:pt x="619" y="418"/>
                  <a:pt x="619" y="418"/>
                  <a:pt x="619" y="418"/>
                </a:cubicBezTo>
                <a:cubicBezTo>
                  <a:pt x="595" y="435"/>
                  <a:pt x="595" y="435"/>
                  <a:pt x="595" y="435"/>
                </a:cubicBezTo>
                <a:cubicBezTo>
                  <a:pt x="597" y="437"/>
                  <a:pt x="599" y="438"/>
                  <a:pt x="600" y="440"/>
                </a:cubicBezTo>
                <a:cubicBezTo>
                  <a:pt x="600" y="440"/>
                  <a:pt x="600" y="440"/>
                  <a:pt x="600" y="440"/>
                </a:cubicBezTo>
                <a:cubicBezTo>
                  <a:pt x="601" y="441"/>
                  <a:pt x="603" y="443"/>
                  <a:pt x="604" y="444"/>
                </a:cubicBezTo>
                <a:cubicBezTo>
                  <a:pt x="604" y="444"/>
                  <a:pt x="604" y="444"/>
                  <a:pt x="604" y="444"/>
                </a:cubicBezTo>
                <a:cubicBezTo>
                  <a:pt x="606" y="446"/>
                  <a:pt x="607" y="447"/>
                  <a:pt x="608" y="448"/>
                </a:cubicBezTo>
                <a:cubicBezTo>
                  <a:pt x="608" y="448"/>
                  <a:pt x="608" y="448"/>
                  <a:pt x="608" y="448"/>
                </a:cubicBezTo>
                <a:cubicBezTo>
                  <a:pt x="625" y="466"/>
                  <a:pt x="633" y="477"/>
                  <a:pt x="633" y="477"/>
                </a:cubicBezTo>
                <a:cubicBezTo>
                  <a:pt x="727" y="477"/>
                  <a:pt x="727" y="477"/>
                  <a:pt x="727" y="477"/>
                </a:cubicBezTo>
                <a:cubicBezTo>
                  <a:pt x="727" y="477"/>
                  <a:pt x="727" y="477"/>
                  <a:pt x="727" y="477"/>
                </a:cubicBezTo>
                <a:close/>
                <a:moveTo>
                  <a:pt x="544" y="365"/>
                </a:moveTo>
                <a:cubicBezTo>
                  <a:pt x="545" y="364"/>
                  <a:pt x="546" y="362"/>
                  <a:pt x="548" y="362"/>
                </a:cubicBezTo>
                <a:cubicBezTo>
                  <a:pt x="596" y="360"/>
                  <a:pt x="596" y="360"/>
                  <a:pt x="596" y="360"/>
                </a:cubicBezTo>
                <a:cubicBezTo>
                  <a:pt x="610" y="313"/>
                  <a:pt x="610" y="313"/>
                  <a:pt x="610" y="313"/>
                </a:cubicBezTo>
                <a:cubicBezTo>
                  <a:pt x="610" y="312"/>
                  <a:pt x="612" y="310"/>
                  <a:pt x="613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0" y="306"/>
                  <a:pt x="606" y="302"/>
                  <a:pt x="602" y="297"/>
                </a:cubicBezTo>
                <a:cubicBezTo>
                  <a:pt x="602" y="297"/>
                  <a:pt x="602" y="297"/>
                  <a:pt x="602" y="297"/>
                </a:cubicBezTo>
                <a:cubicBezTo>
                  <a:pt x="590" y="283"/>
                  <a:pt x="577" y="269"/>
                  <a:pt x="564" y="256"/>
                </a:cubicBezTo>
                <a:cubicBezTo>
                  <a:pt x="563" y="255"/>
                  <a:pt x="563" y="255"/>
                  <a:pt x="563" y="255"/>
                </a:cubicBezTo>
                <a:cubicBezTo>
                  <a:pt x="549" y="241"/>
                  <a:pt x="535" y="227"/>
                  <a:pt x="519" y="213"/>
                </a:cubicBezTo>
                <a:cubicBezTo>
                  <a:pt x="519" y="213"/>
                  <a:pt x="518" y="213"/>
                  <a:pt x="518" y="213"/>
                </a:cubicBezTo>
                <a:cubicBezTo>
                  <a:pt x="513" y="208"/>
                  <a:pt x="508" y="204"/>
                  <a:pt x="502" y="199"/>
                </a:cubicBezTo>
                <a:cubicBezTo>
                  <a:pt x="472" y="223"/>
                  <a:pt x="472" y="223"/>
                  <a:pt x="472" y="223"/>
                </a:cubicBezTo>
                <a:cubicBezTo>
                  <a:pt x="495" y="288"/>
                  <a:pt x="495" y="288"/>
                  <a:pt x="495" y="288"/>
                </a:cubicBezTo>
                <a:cubicBezTo>
                  <a:pt x="495" y="290"/>
                  <a:pt x="495" y="292"/>
                  <a:pt x="493" y="293"/>
                </a:cubicBezTo>
                <a:cubicBezTo>
                  <a:pt x="491" y="295"/>
                  <a:pt x="489" y="295"/>
                  <a:pt x="487" y="294"/>
                </a:cubicBezTo>
                <a:cubicBezTo>
                  <a:pt x="431" y="256"/>
                  <a:pt x="431" y="256"/>
                  <a:pt x="431" y="256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9" y="286"/>
                  <a:pt x="404" y="289"/>
                  <a:pt x="409" y="291"/>
                </a:cubicBezTo>
                <a:cubicBezTo>
                  <a:pt x="409" y="292"/>
                  <a:pt x="410" y="292"/>
                  <a:pt x="410" y="292"/>
                </a:cubicBezTo>
                <a:cubicBezTo>
                  <a:pt x="425" y="301"/>
                  <a:pt x="439" y="309"/>
                  <a:pt x="452" y="318"/>
                </a:cubicBezTo>
                <a:cubicBezTo>
                  <a:pt x="452" y="318"/>
                  <a:pt x="453" y="318"/>
                  <a:pt x="453" y="319"/>
                </a:cubicBezTo>
                <a:cubicBezTo>
                  <a:pt x="457" y="321"/>
                  <a:pt x="461" y="324"/>
                  <a:pt x="466" y="327"/>
                </a:cubicBezTo>
                <a:cubicBezTo>
                  <a:pt x="466" y="327"/>
                  <a:pt x="466" y="327"/>
                  <a:pt x="466" y="327"/>
                </a:cubicBezTo>
                <a:cubicBezTo>
                  <a:pt x="475" y="333"/>
                  <a:pt x="483" y="339"/>
                  <a:pt x="491" y="345"/>
                </a:cubicBezTo>
                <a:cubicBezTo>
                  <a:pt x="491" y="345"/>
                  <a:pt x="491" y="345"/>
                  <a:pt x="491" y="345"/>
                </a:cubicBezTo>
                <a:cubicBezTo>
                  <a:pt x="495" y="348"/>
                  <a:pt x="499" y="351"/>
                  <a:pt x="502" y="353"/>
                </a:cubicBezTo>
                <a:cubicBezTo>
                  <a:pt x="503" y="354"/>
                  <a:pt x="503" y="354"/>
                  <a:pt x="504" y="354"/>
                </a:cubicBezTo>
                <a:cubicBezTo>
                  <a:pt x="515" y="363"/>
                  <a:pt x="525" y="371"/>
                  <a:pt x="535" y="379"/>
                </a:cubicBezTo>
                <a:cubicBezTo>
                  <a:pt x="536" y="380"/>
                  <a:pt x="536" y="380"/>
                  <a:pt x="537" y="381"/>
                </a:cubicBezTo>
                <a:cubicBezTo>
                  <a:pt x="539" y="383"/>
                  <a:pt x="542" y="385"/>
                  <a:pt x="545" y="388"/>
                </a:cubicBezTo>
                <a:cubicBezTo>
                  <a:pt x="545" y="388"/>
                  <a:pt x="546" y="388"/>
                  <a:pt x="546" y="389"/>
                </a:cubicBezTo>
                <a:cubicBezTo>
                  <a:pt x="552" y="394"/>
                  <a:pt x="558" y="399"/>
                  <a:pt x="563" y="404"/>
                </a:cubicBezTo>
                <a:cubicBezTo>
                  <a:pt x="564" y="404"/>
                  <a:pt x="564" y="405"/>
                  <a:pt x="565" y="405"/>
                </a:cubicBezTo>
                <a:cubicBezTo>
                  <a:pt x="567" y="407"/>
                  <a:pt x="569" y="409"/>
                  <a:pt x="571" y="411"/>
                </a:cubicBezTo>
                <a:cubicBezTo>
                  <a:pt x="572" y="412"/>
                  <a:pt x="572" y="412"/>
                  <a:pt x="573" y="413"/>
                </a:cubicBezTo>
                <a:cubicBezTo>
                  <a:pt x="575" y="415"/>
                  <a:pt x="577" y="417"/>
                  <a:pt x="580" y="419"/>
                </a:cubicBezTo>
                <a:cubicBezTo>
                  <a:pt x="580" y="419"/>
                  <a:pt x="580" y="419"/>
                  <a:pt x="580" y="420"/>
                </a:cubicBezTo>
                <a:cubicBezTo>
                  <a:pt x="586" y="397"/>
                  <a:pt x="586" y="397"/>
                  <a:pt x="586" y="397"/>
                </a:cubicBezTo>
                <a:cubicBezTo>
                  <a:pt x="546" y="370"/>
                  <a:pt x="546" y="370"/>
                  <a:pt x="546" y="370"/>
                </a:cubicBezTo>
                <a:cubicBezTo>
                  <a:pt x="545" y="369"/>
                  <a:pt x="544" y="367"/>
                  <a:pt x="544" y="365"/>
                </a:cubicBezTo>
                <a:close/>
                <a:moveTo>
                  <a:pt x="0" y="221"/>
                </a:moveTo>
                <a:cubicBezTo>
                  <a:pt x="0" y="274"/>
                  <a:pt x="0" y="328"/>
                  <a:pt x="0" y="328"/>
                </a:cubicBezTo>
                <a:cubicBezTo>
                  <a:pt x="259" y="328"/>
                  <a:pt x="429" y="435"/>
                  <a:pt x="490" y="481"/>
                </a:cubicBezTo>
                <a:cubicBezTo>
                  <a:pt x="575" y="481"/>
                  <a:pt x="575" y="481"/>
                  <a:pt x="575" y="481"/>
                </a:cubicBezTo>
                <a:cubicBezTo>
                  <a:pt x="526" y="419"/>
                  <a:pt x="350" y="237"/>
                  <a:pt x="0" y="221"/>
                </a:cubicBezTo>
                <a:close/>
              </a:path>
            </a:pathLst>
          </a:cu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6564240" y="-7920"/>
            <a:ext cx="2598840" cy="6875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5857920" y="-19080"/>
            <a:ext cx="2895480" cy="68864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71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4"/>
          </p:nvPr>
        </p:nvSpPr>
        <p:spPr>
          <a:xfrm>
            <a:off x="2484000" y="6472080"/>
            <a:ext cx="352764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7223760" y="63223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171" y="22"/>
                </a:moveTo>
                <a:lnTo>
                  <a:pt x="107" y="52"/>
                </a:lnTo>
                <a:lnTo>
                  <a:pt x="56" y="0"/>
                </a:lnTo>
                <a:lnTo>
                  <a:pt x="64" y="72"/>
                </a:lnTo>
                <a:lnTo>
                  <a:pt x="0" y="102"/>
                </a:lnTo>
                <a:lnTo>
                  <a:pt x="70" y="116"/>
                </a:lnTo>
                <a:lnTo>
                  <a:pt x="78" y="186"/>
                </a:lnTo>
                <a:lnTo>
                  <a:pt x="115" y="124"/>
                </a:lnTo>
                <a:lnTo>
                  <a:pt x="185" y="138"/>
                </a:lnTo>
                <a:lnTo>
                  <a:pt x="137" y="84"/>
                </a:lnTo>
                <a:lnTo>
                  <a:pt x="171" y="2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571520" y="5944320"/>
            <a:ext cx="298440" cy="293760"/>
          </a:xfrm>
          <a:custGeom>
            <a:avLst/>
            <a:gdLst/>
            <a:ahLst/>
            <a:rect l="l" t="t" r="r" b="b"/>
            <a:pathLst>
              <a:path w="188" h="185">
                <a:moveTo>
                  <a:pt x="164" y="12"/>
                </a:moveTo>
                <a:lnTo>
                  <a:pt x="102" y="48"/>
                </a:lnTo>
                <a:lnTo>
                  <a:pt x="48" y="0"/>
                </a:lnTo>
                <a:lnTo>
                  <a:pt x="62" y="70"/>
                </a:lnTo>
                <a:lnTo>
                  <a:pt x="0" y="106"/>
                </a:lnTo>
                <a:lnTo>
                  <a:pt x="70" y="114"/>
                </a:lnTo>
                <a:lnTo>
                  <a:pt x="86" y="185"/>
                </a:lnTo>
                <a:lnTo>
                  <a:pt x="114" y="118"/>
                </a:lnTo>
                <a:lnTo>
                  <a:pt x="188" y="126"/>
                </a:lnTo>
                <a:lnTo>
                  <a:pt x="134" y="78"/>
                </a:lnTo>
                <a:lnTo>
                  <a:pt x="164" y="1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81280" y="6391440"/>
            <a:ext cx="357120" cy="339480"/>
          </a:xfrm>
          <a:custGeom>
            <a:avLst/>
            <a:gdLst/>
            <a:ahLst/>
            <a:rect l="l" t="t" r="r" b="b"/>
            <a:pathLst>
              <a:path w="111" h="106">
                <a:moveTo>
                  <a:pt x="81" y="62"/>
                </a:moveTo>
                <a:cubicBezTo>
                  <a:pt x="111" y="38"/>
                  <a:pt x="111" y="38"/>
                  <a:pt x="111" y="38"/>
                </a:cubicBezTo>
                <a:cubicBezTo>
                  <a:pt x="73" y="40"/>
                  <a:pt x="73" y="40"/>
                  <a:pt x="73" y="40"/>
                </a:cubicBezTo>
                <a:cubicBezTo>
                  <a:pt x="71" y="40"/>
                  <a:pt x="69" y="39"/>
                  <a:pt x="69" y="37"/>
                </a:cubicBezTo>
                <a:cubicBezTo>
                  <a:pt x="53" y="0"/>
                  <a:pt x="53" y="0"/>
                  <a:pt x="53" y="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40"/>
                  <a:pt x="40" y="41"/>
                  <a:pt x="38" y="41"/>
                </a:cubicBezTo>
                <a:cubicBezTo>
                  <a:pt x="0" y="43"/>
                  <a:pt x="0" y="43"/>
                  <a:pt x="0" y="43"/>
                </a:cubicBezTo>
                <a:cubicBezTo>
                  <a:pt x="32" y="65"/>
                  <a:pt x="32" y="65"/>
                  <a:pt x="32" y="65"/>
                </a:cubicBezTo>
                <a:cubicBezTo>
                  <a:pt x="34" y="66"/>
                  <a:pt x="34" y="67"/>
                  <a:pt x="34" y="69"/>
                </a:cubicBezTo>
                <a:cubicBezTo>
                  <a:pt x="23" y="106"/>
                  <a:pt x="23" y="106"/>
                  <a:pt x="23" y="106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55" y="82"/>
                  <a:pt x="55" y="82"/>
                  <a:pt x="55" y="82"/>
                </a:cubicBezTo>
                <a:cubicBezTo>
                  <a:pt x="57" y="81"/>
                  <a:pt x="59" y="81"/>
                  <a:pt x="60" y="82"/>
                </a:cubicBezTo>
                <a:cubicBezTo>
                  <a:pt x="93" y="104"/>
                  <a:pt x="93" y="104"/>
                  <a:pt x="93" y="104"/>
                </a:cubicBezTo>
                <a:cubicBezTo>
                  <a:pt x="80" y="67"/>
                  <a:pt x="80" y="67"/>
                  <a:pt x="80" y="67"/>
                </a:cubicBezTo>
                <a:cubicBezTo>
                  <a:pt x="79" y="65"/>
                  <a:pt x="80" y="63"/>
                  <a:pt x="81" y="6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1160" y="-7920"/>
            <a:ext cx="3044880" cy="6870600"/>
          </a:xfrm>
          <a:custGeom>
            <a:avLst/>
            <a:gdLst/>
            <a:ahLst/>
            <a:rect l="l" t="t" r="r" b="b"/>
            <a:pathLst>
              <a:path w="957" h="2164">
                <a:moveTo>
                  <a:pt x="823" y="1253"/>
                </a:moveTo>
                <a:cubicBezTo>
                  <a:pt x="957" y="774"/>
                  <a:pt x="863" y="307"/>
                  <a:pt x="614" y="46"/>
                </a:cubicBezTo>
                <a:cubicBezTo>
                  <a:pt x="599" y="30"/>
                  <a:pt x="583" y="15"/>
                  <a:pt x="566" y="0"/>
                </a:cubicBezTo>
                <a:cubicBezTo>
                  <a:pt x="507" y="0"/>
                  <a:pt x="507" y="0"/>
                  <a:pt x="507" y="0"/>
                </a:cubicBezTo>
                <a:cubicBezTo>
                  <a:pt x="530" y="17"/>
                  <a:pt x="553" y="36"/>
                  <a:pt x="575" y="56"/>
                </a:cubicBezTo>
                <a:cubicBezTo>
                  <a:pt x="581" y="63"/>
                  <a:pt x="588" y="69"/>
                  <a:pt x="594" y="76"/>
                </a:cubicBezTo>
                <a:cubicBezTo>
                  <a:pt x="643" y="125"/>
                  <a:pt x="686" y="183"/>
                  <a:pt x="722" y="246"/>
                </a:cubicBezTo>
                <a:cubicBezTo>
                  <a:pt x="871" y="507"/>
                  <a:pt x="911" y="873"/>
                  <a:pt x="803" y="1247"/>
                </a:cubicBezTo>
                <a:cubicBezTo>
                  <a:pt x="695" y="1624"/>
                  <a:pt x="461" y="1925"/>
                  <a:pt x="189" y="2081"/>
                </a:cubicBezTo>
                <a:cubicBezTo>
                  <a:pt x="127" y="2116"/>
                  <a:pt x="64" y="2144"/>
                  <a:pt x="0" y="2164"/>
                </a:cubicBezTo>
                <a:cubicBezTo>
                  <a:pt x="111" y="2164"/>
                  <a:pt x="111" y="2164"/>
                  <a:pt x="111" y="2164"/>
                </a:cubicBezTo>
                <a:cubicBezTo>
                  <a:pt x="144" y="2149"/>
                  <a:pt x="177" y="2132"/>
                  <a:pt x="209" y="2113"/>
                </a:cubicBezTo>
                <a:cubicBezTo>
                  <a:pt x="481" y="1952"/>
                  <a:pt x="715" y="1642"/>
                  <a:pt x="823" y="1253"/>
                </a:cubicBezTo>
                <a:close/>
              </a:path>
            </a:pathLst>
          </a:cu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5"/>
          </p:nvPr>
        </p:nvSpPr>
        <p:spPr>
          <a:xfrm>
            <a:off x="7913520" y="611172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6"/>
          </p:nvPr>
        </p:nvSpPr>
        <p:spPr>
          <a:xfrm>
            <a:off x="7913520" y="647208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245880" y="712440"/>
            <a:ext cx="86914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ldNum" idx="7"/>
          </p:nvPr>
        </p:nvSpPr>
        <p:spPr>
          <a:xfrm>
            <a:off x="7918200" y="62449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9275-E621-4EBC-A8B0-C6DB2EA8FA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title"/>
          </p:nvPr>
        </p:nvSpPr>
        <p:spPr>
          <a:xfrm>
            <a:off x="23400" y="259920"/>
            <a:ext cx="7599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03360" y="1320480"/>
            <a:ext cx="613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bdf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bdf5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0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11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2"/>
          </p:nvPr>
        </p:nvSpPr>
        <p:spPr>
          <a:xfrm>
            <a:off x="7885080" y="6244920"/>
            <a:ext cx="1106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C2F7-3191-4359-A0AE-131CD1AEA3B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390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245880" y="1341000"/>
            <a:ext cx="869148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ldNum" idx="13"/>
          </p:nvPr>
        </p:nvSpPr>
        <p:spPr>
          <a:xfrm>
            <a:off x="7918200" y="62449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6E73-B0BE-4061-9A40-14A750D5F8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4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5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title"/>
          </p:nvPr>
        </p:nvSpPr>
        <p:spPr>
          <a:xfrm>
            <a:off x="23400" y="259920"/>
            <a:ext cx="7599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212400" y="712440"/>
            <a:ext cx="86914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ldNum" idx="16"/>
          </p:nvPr>
        </p:nvSpPr>
        <p:spPr>
          <a:xfrm>
            <a:off x="7918200" y="62449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A760-403B-4967-B23F-BD9FF9F536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title"/>
          </p:nvPr>
        </p:nvSpPr>
        <p:spPr>
          <a:xfrm>
            <a:off x="23400" y="37800"/>
            <a:ext cx="7599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39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dt" idx="19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ftr" idx="20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21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51C2-0CFD-46FD-8746-8E3C2FD8BD31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1"/>
          <a:stretch/>
        </p:blipFill>
        <p:spPr>
          <a:xfrm>
            <a:off x="66600" y="189000"/>
            <a:ext cx="9010800" cy="62856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5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2"/>
    <p:sldLayoutId id="2147483728" r:id="rId13"/>
    <p:sldLayoutId id="2147483729" r:id="rId14"/>
    <p:sldLayoutId id="2147483730" r:id="rId15"/>
    <p:sldLayoutId id="2147483731" r:id="rId16"/>
    <p:sldLayoutId id="2147483732" r:id="rId17"/>
    <p:sldLayoutId id="2147483733" r:id="rId18"/>
    <p:sldLayoutId id="2147483734" r:id="rId19"/>
    <p:sldLayoutId id="2147483735" r:id="rId20"/>
    <p:sldLayoutId id="2147483736" r:id="rId21"/>
    <p:sldLayoutId id="2147483737" r:id="rId22"/>
    <p:sldLayoutId id="2147483738" r:id="rId2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2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23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4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D919-914A-4A1E-A7B3-BD6C24A300ED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33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"/>
          <p:cNvGrpSpPr/>
          <p:nvPr/>
        </p:nvGrpSpPr>
        <p:grpSpPr>
          <a:xfrm>
            <a:off x="1258920" y="1268280"/>
            <a:ext cx="7443720" cy="5281920"/>
            <a:chOff x="1258920" y="1268280"/>
            <a:chExt cx="7443720" cy="5281920"/>
          </a:xfrm>
        </p:grpSpPr>
        <p:sp>
          <p:nvSpPr>
            <p:cNvPr id="393" name=""/>
            <p:cNvSpPr txBox="1"/>
            <p:nvPr/>
          </p:nvSpPr>
          <p:spPr>
            <a:xfrm>
              <a:off x="1258920" y="1268280"/>
              <a:ext cx="6624720" cy="165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生的食物和熟的食物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394" name=""/>
            <p:cNvSpPr txBox="1"/>
            <p:nvPr/>
          </p:nvSpPr>
          <p:spPr>
            <a:xfrm>
              <a:off x="6010200" y="6165720"/>
              <a:ext cx="2692440" cy="38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幼圆"/>
                </a:rPr>
                <a:t>整理者：浙江省建德市新安江第一小学 秦爱军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幼圆"/>
                <a:ea typeface="幼圆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11280" y="2205000"/>
            <a:ext cx="7416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、仔细</a:t>
            </a:r>
            <a:r>
              <a:rPr b="1" lang="zh-CN" sz="3600" spc="-1" strike="noStrike" u="sng">
                <a:solidFill>
                  <a:srgbClr val="ff33cc"/>
                </a:solidFill>
                <a:uFillTx/>
                <a:latin typeface="Arial"/>
              </a:rPr>
              <a:t>看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及时</a:t>
            </a:r>
            <a:r>
              <a:rPr b="1" lang="zh-CN" sz="3600" spc="-1" strike="noStrike" u="sng">
                <a:solidFill>
                  <a:srgbClr val="ff33cc"/>
                </a:solidFill>
                <a:uFillTx/>
                <a:latin typeface="Arial"/>
              </a:rPr>
              <a:t>记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，适时取出玉米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、要用灯帽</a:t>
            </a:r>
            <a:r>
              <a:rPr b="1" lang="zh-CN" sz="3600" spc="-1" strike="noStrike" u="sng">
                <a:solidFill>
                  <a:srgbClr val="ff33cc"/>
                </a:solidFill>
                <a:uFillTx/>
                <a:latin typeface="Arial"/>
              </a:rPr>
              <a:t>盖灭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酒精灯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</a:rPr>
              <a:t>不要碰到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铁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00000" y="90792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实验提示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539640" y="189000"/>
            <a:ext cx="2737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考考你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22" name=""/>
          <p:cNvSpPr/>
          <p:nvPr/>
        </p:nvSpPr>
        <p:spPr>
          <a:xfrm>
            <a:off x="4643280" y="836640"/>
            <a:ext cx="249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判断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79280" y="2349360"/>
            <a:ext cx="8713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为了保证人体对营养的吸收，有的食物适宜生吃，有的食物适宜熟吃。（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高温加热会破坏食物中的营养成分，所以食物应该以生吃为主。（  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蛋白质和脂肪加热后，变得容易被人体消化和吸收。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生吃食物和熟吃食物各有优势和不足。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06320" y="175680"/>
            <a:ext cx="18496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空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4000" y="105264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食物中的（            ）和（        ）在加热后会发生变化，变得容易被人体（        ）和（         ），而且熟的食物比较松软，也容易被消化。但是食物在这样的加工过程中，营养会有一些损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生的食物会保留自身的营养成分，特别是（        ）不会被破坏。所以采用生食的方法能够减少营养的损失，但是生吃食物一定要注意（     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611280" y="0"/>
            <a:ext cx="66247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通过今天的学习与实验，你有什么收获？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48000" cy="33480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6288120" y="3716280"/>
            <a:ext cx="2855880" cy="31417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0" y="3384720"/>
            <a:ext cx="4643280" cy="34732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4643280" y="0"/>
            <a:ext cx="4500720" cy="3436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2"/>
          <a:srcRect l="30273" t="46794" r="32738" b="17901"/>
          <a:stretch/>
        </p:blipFill>
        <p:spPr>
          <a:xfrm>
            <a:off x="0" y="3716280"/>
            <a:ext cx="4284720" cy="31417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5076720" y="0"/>
            <a:ext cx="3348000" cy="33480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5076720" y="3670200"/>
            <a:ext cx="4067280" cy="31878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248000" cy="3332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2"/>
          <a:srcRect l="13000" t="15335" r="13000" b="15335"/>
          <a:stretch/>
        </p:blipFill>
        <p:spPr>
          <a:xfrm>
            <a:off x="0" y="0"/>
            <a:ext cx="4476600" cy="34574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rcRect l="1760" t="3748" r="4438" b="8756"/>
          <a:stretch/>
        </p:blipFill>
        <p:spPr>
          <a:xfrm>
            <a:off x="0" y="3443400"/>
            <a:ext cx="4495680" cy="34146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4495680" y="3465360"/>
            <a:ext cx="4648320" cy="33926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5"/>
          <a:srcRect l="17215" t="21181" r="20227" b="16929"/>
          <a:stretch/>
        </p:blipFill>
        <p:spPr>
          <a:xfrm>
            <a:off x="4467240" y="0"/>
            <a:ext cx="4676760" cy="34686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209680" y="2286000"/>
            <a:ext cx="62485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哪些是生吃的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哪些是熟吃的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179280" y="1773360"/>
          <a:ext cx="8496360" cy="3527280"/>
        </p:xfrm>
        <a:graphic>
          <a:graphicData uri="http://schemas.openxmlformats.org/drawingml/2006/table">
            <a:tbl>
              <a:tblPr/>
              <a:tblGrid>
                <a:gridCol w="1825560"/>
                <a:gridCol w="3287880"/>
                <a:gridCol w="3382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生的马铃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     </a:t>
                      </a: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熟的马铃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软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气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</a:tbl>
          </a:graphicData>
        </a:graphic>
      </p:graphicFrame>
      <p:sp>
        <p:nvSpPr>
          <p:cNvPr id="409" name=""/>
          <p:cNvSpPr txBox="1"/>
          <p:nvPr/>
        </p:nvSpPr>
        <p:spPr>
          <a:xfrm>
            <a:off x="468360" y="476280"/>
            <a:ext cx="8229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与生的马铃薯比较，熟的马铃薯有哪些变化？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观察比较生、熟马铃薯</a:t>
            </a:r>
            <a:br>
              <a:rPr sz="2800"/>
            </a:b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实验注意事项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58560" y="2060640"/>
            <a:ext cx="87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、充分利用你们的感官去观察，比如通过看、闻、尝、摸等方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、使用小刀时一定要注意安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、四人小组互相合作，边观察边记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、实验完成后整理好实验器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68360" y="184464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马铃薯中含有</a:t>
            </a:r>
            <a:r>
              <a:rPr b="0" lang="zh-CN" sz="3600" spc="-1" strike="noStrike">
                <a:solidFill>
                  <a:srgbClr val="ff33cc"/>
                </a:solidFill>
                <a:latin typeface="Arial"/>
              </a:rPr>
              <a:t>龙葵素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它是一种对人体有害的生物碱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平时马铃薯中含量极微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一旦马铃薯发芽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芽眼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芽根和变绿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溃烂的地方龙葵素的含量急剧增高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可高出平时含量的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40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70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倍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人吃了这种发芽的马铃薯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轻者恶心呕吐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腹痛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腹泻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重者可出现脱水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血压下降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呼吸困难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昏迷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抽搐等现象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33cc"/>
                </a:solidFill>
                <a:latin typeface="Arial"/>
              </a:rPr>
              <a:t>严重者还可因心肺麻痹而死亡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268360" y="620640"/>
            <a:ext cx="504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发芽的马铃薯为什么不宜吃？</a:t>
            </a:r>
            <a:endParaRPr b="0" lang="en-US" sz="2400" spc="1" strike="noStrike">
              <a:ln w="0">
                <a:noFill/>
              </a:ln>
              <a:solidFill>
                <a:srgbClr val="ff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24000" y="333360"/>
            <a:ext cx="158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小资料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603600" y="936720"/>
            <a:ext cx="5540400" cy="59212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24000" y="0"/>
            <a:ext cx="338436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烧烤玉米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1332000" y="981000"/>
          <a:ext cx="6624720" cy="3384720"/>
        </p:xfrm>
        <a:graphic>
          <a:graphicData uri="http://schemas.openxmlformats.org/drawingml/2006/table">
            <a:tbl>
              <a:tblPr/>
              <a:tblGrid>
                <a:gridCol w="1422360"/>
                <a:gridCol w="5202360"/>
              </a:tblGrid>
              <a:tr h="109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方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记录玉米粒到玉米花的变化过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爆玉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                               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                               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                               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>
            <a:off x="1835280" y="2602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从玉米粒到玉米花记录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3:07:09Z</dcterms:created>
  <dc:creator>xlzx</dc:creator>
  <dc:description/>
  <dc:language>en-US</dc:language>
  <cp:lastModifiedBy>微软用户</cp:lastModifiedBy>
  <dcterms:modified xsi:type="dcterms:W3CDTF">2010-02-19T10:22:12Z</dcterms:modified>
  <cp:revision>46</cp:revision>
  <dc:subject/>
  <dc:title>《生的食物和熟的食物》</dc:title>
</cp:coreProperties>
</file>