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5.png" ContentType="image/pn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B74F-FAC8-46EF-B394-719BD015D7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0E5-F327-4DE0-B980-1C1247CA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B93-2B96-4889-B9A3-818C2B4E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EF7-A599-4F40-9AB0-9AE115DD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D45-B80A-42B2-B9F3-40C2FE69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EA6-DADA-4C18-BFE5-07255FE1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9300-AD14-4B48-8359-24A83451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3A08-9845-45A7-940A-F000A172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BBCD-C265-4B64-808A-6A68FB46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9A4E-2F26-414E-BB7F-897F81A1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A05B-5FC4-4F59-A7FE-8506EF92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91E-968A-43FC-B920-A1F05239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0655-5E2D-48F5-B414-423A00C2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4686-F0C9-4F29-B8B5-3F3B191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10F2-DD6D-4CAE-BFF2-7C1F33B8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57CA-71E8-44B0-9534-554E35C0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6B21-D993-4A0D-8A0B-B4ECA412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0D27-4DF7-47EB-A3EF-E02FA42F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855E-412D-4B5E-B72C-CBA3E265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E07CC-7288-4033-97BA-5C193DB4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5A4D2-5EDB-48B3-A141-C6A4325B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D7880-39BA-49D2-8E46-0865A1A5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838-A0EC-4E5A-BF65-29DC34B7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F2D87-39C4-469F-A574-3C2A4C51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FFC84-07CE-4277-8A5B-FBBA9E7B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C2DA1-5594-4E65-A6AD-3CB70D1B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93E5B-3904-4E98-A44A-60CE9862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D208B-18F8-4F6F-8763-A3DC6E00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8C87C-B26C-4A7D-9847-D50367CD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20F6-1E12-4CDF-8528-3FB7724C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0419-172C-4EB7-B6D9-6DC1111B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9FADA-6B93-4C8B-9CD9-4D2DD07C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DAD-EDC1-4CF5-9E6E-8D68DE42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AF7-4717-41B8-BFC2-ECA2AEF7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9C8-0DD2-4ABE-8F15-AFCB5468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441-5505-4FA0-B9B5-527894A0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4AB-609D-4493-908E-F3822DED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508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e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56636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3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3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03560" y="613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18920" y="6130440"/>
            <a:ext cx="475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78920" y="6135840"/>
            <a:ext cx="684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314A-1523-4E9A-9B50-D9CC8CCE77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160" y="1983960"/>
            <a:ext cx="8999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DE02-C8FA-4C92-86CB-99134D2BA59E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8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9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4ABB-360D-41B7-9ED0-C82A34C64957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7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63640" y="836640"/>
            <a:ext cx="5400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面包发霉了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124000" y="2781360"/>
            <a:ext cx="6804000" cy="4076640"/>
            <a:chOff x="2124000" y="2781360"/>
            <a:chExt cx="6804000" cy="407664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2124000" y="2781360"/>
              <a:ext cx="392436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 txBox="1"/>
            <p:nvPr/>
          </p:nvSpPr>
          <p:spPr>
            <a:xfrm>
              <a:off x="5508720" y="6568920"/>
              <a:ext cx="34192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1" strike="noStrike">
                  <a:ln w="0">
                    <a:noFill/>
                  </a:ln>
                  <a:solidFill>
                    <a:srgbClr val="80008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建德市新安江第一小学 秦爱军</a:t>
              </a:r>
              <a:endParaRPr b="0" lang="en-US" sz="1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981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观察发霉的面包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77336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直接观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2449440"/>
            <a:ext cx="3168720" cy="2536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00720" y="2538360"/>
            <a:ext cx="4248000" cy="2554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26920" y="544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原来面包上长了许多霉菌。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）、用放大镜和显微镜观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1268280"/>
            <a:ext cx="3311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148360" cy="411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92720" y="1052640"/>
            <a:ext cx="3263760" cy="4537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84360" y="5300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霉菌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5661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菌丝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88760" y="1197000"/>
            <a:ext cx="1155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ahoma"/>
              </a:rPr>
              <a:t>孢子囊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17622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32440" y="4941720"/>
            <a:ext cx="459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92800" y="5013360"/>
            <a:ext cx="459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524720" y="4797360"/>
            <a:ext cx="0" cy="1008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176220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18334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732360" y="1916280"/>
            <a:ext cx="18716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23736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我们还在什么物品上看到过霉菌</a:t>
            </a:r>
            <a:r>
              <a:rPr b="0" lang="zh-CN" sz="3200" spc="-1" strike="noStrike">
                <a:solidFill>
                  <a:srgbClr val="cc0000"/>
                </a:solidFill>
                <a:latin typeface="Tahoma"/>
              </a:rPr>
              <a:t>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50920" y="333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）、哪一块面包上的霉菌生长得快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12536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实验：（四块面包，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用牙签在每块面包上放一些霉菌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2637000"/>
            <a:ext cx="856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使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第一块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面包保持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干燥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，在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第二块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面包上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滴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滴水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，分别装在两个塑料袋里，用线扎紧袋口后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放在桌上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195640" y="4437000"/>
            <a:ext cx="2303280" cy="2216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2143080" cy="230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1253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在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三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和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四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上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都滴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滴水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，也分别装在两个塑料袋里，并扎紧袋口。然后，把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三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放进冰箱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，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四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放到温度较高的地方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68360" y="3789360"/>
            <a:ext cx="6234120" cy="3068640"/>
            <a:chOff x="2268360" y="3789360"/>
            <a:chExt cx="6234120" cy="306864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2268360" y="3789360"/>
              <a:ext cx="317664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5435640" y="3790800"/>
              <a:ext cx="3066840" cy="306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5640" y="460440"/>
            <a:ext cx="7920000" cy="639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360" y="404640"/>
            <a:ext cx="244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讨论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9280" y="1700280"/>
            <a:ext cx="83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r>
              <a:rPr b="0" lang="zh-CN" sz="32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这两组面包中，哪一块面包上的霉菌生长得快？</a:t>
            </a:r>
            <a:endParaRPr b="0" lang="en-US" sz="32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3213000"/>
            <a:ext cx="705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研究光对霉菌生长的影响</a:t>
            </a:r>
            <a:endParaRPr b="0" lang="en-US" sz="18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5445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面包等食物放久了有的要长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霉菌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霉菌生长需要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湿润、温暖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的环境，也需要获取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营养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。</a:t>
            </a: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258920" y="260280"/>
            <a:ext cx="237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考考你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57160" cy="1874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332000" y="3933720"/>
            <a:ext cx="7667640" cy="1618560"/>
          </a:xfrm>
          <a:prstGeom prst="rect">
            <a:avLst/>
          </a:prstGeom>
          <a:solidFill>
            <a:srgbClr val="1ebde1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判断题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1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食物在保存的过程中也会发生变化。（ 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2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食物在霉变过程中产生的霉菌含有对人体有害的物质。（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3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已经发霉的食物，扔掉可惜，洗一洗就可以吃了。（ 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4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我们把第一块面包放在干燥、常温的地方，把第二块面包放在潮湿常温的地方，是为了研究水分对霉菌生长速度的影响。（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1341360"/>
            <a:ext cx="7885080" cy="1130400"/>
          </a:xfrm>
          <a:prstGeom prst="rect">
            <a:avLst/>
          </a:prstGeom>
          <a:solidFill>
            <a:srgbClr val="1ebde1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填空：</a:t>
            </a:r>
            <a:endParaRPr b="0" lang="en-US" sz="2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面包发霉是因为在它的上面生长了一种生物——（     ），与其他生物一样，它的生长需要获取（      ）和适宜的（         ）。因为霉变过程中产生的（         ）含有对人体有害的物质，所以发霉变质的食物是绝对（      ）食用的。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116000" y="1268280"/>
            <a:ext cx="7380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想一想，除了面包以外，还有哪些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食物在存放过程中会变质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3:24:56Z</dcterms:created>
  <dc:creator>雨林木风</dc:creator>
  <dc:description/>
  <dc:language>en-US</dc:language>
  <cp:lastModifiedBy>微软用户</cp:lastModifiedBy>
  <dcterms:modified xsi:type="dcterms:W3CDTF">2010-02-19T10:24:44Z</dcterms:modified>
  <cp:revision>11</cp:revision>
  <dc:subject/>
  <dc:title>幻灯片 1</dc:title>
</cp:coreProperties>
</file>