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C0EA-26C9-4E02-848D-D925E46BD0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BAA-E942-4745-B9AB-E6FCC31A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728-5A8F-4D55-A245-2AC120AA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761-6185-4EA9-80FD-767388CC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359-5349-44B3-801C-9CF906BE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80F-5790-4646-A393-C8F60277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3DD4-7BF1-4826-8623-D88A14BE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B755-836B-42B2-AABF-ECB4BCF9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4916-E8FA-4082-889A-917FE01D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FB49-E634-449B-BECB-76C1449C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88FB-048F-4292-B2DC-6DE8030C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185-219E-4850-8306-EB25B79D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E002-52BE-4D0D-A32C-FE54AD94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822A-4050-444B-99C6-6BD9A0A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6A19-C6F2-40B6-BF4C-3DAC731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84B-707D-475A-8216-E469568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C9E4-3CEE-4F4E-8D75-0ABBD950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91B-02D3-4D68-8681-3BFE6BC3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F8DB-CB98-43FF-B1F9-AA69D496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609F-2124-451C-AABC-1E8DB54D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4F1A-EB56-4E54-AF67-30E4588E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E8EA-E405-40F5-89C1-58DACC50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7D6-05EE-42C4-BC77-D43E11B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FA47-89E4-4762-BDEC-8639A4F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0159-AFA7-44B2-8C6C-6B52CA1B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5BF7-2E72-4261-A041-1AEEF68A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B029-A495-4AAE-8BE8-4260B58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7E94-F012-4832-8EFD-1C61D3E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9308-F642-420E-A341-EF0FA713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4A13-6984-40DA-B978-B58C776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7E48-1732-4878-9E56-54595681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65F6-4AD1-4C0B-8466-D9E18D53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93D-31E4-4375-9245-07F0559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BED-E706-4F32-9D28-D98A20C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7A0-78B5-4A34-B02A-301E62B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9AA-711A-4CC9-A663-8BA26B0D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0AD-0413-45D1-9FC4-6A371A4E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e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6636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3560" y="613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18920" y="613044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135840"/>
            <a:ext cx="684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AD9-A606-471F-9A08-739B317A52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60" y="1983960"/>
            <a:ext cx="8999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3947-C3DA-4A93-B469-39A0C332040F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92EF-E2B4-487C-B155-206CCE2D7EE4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63640" y="83664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面包发霉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24000" y="2781360"/>
            <a:ext cx="6804000" cy="4076640"/>
            <a:chOff x="2124000" y="2781360"/>
            <a:chExt cx="6804000" cy="40766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124000" y="2781360"/>
              <a:ext cx="392436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508720" y="6568920"/>
              <a:ext cx="34192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建德市新安江第一小学 秦爱军</a:t>
              </a:r>
              <a:endParaRPr b="0" lang="en-US" sz="1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观察发霉的面包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直接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244944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0720" y="2538360"/>
            <a:ext cx="4248000" cy="255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原来面包上长了许多霉菌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）、用放大镜和显微镜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268280"/>
            <a:ext cx="33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411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263760" cy="453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霉菌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菌丝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8760" y="119700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孢子囊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7622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2440" y="4941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92800" y="501336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24720" y="4797360"/>
            <a:ext cx="0" cy="100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17622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8334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732360" y="1916280"/>
            <a:ext cx="18716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）、哪一块面包上的霉菌生长得快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实验：（四块面包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用牙签在每块面包上放一些霉菌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56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使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一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保持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干燥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在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二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分别装在两个塑料袋里，用线扎紧袋口后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放在桌上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2303280" cy="221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143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125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在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都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也分别装在两个塑料袋里，并扎紧袋口。然后，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进冰箱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到温度较高的地方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8360" y="3789360"/>
            <a:ext cx="6234120" cy="3068640"/>
            <a:chOff x="2268360" y="3789360"/>
            <a:chExt cx="6234120" cy="3068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268360" y="3789360"/>
              <a:ext cx="3176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35640" y="3790800"/>
              <a:ext cx="306684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460440"/>
            <a:ext cx="7920000" cy="639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404640"/>
            <a:ext cx="24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700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这两组面包中，哪一块面包上的霉菌生长得快？</a:t>
            </a:r>
            <a:endParaRPr b="0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3213000"/>
            <a:ext cx="705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研究光对霉菌生长的影响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4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面包等食物放久了有的要长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霉菌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霉菌生长需要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湿润、温暖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环境，也需要获取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营养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26028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7160" cy="187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32000" y="3933720"/>
            <a:ext cx="7667640" cy="161856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判断题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保存的过程中也会发生变化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霉变过程中产生的霉菌含有对人体有害的物质。（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已经发霉的食物，扔掉可惜，洗一洗就可以吃了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我们把第一块面包放在干燥、常温的地方，把第二块面包放在潮湿常温的地方，是为了研究水分对霉菌生长速度的影响。（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341360"/>
            <a:ext cx="7885080" cy="113040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填空：</a:t>
            </a:r>
            <a:endParaRPr b="0" lang="en-US" sz="2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面包发霉是因为在它的上面生长了一种生物——（     ），与其他生物一样，它的生长需要获取（      ）和适宜的（         ）。因为霉变过程中产生的（         ）含有对人体有害的物质，所以发霉变质的食物是绝对（      ）食用的。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16000" y="1268280"/>
            <a:ext cx="73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除了面包以外，还有哪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食物在存放过程中会变质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4:56Z</dcterms:created>
  <dc:creator>雨林木风</dc:creator>
  <dc:description/>
  <dc:language>en-US</dc:language>
  <cp:lastModifiedBy>微软用户</cp:lastModifiedBy>
  <dcterms:modified xsi:type="dcterms:W3CDTF">2010-02-19T10:24:44Z</dcterms:modified>
  <cp:revision>11</cp:revision>
  <dc:subject/>
  <dc:title>幻灯片 1</dc:title>
</cp:coreProperties>
</file>