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png" ContentType="image/pn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1AA9-07B9-41B7-A29C-2A090D1579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C56-BC82-4E20-81F5-C9245AA4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C18-A8D3-4820-AF94-853BD73B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7ED-AC77-4640-8B9C-E3D1F815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9E5-85AA-4416-95C2-3CC7F93A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F3A-03E4-41AA-8CD3-F19C0EDA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DFC9-6BAA-4757-93EF-7F2B3E8B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54AC-6B4C-4259-9D06-177392DE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7951-1733-4C3A-8096-BD6563A3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D5C9-C04C-4146-8FA9-9F15C867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ABD1-AF38-4E61-97B7-04C9AE4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774-6BB4-4AB4-A336-B0CAA01F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4B4A-326A-4FB1-9E95-1F7500B9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D857-7135-462F-9E75-045C7C4D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C9B2-5EB4-4A99-B935-FD4608C0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E4C5-39E2-4E25-A707-C33B11EC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B276-34AB-410D-9FF1-2B769211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518B-34F8-42E2-9BC0-6E40FBCE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CD9E-2A79-455B-A877-B7039016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C717-F9DD-4D0D-A07E-27EAA444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8A56-3A70-44EC-9420-2CD5FF5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D64F-1385-430D-B89C-8A39E6A1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542-E820-425D-BE0A-056094F3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86DD-5C39-47AC-A8AD-937431E0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3BB9-9E58-4927-BCB4-1E1042AD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78FF-4338-41EB-9ED9-B822FA9B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88C2-3BFE-470A-8A61-94A4CD0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D788-F921-4246-80BF-EEEC7A3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EF31-857B-4CC5-999E-C2B11B41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9EAD-E544-4D3B-8EEE-3ABE517A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930A1-61AD-40E3-952C-3454E00D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0A8D-6063-4F3E-B1E7-66C7BACD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A42-A6D4-435A-9AA7-321B5D9F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1F0-C22F-4C6C-ABB4-D54A2320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8AE-9B56-4A82-9041-728C4DD1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147-2A04-41F9-A737-113F58D6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2B3-2C98-409E-8F6F-2623AA1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e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56636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3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03560" y="613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18920" y="6130440"/>
            <a:ext cx="475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78920" y="6135840"/>
            <a:ext cx="684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B78A-CD59-42B9-B7D1-76B419E8F2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160" y="1983960"/>
            <a:ext cx="8999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22EB-B004-493B-9241-EE74F6820B33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8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9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EAC0-68F7-4060-82CD-06C4AD74787D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63640" y="83664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面包发霉了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24000" y="2781360"/>
            <a:ext cx="6804000" cy="4076640"/>
            <a:chOff x="2124000" y="2781360"/>
            <a:chExt cx="6804000" cy="40766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2124000" y="2781360"/>
              <a:ext cx="392436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508720" y="6568920"/>
              <a:ext cx="34192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w="0">
                    <a:noFill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建德市新安江第一小学 秦爱军</a:t>
              </a:r>
              <a:endParaRPr b="0" lang="en-US" sz="1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981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观察发霉的面包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7336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直接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2449440"/>
            <a:ext cx="3168720" cy="2536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00720" y="2538360"/>
            <a:ext cx="4248000" cy="2554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2692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原来面包上长了许多霉菌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1ebde1"/>
                </a:solidFill>
                <a:latin typeface="Tahoma"/>
              </a:rPr>
              <a:t>）、用放大镜和显微镜观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268280"/>
            <a:ext cx="331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4118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263760" cy="453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530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霉菌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66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菌丝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88760" y="119700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孢子囊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17622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32440" y="4941720"/>
            <a:ext cx="459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92800" y="5013360"/>
            <a:ext cx="459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524720" y="4797360"/>
            <a:ext cx="0" cy="100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176220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8334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732360" y="1916280"/>
            <a:ext cx="18716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237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我们还在什么物品上看到过霉菌</a:t>
            </a:r>
            <a:r>
              <a:rPr b="0" lang="zh-CN" sz="3200" spc="-1" strike="noStrike">
                <a:solidFill>
                  <a:srgbClr val="cc000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0920" y="33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）、哪一块面包上的霉菌生长得快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125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实验：（四块面包，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用牙签在每块面包上放一些霉菌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637000"/>
            <a:ext cx="856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使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一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保持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干燥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在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第二块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分别装在两个塑料袋里，用线扎紧袋口后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放在桌上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32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95640" y="4437000"/>
            <a:ext cx="2303280" cy="2216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14308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125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●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在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都滴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滴水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也分别装在两个塑料袋里，并扎紧袋口。然后，把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三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进冰箱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第四块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面包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放到温度较高的地方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8360" y="3789360"/>
            <a:ext cx="6234120" cy="3068640"/>
            <a:chOff x="2268360" y="3789360"/>
            <a:chExt cx="6234120" cy="30686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268360" y="3789360"/>
              <a:ext cx="317664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5435640" y="3790800"/>
              <a:ext cx="3066840" cy="306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460440"/>
            <a:ext cx="7920000" cy="639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404640"/>
            <a:ext cx="244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700280"/>
            <a:ext cx="83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r>
              <a:rPr b="0" lang="zh-CN" sz="32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这两组面包中，哪一块面包上的霉菌生长得快？</a:t>
            </a:r>
            <a:endParaRPr b="0" lang="en-US" sz="32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3213000"/>
            <a:ext cx="705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研究光对霉菌生长的影响</a:t>
            </a:r>
            <a:endParaRPr b="0" lang="en-US" sz="18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544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面包等食物放久了有的要长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霉菌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霉菌生长需要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湿润、温暖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环境，也需要获取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营养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58920" y="260280"/>
            <a:ext cx="237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考考你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7160" cy="1874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32000" y="3933720"/>
            <a:ext cx="7667640" cy="161856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判断题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保存的过程中也会发生变化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食物在霉变过程中产生的霉菌含有对人体有害的物质。（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已经发霉的食物，扔掉可惜，洗一洗就可以吃了。（ 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1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我们把第一块面包放在干燥、常温的地方，把第二块面包放在潮湿常温的地方，是为了研究水分对霉菌生长速度的影响。（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       ）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341360"/>
            <a:ext cx="7885080" cy="1130400"/>
          </a:xfrm>
          <a:prstGeom prst="rect">
            <a:avLst/>
          </a:prstGeom>
          <a:solidFill>
            <a:srgbClr val="1ebde1"/>
          </a:soli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填空：</a:t>
            </a:r>
            <a:endParaRPr b="0" lang="en-US" sz="2800" spc="-1" strike="noStrike">
              <a:solidFill>
                <a:srgbClr val="00003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面包发霉是因为在它的上面生长了一种生物——（     ），与其他生物一样，它的生长需要获取（      ）和适宜的（         ）。因为霉变过程中产生的（         ）含有对人体有害的物质，所以发霉变质的食物是绝对（      ）食用的。</a:t>
            </a:r>
            <a:endParaRPr b="0" lang="en-US" sz="2000" spc="-1" strike="noStrike">
              <a:solidFill>
                <a:srgbClr val="00003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116000" y="1268280"/>
            <a:ext cx="7380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，除了面包以外，还有哪些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食物在存放过程中会变质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24:56Z</dcterms:created>
  <dc:creator>雨林木风</dc:creator>
  <dc:description/>
  <dc:language>en-US</dc:language>
  <cp:lastModifiedBy>微软用户</cp:lastModifiedBy>
  <dcterms:modified xsi:type="dcterms:W3CDTF">2010-02-19T10:24:44Z</dcterms:modified>
  <cp:revision>11</cp:revision>
  <dc:subject/>
  <dc:title>幻灯片 1</dc:title>
</cp:coreProperties>
</file>