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7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31C-FC4A-4934-9835-5F87D965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1A0-D740-4228-B080-8D62EA59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BD4-15DF-46FF-91FF-EB36B37A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12A-4155-4016-8758-C6262575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1E59-C8BD-4BD2-901F-BEBA9B54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B8E0-C20F-49F4-AAED-90B330E1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F95C-E3A4-413A-BB46-7D198754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97FB-E9CF-4994-8D76-D0367123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7C0E-117C-4B1B-BAA9-930BE032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E986-416D-446D-949A-9BC3517D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9A8F-50D5-42C9-A755-B5C93561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581-EBE5-479E-B0AE-D2A0B9B4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B375-B4B5-4481-8C40-9BD220C7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A538-F54B-459C-B0FC-F49F8FC2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5BA9-D113-418B-B82F-A10F6FC7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69C0-7036-480B-BB55-3A4E95FE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7D5D-38AB-4D7A-A434-43EF432C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9C83-6DC2-4370-90C2-9C85C79E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1B8-90E3-47E1-A92A-588BC85D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CC4-4B2E-4CCF-89C8-EB69588E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2A5-179A-464A-B6CE-6F7FB03F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3CA-913E-4D26-8EFD-B8A5FFF5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1F7-D2E9-4955-A951-CB682CBA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E4F-28FB-4B41-93EC-456A0C7B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0A57-FA8A-454D-B01B-46090B984B3C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538360"/>
            <a:ext cx="6406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6444-1554-426D-8035-1858803F63ED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87280" y="620640"/>
            <a:ext cx="6840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6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、减慢食物变质的速度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00720" y="6381720"/>
            <a:ext cx="4432320" cy="1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整理者：建德市新安江第一小学 秦爱军</a:t>
            </a:r>
            <a:endParaRPr b="0" lang="en-US" sz="20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68360" y="90792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一、观察变质的食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20500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你吃过鱼干吗？味道怎样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96000" y="3278160"/>
            <a:ext cx="4248000" cy="357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7632720" cy="207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62064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新鲜的小鱼干和腐败的小鱼、干面包和发馊的面包，有哪些不同的地方？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3781440" cy="327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3429000"/>
            <a:ext cx="7632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、小鱼为什么在短时间里腐败了？鱼干为什么能长时间地保持好闻的气味？</a:t>
            </a:r>
            <a:endParaRPr b="0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62864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、腐败的小鱼、发馊的面条与发霉的面包有哪些相似的地方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260280"/>
            <a:ext cx="172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4000" y="18900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、储存食物的各种方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4130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我们已经知道引起食物变质需要有一定的空气、水分和温度等条件，如果要储存一条新鲜的小鱼，可以用什么方法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997360"/>
            <a:ext cx="84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小组讨论交流，并说说运用这种方法储存食物的理由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393372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食品罐头为什么可以用这种方法能储存食物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4653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你还知道哪些储存食物的方法？为什么这些方法能减慢食物变质的速度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95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讨论：你还能用什么方法来储存食物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24360" y="0"/>
            <a:ext cx="2448000" cy="1968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24360" y="1989000"/>
            <a:ext cx="2448000" cy="1511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24360" y="3500280"/>
            <a:ext cx="237672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6000" y="4869000"/>
            <a:ext cx="2376360" cy="1290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69120" y="2637000"/>
            <a:ext cx="5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晒成鱼干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40560" y="4005360"/>
            <a:ext cx="5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3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用盐腌成咸鱼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71880" y="537372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做成罐头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40560" y="1125360"/>
            <a:ext cx="6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放进冰箱冷冻</a:t>
            </a: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0"/>
            <a:ext cx="3673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储存一条鱼的方法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2100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 Narrow"/>
              </a:rPr>
              <a:t>同一种食物，我们可以用多种不同的方法来减慢它的变质速度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5075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判断题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食物的腐败变质是由微生物的大量繁殖引起的。（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微生物的生长与繁殖，需要空气、水分和适宜的温度。（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闻变质食物的气味时，要扇闻，并尽量少闻。（  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用冷冻、晒干、真空包装等方法，能减慢食物变质的速度。其原因是破坏了微生物生长所需的条件。（  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260280"/>
            <a:ext cx="352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考考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206960"/>
            <a:ext cx="8280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填空：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◆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食物的腐败变质是（            ）引起的。使面包发霉的</a:t>
            </a:r>
            <a:r>
              <a:rPr b="0" lang="zh-CN" sz="2000" spc="-1" strike="noStrike">
                <a:solidFill>
                  <a:srgbClr val="ff00ff"/>
                </a:solidFill>
                <a:latin typeface="Arial Narrow"/>
              </a:rPr>
              <a:t>霉菌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就是（        ），还有许多肉眼看不见、用放大镜也看不见的</a:t>
            </a:r>
            <a:r>
              <a:rPr b="0" lang="zh-CN" sz="2000" spc="-1" strike="noStrike">
                <a:solidFill>
                  <a:srgbClr val="ff00ff"/>
                </a:solidFill>
                <a:latin typeface="Arial Narrow"/>
              </a:rPr>
              <a:t>细菌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，也是（           ）。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◆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微生物的生长与繁殖和植物、动物一样，需要一定的条件。在（         ）的环境里，它们能很快地繁殖。越来越多的微生物分解、吸收食物中的（       ），同时排出（      ），使食物不再是原来的样子，食物（               ）了。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23:54:43Z</dcterms:created>
  <dc:creator>雨林木风</dc:creator>
  <dc:description/>
  <dc:language>en-US</dc:language>
  <cp:lastModifiedBy>微软用户</cp:lastModifiedBy>
  <dcterms:modified xsi:type="dcterms:W3CDTF">2010-02-18T13:46:21Z</dcterms:modified>
  <cp:revision>12</cp:revision>
  <dc:subject/>
  <dc:title>幻灯片 1</dc:title>
</cp:coreProperties>
</file>