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7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9EE-4673-4546-8C60-7A3DA2B7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0DC-3484-4933-9902-3B26411A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808-DB7D-4B05-96A5-20F3C880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605-F818-4A9C-9A3A-32B1C8F3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7EFD-CEC3-453A-8386-BC7F578E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E13F-B6F6-4BB6-A1C1-E59C1222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F618-1CEC-440A-B1D5-1C03B353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5940-D13E-4700-9C26-F136ACE7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439E-5509-40FA-878F-8B14E575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1C63-02E4-4F49-A0E4-FA26ACC8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4DFF-D905-426A-BE98-4D55E458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8FF-F3F5-4502-97EF-CBFC3214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20B1-C9C2-4262-8E97-2751D356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A26B-DFF9-44D0-8F48-3BF80612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1DB6-85A9-45BF-8E00-54A6D325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53A7-D16F-4056-8F83-9EBCAC52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9F8D-A4CA-4465-BD2D-8F382A88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9D1-91D9-4B82-B4DE-50B3752A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30E-6041-4BB3-B428-9169ADD4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903-0956-4E2A-9A27-E86F9013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FA9-B950-4A0C-B3EF-25D9F33F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348-243E-4F05-A226-D1526495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188-36CB-4268-BFDF-571FF586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300-74FB-425D-80EE-448A98E6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1689-1FC6-4986-894A-E9FBD12D4B26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C642-6294-4A49-A2D6-D2036024CDB3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87280" y="620640"/>
            <a:ext cx="6840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6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、减慢食物变质的速度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00720" y="6381720"/>
            <a:ext cx="4432320" cy="1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360" y="90792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、观察变质的食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05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你吃过鱼干吗？味道怎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96000" y="3278160"/>
            <a:ext cx="4248000" cy="357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7632720" cy="207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2064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新鲜的小鱼干和腐败的小鱼、干面包和发馊的面包，有哪些不同的地方？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781440" cy="32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342900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小鱼为什么在短时间里腐败了？鱼干为什么能长时间地保持好闻的气味？</a:t>
            </a:r>
            <a:endParaRPr b="0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腐败的小鱼、发馊的面条与发霉的面包有哪些相似的地方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60280"/>
            <a:ext cx="172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1890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储存食物的各种方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413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我们已经知道引起食物变质需要有一定的空气、水分和温度等条件，如果要储存一条新鲜的小鱼，可以用什么方法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99736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小组讨论交流，并说说运用这种方法储存食物的理由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93372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食品罐头为什么可以用这种方法能储存食物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4653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你还知道哪些储存食物的方法？为什么这些方法能减慢食物变质的速度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95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讨论：你还能用什么方法来储存食物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2448000" cy="196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2448000" cy="1511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237672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6000" y="4869000"/>
            <a:ext cx="237636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69120" y="263700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晒成鱼干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40560" y="400536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用盐腌成咸鱼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1880" y="537372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做成罐头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0560" y="1125360"/>
            <a:ext cx="6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放进冰箱冷冻</a:t>
            </a: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0"/>
            <a:ext cx="3673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储存一条鱼的方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100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 Narrow"/>
              </a:rPr>
              <a:t>同一种食物，我们可以用多种不同的方法来减慢它的变质速度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5075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判断题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食物的腐败变质是由微生物的大量繁殖引起的。（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微生物的生长与繁殖，需要空气、水分和适宜的温度。（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闻变质食物的气味时，要扇闻，并尽量少闻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用冷冻、晒干、真空包装等方法，能减慢食物变质的速度。其原因是破坏了微生物生长所需的条件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260280"/>
            <a:ext cx="352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考考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206960"/>
            <a:ext cx="8280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填空：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食物的腐败变质是（            ）引起的。使面包发霉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霉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就是（        ），还有许多肉眼看不见、用放大镜也看不见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细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，也是（           ）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微生物的生长与繁殖和植物、动物一样，需要一定的条件。在（         ）的环境里，它们能很快地繁殖。越来越多的微生物分解、吸收食物中的（       ），同时排出（      ），使食物不再是原来的样子，食物（               ）了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23:54:43Z</dcterms:created>
  <dc:creator>雨林木风</dc:creator>
  <dc:description/>
  <dc:language>en-US</dc:language>
  <cp:lastModifiedBy>微软用户</cp:lastModifiedBy>
  <dcterms:modified xsi:type="dcterms:W3CDTF">2010-02-18T13:46:21Z</dcterms:modified>
  <cp:revision>12</cp:revision>
  <dc:subject/>
  <dc:title>幻灯片 1</dc:title>
</cp:coreProperties>
</file>