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jpeg" ContentType="image/jpe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8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laser.wav" ContentType="audio/x-wav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744-B103-457C-8E2D-6D99A5A9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D2E-E266-4DD4-AF07-C060E526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2042A-5620-42AF-A671-D2D5BD4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8B3C7-130C-439F-8CAB-45BBD24D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E68D2-4F9F-4B2B-9F9E-C5164C63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0DA39-6817-4028-8654-5DF4CC34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1FF35-C0DE-4D42-A509-9B3C20A1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FAFC6-28A4-47D8-B808-A7F87D30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6FAF6-FD8B-48B8-8BC7-E9F36FBA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A4BB5-B5FB-4BB1-A81E-C5B1271F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EF89D-BA4C-4EA2-B5E7-17DF3743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2461A-CB92-4EB0-9518-88D690B6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5CF-3230-43FB-8EDD-E4743A5A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7DB9D-F770-40A4-B7C3-20BB2BD2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92FA5-EE06-4330-81C0-6EBB87C5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DBCD9-1864-4006-88C6-D77ECCB9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0FC35-8B84-4E8E-A383-73906B54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5DDA2-D2CB-4E73-A8CA-64484A84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8D9E5-9D1A-4417-A9FD-5852CB82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6611-5575-415E-A9CA-DCFA3AE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7E8BA-6343-49B3-BF3C-C6822D7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4DC6A-0BC2-4328-9E59-097E0100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E83FF-B918-4F4E-A4C6-1D751041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A59-8758-421F-9243-30658981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B3811-6D19-43ED-A70A-B109F2EB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E6241-957D-47EC-A2B2-E3838EB1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FEBFD-D9CE-4ACD-8C4E-7E39CEF5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81F97-9347-4C76-B874-8E881F3A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3A632-7DB9-455A-BEE8-52B7C9E0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66A98-283A-40AE-A14F-259A9488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6180A-05DA-47F7-9669-9B414B5C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FB4F1-52D2-48D5-A3C9-6DCFDC3F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69F8C-AF2E-4017-A8C5-285AA063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B76EA-F9EC-4792-8830-76641E72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1716-9FD5-44B0-A7F4-0A65500D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90DDE-3C1E-47FA-8FFE-6A1ED987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2DA0F-F311-460D-BECC-26193A39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5FF05-ABE6-402D-8408-01AE7411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3F339-9017-439B-A3F6-D1C4E7DE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4C609-60EC-46E3-8939-2FF43FA9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E9814-C947-429D-BDAF-C8191B72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BEA25-E5AA-4FFB-9AEC-39278230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557A7-0893-40B0-9C79-06EB123E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394C6-AE4D-4394-A48C-343C81FF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6031E-B06A-46A5-BB0F-7A8A13B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953A-B633-433D-B4F9-0679CCB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286E4-C71A-43A3-BC49-CA9417C5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CF4F6-CD8B-42FB-A47D-B0F0BE2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0C05A-1E82-4AA0-A36F-531D2AF8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86157-058C-4A09-BD75-FDC4F86B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E8814-73D4-413A-BBB4-E5921201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6264DA-3DD0-4E6B-B6AB-0E5A9CE9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E91F5-C877-4488-8DED-CD717467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D2BDE-4548-4FBF-840D-BA2FC584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C4F6E-3585-4168-9B10-FF43254B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D5A8A-07C4-42DB-ADDA-70D7116D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9B4E-74AF-4016-A7A6-2D6F3563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C0F8F-9B48-492F-A71E-F163BB0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E018C-E858-4C92-A29B-00B236E8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03E69-BDCA-4696-8347-FBAF3D16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05A09-FBF3-46B5-9F6F-E97864E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48465-E61A-4F1C-B7A0-2BCDB876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FC2A2-2068-44C5-AE14-C1800012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3F66C-1981-4841-8639-19A9095C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8C8D2-6958-442C-8C93-E0181452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224FA-B045-4593-BA5D-11E2145F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1B526-357A-4702-8988-0815372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A341-8BD6-4EFC-950D-BB68BB34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19044-EE1F-43C5-AB52-C76CFC2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70865-B952-41C9-9D42-4FDD6761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ABBE8-8D5A-4DBE-869A-57F709F8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6C9BD-E6F2-4CDC-B763-E08EB8F5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3CE0A-219C-498C-8C77-1A6889DD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6F106-520F-42F0-AB7E-047835C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9D6A7-27B4-47BF-9DFF-F69D9B2C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C515D-F729-4A37-B1FB-36741D40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C72A8C-6E28-49D7-A119-2200B267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C9BC0-CD82-4351-823D-685B26EC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D5AE-8D4F-4E4D-9CBB-0414D61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CCB21-220E-4617-9F70-66613760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A0EB7-9C2A-470B-9282-833B4E06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9A88F0-3278-49CE-A107-90BDCC2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9E463-8360-4550-AB36-A177BF90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3C07A-13BA-4F46-8958-0FE1D69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7D588-4F1C-4595-8549-4A66A87A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B779DF-E4A7-4526-A60F-2FA26BF9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0B438-AC08-4511-9EF5-ADBD847C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F1F40-81A5-4F40-9572-AD04D8D6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9877E-0D11-48A9-BD95-93D088A3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BE77-F8A9-4C41-9949-773021CF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33669-8CD8-437E-ACB8-03F46BB6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96393-F6AB-4A95-830F-A3111E59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25B56-791E-4F23-AA7D-67D9816D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DB93F-2B7E-4370-822C-2797873A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98D68-B7E7-4006-A7D3-DBDA9568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D0945-9C62-4221-8274-0C862E2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C29B8-5A73-4B6E-B750-98891BC4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E29DA-F31B-4C66-B1B8-BCBB419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CC6C6A-6CEF-4F30-8026-42CFA606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59B50B-0ECE-49F2-94D0-DFE05F91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A85B-C91A-41F5-A13F-7919ED9D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A70DA-D719-4475-BB6F-2926C723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41005-C1C9-4E20-B981-E2BC8B16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40D1D-26AE-4F02-B5D9-EA47E5D7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A20-930A-435F-834D-97B1A804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BF86-2D68-4E80-BD22-0FEBB748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BDF0-6A62-4D9E-8D1B-33D9DD8B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3E98-F3F4-418A-85E4-C00C0B1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016-E1A8-4903-B654-F50DDE3A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57C-5AC5-459B-8A08-2723CEE9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AF8E2-56B9-4C8F-AA17-CDD5CD57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7943C-5155-4A30-8B95-433F1665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6F922-A66E-45EF-8E41-171FC22F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4983D-610A-4DB4-9BA3-37F0A75F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5DAA8-BA7E-470E-BC98-5F19CE68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442-2359-4F09-B00D-77A4489F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23C0B-7761-47D2-9879-1F74ABF2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DE34B-A2B3-477D-9248-CD518B9E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5919D-864B-4AC0-B3A9-F6F477F1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C5414-0E4A-4BD7-8A44-A1FC086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4E176C-550C-4326-8156-9D3EB9CE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3138B-D06C-413C-99E7-42D4AA88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63B2A-2C1B-4E62-8F0B-4CC45656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446DF-3860-4964-9678-AEDB7BC6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EEF69-60F3-465E-854A-CB899898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50033D-691D-4BBD-9E09-0AE41C42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07D-2F3D-4BFD-AD3E-AB05E87B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399E46-EC04-455A-9956-E79CAD78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0599B-33A6-42E7-8997-6859AFD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770F4C-D7F9-4414-96D5-F209AAFF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ABFEF1-09A5-4952-B990-2D111BD7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D42085-8CB1-4680-B603-46DA03F5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3D3422-BEFB-4465-9E09-7ECCA5E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3425F-7483-42E3-86AE-2179671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84131-F6C5-4342-9371-AD1032E0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E7E8C-88A0-4F63-B5FE-F3936960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0BC82-F137-45E4-8023-3491473A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E71-4D43-4468-A876-1773A348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85EF-B8C0-46EC-95F8-E2C3D63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9B1C-70C0-4DD1-A552-F38C0D68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E88D-0A37-48FC-93E3-83C8070C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59275-76B5-4E67-B692-4FDF4913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B992-554D-4865-828D-A58ADC1F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FB95D-A1CF-4431-A693-45C3102B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E373-11DB-49F0-814E-369572B9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34212-3591-4960-B3BD-351002E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7182-9F0B-4D56-976D-72B02A8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AC371-DAF4-48DD-8737-566F4096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76A-7C4E-4002-92DD-4D727D13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EE625-BE48-429E-8776-1081B277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B5B59-E072-4851-A2F6-34129C8F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0D2BA-B2B4-46E1-AAB1-463092B1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0A6C2-F7C5-424E-841F-5522F7EC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495B-C76B-40D2-8BA3-B0E6B244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C0ED8-006E-4F29-9F19-589591D0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3F79-7414-46F8-990F-4F1D1CD9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FD0AB-0FA5-4E25-8C54-C9F56F0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D164E-4D47-4AD9-9A5F-9C15874B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5C983-5768-467A-A3C3-4AC0A4C3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CC4F-926B-4EE9-9C93-47E5776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0A4F-4A24-44D1-B0E4-D5D181BF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214A-DF9B-4A1E-8D45-804AF483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48A8E-6F82-4590-8CCC-4A912B7C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C43CD-92B6-4ECB-9967-65059AD2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73A7E-A4F1-4C76-83CA-57EA602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9EFAD-DFF8-4403-8C1C-EA0C0529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ABE24-E58E-4990-AFF8-8C530DE5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F7DF3-EBD1-4189-A2EF-3281AAD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A2F62-9D9E-4E8C-82E7-4CDA77AE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7031D-43C9-484B-B4F5-93FBC88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0DB-7D5C-4576-B26C-6410A4E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7C400-F3E4-4238-A385-5CD9480A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E3505-E4FB-4C0B-9028-75172309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357BB-3CE7-4629-8781-3EBA3D29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24260-B8FE-4A8F-BDC0-741B34AB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6BF5-BBBA-43E6-902F-A6F4EFED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57BC1-8A83-4B0C-BB6C-C2D9C6C3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83844-F514-41E1-9CD4-AFA7339D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3A8A6-A01A-4020-9C33-34117B5C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24404-018D-4E11-A359-4C7EBD25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6A0BC-861C-4B49-B43F-868B1BAF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C70-C121-4DD0-8903-481730EA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357A6-537F-4FD2-91BE-D2BCAF0D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70DC5-8F58-4810-B092-B0CA38B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8FB9-567E-42F5-B97D-3EE6A6F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44F1-9FB4-445C-A003-9DD54772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2A11-D5EB-4015-B174-1AB6CAFD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5BB0D-8071-424D-A925-73657CAD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77A4-8B90-4848-A894-1BCF00B9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DFB5A-EF45-49D9-B6AA-8D63D838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020C6-0797-475E-9F76-DADF91F0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BBA5F-D588-43AF-B95A-DAA62428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21D6-FE31-4653-9A70-826812851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15AA-B877-4C5C-A1CD-31DC67076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A04A-CE81-41F2-9F4D-735F87CBC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E162-1822-42C5-BBDF-D7F4554C2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65D5-4416-4AFC-BA86-EDAE7D889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BBDA-4719-47B5-8E4F-D38F197A9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1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007A-F268-4636-A517-631DB5F443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-105120" y="1311120"/>
            <a:ext cx="9350640" cy="5633280"/>
            <a:chOff x="-105120" y="1311120"/>
            <a:chExt cx="9350640" cy="5633280"/>
          </a:xfrm>
        </p:grpSpPr>
        <p:sp>
          <p:nvSpPr>
            <p:cNvPr id="876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7"/>
            <p:cNvSpPr/>
            <p:nvPr/>
          </p:nvSpPr>
          <p:spPr>
            <a:xfrm flipV="1" rot="18603600">
              <a:off x="642924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8"/>
            <p:cNvSpPr/>
            <p:nvPr/>
          </p:nvSpPr>
          <p:spPr>
            <a:xfrm flipH="1" flipV="1" rot="18391200">
              <a:off x="8519040" y="661680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2BA3-EE16-4848-B154-97F934F8AA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BD57-632E-462A-A61F-9E4BCE92C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绿色圃中小学教育网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|http://www.lspj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67B9-4BBB-4526-ABCB-F98580688DA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103320" y="1308240"/>
            <a:ext cx="9350640" cy="5633280"/>
            <a:chOff x="-103320" y="1308240"/>
            <a:chExt cx="9350640" cy="5633280"/>
          </a:xfrm>
        </p:grpSpPr>
        <p:sp>
          <p:nvSpPr>
            <p:cNvPr id="146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 flipV="1" rot="18603600">
              <a:off x="6431040" y="556020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 flipH="1" flipV="1" rot="18391200">
              <a:off x="8520840" y="6613920"/>
              <a:ext cx="795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1580-D72C-4D1B-BBE0-998A6C6D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9BC6-D2C5-454C-A94F-05F938550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299B-D13B-4A97-B75C-0BA63A8C4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96BD-7868-4F96-A7A0-5D7D84D05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5109-ED34-4E29-8669-F91C6B231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85B-3DA5-4CB2-B141-C39548F5F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hyperlink" Target="file:///tmp/home/.config/libreoffice/4/user/gallery/CIMG0003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3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IMG0006.WAV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3.xml"/><Relationship Id="rId5" Type="http://schemas.openxmlformats.org/officeDocument/2006/relationships/hyperlink" Target="file:///tmp/home/.config/libreoffice/4/user/gallery/CIMG0007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20.xml"/><Relationship Id="rId8" Type="http://schemas.openxmlformats.org/officeDocument/2006/relationships/slide" Target="slide18.xml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C:\Documents and Settings\All Users\Documents\&#21494;&#40511;&#20873;&#25991;&#20214;&#24211;\&#21494;&#40511;&#20873;&#25991;&#20214;&#24211;&#20013;&#36716;&#31449;\Microsoft PowerPoint&#28436;&#31034;&#25991;&#31295;.ppt &#24211;\&#35838;&#20214;\&#27721;&#35821;&#25340;&#38899;\iuv&#32451;&#20064;.doc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24.pn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hyperlink" Target="file:///tmp/home/.config/libreoffice/4/user/gallery/CIMG0007.WAV" TargetMode="External"/><Relationship Id="rId9" Type="http://schemas.openxmlformats.org/officeDocument/2006/relationships/image" Target="../media/image16.jpeg"/><Relationship Id="rId10" Type="http://schemas.openxmlformats.org/officeDocument/2006/relationships/hyperlink" Target="file:///tmp/home/.config/libreoffice/4/user/gallery/CIMG0003.WAV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file:///tmp/home/.config/libreoffice/4/user/gallery/CIMG0006.WAV" TargetMode="External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file:///tmp/home/.config/libreoffice/4/user/gallery/CIMG0003.WAV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hyperlink" Target="file:///tmp/home/.config/libreoffice/4/user/gallery/CIMG0006.WAV" TargetMode="External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hyperlink" Target="file:///tmp/home/.config/libreoffice/4/user/gallery/CIMG0007.WAV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3" name="Picture 7" descr="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4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DAC3-D412-40A0-BC93-6246FC92FD1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矩形 1843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7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8"/>
          <p:cNvSpPr/>
          <p:nvPr/>
        </p:nvSpPr>
        <p:spPr>
          <a:xfrm>
            <a:off x="380880" y="2819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9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4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3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5"/>
          <p:cNvSpPr/>
          <p:nvPr/>
        </p:nvSpPr>
        <p:spPr>
          <a:xfrm flipV="1">
            <a:off x="4495680" y="2742840"/>
            <a:ext cx="228600" cy="1143000"/>
          </a:xfrm>
          <a:prstGeom prst="line">
            <a:avLst/>
          </a:prstGeom>
          <a:ln w="381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6"/>
          <p:cNvSpPr/>
          <p:nvPr/>
        </p:nvSpPr>
        <p:spPr>
          <a:xfrm>
            <a:off x="3276720" y="30481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7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Oval 20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Oval 21"/>
          <p:cNvSpPr/>
          <p:nvPr/>
        </p:nvSpPr>
        <p:spPr>
          <a:xfrm>
            <a:off x="47242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2"/>
          <p:cNvSpPr/>
          <p:nvPr/>
        </p:nvSpPr>
        <p:spPr>
          <a:xfrm>
            <a:off x="3429000" y="14479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3"/>
          <p:cNvSpPr/>
          <p:nvPr/>
        </p:nvSpPr>
        <p:spPr>
          <a:xfrm>
            <a:off x="4876920" y="167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0BF8-AAD4-43E2-A041-404EBFF89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Picture 12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57" name="WordArt 13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58" name="Picture 14" descr="《汉语拼音 2》y插图"/>
          <p:cNvPicPr/>
          <p:nvPr/>
        </p:nvPicPr>
        <p:blipFill>
          <a:blip r:embed="rId3"/>
          <a:stretch/>
        </p:blipFill>
        <p:spPr>
          <a:xfrm>
            <a:off x="1219320" y="106668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1259" name="Text Box 17"/>
          <p:cNvSpPr/>
          <p:nvPr/>
        </p:nvSpPr>
        <p:spPr>
          <a:xfrm>
            <a:off x="4343400" y="266688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声母（韵母＋声母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为了区分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于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让我们叫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大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(y)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吧！自然，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小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“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（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）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方正姚体"/>
              </a:rPr>
              <a:t>”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WordArt 18"/>
          <p:cNvSpPr txBox="1"/>
          <p:nvPr/>
        </p:nvSpPr>
        <p:spPr>
          <a:xfrm>
            <a:off x="990720" y="388620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61" name="Picture 1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391520" y="1523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62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060A-7DDD-4FF1-896C-66328A5A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65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6"/>
          <p:cNvSpPr/>
          <p:nvPr/>
        </p:nvSpPr>
        <p:spPr>
          <a:xfrm>
            <a:off x="380880" y="9907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8"/>
          <p:cNvSpPr/>
          <p:nvPr/>
        </p:nvSpPr>
        <p:spPr>
          <a:xfrm>
            <a:off x="380880" y="6095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9"/>
          <p:cNvSpPr/>
          <p:nvPr/>
        </p:nvSpPr>
        <p:spPr>
          <a:xfrm rot="19536000">
            <a:off x="2414520" y="2701800"/>
            <a:ext cx="4572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AutoShape 10"/>
          <p:cNvSpPr/>
          <p:nvPr/>
        </p:nvSpPr>
        <p:spPr>
          <a:xfrm rot="10800000">
            <a:off x="1828800" y="2742840"/>
            <a:ext cx="533520" cy="76212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1"/>
          <p:cNvSpPr/>
          <p:nvPr/>
        </p:nvSpPr>
        <p:spPr>
          <a:xfrm rot="1660800">
            <a:off x="2968200" y="2665080"/>
            <a:ext cx="457200" cy="321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AutoShape 12"/>
          <p:cNvSpPr/>
          <p:nvPr/>
        </p:nvSpPr>
        <p:spPr>
          <a:xfrm rot="12758400">
            <a:off x="3733560" y="2743200"/>
            <a:ext cx="380880" cy="3808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3"/>
          <p:cNvSpPr/>
          <p:nvPr/>
        </p:nvSpPr>
        <p:spPr>
          <a:xfrm rot="1444200">
            <a:off x="3660840" y="2723760"/>
            <a:ext cx="38088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14"/>
          <p:cNvSpPr/>
          <p:nvPr/>
        </p:nvSpPr>
        <p:spPr>
          <a:xfrm>
            <a:off x="762120" y="4952880"/>
            <a:ext cx="129528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WordArt 16"/>
          <p:cNvSpPr txBox="1"/>
          <p:nvPr/>
        </p:nvSpPr>
        <p:spPr>
          <a:xfrm>
            <a:off x="990720" y="5181480"/>
            <a:ext cx="838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碰线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B213-41BF-42DF-AB74-B74AAB1F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7" descr="《汉语拼音 2》w插图"/>
          <p:cNvPicPr/>
          <p:nvPr/>
        </p:nvPicPr>
        <p:blipFill>
          <a:blip r:embed="rId3"/>
          <a:stretch/>
        </p:blipFill>
        <p:spPr>
          <a:xfrm>
            <a:off x="380880" y="609480"/>
            <a:ext cx="4267440" cy="3048120"/>
          </a:xfrm>
          <a:prstGeom prst="rect">
            <a:avLst/>
          </a:prstGeom>
          <a:ln w="0">
            <a:noFill/>
          </a:ln>
        </p:spPr>
      </p:pic>
      <p:sp>
        <p:nvSpPr>
          <p:cNvPr id="1280" name="WordArt 8"/>
          <p:cNvSpPr txBox="1"/>
          <p:nvPr/>
        </p:nvSpPr>
        <p:spPr>
          <a:xfrm>
            <a:off x="762120" y="4419720"/>
            <a:ext cx="3429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1" name="Text Box 9"/>
          <p:cNvSpPr/>
          <p:nvPr/>
        </p:nvSpPr>
        <p:spPr>
          <a:xfrm>
            <a:off x="4191120" y="281952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幼圆"/>
                <a:ea typeface="幼圆"/>
              </a:rPr>
              <a:t>        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这是个声母（韵母＋声母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一个字的读音）为了区分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于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让我们叫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大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)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吧！自然，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=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小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“</a:t>
            </a:r>
            <a:r>
              <a:rPr b="0" lang="en-US" sz="3600" spc="-1" strike="noStrike">
                <a:solidFill>
                  <a:srgbClr val="ffcc00"/>
                </a:solidFill>
                <a:latin typeface="幼圆"/>
                <a:ea typeface="幼圆"/>
              </a:rPr>
              <a:t>u(w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）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  <a:ea typeface="幼圆"/>
              </a:rPr>
              <a:t>”</a:t>
            </a:r>
            <a:r>
              <a:rPr b="0" lang="zh-CN" sz="3600" spc="-1" strike="noStrike">
                <a:solidFill>
                  <a:srgbClr val="ffcc00"/>
                </a:solidFill>
                <a:latin typeface="幼圆"/>
                <a:ea typeface="幼圆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WordArt 10"/>
          <p:cNvSpPr txBox="1"/>
          <p:nvPr/>
        </p:nvSpPr>
        <p:spPr>
          <a:xfrm>
            <a:off x="5410080" y="990720"/>
            <a:ext cx="18288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83" name="Picture 11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84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BB34-F55B-4F5D-8037-E0FBB8A1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6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87" name="Line 5"/>
          <p:cNvSpPr/>
          <p:nvPr/>
        </p:nvSpPr>
        <p:spPr>
          <a:xfrm>
            <a:off x="380880" y="10666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WordArt 9"/>
          <p:cNvSpPr txBox="1"/>
          <p:nvPr/>
        </p:nvSpPr>
        <p:spPr>
          <a:xfrm>
            <a:off x="2971800" y="2743200"/>
            <a:ext cx="2133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292" name="Line 13"/>
          <p:cNvSpPr/>
          <p:nvPr/>
        </p:nvSpPr>
        <p:spPr>
          <a:xfrm>
            <a:off x="2590920" y="2743200"/>
            <a:ext cx="45720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5"/>
          <p:cNvSpPr/>
          <p:nvPr/>
        </p:nvSpPr>
        <p:spPr>
          <a:xfrm flipV="1">
            <a:off x="3657600" y="3885840"/>
            <a:ext cx="304920" cy="1219320"/>
          </a:xfrm>
          <a:prstGeom prst="line">
            <a:avLst/>
          </a:prstGeom>
          <a:ln w="38160">
            <a:solidFill>
              <a:srgbClr val="08080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6"/>
          <p:cNvSpPr/>
          <p:nvPr/>
        </p:nvSpPr>
        <p:spPr>
          <a:xfrm>
            <a:off x="4038480" y="3657600"/>
            <a:ext cx="228600" cy="1295280"/>
          </a:xfrm>
          <a:prstGeom prst="line">
            <a:avLst/>
          </a:prstGeom>
          <a:ln w="38160">
            <a:solidFill>
              <a:srgbClr val="080808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7"/>
          <p:cNvSpPr/>
          <p:nvPr/>
        </p:nvSpPr>
        <p:spPr>
          <a:xfrm flipV="1">
            <a:off x="4952880" y="2742840"/>
            <a:ext cx="381240" cy="1600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8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9"/>
          <p:cNvSpPr/>
          <p:nvPr/>
        </p:nvSpPr>
        <p:spPr>
          <a:xfrm>
            <a:off x="4343400" y="43434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0"/>
          <p:cNvSpPr/>
          <p:nvPr/>
        </p:nvSpPr>
        <p:spPr>
          <a:xfrm>
            <a:off x="2133720" y="32767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1"/>
          <p:cNvSpPr/>
          <p:nvPr/>
        </p:nvSpPr>
        <p:spPr>
          <a:xfrm>
            <a:off x="3200400" y="4343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2"/>
          <p:cNvSpPr/>
          <p:nvPr/>
        </p:nvSpPr>
        <p:spPr>
          <a:xfrm>
            <a:off x="5410080" y="3429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灯片编号占位符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1592-3EC7-4003-8353-1E7177B1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3" name="Picture 4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04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i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05" name="WordArt 6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i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Picture 8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0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2D7A-D38D-468D-B63E-A6BC97B4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Picture 7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11" name="WordArt 8"/>
          <p:cNvSpPr txBox="1"/>
          <p:nvPr/>
        </p:nvSpPr>
        <p:spPr>
          <a:xfrm>
            <a:off x="990720" y="3809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2" name="WordArt 9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w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3" name="Text Box 10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w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11" descr="c80e42ee4c9091d5b3fb95a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48720" y="16765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1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C197-D61F-4A72-8328-797C90D5C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4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320" name="WordArt 5"/>
          <p:cNvSpPr txBox="1"/>
          <p:nvPr/>
        </p:nvSpPr>
        <p:spPr>
          <a:xfrm>
            <a:off x="990720" y="762120"/>
            <a:ext cx="7315200" cy="15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yu</a:t>
            </a:r>
            <a:endParaRPr b="0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21" name="Text Box 8"/>
          <p:cNvSpPr/>
          <p:nvPr/>
        </p:nvSpPr>
        <p:spPr>
          <a:xfrm>
            <a:off x="4343400" y="2666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这是个整体认读节音（整体认读节音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=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一个字的读音）打字时输入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方正姚体"/>
              </a:rPr>
              <a:t>ü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无效，输入</a:t>
            </a:r>
            <a:r>
              <a:rPr b="0" lang="en-US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yu</a:t>
            </a:r>
            <a:r>
              <a:rPr b="0" lang="zh-CN" sz="3600" spc="-1" strike="noStrike">
                <a:solidFill>
                  <a:srgbClr val="ff3399"/>
                </a:solidFill>
                <a:latin typeface="方正姚体"/>
                <a:ea typeface="方正姚体"/>
              </a:rPr>
              <a:t>才有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WordArt 9"/>
          <p:cNvSpPr txBox="1"/>
          <p:nvPr/>
        </p:nvSpPr>
        <p:spPr>
          <a:xfrm>
            <a:off x="762120" y="2666880"/>
            <a:ext cx="342900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读音于</a:t>
            </a: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ü</a:t>
            </a: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相同）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23" name="AutoShape 10">
            <a:hlinkClick r:id="rId4" action="ppaction://hlinksldjump"/>
          </p:cNvPr>
          <p:cNvSpPr/>
          <p:nvPr/>
        </p:nvSpPr>
        <p:spPr>
          <a:xfrm>
            <a:off x="1066680" y="3962520"/>
            <a:ext cx="3276720" cy="266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cbcbcb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WordArt 11"/>
          <p:cNvSpPr txBox="1"/>
          <p:nvPr/>
        </p:nvSpPr>
        <p:spPr>
          <a:xfrm rot="1273200">
            <a:off x="2031480" y="4329000"/>
            <a:ext cx="145764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900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900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25" name="Picture 12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0100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326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3F1C-C966-4BA2-8638-3F0339A65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9" name="WordArt 4"/>
          <p:cNvSpPr txBox="1"/>
          <p:nvPr/>
        </p:nvSpPr>
        <p:spPr>
          <a:xfrm>
            <a:off x="1523880" y="0"/>
            <a:ext cx="76201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洗完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0" name="Rectangle 6">
            <a:hlinkClick r:id="" action="ppaction://hlinkshowjump?jump=previousslide"/>
          </p:cNvPr>
          <p:cNvSpPr/>
          <p:nvPr/>
        </p:nvSpPr>
        <p:spPr>
          <a:xfrm>
            <a:off x="304920" y="762120"/>
            <a:ext cx="1066680" cy="5715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263C-E79D-4D8D-994D-06DA8775C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 txBox="1"/>
          <p:nvPr/>
        </p:nvSpPr>
        <p:spPr>
          <a:xfrm>
            <a:off x="3049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由于今天学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u y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笔画过多，所以将就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i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u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Arial"/>
                <a:hlinkClick r:id="rId4" action="ppaction://hlinksldjump"/>
              </a:rPr>
              <a:t>ü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w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再进行演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点击进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AutoShape 29">
            <a:hlinkClick r:id="rId7" action="ppaction://hlinksldjump"/>
          </p:cNvPr>
          <p:cNvSpPr/>
          <p:nvPr/>
        </p:nvSpPr>
        <p:spPr>
          <a:xfrm rot="10800000">
            <a:off x="4952880" y="4648320"/>
            <a:ext cx="1828800" cy="1295280"/>
          </a:xfrm>
          <a:custGeom>
            <a:avLst/>
            <a:gdLst>
              <a:gd name="textAreaLeft" fmla="*/ 83880 w 1828800"/>
              <a:gd name="textAreaRight" fmla="*/ 1744920 w 18288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494" h="21600">
                <a:moveTo>
                  <a:pt x="0" y="0"/>
                </a:moveTo>
                <a:lnTo>
                  <a:pt x="30494" y="0"/>
                </a:lnTo>
                <a:lnTo>
                  <a:pt x="30494" y="21600"/>
                </a:lnTo>
                <a:lnTo>
                  <a:pt x="0" y="21600"/>
                </a:lnTo>
                <a:close/>
              </a:path>
              <a:path fill="lightenLess" w="30494" h="21600">
                <a:moveTo>
                  <a:pt x="0" y="0"/>
                </a:moveTo>
                <a:lnTo>
                  <a:pt x="30494" y="0"/>
                </a:lnTo>
                <a:lnTo>
                  <a:pt x="29094" y="1400"/>
                </a:lnTo>
                <a:lnTo>
                  <a:pt x="1400" y="1400"/>
                </a:lnTo>
                <a:close/>
              </a:path>
              <a:path fill="darken" w="30494" h="21600">
                <a:moveTo>
                  <a:pt x="30494" y="0"/>
                </a:moveTo>
                <a:lnTo>
                  <a:pt x="30494" y="21600"/>
                </a:lnTo>
                <a:lnTo>
                  <a:pt x="29094" y="20200"/>
                </a:lnTo>
                <a:lnTo>
                  <a:pt x="29094" y="1400"/>
                </a:lnTo>
                <a:close/>
              </a:path>
              <a:path fill="darkenLess" w="30494" h="21600">
                <a:moveTo>
                  <a:pt x="304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4" y="20200"/>
                </a:lnTo>
                <a:close/>
              </a:path>
              <a:path fill="lighten" w="304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94" h="21600">
                <a:moveTo>
                  <a:pt x="8241" y="7493"/>
                </a:moveTo>
                <a:lnTo>
                  <a:pt x="11748" y="7493"/>
                </a:lnTo>
                <a:lnTo>
                  <a:pt x="11748" y="12828"/>
                </a:lnTo>
                <a:cubicBezTo>
                  <a:pt x="11748" y="13751"/>
                  <a:pt x="12549" y="14482"/>
                  <a:pt x="13585" y="14482"/>
                </a:cubicBezTo>
                <a:lnTo>
                  <a:pt x="15247" y="14482"/>
                </a:lnTo>
                <a:cubicBezTo>
                  <a:pt x="16283" y="14482"/>
                  <a:pt x="17084" y="13751"/>
                  <a:pt x="17084" y="12828"/>
                </a:cubicBezTo>
                <a:lnTo>
                  <a:pt x="17084" y="7493"/>
                </a:lnTo>
                <a:lnTo>
                  <a:pt x="15247" y="7493"/>
                </a:lnTo>
                <a:lnTo>
                  <a:pt x="18755" y="3985"/>
                </a:lnTo>
                <a:lnTo>
                  <a:pt x="22428" y="7493"/>
                </a:lnTo>
                <a:lnTo>
                  <a:pt x="20591" y="7493"/>
                </a:lnTo>
                <a:lnTo>
                  <a:pt x="20591" y="12828"/>
                </a:lnTo>
                <a:cubicBezTo>
                  <a:pt x="20591" y="15596"/>
                  <a:pt x="18015" y="18155"/>
                  <a:pt x="15247" y="18155"/>
                </a:cubicBezTo>
                <a:lnTo>
                  <a:pt x="13585" y="18155"/>
                </a:lnTo>
                <a:cubicBezTo>
                  <a:pt x="10817" y="18155"/>
                  <a:pt x="8241" y="15596"/>
                  <a:pt x="8241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返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AutoShape 30">
            <a:hlinkClick r:id="rId8" action="ppaction://hlinksldjump"/>
          </p:cNvPr>
          <p:cNvSpPr/>
          <p:nvPr/>
        </p:nvSpPr>
        <p:spPr>
          <a:xfrm>
            <a:off x="6858000" y="464832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1" h="21600">
                <a:moveTo>
                  <a:pt x="12706" y="3837"/>
                </a:moveTo>
                <a:lnTo>
                  <a:pt x="15282" y="6448"/>
                </a:ln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lnTo>
                  <a:pt x="19668" y="10800"/>
                </a:lnTo>
                <a:lnTo>
                  <a:pt x="18015" y="10800"/>
                </a:lnTo>
                <a:lnTo>
                  <a:pt x="18015" y="17989"/>
                </a:lnTo>
                <a:lnTo>
                  <a:pt x="7396" y="17989"/>
                </a:lnTo>
                <a:lnTo>
                  <a:pt x="7396" y="10800"/>
                </a:lnTo>
                <a:lnTo>
                  <a:pt x="5743" y="10800"/>
                </a:lnTo>
                <a:close/>
              </a:path>
              <a:path fill="darkenLess" w="25411" h="21600">
                <a:moveTo>
                  <a:pt x="15282" y="6448"/>
                </a:moveTo>
                <a:lnTo>
                  <a:pt x="15282" y="4707"/>
                </a:lnTo>
                <a:lnTo>
                  <a:pt x="17057" y="4707"/>
                </a:lnTo>
                <a:lnTo>
                  <a:pt x="17057" y="8224"/>
                </a:lnTo>
                <a:close/>
              </a:path>
              <a:path fill="darkenLess" w="25411" h="21600">
                <a:moveTo>
                  <a:pt x="11783" y="14299"/>
                </a:moveTo>
                <a:lnTo>
                  <a:pt x="13628" y="14299"/>
                </a:lnTo>
                <a:lnTo>
                  <a:pt x="13628" y="17989"/>
                </a:lnTo>
                <a:lnTo>
                  <a:pt x="18015" y="17989"/>
                </a:lnTo>
                <a:lnTo>
                  <a:pt x="18015" y="10800"/>
                </a:lnTo>
                <a:lnTo>
                  <a:pt x="7396" y="10800"/>
                </a:lnTo>
                <a:lnTo>
                  <a:pt x="7396" y="17989"/>
                </a:lnTo>
                <a:lnTo>
                  <a:pt x="11783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幼圆"/>
              </a:rPr>
              <a:t>刷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E620-3898-48AB-8D34-37522D7FF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1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AutoShape 1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15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AutoShape 1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AutoShape 1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2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AutoShape 23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AutoShape 28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AutoShape 30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34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39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41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45"/>
          <p:cNvSpPr/>
          <p:nvPr/>
        </p:nvSpPr>
        <p:spPr>
          <a:xfrm>
            <a:off x="155520" y="46080"/>
            <a:ext cx="466740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47"/>
          <p:cNvSpPr/>
          <p:nvPr/>
        </p:nvSpPr>
        <p:spPr>
          <a:xfrm>
            <a:off x="2238480" y="-52560"/>
            <a:ext cx="466704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5" name="WordArt 49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83560"/>
          </a:xfrm>
          <a:prstGeom prst="rect">
            <a:avLst/>
          </a:prstGeom>
          <a:ln w="0">
            <a:noFill/>
          </a:ln>
        </p:spPr>
      </p:pic>
      <p:sp>
        <p:nvSpPr>
          <p:cNvPr id="1156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4DD-2FA2-4DB4-84B3-183B9FBA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AutoShape 4">
            <a:hlinkClick r:id="rId2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WordArt 5"/>
          <p:cNvSpPr txBox="1"/>
          <p:nvPr/>
        </p:nvSpPr>
        <p:spPr>
          <a:xfrm>
            <a:off x="2362320" y="9144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0" name="WordArt 6" descr=""/>
          <p:cNvPicPr/>
          <p:nvPr/>
        </p:nvPicPr>
        <p:blipFill>
          <a:blip r:embed="rId3"/>
          <a:stretch/>
        </p:blipFill>
        <p:spPr>
          <a:xfrm>
            <a:off x="-577800" y="222120"/>
            <a:ext cx="2641680" cy="873360"/>
          </a:xfrm>
          <a:prstGeom prst="rect">
            <a:avLst/>
          </a:prstGeom>
          <a:ln w="0">
            <a:noFill/>
          </a:ln>
        </p:spPr>
      </p:pic>
      <p:sp>
        <p:nvSpPr>
          <p:cNvPr id="1341" name="WordArt 7"/>
          <p:cNvSpPr txBox="1"/>
          <p:nvPr/>
        </p:nvSpPr>
        <p:spPr>
          <a:xfrm>
            <a:off x="2209680" y="380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2" name="AutoShape 20">
            <a:hlinkClick r:id="" action="ppaction://hlinkshowjump?jump=firstslide"/>
          </p:cNvPr>
          <p:cNvSpPr/>
          <p:nvPr/>
        </p:nvSpPr>
        <p:spPr>
          <a:xfrm>
            <a:off x="4419720" y="1600200"/>
            <a:ext cx="457200" cy="838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WordArt 21"/>
          <p:cNvSpPr txBox="1"/>
          <p:nvPr/>
        </p:nvSpPr>
        <p:spPr>
          <a:xfrm>
            <a:off x="533520" y="152388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播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4" name="WordArt 22"/>
          <p:cNvSpPr txBox="1"/>
          <p:nvPr/>
        </p:nvSpPr>
        <p:spPr>
          <a:xfrm>
            <a:off x="2209680" y="17524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5" name="WordArt 23"/>
          <p:cNvSpPr txBox="1"/>
          <p:nvPr/>
        </p:nvSpPr>
        <p:spPr>
          <a:xfrm>
            <a:off x="25146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6" name="AutoShape 24">
            <a:hlinkClick r:id="rId6"/>
          </p:cNvPr>
          <p:cNvSpPr/>
          <p:nvPr/>
        </p:nvSpPr>
        <p:spPr>
          <a:xfrm>
            <a:off x="3886200" y="2666880"/>
            <a:ext cx="1371600" cy="1219320"/>
          </a:xfrm>
          <a:custGeom>
            <a:avLst/>
            <a:gdLst/>
            <a:ahLst/>
            <a:rect l="l" t="t" r="r" b="b"/>
            <a:pathLst>
              <a:path w="1371600" h="1219200">
                <a:moveTo>
                  <a:pt x="1" y="465691"/>
                </a:moveTo>
                <a:lnTo>
                  <a:pt x="523907" y="465695"/>
                </a:lnTo>
                <a:lnTo>
                  <a:pt x="685800" y="0"/>
                </a:lnTo>
                <a:lnTo>
                  <a:pt x="847692" y="465695"/>
                </a:lnTo>
                <a:lnTo>
                  <a:pt x="1371598" y="465691"/>
                </a:lnTo>
                <a:lnTo>
                  <a:pt x="947747" y="753503"/>
                </a:lnTo>
                <a:lnTo>
                  <a:pt x="1109646" y="1219196"/>
                </a:lnTo>
                <a:lnTo>
                  <a:pt x="685800" y="931379"/>
                </a:lnTo>
                <a:lnTo>
                  <a:pt x="261953" y="1219196"/>
                </a:lnTo>
                <a:lnTo>
                  <a:pt x="423852" y="753503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WordArt 25"/>
          <p:cNvSpPr txBox="1"/>
          <p:nvPr/>
        </p:nvSpPr>
        <p:spPr>
          <a:xfrm>
            <a:off x="1981080" y="5410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8" name="WordArt 26"/>
          <p:cNvSpPr txBox="1"/>
          <p:nvPr/>
        </p:nvSpPr>
        <p:spPr>
          <a:xfrm>
            <a:off x="2514600" y="2362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49" name="WordArt 27" descr=""/>
          <p:cNvPicPr/>
          <p:nvPr/>
        </p:nvPicPr>
        <p:blipFill>
          <a:blip r:embed="rId7"/>
          <a:stretch/>
        </p:blipFill>
        <p:spPr>
          <a:xfrm>
            <a:off x="147600" y="2971800"/>
            <a:ext cx="1876320" cy="1028880"/>
          </a:xfrm>
          <a:prstGeom prst="rect">
            <a:avLst/>
          </a:prstGeom>
          <a:ln w="0">
            <a:noFill/>
          </a:ln>
        </p:spPr>
      </p:pic>
      <p:sp>
        <p:nvSpPr>
          <p:cNvPr id="1350" name="AutoShape 28"/>
          <p:cNvSpPr/>
          <p:nvPr/>
        </p:nvSpPr>
        <p:spPr>
          <a:xfrm>
            <a:off x="4114800" y="304920"/>
            <a:ext cx="1371600" cy="914400"/>
          </a:xfrm>
          <a:prstGeom prst="flowChartInternalStorag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WordArt 29"/>
          <p:cNvSpPr txBox="1"/>
          <p:nvPr/>
        </p:nvSpPr>
        <p:spPr>
          <a:xfrm>
            <a:off x="457200" y="4572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比划演示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2" name="WordArt 30"/>
          <p:cNvSpPr txBox="1"/>
          <p:nvPr/>
        </p:nvSpPr>
        <p:spPr>
          <a:xfrm>
            <a:off x="2286000" y="32004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3" name="WordArt 31"/>
          <p:cNvSpPr txBox="1"/>
          <p:nvPr/>
        </p:nvSpPr>
        <p:spPr>
          <a:xfrm>
            <a:off x="2286000" y="58672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4" name="AutoShape 33"/>
          <p:cNvSpPr/>
          <p:nvPr/>
        </p:nvSpPr>
        <p:spPr>
          <a:xfrm>
            <a:off x="4114800" y="4191120"/>
            <a:ext cx="1219320" cy="761760"/>
          </a:xfrm>
          <a:custGeom>
            <a:avLst/>
            <a:gdLst>
              <a:gd name="textAreaLeft" fmla="*/ 0 w 1219320"/>
              <a:gd name="textAreaRight" fmla="*/ 1219680 w 1219320"/>
              <a:gd name="textAreaTop" fmla="*/ 98640 h 761760"/>
              <a:gd name="textAreaBottom" fmla="*/ 663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5" name="WordArt 34" descr=""/>
          <p:cNvPicPr/>
          <p:nvPr/>
        </p:nvPicPr>
        <p:blipFill>
          <a:blip r:embed="rId10"/>
          <a:stretch/>
        </p:blipFill>
        <p:spPr>
          <a:xfrm>
            <a:off x="0" y="5257800"/>
            <a:ext cx="1778040" cy="939960"/>
          </a:xfrm>
          <a:prstGeom prst="rect">
            <a:avLst/>
          </a:prstGeom>
          <a:ln w="0">
            <a:noFill/>
          </a:ln>
        </p:spPr>
      </p:pic>
      <p:sp>
        <p:nvSpPr>
          <p:cNvPr id="1356" name="WordArt 36"/>
          <p:cNvSpPr txBox="1"/>
          <p:nvPr/>
        </p:nvSpPr>
        <p:spPr>
          <a:xfrm>
            <a:off x="25909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7" name="WordArt 37"/>
          <p:cNvSpPr txBox="1"/>
          <p:nvPr/>
        </p:nvSpPr>
        <p:spPr>
          <a:xfrm>
            <a:off x="2133720" y="42670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8" name="AutoShape 38"/>
          <p:cNvSpPr/>
          <p:nvPr/>
        </p:nvSpPr>
        <p:spPr>
          <a:xfrm>
            <a:off x="4114800" y="5334120"/>
            <a:ext cx="990720" cy="76176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 Box 43"/>
          <p:cNvSpPr/>
          <p:nvPr/>
        </p:nvSpPr>
        <p:spPr>
          <a:xfrm>
            <a:off x="7326000" y="2811600"/>
            <a:ext cx="72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48"/>
          <p:cNvSpPr/>
          <p:nvPr/>
        </p:nvSpPr>
        <p:spPr>
          <a:xfrm>
            <a:off x="7718400" y="38401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AutoShape 49">
            <a:hlinkClick r:id="" action="ppaction://hlinkshowjump?jump=endshow"/>
          </p:cNvPr>
          <p:cNvSpPr/>
          <p:nvPr/>
        </p:nvSpPr>
        <p:spPr>
          <a:xfrm>
            <a:off x="5562720" y="5410080"/>
            <a:ext cx="1676160" cy="1447920"/>
          </a:xfrm>
          <a:custGeom>
            <a:avLst/>
            <a:gdLst>
              <a:gd name="textAreaLeft" fmla="*/ 93600 w 1676160"/>
              <a:gd name="textAreaRight" fmla="*/ 1582560 w 16761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4" h="21600">
                <a:moveTo>
                  <a:pt x="0" y="0"/>
                </a:moveTo>
                <a:lnTo>
                  <a:pt x="25004" y="0"/>
                </a:lnTo>
                <a:lnTo>
                  <a:pt x="25004" y="21600"/>
                </a:lnTo>
                <a:lnTo>
                  <a:pt x="0" y="21600"/>
                </a:lnTo>
                <a:close/>
              </a:path>
              <a:path fill="lightenLess" w="25004" h="21600">
                <a:moveTo>
                  <a:pt x="0" y="0"/>
                </a:moveTo>
                <a:lnTo>
                  <a:pt x="25004" y="0"/>
                </a:lnTo>
                <a:lnTo>
                  <a:pt x="23604" y="1400"/>
                </a:lnTo>
                <a:lnTo>
                  <a:pt x="1400" y="1400"/>
                </a:lnTo>
                <a:close/>
              </a:path>
              <a:path fill="darken" w="25004" h="21600">
                <a:moveTo>
                  <a:pt x="25004" y="0"/>
                </a:moveTo>
                <a:lnTo>
                  <a:pt x="25004" y="21600"/>
                </a:lnTo>
                <a:lnTo>
                  <a:pt x="23604" y="20200"/>
                </a:lnTo>
                <a:lnTo>
                  <a:pt x="23604" y="1400"/>
                </a:lnTo>
                <a:close/>
              </a:path>
              <a:path fill="darkenLess" w="25004" h="21600">
                <a:moveTo>
                  <a:pt x="250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4" y="20200"/>
                </a:lnTo>
                <a:close/>
              </a:path>
              <a:path fill="lighten" w="250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04" h="21600">
                <a:moveTo>
                  <a:pt x="16001" y="10800"/>
                </a:moveTo>
                <a:lnTo>
                  <a:pt x="5496" y="17806"/>
                </a:lnTo>
                <a:lnTo>
                  <a:pt x="5496" y="3794"/>
                </a:lnTo>
                <a:close/>
              </a:path>
              <a:path fill="darken" w="25004" h="21600">
                <a:moveTo>
                  <a:pt x="17846" y="3794"/>
                </a:moveTo>
                <a:lnTo>
                  <a:pt x="17846" y="17806"/>
                </a:lnTo>
                <a:lnTo>
                  <a:pt x="19508" y="17806"/>
                </a:lnTo>
                <a:lnTo>
                  <a:pt x="19508" y="379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WordArt 50"/>
          <p:cNvSpPr txBox="1"/>
          <p:nvPr/>
        </p:nvSpPr>
        <p:spPr>
          <a:xfrm>
            <a:off x="5943600" y="5715000"/>
            <a:ext cx="914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退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3" name="AutoShape 57"/>
          <p:cNvSpPr/>
          <p:nvPr/>
        </p:nvSpPr>
        <p:spPr>
          <a:xfrm>
            <a:off x="6095880" y="2057400"/>
            <a:ext cx="2210040" cy="1676520"/>
          </a:xfrm>
          <a:custGeom>
            <a:avLst/>
            <a:gdLst>
              <a:gd name="textAreaLeft" fmla="*/ 108360 w 2210040"/>
              <a:gd name="textAreaRight" fmla="*/ 2101680 w 22100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8472" h="21600">
                <a:moveTo>
                  <a:pt x="0" y="0"/>
                </a:moveTo>
                <a:lnTo>
                  <a:pt x="28472" y="0"/>
                </a:lnTo>
                <a:lnTo>
                  <a:pt x="28472" y="21600"/>
                </a:lnTo>
                <a:lnTo>
                  <a:pt x="0" y="21600"/>
                </a:lnTo>
                <a:close/>
              </a:path>
              <a:path fill="lightenLess" w="28472" h="21600">
                <a:moveTo>
                  <a:pt x="0" y="0"/>
                </a:moveTo>
                <a:lnTo>
                  <a:pt x="28472" y="0"/>
                </a:lnTo>
                <a:lnTo>
                  <a:pt x="27072" y="1400"/>
                </a:lnTo>
                <a:lnTo>
                  <a:pt x="1400" y="1400"/>
                </a:lnTo>
                <a:close/>
              </a:path>
              <a:path fill="darken" w="28472" h="21600">
                <a:moveTo>
                  <a:pt x="28472" y="0"/>
                </a:moveTo>
                <a:lnTo>
                  <a:pt x="28472" y="21600"/>
                </a:lnTo>
                <a:lnTo>
                  <a:pt x="27072" y="20200"/>
                </a:lnTo>
                <a:lnTo>
                  <a:pt x="27072" y="1400"/>
                </a:lnTo>
                <a:close/>
              </a:path>
              <a:path fill="darkenLess" w="28472" h="21600">
                <a:moveTo>
                  <a:pt x="28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72" y="20200"/>
                </a:lnTo>
                <a:close/>
              </a:path>
              <a:path fill="lighten" w="28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472" h="21600">
                <a:moveTo>
                  <a:pt x="7230" y="7301"/>
                </a:moveTo>
                <a:lnTo>
                  <a:pt x="8144" y="7301"/>
                </a:lnTo>
                <a:lnTo>
                  <a:pt x="8527" y="7667"/>
                </a:lnTo>
                <a:lnTo>
                  <a:pt x="17735" y="7667"/>
                </a:lnTo>
                <a:lnTo>
                  <a:pt x="18292" y="8224"/>
                </a:lnTo>
                <a:lnTo>
                  <a:pt x="18292" y="8772"/>
                </a:lnTo>
                <a:lnTo>
                  <a:pt x="20137" y="8772"/>
                </a:lnTo>
                <a:lnTo>
                  <a:pt x="20503" y="8224"/>
                </a:lnTo>
                <a:lnTo>
                  <a:pt x="21243" y="8224"/>
                </a:lnTo>
                <a:lnTo>
                  <a:pt x="21243" y="13376"/>
                </a:lnTo>
                <a:lnTo>
                  <a:pt x="20503" y="13376"/>
                </a:lnTo>
                <a:lnTo>
                  <a:pt x="20137" y="12828"/>
                </a:lnTo>
                <a:lnTo>
                  <a:pt x="18292" y="12828"/>
                </a:lnTo>
                <a:lnTo>
                  <a:pt x="18292" y="14107"/>
                </a:lnTo>
                <a:lnTo>
                  <a:pt x="8709" y="14107"/>
                </a:lnTo>
                <a:lnTo>
                  <a:pt x="8709" y="9877"/>
                </a:lnTo>
                <a:lnTo>
                  <a:pt x="8527" y="9877"/>
                </a:lnTo>
                <a:lnTo>
                  <a:pt x="8144" y="10243"/>
                </a:lnTo>
                <a:lnTo>
                  <a:pt x="7230" y="10243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WordArt 59"/>
          <p:cNvSpPr txBox="1"/>
          <p:nvPr/>
        </p:nvSpPr>
        <p:spPr>
          <a:xfrm>
            <a:off x="6477120" y="27432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单元复习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65" name="Picture 60" descr="图片3"/>
          <p:cNvPicPr/>
          <p:nvPr/>
        </p:nvPicPr>
        <p:blipFill>
          <a:blip r:embed="rId12"/>
          <a:stretch/>
        </p:blipFill>
        <p:spPr>
          <a:xfrm>
            <a:off x="-304920" y="-142920"/>
            <a:ext cx="9753840" cy="7143840"/>
          </a:xfrm>
          <a:prstGeom prst="rect">
            <a:avLst/>
          </a:prstGeom>
          <a:ln w="0">
            <a:noFill/>
          </a:ln>
        </p:spPr>
      </p:pic>
      <p:sp>
        <p:nvSpPr>
          <p:cNvPr id="136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4F8A-E5D5-4E41-94B1-DF23E6FC0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Line 4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5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9"/>
          <p:cNvSpPr/>
          <p:nvPr/>
        </p:nvSpPr>
        <p:spPr>
          <a:xfrm>
            <a:off x="30492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3886200" y="274320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Oval 11"/>
          <p:cNvSpPr/>
          <p:nvPr/>
        </p:nvSpPr>
        <p:spPr>
          <a:xfrm>
            <a:off x="3733920" y="2133720"/>
            <a:ext cx="304560" cy="304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EF55-4370-43DE-AC62-906664480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WordArt 5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79" name="Line 6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7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10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57A9-BD1C-4AAB-9F6F-368C0ACC6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5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8"/>
          <p:cNvSpPr/>
          <p:nvPr/>
        </p:nvSpPr>
        <p:spPr>
          <a:xfrm>
            <a:off x="3809880" y="2209680"/>
            <a:ext cx="30492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9"/>
          <p:cNvSpPr/>
          <p:nvPr/>
        </p:nvSpPr>
        <p:spPr>
          <a:xfrm>
            <a:off x="4648320" y="2209680"/>
            <a:ext cx="30456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WordArt 10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93" name="Line 11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AutoShape 12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D128-318B-4FB2-A7AF-9FC248FE5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Line 4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Line 6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Line 7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8"/>
          <p:cNvSpPr/>
          <p:nvPr/>
        </p:nvSpPr>
        <p:spPr>
          <a:xfrm>
            <a:off x="3733920" y="2743200"/>
            <a:ext cx="9144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10"/>
          <p:cNvSpPr/>
          <p:nvPr/>
        </p:nvSpPr>
        <p:spPr>
          <a:xfrm flipH="1">
            <a:off x="3962160" y="2743200"/>
            <a:ext cx="1447560" cy="30481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1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7A4B-2FD6-4E79-9E57-74C88D997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Line 4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5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6"/>
          <p:cNvSpPr/>
          <p:nvPr/>
        </p:nvSpPr>
        <p:spPr>
          <a:xfrm>
            <a:off x="380880" y="60199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7"/>
          <p:cNvSpPr/>
          <p:nvPr/>
        </p:nvSpPr>
        <p:spPr>
          <a:xfrm>
            <a:off x="457200" y="9144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9"/>
          <p:cNvSpPr/>
          <p:nvPr/>
        </p:nvSpPr>
        <p:spPr>
          <a:xfrm>
            <a:off x="274320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0"/>
          <p:cNvSpPr/>
          <p:nvPr/>
        </p:nvSpPr>
        <p:spPr>
          <a:xfrm flipH="1">
            <a:off x="3352680" y="2743200"/>
            <a:ext cx="60984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"/>
          <p:cNvSpPr/>
          <p:nvPr/>
        </p:nvSpPr>
        <p:spPr>
          <a:xfrm>
            <a:off x="3962520" y="2743200"/>
            <a:ext cx="45720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2"/>
          <p:cNvSpPr/>
          <p:nvPr/>
        </p:nvSpPr>
        <p:spPr>
          <a:xfrm flipH="1">
            <a:off x="4419360" y="2743200"/>
            <a:ext cx="609480" cy="167652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AutoShape 1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E63F-72BD-4916-9050-3281E1113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WordArt 5"/>
          <p:cNvSpPr txBox="1"/>
          <p:nvPr/>
        </p:nvSpPr>
        <p:spPr>
          <a:xfrm>
            <a:off x="2133720" y="2286000"/>
            <a:ext cx="1295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y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418" name="Line 6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0" y="18288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9"/>
          <p:cNvSpPr/>
          <p:nvPr/>
        </p:nvSpPr>
        <p:spPr>
          <a:xfrm>
            <a:off x="60199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WordArt 10" descr=""/>
          <p:cNvPicPr/>
          <p:nvPr/>
        </p:nvPicPr>
        <p:blipFill>
          <a:blip r:embed="rId2"/>
          <a:stretch/>
        </p:blipFill>
        <p:spPr>
          <a:xfrm>
            <a:off x="4110120" y="1900080"/>
            <a:ext cx="1724040" cy="4562640"/>
          </a:xfrm>
          <a:prstGeom prst="rect">
            <a:avLst/>
          </a:prstGeom>
          <a:ln w="0">
            <a:noFill/>
          </a:ln>
        </p:spPr>
      </p:pic>
      <p:sp>
        <p:nvSpPr>
          <p:cNvPr id="1422" name="WordArt 11"/>
          <p:cNvSpPr txBox="1"/>
          <p:nvPr/>
        </p:nvSpPr>
        <p:spPr>
          <a:xfrm>
            <a:off x="2895480" y="1905120"/>
            <a:ext cx="228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黑体"/>
              </a:rPr>
              <a:t>i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1423" name="WordArt 12" descr=""/>
          <p:cNvPicPr/>
          <p:nvPr/>
        </p:nvPicPr>
        <p:blipFill>
          <a:blip r:embed="rId3"/>
          <a:stretch/>
        </p:blipFill>
        <p:spPr>
          <a:xfrm>
            <a:off x="6165720" y="1822320"/>
            <a:ext cx="965160" cy="4915080"/>
          </a:xfrm>
          <a:prstGeom prst="rect">
            <a:avLst/>
          </a:prstGeom>
          <a:ln w="0">
            <a:noFill/>
          </a:ln>
        </p:spPr>
      </p:pic>
      <p:sp>
        <p:nvSpPr>
          <p:cNvPr id="1424" name="Line 13"/>
          <p:cNvSpPr/>
          <p:nvPr/>
        </p:nvSpPr>
        <p:spPr>
          <a:xfrm>
            <a:off x="20574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4"/>
          <p:cNvSpPr/>
          <p:nvPr/>
        </p:nvSpPr>
        <p:spPr>
          <a:xfrm flipH="1">
            <a:off x="-360" y="533412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5"/>
          <p:cNvSpPr/>
          <p:nvPr/>
        </p:nvSpPr>
        <p:spPr>
          <a:xfrm flipH="1">
            <a:off x="-360" y="335268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WordArt 16"/>
          <p:cNvSpPr txBox="1"/>
          <p:nvPr/>
        </p:nvSpPr>
        <p:spPr>
          <a:xfrm>
            <a:off x="6324480" y="380988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(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无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)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8" name="WordArt 17"/>
          <p:cNvSpPr txBox="1"/>
          <p:nvPr/>
        </p:nvSpPr>
        <p:spPr>
          <a:xfrm>
            <a:off x="1066680" y="228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读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29" name="Line 18"/>
          <p:cNvSpPr/>
          <p:nvPr/>
        </p:nvSpPr>
        <p:spPr>
          <a:xfrm>
            <a:off x="304920" y="0"/>
            <a:ext cx="175248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19"/>
          <p:cNvSpPr/>
          <p:nvPr/>
        </p:nvSpPr>
        <p:spPr>
          <a:xfrm>
            <a:off x="0" y="9144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WordArt 20"/>
          <p:cNvSpPr txBox="1"/>
          <p:nvPr/>
        </p:nvSpPr>
        <p:spPr>
          <a:xfrm rot="1294200">
            <a:off x="15192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写法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2" name="WordArt 21"/>
          <p:cNvSpPr txBox="1"/>
          <p:nvPr/>
        </p:nvSpPr>
        <p:spPr>
          <a:xfrm>
            <a:off x="228600" y="1371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类型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3" name="WordArt 22"/>
          <p:cNvSpPr txBox="1"/>
          <p:nvPr/>
        </p:nvSpPr>
        <p:spPr>
          <a:xfrm>
            <a:off x="304920" y="2362320"/>
            <a:ext cx="1676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4" name="WordArt 23"/>
          <p:cNvSpPr txBox="1"/>
          <p:nvPr/>
        </p:nvSpPr>
        <p:spPr>
          <a:xfrm>
            <a:off x="0" y="3352680"/>
            <a:ext cx="19810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声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5" name="WordArt 24"/>
          <p:cNvSpPr txBox="1"/>
          <p:nvPr/>
        </p:nvSpPr>
        <p:spPr>
          <a:xfrm>
            <a:off x="0" y="5334120"/>
            <a:ext cx="20574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整体认读音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436" name="Picture 25" descr="c80e42ee4c9091d5b3fb95a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26" descr="c80e42ee4c9091d5b3fb95a2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14600" y="38088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27" descr="c80e42ee4c9091d5b3fb95a2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724280" y="38088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439" name="AutoShape 28"/>
          <p:cNvSpPr/>
          <p:nvPr/>
        </p:nvSpPr>
        <p:spPr>
          <a:xfrm>
            <a:off x="8153280" y="457200"/>
            <a:ext cx="990720" cy="18288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828800"/>
              <a:gd name="textAreaBottom" fmla="*/ 1764720 h 1828800"/>
            </a:gdLst>
            <a:ahLst/>
            <a:rect l="textAreaLeft" t="textAreaTop" r="textAreaRight" b="textAreaBottom"/>
            <a:pathLst>
              <a:path w="21600" h="39865">
                <a:moveTo>
                  <a:pt x="0" y="0"/>
                </a:moveTo>
                <a:lnTo>
                  <a:pt x="21600" y="0"/>
                </a:lnTo>
                <a:lnTo>
                  <a:pt x="21600" y="39865"/>
                </a:lnTo>
                <a:lnTo>
                  <a:pt x="0" y="39865"/>
                </a:lnTo>
                <a:close/>
              </a:path>
              <a:path fill="lightenLess" w="21600" h="3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9865">
                <a:moveTo>
                  <a:pt x="21600" y="0"/>
                </a:moveTo>
                <a:lnTo>
                  <a:pt x="21600" y="39865"/>
                </a:lnTo>
                <a:lnTo>
                  <a:pt x="20200" y="38465"/>
                </a:lnTo>
                <a:lnTo>
                  <a:pt x="20200" y="1400"/>
                </a:lnTo>
                <a:close/>
              </a:path>
              <a:path fill="darkenLess" w="21600" h="39865">
                <a:moveTo>
                  <a:pt x="21600" y="39865"/>
                </a:moveTo>
                <a:lnTo>
                  <a:pt x="0" y="39865"/>
                </a:lnTo>
                <a:lnTo>
                  <a:pt x="1400" y="38465"/>
                </a:lnTo>
                <a:lnTo>
                  <a:pt x="20200" y="38465"/>
                </a:lnTo>
                <a:close/>
              </a:path>
              <a:path fill="lighten" w="21600" h="39865">
                <a:moveTo>
                  <a:pt x="0" y="3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38465"/>
                </a:lnTo>
                <a:close/>
              </a:path>
              <a:path fill="darken" w="21600" h="39865">
                <a:moveTo>
                  <a:pt x="3794" y="16625"/>
                </a:moveTo>
                <a:lnTo>
                  <a:pt x="7301" y="16625"/>
                </a:lnTo>
                <a:lnTo>
                  <a:pt x="7301" y="21961"/>
                </a:lnTo>
                <a:cubicBezTo>
                  <a:pt x="7301" y="22883"/>
                  <a:pt x="8102" y="23614"/>
                  <a:pt x="9138" y="23614"/>
                </a:cubicBezTo>
                <a:lnTo>
                  <a:pt x="10800" y="23614"/>
                </a:lnTo>
                <a:cubicBezTo>
                  <a:pt x="11836" y="23614"/>
                  <a:pt x="12636" y="22883"/>
                  <a:pt x="12636" y="21961"/>
                </a:cubicBezTo>
                <a:lnTo>
                  <a:pt x="12636" y="16625"/>
                </a:lnTo>
                <a:lnTo>
                  <a:pt x="10800" y="16625"/>
                </a:lnTo>
                <a:lnTo>
                  <a:pt x="14308" y="13118"/>
                </a:lnTo>
                <a:lnTo>
                  <a:pt x="17981" y="16625"/>
                </a:lnTo>
                <a:lnTo>
                  <a:pt x="16144" y="16625"/>
                </a:lnTo>
                <a:lnTo>
                  <a:pt x="16144" y="21961"/>
                </a:lnTo>
                <a:cubicBezTo>
                  <a:pt x="16144" y="24728"/>
                  <a:pt x="13568" y="27287"/>
                  <a:pt x="10800" y="27287"/>
                </a:cubicBezTo>
                <a:lnTo>
                  <a:pt x="9138" y="27287"/>
                </a:lnTo>
                <a:cubicBezTo>
                  <a:pt x="6370" y="27287"/>
                  <a:pt x="3794" y="24728"/>
                  <a:pt x="3794" y="21961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29"/>
          <p:cNvSpPr/>
          <p:nvPr/>
        </p:nvSpPr>
        <p:spPr>
          <a:xfrm>
            <a:off x="754380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WordArt 30"/>
          <p:cNvSpPr txBox="1"/>
          <p:nvPr/>
        </p:nvSpPr>
        <p:spPr>
          <a:xfrm>
            <a:off x="7924680" y="525780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返回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2" name="WordArt 34"/>
          <p:cNvSpPr txBox="1"/>
          <p:nvPr/>
        </p:nvSpPr>
        <p:spPr>
          <a:xfrm rot="16200000">
            <a:off x="7353360" y="3542760"/>
            <a:ext cx="2438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162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162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3" name="灯片编号占位符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62A7-F8C3-47FF-9823-A3959AFE7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页脚占位符 3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7" name="Rectangle 4"/>
          <p:cNvSpPr/>
          <p:nvPr/>
        </p:nvSpPr>
        <p:spPr>
          <a:xfrm>
            <a:off x="-152280" y="0"/>
            <a:ext cx="929628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节音一般是指添加一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声母后读音仍和韵母一样的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（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uan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比较特殊），也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指不用拼读即直接认读的音节，所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整体认读音节要直接读出，如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yi wu yu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Arial"/>
              </a:rPr>
              <a:t>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5"/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6D2B-41C2-4380-9101-37DC30CBD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las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9" name="WordArt 6"/>
          <p:cNvSpPr txBox="1"/>
          <p:nvPr/>
        </p:nvSpPr>
        <p:spPr>
          <a:xfrm>
            <a:off x="1676520" y="762120"/>
            <a:ext cx="5790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请选择您要用的功能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60" name="AutoShape 7">
            <a:hlinkClick r:id="rId2" action="ppaction://hlinksldjump"/>
          </p:cNvPr>
          <p:cNvSpPr/>
          <p:nvPr/>
        </p:nvSpPr>
        <p:spPr>
          <a:xfrm>
            <a:off x="990720" y="1828800"/>
            <a:ext cx="1904760" cy="1295280"/>
          </a:xfrm>
          <a:custGeom>
            <a:avLst/>
            <a:gdLst>
              <a:gd name="textAreaLeft" fmla="*/ 83880 w 1904760"/>
              <a:gd name="textAreaRight" fmla="*/ 1820880 w 19047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1" h="21600">
                <a:moveTo>
                  <a:pt x="0" y="0"/>
                </a:moveTo>
                <a:lnTo>
                  <a:pt x="31761" y="0"/>
                </a:lnTo>
                <a:lnTo>
                  <a:pt x="31761" y="21600"/>
                </a:lnTo>
                <a:lnTo>
                  <a:pt x="0" y="21600"/>
                </a:lnTo>
                <a:close/>
              </a:path>
              <a:path fill="lightenLess" w="31761" h="21600">
                <a:moveTo>
                  <a:pt x="0" y="0"/>
                </a:moveTo>
                <a:lnTo>
                  <a:pt x="31761" y="0"/>
                </a:lnTo>
                <a:lnTo>
                  <a:pt x="30361" y="1400"/>
                </a:lnTo>
                <a:lnTo>
                  <a:pt x="1400" y="1400"/>
                </a:lnTo>
                <a:close/>
              </a:path>
              <a:path fill="darken" w="31761" h="21600">
                <a:moveTo>
                  <a:pt x="31761" y="0"/>
                </a:moveTo>
                <a:lnTo>
                  <a:pt x="31761" y="21600"/>
                </a:lnTo>
                <a:lnTo>
                  <a:pt x="30361" y="20200"/>
                </a:lnTo>
                <a:lnTo>
                  <a:pt x="30361" y="1400"/>
                </a:lnTo>
                <a:close/>
              </a:path>
              <a:path fill="darkenLess" w="31761" h="21600">
                <a:moveTo>
                  <a:pt x="3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1" y="20200"/>
                </a:lnTo>
                <a:close/>
              </a:path>
              <a:path fill="lighten" w="3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761" h="21600">
                <a:moveTo>
                  <a:pt x="8874" y="3794"/>
                </a:moveTo>
                <a:lnTo>
                  <a:pt x="22887" y="10800"/>
                </a:lnTo>
                <a:lnTo>
                  <a:pt x="887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WordArt 8"/>
          <p:cNvSpPr txBox="1"/>
          <p:nvPr/>
        </p:nvSpPr>
        <p:spPr>
          <a:xfrm>
            <a:off x="3276000" y="2209680"/>
            <a:ext cx="1904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2" name="WordArt 9"/>
          <p:cNvSpPr txBox="1"/>
          <p:nvPr/>
        </p:nvSpPr>
        <p:spPr>
          <a:xfrm>
            <a:off x="3886200" y="2666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3" name="WordArt 10"/>
          <p:cNvSpPr txBox="1"/>
          <p:nvPr/>
        </p:nvSpPr>
        <p:spPr>
          <a:xfrm>
            <a:off x="5257800" y="1905120"/>
            <a:ext cx="914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导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64" name="AutoShape 11">
            <a:hlinkClick r:id="rId3" action="ppaction://hlinksldjump"/>
          </p:cNvPr>
          <p:cNvSpPr/>
          <p:nvPr/>
        </p:nvSpPr>
        <p:spPr>
          <a:xfrm>
            <a:off x="914400" y="3276720"/>
            <a:ext cx="1981080" cy="990360"/>
          </a:xfrm>
          <a:custGeom>
            <a:avLst/>
            <a:gdLst>
              <a:gd name="textAreaLeft" fmla="*/ 64080 w 1981080"/>
              <a:gd name="textAreaRight" fmla="*/ 1917000 w 19810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WordArt 12"/>
          <p:cNvSpPr txBox="1"/>
          <p:nvPr/>
        </p:nvSpPr>
        <p:spPr>
          <a:xfrm rot="5400000">
            <a:off x="5410080" y="3429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学习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6" name="WordArt 13"/>
          <p:cNvSpPr txBox="1"/>
          <p:nvPr/>
        </p:nvSpPr>
        <p:spPr>
          <a:xfrm rot="10800000">
            <a:off x="5143680" y="38862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7" name="WordArt 14"/>
          <p:cNvSpPr txBox="1"/>
          <p:nvPr/>
        </p:nvSpPr>
        <p:spPr>
          <a:xfrm>
            <a:off x="3962520" y="3962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8" name="WordArt 15"/>
          <p:cNvSpPr txBox="1"/>
          <p:nvPr/>
        </p:nvSpPr>
        <p:spPr>
          <a:xfrm>
            <a:off x="5486400" y="44197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刷新</a:t>
            </a:r>
            <a:endParaRPr b="0" lang="en-US" sz="1800" spc="-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9" name="WordArt 16"/>
          <p:cNvSpPr txBox="1"/>
          <p:nvPr/>
        </p:nvSpPr>
        <p:spPr>
          <a:xfrm rot="10800000">
            <a:off x="5143680" y="49528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663012"/>
                    </a:gs>
                    <a:gs pos="50000">
                      <a:srgbClr val="d6b19c"/>
                    </a:gs>
                    <a:gs pos="100000">
                      <a:srgbClr val="66301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───☞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663012"/>
                  </a:gs>
                  <a:gs pos="5000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0" name="AutoShape 18">
            <a:hlinkClick r:id="rId8" action="ppaction://hlinksldjump"/>
          </p:cNvPr>
          <p:cNvSpPr/>
          <p:nvPr/>
        </p:nvSpPr>
        <p:spPr>
          <a:xfrm>
            <a:off x="914400" y="4343400"/>
            <a:ext cx="1905120" cy="838080"/>
          </a:xfrm>
          <a:custGeom>
            <a:avLst/>
            <a:gdLst>
              <a:gd name="textAreaLeft" fmla="*/ 54000 w 1905120"/>
              <a:gd name="textAreaRight" fmla="*/ 1851120 w 1905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9089" h="21600">
                <a:moveTo>
                  <a:pt x="0" y="0"/>
                </a:moveTo>
                <a:lnTo>
                  <a:pt x="49089" y="0"/>
                </a:lnTo>
                <a:lnTo>
                  <a:pt x="49089" y="21600"/>
                </a:lnTo>
                <a:lnTo>
                  <a:pt x="0" y="21600"/>
                </a:lnTo>
                <a:close/>
              </a:path>
              <a:path fill="lightenLess" w="49089" h="21600">
                <a:moveTo>
                  <a:pt x="0" y="0"/>
                </a:moveTo>
                <a:lnTo>
                  <a:pt x="49089" y="0"/>
                </a:lnTo>
                <a:lnTo>
                  <a:pt x="47689" y="1400"/>
                </a:lnTo>
                <a:lnTo>
                  <a:pt x="1400" y="1400"/>
                </a:lnTo>
                <a:close/>
              </a:path>
              <a:path fill="darken" w="49089" h="21600">
                <a:moveTo>
                  <a:pt x="49089" y="0"/>
                </a:moveTo>
                <a:lnTo>
                  <a:pt x="49089" y="21600"/>
                </a:lnTo>
                <a:lnTo>
                  <a:pt x="47689" y="20200"/>
                </a:lnTo>
                <a:lnTo>
                  <a:pt x="47689" y="1400"/>
                </a:lnTo>
                <a:close/>
              </a:path>
              <a:path fill="darkenLess" w="49089" h="21600">
                <a:moveTo>
                  <a:pt x="49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89" y="20200"/>
                </a:lnTo>
                <a:close/>
              </a:path>
              <a:path fill="lighten" w="49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89" h="21600">
                <a:moveTo>
                  <a:pt x="24545" y="3837"/>
                </a:moveTo>
                <a:lnTo>
                  <a:pt x="27121" y="6448"/>
                </a:ln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lnTo>
                  <a:pt x="31508" y="10800"/>
                </a:lnTo>
                <a:lnTo>
                  <a:pt x="29854" y="10800"/>
                </a:lnTo>
                <a:lnTo>
                  <a:pt x="29854" y="17989"/>
                </a:lnTo>
                <a:lnTo>
                  <a:pt x="19235" y="17989"/>
                </a:lnTo>
                <a:lnTo>
                  <a:pt x="19235" y="10800"/>
                </a:lnTo>
                <a:lnTo>
                  <a:pt x="17582" y="10800"/>
                </a:lnTo>
                <a:close/>
              </a:path>
              <a:path fill="darkenLess" w="49089" h="21600">
                <a:moveTo>
                  <a:pt x="27121" y="6448"/>
                </a:moveTo>
                <a:lnTo>
                  <a:pt x="27121" y="4707"/>
                </a:lnTo>
                <a:lnTo>
                  <a:pt x="28896" y="4707"/>
                </a:lnTo>
                <a:lnTo>
                  <a:pt x="28896" y="8224"/>
                </a:lnTo>
                <a:close/>
              </a:path>
              <a:path fill="darkenLess" w="49089" h="21600">
                <a:moveTo>
                  <a:pt x="23622" y="14299"/>
                </a:moveTo>
                <a:lnTo>
                  <a:pt x="25467" y="14299"/>
                </a:lnTo>
                <a:lnTo>
                  <a:pt x="25467" y="17989"/>
                </a:lnTo>
                <a:lnTo>
                  <a:pt x="29854" y="17989"/>
                </a:lnTo>
                <a:lnTo>
                  <a:pt x="29854" y="10800"/>
                </a:lnTo>
                <a:lnTo>
                  <a:pt x="19235" y="10800"/>
                </a:lnTo>
                <a:lnTo>
                  <a:pt x="19235" y="17989"/>
                </a:lnTo>
                <a:lnTo>
                  <a:pt x="23622" y="17989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WordArt 19"/>
          <p:cNvSpPr txBox="1"/>
          <p:nvPr/>
        </p:nvSpPr>
        <p:spPr>
          <a:xfrm>
            <a:off x="3962520" y="4876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（点击）</a:t>
            </a:r>
            <a:endParaRPr b="0" lang="en-US" sz="1800" spc="-1" strike="noStrike">
              <a:ln w="0">
                <a:noFill/>
              </a:ln>
              <a:solidFill>
                <a:srgbClr val="ff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2" name="AutoShape 20">
            <a:hlinkClick r:id="rId9" action="ppaction://hlinksldjump"/>
          </p:cNvPr>
          <p:cNvSpPr/>
          <p:nvPr/>
        </p:nvSpPr>
        <p:spPr>
          <a:xfrm>
            <a:off x="3429000" y="5638680"/>
            <a:ext cx="5334120" cy="990720"/>
          </a:xfrm>
          <a:custGeom>
            <a:avLst/>
            <a:gdLst>
              <a:gd name="textAreaLeft" fmla="*/ 64080 w 5334120"/>
              <a:gd name="textAreaRight" fmla="*/ 5270040 w 53341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6262" h="21600">
                <a:moveTo>
                  <a:pt x="0" y="0"/>
                </a:moveTo>
                <a:lnTo>
                  <a:pt x="116262" y="0"/>
                </a:lnTo>
                <a:lnTo>
                  <a:pt x="116262" y="21600"/>
                </a:lnTo>
                <a:lnTo>
                  <a:pt x="0" y="21600"/>
                </a:lnTo>
                <a:close/>
              </a:path>
              <a:path fill="lightenLess" w="116262" h="21600">
                <a:moveTo>
                  <a:pt x="0" y="0"/>
                </a:moveTo>
                <a:lnTo>
                  <a:pt x="116262" y="0"/>
                </a:lnTo>
                <a:lnTo>
                  <a:pt x="114862" y="1400"/>
                </a:lnTo>
                <a:lnTo>
                  <a:pt x="1400" y="1400"/>
                </a:lnTo>
                <a:close/>
              </a:path>
              <a:path fill="darken" w="116262" h="21600">
                <a:moveTo>
                  <a:pt x="116262" y="0"/>
                </a:moveTo>
                <a:lnTo>
                  <a:pt x="116262" y="21600"/>
                </a:lnTo>
                <a:lnTo>
                  <a:pt x="114862" y="20200"/>
                </a:lnTo>
                <a:lnTo>
                  <a:pt x="114862" y="1400"/>
                </a:lnTo>
                <a:close/>
              </a:path>
              <a:path fill="darkenLess" w="116262" h="21600">
                <a:moveTo>
                  <a:pt x="116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4862" y="20200"/>
                </a:lnTo>
                <a:close/>
              </a:path>
              <a:path fill="lighten" w="116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更多内容（含复习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3" name="Object 25" descr=""/>
          <p:cNvPicPr/>
          <p:nvPr/>
        </p:nvPicPr>
        <p:blipFill>
          <a:blip r:embed="rId10"/>
          <a:stretch/>
        </p:blipFill>
        <p:spPr>
          <a:xfrm>
            <a:off x="4243320" y="7543800"/>
            <a:ext cx="6096240" cy="309600"/>
          </a:xfrm>
          <a:prstGeom prst="rect">
            <a:avLst/>
          </a:prstGeom>
          <a:ln w="0">
            <a:noFill/>
          </a:ln>
        </p:spPr>
      </p:pic>
      <p:pic>
        <p:nvPicPr>
          <p:cNvPr id="1174" name="Picture 26" descr="三个兔子手拉手"/>
          <p:cNvPicPr/>
          <p:nvPr/>
        </p:nvPicPr>
        <p:blipFill>
          <a:blip r:embed="rId11"/>
          <a:stretch/>
        </p:blipFill>
        <p:spPr>
          <a:xfrm>
            <a:off x="-304920" y="-1309680"/>
            <a:ext cx="9753840" cy="9477360"/>
          </a:xfrm>
          <a:prstGeom prst="rect">
            <a:avLst/>
          </a:prstGeom>
          <a:ln w="0">
            <a:noFill/>
          </a:ln>
        </p:spPr>
      </p:pic>
      <p:sp>
        <p:nvSpPr>
          <p:cNvPr id="1175" name="灯片编号占位符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129D-EB72-4333-AF8F-E8EA6481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页脚占位符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045"/>
          <p:cNvSpPr/>
          <p:nvPr/>
        </p:nvSpPr>
        <p:spPr>
          <a:xfrm>
            <a:off x="157320" y="-106668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矩形 104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矩形 1047"/>
          <p:cNvSpPr/>
          <p:nvPr/>
        </p:nvSpPr>
        <p:spPr>
          <a:xfrm>
            <a:off x="476280" y="451800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4"/>
          <p:cNvSpPr/>
          <p:nvPr/>
        </p:nvSpPr>
        <p:spPr>
          <a:xfrm>
            <a:off x="533520" y="228600"/>
            <a:ext cx="4876560" cy="2514600"/>
          </a:xfrm>
          <a:prstGeom prst="rect">
            <a:avLst/>
          </a:prstGeom>
          <a:solidFill>
            <a:srgbClr val="ff6600">
              <a:alpha val="55000"/>
            </a:srgbClr>
          </a:solidFill>
          <a:ln w="7632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7673"/>
                </a:solidFill>
                <a:latin typeface="Arial"/>
                <a:ea typeface="方正姚体"/>
              </a:rPr>
              <a:t>导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5"/>
          <p:cNvSpPr/>
          <p:nvPr/>
        </p:nvSpPr>
        <p:spPr>
          <a:xfrm>
            <a:off x="1676520" y="3048120"/>
            <a:ext cx="5181480" cy="3581280"/>
          </a:xfrm>
          <a:prstGeom prst="rect">
            <a:avLst/>
          </a:prstGeom>
          <a:solidFill>
            <a:srgbClr val="ffff00">
              <a:alpha val="55000"/>
            </a:srgbClr>
          </a:solidFill>
          <a:ln w="38160">
            <a:solidFill>
              <a:srgbClr val="007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今天学习的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8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拼音，分别是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韵母、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2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声母，和</a:t>
            </a:r>
            <a:r>
              <a:rPr b="0" lang="en-US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3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个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1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（若不明白整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2" action="ppaction://hlinksldjump"/>
              </a:rPr>
              <a:t>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点击</a:t>
            </a:r>
            <a:r>
              <a:rPr b="0" lang="zh-CN" sz="2800" spc="-1" strike="noStrike" u="sng">
                <a:solidFill>
                  <a:srgbClr val="ffcc00"/>
                </a:solidFill>
                <a:uFillTx/>
                <a:latin typeface="方正姚体"/>
                <a:ea typeface="方正姚体"/>
                <a:hlinkClick r:id="rId3" action="ppaction://hlinksldjump"/>
              </a:rPr>
              <a:t>整体认读音节</a:t>
            </a:r>
            <a:r>
              <a:rPr b="0" lang="zh-CN" sz="2800" spc="-1" strike="noStrike">
                <a:solidFill>
                  <a:srgbClr val="003300"/>
                </a:solidFill>
                <a:latin typeface="方正姚体"/>
                <a:ea typeface="方正姚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6">
            <a:hlinkClick r:id="rId4" action="ppaction://hlinksldjump"/>
          </p:cNvPr>
          <p:cNvSpPr/>
          <p:nvPr/>
        </p:nvSpPr>
        <p:spPr>
          <a:xfrm>
            <a:off x="7238880" y="5410080"/>
            <a:ext cx="1905120" cy="1447920"/>
          </a:xfrm>
          <a:custGeom>
            <a:avLst/>
            <a:gdLst>
              <a:gd name="textAreaLeft" fmla="*/ 93600 w 1905120"/>
              <a:gd name="textAreaRight" fmla="*/ 1811520 w 19051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8419" h="21600">
                <a:moveTo>
                  <a:pt x="0" y="0"/>
                </a:moveTo>
                <a:lnTo>
                  <a:pt x="28419" y="0"/>
                </a:lnTo>
                <a:lnTo>
                  <a:pt x="28419" y="21600"/>
                </a:lnTo>
                <a:lnTo>
                  <a:pt x="0" y="21600"/>
                </a:lnTo>
                <a:close/>
              </a:path>
              <a:path fill="lightenLess" w="28419" h="21600">
                <a:moveTo>
                  <a:pt x="0" y="0"/>
                </a:moveTo>
                <a:lnTo>
                  <a:pt x="28419" y="0"/>
                </a:lnTo>
                <a:lnTo>
                  <a:pt x="27019" y="1400"/>
                </a:lnTo>
                <a:lnTo>
                  <a:pt x="1400" y="1400"/>
                </a:lnTo>
                <a:close/>
              </a:path>
              <a:path fill="darken" w="28419" h="21600">
                <a:moveTo>
                  <a:pt x="28419" y="0"/>
                </a:moveTo>
                <a:lnTo>
                  <a:pt x="28419" y="21600"/>
                </a:lnTo>
                <a:lnTo>
                  <a:pt x="27019" y="20200"/>
                </a:lnTo>
                <a:lnTo>
                  <a:pt x="27019" y="1400"/>
                </a:lnTo>
                <a:close/>
              </a:path>
              <a:path fill="darkenLess" w="28419" h="21600">
                <a:moveTo>
                  <a:pt x="28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19" y="20200"/>
                </a:lnTo>
                <a:close/>
              </a:path>
              <a:path fill="lighten" w="28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返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灯片编号占位符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8695-B44F-42AB-8EB4-7A86449D5133}" type="slidenum">
              <a:rPr b="0" lang="en-US" sz="1200" spc="-1" strike="noStrike">
                <a:solidFill>
                  <a:srgbClr val="00767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页脚占位符 7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"/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7" descr="《汉语拼音 2》i插图"/>
          <p:cNvPicPr/>
          <p:nvPr/>
        </p:nvPicPr>
        <p:blipFill>
          <a:blip r:embed="rId4"/>
          <a:stretch/>
        </p:blipFill>
        <p:spPr>
          <a:xfrm>
            <a:off x="457200" y="3808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1189" name="WordArt 8"/>
          <p:cNvSpPr txBox="1"/>
          <p:nvPr/>
        </p:nvSpPr>
        <p:spPr>
          <a:xfrm>
            <a:off x="4800600" y="685800"/>
            <a:ext cx="3162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0" name="WordArt 9"/>
          <p:cNvSpPr txBox="1"/>
          <p:nvPr/>
        </p:nvSpPr>
        <p:spPr>
          <a:xfrm>
            <a:off x="1523880" y="3352680"/>
            <a:ext cx="144792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衣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352680" y="3352680"/>
            <a:ext cx="4800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3399"/>
                </a:solidFill>
                <a:latin typeface="zypyyb"/>
                <a:ea typeface="zypyyb"/>
              </a:rPr>
              <a:t>一件衣服，嘴巴扁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iii</a:t>
            </a: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小棍头上有一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Picture 11" descr="c80e42ee4c9091d5b3fb95a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67480" y="144792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19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E24F-688E-4955-8892-CD7B9D054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196" name="Line 10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12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18"/>
          <p:cNvSpPr/>
          <p:nvPr/>
        </p:nvSpPr>
        <p:spPr>
          <a:xfrm>
            <a:off x="3581280" y="2666880"/>
            <a:ext cx="381240" cy="175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20"/>
          <p:cNvSpPr/>
          <p:nvPr/>
        </p:nvSpPr>
        <p:spPr>
          <a:xfrm>
            <a:off x="3581280" y="1828800"/>
            <a:ext cx="381240" cy="38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1"/>
          <p:cNvSpPr/>
          <p:nvPr/>
        </p:nvSpPr>
        <p:spPr>
          <a:xfrm>
            <a:off x="380880" y="26668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22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23"/>
          <p:cNvSpPr/>
          <p:nvPr/>
        </p:nvSpPr>
        <p:spPr>
          <a:xfrm>
            <a:off x="4114800" y="2743200"/>
            <a:ext cx="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4343400" y="3352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038480" y="1523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9218-FDD7-4E1C-9BC1-7900BFABA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4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229600" cy="569592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" descr="《汉语拼音 2》u插图"/>
          <p:cNvPicPr/>
          <p:nvPr/>
        </p:nvPicPr>
        <p:blipFill>
          <a:blip r:embed="rId3"/>
          <a:stretch/>
        </p:blipFill>
        <p:spPr>
          <a:xfrm>
            <a:off x="457200" y="380880"/>
            <a:ext cx="4876920" cy="3200400"/>
          </a:xfrm>
          <a:prstGeom prst="rect">
            <a:avLst/>
          </a:prstGeom>
          <a:ln w="0">
            <a:noFill/>
          </a:ln>
        </p:spPr>
      </p:pic>
      <p:sp>
        <p:nvSpPr>
          <p:cNvPr id="1209" name="WordArt 6"/>
          <p:cNvSpPr txBox="1"/>
          <p:nvPr/>
        </p:nvSpPr>
        <p:spPr>
          <a:xfrm>
            <a:off x="5334120" y="1219320"/>
            <a:ext cx="20955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u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0" name="WordArt 7"/>
          <p:cNvSpPr txBox="1"/>
          <p:nvPr/>
        </p:nvSpPr>
        <p:spPr>
          <a:xfrm>
            <a:off x="1523880" y="3657600"/>
            <a:ext cx="2210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1" name="Text Box 8"/>
          <p:cNvSpPr/>
          <p:nvPr/>
        </p:nvSpPr>
        <p:spPr>
          <a:xfrm>
            <a:off x="4495680" y="4038480"/>
            <a:ext cx="3429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乌鸦啼叫，嘴巴突出，</a:t>
            </a:r>
            <a:r>
              <a:rPr b="1" lang="en-US" sz="4000" spc="-1" strike="noStrike">
                <a:solidFill>
                  <a:srgbClr val="ff3399"/>
                </a:solidFill>
                <a:latin typeface="zypyyb"/>
                <a:ea typeface="zypyyb"/>
              </a:rPr>
              <a:t>uuu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2" name="Picture 9" descr="c80e42ee4c9091d5b3fb95a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96080" y="16002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13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E94A-AE9B-4BD7-AC41-0BEB80ED0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4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16" name="Line 5"/>
          <p:cNvSpPr/>
          <p:nvPr/>
        </p:nvSpPr>
        <p:spPr>
          <a:xfrm>
            <a:off x="380880" y="60948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7"/>
          <p:cNvSpPr/>
          <p:nvPr/>
        </p:nvSpPr>
        <p:spPr>
          <a:xfrm>
            <a:off x="380880" y="624852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"/>
          <p:cNvSpPr/>
          <p:nvPr/>
        </p:nvSpPr>
        <p:spPr>
          <a:xfrm>
            <a:off x="380880" y="4419720"/>
            <a:ext cx="82296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380880" y="2743200"/>
            <a:ext cx="822960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WordArt 14"/>
          <p:cNvSpPr txBox="1"/>
          <p:nvPr/>
        </p:nvSpPr>
        <p:spPr>
          <a:xfrm rot="12600">
            <a:off x="3048120" y="1066320"/>
            <a:ext cx="914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1" name="Line 15"/>
          <p:cNvSpPr/>
          <p:nvPr/>
        </p:nvSpPr>
        <p:spPr>
          <a:xfrm>
            <a:off x="4800600" y="327672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0"/>
          <p:cNvSpPr/>
          <p:nvPr/>
        </p:nvSpPr>
        <p:spPr>
          <a:xfrm>
            <a:off x="3505320" y="19810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1"/>
          <p:cNvSpPr/>
          <p:nvPr/>
        </p:nvSpPr>
        <p:spPr>
          <a:xfrm>
            <a:off x="5257800" y="4114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22"/>
          <p:cNvSpPr/>
          <p:nvPr/>
        </p:nvSpPr>
        <p:spPr>
          <a:xfrm>
            <a:off x="5029200" y="2819520"/>
            <a:ext cx="0" cy="1523880"/>
          </a:xfrm>
          <a:prstGeom prst="line">
            <a:avLst/>
          </a:prstGeom>
          <a:ln w="381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23"/>
          <p:cNvSpPr/>
          <p:nvPr/>
        </p:nvSpPr>
        <p:spPr>
          <a:xfrm flipV="1">
            <a:off x="4495680" y="2438280"/>
            <a:ext cx="304920" cy="1447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24"/>
          <p:cNvSpPr/>
          <p:nvPr/>
        </p:nvSpPr>
        <p:spPr>
          <a:xfrm>
            <a:off x="4114800" y="2590920"/>
            <a:ext cx="380880" cy="1295280"/>
          </a:xfrm>
          <a:prstGeom prst="line">
            <a:avLst/>
          </a:prstGeom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7025-3F9C-431B-80F6-7DE524482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6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5695920"/>
          </a:xfrm>
          <a:prstGeom prst="rect">
            <a:avLst/>
          </a:prstGeom>
          <a:ln w="0">
            <a:noFill/>
          </a:ln>
        </p:spPr>
      </p:pic>
      <p:sp>
        <p:nvSpPr>
          <p:cNvPr id="1230" name="WordArt 8"/>
          <p:cNvSpPr txBox="1"/>
          <p:nvPr/>
        </p:nvSpPr>
        <p:spPr>
          <a:xfrm>
            <a:off x="838080" y="4191120"/>
            <a:ext cx="22860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淤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1" name="Text Box 9"/>
          <p:cNvSpPr/>
          <p:nvPr/>
        </p:nvSpPr>
        <p:spPr>
          <a:xfrm>
            <a:off x="4114800" y="3962520"/>
            <a:ext cx="3809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像兄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ypyyb"/>
                <a:ea typeface="zypyyb"/>
              </a:rPr>
              <a:t>u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没有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zypyyb"/>
              </a:rPr>
              <a:t>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头上有两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13" descr="《汉语拼音 2》ü插图"/>
          <p:cNvPicPr/>
          <p:nvPr/>
        </p:nvPicPr>
        <p:blipFill>
          <a:blip r:embed="rId5"/>
          <a:stretch/>
        </p:blipFill>
        <p:spPr>
          <a:xfrm>
            <a:off x="304920" y="533520"/>
            <a:ext cx="3200400" cy="3047760"/>
          </a:xfrm>
          <a:prstGeom prst="rect">
            <a:avLst/>
          </a:prstGeom>
          <a:ln w="0">
            <a:noFill/>
          </a:ln>
        </p:spPr>
      </p:pic>
      <p:sp>
        <p:nvSpPr>
          <p:cNvPr id="1233" name="WordArt 14"/>
          <p:cNvSpPr txBox="1"/>
          <p:nvPr/>
        </p:nvSpPr>
        <p:spPr>
          <a:xfrm>
            <a:off x="3505320" y="1371600"/>
            <a:ext cx="19047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6400800" y="838080"/>
            <a:ext cx="1295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小鱼吐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嘴巴也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黑体"/>
              </a:rPr>
              <a:t>üüü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16" descr="c80e42ee4c9091d5b3fb95a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2971800"/>
            <a:ext cx="685800" cy="914400"/>
          </a:xfrm>
          <a:prstGeom prst="rect">
            <a:avLst/>
          </a:prstGeom>
          <a:ln w="0">
            <a:noFill/>
          </a:ln>
        </p:spPr>
      </p:pic>
      <p:sp>
        <p:nvSpPr>
          <p:cNvPr id="123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C558-50F2-467A-A6C5-B72363445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6T21:42:37Z</dcterms:created>
  <dc:creator/>
  <dc:description/>
  <cp:keywords/>
  <dc:language>en-US</dc:language>
  <cp:lastModifiedBy>User</cp:lastModifiedBy>
  <dcterms:modified xsi:type="dcterms:W3CDTF">2016-10-05T11:55:59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  <property fmtid="{D5CDD505-2E9C-101B-9397-08002B2CF9AE}" pid="3" name="Version">
    <vt:r8>1</vt:r8>
  </property>
</Properties>
</file>