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8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laser.wav" ContentType="audio/x-wav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0D5-3BD0-4A8C-9872-81F6FEA3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853-B2D2-441A-A681-153D33B9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BB8E3-5E13-499F-AE78-FB4AE380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A40B2-ACC3-4F85-9768-02A964CB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7DF65-A102-49A0-84A1-914F69DB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0D749-BDEE-4597-B37D-6CA0E386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F1DD4-DCF9-43B0-B12A-EFBA1751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E0380-5298-474D-9B34-D3903AB4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997E6-E4FC-4D53-9F32-6FA1B077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6BB15-7FC6-4C93-BC0E-4E6F1C47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2E114-3782-4BF6-A556-0A371D35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253F3-BBBF-45A8-B8AC-8EF77E52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1FF0-FCC6-4E19-B8DB-BF0152EE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4FD98-5B38-480A-982E-0278EA3B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7EBBB-A9E1-4FE8-9366-CB97CFC1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985F8-7641-4148-9D87-ED9947EA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773CC-AA4F-43E9-9B3F-DCE3EBF6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92268-744B-4C7F-A7FC-B4E5CA62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9C5B5-E9DF-4A0E-A737-CC9AA7BC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9EA87-98DA-4852-BE69-F73A9546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3947D-DB09-45F5-9F1D-37845EDE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A5DAB-83D9-4F60-9D67-01A837C1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B878F-13B9-40CC-A2CE-407B91F3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542-0964-4C06-BFC0-3841D900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B4D7F-C7D5-4182-BE2D-12EC1A75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E2756-24B6-41DD-B335-51535CC9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BE9FC-D8AA-495B-83C5-43A79BFF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5A66E-0DF6-40C0-8C04-82DE0FBE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9C1C5-CAA7-4242-9754-A926C81E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52A78-73C8-40BB-A2C0-F87F1DD6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029C5-E5D6-4779-936F-7763338E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C62D5-209F-4CEA-AC15-F2773A85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E9944-F395-40AC-809C-DE10B148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15CE9-92D2-42BA-88B5-746002FE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8868-0DA0-4E22-9A32-2EE833F6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9FE28-AC42-4154-9502-E6614B0E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F3027-80EC-4B17-811D-E0836A5D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B1E22-8BC5-4F8A-9740-B736F7C9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C95FE-3414-48D2-B607-A3242922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F30FA-D82B-49B8-8CEC-D34F134A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17270-022E-4128-9830-4779ECB1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5CA36-0CE0-459B-BC68-040A9C92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BCA77-377D-4F91-9FE0-BD556B9C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0C882-780B-4299-990A-F9EAD9F1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F38A9-B2BD-4317-A132-CA86C376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03AB-4E93-4AFA-ADED-1B1B2F13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8A101-027C-41BE-B31F-E236C575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BA945-6C47-44DE-A857-C1C6BE01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B7E69-851E-4E8A-9600-290797D7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3143B-9C16-414A-B6F8-9D35B138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97FA4-98DD-4D33-A1EC-BCC538AB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615C1-E217-4884-B6D8-173C7B2D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CC122-A714-4DAF-8477-CBBDA7BC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EE7B7D-37E3-441F-8995-D7272E45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9C56D6-A5B7-49CC-8A95-ADA8FC1E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21CD1-A997-4981-9D86-C69C0015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9878-E8DA-46A5-88B3-AAFE9F9C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DDD30-5E8B-4AED-A7F6-5F0569CC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E5D141-278F-4B04-B3F9-863E3C76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02B81-FEA5-413C-885F-B5D53126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248E7B-F49B-4C3F-BDA3-F17EEF79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2CC08-D909-458B-944B-45E2DB1E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80867-D397-4505-A343-4A0252AB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5FE99-F309-4EEA-9522-27929248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D273A6-F49B-4D1E-959D-718E14C3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052297-A30E-4F1E-B0F3-184E5480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D6375E-C08C-4AC7-9644-7068F272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C8C2-9EF8-494B-80B1-E139A0AB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7C73C4-022A-40EB-883A-833A9B7E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94592A-3EBF-4813-BCB0-0021B99E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A6A77-D9DB-45ED-B9FC-2F404975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9C914-47B4-473F-82DC-FED4067D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EBC39E-6732-410D-9CDA-EA550592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8EF93D-495E-4FC1-8EE9-ED444127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CA72C6-0BFF-4D67-89C0-A1C7E225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412EC-A540-43CA-8E40-E26A9FD7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39F49-14F0-499F-867D-63250615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8A7DB-B112-429F-A89A-24CBC2DB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B116-3F9F-474A-963B-E57C18F1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B09DA9-20A2-4EEF-8F21-556C8A1A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0DE30B-6021-45C8-BABB-90640098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44841B-FE0F-4706-9DE6-E36F41D8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814AA9-C2BD-44C9-9C54-26424703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9F647A-9FEE-41D6-8DC6-6640413A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2E87BB-E4C8-4A3A-9B7F-D01B462F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6F7CEE-7415-4901-9F7A-BE03548B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2514C2-A226-44B8-95FE-48CB076D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F30268-DFD9-4BC8-B6BB-5E11956F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6FE28E-99BC-4272-96D5-358D3D58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9A3A-CF16-4926-9098-5C25DD41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6D946D-A158-40A3-955B-D651D3E6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69688E-F346-4C19-996E-92474C0C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7F9F34-803D-45B8-AE1C-8D297EBC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B56E55-B045-43D1-9E49-04E29FC6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CFAD29-5DE7-46A2-A460-9A2A26E3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EF2F2B-EB1D-404B-915A-132ED7DA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255D91-2952-4958-A816-9D344114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C1A7DC-CCC7-429A-8CC8-2E5B0724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D720E4-4CC3-4BC9-81DD-E7005AEB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34670C-DAA7-43F3-A996-C2E85471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2C8B-6CF1-44FA-8653-C5820BF5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254A02-E9A2-43E9-86DA-E344F35D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C8D9B2-C2D7-487B-AA7C-A23910AE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C3775A-83B7-4127-9C28-C08E17D1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7FC7-10A6-46DD-B658-1C227FC5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6587-EE92-4244-B68B-AFF08EFC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BCBF-64CC-4023-AD2E-4500C87D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77EA-83CE-4537-BF61-1A2F14E6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37D3-17B1-4F07-8B59-5D608D83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A587-3FFB-4CAC-A9E5-CE1A600F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01F35-5953-4BBA-B938-7A10A9AA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C10C3-5A31-4EDF-BF9A-8EE4DD02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D3742-EA05-40EB-8D4C-2DE8900B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AC5DE-2D3D-44D0-AB74-EFAEDEBD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DAB9E-B9CB-4967-9A44-5D20FD2C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FC0D-447D-4FC2-85AB-54436173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EEAF4-D8E7-4E12-9A63-1C18F605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F136C-A2DF-49CA-9812-5EA32FE2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D40FA-D7A4-4DFB-8B2D-FCE5D296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00B712-72C4-4BF9-9953-6C0A5B38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02B3C-7E52-4F0B-A0E2-C62EC88D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ABD3E-753D-41A4-B211-CEFFAE71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29063-DA17-4464-A064-17BC5245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038CFF-4956-4F87-B3B7-B9134F27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D44946-39E3-4707-887D-1859D2A7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B8AEC1-2BA9-4D4B-A9EF-D449E841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BC9E-4475-4F09-8191-157F60D8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2288C1-E04F-4C9B-ACDF-41BB0D83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6EA696-A753-43B4-A6F3-FE0624B1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1FC9C1-95EE-429C-8C9A-93289ADD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C023D6-2FC3-4823-A1B9-D091F546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D992C3-5E93-4165-84F3-F261AE68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0D8454-E7D2-47A6-BC6D-E9529290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61D319-A986-4FD6-AEEA-87BA44D6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481801-15ED-4E0C-9882-B48306DB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75EBE4-D33A-4F68-A386-A6220676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5B473-E355-4447-96BE-5DD54F99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654B-D383-4FB6-B0E5-062F205E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5BFE3-F0DE-4100-8E83-D44263D6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5C10C-568F-42C4-AEA7-67770E4E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2A6B0-63C4-46DD-963E-1EA7A2E8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0825A-7070-47A1-B8C8-FE375CE4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4289C-0E93-472E-A293-44E62F29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651A6-A9D6-4852-9D8E-B4EBC6E5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E13F3-8158-41EC-9B5F-02D4A7EA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3EBD1-4119-4346-A9F7-0BD24C3E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6B04B-43EE-427C-B455-9CB05962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4E6A8-65A1-43C2-8FFC-E8502469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1DD7-B139-4D27-A35F-E739B441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1B56D-3CDD-47E4-A7C3-31E7F261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10A9E-38E7-4EE0-ACC9-11A95BE7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86A4E-2002-48BE-B2E5-3144DC35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21177-2B69-43B9-8350-D8D92742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9A7CD-D3DA-47F5-B027-DC191C9F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CF13D-73E1-4C7A-B567-678556CA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10D8A-EE4C-486B-B758-B4FC6BF7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CA49D-0F79-45EE-BF05-92CA16E9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C9101-0940-45EE-A5C5-889C07B7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AC07C-CB37-4EA1-9177-4EC7F3FE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D8E1-DBA9-4B87-9D58-6A82DFFE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F569D-4C57-4D04-8548-EE791D11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BC9D6-6F48-4984-AC6E-3CFEDCC3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9EC02-83E4-47C4-8064-0B17E0AC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8CC9C-D461-4438-A73D-CD6E3146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1CFA9-2856-45A2-9CBA-9A55757F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E08A7-B99A-415A-87C9-8173D455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99AD8-307D-447A-957C-E62AE363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E300D-4937-4188-9E68-1BA540A5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8A6BB-453C-4E4F-8B8C-D450672E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63D4D-3268-456D-9808-F8C19D3D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F44-9E87-4DB8-B7E1-B3C4C501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C4E0E-E6F5-4522-9375-F58AC7C3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63DC5-6380-4474-8A86-78D085B8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37EAE-4C51-440B-BB1D-D9673FDF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6C362-F992-4BA0-B438-EC652AE0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C2425-E6C6-4719-8A4A-565A0786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34A43-20D8-4484-8E12-7FC971D8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D6F0E-7DBC-4E2D-9747-33F194C2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DAF54-F728-4002-8BB2-73C9FA97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2429D-786F-4705-896E-621D68F8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0B5B9-EBBC-4951-B9B1-B953ADC8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4B23-94EB-4515-8E62-8C72F288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ACCDC-1FC2-469C-AE32-066D12D0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C30D9-599A-4192-81A3-AA264C1C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5CD2B-DF09-4DA6-AED0-59873CA8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BF80F-5FA9-4267-9430-7418FF38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9DD08-EED8-492B-AB93-7E39A646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3C987-72DC-43D4-B4A4-3E4E4F76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B6E43-C0E4-4365-A01D-8D817293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81C54-4381-4082-A8AF-7723E72A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9F3B2-DD4F-480B-97ED-7E5A8938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37D10-2B77-4FB5-A72E-A45EA23B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6C10-C82C-4A6C-A000-B6C6EF938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B0EE-F8EC-4333-9F13-915FCAB08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897B-FAF6-4C22-AF32-08131930A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ED40-E3E8-4A13-82AC-B5FB9D724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0343-12D2-42EF-AAE5-B3CF5B94A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B6DC-A3AC-4496-A1F1-57A1A77AD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1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绿色圃中小学教育网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|http://www.lspj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EFB6-DE25-4B42-92F4-2245E655A9D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2"/>
          <p:cNvGrpSpPr/>
          <p:nvPr/>
        </p:nvGrpSpPr>
        <p:grpSpPr>
          <a:xfrm>
            <a:off x="-105120" y="1311120"/>
            <a:ext cx="9350640" cy="5633280"/>
            <a:chOff x="-105120" y="1311120"/>
            <a:chExt cx="9350640" cy="5633280"/>
          </a:xfrm>
        </p:grpSpPr>
        <p:sp>
          <p:nvSpPr>
            <p:cNvPr id="876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17"/>
            <p:cNvSpPr/>
            <p:nvPr/>
          </p:nvSpPr>
          <p:spPr>
            <a:xfrm flipV="1" rot="18603600">
              <a:off x="642924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18"/>
            <p:cNvSpPr/>
            <p:nvPr/>
          </p:nvSpPr>
          <p:spPr>
            <a:xfrm flipH="1" flipV="1" rot="18391200">
              <a:off x="8519040" y="6616800"/>
              <a:ext cx="795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|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6B56-FA66-4ACC-89A2-934AF96D95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3617-BCD6-4F03-81CD-F81BD1A3A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绿色圃中小学教育网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|http://www.lspj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D241-A453-4B51-9984-42645AE6D70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-103320" y="1308240"/>
            <a:ext cx="9350640" cy="5633280"/>
            <a:chOff x="-103320" y="1308240"/>
            <a:chExt cx="9350640" cy="5633280"/>
          </a:xfrm>
        </p:grpSpPr>
        <p:sp>
          <p:nvSpPr>
            <p:cNvPr id="146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 flipV="1" rot="18603600">
              <a:off x="6431040" y="556020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 flipH="1" flipV="1" rot="18391200">
              <a:off x="8520840" y="6613920"/>
              <a:ext cx="795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F1B8-E3D4-445A-A6E1-3FCD3FB6F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C570-BD48-4AF7-A984-9F98B1875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3C60-6B02-4CED-AFE0-34ADF13D7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6B8E-8C52-4906-A4ED-7F68C9A6A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068A-2B7B-4185-9140-920693BE7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A0ED-F351-4C57-A6EA-19A2CDC2E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hyperlink" Target="file:///tmp/home/.config/libreoffice/4/user/gallery/CIMG0003.WAV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hyperlink" Target="file:///tmp/home/.config/libreoffice/4/user/gallery/CIMG0006.WAV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CIMG0003.WAV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CIMG0006.WAV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" Target="slide3.xml"/><Relationship Id="rId5" Type="http://schemas.openxmlformats.org/officeDocument/2006/relationships/hyperlink" Target="file:///tmp/home/.config/libreoffice/4/user/gallery/CIMG0007.WAV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" Target="slide25.xml"/><Relationship Id="rId7" Type="http://schemas.openxmlformats.org/officeDocument/2006/relationships/slide" Target="slide20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2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hyperlink" Target="C:\Documents and Settings\All Users\Documents\&#21494;&#40511;&#20873;&#25991;&#20214;&#24211;\&#21494;&#40511;&#20873;&#25991;&#20214;&#24211;&#20013;&#36716;&#31449;\Microsoft PowerPoint&#28436;&#31034;&#25991;&#31295;.ppt &#24211;\&#35838;&#20214;\&#27721;&#35821;&#25340;&#38899;\iuv&#32451;&#20064;.doc" TargetMode="External"/><Relationship Id="rId7" Type="http://schemas.openxmlformats.org/officeDocument/2006/relationships/image" Target="../media/image23.pn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24.pn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hyperlink" Target="file:///tmp/home/.config/libreoffice/4/user/gallery/CIMG0007.WAV" TargetMode="External"/><Relationship Id="rId9" Type="http://schemas.openxmlformats.org/officeDocument/2006/relationships/image" Target="../media/image16.jpeg"/><Relationship Id="rId10" Type="http://schemas.openxmlformats.org/officeDocument/2006/relationships/hyperlink" Target="file:///tmp/home/.config/libreoffice/4/user/gallery/CIMG0003.WAV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file:///tmp/home/.config/libreoffice/4/user/gallery/CIMG0006.WAV" TargetMode="External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hyperlink" Target="file:///tmp/home/.config/libreoffice/4/user/gallery/CIMG0003.WAV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hyperlink" Target="file:///tmp/home/.config/libreoffice/4/user/gallery/CIMG0006.WAV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hyperlink" Target="file:///tmp/home/.config/libreoffice/4/user/gallery/CIMG0007.WAV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3" name="Picture 7" descr="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34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14D2-5D87-48E5-8B69-BCB2DE11586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矩形 18439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4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39" name="Line 6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7"/>
          <p:cNvSpPr/>
          <p:nvPr/>
        </p:nvSpPr>
        <p:spPr>
          <a:xfrm>
            <a:off x="380880" y="9907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8"/>
          <p:cNvSpPr/>
          <p:nvPr/>
        </p:nvSpPr>
        <p:spPr>
          <a:xfrm>
            <a:off x="380880" y="28195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9"/>
          <p:cNvSpPr/>
          <p:nvPr/>
        </p:nvSpPr>
        <p:spPr>
          <a:xfrm>
            <a:off x="380880" y="60958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WordArt 10"/>
          <p:cNvSpPr txBox="1"/>
          <p:nvPr/>
        </p:nvSpPr>
        <p:spPr>
          <a:xfrm rot="12600">
            <a:off x="3048120" y="106632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44" name="Line 11"/>
          <p:cNvSpPr/>
          <p:nvPr/>
        </p:nvSpPr>
        <p:spPr>
          <a:xfrm>
            <a:off x="4800600" y="32767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2"/>
          <p:cNvSpPr/>
          <p:nvPr/>
        </p:nvSpPr>
        <p:spPr>
          <a:xfrm>
            <a:off x="5029200" y="2819520"/>
            <a:ext cx="0" cy="152388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3"/>
          <p:cNvSpPr/>
          <p:nvPr/>
        </p:nvSpPr>
        <p:spPr>
          <a:xfrm>
            <a:off x="4114800" y="2590920"/>
            <a:ext cx="380880" cy="12952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5"/>
          <p:cNvSpPr/>
          <p:nvPr/>
        </p:nvSpPr>
        <p:spPr>
          <a:xfrm flipV="1">
            <a:off x="4495680" y="2742840"/>
            <a:ext cx="228600" cy="11430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16"/>
          <p:cNvSpPr/>
          <p:nvPr/>
        </p:nvSpPr>
        <p:spPr>
          <a:xfrm>
            <a:off x="3276720" y="30481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17"/>
          <p:cNvSpPr/>
          <p:nvPr/>
        </p:nvSpPr>
        <p:spPr>
          <a:xfrm>
            <a:off x="5257800" y="4114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20"/>
          <p:cNvSpPr/>
          <p:nvPr/>
        </p:nvSpPr>
        <p:spPr>
          <a:xfrm>
            <a:off x="380988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21"/>
          <p:cNvSpPr/>
          <p:nvPr/>
        </p:nvSpPr>
        <p:spPr>
          <a:xfrm>
            <a:off x="472428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22"/>
          <p:cNvSpPr/>
          <p:nvPr/>
        </p:nvSpPr>
        <p:spPr>
          <a:xfrm>
            <a:off x="3429000" y="14479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23"/>
          <p:cNvSpPr/>
          <p:nvPr/>
        </p:nvSpPr>
        <p:spPr>
          <a:xfrm>
            <a:off x="4876920" y="1676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灯片编号占位符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8953-722F-401C-9D83-8D402149D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页脚占位符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Picture 12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57" name="WordArt 13"/>
          <p:cNvSpPr txBox="1"/>
          <p:nvPr/>
        </p:nvSpPr>
        <p:spPr>
          <a:xfrm>
            <a:off x="5410080" y="990720"/>
            <a:ext cx="18288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y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258" name="Picture 14" descr="《汉语拼音 2》y插图"/>
          <p:cNvPicPr/>
          <p:nvPr/>
        </p:nvPicPr>
        <p:blipFill>
          <a:blip r:embed="rId3"/>
          <a:stretch/>
        </p:blipFill>
        <p:spPr>
          <a:xfrm>
            <a:off x="1219320" y="1066680"/>
            <a:ext cx="1752480" cy="2057400"/>
          </a:xfrm>
          <a:prstGeom prst="rect">
            <a:avLst/>
          </a:prstGeom>
          <a:ln w="0">
            <a:noFill/>
          </a:ln>
        </p:spPr>
      </p:pic>
      <p:sp>
        <p:nvSpPr>
          <p:cNvPr id="1259" name="Text Box 17"/>
          <p:cNvSpPr/>
          <p:nvPr/>
        </p:nvSpPr>
        <p:spPr>
          <a:xfrm>
            <a:off x="4343400" y="266688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这是个声母（韵母＋声母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一个字的读音）为了区分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于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让我们叫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大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方正姚体"/>
              </a:rPr>
              <a:t>“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(y)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  <a:ea typeface="方正姚体"/>
              </a:rPr>
              <a:t>”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吧！自然，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小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方正姚体"/>
              </a:rPr>
              <a:t>“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（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）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方正姚体"/>
              </a:rPr>
              <a:t>”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WordArt 18"/>
          <p:cNvSpPr txBox="1"/>
          <p:nvPr/>
        </p:nvSpPr>
        <p:spPr>
          <a:xfrm>
            <a:off x="990720" y="3886200"/>
            <a:ext cx="34290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i</a:t>
            </a: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61" name="Picture 19" descr="c80e42ee4c9091d5b3fb95a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91520" y="152388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262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DDF6-5B65-4451-843C-996ABF3CB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Picture 4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65" name="Line 5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6"/>
          <p:cNvSpPr/>
          <p:nvPr/>
        </p:nvSpPr>
        <p:spPr>
          <a:xfrm>
            <a:off x="380880" y="9907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7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8"/>
          <p:cNvSpPr/>
          <p:nvPr/>
        </p:nvSpPr>
        <p:spPr>
          <a:xfrm>
            <a:off x="380880" y="60958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ctangle 9"/>
          <p:cNvSpPr/>
          <p:nvPr/>
        </p:nvSpPr>
        <p:spPr>
          <a:xfrm rot="19536000">
            <a:off x="2414520" y="2701800"/>
            <a:ext cx="45720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AutoShape 10"/>
          <p:cNvSpPr/>
          <p:nvPr/>
        </p:nvSpPr>
        <p:spPr>
          <a:xfrm rot="10800000">
            <a:off x="1828800" y="2742840"/>
            <a:ext cx="533520" cy="76212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11"/>
          <p:cNvSpPr/>
          <p:nvPr/>
        </p:nvSpPr>
        <p:spPr>
          <a:xfrm rot="1660800">
            <a:off x="2968200" y="2665080"/>
            <a:ext cx="457200" cy="321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AutoShape 12"/>
          <p:cNvSpPr/>
          <p:nvPr/>
        </p:nvSpPr>
        <p:spPr>
          <a:xfrm rot="12758400">
            <a:off x="3733560" y="2743200"/>
            <a:ext cx="380880" cy="3808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13"/>
          <p:cNvSpPr/>
          <p:nvPr/>
        </p:nvSpPr>
        <p:spPr>
          <a:xfrm rot="1444200">
            <a:off x="3660840" y="2723760"/>
            <a:ext cx="38088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AutoShape 14"/>
          <p:cNvSpPr/>
          <p:nvPr/>
        </p:nvSpPr>
        <p:spPr>
          <a:xfrm>
            <a:off x="762120" y="4952880"/>
            <a:ext cx="129528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WordArt 16"/>
          <p:cNvSpPr txBox="1"/>
          <p:nvPr/>
        </p:nvSpPr>
        <p:spPr>
          <a:xfrm>
            <a:off x="990720" y="5181480"/>
            <a:ext cx="8380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碰线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6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A2FB-B783-4F74-AE24-2658C4A0B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8" name="Picture 6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7" descr="《汉语拼音 2》w插图"/>
          <p:cNvPicPr/>
          <p:nvPr/>
        </p:nvPicPr>
        <p:blipFill>
          <a:blip r:embed="rId3"/>
          <a:stretch/>
        </p:blipFill>
        <p:spPr>
          <a:xfrm>
            <a:off x="380880" y="609480"/>
            <a:ext cx="4267440" cy="3048120"/>
          </a:xfrm>
          <a:prstGeom prst="rect">
            <a:avLst/>
          </a:prstGeom>
          <a:ln w="0">
            <a:noFill/>
          </a:ln>
        </p:spPr>
      </p:pic>
      <p:sp>
        <p:nvSpPr>
          <p:cNvPr id="1280" name="WordArt 8"/>
          <p:cNvSpPr txBox="1"/>
          <p:nvPr/>
        </p:nvSpPr>
        <p:spPr>
          <a:xfrm>
            <a:off x="762120" y="4419720"/>
            <a:ext cx="34290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u</a:t>
            </a:r>
            <a:r>
              <a:rPr b="0" lang="zh-CN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1" name="Text Box 9"/>
          <p:cNvSpPr/>
          <p:nvPr/>
        </p:nvSpPr>
        <p:spPr>
          <a:xfrm>
            <a:off x="4191120" y="2819520"/>
            <a:ext cx="396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幼圆"/>
                <a:ea typeface="幼圆"/>
              </a:rPr>
              <a:t>        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这是个声母（韵母＋声母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=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一个字的读音）为了区分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u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于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w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让我们叫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w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大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幼圆"/>
              </a:rPr>
              <a:t>“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u(w)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幼圆"/>
              </a:rPr>
              <a:t>”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吧！自然，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u=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小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幼圆"/>
              </a:rPr>
              <a:t>“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u(w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）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幼圆"/>
              </a:rPr>
              <a:t>”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WordArt 10"/>
          <p:cNvSpPr txBox="1"/>
          <p:nvPr/>
        </p:nvSpPr>
        <p:spPr>
          <a:xfrm>
            <a:off x="5410080" y="990720"/>
            <a:ext cx="18288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w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283" name="Picture 11" descr="c80e42ee4c9091d5b3fb95a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96080" y="160020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284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480F-3F62-4B3C-8230-16A85D387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6" name="Picture 4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87" name="Line 5"/>
          <p:cNvSpPr/>
          <p:nvPr/>
        </p:nvSpPr>
        <p:spPr>
          <a:xfrm>
            <a:off x="380880" y="10666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6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7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8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WordArt 9"/>
          <p:cNvSpPr txBox="1"/>
          <p:nvPr/>
        </p:nvSpPr>
        <p:spPr>
          <a:xfrm>
            <a:off x="2971800" y="2743200"/>
            <a:ext cx="2133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292" name="Line 13"/>
          <p:cNvSpPr/>
          <p:nvPr/>
        </p:nvSpPr>
        <p:spPr>
          <a:xfrm>
            <a:off x="2590920" y="2743200"/>
            <a:ext cx="457200" cy="152388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15"/>
          <p:cNvSpPr/>
          <p:nvPr/>
        </p:nvSpPr>
        <p:spPr>
          <a:xfrm flipV="1">
            <a:off x="3657600" y="3885840"/>
            <a:ext cx="304920" cy="121932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16"/>
          <p:cNvSpPr/>
          <p:nvPr/>
        </p:nvSpPr>
        <p:spPr>
          <a:xfrm>
            <a:off x="4038480" y="3657600"/>
            <a:ext cx="228600" cy="129528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17"/>
          <p:cNvSpPr/>
          <p:nvPr/>
        </p:nvSpPr>
        <p:spPr>
          <a:xfrm flipV="1">
            <a:off x="4952880" y="2742840"/>
            <a:ext cx="381240" cy="1600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18"/>
          <p:cNvSpPr/>
          <p:nvPr/>
        </p:nvSpPr>
        <p:spPr>
          <a:xfrm>
            <a:off x="3505320" y="19810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19"/>
          <p:cNvSpPr/>
          <p:nvPr/>
        </p:nvSpPr>
        <p:spPr>
          <a:xfrm>
            <a:off x="4343400" y="434340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20"/>
          <p:cNvSpPr/>
          <p:nvPr/>
        </p:nvSpPr>
        <p:spPr>
          <a:xfrm>
            <a:off x="2133720" y="32767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21"/>
          <p:cNvSpPr/>
          <p:nvPr/>
        </p:nvSpPr>
        <p:spPr>
          <a:xfrm>
            <a:off x="3200400" y="4343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2"/>
          <p:cNvSpPr/>
          <p:nvPr/>
        </p:nvSpPr>
        <p:spPr>
          <a:xfrm>
            <a:off x="5410080" y="3429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灯片编号占位符 1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A849-7BB3-419B-868B-0F1819DCC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页脚占位符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3" name="Picture 4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304" name="WordArt 5"/>
          <p:cNvSpPr txBox="1"/>
          <p:nvPr/>
        </p:nvSpPr>
        <p:spPr>
          <a:xfrm>
            <a:off x="990720" y="762120"/>
            <a:ext cx="73152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yi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05" name="WordArt 6"/>
          <p:cNvSpPr txBox="1"/>
          <p:nvPr/>
        </p:nvSpPr>
        <p:spPr>
          <a:xfrm>
            <a:off x="990720" y="3809880"/>
            <a:ext cx="3429000" cy="11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i</a:t>
            </a: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6" name="Text Box 7"/>
          <p:cNvSpPr/>
          <p:nvPr/>
        </p:nvSpPr>
        <p:spPr>
          <a:xfrm>
            <a:off x="4343400" y="26668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这是个整体认读节音（整体认读节音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一个字的读音）打字时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无效，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i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才有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7" name="Picture 8" descr="c80e42ee4c9091d5b3fb95a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144792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308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D395-4094-4495-8692-C8D71D925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Picture 7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311" name="WordArt 8"/>
          <p:cNvSpPr txBox="1"/>
          <p:nvPr/>
        </p:nvSpPr>
        <p:spPr>
          <a:xfrm>
            <a:off x="990720" y="3809880"/>
            <a:ext cx="3429000" cy="11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u</a:t>
            </a: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2" name="WordArt 9"/>
          <p:cNvSpPr txBox="1"/>
          <p:nvPr/>
        </p:nvSpPr>
        <p:spPr>
          <a:xfrm>
            <a:off x="990720" y="762120"/>
            <a:ext cx="73152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wu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13" name="Text Box 10"/>
          <p:cNvSpPr/>
          <p:nvPr/>
        </p:nvSpPr>
        <p:spPr>
          <a:xfrm>
            <a:off x="4343400" y="26668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这是个整体认读节音（整体认读节音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一个字的读音）打字时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u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无效，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wu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才有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Picture 11" descr="c80e42ee4c9091d5b3fb95a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48720" y="167652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315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F999-773A-461F-A58F-11DD2B67F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4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320" name="WordArt 5"/>
          <p:cNvSpPr txBox="1"/>
          <p:nvPr/>
        </p:nvSpPr>
        <p:spPr>
          <a:xfrm>
            <a:off x="990720" y="762120"/>
            <a:ext cx="73152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yu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21" name="Text Box 8"/>
          <p:cNvSpPr/>
          <p:nvPr/>
        </p:nvSpPr>
        <p:spPr>
          <a:xfrm>
            <a:off x="4343400" y="26668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这是个整体认读节音（整体认读节音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一个字的读音）打字时输入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  <a:ea typeface="方正姚体"/>
              </a:rPr>
              <a:t>ü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无效，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u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才有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WordArt 9"/>
          <p:cNvSpPr txBox="1"/>
          <p:nvPr/>
        </p:nvSpPr>
        <p:spPr>
          <a:xfrm>
            <a:off x="762120" y="2666880"/>
            <a:ext cx="3429000" cy="11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ü</a:t>
            </a: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3" name="AutoShape 10">
            <a:hlinkClick r:id="rId4" action="ppaction://hlinksldjump"/>
          </p:cNvPr>
          <p:cNvSpPr/>
          <p:nvPr/>
        </p:nvSpPr>
        <p:spPr>
          <a:xfrm>
            <a:off x="1066680" y="3962520"/>
            <a:ext cx="3276720" cy="266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50000">
                <a:srgbClr val="cbcbcb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WordArt 11"/>
          <p:cNvSpPr txBox="1"/>
          <p:nvPr/>
        </p:nvSpPr>
        <p:spPr>
          <a:xfrm rot="1273200">
            <a:off x="2031480" y="4329000"/>
            <a:ext cx="1457640" cy="20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900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返回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900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25" name="Picture 12" descr="c80e42ee4c9091d5b3fb95a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001000" y="144792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326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138F-D968-4ABF-810D-AA435A1A9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9" name="WordArt 4"/>
          <p:cNvSpPr txBox="1"/>
          <p:nvPr/>
        </p:nvSpPr>
        <p:spPr>
          <a:xfrm>
            <a:off x="1523880" y="0"/>
            <a:ext cx="762012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刷洗完毕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30" name="Rectangle 6">
            <a:hlinkClick r:id="" action="ppaction://hlinkshowjump?jump=previousslide"/>
          </p:cNvPr>
          <p:cNvSpPr/>
          <p:nvPr/>
        </p:nvSpPr>
        <p:spPr>
          <a:xfrm>
            <a:off x="304920" y="762120"/>
            <a:ext cx="1066680" cy="5715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3350-BC6A-4F5E-973D-D72CDC332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 txBox="1"/>
          <p:nvPr/>
        </p:nvSpPr>
        <p:spPr>
          <a:xfrm>
            <a:off x="304920" y="2895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由于今天学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i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u yu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笔画过多，所以将就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u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Arial"/>
                <a:hlinkClick r:id="rId4" action="ppaction://hlinksldjump"/>
              </a:rPr>
              <a:t>ü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y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w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再进行演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点击进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4" name="AutoShape 29">
            <a:hlinkClick r:id="rId7" action="ppaction://hlinksldjump"/>
          </p:cNvPr>
          <p:cNvSpPr/>
          <p:nvPr/>
        </p:nvSpPr>
        <p:spPr>
          <a:xfrm rot="10800000">
            <a:off x="4952880" y="4648320"/>
            <a:ext cx="1828800" cy="1295280"/>
          </a:xfrm>
          <a:custGeom>
            <a:avLst/>
            <a:gdLst>
              <a:gd name="textAreaLeft" fmla="*/ 83880 w 1828800"/>
              <a:gd name="textAreaRight" fmla="*/ 1744920 w 18288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0494" h="21600">
                <a:moveTo>
                  <a:pt x="0" y="0"/>
                </a:moveTo>
                <a:lnTo>
                  <a:pt x="30494" y="0"/>
                </a:lnTo>
                <a:lnTo>
                  <a:pt x="30494" y="21600"/>
                </a:lnTo>
                <a:lnTo>
                  <a:pt x="0" y="21600"/>
                </a:lnTo>
                <a:close/>
              </a:path>
              <a:path fill="lightenLess" w="30494" h="21600">
                <a:moveTo>
                  <a:pt x="0" y="0"/>
                </a:moveTo>
                <a:lnTo>
                  <a:pt x="30494" y="0"/>
                </a:lnTo>
                <a:lnTo>
                  <a:pt x="29094" y="1400"/>
                </a:lnTo>
                <a:lnTo>
                  <a:pt x="1400" y="1400"/>
                </a:lnTo>
                <a:close/>
              </a:path>
              <a:path fill="darken" w="30494" h="21600">
                <a:moveTo>
                  <a:pt x="30494" y="0"/>
                </a:moveTo>
                <a:lnTo>
                  <a:pt x="30494" y="21600"/>
                </a:lnTo>
                <a:lnTo>
                  <a:pt x="29094" y="20200"/>
                </a:lnTo>
                <a:lnTo>
                  <a:pt x="29094" y="1400"/>
                </a:lnTo>
                <a:close/>
              </a:path>
              <a:path fill="darkenLess" w="30494" h="21600">
                <a:moveTo>
                  <a:pt x="30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94" y="20200"/>
                </a:lnTo>
                <a:close/>
              </a:path>
              <a:path fill="lighten" w="30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94" h="21600">
                <a:moveTo>
                  <a:pt x="8241" y="7493"/>
                </a:moveTo>
                <a:lnTo>
                  <a:pt x="11748" y="7493"/>
                </a:lnTo>
                <a:lnTo>
                  <a:pt x="11748" y="12828"/>
                </a:lnTo>
                <a:cubicBezTo>
                  <a:pt x="11748" y="13751"/>
                  <a:pt x="12549" y="14482"/>
                  <a:pt x="13585" y="14482"/>
                </a:cubicBezTo>
                <a:lnTo>
                  <a:pt x="15247" y="14482"/>
                </a:lnTo>
                <a:cubicBezTo>
                  <a:pt x="16283" y="14482"/>
                  <a:pt x="17084" y="13751"/>
                  <a:pt x="17084" y="12828"/>
                </a:cubicBezTo>
                <a:lnTo>
                  <a:pt x="17084" y="7493"/>
                </a:lnTo>
                <a:lnTo>
                  <a:pt x="15247" y="7493"/>
                </a:lnTo>
                <a:lnTo>
                  <a:pt x="18755" y="3985"/>
                </a:lnTo>
                <a:lnTo>
                  <a:pt x="22428" y="7493"/>
                </a:lnTo>
                <a:lnTo>
                  <a:pt x="20591" y="7493"/>
                </a:lnTo>
                <a:lnTo>
                  <a:pt x="20591" y="12828"/>
                </a:lnTo>
                <a:cubicBezTo>
                  <a:pt x="20591" y="15596"/>
                  <a:pt x="18015" y="18155"/>
                  <a:pt x="15247" y="18155"/>
                </a:cubicBezTo>
                <a:lnTo>
                  <a:pt x="13585" y="18155"/>
                </a:lnTo>
                <a:cubicBezTo>
                  <a:pt x="10817" y="18155"/>
                  <a:pt x="8241" y="15596"/>
                  <a:pt x="8241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AutoShape 30">
            <a:hlinkClick r:id="rId8" action="ppaction://hlinksldjump"/>
          </p:cNvPr>
          <p:cNvSpPr/>
          <p:nvPr/>
        </p:nvSpPr>
        <p:spPr>
          <a:xfrm>
            <a:off x="6858000" y="4648320"/>
            <a:ext cx="1523880" cy="1295280"/>
          </a:xfrm>
          <a:custGeom>
            <a:avLst/>
            <a:gdLst>
              <a:gd name="textAreaLeft" fmla="*/ 83880 w 1523880"/>
              <a:gd name="textAreaRight" fmla="*/ 1440000 w 15238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5411" h="21600">
                <a:moveTo>
                  <a:pt x="0" y="0"/>
                </a:moveTo>
                <a:lnTo>
                  <a:pt x="25411" y="0"/>
                </a:lnTo>
                <a:lnTo>
                  <a:pt x="25411" y="21600"/>
                </a:lnTo>
                <a:lnTo>
                  <a:pt x="0" y="21600"/>
                </a:lnTo>
                <a:close/>
              </a:path>
              <a:path fill="lightenLess" w="25411" h="21600">
                <a:moveTo>
                  <a:pt x="0" y="0"/>
                </a:moveTo>
                <a:lnTo>
                  <a:pt x="25411" y="0"/>
                </a:lnTo>
                <a:lnTo>
                  <a:pt x="24011" y="1400"/>
                </a:lnTo>
                <a:lnTo>
                  <a:pt x="1400" y="1400"/>
                </a:lnTo>
                <a:close/>
              </a:path>
              <a:path fill="darken" w="25411" h="21600">
                <a:moveTo>
                  <a:pt x="25411" y="0"/>
                </a:moveTo>
                <a:lnTo>
                  <a:pt x="25411" y="21600"/>
                </a:lnTo>
                <a:lnTo>
                  <a:pt x="24011" y="20200"/>
                </a:lnTo>
                <a:lnTo>
                  <a:pt x="24011" y="1400"/>
                </a:lnTo>
                <a:close/>
              </a:path>
              <a:path fill="darkenLess" w="25411" h="21600">
                <a:moveTo>
                  <a:pt x="2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1" y="20200"/>
                </a:lnTo>
                <a:close/>
              </a:path>
              <a:path fill="lighten" w="2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1" h="21600">
                <a:moveTo>
                  <a:pt x="12706" y="3837"/>
                </a:moveTo>
                <a:lnTo>
                  <a:pt x="15282" y="6448"/>
                </a:lnTo>
                <a:lnTo>
                  <a:pt x="15282" y="4707"/>
                </a:lnTo>
                <a:lnTo>
                  <a:pt x="17057" y="4707"/>
                </a:lnTo>
                <a:lnTo>
                  <a:pt x="17057" y="8224"/>
                </a:lnTo>
                <a:lnTo>
                  <a:pt x="19668" y="10800"/>
                </a:lnTo>
                <a:lnTo>
                  <a:pt x="18015" y="10800"/>
                </a:lnTo>
                <a:lnTo>
                  <a:pt x="18015" y="17989"/>
                </a:lnTo>
                <a:lnTo>
                  <a:pt x="7396" y="17989"/>
                </a:lnTo>
                <a:lnTo>
                  <a:pt x="7396" y="10800"/>
                </a:lnTo>
                <a:lnTo>
                  <a:pt x="5743" y="10800"/>
                </a:lnTo>
                <a:close/>
              </a:path>
              <a:path fill="darkenLess" w="25411" h="21600">
                <a:moveTo>
                  <a:pt x="15282" y="6448"/>
                </a:moveTo>
                <a:lnTo>
                  <a:pt x="15282" y="4707"/>
                </a:lnTo>
                <a:lnTo>
                  <a:pt x="17057" y="4707"/>
                </a:lnTo>
                <a:lnTo>
                  <a:pt x="17057" y="8224"/>
                </a:lnTo>
                <a:close/>
              </a:path>
              <a:path fill="darkenLess" w="25411" h="21600">
                <a:moveTo>
                  <a:pt x="11783" y="14299"/>
                </a:moveTo>
                <a:lnTo>
                  <a:pt x="13628" y="14299"/>
                </a:lnTo>
                <a:lnTo>
                  <a:pt x="13628" y="17989"/>
                </a:lnTo>
                <a:lnTo>
                  <a:pt x="18015" y="17989"/>
                </a:lnTo>
                <a:lnTo>
                  <a:pt x="18015" y="10800"/>
                </a:lnTo>
                <a:lnTo>
                  <a:pt x="7396" y="10800"/>
                </a:lnTo>
                <a:lnTo>
                  <a:pt x="7396" y="17989"/>
                </a:lnTo>
                <a:lnTo>
                  <a:pt x="11783" y="1798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幼圆"/>
              </a:rPr>
              <a:t>刷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F882-2172-4090-9034-CC61356A5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5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7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9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11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AutoShape 13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AutoShape 15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AutoShape 17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AutoShape 19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AutoShape 21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AutoShape 23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28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30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34"/>
          <p:cNvSpPr/>
          <p:nvPr/>
        </p:nvSpPr>
        <p:spPr>
          <a:xfrm>
            <a:off x="155520" y="46080"/>
            <a:ext cx="4667400" cy="69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39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41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AutoShape 45"/>
          <p:cNvSpPr/>
          <p:nvPr/>
        </p:nvSpPr>
        <p:spPr>
          <a:xfrm>
            <a:off x="155520" y="46080"/>
            <a:ext cx="4667400" cy="69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47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4" name="Picture 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5" name="WordArt 49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6883560"/>
          </a:xfrm>
          <a:prstGeom prst="rect">
            <a:avLst/>
          </a:prstGeom>
          <a:ln w="0">
            <a:noFill/>
          </a:ln>
        </p:spPr>
      </p:pic>
      <p:sp>
        <p:nvSpPr>
          <p:cNvPr id="1156" name="灯片编号占位符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C40E-5E72-4530-BE46-7510D9EE1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AutoShape 4">
            <a:hlinkClick r:id="rId2" action="ppaction://hlinksldjump"/>
          </p:cNvPr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WordArt 5"/>
          <p:cNvSpPr txBox="1"/>
          <p:nvPr/>
        </p:nvSpPr>
        <p:spPr>
          <a:xfrm>
            <a:off x="2362320" y="9144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40" name="WordArt 6" descr=""/>
          <p:cNvPicPr/>
          <p:nvPr/>
        </p:nvPicPr>
        <p:blipFill>
          <a:blip r:embed="rId3"/>
          <a:stretch/>
        </p:blipFill>
        <p:spPr>
          <a:xfrm>
            <a:off x="-577800" y="222120"/>
            <a:ext cx="2641680" cy="873360"/>
          </a:xfrm>
          <a:prstGeom prst="rect">
            <a:avLst/>
          </a:prstGeom>
          <a:ln w="0">
            <a:noFill/>
          </a:ln>
        </p:spPr>
      </p:pic>
      <p:sp>
        <p:nvSpPr>
          <p:cNvPr id="1341" name="WordArt 7"/>
          <p:cNvSpPr txBox="1"/>
          <p:nvPr/>
        </p:nvSpPr>
        <p:spPr>
          <a:xfrm>
            <a:off x="2209680" y="3808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2" name="AutoShape 20">
            <a:hlinkClick r:id="" action="ppaction://hlinkshowjump?jump=firstslide"/>
          </p:cNvPr>
          <p:cNvSpPr/>
          <p:nvPr/>
        </p:nvSpPr>
        <p:spPr>
          <a:xfrm>
            <a:off x="4419720" y="1600200"/>
            <a:ext cx="457200" cy="8380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WordArt 21"/>
          <p:cNvSpPr txBox="1"/>
          <p:nvPr/>
        </p:nvSpPr>
        <p:spPr>
          <a:xfrm>
            <a:off x="533520" y="152388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重播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4" name="WordArt 22"/>
          <p:cNvSpPr txBox="1"/>
          <p:nvPr/>
        </p:nvSpPr>
        <p:spPr>
          <a:xfrm>
            <a:off x="2209680" y="17524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5" name="WordArt 23"/>
          <p:cNvSpPr txBox="1"/>
          <p:nvPr/>
        </p:nvSpPr>
        <p:spPr>
          <a:xfrm>
            <a:off x="2514600" y="3505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6" name="AutoShape 24">
            <a:hlinkClick r:id="rId6"/>
          </p:cNvPr>
          <p:cNvSpPr/>
          <p:nvPr/>
        </p:nvSpPr>
        <p:spPr>
          <a:xfrm>
            <a:off x="3886200" y="2666880"/>
            <a:ext cx="1371600" cy="1219320"/>
          </a:xfrm>
          <a:custGeom>
            <a:avLst/>
            <a:gdLst/>
            <a:ahLst/>
            <a:rect l="l" t="t" r="r" b="b"/>
            <a:pathLst>
              <a:path w="1371600" h="1219200">
                <a:moveTo>
                  <a:pt x="1" y="465691"/>
                </a:moveTo>
                <a:lnTo>
                  <a:pt x="523907" y="465695"/>
                </a:lnTo>
                <a:lnTo>
                  <a:pt x="685800" y="0"/>
                </a:lnTo>
                <a:lnTo>
                  <a:pt x="847692" y="465695"/>
                </a:lnTo>
                <a:lnTo>
                  <a:pt x="1371598" y="465691"/>
                </a:lnTo>
                <a:lnTo>
                  <a:pt x="947747" y="753503"/>
                </a:lnTo>
                <a:lnTo>
                  <a:pt x="1109646" y="1219196"/>
                </a:lnTo>
                <a:lnTo>
                  <a:pt x="685800" y="931379"/>
                </a:lnTo>
                <a:lnTo>
                  <a:pt x="261953" y="1219196"/>
                </a:lnTo>
                <a:lnTo>
                  <a:pt x="423852" y="753503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WordArt 25"/>
          <p:cNvSpPr txBox="1"/>
          <p:nvPr/>
        </p:nvSpPr>
        <p:spPr>
          <a:xfrm>
            <a:off x="1981080" y="54100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8" name="WordArt 26"/>
          <p:cNvSpPr txBox="1"/>
          <p:nvPr/>
        </p:nvSpPr>
        <p:spPr>
          <a:xfrm>
            <a:off x="2514600" y="2362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49" name="WordArt 27" descr=""/>
          <p:cNvPicPr/>
          <p:nvPr/>
        </p:nvPicPr>
        <p:blipFill>
          <a:blip r:embed="rId7"/>
          <a:stretch/>
        </p:blipFill>
        <p:spPr>
          <a:xfrm>
            <a:off x="147600" y="2971800"/>
            <a:ext cx="1876320" cy="1028880"/>
          </a:xfrm>
          <a:prstGeom prst="rect">
            <a:avLst/>
          </a:prstGeom>
          <a:ln w="0">
            <a:noFill/>
          </a:ln>
        </p:spPr>
      </p:pic>
      <p:sp>
        <p:nvSpPr>
          <p:cNvPr id="1350" name="AutoShape 28"/>
          <p:cNvSpPr/>
          <p:nvPr/>
        </p:nvSpPr>
        <p:spPr>
          <a:xfrm>
            <a:off x="4114800" y="304920"/>
            <a:ext cx="1371600" cy="914400"/>
          </a:xfrm>
          <a:prstGeom prst="flowChartInternalStorag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WordArt 29"/>
          <p:cNvSpPr txBox="1"/>
          <p:nvPr/>
        </p:nvSpPr>
        <p:spPr>
          <a:xfrm>
            <a:off x="457200" y="4572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比划演示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2" name="WordArt 30"/>
          <p:cNvSpPr txBox="1"/>
          <p:nvPr/>
        </p:nvSpPr>
        <p:spPr>
          <a:xfrm>
            <a:off x="2286000" y="32004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3" name="WordArt 31"/>
          <p:cNvSpPr txBox="1"/>
          <p:nvPr/>
        </p:nvSpPr>
        <p:spPr>
          <a:xfrm>
            <a:off x="2286000" y="5867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4" name="AutoShape 33"/>
          <p:cNvSpPr/>
          <p:nvPr/>
        </p:nvSpPr>
        <p:spPr>
          <a:xfrm>
            <a:off x="4114800" y="4191120"/>
            <a:ext cx="1219320" cy="761760"/>
          </a:xfrm>
          <a:custGeom>
            <a:avLst/>
            <a:gdLst>
              <a:gd name="textAreaLeft" fmla="*/ 0 w 1219320"/>
              <a:gd name="textAreaRight" fmla="*/ 1219680 w 1219320"/>
              <a:gd name="textAreaTop" fmla="*/ 98640 h 761760"/>
              <a:gd name="textAreaBottom" fmla="*/ 663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5" name="WordArt 34" descr=""/>
          <p:cNvPicPr/>
          <p:nvPr/>
        </p:nvPicPr>
        <p:blipFill>
          <a:blip r:embed="rId10"/>
          <a:stretch/>
        </p:blipFill>
        <p:spPr>
          <a:xfrm>
            <a:off x="0" y="5257800"/>
            <a:ext cx="1778040" cy="939960"/>
          </a:xfrm>
          <a:prstGeom prst="rect">
            <a:avLst/>
          </a:prstGeom>
          <a:ln w="0">
            <a:noFill/>
          </a:ln>
        </p:spPr>
      </p:pic>
      <p:sp>
        <p:nvSpPr>
          <p:cNvPr id="1356" name="WordArt 36"/>
          <p:cNvSpPr txBox="1"/>
          <p:nvPr/>
        </p:nvSpPr>
        <p:spPr>
          <a:xfrm>
            <a:off x="2590920" y="48769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7" name="WordArt 37"/>
          <p:cNvSpPr txBox="1"/>
          <p:nvPr/>
        </p:nvSpPr>
        <p:spPr>
          <a:xfrm>
            <a:off x="2133720" y="42670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8" name="AutoShape 38"/>
          <p:cNvSpPr/>
          <p:nvPr/>
        </p:nvSpPr>
        <p:spPr>
          <a:xfrm>
            <a:off x="4114800" y="5334120"/>
            <a:ext cx="990720" cy="76176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43"/>
          <p:cNvSpPr/>
          <p:nvPr/>
        </p:nvSpPr>
        <p:spPr>
          <a:xfrm>
            <a:off x="7326000" y="2811600"/>
            <a:ext cx="72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48"/>
          <p:cNvSpPr/>
          <p:nvPr/>
        </p:nvSpPr>
        <p:spPr>
          <a:xfrm>
            <a:off x="7718400" y="384012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AutoShape 49">
            <a:hlinkClick r:id="" action="ppaction://hlinkshowjump?jump=endshow"/>
          </p:cNvPr>
          <p:cNvSpPr/>
          <p:nvPr/>
        </p:nvSpPr>
        <p:spPr>
          <a:xfrm>
            <a:off x="5562720" y="5410080"/>
            <a:ext cx="1676160" cy="1447920"/>
          </a:xfrm>
          <a:custGeom>
            <a:avLst/>
            <a:gdLst>
              <a:gd name="textAreaLeft" fmla="*/ 93600 w 1676160"/>
              <a:gd name="textAreaRight" fmla="*/ 1582560 w 16761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5004" h="21600">
                <a:moveTo>
                  <a:pt x="0" y="0"/>
                </a:moveTo>
                <a:lnTo>
                  <a:pt x="25004" y="0"/>
                </a:lnTo>
                <a:lnTo>
                  <a:pt x="25004" y="21600"/>
                </a:lnTo>
                <a:lnTo>
                  <a:pt x="0" y="21600"/>
                </a:lnTo>
                <a:close/>
              </a:path>
              <a:path fill="lightenLess" w="25004" h="21600">
                <a:moveTo>
                  <a:pt x="0" y="0"/>
                </a:moveTo>
                <a:lnTo>
                  <a:pt x="25004" y="0"/>
                </a:lnTo>
                <a:lnTo>
                  <a:pt x="23604" y="1400"/>
                </a:lnTo>
                <a:lnTo>
                  <a:pt x="1400" y="1400"/>
                </a:lnTo>
                <a:close/>
              </a:path>
              <a:path fill="darken" w="25004" h="21600">
                <a:moveTo>
                  <a:pt x="25004" y="0"/>
                </a:moveTo>
                <a:lnTo>
                  <a:pt x="25004" y="21600"/>
                </a:lnTo>
                <a:lnTo>
                  <a:pt x="23604" y="20200"/>
                </a:lnTo>
                <a:lnTo>
                  <a:pt x="23604" y="1400"/>
                </a:lnTo>
                <a:close/>
              </a:path>
              <a:path fill="darkenLess" w="25004" h="21600">
                <a:moveTo>
                  <a:pt x="25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4" y="20200"/>
                </a:lnTo>
                <a:close/>
              </a:path>
              <a:path fill="lighten" w="25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4" h="21600">
                <a:moveTo>
                  <a:pt x="16001" y="10800"/>
                </a:moveTo>
                <a:lnTo>
                  <a:pt x="5496" y="17806"/>
                </a:lnTo>
                <a:lnTo>
                  <a:pt x="5496" y="3794"/>
                </a:lnTo>
                <a:close/>
              </a:path>
              <a:path fill="darken" w="25004" h="21600">
                <a:moveTo>
                  <a:pt x="17846" y="3794"/>
                </a:moveTo>
                <a:lnTo>
                  <a:pt x="17846" y="17806"/>
                </a:lnTo>
                <a:lnTo>
                  <a:pt x="19508" y="17806"/>
                </a:lnTo>
                <a:lnTo>
                  <a:pt x="19508" y="379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WordArt 50"/>
          <p:cNvSpPr txBox="1"/>
          <p:nvPr/>
        </p:nvSpPr>
        <p:spPr>
          <a:xfrm>
            <a:off x="5943600" y="5715000"/>
            <a:ext cx="914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退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63" name="AutoShape 57"/>
          <p:cNvSpPr/>
          <p:nvPr/>
        </p:nvSpPr>
        <p:spPr>
          <a:xfrm>
            <a:off x="6095880" y="2057400"/>
            <a:ext cx="2210040" cy="1676520"/>
          </a:xfrm>
          <a:custGeom>
            <a:avLst/>
            <a:gdLst>
              <a:gd name="textAreaLeft" fmla="*/ 108360 w 2210040"/>
              <a:gd name="textAreaRight" fmla="*/ 2101680 w 22100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72" h="21600">
                <a:moveTo>
                  <a:pt x="0" y="0"/>
                </a:moveTo>
                <a:lnTo>
                  <a:pt x="28472" y="0"/>
                </a:lnTo>
                <a:lnTo>
                  <a:pt x="28472" y="21600"/>
                </a:lnTo>
                <a:lnTo>
                  <a:pt x="0" y="21600"/>
                </a:lnTo>
                <a:close/>
              </a:path>
              <a:path fill="lightenLess" w="28472" h="21600">
                <a:moveTo>
                  <a:pt x="0" y="0"/>
                </a:moveTo>
                <a:lnTo>
                  <a:pt x="28472" y="0"/>
                </a:lnTo>
                <a:lnTo>
                  <a:pt x="27072" y="1400"/>
                </a:lnTo>
                <a:lnTo>
                  <a:pt x="1400" y="1400"/>
                </a:lnTo>
                <a:close/>
              </a:path>
              <a:path fill="darken" w="28472" h="21600">
                <a:moveTo>
                  <a:pt x="28472" y="0"/>
                </a:moveTo>
                <a:lnTo>
                  <a:pt x="28472" y="21600"/>
                </a:lnTo>
                <a:lnTo>
                  <a:pt x="27072" y="20200"/>
                </a:lnTo>
                <a:lnTo>
                  <a:pt x="27072" y="1400"/>
                </a:lnTo>
                <a:close/>
              </a:path>
              <a:path fill="darkenLess" w="28472" h="21600">
                <a:moveTo>
                  <a:pt x="28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72" y="20200"/>
                </a:lnTo>
                <a:close/>
              </a:path>
              <a:path fill="lighten" w="28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72" h="21600">
                <a:moveTo>
                  <a:pt x="7230" y="7301"/>
                </a:moveTo>
                <a:lnTo>
                  <a:pt x="8144" y="7301"/>
                </a:lnTo>
                <a:lnTo>
                  <a:pt x="8527" y="7667"/>
                </a:lnTo>
                <a:lnTo>
                  <a:pt x="17735" y="7667"/>
                </a:lnTo>
                <a:lnTo>
                  <a:pt x="18292" y="8224"/>
                </a:lnTo>
                <a:lnTo>
                  <a:pt x="18292" y="8772"/>
                </a:lnTo>
                <a:lnTo>
                  <a:pt x="20137" y="8772"/>
                </a:lnTo>
                <a:lnTo>
                  <a:pt x="20503" y="8224"/>
                </a:lnTo>
                <a:lnTo>
                  <a:pt x="21243" y="8224"/>
                </a:lnTo>
                <a:lnTo>
                  <a:pt x="21243" y="13376"/>
                </a:lnTo>
                <a:lnTo>
                  <a:pt x="20503" y="13376"/>
                </a:lnTo>
                <a:lnTo>
                  <a:pt x="20137" y="12828"/>
                </a:lnTo>
                <a:lnTo>
                  <a:pt x="18292" y="12828"/>
                </a:lnTo>
                <a:lnTo>
                  <a:pt x="18292" y="14107"/>
                </a:lnTo>
                <a:lnTo>
                  <a:pt x="8709" y="14107"/>
                </a:lnTo>
                <a:lnTo>
                  <a:pt x="8709" y="9877"/>
                </a:lnTo>
                <a:lnTo>
                  <a:pt x="8527" y="9877"/>
                </a:lnTo>
                <a:lnTo>
                  <a:pt x="8144" y="10243"/>
                </a:lnTo>
                <a:lnTo>
                  <a:pt x="7230" y="10243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WordArt 59"/>
          <p:cNvSpPr txBox="1"/>
          <p:nvPr/>
        </p:nvSpPr>
        <p:spPr>
          <a:xfrm>
            <a:off x="6477120" y="27432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单元复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65" name="Picture 60" descr="图片3"/>
          <p:cNvPicPr/>
          <p:nvPr/>
        </p:nvPicPr>
        <p:blipFill>
          <a:blip r:embed="rId12"/>
          <a:stretch/>
        </p:blipFill>
        <p:spPr>
          <a:xfrm>
            <a:off x="-304920" y="-142920"/>
            <a:ext cx="9753840" cy="7143840"/>
          </a:xfrm>
          <a:prstGeom prst="rect">
            <a:avLst/>
          </a:prstGeom>
          <a:ln w="0">
            <a:noFill/>
          </a:ln>
        </p:spPr>
      </p:pic>
      <p:sp>
        <p:nvSpPr>
          <p:cNvPr id="136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27A4-0F5D-4AD7-BAD8-A7A735ADD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Line 4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5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6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9"/>
          <p:cNvSpPr/>
          <p:nvPr/>
        </p:nvSpPr>
        <p:spPr>
          <a:xfrm>
            <a:off x="304920" y="9144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10"/>
          <p:cNvSpPr/>
          <p:nvPr/>
        </p:nvSpPr>
        <p:spPr>
          <a:xfrm>
            <a:off x="3886200" y="274320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Oval 11"/>
          <p:cNvSpPr/>
          <p:nvPr/>
        </p:nvSpPr>
        <p:spPr>
          <a:xfrm>
            <a:off x="3733920" y="2133720"/>
            <a:ext cx="30456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12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3616-587B-4213-8BB6-AF52CE593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Line 4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WordArt 5"/>
          <p:cNvSpPr txBox="1"/>
          <p:nvPr/>
        </p:nvSpPr>
        <p:spPr>
          <a:xfrm rot="12600">
            <a:off x="3048120" y="106632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79" name="Line 6"/>
          <p:cNvSpPr/>
          <p:nvPr/>
        </p:nvSpPr>
        <p:spPr>
          <a:xfrm>
            <a:off x="4800600" y="32767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7"/>
          <p:cNvSpPr/>
          <p:nvPr/>
        </p:nvSpPr>
        <p:spPr>
          <a:xfrm>
            <a:off x="380880" y="6094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10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AutoShape 11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D3A5-6DD7-4372-A486-A0171EF06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Line 4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5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6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7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Oval 8"/>
          <p:cNvSpPr/>
          <p:nvPr/>
        </p:nvSpPr>
        <p:spPr>
          <a:xfrm>
            <a:off x="380988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9"/>
          <p:cNvSpPr/>
          <p:nvPr/>
        </p:nvSpPr>
        <p:spPr>
          <a:xfrm>
            <a:off x="4648320" y="220968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WordArt 10"/>
          <p:cNvSpPr txBox="1"/>
          <p:nvPr/>
        </p:nvSpPr>
        <p:spPr>
          <a:xfrm rot="12600">
            <a:off x="3048120" y="106632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93" name="Line 11"/>
          <p:cNvSpPr/>
          <p:nvPr/>
        </p:nvSpPr>
        <p:spPr>
          <a:xfrm>
            <a:off x="4800600" y="32767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AutoShape 12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BDAD-1859-40EE-BDBB-C2D007086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2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Line 4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5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Line 6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Line 7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8"/>
          <p:cNvSpPr/>
          <p:nvPr/>
        </p:nvSpPr>
        <p:spPr>
          <a:xfrm>
            <a:off x="3733920" y="2743200"/>
            <a:ext cx="91440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10"/>
          <p:cNvSpPr/>
          <p:nvPr/>
        </p:nvSpPr>
        <p:spPr>
          <a:xfrm flipH="1">
            <a:off x="3962160" y="2743200"/>
            <a:ext cx="1447560" cy="30481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AutoShape 11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2B0D-A653-4DC1-B95F-678D7320B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Line 4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5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6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7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9"/>
          <p:cNvSpPr/>
          <p:nvPr/>
        </p:nvSpPr>
        <p:spPr>
          <a:xfrm>
            <a:off x="2743200" y="2743200"/>
            <a:ext cx="60948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0"/>
          <p:cNvSpPr/>
          <p:nvPr/>
        </p:nvSpPr>
        <p:spPr>
          <a:xfrm flipH="1">
            <a:off x="3352680" y="2743200"/>
            <a:ext cx="60984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"/>
          <p:cNvSpPr/>
          <p:nvPr/>
        </p:nvSpPr>
        <p:spPr>
          <a:xfrm>
            <a:off x="3962520" y="2743200"/>
            <a:ext cx="45720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2"/>
          <p:cNvSpPr/>
          <p:nvPr/>
        </p:nvSpPr>
        <p:spPr>
          <a:xfrm flipH="1">
            <a:off x="4419360" y="2743200"/>
            <a:ext cx="60948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AutoShape 15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2562-4BB2-4BF3-83F4-2BCA77FD3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WordArt 5"/>
          <p:cNvSpPr txBox="1"/>
          <p:nvPr/>
        </p:nvSpPr>
        <p:spPr>
          <a:xfrm>
            <a:off x="2133720" y="2286000"/>
            <a:ext cx="12952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黑体"/>
              </a:rPr>
              <a:t>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黑体"/>
              </a:rPr>
              <a:t>y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黑体"/>
              </a:rPr>
              <a:t>yi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18" name="Line 6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0" y="182880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9"/>
          <p:cNvSpPr/>
          <p:nvPr/>
        </p:nvSpPr>
        <p:spPr>
          <a:xfrm>
            <a:off x="60199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1" name="WordArt 10" descr=""/>
          <p:cNvPicPr/>
          <p:nvPr/>
        </p:nvPicPr>
        <p:blipFill>
          <a:blip r:embed="rId2"/>
          <a:stretch/>
        </p:blipFill>
        <p:spPr>
          <a:xfrm>
            <a:off x="4110120" y="1900080"/>
            <a:ext cx="1724040" cy="4562640"/>
          </a:xfrm>
          <a:prstGeom prst="rect">
            <a:avLst/>
          </a:prstGeom>
          <a:ln w="0">
            <a:noFill/>
          </a:ln>
        </p:spPr>
      </p:pic>
      <p:sp>
        <p:nvSpPr>
          <p:cNvPr id="1422" name="WordArt 11"/>
          <p:cNvSpPr txBox="1"/>
          <p:nvPr/>
        </p:nvSpPr>
        <p:spPr>
          <a:xfrm>
            <a:off x="2895480" y="1905120"/>
            <a:ext cx="228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黑体"/>
              </a:rPr>
              <a:t>i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1423" name="WordArt 12" descr=""/>
          <p:cNvPicPr/>
          <p:nvPr/>
        </p:nvPicPr>
        <p:blipFill>
          <a:blip r:embed="rId3"/>
          <a:stretch/>
        </p:blipFill>
        <p:spPr>
          <a:xfrm>
            <a:off x="6165720" y="1822320"/>
            <a:ext cx="965160" cy="4915080"/>
          </a:xfrm>
          <a:prstGeom prst="rect">
            <a:avLst/>
          </a:prstGeom>
          <a:ln w="0">
            <a:noFill/>
          </a:ln>
        </p:spPr>
      </p:pic>
      <p:sp>
        <p:nvSpPr>
          <p:cNvPr id="1424" name="Line 13"/>
          <p:cNvSpPr/>
          <p:nvPr/>
        </p:nvSpPr>
        <p:spPr>
          <a:xfrm>
            <a:off x="20574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4"/>
          <p:cNvSpPr/>
          <p:nvPr/>
        </p:nvSpPr>
        <p:spPr>
          <a:xfrm flipH="1">
            <a:off x="-360" y="533412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5"/>
          <p:cNvSpPr/>
          <p:nvPr/>
        </p:nvSpPr>
        <p:spPr>
          <a:xfrm flipH="1">
            <a:off x="-360" y="335268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WordArt 16"/>
          <p:cNvSpPr txBox="1"/>
          <p:nvPr/>
        </p:nvSpPr>
        <p:spPr>
          <a:xfrm>
            <a:off x="6324480" y="3809880"/>
            <a:ext cx="1143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(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无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28" name="WordArt 17"/>
          <p:cNvSpPr txBox="1"/>
          <p:nvPr/>
        </p:nvSpPr>
        <p:spPr>
          <a:xfrm>
            <a:off x="1066680" y="2286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读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29" name="Line 18"/>
          <p:cNvSpPr/>
          <p:nvPr/>
        </p:nvSpPr>
        <p:spPr>
          <a:xfrm>
            <a:off x="304920" y="0"/>
            <a:ext cx="175248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19"/>
          <p:cNvSpPr/>
          <p:nvPr/>
        </p:nvSpPr>
        <p:spPr>
          <a:xfrm>
            <a:off x="0" y="914400"/>
            <a:ext cx="20574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WordArt 20"/>
          <p:cNvSpPr txBox="1"/>
          <p:nvPr/>
        </p:nvSpPr>
        <p:spPr>
          <a:xfrm rot="1294200">
            <a:off x="151920" y="5335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写法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2" name="WordArt 21"/>
          <p:cNvSpPr txBox="1"/>
          <p:nvPr/>
        </p:nvSpPr>
        <p:spPr>
          <a:xfrm>
            <a:off x="228600" y="13716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类型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3" name="WordArt 22"/>
          <p:cNvSpPr txBox="1"/>
          <p:nvPr/>
        </p:nvSpPr>
        <p:spPr>
          <a:xfrm>
            <a:off x="304920" y="2362320"/>
            <a:ext cx="16761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韵母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4" name="WordArt 23"/>
          <p:cNvSpPr txBox="1"/>
          <p:nvPr/>
        </p:nvSpPr>
        <p:spPr>
          <a:xfrm>
            <a:off x="0" y="3352680"/>
            <a:ext cx="1981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声母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5" name="WordArt 24"/>
          <p:cNvSpPr txBox="1"/>
          <p:nvPr/>
        </p:nvSpPr>
        <p:spPr>
          <a:xfrm>
            <a:off x="0" y="533412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整体认读音节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436" name="Picture 25" descr="c80e42ee4c9091d5b3fb95a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400800" y="38088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1437" name="Picture 26" descr="c80e42ee4c9091d5b3fb95a2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14600" y="38088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27" descr="c80e42ee4c9091d5b3fb95a2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724280" y="38088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439" name="AutoShape 28"/>
          <p:cNvSpPr/>
          <p:nvPr/>
        </p:nvSpPr>
        <p:spPr>
          <a:xfrm>
            <a:off x="8153280" y="457200"/>
            <a:ext cx="990720" cy="18288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828800"/>
              <a:gd name="textAreaBottom" fmla="*/ 1764720 h 1828800"/>
            </a:gdLst>
            <a:ahLst/>
            <a:rect l="textAreaLeft" t="textAreaTop" r="textAreaRight" b="textAreaBottom"/>
            <a:pathLst>
              <a:path w="21600" h="39865">
                <a:moveTo>
                  <a:pt x="0" y="0"/>
                </a:moveTo>
                <a:lnTo>
                  <a:pt x="21600" y="0"/>
                </a:lnTo>
                <a:lnTo>
                  <a:pt x="21600" y="39865"/>
                </a:lnTo>
                <a:lnTo>
                  <a:pt x="0" y="39865"/>
                </a:lnTo>
                <a:close/>
              </a:path>
              <a:path fill="lightenLess" w="21600" h="39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9865">
                <a:moveTo>
                  <a:pt x="21600" y="0"/>
                </a:moveTo>
                <a:lnTo>
                  <a:pt x="21600" y="39865"/>
                </a:lnTo>
                <a:lnTo>
                  <a:pt x="20200" y="38465"/>
                </a:lnTo>
                <a:lnTo>
                  <a:pt x="20200" y="1400"/>
                </a:lnTo>
                <a:close/>
              </a:path>
              <a:path fill="darkenLess" w="21600" h="39865">
                <a:moveTo>
                  <a:pt x="21600" y="39865"/>
                </a:moveTo>
                <a:lnTo>
                  <a:pt x="0" y="39865"/>
                </a:lnTo>
                <a:lnTo>
                  <a:pt x="1400" y="38465"/>
                </a:lnTo>
                <a:lnTo>
                  <a:pt x="20200" y="38465"/>
                </a:lnTo>
                <a:close/>
              </a:path>
              <a:path fill="lighten" w="21600" h="39865">
                <a:moveTo>
                  <a:pt x="0" y="39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38465"/>
                </a:lnTo>
                <a:close/>
              </a:path>
              <a:path fill="darken" w="21600" h="39865">
                <a:moveTo>
                  <a:pt x="3794" y="16625"/>
                </a:moveTo>
                <a:lnTo>
                  <a:pt x="7301" y="16625"/>
                </a:lnTo>
                <a:lnTo>
                  <a:pt x="7301" y="21961"/>
                </a:lnTo>
                <a:cubicBezTo>
                  <a:pt x="7301" y="22883"/>
                  <a:pt x="8102" y="23614"/>
                  <a:pt x="9138" y="23614"/>
                </a:cubicBezTo>
                <a:lnTo>
                  <a:pt x="10800" y="23614"/>
                </a:lnTo>
                <a:cubicBezTo>
                  <a:pt x="11836" y="23614"/>
                  <a:pt x="12636" y="22883"/>
                  <a:pt x="12636" y="21961"/>
                </a:cubicBezTo>
                <a:lnTo>
                  <a:pt x="12636" y="16625"/>
                </a:lnTo>
                <a:lnTo>
                  <a:pt x="10800" y="16625"/>
                </a:lnTo>
                <a:lnTo>
                  <a:pt x="14308" y="13118"/>
                </a:lnTo>
                <a:lnTo>
                  <a:pt x="17981" y="16625"/>
                </a:lnTo>
                <a:lnTo>
                  <a:pt x="16144" y="16625"/>
                </a:lnTo>
                <a:lnTo>
                  <a:pt x="16144" y="21961"/>
                </a:lnTo>
                <a:cubicBezTo>
                  <a:pt x="16144" y="24728"/>
                  <a:pt x="13568" y="27287"/>
                  <a:pt x="10800" y="27287"/>
                </a:cubicBezTo>
                <a:lnTo>
                  <a:pt x="9138" y="27287"/>
                </a:lnTo>
                <a:cubicBezTo>
                  <a:pt x="6370" y="27287"/>
                  <a:pt x="3794" y="24728"/>
                  <a:pt x="3794" y="21961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29"/>
          <p:cNvSpPr/>
          <p:nvPr/>
        </p:nvSpPr>
        <p:spPr>
          <a:xfrm>
            <a:off x="75438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WordArt 30"/>
          <p:cNvSpPr txBox="1"/>
          <p:nvPr/>
        </p:nvSpPr>
        <p:spPr>
          <a:xfrm>
            <a:off x="7924680" y="5257800"/>
            <a:ext cx="91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返回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2" name="WordArt 34"/>
          <p:cNvSpPr txBox="1"/>
          <p:nvPr/>
        </p:nvSpPr>
        <p:spPr>
          <a:xfrm rot="16200000">
            <a:off x="7353360" y="3542760"/>
            <a:ext cx="2438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162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162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3" name="灯片编号占位符 2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90EA-66BD-47A9-A3AC-D3002FE21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页脚占位符 3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47" name="Rectangle 4"/>
          <p:cNvSpPr/>
          <p:nvPr/>
        </p:nvSpPr>
        <p:spPr>
          <a:xfrm>
            <a:off x="-152280" y="0"/>
            <a:ext cx="929628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整体认读节音一般是指添加一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声母后读音仍和韵母一样的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（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yuan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比较特殊），也就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指不用拼读即直接认读的音节，所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整体认读音节要直接读出，如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yi wu yu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AutoShape 5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4739-5828-41B4-AB25-5E43E18B7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9" name="WordArt 6"/>
          <p:cNvSpPr txBox="1"/>
          <p:nvPr/>
        </p:nvSpPr>
        <p:spPr>
          <a:xfrm>
            <a:off x="1676520" y="762120"/>
            <a:ext cx="5790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请选择您要用的功能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60" name="AutoShape 7">
            <a:hlinkClick r:id="rId2" action="ppaction://hlinksldjump"/>
          </p:cNvPr>
          <p:cNvSpPr/>
          <p:nvPr/>
        </p:nvSpPr>
        <p:spPr>
          <a:xfrm>
            <a:off x="990720" y="1828800"/>
            <a:ext cx="1904760" cy="1295280"/>
          </a:xfrm>
          <a:custGeom>
            <a:avLst/>
            <a:gdLst>
              <a:gd name="textAreaLeft" fmla="*/ 83880 w 1904760"/>
              <a:gd name="textAreaRight" fmla="*/ 1820880 w 190476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1761" h="21600">
                <a:moveTo>
                  <a:pt x="0" y="0"/>
                </a:moveTo>
                <a:lnTo>
                  <a:pt x="31761" y="0"/>
                </a:lnTo>
                <a:lnTo>
                  <a:pt x="31761" y="21600"/>
                </a:lnTo>
                <a:lnTo>
                  <a:pt x="0" y="21600"/>
                </a:lnTo>
                <a:close/>
              </a:path>
              <a:path fill="lightenLess" w="31761" h="21600">
                <a:moveTo>
                  <a:pt x="0" y="0"/>
                </a:moveTo>
                <a:lnTo>
                  <a:pt x="31761" y="0"/>
                </a:lnTo>
                <a:lnTo>
                  <a:pt x="30361" y="1400"/>
                </a:lnTo>
                <a:lnTo>
                  <a:pt x="1400" y="1400"/>
                </a:lnTo>
                <a:close/>
              </a:path>
              <a:path fill="darken" w="31761" h="21600">
                <a:moveTo>
                  <a:pt x="31761" y="0"/>
                </a:moveTo>
                <a:lnTo>
                  <a:pt x="31761" y="21600"/>
                </a:lnTo>
                <a:lnTo>
                  <a:pt x="30361" y="20200"/>
                </a:lnTo>
                <a:lnTo>
                  <a:pt x="30361" y="1400"/>
                </a:lnTo>
                <a:close/>
              </a:path>
              <a:path fill="darkenLess" w="31761" h="21600">
                <a:moveTo>
                  <a:pt x="31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61" y="20200"/>
                </a:lnTo>
                <a:close/>
              </a:path>
              <a:path fill="lighten" w="31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61" h="21600">
                <a:moveTo>
                  <a:pt x="8874" y="3794"/>
                </a:moveTo>
                <a:lnTo>
                  <a:pt x="22887" y="10800"/>
                </a:lnTo>
                <a:lnTo>
                  <a:pt x="887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WordArt 8"/>
          <p:cNvSpPr txBox="1"/>
          <p:nvPr/>
        </p:nvSpPr>
        <p:spPr>
          <a:xfrm>
            <a:off x="3276000" y="2209680"/>
            <a:ext cx="1904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2" name="WordArt 9"/>
          <p:cNvSpPr txBox="1"/>
          <p:nvPr/>
        </p:nvSpPr>
        <p:spPr>
          <a:xfrm>
            <a:off x="3886200" y="2666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3" name="WordArt 10"/>
          <p:cNvSpPr txBox="1"/>
          <p:nvPr/>
        </p:nvSpPr>
        <p:spPr>
          <a:xfrm>
            <a:off x="5257800" y="1905120"/>
            <a:ext cx="914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导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64" name="AutoShape 11">
            <a:hlinkClick r:id="rId3" action="ppaction://hlinksldjump"/>
          </p:cNvPr>
          <p:cNvSpPr/>
          <p:nvPr/>
        </p:nvSpPr>
        <p:spPr>
          <a:xfrm>
            <a:off x="914400" y="3276720"/>
            <a:ext cx="1981080" cy="99036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WordArt 12"/>
          <p:cNvSpPr txBox="1"/>
          <p:nvPr/>
        </p:nvSpPr>
        <p:spPr>
          <a:xfrm rot="5400000">
            <a:off x="5410080" y="3429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学习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6" name="WordArt 13"/>
          <p:cNvSpPr txBox="1"/>
          <p:nvPr/>
        </p:nvSpPr>
        <p:spPr>
          <a:xfrm rot="10800000">
            <a:off x="5143680" y="38862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7" name="WordArt 14"/>
          <p:cNvSpPr txBox="1"/>
          <p:nvPr/>
        </p:nvSpPr>
        <p:spPr>
          <a:xfrm>
            <a:off x="3962520" y="39625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8" name="WordArt 15"/>
          <p:cNvSpPr txBox="1"/>
          <p:nvPr/>
        </p:nvSpPr>
        <p:spPr>
          <a:xfrm>
            <a:off x="5486400" y="441972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刷新</a:t>
            </a:r>
            <a:endParaRPr b="0" lang="en-US" sz="1800" spc="-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9" name="WordArt 16"/>
          <p:cNvSpPr txBox="1"/>
          <p:nvPr/>
        </p:nvSpPr>
        <p:spPr>
          <a:xfrm rot="10800000">
            <a:off x="5143680" y="49528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0" name="AutoShape 18">
            <a:hlinkClick r:id="rId8" action="ppaction://hlinksldjump"/>
          </p:cNvPr>
          <p:cNvSpPr/>
          <p:nvPr/>
        </p:nvSpPr>
        <p:spPr>
          <a:xfrm>
            <a:off x="9144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089" h="21600">
                <a:moveTo>
                  <a:pt x="24545" y="3837"/>
                </a:moveTo>
                <a:lnTo>
                  <a:pt x="27121" y="6448"/>
                </a:lnTo>
                <a:lnTo>
                  <a:pt x="27121" y="4707"/>
                </a:lnTo>
                <a:lnTo>
                  <a:pt x="28896" y="4707"/>
                </a:lnTo>
                <a:lnTo>
                  <a:pt x="28896" y="8224"/>
                </a:lnTo>
                <a:lnTo>
                  <a:pt x="31508" y="10800"/>
                </a:lnTo>
                <a:lnTo>
                  <a:pt x="29854" y="10800"/>
                </a:lnTo>
                <a:lnTo>
                  <a:pt x="29854" y="17989"/>
                </a:lnTo>
                <a:lnTo>
                  <a:pt x="19235" y="17989"/>
                </a:lnTo>
                <a:lnTo>
                  <a:pt x="19235" y="10800"/>
                </a:lnTo>
                <a:lnTo>
                  <a:pt x="17582" y="10800"/>
                </a:lnTo>
                <a:close/>
              </a:path>
              <a:path fill="darkenLess" w="49089" h="21600">
                <a:moveTo>
                  <a:pt x="27121" y="6448"/>
                </a:moveTo>
                <a:lnTo>
                  <a:pt x="27121" y="4707"/>
                </a:lnTo>
                <a:lnTo>
                  <a:pt x="28896" y="4707"/>
                </a:lnTo>
                <a:lnTo>
                  <a:pt x="28896" y="8224"/>
                </a:lnTo>
                <a:close/>
              </a:path>
              <a:path fill="darkenLess" w="49089" h="21600">
                <a:moveTo>
                  <a:pt x="23622" y="14299"/>
                </a:moveTo>
                <a:lnTo>
                  <a:pt x="25467" y="14299"/>
                </a:lnTo>
                <a:lnTo>
                  <a:pt x="25467" y="17989"/>
                </a:lnTo>
                <a:lnTo>
                  <a:pt x="29854" y="17989"/>
                </a:lnTo>
                <a:lnTo>
                  <a:pt x="29854" y="10800"/>
                </a:lnTo>
                <a:lnTo>
                  <a:pt x="19235" y="10800"/>
                </a:lnTo>
                <a:lnTo>
                  <a:pt x="19235" y="17989"/>
                </a:lnTo>
                <a:lnTo>
                  <a:pt x="23622" y="1798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WordArt 19"/>
          <p:cNvSpPr txBox="1"/>
          <p:nvPr/>
        </p:nvSpPr>
        <p:spPr>
          <a:xfrm>
            <a:off x="3962520" y="48769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2" name="AutoShape 20">
            <a:hlinkClick r:id="rId9" action="ppaction://hlinksldjump"/>
          </p:cNvPr>
          <p:cNvSpPr/>
          <p:nvPr/>
        </p:nvSpPr>
        <p:spPr>
          <a:xfrm>
            <a:off x="3429000" y="5638680"/>
            <a:ext cx="5334120" cy="990720"/>
          </a:xfrm>
          <a:custGeom>
            <a:avLst/>
            <a:gdLst>
              <a:gd name="textAreaLeft" fmla="*/ 64080 w 5334120"/>
              <a:gd name="textAreaRight" fmla="*/ 5270040 w 53341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16262" h="21600">
                <a:moveTo>
                  <a:pt x="0" y="0"/>
                </a:moveTo>
                <a:lnTo>
                  <a:pt x="116262" y="0"/>
                </a:lnTo>
                <a:lnTo>
                  <a:pt x="116262" y="21600"/>
                </a:lnTo>
                <a:lnTo>
                  <a:pt x="0" y="21600"/>
                </a:lnTo>
                <a:close/>
              </a:path>
              <a:path fill="lightenLess" w="116262" h="21600">
                <a:moveTo>
                  <a:pt x="0" y="0"/>
                </a:moveTo>
                <a:lnTo>
                  <a:pt x="116262" y="0"/>
                </a:lnTo>
                <a:lnTo>
                  <a:pt x="114862" y="1400"/>
                </a:lnTo>
                <a:lnTo>
                  <a:pt x="1400" y="1400"/>
                </a:lnTo>
                <a:close/>
              </a:path>
              <a:path fill="darken" w="116262" h="21600">
                <a:moveTo>
                  <a:pt x="116262" y="0"/>
                </a:moveTo>
                <a:lnTo>
                  <a:pt x="116262" y="21600"/>
                </a:lnTo>
                <a:lnTo>
                  <a:pt x="114862" y="20200"/>
                </a:lnTo>
                <a:lnTo>
                  <a:pt x="114862" y="1400"/>
                </a:lnTo>
                <a:close/>
              </a:path>
              <a:path fill="darkenLess" w="116262" h="21600">
                <a:moveTo>
                  <a:pt x="116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4862" y="20200"/>
                </a:lnTo>
                <a:close/>
              </a:path>
              <a:path fill="lighten" w="116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更多内容（含复习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3" name="Object 25" descr=""/>
          <p:cNvPicPr/>
          <p:nvPr/>
        </p:nvPicPr>
        <p:blipFill>
          <a:blip r:embed="rId10"/>
          <a:stretch/>
        </p:blipFill>
        <p:spPr>
          <a:xfrm>
            <a:off x="4243320" y="7543800"/>
            <a:ext cx="6096240" cy="30960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26" descr="三个兔子手拉手"/>
          <p:cNvPicPr/>
          <p:nvPr/>
        </p:nvPicPr>
        <p:blipFill>
          <a:blip r:embed="rId11"/>
          <a:stretch/>
        </p:blipFill>
        <p:spPr>
          <a:xfrm>
            <a:off x="-304920" y="-1309680"/>
            <a:ext cx="9753840" cy="9477360"/>
          </a:xfrm>
          <a:prstGeom prst="rect">
            <a:avLst/>
          </a:prstGeom>
          <a:ln w="0">
            <a:noFill/>
          </a:ln>
        </p:spPr>
      </p:pic>
      <p:sp>
        <p:nvSpPr>
          <p:cNvPr id="1175" name="灯片编号占位符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4532-73B1-4CC9-B0BF-D2524AC51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页脚占位符 2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1045"/>
          <p:cNvSpPr/>
          <p:nvPr/>
        </p:nvSpPr>
        <p:spPr>
          <a:xfrm>
            <a:off x="157320" y="-1066680"/>
            <a:ext cx="36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矩形 1046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矩形 1047"/>
          <p:cNvSpPr/>
          <p:nvPr/>
        </p:nvSpPr>
        <p:spPr>
          <a:xfrm>
            <a:off x="476280" y="451800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4"/>
          <p:cNvSpPr/>
          <p:nvPr/>
        </p:nvSpPr>
        <p:spPr>
          <a:xfrm>
            <a:off x="533520" y="228600"/>
            <a:ext cx="4876560" cy="2514600"/>
          </a:xfrm>
          <a:prstGeom prst="rect">
            <a:avLst/>
          </a:prstGeom>
          <a:solidFill>
            <a:srgbClr val="ff6600">
              <a:alpha val="55000"/>
            </a:srgbClr>
          </a:solidFill>
          <a:ln w="76320">
            <a:solidFill>
              <a:srgbClr val="007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7673"/>
                </a:solidFill>
                <a:latin typeface="Arial"/>
                <a:ea typeface="方正姚体"/>
              </a:rPr>
              <a:t>导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5"/>
          <p:cNvSpPr/>
          <p:nvPr/>
        </p:nvSpPr>
        <p:spPr>
          <a:xfrm>
            <a:off x="1676520" y="3048120"/>
            <a:ext cx="5181480" cy="3581280"/>
          </a:xfrm>
          <a:prstGeom prst="rect">
            <a:avLst/>
          </a:prstGeom>
          <a:solidFill>
            <a:srgbClr val="ffff00">
              <a:alpha val="55000"/>
            </a:srgbClr>
          </a:solidFill>
          <a:ln w="38160">
            <a:solidFill>
              <a:srgbClr val="007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今天学习的是</a:t>
            </a:r>
            <a:r>
              <a:rPr b="0" lang="en-US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8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拼音，分别是</a:t>
            </a:r>
            <a:r>
              <a:rPr b="0" lang="en-US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3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个韵母、</a:t>
            </a:r>
            <a:r>
              <a:rPr b="0" lang="en-US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2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声母，和</a:t>
            </a:r>
            <a:r>
              <a:rPr b="0" lang="en-US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3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个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方正姚体"/>
                <a:ea typeface="方正姚体"/>
                <a:hlinkClick r:id="rId1" action="ppaction://hlinksldjump"/>
              </a:rPr>
              <a:t>整体认读音节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（若不明白整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方正姚体"/>
                <a:ea typeface="方正姚体"/>
                <a:hlinkClick r:id="rId2" action="ppaction://hlinksldjump"/>
              </a:rPr>
              <a:t>体认读音节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点击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方正姚体"/>
                <a:ea typeface="方正姚体"/>
                <a:hlinkClick r:id="rId3" action="ppaction://hlinksldjump"/>
              </a:rPr>
              <a:t>整体认读音节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AutoShape 6">
            <a:hlinkClick r:id="rId4" action="ppaction://hlinksldjump"/>
          </p:cNvPr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灯片编号占位符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DC3A-66AF-435E-B568-2B6313C047E4}" type="slidenum">
              <a:rPr b="0" lang="en-US" sz="1200" spc="-1" strike="noStrike">
                <a:solidFill>
                  <a:srgbClr val="0076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页脚占位符 7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86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5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8229600" cy="569592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7" descr="《汉语拼音 2》i插图"/>
          <p:cNvPicPr/>
          <p:nvPr/>
        </p:nvPicPr>
        <p:blipFill>
          <a:blip r:embed="rId4"/>
          <a:stretch/>
        </p:blipFill>
        <p:spPr>
          <a:xfrm>
            <a:off x="457200" y="380880"/>
            <a:ext cx="4114800" cy="3124440"/>
          </a:xfrm>
          <a:prstGeom prst="rect">
            <a:avLst/>
          </a:prstGeom>
          <a:ln w="0">
            <a:noFill/>
          </a:ln>
        </p:spPr>
      </p:pic>
      <p:sp>
        <p:nvSpPr>
          <p:cNvPr id="1189" name="WordArt 8"/>
          <p:cNvSpPr txBox="1"/>
          <p:nvPr/>
        </p:nvSpPr>
        <p:spPr>
          <a:xfrm>
            <a:off x="4800600" y="685800"/>
            <a:ext cx="3162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0" name="WordArt 9"/>
          <p:cNvSpPr txBox="1"/>
          <p:nvPr/>
        </p:nvSpPr>
        <p:spPr>
          <a:xfrm>
            <a:off x="1523880" y="3352680"/>
            <a:ext cx="144792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衣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1" name="Text Box 10"/>
          <p:cNvSpPr/>
          <p:nvPr/>
        </p:nvSpPr>
        <p:spPr>
          <a:xfrm>
            <a:off x="3352680" y="3352680"/>
            <a:ext cx="48006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99"/>
                </a:solidFill>
                <a:latin typeface="zypyyb"/>
                <a:ea typeface="zypyyb"/>
              </a:rPr>
              <a:t>一件衣服，嘴巴扁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zypyyb"/>
                <a:ea typeface="zypyyb"/>
              </a:rPr>
              <a:t>iii</a:t>
            </a:r>
            <a:r>
              <a:rPr b="0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小棍头上有一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2" name="Picture 11" descr="c80e42ee4c9091d5b3fb95a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467480" y="144792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193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4CC5-E7F6-46AC-BEE4-BD044B370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Picture 6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196" name="Line 10"/>
          <p:cNvSpPr/>
          <p:nvPr/>
        </p:nvSpPr>
        <p:spPr>
          <a:xfrm>
            <a:off x="380880" y="62485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12"/>
          <p:cNvSpPr/>
          <p:nvPr/>
        </p:nvSpPr>
        <p:spPr>
          <a:xfrm>
            <a:off x="380880" y="6094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18"/>
          <p:cNvSpPr/>
          <p:nvPr/>
        </p:nvSpPr>
        <p:spPr>
          <a:xfrm>
            <a:off x="3581280" y="2666880"/>
            <a:ext cx="381240" cy="175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20"/>
          <p:cNvSpPr/>
          <p:nvPr/>
        </p:nvSpPr>
        <p:spPr>
          <a:xfrm>
            <a:off x="3581280" y="1828800"/>
            <a:ext cx="381240" cy="38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21"/>
          <p:cNvSpPr/>
          <p:nvPr/>
        </p:nvSpPr>
        <p:spPr>
          <a:xfrm>
            <a:off x="380880" y="26668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22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23"/>
          <p:cNvSpPr/>
          <p:nvPr/>
        </p:nvSpPr>
        <p:spPr>
          <a:xfrm>
            <a:off x="4114800" y="2743200"/>
            <a:ext cx="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27"/>
          <p:cNvSpPr/>
          <p:nvPr/>
        </p:nvSpPr>
        <p:spPr>
          <a:xfrm>
            <a:off x="4343400" y="3352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29"/>
          <p:cNvSpPr/>
          <p:nvPr/>
        </p:nvSpPr>
        <p:spPr>
          <a:xfrm>
            <a:off x="4038480" y="1523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A5BA-4618-42DB-B15B-54B598801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4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229600" cy="569592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5" descr="《汉语拼音 2》u插图"/>
          <p:cNvPicPr/>
          <p:nvPr/>
        </p:nvPicPr>
        <p:blipFill>
          <a:blip r:embed="rId3"/>
          <a:stretch/>
        </p:blipFill>
        <p:spPr>
          <a:xfrm>
            <a:off x="457200" y="380880"/>
            <a:ext cx="4876920" cy="3200400"/>
          </a:xfrm>
          <a:prstGeom prst="rect">
            <a:avLst/>
          </a:prstGeom>
          <a:ln w="0">
            <a:noFill/>
          </a:ln>
        </p:spPr>
      </p:pic>
      <p:sp>
        <p:nvSpPr>
          <p:cNvPr id="1209" name="WordArt 6"/>
          <p:cNvSpPr txBox="1"/>
          <p:nvPr/>
        </p:nvSpPr>
        <p:spPr>
          <a:xfrm>
            <a:off x="5334120" y="1219320"/>
            <a:ext cx="209556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u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10" name="WordArt 7"/>
          <p:cNvSpPr txBox="1"/>
          <p:nvPr/>
        </p:nvSpPr>
        <p:spPr>
          <a:xfrm>
            <a:off x="1523880" y="3657600"/>
            <a:ext cx="22100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1" name="Text Box 8"/>
          <p:cNvSpPr/>
          <p:nvPr/>
        </p:nvSpPr>
        <p:spPr>
          <a:xfrm>
            <a:off x="4495680" y="4038480"/>
            <a:ext cx="3429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乌鸦啼叫，嘴巴突出，</a:t>
            </a:r>
            <a:r>
              <a:rPr b="1" lang="en-US" sz="4000" spc="-1" strike="noStrike">
                <a:solidFill>
                  <a:srgbClr val="ff3399"/>
                </a:solidFill>
                <a:latin typeface="zypyyb"/>
                <a:ea typeface="zypyyb"/>
              </a:rPr>
              <a:t>uuu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2" name="Picture 9" descr="c80e42ee4c9091d5b3fb95a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96080" y="160020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213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FA08-4BA5-45D9-8F6D-9639E74CA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Picture 4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16" name="Line 5"/>
          <p:cNvSpPr/>
          <p:nvPr/>
        </p:nvSpPr>
        <p:spPr>
          <a:xfrm>
            <a:off x="380880" y="6094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7"/>
          <p:cNvSpPr/>
          <p:nvPr/>
        </p:nvSpPr>
        <p:spPr>
          <a:xfrm>
            <a:off x="380880" y="62485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9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WordArt 14"/>
          <p:cNvSpPr txBox="1"/>
          <p:nvPr/>
        </p:nvSpPr>
        <p:spPr>
          <a:xfrm rot="12600">
            <a:off x="3048120" y="106632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1" name="Line 15"/>
          <p:cNvSpPr/>
          <p:nvPr/>
        </p:nvSpPr>
        <p:spPr>
          <a:xfrm>
            <a:off x="4800600" y="32767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20"/>
          <p:cNvSpPr/>
          <p:nvPr/>
        </p:nvSpPr>
        <p:spPr>
          <a:xfrm>
            <a:off x="3505320" y="19810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21"/>
          <p:cNvSpPr/>
          <p:nvPr/>
        </p:nvSpPr>
        <p:spPr>
          <a:xfrm>
            <a:off x="5257800" y="4114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22"/>
          <p:cNvSpPr/>
          <p:nvPr/>
        </p:nvSpPr>
        <p:spPr>
          <a:xfrm>
            <a:off x="5029200" y="2819520"/>
            <a:ext cx="0" cy="152388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23"/>
          <p:cNvSpPr/>
          <p:nvPr/>
        </p:nvSpPr>
        <p:spPr>
          <a:xfrm flipV="1">
            <a:off x="4495680" y="2438280"/>
            <a:ext cx="304920" cy="1447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24"/>
          <p:cNvSpPr/>
          <p:nvPr/>
        </p:nvSpPr>
        <p:spPr>
          <a:xfrm>
            <a:off x="4114800" y="2590920"/>
            <a:ext cx="380880" cy="12952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21C2-0151-4B9F-AD0F-FEFD7F155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Picture 6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30" name="WordArt 8"/>
          <p:cNvSpPr txBox="1"/>
          <p:nvPr/>
        </p:nvSpPr>
        <p:spPr>
          <a:xfrm>
            <a:off x="838080" y="4191120"/>
            <a:ext cx="2286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淤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1" name="Text Box 9"/>
          <p:cNvSpPr/>
          <p:nvPr/>
        </p:nvSpPr>
        <p:spPr>
          <a:xfrm>
            <a:off x="4114800" y="3962520"/>
            <a:ext cx="3809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zypyyb"/>
                <a:ea typeface="zypyyb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像兄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zypyyb"/>
                <a:ea typeface="zypyyb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头上没有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zypyyb"/>
              </a:rPr>
              <a:t>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头上有两点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13" descr="《汉语拼音 2》ü插图"/>
          <p:cNvPicPr/>
          <p:nvPr/>
        </p:nvPicPr>
        <p:blipFill>
          <a:blip r:embed="rId5"/>
          <a:stretch/>
        </p:blipFill>
        <p:spPr>
          <a:xfrm>
            <a:off x="304920" y="533520"/>
            <a:ext cx="3200400" cy="3047760"/>
          </a:xfrm>
          <a:prstGeom prst="rect">
            <a:avLst/>
          </a:prstGeom>
          <a:ln w="0">
            <a:noFill/>
          </a:ln>
        </p:spPr>
      </p:pic>
      <p:sp>
        <p:nvSpPr>
          <p:cNvPr id="1233" name="WordArt 14"/>
          <p:cNvSpPr txBox="1"/>
          <p:nvPr/>
        </p:nvSpPr>
        <p:spPr>
          <a:xfrm>
            <a:off x="3505320" y="1371600"/>
            <a:ext cx="19047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6400800" y="838080"/>
            <a:ext cx="12952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小鱼吐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嘴巴也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黑体"/>
              </a:rPr>
              <a:t>üüü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Picture 16" descr="c80e42ee4c9091d5b3fb95a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297180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236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5B61-1638-4D32-967C-F93E95A80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6T21:42:37Z</dcterms:created>
  <dc:creator/>
  <dc:description/>
  <cp:keywords/>
  <dc:language>en-US</dc:language>
  <cp:lastModifiedBy>User</cp:lastModifiedBy>
  <dcterms:modified xsi:type="dcterms:W3CDTF">2016-10-05T11:55:59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  <property fmtid="{D5CDD505-2E9C-101B-9397-08002B2CF9AE}" pid="3" name="Version">
    <vt:r8>1</vt:r8>
  </property>
</Properties>
</file>