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380-6C83-4DDA-96CE-6A43485A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795-5A06-4AE6-89DE-B5A09D7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4852E-9C5B-44A0-989F-0A52B74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F6E3F-A0A0-40D0-B9B8-7D3CCB0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1DCEA-2558-4EC9-9BD9-AF7FCEF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55352-AA6C-42BD-B7F5-8934D956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AB248-1E5B-4742-933D-7FAF0D1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D7E83-6CA4-408F-9AEE-18C5C1B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0BAF-CB10-4605-8609-BB748057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5E2DA-862F-4763-AFF6-2BC3BB96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4739-B0EE-4BB8-94E4-A8CE6901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B99B7-E60F-402A-844B-98F72A73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D14-EDF7-4C0D-B01B-9D74941B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330B3-6F32-4E76-AB57-D732D173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59285-8CC1-469D-A193-F4B789A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85BB6-575F-45AF-ABDD-C9C3389A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63F48-FA59-403B-8CA6-940C1CA1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51D71-82C0-4487-88AA-1D66C5E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27FF9-CB2D-473C-B205-918F83E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10479-1020-4911-9730-3C67ACB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9063B-07EB-436B-B390-EE98AEA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D53F1-0D11-4C68-B99A-1E75E6A9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3073-1041-4C5B-B34B-B572E418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98C-FF4E-4BBF-9408-2CB00663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7B4E1-C27A-4F89-A466-FB237B1A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0374-2027-4782-9B18-5494CFC7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6D62D-66C6-401E-98BF-BEC82A2D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F6098-9692-42BA-BDAC-700A0DC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99229-E07F-492D-941E-BA3A699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DC2E4-3B51-4B43-9181-0191D65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4760-B436-4786-8038-F56E9EB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DEB2-EE42-4C05-9EEA-A1ACA5A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0C4A7-3CF5-4B63-B403-B95F1B6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0FAC-E946-4641-A0D0-39B9318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B5F-6CCE-417D-91BC-941CD33E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4F89C-545D-4A2C-819A-5FE0883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F324-E2B8-4335-AB99-61BD007E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43FF8-A141-4F18-B19A-237AD8CD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E49A8-7DC9-48DB-8058-52C8D9CC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3E0B6-E0F5-4EC9-B386-57F5D36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C2543-A7AF-4C1C-8508-3738082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541EA-C5D3-4441-A07E-43B83B3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D1813-5591-4828-A26A-F5A4122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B51A8-A735-4CCB-8E54-ECC4BE6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2A2A-EA5D-4DDA-83DF-B749C64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2A33-601F-41AB-B6BB-7353E561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89F2C-2808-4598-A4CF-9DC3137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BA06B-F4CB-44A3-84DD-82ACCDF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234C6-0553-4588-B773-6B1CADE3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235F0-867A-4627-A913-54838AAB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B92A6-7B86-4138-B6C2-20F09653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A7C2-1B1D-4ADD-97E0-66E836A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F92-0EB6-4CDA-ADDA-93F17DE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4C59-D4EB-4F2A-96F7-A6E6D5B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2ED-D65D-4B32-9B43-F5F6BAA9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28E-FE7E-439D-9005-C80D34A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B73-FFEF-48E5-9CCF-514443A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5429-196F-41A9-B1FA-9512F9FF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6BA-764A-4247-A2D6-9C9B570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9AB8-83EA-4C86-B175-B7177465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EAF4-CE72-4E22-8AE0-0DE3623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97E7-B1F5-4C5D-8C43-686BF85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ADCC-6A2D-4B95-918A-79EA7BE6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6843-FA9A-49EE-811E-7E0A7DFA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2C53-4340-4B3A-B975-ED68F236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C6ED-B4BD-4EFE-8FE8-C253A89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76AC-C813-4DF6-9BF7-3AA8DB5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2B0-8533-4A0F-859B-526C57C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86C7-60B0-4569-9849-0B897F2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1363-72E3-46F1-85CF-C45924A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2F89-9978-43D2-9E04-1C01770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2ACF-2C39-4B62-B8EE-A57EC1B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34F3-E060-4D4C-B8B6-0C246ED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F572-0A6B-472D-8617-936748F5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AEA4-CA28-4686-966B-6BA9F2C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FC08-2E83-4F75-94D0-C0DEF4BF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D253-0E81-4EDD-AE51-328961D4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E682-93EA-4708-9C65-9FE4827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39A-E668-4B2F-BAD9-E744B2B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A602-805A-420E-98B8-3A1EEB6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CD99-8860-4C83-903A-61EB7E8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0FBC-2E0E-4E0F-BBEA-4C7BA72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A522-42AD-464F-96E1-5D9E31D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9679-4CE6-4968-B214-F5713D5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DEB1-96CB-404F-8357-DC4F8B6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6A0E-4744-4DED-9988-5315D87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AA4C-BA55-4B01-8568-43B3835B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7E1C-7181-4A60-8F0B-387A47C2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AB55-9B8D-4C85-B7E8-1AA5B6E6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A11-89FF-4CE1-9616-BCB2E9F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6ECA-BDDF-4229-92F8-DAD8906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2B47-5E87-4BCC-96BA-38A6BBD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FE34-99F3-42A4-AD77-D720866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8F41-2FF6-43B9-95BE-0777378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8516-BA3D-4364-9155-CD2CFB2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62CE-CE63-4C7F-B3BA-E020F64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0D33-3688-49B4-817C-5BBAA02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5077-1FAA-481C-B50F-B0EA455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E89B-9892-46A2-A639-4D99E56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6DAA-C830-4320-837D-86683D76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2A7-5797-4B52-905B-63077F7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BF53-7455-48F8-AF71-BEF16A27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D5A80-698D-4DB1-8FF1-9710DFD5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F41DC-5419-4232-9E83-858D27B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B518-558C-42A4-98EC-CDCEF933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5E36-C5B5-40A5-BFC1-703ED40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B6DB-D67D-468F-BE27-2008EBE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5AB14-1AF0-41C8-BB2C-6CB05E6C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71FD-DB95-487A-AF03-057F171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AA4D-66DE-405C-8FD7-9022C5B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8AB2-546C-4EAD-B605-BE9918AD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78F-6C45-44BE-9B16-091E797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AC06-0BFF-4A07-9F90-3F25502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A134-464F-4AB2-BAEE-A0AF09C3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4F1A2-DE84-44E6-86C9-A983B372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F75B-895F-48D8-B292-AE5E30D8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E0C7-9A58-44EA-B4EB-62BA3578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F9FA-9439-421E-812B-1C3AC3C2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BFB0-1DE5-4B56-A1A5-928C62D0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DA8E-0EA6-45E6-8602-1DBCDAB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16FF-7F8A-4693-B036-F55272E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99759-B244-47D9-AF52-0592881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618-9D78-4D97-9B27-B8E80A5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8FD9-26E0-4CA0-A7F2-772C498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68FA-AEF5-4C91-9379-B0E2179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5F99-C3E3-4DF5-ABA3-DF3315D3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12B9-DB4A-45F2-B40A-063C3EB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CC1E6-700A-4DF6-9D86-B8E222E4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3289-E681-4659-8473-DE6F415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82A7-57DF-435A-85FF-B54F6AB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C704-4906-41B7-A1AD-F075D867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1813-B2A4-419B-9710-40B15B5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B542E-791A-474B-90FC-5F5214B6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740-D762-4251-BEC7-9FC4E4F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98B8-8B9F-4C99-8ED5-5397ED1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DF3A-3A9F-4A79-A550-AFB5FED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D58A-3666-44D9-88D6-0C9A4C3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E8E5-1623-4C7C-92FC-67CD23EF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0913-9408-47A1-8CC1-0821B16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8851-76B5-4B3E-B59C-44F69AE1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CC4B5-81E8-4BE0-8187-D033FD1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A8ABD-6A92-4693-831A-FCF54A20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6090-B5D1-487F-B5BC-BA02A620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61ED-5795-497C-A0BE-42E0D2F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324-B06F-4237-AFC3-1DF14BCB9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0B31-3638-490D-8B82-3792BDE08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F56-7199-4B86-BDE2-3DC6F9F7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E412-865C-46ED-B215-625126844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D15E-03BC-469E-A056-A4D3E206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D70-4284-453C-8FC6-B9B3858BF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AE1-6AA4-41CC-8B08-87269C47E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E87-3D6E-45FC-9F70-8A4B7D11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418-29C3-4B41-A085-E53461ED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3A1D-8E72-4855-A99D-CF008396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E30-0D5F-494F-BEA2-675D3A7ED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EDB2-3453-4A7F-9354-26E0EDEAB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90720" y="-609480"/>
            <a:ext cx="19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032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2459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76720" y="-685800"/>
            <a:ext cx="198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09480" y="2209680"/>
            <a:ext cx="251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276720" y="-838080"/>
            <a:ext cx="1295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13" descr="KT044"/>
          <p:cNvPicPr/>
          <p:nvPr/>
        </p:nvPicPr>
        <p:blipFill>
          <a:blip r:embed="rId1"/>
          <a:stretch/>
        </p:blipFill>
        <p:spPr>
          <a:xfrm>
            <a:off x="6083280" y="-380880"/>
            <a:ext cx="3060720" cy="5105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KT151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50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09C-BFF8-4FE2-B713-193EDA5A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矩形 1332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80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81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85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86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90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91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Text Box 16"/>
            <p:cNvSpPr/>
            <p:nvPr/>
          </p:nvSpPr>
          <p:spPr>
            <a:xfrm>
              <a:off x="6929280" y="847800"/>
              <a:ext cx="115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32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595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596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00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01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05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06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107-82E3-40FD-B342-80EF67F84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612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613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617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618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622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623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16"/>
            <p:cNvSpPr/>
            <p:nvPr/>
          </p:nvSpPr>
          <p:spPr>
            <a:xfrm>
              <a:off x="6929280" y="8478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ǔ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17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627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628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32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33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37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38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16D-B61A-4F86-9196-30940636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认真学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真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爱爸爸和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你告诉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是你的朋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认识我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F6D-1A7A-498B-8E81-2B3F72605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8120" y="0"/>
            <a:ext cx="6492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A93-368D-44D7-92E6-FA1D2251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048120" y="-838080"/>
            <a:ext cx="4244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25A-19F4-4B6D-8FAA-21D117921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143000" y="106668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29708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84360" y="543096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2286000" y="1905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拉开天线听广播，右下半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243828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端起脸盆把水泼，右上半圆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  p  p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86908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6556320" y="1996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2A26-C02C-477E-8299-4DFD5BB11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09680" y="-838080"/>
            <a:ext cx="4359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9730-9CB8-4F6E-8515-1B78F7A5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2666880" y="-380880"/>
            <a:ext cx="3810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861-F80A-4E28-AF5C-E67EC49F6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762120" y="9144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992880" y="3581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2438280" y="152388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两个门洞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  m  m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3623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根拐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721040" y="3962520"/>
            <a:ext cx="15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  f  f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1C4-13CB-44A7-B5A7-73928ACDF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3520" y="6094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0" y="426708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2286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24382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590920" y="609480"/>
            <a:ext cx="167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572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693432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9144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724280" y="609480"/>
            <a:ext cx="236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7435800" y="609480"/>
            <a:ext cx="170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B847-CBEF-47C9-BFAB-3F38CFACA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4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48" name="Group 4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49" name="Picture 5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6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 Box 7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6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53" name="Group 11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54" name="Picture 12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3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58" name="Group 8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59" name="Picture 9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Text Box 10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27"/>
            <p:cNvSpPr/>
            <p:nvPr/>
          </p:nvSpPr>
          <p:spPr>
            <a:xfrm>
              <a:off x="6950880" y="8478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611280" y="3860640"/>
            <a:ext cx="2231280" cy="1942560"/>
            <a:chOff x="611280" y="3860640"/>
            <a:chExt cx="2231280" cy="1942560"/>
          </a:xfrm>
        </p:grpSpPr>
        <p:grpSp>
          <p:nvGrpSpPr>
            <p:cNvPr id="563" name="Group 14"/>
            <p:cNvGrpSpPr/>
            <p:nvPr/>
          </p:nvGrpSpPr>
          <p:grpSpPr>
            <a:xfrm>
              <a:off x="611280" y="3860640"/>
              <a:ext cx="2231280" cy="1942560"/>
              <a:chOff x="611280" y="3860640"/>
              <a:chExt cx="2231280" cy="1942560"/>
            </a:xfrm>
          </p:grpSpPr>
          <p:pic>
            <p:nvPicPr>
              <p:cNvPr id="564" name="Picture 15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611280" y="3860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6"/>
              <p:cNvSpPr/>
              <p:nvPr/>
            </p:nvSpPr>
            <p:spPr>
              <a:xfrm>
                <a:off x="813960" y="4206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29"/>
            <p:cNvSpPr/>
            <p:nvPr/>
          </p:nvSpPr>
          <p:spPr>
            <a:xfrm>
              <a:off x="1332000" y="45082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3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568" name="Group 3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569" name="Picture 3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Text Box 3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3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573" name="Group 3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574" name="Picture 3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4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4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77DF-64C7-451F-A026-C2332DBA5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1:07:47Z</dcterms:created>
  <dc:creator/>
  <dc:description/>
  <cp:keywords/>
  <dc:language>en-US</dc:language>
  <cp:lastModifiedBy>User</cp:lastModifiedBy>
  <dcterms:modified xsi:type="dcterms:W3CDTF">2016-10-05T12:0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