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09D-2492-4EB5-8C48-B44B8CD8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2A8-AE5A-43BB-B168-90E06027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B4E4A-A3B7-452C-ACCB-BCCAA247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46072-6FF7-4A83-902B-64BEE8A7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7617D-CDCD-43AC-BE67-0F34D71C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C1302-55AC-4A35-A7CE-78E0D790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00678-0631-4B7B-8D13-67BD40DE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F28C9-43FA-451D-8B85-7B263815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5F94F-8647-4EEB-9F0E-9655D3F2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79AB4-CA72-4AD5-B691-B2130640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203A5-A714-46E7-BFBF-700DD085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AB262-7436-45EC-A5C8-BB61A9CA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307-97AF-46F7-9A3A-3F4E1B1A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3A5D4-F312-4164-B468-0F2ECB06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B411F-8DA1-4576-8E95-2D321900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8A8E3-893B-4E73-A467-EEB8739F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5CC79-DC27-4B51-BC10-1032E2E9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647E8-6177-4E91-AEE9-30CE8486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4CC46-893A-42BC-ACEB-3A682798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C4F14-A95D-4E1D-B7AF-8B2A1AA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67BC3-6C32-44B3-9EEB-2F4DA24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13122-C955-4B36-86F5-ED74632D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B2863-2D6F-4B04-88AE-DBB7977D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3DF-9D6F-4396-B0EC-AAF361E3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5D99D-13BB-4EA8-90D7-575EEAB9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F3362-9B21-4D0D-ADC6-D606610D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C4ACD-6894-4770-8C12-D1B8FC24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EED18-A0EC-4B47-9BC3-0BB0BC3A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AF745-2146-43D2-ABE3-324B81B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6BAE9-92E5-45FF-9E45-6D68D91C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E572C-9BD0-4436-848C-7C2A2BF5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CF8A6-4543-4EEA-8C62-DBA9F32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6EAFE-4E0A-4DD7-8D22-40B7AB8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3B76B-8534-4791-B09E-8C7F760A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C7C3-D8CB-4853-A4BB-DB1CF340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73EA3-E493-4FBF-842A-9D6E19D7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F1ABE-5FF4-4C63-851C-0C9F5207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B63D7-2A4C-4CFF-BE8A-4CB8F414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372F-7DC4-453A-8FFF-440CC88D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B419-D66E-4DBE-A962-22808D9B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B4D0-EA4B-49CA-8584-65CA7B48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631C-BF6A-4225-968A-9B3014B2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EA4A-942A-417F-91D1-EDE58EEE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5471-682E-4872-B4F2-EFEE96CF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7FC-DF83-4036-AD2D-BAF43A23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D672-D0B4-466E-934C-5B2A6C7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C7A1-C31D-4DD8-B4B8-EDBF644E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2F7A-872A-4A7F-A046-5B64BA13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E782-F2C5-4851-9B97-B4166507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28E8-31BA-46BB-A6DC-27AED7BF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4FD6-3CFB-4C42-A470-A853754C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4DC1-B1F5-40C7-90DE-4D15AF85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3573-8C42-419E-ACDC-BA8F21C8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5802-6027-4670-AFD3-D247765A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C26B-250F-4C1C-A463-1A3AB821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F7C-10DC-443D-A543-F2B4A9D1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F4E7-615F-4F06-80E2-FD5894B8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555C-C5A4-4C5D-A65C-8DFFB8C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5D33-78FF-4302-B5C0-4FC7D611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8E9D-15FC-43B3-BF42-E1CD88E2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0C6E-A17F-43E2-9340-1CFE9D76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6DAD-A006-4415-A105-71727971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EFE0-7E45-4850-ADDE-C9684374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FC905-3376-418E-BEE2-81FE6946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624D-6006-44CF-BA2B-BA86B799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05C5-386E-4240-8448-274C3477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315-C1A4-4FCC-99DC-C670128E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42B1-88AC-4EC0-8365-4C02C449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2BDD0-2F6A-41DE-ADFB-0B68A42E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A69F5-9F40-4912-8C54-B292848F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8501-6780-46F6-BB8D-3220AE21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15D3-DD36-4EAE-8A88-5B34239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6699-DF50-4997-94A0-0799E0AA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6EA9-1D86-410A-84FE-38C26F3B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E23C-424A-4094-A681-35C4B798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B300-237F-4553-B473-11CA033D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8C26-1678-448F-B8DC-474D51B9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89F-A12F-47DD-8052-01E7C463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F4DD2-FDC3-4489-AE5F-451219B4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0C67-6300-4ACA-88F1-01F884AB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A3B3E-B225-4B98-BD16-2D840FCF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327D7-7A31-4711-A61E-4C55F3D3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15F5-C737-459B-B875-55FEAAD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39FE-B699-4E0F-BB7E-2483A2E0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16FC1-C248-40D0-9C7C-8D7155A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5CA7-B1F5-4D91-8E7E-2330E2C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BB67-37DB-49A2-AB2E-33DC3694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6DF2-7582-46B9-9861-FF9CB95B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E97-B65F-4B14-A649-F0D73F34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735FF-69D5-4148-AD05-4A3C7710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8A770-ECD5-4D30-BE38-A0C02534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0559-782E-455B-BC27-2B1AFEF8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E10E4-8133-4CD9-855B-C15EC22F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AB931-8361-432E-9F84-D3FD333F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74B5-D525-47F8-BCE8-32B21317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AE9E-4D8C-4ECE-ABDE-59FA02A7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24920-2145-4018-AB09-FBF0C47D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C435B-AF27-4BF3-8B6F-88BA918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2EF3C-EB60-4604-9479-2C25F0FA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4AB-C0FF-4E8D-A807-C4D22593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D5B58-5824-4D1B-A7E3-2E25C34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9E1BF-E694-4DDD-8568-FF529CBF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90146-AC0D-4C02-84C5-9DAC6E86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0DF1E-E762-4250-B29B-A0C6830C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F141E-75E9-4AF0-B25F-62E0F845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1F615-D6B6-4191-87D3-7915FE1A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137E6-B21F-416D-B3B1-F6F5D709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50E3A-3769-419C-840E-7DF00045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8ADDA-9806-43AE-969F-C8F996B9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A6807-A431-4922-9CFA-3857616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D98-A4D0-494C-BE83-ED8B4569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0F2A-4242-4442-85F1-83B263DD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936A1-EBC8-44FA-A577-5AE70CB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1D6A-A159-4296-B2FF-0C263786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B24BD-9B33-454E-8FEC-42A650CD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468F2-C2A6-4A24-980B-DA8F17A4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07D09-488A-4ADA-A89E-69779728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488A-D910-400F-A72E-E781862E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CF708-D038-48AD-B890-FABC62DD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1F1F8-EF9F-4B4B-B2BA-6D74B0AD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5AF0E-CBBA-49F4-A2E3-13ADFEDF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093-4943-4042-B66A-E272016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ED91-B440-47EC-A557-53FF02AE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227A7-A838-4857-A5EB-7FCFAA4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B245-FF39-4C2D-A870-17D2747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3A385-7702-4411-8795-22FF51B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39AA6-DBFC-4DE4-858A-A3224CFB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B584E-3EEA-4F16-AFED-DCFE02C2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03ECD-A6D0-46D3-A6C5-10855A72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E10CA-4C8C-4292-BB23-DAE6187B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4D8B4-DE00-4A23-995F-9B65953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68471-BAB2-41AA-9D20-ABD5CA5F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43C-A8D7-4D20-9332-808AC32441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7932-2F85-4C89-84AF-B48D9F2F4A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00F-230B-4AF2-8E69-A94F699808A9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E78-8A71-47BD-8DD2-75CFFC1DB1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E27-1060-412C-829F-827F3DE477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2FD0-BD8D-4E88-8221-13515A144E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1466-03B7-4C8F-B804-31BF61B75D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5D2E-1ABF-4FB1-B467-945E1F4383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C25A-163C-4D59-8BFA-7B9906570E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4524-4B8F-4797-849D-D0B0F7C528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483A-1B42-47F9-B3EB-FBF6EA93A8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d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n.wav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l.wav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d.exe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.exe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n.exe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l.exe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E:\教学资料\杨黎黎教后记\dtn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5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B33E-95FE-4926-91F5-77974AF6137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4" name="矩形 12293"/>
          <p:cNvSpPr/>
          <p:nvPr/>
        </p:nvSpPr>
        <p:spPr>
          <a:xfrm>
            <a:off x="0" y="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5" name="矩形 1229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E:\work\新课标配套课件全集\小学全集\mxy\小学语文\图片\0dyd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3747960" y="168768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4475160" y="1676520"/>
            <a:ext cx="6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e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3016440" y="2971800"/>
            <a:ext cx="34063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   dē   dé   d</a:t>
            </a:r>
            <a:r>
              <a:rPr b="1" lang="en-US" sz="2800" spc="-1" strike="noStrike">
                <a:solidFill>
                  <a:srgbClr val="800080"/>
                </a:solidFill>
                <a:latin typeface="Century Gothic"/>
              </a:rPr>
              <a:t>ě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è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a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í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ì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u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ú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ù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12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1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6A47-3C31-4D1B-8B85-349CF5E2E004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E:\work\新课标配套课件全集\小学全集\mxy\小学语文\图片\yw1p13_top.png"/>
          <p:cNvPicPr/>
          <p:nvPr/>
        </p:nvPicPr>
        <p:blipFill>
          <a:blip r:embed="rId3"/>
          <a:stretch/>
        </p:blipFill>
        <p:spPr>
          <a:xfrm>
            <a:off x="1714680" y="1600200"/>
            <a:ext cx="5715000" cy="34862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"/>
          <p:cNvGrpSpPr/>
          <p:nvPr/>
        </p:nvGrpSpPr>
        <p:grpSpPr>
          <a:xfrm>
            <a:off x="3886200" y="5257800"/>
            <a:ext cx="3657600" cy="1143000"/>
            <a:chOff x="3886200" y="5257800"/>
            <a:chExt cx="3657600" cy="1143000"/>
          </a:xfrm>
        </p:grpSpPr>
        <p:sp>
          <p:nvSpPr>
            <p:cNvPr id="518" name="AutoShape 5"/>
            <p:cNvSpPr/>
            <p:nvPr/>
          </p:nvSpPr>
          <p:spPr>
            <a:xfrm>
              <a:off x="3886200" y="5257800"/>
              <a:ext cx="3657600" cy="1143000"/>
            </a:xfrm>
            <a:prstGeom prst="cloudCallout">
              <a:avLst>
                <a:gd name="adj1" fmla="val -16708"/>
                <a:gd name="adj2" fmla="val -114722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5244840" y="548640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读一读，编一编。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520" name="Picture 7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1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8AC1-12C4-4760-93D4-5B6BBDDB811B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2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4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9" descr="E:\work\新课标配套课件全集\小学全集\mxy\小学语文\图片\yw1p13_top00.png"/>
          <p:cNvPicPr/>
          <p:nvPr/>
        </p:nvPicPr>
        <p:blipFill>
          <a:blip r:embed="rId3"/>
          <a:stretch/>
        </p:blipFill>
        <p:spPr>
          <a:xfrm>
            <a:off x="1143000" y="1684440"/>
            <a:ext cx="4610160" cy="2811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1" descr="E:\work\新课标配套课件全集\小学全集\mxy\小学语文\图片\yw1p13_txt.png"/>
          <p:cNvPicPr/>
          <p:nvPr/>
        </p:nvPicPr>
        <p:blipFill>
          <a:blip r:embed="rId4"/>
          <a:stretch/>
        </p:blipFill>
        <p:spPr>
          <a:xfrm>
            <a:off x="5105520" y="2792520"/>
            <a:ext cx="3268440" cy="3303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2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7D8D-F6F3-4388-93E7-E35D8F74779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9" name="矩形 2356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25AB-59A0-4F75-A7EF-BFFFCA886CC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3200400" y="2438280"/>
            <a:ext cx="38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悟空本领特别大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天兵天将全不怕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打败哪吒三太子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乐得悟空笑哈哈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079880" y="178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读儿歌：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59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E2C9-067F-4AA9-B7F4-D850E741EEB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654200" y="1752480"/>
            <a:ext cx="5834160" cy="442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0347-9898-4CEA-92A3-E5109032C04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>
            <a:hlinkClick r:id="rId3"/>
          </p:cNvPr>
          <p:cNvSpPr/>
          <p:nvPr/>
        </p:nvSpPr>
        <p:spPr>
          <a:xfrm>
            <a:off x="1905120" y="1752480"/>
            <a:ext cx="9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69" name="Picture 9" descr="E:\work\新课标配套课件全集\小学全集\mxy\小学语文\图片\yw1p12_d.png"/>
          <p:cNvPicPr/>
          <p:nvPr/>
        </p:nvPicPr>
        <p:blipFill>
          <a:blip r:embed="rId4"/>
          <a:stretch/>
        </p:blipFill>
        <p:spPr>
          <a:xfrm>
            <a:off x="2743200" y="1676520"/>
            <a:ext cx="4572000" cy="4628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DFF0-149D-4803-8BB5-D8440F580662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4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t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75" name="Picture 6" descr="E:\work\新课标配套课件全集\小学全集\mxy\小学语文\图片\yw1p12_t.png"/>
          <p:cNvPicPr/>
          <p:nvPr/>
        </p:nvPicPr>
        <p:blipFill>
          <a:blip r:embed="rId4"/>
          <a:stretch/>
        </p:blipFill>
        <p:spPr>
          <a:xfrm>
            <a:off x="2705040" y="1535040"/>
            <a:ext cx="4000680" cy="45608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A550-0242-4AAD-882B-C6CB3E768A69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26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027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n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1" name="Picture 1028" descr="E:\work\新课标配套课件全集\小学全集\mxy\小学语文\图片\yw1p12_n.png"/>
          <p:cNvPicPr/>
          <p:nvPr/>
        </p:nvPicPr>
        <p:blipFill>
          <a:blip r:embed="rId4"/>
          <a:stretch/>
        </p:blipFill>
        <p:spPr>
          <a:xfrm>
            <a:off x="2438280" y="1646280"/>
            <a:ext cx="4572000" cy="3840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29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7199-926C-45B0-8291-F50A60320D20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84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l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7" name="Picture 7" descr="E:\work\新课标配套课件全集\小学全集\mxy\小学语文\图片\yw1p12_l.png"/>
          <p:cNvPicPr/>
          <p:nvPr/>
        </p:nvPicPr>
        <p:blipFill>
          <a:blip r:embed="rId4"/>
          <a:stretch/>
        </p:blipFill>
        <p:spPr>
          <a:xfrm>
            <a:off x="2362320" y="1635120"/>
            <a:ext cx="4572000" cy="385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6F22-AABA-4B51-8BCA-955D646D1D49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1" name="矩形 1844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441440" y="1752480"/>
            <a:ext cx="4121280" cy="31258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9"/>
          <p:cNvGrpSpPr/>
          <p:nvPr/>
        </p:nvGrpSpPr>
        <p:grpSpPr>
          <a:xfrm>
            <a:off x="4114800" y="1447920"/>
            <a:ext cx="4724280" cy="1981080"/>
            <a:chOff x="4114800" y="1447920"/>
            <a:chExt cx="4724280" cy="1981080"/>
          </a:xfrm>
        </p:grpSpPr>
        <p:sp>
          <p:nvSpPr>
            <p:cNvPr id="495" name="AutoShape 10"/>
            <p:cNvSpPr/>
            <p:nvPr/>
          </p:nvSpPr>
          <p:spPr>
            <a:xfrm>
              <a:off x="4114800" y="1447920"/>
              <a:ext cx="4724280" cy="1981080"/>
            </a:xfrm>
            <a:prstGeom prst="cloudCallout">
              <a:avLst>
                <a:gd name="adj1" fmla="val -31953"/>
                <a:gd name="adj2" fmla="val 78365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4647960" y="167652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再看看图片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你发现了什么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能想个办法记住字母吗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497" name="Picture 12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98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3DD3-0F89-4F07-B23C-7B376FCF5318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E:\work\新课标配套课件全集\小学全集\mxy\小学语文\图片\0xyx.gif"/>
          <p:cNvPicPr/>
          <p:nvPr/>
        </p:nvPicPr>
        <p:blipFill>
          <a:blip r:embed="rId2"/>
          <a:stretch/>
        </p:blipFill>
        <p:spPr>
          <a:xfrm>
            <a:off x="1065240" y="1065240"/>
            <a:ext cx="1977840" cy="549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E:\work\新课标配套课件全集\小学全集\mxy\小学语文\图片\xie_d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176560"/>
            <a:ext cx="1486080" cy="250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E:\work\新课标配套课件全集\小学全集\mxy\小学语文\图片\xie_t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27280" y="2225520"/>
            <a:ext cx="1121040" cy="242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E:\work\新课标配套课件全集\小学全集\mxy\小学语文\图片\xie_n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03920" y="2168640"/>
            <a:ext cx="1268280" cy="2479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E:\work\新课标配套课件全集\小学全集\mxy\小学语文\图片\xie_l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46800" y="2133720"/>
            <a:ext cx="1349280" cy="2297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D:\logo.gif"/>
          <p:cNvPicPr/>
          <p:nvPr/>
        </p:nvPicPr>
        <p:blipFill>
          <a:blip r:embed="rId11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06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8ACB-ADA0-423D-B81E-1855801F2BF0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0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10:39:03Z</dcterms:created>
  <dc:creator/>
  <dc:description/>
  <cp:keywords/>
  <dc:language>en-US</dc:language>
  <cp:lastModifiedBy>User</cp:lastModifiedBy>
  <dcterms:modified xsi:type="dcterms:W3CDTF">2016-10-05T12:11:4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