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3FE-B579-4947-B56A-2CFDCC25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00F-F73F-40E1-AF9D-83514666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19703-3A0E-4713-B426-A6D4B247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9AE97-45B8-4F0F-BDA9-F9E83E8A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5F241-6091-40BE-9388-D10E8E62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10FF7-99D5-4488-9A79-822290A0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DB5C8-081F-42BE-8933-E51F2477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969CA-A2FE-47BE-ADBF-3D8E3FD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FE0E3-D3B3-4C20-BFCC-22441D87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5B30B-12E1-483D-B86B-426D1FB5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DF776-BC2F-4F42-804E-FEF87915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41F26-82A5-4C44-AED7-8D89DE4D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68B-F86E-4460-88E6-E59CAB09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23C4D-A082-47CC-9D3C-85B6D67A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DABA9-D18E-4610-8A1A-D5EB768E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56B06-6591-43DC-997D-FEAE66C9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7446B-5C65-4431-A905-FF835D6C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EE19B-6AA3-4ED8-AB7F-86C422BB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32214-ED74-4CDA-91C7-4BB0A3FE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10093-C6A7-4683-A11F-8FF2812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D0721-FFB0-4050-AB79-B41C9C98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49BD7-8F38-4291-8E1A-D866B98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77195-C8B8-4506-971A-D9A1479D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7EF-85E5-40CE-8ACF-B666213B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DE311-3556-4B72-8992-51107E3F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16B47-92D3-438D-B4F8-7BFB161A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822F-CA22-40F6-A2B8-5220EB44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7CD67-3B66-41E9-B3FA-157637ED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C0437-CB69-4DB6-9494-1FC7654E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1AB4-10F4-43C5-ACAB-9B8FAFB4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FE419-D104-4B94-BCF6-A58C4283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9B525-1E64-42B5-BD31-776C143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269AF-487E-4B1E-A327-DD72C40A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9579F-8EDF-4066-ABCE-2F755C0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41BC-EDDE-4199-8574-82591C6A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06AF1-C21E-4547-A86B-54BB522D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9BB39-F27D-41FB-A0D9-F2D08C79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914F5-78DC-40C6-903C-04003E57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8B21-0E4F-4166-A63A-B3738912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BD5D-CA76-4068-B75B-E309C072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5BD-3B0C-4454-9DB9-16EFB5AD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DE51-C3D1-48BD-9C50-2C86D1B3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5EB6-BB79-4B4B-AD10-00FD0CA5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7B5F-6758-4261-87EC-08502DF3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3C0-7DC5-4128-8027-42CF81BA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8E49-7812-4258-9B21-1ACDC1F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4005-2A37-4988-B891-BF33DB6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9CB0-F6C1-4118-BC32-2DCFC700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735A-9FC0-493E-B1CA-38F91CCE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C9E2-CDD0-4CFC-AA02-606D7C09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03BC-699C-4B6C-95F0-C3915656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F000-83A4-4151-ADFE-84A9D132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6D6A-6590-4A8B-AC47-FBE40442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EFCC-0C27-42C7-8C50-1C48DD86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17B9-E046-47BB-9C5F-5597E240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EB5-595C-45F4-B404-B3E8C86C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4688-69CF-4DF0-BA63-D3587526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0471-1485-41A5-B171-E126285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4214-2A52-4CE1-885D-742FC54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CF40-CBD3-4779-A472-4A270E6D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5C86-5FB5-42DC-88F9-BAC12A6B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9DA7-3D6E-417D-9212-CA93B015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57F1-35E2-4C3D-84B6-ED794B99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8AAE-EA6A-42DE-B550-35C5D90F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8294-3E92-4467-8D0B-3B8A1204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E1D5D-6092-440F-8643-A0871884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991-8BCE-4029-9999-BFB32242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F4F9-2182-415D-B4B4-5B0C7E39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BFBBC-159D-4C0A-8B53-9491B535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B057E-4718-42AF-BD1A-67C12F24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61E6-126E-4137-81C2-EBCEFAD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FFAD-DF3B-44CB-A0EB-7EA79EF2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F50DE-3792-4B6F-B139-939217C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3A8A6-0AE2-4783-88EF-D5B089EA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9B75-1859-4828-BE01-54B07719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2A8D8-ADA1-4848-85DE-E44E219D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FC9E4-3B01-4A85-899E-CF0163D6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5FE-4766-44CC-A24E-2E0791C6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EE154-95BE-4EE3-A224-3283389A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7FF5B-72BE-4354-998B-02B5E375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90511-3F1C-4622-839C-412D9E3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236B5-BB89-450B-809C-572A0743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D772-630D-4200-8CCC-2F4C8D4B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0691-35C3-4332-B6DC-4E94334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2C442-799E-40D0-B849-FD46F54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9FDEC-BB5A-42AC-916A-9E48A52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ADC3D-3F17-4437-9049-80146CA4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ABDB-81FB-49EC-9A20-11BDEE68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42F-A81E-4DE0-8E61-6D417030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A7EF-7BD2-4CA1-AC38-89CBE7DE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AA73D-B5C1-4991-A04D-1D5001C0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BC46-3179-4E51-892C-E96FA44A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95A7-7852-4046-AFEB-BA91332F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2A478-B2CA-4A5E-880A-36B5F7E7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E71CB-0039-44FC-924B-63A040EB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28398-29C0-416D-AB95-3A3ED544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A6C7-3A7D-4BD2-B4F8-AE9A141F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65FEC-77CE-473D-B48E-0AB00D45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A7B3-2D62-482A-A063-7F4125AD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8F8-A983-4A09-9B73-EC010784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99D83-1A37-4877-AFA7-4CF130B6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397D-499B-4594-B65A-05F6C483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864C3-2BEF-4188-8755-DB01E1D9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D0F4F-95C4-4CBA-92A7-07BA218B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AA446-E227-4CD6-B9E7-713B7845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A60FB-772A-4CE5-91AB-D05E4350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DE95-EFF9-4250-8FFB-0CDC5EF3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0AC17-FAAD-4A15-9DE6-30A45056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2B496-6984-4E2F-96EC-21824F59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E227-9FE5-4230-9CB3-5A3292F1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B7C-96AA-4F2D-A7E5-03AB743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0578D-4232-4C50-82E0-D92D8F4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5B336-7FD4-4791-8D22-78D8412C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9B88E-5CA2-4851-9035-DA98BAB6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EC140-8156-434F-A2C8-CBDEB809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3F45-B5D6-44F0-9CC2-B276243C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5E553-5156-4575-8E42-AEB50FA9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E4BBF-544D-4466-914A-E599DD7C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44475-B31A-4E39-B704-DEB95DCE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2016D-682A-4561-9694-C4CA062B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911E4-1D4D-4C4B-BB49-9FC0BCE5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F3B-2FC9-4975-9ACF-0BF46ACB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43C6F-3E2A-421A-A844-296F0A92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C2438-CF83-4A03-88F6-38C49FD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1B98A-BC2E-4C6C-810A-4582DC7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FC705-2367-4F0F-8967-B6C78D1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BCF1F-B27F-4484-B42C-2710385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E193C-C1D3-47F5-9FF8-3A3D2AA0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416DD-4291-4A21-BDEB-D89E4B00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654E3-71D1-4073-B000-B51D4985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260DF-B937-411A-A80B-3878C8A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C7AD9-A54A-431D-9658-B4C2D35C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533C-13DC-4C1D-8CE3-4D1BE0FA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85D6-1CD8-4B82-9090-192061197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6FEA-0ED5-4C6E-A56C-DBB84DF2A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C079-3BDA-43D2-A04E-74F85F7E9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0308-B333-42BE-B623-4E34EC7E1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96D1-1727-4F20-8805-6F61840BE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2C2B-B63A-47B7-AA44-09D6D5D9D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39B-49FF-4CCB-B67A-CD70E3A08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DCE3-B902-4F16-BEDA-3BE0CBE26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57B5-3692-4201-AA4B-60914498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E53E-5C86-4806-8B26-35A2526CC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700"/>
            </a:b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g    k    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5924-90EB-410A-BEBB-086668E81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229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6"/>
          <p:cNvSpPr txBox="1"/>
          <p:nvPr/>
        </p:nvSpPr>
        <p:spPr>
          <a:xfrm>
            <a:off x="2484360" y="2565360"/>
            <a:ext cx="4392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B51-8FCB-4003-A715-5F53F05A0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男孩在路上帮奶奶推车，路人问小红“帮推车的是你弟弟吗？”小红说“不是。”请问那个男孩是小红的什么？ 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1_201004180558502teFZ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659640" y="4076640"/>
            <a:ext cx="2163600" cy="257328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342E-B19F-4310-9C8C-5C22DE7AB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种动物小的时候没有腿，长大了有四条腿，还变 了名字叫青蛙，请问它小时候叫什么？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1_2010041805585018IV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732720" y="4797360"/>
            <a:ext cx="2087280" cy="175428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655-C11D-4C06-9010-3EB3B5005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230_091039E4"/>
          <p:cNvPicPr/>
          <p:nvPr/>
        </p:nvPicPr>
        <p:blipFill>
          <a:blip r:embed="rId1"/>
          <a:stretch/>
        </p:blipFill>
        <p:spPr>
          <a:xfrm>
            <a:off x="0" y="0"/>
            <a:ext cx="8964720" cy="31417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5"/>
          <p:cNvSpPr/>
          <p:nvPr/>
        </p:nvSpPr>
        <p:spPr>
          <a:xfrm>
            <a:off x="611280" y="407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只动物在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0f69ce3d852686694e63260a62c898a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940360" y="4365720"/>
            <a:ext cx="2657520" cy="216036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7237-451D-4643-B45F-7B36D5942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gkh"/>
          <p:cNvPicPr/>
          <p:nvPr/>
        </p:nvPicPr>
        <p:blipFill>
          <a:blip r:embed="rId1"/>
          <a:srcRect l="0" t="0" r="2052" b="0"/>
          <a:stretch/>
        </p:blipFill>
        <p:spPr>
          <a:xfrm>
            <a:off x="-181080" y="-171360"/>
            <a:ext cx="9506160" cy="71722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3492360" y="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700360" y="2924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3924360" y="537372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0A97-49A2-4B18-A835-8D66DAD0F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39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20140118133113555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7057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6"/>
          <p:cNvSpPr/>
          <p:nvPr/>
        </p:nvSpPr>
        <p:spPr>
          <a:xfrm>
            <a:off x="900000" y="11970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116000" y="90792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  <a:ea typeface="隶书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A31D-6750-49AE-B016-4F030696A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20140118133113302"/>
          <p:cNvPicPr/>
          <p:nvPr/>
        </p:nvPicPr>
        <p:blipFill>
          <a:blip r:embed="rId2"/>
          <a:stretch/>
        </p:blipFill>
        <p:spPr>
          <a:xfrm>
            <a:off x="0" y="0"/>
            <a:ext cx="8893080" cy="66657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6"/>
          <p:cNvSpPr/>
          <p:nvPr/>
        </p:nvSpPr>
        <p:spPr>
          <a:xfrm>
            <a:off x="6659640" y="436572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8E67-0970-4D7F-A1CA-C5C7234E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823935860778015"/>
          <p:cNvPicPr/>
          <p:nvPr/>
        </p:nvPicPr>
        <p:blipFill>
          <a:blip r:embed="rId2"/>
          <a:stretch/>
        </p:blipFill>
        <p:spPr>
          <a:xfrm>
            <a:off x="430200" y="-387360"/>
            <a:ext cx="8713800" cy="74278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00000" y="9079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57D-E6BA-4A10-8889-140233AC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5" descr=""/>
          <p:cNvPicPr/>
          <p:nvPr/>
        </p:nvPicPr>
        <p:blipFill>
          <a:blip r:embed="rId1"/>
          <a:stretch/>
        </p:blipFill>
        <p:spPr>
          <a:xfrm>
            <a:off x="-687240" y="1909800"/>
            <a:ext cx="2698560" cy="262728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14"/>
          <p:cNvGrpSpPr/>
          <p:nvPr/>
        </p:nvGrpSpPr>
        <p:grpSpPr>
          <a:xfrm>
            <a:off x="2484360" y="692280"/>
            <a:ext cx="5904000" cy="5330520"/>
            <a:chOff x="2484360" y="692280"/>
            <a:chExt cx="5904000" cy="5330520"/>
          </a:xfrm>
        </p:grpSpPr>
        <p:pic>
          <p:nvPicPr>
            <p:cNvPr id="494" name="Picture 9" descr=""/>
            <p:cNvPicPr/>
            <p:nvPr/>
          </p:nvPicPr>
          <p:blipFill>
            <a:blip r:embed="rId2"/>
            <a:stretch/>
          </p:blipFill>
          <p:spPr>
            <a:xfrm>
              <a:off x="2484360" y="692280"/>
              <a:ext cx="575964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8" descr=""/>
            <p:cNvPicPr/>
            <p:nvPr/>
          </p:nvPicPr>
          <p:blipFill>
            <a:blip r:embed="rId3"/>
            <a:srcRect l="25634" t="36196" r="34490" b="58089"/>
            <a:stretch/>
          </p:blipFill>
          <p:spPr>
            <a:xfrm>
              <a:off x="2484360" y="1197000"/>
              <a:ext cx="58327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0" descr=""/>
            <p:cNvPicPr/>
            <p:nvPr/>
          </p:nvPicPr>
          <p:blipFill>
            <a:blip r:embed="rId4"/>
            <a:srcRect l="25634" t="48477" r="34490" b="46641"/>
            <a:stretch/>
          </p:blipFill>
          <p:spPr>
            <a:xfrm>
              <a:off x="2556000" y="2421000"/>
              <a:ext cx="5832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1" descr=""/>
            <p:cNvPicPr/>
            <p:nvPr/>
          </p:nvPicPr>
          <p:blipFill>
            <a:blip r:embed="rId5"/>
            <a:srcRect l="25634" t="59098" r="34490" b="36004"/>
            <a:stretch/>
          </p:blipFill>
          <p:spPr>
            <a:xfrm>
              <a:off x="2484360" y="3500280"/>
              <a:ext cx="58327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2" descr=""/>
            <p:cNvPicPr/>
            <p:nvPr/>
          </p:nvPicPr>
          <p:blipFill>
            <a:blip r:embed="rId6"/>
            <a:srcRect l="25634" t="68908" r="34490" b="26195"/>
            <a:stretch/>
          </p:blipFill>
          <p:spPr>
            <a:xfrm>
              <a:off x="2556000" y="4508640"/>
              <a:ext cx="5832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3" descr=""/>
            <p:cNvPicPr/>
            <p:nvPr/>
          </p:nvPicPr>
          <p:blipFill>
            <a:blip r:embed="rId7"/>
            <a:srcRect l="25634" t="79544" r="34490" b="15539"/>
            <a:stretch/>
          </p:blipFill>
          <p:spPr>
            <a:xfrm>
              <a:off x="2556000" y="5589720"/>
              <a:ext cx="5832360" cy="43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FB82-39AA-4767-B1B7-17400D60B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1:28:26Z</dcterms:created>
  <dc:creator/>
  <dc:description/>
  <cp:keywords/>
  <dc:language>en-US</dc:language>
  <cp:lastModifiedBy>User</cp:lastModifiedBy>
  <dcterms:modified xsi:type="dcterms:W3CDTF">2016-10-05T12:13:51Z</dcterms:modified>
  <cp:revision>43</cp:revision>
  <dc:subject/>
  <dc:title>  g    k    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