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../4.15&#19968;&#25913;&#31295;/&#35838;&#20214;&#25913;/4.16&#609; k h/k&#30340;&#20889;&#27861;.swf" TargetMode="External"/><Relationship Id="rId3" Type="http://schemas.openxmlformats.org/officeDocument/2006/relationships/hyperlink" Target="../../../4.15&#19968;&#25913;&#31295;/&#35838;&#20214;&#25913;/4.16&#609; k h/k&#30340;&#20889;&#27861;.swf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../4.15&#19968;&#25913;&#31295;/&#35838;&#20214;&#25913;/4.16&#609; k h/h&#30340;&#20889;&#27861;.swf" TargetMode="External"/><Relationship Id="rId3" Type="http://schemas.openxmlformats.org/officeDocument/2006/relationships/hyperlink" Target="../../../4.15&#19968;&#25913;&#31295;/&#35838;&#20214;&#25913;/4.16&#609; k h/h&#30340;&#20889;&#27861;.swf" TargetMode="External"/><Relationship Id="rId4" Type="http://schemas.openxmlformats.org/officeDocument/2006/relationships/hyperlink" Target="../../../4.15&#19968;&#25913;&#31295;/&#35838;&#20214;&#25913;/4.16&#609; k h/h&#30340;&#20889;&#27861;.sw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C:\Users\Administrator\Desktop\6161416_224835085767_2.jpg6161416_224835085767_2"/>
          <p:cNvPicPr/>
          <p:nvPr/>
        </p:nvPicPr>
        <p:blipFill>
          <a:blip r:embed="rId1"/>
          <a:stretch/>
        </p:blipFill>
        <p:spPr>
          <a:xfrm>
            <a:off x="1908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0" name="直线连接符 21"/>
          <p:cNvSpPr/>
          <p:nvPr/>
        </p:nvSpPr>
        <p:spPr>
          <a:xfrm>
            <a:off x="2259000" y="3471840"/>
            <a:ext cx="5329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4"/>
          <p:cNvSpPr/>
          <p:nvPr/>
        </p:nvSpPr>
        <p:spPr>
          <a:xfrm>
            <a:off x="3237120" y="1901880"/>
            <a:ext cx="33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g  k  h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3"/>
          <p:cNvSpPr/>
          <p:nvPr/>
        </p:nvSpPr>
        <p:spPr>
          <a:xfrm>
            <a:off x="442764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圆角矩形 2"/>
          <p:cNvSpPr/>
          <p:nvPr/>
        </p:nvSpPr>
        <p:spPr>
          <a:xfrm>
            <a:off x="580536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157800" y="31892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宋体"/>
              </a:rPr>
              <a:t>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21240" y="1143000"/>
            <a:ext cx="5224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宋体"/>
              </a:rPr>
              <a:t>h uà  huà</a:t>
            </a:r>
            <a:r>
              <a:rPr b="0" lang="en-US" sz="8800" spc="-1" strike="noStrike">
                <a:solidFill>
                  <a:srgbClr val="00b0f0"/>
                </a:solidFill>
                <a:latin typeface="宋体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1" descr="FEG[G$KYWME~_NYN~H2UCED"/>
          <p:cNvPicPr/>
          <p:nvPr/>
        </p:nvPicPr>
        <p:blipFill>
          <a:blip r:embed="rId1"/>
          <a:stretch/>
        </p:blipFill>
        <p:spPr>
          <a:xfrm>
            <a:off x="961920" y="2705040"/>
            <a:ext cx="3395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3"/>
          <p:cNvSpPr/>
          <p:nvPr/>
        </p:nvSpPr>
        <p:spPr>
          <a:xfrm>
            <a:off x="4035600" y="1268280"/>
            <a:ext cx="46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圆角矩形 2"/>
          <p:cNvSpPr/>
          <p:nvPr/>
        </p:nvSpPr>
        <p:spPr>
          <a:xfrm>
            <a:off x="5489640" y="3068640"/>
            <a:ext cx="208764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940360" y="3068640"/>
            <a:ext cx="1952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宋体"/>
              </a:rPr>
              <a:t>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626000" y="1268280"/>
            <a:ext cx="458316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宋体"/>
              </a:rPr>
              <a:t>d ǎ  dǎ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" descr="FD(H_BCC4HY]OA`%6K0~L3Q"/>
          <p:cNvPicPr/>
          <p:nvPr/>
        </p:nvPicPr>
        <p:blipFill>
          <a:blip r:embed="rId1"/>
          <a:stretch/>
        </p:blipFill>
        <p:spPr>
          <a:xfrm>
            <a:off x="766800" y="2913120"/>
            <a:ext cx="3430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c3ba852ed6441d6ed42af1cc"/>
          <p:cNvPicPr/>
          <p:nvPr/>
        </p:nvPicPr>
        <p:blipFill>
          <a:blip r:embed="rId1"/>
          <a:stretch/>
        </p:blipFill>
        <p:spPr>
          <a:xfrm>
            <a:off x="5705640" y="171360"/>
            <a:ext cx="163332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u=2468400631,1213018213&amp;fm=0&amp;gp=0"/>
          <p:cNvPicPr/>
          <p:nvPr/>
        </p:nvPicPr>
        <p:blipFill>
          <a:blip r:embed="rId2"/>
          <a:stretch/>
        </p:blipFill>
        <p:spPr>
          <a:xfrm>
            <a:off x="1689120" y="171360"/>
            <a:ext cx="1130400" cy="1314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1" descr="VKKU(IIN4_VMX38`MN(6EBH"/>
          <p:cNvPicPr/>
          <p:nvPr/>
        </p:nvPicPr>
        <p:blipFill>
          <a:blip r:embed="rId3"/>
          <a:stretch/>
        </p:blipFill>
        <p:spPr>
          <a:xfrm>
            <a:off x="85680" y="1895400"/>
            <a:ext cx="90057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3"/>
          <p:cNvSpPr/>
          <p:nvPr/>
        </p:nvSpPr>
        <p:spPr>
          <a:xfrm>
            <a:off x="2820960" y="1093680"/>
            <a:ext cx="4608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2"/>
          <p:cNvSpPr/>
          <p:nvPr/>
        </p:nvSpPr>
        <p:spPr>
          <a:xfrm>
            <a:off x="720720" y="2749680"/>
            <a:ext cx="655164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258920" y="3429000"/>
            <a:ext cx="23382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huà  hu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宋体"/>
              </a:rPr>
              <a:t>画   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52720" y="1382760"/>
            <a:ext cx="3254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宋体"/>
              </a:rPr>
              <a:t>大声读一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48320" y="3429000"/>
            <a:ext cx="1954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417920" y="3429000"/>
            <a:ext cx="26892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dǎ   g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宋体"/>
              </a:rPr>
              <a:t>打   鼓</a:t>
            </a:r>
            <a:r>
              <a:rPr b="0" lang="en-US" sz="36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13"/>
          <p:cNvSpPr/>
          <p:nvPr/>
        </p:nvSpPr>
        <p:spPr>
          <a:xfrm>
            <a:off x="468360" y="12733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Users\Administrator\Desktop\QQ图片20161008173129.pngQQ图片20161008173129"/>
          <p:cNvPicPr/>
          <p:nvPr/>
        </p:nvPicPr>
        <p:blipFill>
          <a:blip r:embed="rId1"/>
          <a:stretch/>
        </p:blipFill>
        <p:spPr>
          <a:xfrm>
            <a:off x="33480" y="-7920"/>
            <a:ext cx="9088200" cy="68436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160" y="15840"/>
            <a:ext cx="9145800" cy="6827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561720" y="4221000"/>
            <a:ext cx="65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f497d"/>
                </a:solidFill>
                <a:latin typeface="Calibri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5076720" y="4076640"/>
            <a:ext cx="3384720" cy="1702080"/>
            <a:chOff x="5076720" y="4076640"/>
            <a:chExt cx="3384720" cy="1702080"/>
          </a:xfrm>
        </p:grpSpPr>
        <p:grpSp>
          <p:nvGrpSpPr>
            <p:cNvPr id="50" name=""/>
            <p:cNvGrpSpPr/>
            <p:nvPr/>
          </p:nvGrpSpPr>
          <p:grpSpPr>
            <a:xfrm>
              <a:off x="5085000" y="5190480"/>
              <a:ext cx="3360600" cy="360"/>
              <a:chOff x="5085000" y="5190480"/>
              <a:chExt cx="3360600" cy="360"/>
            </a:xfrm>
          </p:grpSpPr>
          <p:sp>
            <p:nvSpPr>
              <p:cNvPr id="51" name="Line 7"/>
              <p:cNvSpPr/>
              <p:nvPr/>
            </p:nvSpPr>
            <p:spPr>
              <a:xfrm>
                <a:off x="5085000" y="519048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5085000" y="519048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076720" y="4636440"/>
              <a:ext cx="3360960" cy="360"/>
              <a:chOff x="5076720" y="4636440"/>
              <a:chExt cx="3360960" cy="360"/>
            </a:xfrm>
          </p:grpSpPr>
          <p:sp>
            <p:nvSpPr>
              <p:cNvPr id="54" name="Line 8"/>
              <p:cNvSpPr/>
              <p:nvPr/>
            </p:nvSpPr>
            <p:spPr>
              <a:xfrm>
                <a:off x="5076720" y="4636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5076720" y="4636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090040" y="5778360"/>
              <a:ext cx="3360960" cy="360"/>
              <a:chOff x="5090040" y="5778360"/>
              <a:chExt cx="3360960" cy="36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090040" y="577836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5090040" y="577836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100480" y="4076640"/>
              <a:ext cx="3360960" cy="360"/>
              <a:chOff x="5100480" y="4076640"/>
              <a:chExt cx="3360960" cy="360"/>
            </a:xfrm>
          </p:grpSpPr>
          <p:sp>
            <p:nvSpPr>
              <p:cNvPr id="60" name="Line 10"/>
              <p:cNvSpPr/>
              <p:nvPr/>
            </p:nvSpPr>
            <p:spPr>
              <a:xfrm>
                <a:off x="5100480" y="4076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5100480" y="4076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" name="同侧圆角矩形 8"/>
          <p:cNvSpPr/>
          <p:nvPr/>
        </p:nvSpPr>
        <p:spPr>
          <a:xfrm>
            <a:off x="5756400" y="1069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5684760" y="17269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36r58PICMvB_1024"/>
          <p:cNvPicPr/>
          <p:nvPr/>
        </p:nvPicPr>
        <p:blipFill>
          <a:blip r:embed="rId1"/>
          <a:stretch/>
        </p:blipFill>
        <p:spPr>
          <a:xfrm>
            <a:off x="4680" y="-25560"/>
            <a:ext cx="9123480" cy="685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611360" y="1735200"/>
            <a:ext cx="2747880" cy="30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4425840" y="2013120"/>
            <a:ext cx="2826000" cy="2489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同侧圆角矩形 4"/>
          <p:cNvSpPr/>
          <p:nvPr/>
        </p:nvSpPr>
        <p:spPr>
          <a:xfrm>
            <a:off x="2227320" y="6523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61280" cy="6810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5979600" y="3933720"/>
            <a:ext cx="7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4859280" y="3860640"/>
            <a:ext cx="3384720" cy="1702440"/>
            <a:chOff x="4859280" y="3860640"/>
            <a:chExt cx="3384720" cy="1702440"/>
          </a:xfrm>
        </p:grpSpPr>
        <p:grpSp>
          <p:nvGrpSpPr>
            <p:cNvPr id="74" name=""/>
            <p:cNvGrpSpPr/>
            <p:nvPr/>
          </p:nvGrpSpPr>
          <p:grpSpPr>
            <a:xfrm>
              <a:off x="4867560" y="4974840"/>
              <a:ext cx="3360600" cy="360"/>
              <a:chOff x="4867560" y="4974840"/>
              <a:chExt cx="3360600" cy="360"/>
            </a:xfrm>
          </p:grpSpPr>
          <p:sp>
            <p:nvSpPr>
              <p:cNvPr id="75" name="Line 7"/>
              <p:cNvSpPr/>
              <p:nvPr/>
            </p:nvSpPr>
            <p:spPr>
              <a:xfrm>
                <a:off x="4867560" y="4974840"/>
                <a:ext cx="336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4867560" y="4974840"/>
                <a:ext cx="336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859280" y="4420440"/>
              <a:ext cx="3360960" cy="360"/>
              <a:chOff x="4859280" y="4420440"/>
              <a:chExt cx="3360960" cy="360"/>
            </a:xfrm>
          </p:grpSpPr>
          <p:sp>
            <p:nvSpPr>
              <p:cNvPr id="78" name="Line 8"/>
              <p:cNvSpPr/>
              <p:nvPr/>
            </p:nvSpPr>
            <p:spPr>
              <a:xfrm>
                <a:off x="4859280" y="44204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4859280" y="44204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72600" y="5562720"/>
              <a:ext cx="3360960" cy="360"/>
              <a:chOff x="4872600" y="5562720"/>
              <a:chExt cx="3360960" cy="360"/>
            </a:xfrm>
          </p:grpSpPr>
          <p:sp>
            <p:nvSpPr>
              <p:cNvPr id="81" name="Line 9"/>
              <p:cNvSpPr/>
              <p:nvPr/>
            </p:nvSpPr>
            <p:spPr>
              <a:xfrm>
                <a:off x="4872600" y="556272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4872600" y="556272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83040" y="3860640"/>
              <a:ext cx="3360960" cy="360"/>
              <a:chOff x="4883040" y="3860640"/>
              <a:chExt cx="3360960" cy="360"/>
            </a:xfrm>
          </p:grpSpPr>
          <p:sp>
            <p:nvSpPr>
              <p:cNvPr id="84" name="Line 10"/>
              <p:cNvSpPr/>
              <p:nvPr/>
            </p:nvSpPr>
            <p:spPr>
              <a:xfrm>
                <a:off x="4883040" y="3860640"/>
                <a:ext cx="33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4883040" y="3860640"/>
                <a:ext cx="3360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946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-6480" y="-28440"/>
            <a:ext cx="9136080" cy="6870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6227640" y="1197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6227640" y="19047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" descr="LASXSGQFTOU~B)AH59NIUW9"/>
          <p:cNvPicPr/>
          <p:nvPr/>
        </p:nvPicPr>
        <p:blipFill>
          <a:blip r:embed="rId2"/>
          <a:stretch/>
        </p:blipFill>
        <p:spPr>
          <a:xfrm>
            <a:off x="1882800" y="1498680"/>
            <a:ext cx="40273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268360" y="1886040"/>
            <a:ext cx="4321440" cy="4368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852720" y="2927520"/>
            <a:ext cx="11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311720" y="10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alibri"/>
                <a:ea typeface="华文新魏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3225600" y="98748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8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4368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611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K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686760" y="34606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497d"/>
                </a:solidFill>
                <a:latin typeface="Calibri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2249640" y="2014560"/>
            <a:ext cx="4319280" cy="4368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79640" y="960480"/>
            <a:ext cx="5521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_x000b_ </a:t>
            </a:r>
            <a:r>
              <a:rPr b="0" lang="en-US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h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4"/>
              </a:rPr>
              <a:t>的写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046040" y="3543480"/>
            <a:ext cx="7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47:17Z</dcterms:created>
  <dc:creator/>
  <dc:description/>
  <dc:language>en-US</dc:language>
  <cp:lastModifiedBy>Administrator</cp:lastModifiedBy>
  <dcterms:modified xsi:type="dcterms:W3CDTF">2016-10-08T09:50:16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