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4AB-ECD0-495A-8295-215A53E5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406-749A-4C02-A2F6-59CE6B01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A0549-AEBA-49ED-89FA-44EA5CE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061CF-EA7A-4976-8B0D-84D39F43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7FB67-62D4-4091-82FB-4DFAC051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4F73A-A6C2-4C69-8B3F-41BCF7CB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24E69-C239-4B7D-B0FA-AF89A4B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22CFA-6A81-446A-A18A-9909044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0DBA2-F160-4FCE-B1A6-F99E94FC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96594-941F-4EAC-89C7-F34A6764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20C47-8369-44B4-8541-D3B95C1F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E2600-D71C-4720-80BA-88793C39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617-528D-4231-A312-3EA4D481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DA736-3232-494D-9298-8F05631E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C7C2E-07B1-4111-B02E-4F52443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D2C7A-59D0-45AE-A1F3-9293DB91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257A7-2789-4907-88B1-35BA3803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7DCC7-31EF-4E9F-B449-945D39FC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E1EC4-F57F-4FF4-8232-0C17714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8A3AA-C84D-4FFC-8BF8-C6D1AF05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330BF-5771-4087-BF8E-DD0A52C0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C9236-9953-4E8A-A973-57FA9FC3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67D67-7893-41B0-B8E0-C2539504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7F9-9944-4ED0-BA8C-1F46503F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73045-D70A-4DBB-8F3F-F81AC2F8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F7FD5-74DB-40F0-BD72-2CFDF388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BF116-4878-4E78-8FDE-1E85A99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9D7E6-3E18-44DE-AAAF-BABF485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5F4B-DD8C-4E1B-8603-2ED1B56E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7AB47-206E-46C8-9967-218053D0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93E6F-365C-4ECB-9F58-643D1CDF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092FC-2F07-47C4-8541-D6EC140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8AB8B-40FA-40FE-93BD-3C68719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08148-B7FE-4062-8B28-C3B9F81A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7548-7F44-42B2-9496-C2405BA4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9CF58-2D2C-46C0-86F6-43B84B89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FF02D-1D76-47DA-ADA7-314048FC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16A14-1D59-4410-B77B-F90E4E37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C43C-F3F2-449B-81D6-BB7122DE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A311-D2CF-46F5-9AF6-07B3DDE1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E755-6008-4D38-978A-E8E894A7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3063-10F0-4E1C-AA4E-8825FDF7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D44D-ED7C-4757-BB24-965F2004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2046-D830-4D5F-A63E-2DE4A044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AB3-F43F-447B-A845-0579F052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DA00-444D-4377-94A3-4A19326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5510-4602-4B86-B5FE-D2DC0F1F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C4C1-A5DB-4F60-9D82-54E89FBB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5F66-6339-44D0-92FC-956B9251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0D4-7F24-4F14-B4C6-DDC2B546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9FC6-8F4A-43DE-8BF7-52381BD9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7CF4-0BF9-412E-A84C-70A51446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DAF6-1117-4D97-8C2B-410F5669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16B8-2EA2-4497-9B52-01B264D6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E564-651B-4B4E-8952-AB19D925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90F-0BD5-4C5C-99BF-79A5E879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3AC0-A1E8-470E-9606-1978DCC2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B4C5-45BF-4DD3-962B-F3A6013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E348-0761-4E52-8490-F58B08D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4E34-C32D-4DD0-8189-B6C31468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34E6-EDA7-4595-B072-8D1E0EB0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23BE6-7E18-467D-899F-73864927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28E3-EA2C-4F61-A967-B91A6FDA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8D04-7536-440B-966E-7CCFEDCC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854A-E6CB-4862-84A2-C9DBB592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EDAB1-D17C-4D35-9D7F-CDB8D0B1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E83-7CCA-4B59-BFB4-96FF0E2E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D9A97-60A1-4E54-B33E-1EF5FC06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CAA33-5BCA-40C0-AFDA-3EF92C31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E3FA-6265-4E33-9C6B-151C55C2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E6D3-43F7-4D1E-95DF-46068196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E1654-0231-4B9B-87BF-9A55BB4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7AE9-6251-4A89-A177-9D34B31F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42A6-E02F-4E0B-845C-B2FC128C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3726-98C8-40AF-9B17-73F39EFE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E176-511B-4354-91F7-116D78C9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A602E-B421-4801-A414-F2D17452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38A-2523-4F0D-B295-F6A52FC7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46C0A-41EE-4E4F-8221-35898A06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8EAA-9597-40BB-B428-356BD4D9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D6E6-0A0E-4DAC-A956-3B00E9B2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0DD16-16E1-4747-AC2B-44A21501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FEEB3-F716-4860-A662-96091123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8D9EB-D347-42B8-8CC6-CB7FCC2F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97C7-CC56-415F-9A15-6F3E677E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D6E61-A078-43D3-80A8-D7685B4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44B93-1946-4F25-BB8B-A24DB1C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C527-A112-43D3-A20A-6F8CC0CF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31C-8C8A-4BD8-8EEF-2563D74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7F76-2C99-4DA1-80FA-8EB63B3F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E4C60-5F23-4510-BB40-B06D9C03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E8F47-78E0-44EA-B090-B853D914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E0DC4-7772-4A65-8757-BB0B71C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C362-EF8F-4B34-97D7-973114F2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D9157-52D6-430B-8FD0-5A8B1F1A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B5B41-FC78-4C1B-865E-C1BDA69B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33BD0-0E3D-417A-AC53-710047EA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3154-1D21-409E-A1EF-01CDAE74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96E9C-037F-488E-8C13-22201EB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E80-04AA-41DF-A875-237265E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32A12-1E75-4618-8AA3-AC26058D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2222A-2E85-48D3-B821-C37B8BEE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B7B8-10B9-417D-9D90-334C135A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99051-D423-43A1-9352-3EA0FBEA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1DB0F-F3E1-4479-A8D4-2DF2C17A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5FFD6-D6FA-4978-959D-96A3D6A0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24DA8-998E-4655-9F54-335D29B4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A819-9510-4964-9626-08C6959A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713F-9AF5-46DC-AFC2-648A9617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CC3A1-84E4-492C-AB13-F669458F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5D1-E727-453B-9A3C-F0BE9813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4FA9-F551-4A27-B2BE-4D50E7F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CCF08-BEF5-4ED6-A22C-1D9B095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8E1BE-0BBB-4BBA-B9F5-3E221DC7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E942F-DC52-4364-AE45-4F3CFC23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E4511-2537-4AE1-9EFA-50CA9C30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E9F1D-7D32-4A68-8297-8DD4EF09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86677-182D-4F60-B219-B7E27C35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7F6E6-FF65-40B1-8BB3-CFB65105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8671A-A837-4C2C-9668-C79D0E90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31BF6-2C80-42FF-AB78-AC277C73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C7A-CD63-4E66-B608-3B8F858A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88F2E-0ACF-408B-A1A8-F0762BAA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98B61-8825-4003-B31C-CA1252EC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F6AD3-98AF-4714-8844-FB5FAB2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B2237-4011-4079-8204-11A35F14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ED581-D520-4157-BE11-ECFC39F3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A670D-67B3-4130-9A35-5BA12CF7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08765-0863-47EE-A573-CF18913E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38C16-B3B1-469D-AFDC-068CA323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1F7E1-44DB-4AEA-841C-B06B3E5A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BEF45-FBDA-44BC-8FDA-35DBC90D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193F-F0D4-45AA-AD6D-436D820B6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EF28-98B8-4804-AE52-DA3E9C59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9D3F-0E3A-4ECA-919C-4E26C5A4F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0D6B-A4E7-49F8-A6C6-70FCA95BE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E5D-B00F-423A-8520-552BDE22C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3A45-87DF-44A5-BE5B-C0D25D042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781D-4044-485C-8AE9-F2251182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CEEF-8D6B-4AEB-9DA2-135CC72F9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15AE-FF6B-4713-B01A-373ACDEF2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E41-4092-4B24-8015-D1C975CBE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4DF1-8CE1-4C8F-BA9D-4C345526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700"/>
            </a:b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g    k    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319C-7147-4DF2-9DDB-86D3EC11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229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6"/>
          <p:cNvSpPr txBox="1"/>
          <p:nvPr/>
        </p:nvSpPr>
        <p:spPr>
          <a:xfrm>
            <a:off x="2484360" y="2565360"/>
            <a:ext cx="4392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DDB0-3ABD-410E-9AD3-6210E2E6D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男孩在路上帮奶奶推车，路人问小红“帮推车的是你弟弟吗？”小红说“不是。”请问那个男孩是小红的什么？ 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1_201004180558502teFZ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659640" y="4076640"/>
            <a:ext cx="2163600" cy="257328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9C1-E34C-4DA9-A4E4-AE9BAA394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种动物小的时候没有腿，长大了有四条腿，还变 了名字叫青蛙，请问它小时候叫什么？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1_2010041805585018IV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732720" y="4797360"/>
            <a:ext cx="2087280" cy="175428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BB44-9D13-4F4B-9A2D-B2428BB5B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230_091039E4"/>
          <p:cNvPicPr/>
          <p:nvPr/>
        </p:nvPicPr>
        <p:blipFill>
          <a:blip r:embed="rId1"/>
          <a:stretch/>
        </p:blipFill>
        <p:spPr>
          <a:xfrm>
            <a:off x="0" y="0"/>
            <a:ext cx="8964720" cy="31417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5"/>
          <p:cNvSpPr/>
          <p:nvPr/>
        </p:nvSpPr>
        <p:spPr>
          <a:xfrm>
            <a:off x="611280" y="407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只动物在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0f69ce3d852686694e63260a62c898a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940360" y="4365720"/>
            <a:ext cx="2657520" cy="216036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FA65-7552-44A9-9110-9003D4A85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gkh"/>
          <p:cNvPicPr/>
          <p:nvPr/>
        </p:nvPicPr>
        <p:blipFill>
          <a:blip r:embed="rId1"/>
          <a:srcRect l="0" t="0" r="2052" b="0"/>
          <a:stretch/>
        </p:blipFill>
        <p:spPr>
          <a:xfrm>
            <a:off x="-181080" y="-171360"/>
            <a:ext cx="9506160" cy="71722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3492360" y="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700360" y="2924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3924360" y="537372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8AE-E55F-4E22-BA0F-EB86C203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39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20140118133113555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7057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6"/>
          <p:cNvSpPr/>
          <p:nvPr/>
        </p:nvSpPr>
        <p:spPr>
          <a:xfrm>
            <a:off x="900000" y="11970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116000" y="90792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  <a:ea typeface="隶书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5780-0588-4970-A3B9-0E069B832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20140118133113302"/>
          <p:cNvPicPr/>
          <p:nvPr/>
        </p:nvPicPr>
        <p:blipFill>
          <a:blip r:embed="rId2"/>
          <a:stretch/>
        </p:blipFill>
        <p:spPr>
          <a:xfrm>
            <a:off x="0" y="0"/>
            <a:ext cx="8893080" cy="66657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6"/>
          <p:cNvSpPr/>
          <p:nvPr/>
        </p:nvSpPr>
        <p:spPr>
          <a:xfrm>
            <a:off x="6659640" y="436572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9CB8-9250-42CA-99C6-2566BC57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823935860778015"/>
          <p:cNvPicPr/>
          <p:nvPr/>
        </p:nvPicPr>
        <p:blipFill>
          <a:blip r:embed="rId2"/>
          <a:stretch/>
        </p:blipFill>
        <p:spPr>
          <a:xfrm>
            <a:off x="430200" y="-387360"/>
            <a:ext cx="8713800" cy="74278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00000" y="9079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BC33-11A4-4D43-BCB6-56204730B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5" descr=""/>
          <p:cNvPicPr/>
          <p:nvPr/>
        </p:nvPicPr>
        <p:blipFill>
          <a:blip r:embed="rId1"/>
          <a:stretch/>
        </p:blipFill>
        <p:spPr>
          <a:xfrm>
            <a:off x="-687240" y="1909800"/>
            <a:ext cx="2698560" cy="262728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14"/>
          <p:cNvGrpSpPr/>
          <p:nvPr/>
        </p:nvGrpSpPr>
        <p:grpSpPr>
          <a:xfrm>
            <a:off x="2484360" y="692280"/>
            <a:ext cx="5904000" cy="5330520"/>
            <a:chOff x="2484360" y="692280"/>
            <a:chExt cx="5904000" cy="5330520"/>
          </a:xfrm>
        </p:grpSpPr>
        <p:pic>
          <p:nvPicPr>
            <p:cNvPr id="494" name="Picture 9" descr=""/>
            <p:cNvPicPr/>
            <p:nvPr/>
          </p:nvPicPr>
          <p:blipFill>
            <a:blip r:embed="rId2"/>
            <a:stretch/>
          </p:blipFill>
          <p:spPr>
            <a:xfrm>
              <a:off x="2484360" y="692280"/>
              <a:ext cx="575964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8" descr=""/>
            <p:cNvPicPr/>
            <p:nvPr/>
          </p:nvPicPr>
          <p:blipFill>
            <a:blip r:embed="rId3"/>
            <a:srcRect l="25634" t="36196" r="34490" b="58089"/>
            <a:stretch/>
          </p:blipFill>
          <p:spPr>
            <a:xfrm>
              <a:off x="2484360" y="1197000"/>
              <a:ext cx="58327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0" descr=""/>
            <p:cNvPicPr/>
            <p:nvPr/>
          </p:nvPicPr>
          <p:blipFill>
            <a:blip r:embed="rId4"/>
            <a:srcRect l="25634" t="48477" r="34490" b="46641"/>
            <a:stretch/>
          </p:blipFill>
          <p:spPr>
            <a:xfrm>
              <a:off x="2556000" y="2421000"/>
              <a:ext cx="5832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1" descr=""/>
            <p:cNvPicPr/>
            <p:nvPr/>
          </p:nvPicPr>
          <p:blipFill>
            <a:blip r:embed="rId5"/>
            <a:srcRect l="25634" t="59098" r="34490" b="36004"/>
            <a:stretch/>
          </p:blipFill>
          <p:spPr>
            <a:xfrm>
              <a:off x="2484360" y="3500280"/>
              <a:ext cx="58327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2" descr=""/>
            <p:cNvPicPr/>
            <p:nvPr/>
          </p:nvPicPr>
          <p:blipFill>
            <a:blip r:embed="rId6"/>
            <a:srcRect l="25634" t="68908" r="34490" b="26195"/>
            <a:stretch/>
          </p:blipFill>
          <p:spPr>
            <a:xfrm>
              <a:off x="2556000" y="4508640"/>
              <a:ext cx="5832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3" descr=""/>
            <p:cNvPicPr/>
            <p:nvPr/>
          </p:nvPicPr>
          <p:blipFill>
            <a:blip r:embed="rId7"/>
            <a:srcRect l="25634" t="79544" r="34490" b="15539"/>
            <a:stretch/>
          </p:blipFill>
          <p:spPr>
            <a:xfrm>
              <a:off x="2556000" y="5589720"/>
              <a:ext cx="5832360" cy="43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6D62-2BFF-43D9-BC5A-6E255AEF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1:28:26Z</dcterms:created>
  <dc:creator/>
  <dc:description/>
  <cp:keywords/>
  <dc:language>en-US</dc:language>
  <cp:lastModifiedBy>User</cp:lastModifiedBy>
  <dcterms:modified xsi:type="dcterms:W3CDTF">2016-10-05T12:13:51Z</dcterms:modified>
  <cp:revision>43</cp:revision>
  <dc:subject/>
  <dc:title>  g    k    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