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gif" ContentType="image/gif"/>
  <Override PartName="/ppt/media/image16.png" ContentType="image/png"/>
  <Override PartName="/ppt/media/image22.jpeg" ContentType="image/jpeg"/>
  <Override PartName="/ppt/media/cashreg.wav" ContentType="audio/x-wav"/>
  <Override PartName="/ppt/media/image21.png" ContentType="image/png"/>
  <Override PartName="/ppt/media/image19.png" ContentType="image/png"/>
  <Override PartName="/ppt/media/image20.jpeg" ContentType="image/jpeg"/>
  <Override PartName="/ppt/media/image26.gif" ContentType="image/gif"/>
  <Override PartName="/ppt/media/image18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ZR1021.WAV" ContentType="audio/x-wav"/>
  <Override PartName="/ppt/media/image3.jpeg" ContentType="image/jpeg"/>
  <Override PartName="/ppt/media/image37.jpeg" ContentType="image/jpeg"/>
  <Override PartName="/ppt/media/image15.jpeg" ContentType="image/jpeg"/>
  <Override PartName="/ppt/media/%E5%B0%8F%E9%B8%A1%E5%8F%AB.wav" ContentType="audio/x-wav"/>
  <Override PartName="/ppt/media/image29.gif" ContentType="image/gif"/>
  <Override PartName="/ppt/media/image14.jpeg" ContentType="image/jpeg"/>
  <Override PartName="/ppt/media/image13.jpeg" ContentType="image/jpeg"/>
  <Override PartName="/ppt/media/chimes.wav" ContentType="audio/x-wav"/>
  <Override PartName="/ppt/media/image7.wmf" ContentType="image/x-wmf"/>
  <Override PartName="/ppt/media/image35.jpeg" ContentType="image/jpeg"/>
  <Override PartName="/ppt/media/image8.jpeg" ContentType="image/jpeg"/>
  <Override PartName="/ppt/media/whoosh.wav" ContentType="audio/x-wav"/>
  <Override PartName="/ppt/media/image10.jpeg" ContentType="image/jpeg"/>
  <Override PartName="/ppt/media/image25.gif" ContentType="image/gif"/>
  <Override PartName="/ppt/media/type.wav" ContentType="audio/x-wav"/>
  <Override PartName="/ppt/media/image28.gif" ContentType="image/gif"/>
  <Override PartName="/ppt/media/image30.gif" ContentType="image/gif"/>
  <Override PartName="/ppt/media/image34.jpeg" ContentType="image/jpeg"/>
  <Override PartName="/ppt/media/image27.png" ContentType="image/png"/>
  <Override PartName="/ppt/media/drumroll.wav" ContentType="audio/x-wav"/>
  <Override PartName="/ppt/media/image33.jpeg" ContentType="image/jpeg"/>
  <Override PartName="/ppt/media/laser.wav" ContentType="audio/x-wav"/>
  <Override PartName="/ppt/media/image5.wmf" ContentType="image/x-wmf"/>
  <Override PartName="/ppt/media/projctor.wav" ContentType="audio/x-wav"/>
  <Override PartName="/ppt/media/camera.wav" ContentType="audio/x-wav"/>
  <Override PartName="/ppt/media/image6.wmf" ContentType="image/x-wmf"/>
  <Override PartName="/ppt/media/click.wav" ContentType="audio/x-wav"/>
  <Override PartName="/ppt/media/image9.jpeg" ContentType="image/jpeg"/>
  <Override PartName="/ppt/media/image4.png" ContentType="image/png"/>
  <Override PartName="/ppt/media/image12.jpeg" ContentType="image/jpeg"/>
  <Override PartName="/ppt/media/image36.jpeg" ContentType="image/jpeg"/>
  <Override PartName="/ppt/media/hammer.wav" ContentType="audio/x-wav"/>
  <Override PartName="/ppt/media/image2.jpeg" ContentType="image/jpeg"/>
  <Override PartName="/ppt/media/image1.png" ContentType="image/png"/>
  <Override PartName="/ppt/media/image11.jpeg" ContentType="image/jpeg"/>
  <Override PartName="/ppt/media/image3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27D-C228-4025-A25C-EDA907C5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E7E-29B5-4B51-9CD7-DA4851A6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8594E-7D33-48D0-98F2-254D4BBB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3DFB4-EC04-440A-87C2-6B84F8AD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E0671-F2B6-47AA-8435-6B2B9160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432AC-D240-425A-9F71-8200831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B9771-788A-4682-AEB8-96986C6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A0D11-3FEB-4CAA-BD66-7FA170C6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6598D-DEA4-4A40-8C57-BED8A769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1B1A2-8913-4AF0-8615-4815A502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4A5F8-A703-49AE-8652-1C5BC3E4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70B1D-9D62-4827-B367-13518AF2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FA0-27A5-4563-AAAA-036E81B7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95FA1-3D50-4FB5-859D-D4826527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1B440-3686-49E5-99B3-0D68B15E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EFE77-32D6-46B1-8324-96F853BC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00FC9-D64A-4103-A619-6B3A75CB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75F4D-4B5A-4190-85AE-07AC4798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6014D-259A-4BDE-8F17-70680BFB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43F44-8CFE-4012-B017-7C4196E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E66E4-F7B0-4B57-9CDF-E100D03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B3F6C-26C7-4FAC-86C3-B5B41168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C91A0-94CF-4622-BF7E-96B65666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720-1656-4DC6-9296-1E09FE46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8C14B-4DAA-487C-8551-1051BC2F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4A6E9-A59A-4E54-A384-44ACBF97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0BC71-0074-4318-A019-5CD9BA9F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91229-A63D-4A54-ACA7-3B53F4E9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80FEB-EAF5-4332-98FD-D245B708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990FA-A8BE-4043-BF3E-7463E126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9297A-BE0C-470C-BA1C-3DBD017C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B3CC6-4201-44D2-A9CD-7B6F53D5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5B699-7730-4DAC-9512-BF065FC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F9006-F60F-4F4E-9ADD-AA3893FD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060B-150E-4428-9F07-D0E46428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BCF3F-77A6-462F-BCC6-80600808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38EDA-26B3-4E41-B9FF-62382F75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5728D-01CF-4452-9E63-ACB5E25B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BAC5-A2DD-4EDA-89DA-4EF0B5EE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7BF8-A94D-4CC0-9ED1-D436764F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B789-15E8-4702-8B8C-3FB953E1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28D6-D7E4-4CBA-BE07-7BB42325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1DB6-ECD9-4AFA-ADA9-AAFAC17D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C980-9FA1-4BEB-8D5C-69E2BC15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E6B-A146-46B7-88C6-E0B6F796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08A2-EA88-4404-BA88-FB773128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D978-193B-43E7-9AE8-3EFBF81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6E9A-78BF-41CE-A31B-4F0C96D6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1498-3A05-4341-AF33-53693782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DCEC-33C8-46C2-A2CB-5327A4F7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B363F-5DC3-4825-A549-766DFE22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47B7-3782-414A-BBFF-82C3B7F2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D641-85D0-4A29-81B3-B58539B5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6A31-9058-4380-AF17-2DB7ACFE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A507-5BB8-4794-B42B-3E98B644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375-C9D7-4F63-8320-C321696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ABE5-947E-48B4-925B-D9B2145D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512E8-EF15-4292-9688-4738754F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2A76-774B-4F1A-A28E-B55DD12A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EF8A0-2A73-44BC-9FC3-14915E69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F9A0-F777-4C52-89FB-7079C2F3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7136-E04A-4ABB-AF1A-7371A248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76D7-8C5B-458B-9429-75FBEE06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CDE7-15DB-4C24-9423-0B505555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E14E-2714-43D1-9CBF-2C591F5D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A26B1-B0F5-43ED-9B08-9BCB8BB2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6E5-3391-4130-BA1B-017D5F1C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4E260-36B8-4694-A37B-31C71AB4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FC24-B919-4242-8AAF-462F2D9C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ADD3C-35B7-467F-9DC3-9FFA2FEF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F292-4AA8-4146-B891-4F4171FE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2732-A5C6-4E38-BB51-271652DB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1BDF-268B-4F05-BA1D-AACE00F5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2305-58E6-47A3-9192-CFBFACE7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AECA-6840-45BD-8E1A-ABD56F4B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D5B6-7C2A-43D5-A406-C97B4843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6A71-C9C6-4DA7-B84F-451853FB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7E2-A710-40E8-9A3B-B473A5EF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838A7-516D-4103-8E8E-1ADF8CD2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F1D00-56C2-4C2A-BACE-96C9C357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AC68A-3E0E-4496-B5F0-64B78A4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F95A9-8995-47B4-BD98-44EE2B97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0D8A8-73DF-4E11-B5A1-069E4DAF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3E312-529F-4334-B577-029039E0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5EFD0-7511-4024-BC62-1D548516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E683-FE9B-4F23-B22D-3C87D49C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3FFB5-D85F-4640-950C-B6008500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6770-C13D-460D-B796-D7B51EE7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CC6-AAB6-4FD9-8455-392229F9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3988-4C9B-421A-B0D0-8B45669A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2D47-C64A-4AAB-938A-F199AB76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586DA-8244-4A01-A1CA-60955335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93127-C4F9-4712-AA4A-56D3899F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67EFB-B2BD-4336-B50C-FD819A6B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3A018-5B22-4BDE-A5E8-3D91811E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740A-93C5-42B9-A183-BC27A05B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42411-9E4D-4120-8705-15FF3971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2044-0F45-4501-9B3F-802CB26C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F609E-3775-457F-BE69-14876CCF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46D-BAFC-4BB8-A748-F7F9E42E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2C388-2092-4A92-8DCA-F0884A7D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702CC-41CC-4568-8A25-6BB5E935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C5B7A-695C-41C7-8151-09E9BB5B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C1CC5-901A-4521-B997-E3CB4E34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669BC-6EEF-490B-AE43-4EB0C7B8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2F5A2-FFDC-476F-9F94-E3E9DB3A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2BC92-22E4-45B4-A405-9E460368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849E-D0B1-4867-8DB2-F351FD0F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AB118-B0C5-47BE-B8C9-142FF32A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8BFD7-56B2-4F2A-83C8-58D92268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361-D6BD-44DF-A9C0-006B08D1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2E188-688B-4234-B63F-8FC8CBD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B97C7-6203-41AB-8779-A24B7954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47AC6-8C04-45CB-9D57-DE0A8F0B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ECBB5-276F-4881-86B0-AFBF0512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2653-FE21-44EC-88E1-41CE683C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A15A5-1DD9-4BA5-8A19-D83EA803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0DE71-F461-41DC-B56F-905E4DBD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9B4DF-B3A2-41C4-B26E-07653298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84804-81B9-400E-9959-B27F3927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8BF15-326E-43AC-9A80-752089C3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D3A-7118-422D-B27E-AA8218A2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CE179-3648-42E5-9056-5947DB72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03F42-8631-487F-9847-2CF352B0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15613-F713-4FD2-8EBA-3089BB8F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426E9-FC7D-430C-BCF4-A50F072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4EE89-664C-45CF-983A-F44B5082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EE6BA-EC49-4176-8549-8117A339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13014-3BCF-45F6-BD3E-4CEA0F2E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FD93F-AA9B-4B59-A0B7-86F5ABD2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4FF4D-2365-49F2-8271-41C1FB55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B5AD6-3E18-46FE-B4FB-5A87A349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9F03-E15A-4598-AB40-098B6EB3B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57AC-744A-46E5-BF96-49E27C28C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4E87-CB4C-4185-BCE7-9D01292D6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23A5-5581-44DD-9717-6658FB400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D063-B3B7-49D0-8506-E0AEC24F0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C9A8-3752-4D83-8E47-FDD9323B2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9ACA-EC06-4414-B744-7A20C60B4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47CB-E224-41DE-9AC0-4D2B32E5A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1020-D61F-467C-A420-D683CF81C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AF2F-4959-4A41-81F9-C1C7FF78B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4D4F-0E2E-4734-93C2-1FE40A90A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7.png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30.gif"/><Relationship Id="rId10" Type="http://schemas.openxmlformats.org/officeDocument/2006/relationships/image" Target="../media/image31.gi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7.png"/><Relationship Id="rId3" Type="http://schemas.openxmlformats.org/officeDocument/2006/relationships/image" Target="../media/image31.gif"/><Relationship Id="rId4" Type="http://schemas.openxmlformats.org/officeDocument/2006/relationships/image" Target="../media/image30.gif"/><Relationship Id="rId5" Type="http://schemas.openxmlformats.org/officeDocument/2006/relationships/image" Target="../media/image25.gif"/><Relationship Id="rId6" Type="http://schemas.openxmlformats.org/officeDocument/2006/relationships/image" Target="../media/image24.gif"/><Relationship Id="rId7" Type="http://schemas.openxmlformats.org/officeDocument/2006/relationships/image" Target="../media/image29.gif"/><Relationship Id="rId8" Type="http://schemas.openxmlformats.org/officeDocument/2006/relationships/image" Target="../media/image28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&#23567;&#40481;&#21483;.wav"/><Relationship Id="rId3" Type="http://schemas.openxmlformats.org/officeDocument/2006/relationships/audio" Target="../media/type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shreg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&#23567;&#40481;&#21483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audio" Target="../media/cashreg.wav"/><Relationship Id="rId15" Type="http://schemas.openxmlformats.org/officeDocument/2006/relationships/audio" Target="../media/hamm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hammer.wav"/><Relationship Id="rId19" Type="http://schemas.openxmlformats.org/officeDocument/2006/relationships/audio" Target="../media/hammer.wav"/><Relationship Id="rId20" Type="http://schemas.openxmlformats.org/officeDocument/2006/relationships/audio" Target="../media/hammer.wav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audio" Target="../media/click.wav"/><Relationship Id="rId4" Type="http://schemas.openxmlformats.org/officeDocument/2006/relationships/audio" Target="../media/laser.wav"/><Relationship Id="rId5" Type="http://schemas.openxmlformats.org/officeDocument/2006/relationships/audio" Target="../media/&#23567;&#40481;&#21483;.wav"/><Relationship Id="rId6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chimes.wav"/><Relationship Id="rId12" Type="http://schemas.openxmlformats.org/officeDocument/2006/relationships/audio" Target="../media/hammer.wav"/><Relationship Id="rId13" Type="http://schemas.openxmlformats.org/officeDocument/2006/relationships/audio" Target="../media/chimes.wav"/><Relationship Id="rId14" Type="http://schemas.openxmlformats.org/officeDocument/2006/relationships/audio" Target="../media/hammer.wav"/><Relationship Id="rId15" Type="http://schemas.openxmlformats.org/officeDocument/2006/relationships/audio" Target="../media/chimes.wav"/><Relationship Id="rId16" Type="http://schemas.openxmlformats.org/officeDocument/2006/relationships/audio" Target="../media/hammer.wav"/><Relationship Id="rId1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2.jpeg"/><Relationship Id="rId10" Type="http://schemas.openxmlformats.org/officeDocument/2006/relationships/image" Target="../media/image15.jpeg"/><Relationship Id="rId11" Type="http://schemas.openxmlformats.org/officeDocument/2006/relationships/audio" Target="../media/ZR1021.WAV"/><Relationship Id="rId12" Type="http://schemas.openxmlformats.org/officeDocument/2006/relationships/audio" Target="../media/ZR1021.WAV"/><Relationship Id="rId13" Type="http://schemas.openxmlformats.org/officeDocument/2006/relationships/audio" Target="../media/ZR1021.WAV"/><Relationship Id="rId14" Type="http://schemas.openxmlformats.org/officeDocument/2006/relationships/audio" Target="../media/ZR1021.WAV"/><Relationship Id="rId15" Type="http://schemas.openxmlformats.org/officeDocument/2006/relationships/audio" Target="../media/ZR1021.WAV"/><Relationship Id="rId16" Type="http://schemas.openxmlformats.org/officeDocument/2006/relationships/audio" Target="../media/ZR1021.WAV"/><Relationship Id="rId17" Type="http://schemas.openxmlformats.org/officeDocument/2006/relationships/audio" Target="../media/ZR1021.WAV"/><Relationship Id="rId18" Type="http://schemas.openxmlformats.org/officeDocument/2006/relationships/audio" Target="../media/ZR1021.WAV"/><Relationship Id="rId19" Type="http://schemas.openxmlformats.org/officeDocument/2006/relationships/audio" Target="../media/ZR1021.WAV"/><Relationship Id="rId20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rcRect l="2946" t="5532" r="3304" b="42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5"/>
          <p:cNvSpPr/>
          <p:nvPr/>
        </p:nvSpPr>
        <p:spPr>
          <a:xfrm>
            <a:off x="1600200" y="2057400"/>
            <a:ext cx="496872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6"/>
          <p:cNvSpPr txBox="1"/>
          <p:nvPr/>
        </p:nvSpPr>
        <p:spPr>
          <a:xfrm>
            <a:off x="2124000" y="2131920"/>
            <a:ext cx="39132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 q 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2530-45BE-4C5F-A7A0-0BBAA129C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rcRect l="0" t="0" r="0" b="4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A4N@OGH]{4_@T73%}KACY]F"/>
          <p:cNvPicPr/>
          <p:nvPr/>
        </p:nvPicPr>
        <p:blipFill>
          <a:blip r:embed="rId2"/>
          <a:stretch/>
        </p:blipFill>
        <p:spPr>
          <a:xfrm>
            <a:off x="1905120" y="457200"/>
            <a:ext cx="5715000" cy="44956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5334120" y="380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3657600" y="2209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678168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3733920" y="1371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2D94-E7EB-42AF-BE02-496BDAFD1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9622274382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755640" y="2133720"/>
            <a:ext cx="684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汉语拼音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8800" spc="-1" strike="noStrike">
                <a:solidFill>
                  <a:srgbClr val="3333cc"/>
                </a:solidFill>
                <a:latin typeface="Arial"/>
              </a:rPr>
              <a:t>j  q  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music.mp3" descr=""/>
          <p:cNvPicPr/>
          <p:nvPr/>
        </p:nvPicPr>
        <p:blipFill>
          <a:blip r:embed="rId3"/>
          <a:stretch/>
        </p:blipFill>
        <p:spPr>
          <a:xfrm>
            <a:off x="2268360" y="5734080"/>
            <a:ext cx="58608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7"/>
          <p:cNvSpPr/>
          <p:nvPr/>
        </p:nvSpPr>
        <p:spPr>
          <a:xfrm>
            <a:off x="167652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复         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0C41-B400-4636-AA86-115D28C8C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3c5dae598df01ec49d82044c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 rot="10800000">
            <a:off x="3780000" y="3357000"/>
            <a:ext cx="72072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200710117919367"/>
          <p:cNvPicPr/>
          <p:nvPr/>
        </p:nvPicPr>
        <p:blipFill>
          <a:blip r:embed="rId2"/>
          <a:stretch/>
        </p:blipFill>
        <p:spPr>
          <a:xfrm>
            <a:off x="250920" y="189000"/>
            <a:ext cx="1655640" cy="2160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0725050"/>
          <p:cNvPicPr/>
          <p:nvPr/>
        </p:nvPicPr>
        <p:blipFill>
          <a:blip r:embed="rId3"/>
          <a:stretch/>
        </p:blipFill>
        <p:spPr>
          <a:xfrm>
            <a:off x="4203720" y="4292640"/>
            <a:ext cx="1231920" cy="2089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07250515"/>
          <p:cNvPicPr/>
          <p:nvPr/>
        </p:nvPicPr>
        <p:blipFill>
          <a:blip r:embed="rId4"/>
          <a:stretch/>
        </p:blipFill>
        <p:spPr>
          <a:xfrm>
            <a:off x="2268360" y="3429000"/>
            <a:ext cx="936720" cy="1603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560_420_4293917300xiayut"/>
          <p:cNvPicPr/>
          <p:nvPr/>
        </p:nvPicPr>
        <p:blipFill>
          <a:blip r:embed="rId5"/>
          <a:stretch/>
        </p:blipFill>
        <p:spPr>
          <a:xfrm>
            <a:off x="2411280" y="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2008103000450593"/>
          <p:cNvPicPr/>
          <p:nvPr/>
        </p:nvPicPr>
        <p:blipFill>
          <a:blip r:embed="rId6"/>
          <a:stretch/>
        </p:blipFill>
        <p:spPr>
          <a:xfrm>
            <a:off x="6012000" y="260280"/>
            <a:ext cx="2815920" cy="2852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0" descr="dwgs100500_sina_1155986034384511"/>
          <p:cNvPicPr/>
          <p:nvPr/>
        </p:nvPicPr>
        <p:blipFill>
          <a:blip r:embed="rId7"/>
          <a:stretch/>
        </p:blipFill>
        <p:spPr>
          <a:xfrm>
            <a:off x="7451640" y="4149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1" descr="0725052"/>
          <p:cNvPicPr/>
          <p:nvPr/>
        </p:nvPicPr>
        <p:blipFill>
          <a:blip r:embed="rId8"/>
          <a:stretch/>
        </p:blipFill>
        <p:spPr>
          <a:xfrm>
            <a:off x="3564000" y="2276640"/>
            <a:ext cx="1285920" cy="197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2" descr="11201727"/>
          <p:cNvPicPr/>
          <p:nvPr/>
        </p:nvPicPr>
        <p:blipFill>
          <a:blip r:embed="rId9"/>
          <a:stretch/>
        </p:blipFill>
        <p:spPr>
          <a:xfrm>
            <a:off x="7308720" y="5157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3" descr="11201719"/>
          <p:cNvPicPr/>
          <p:nvPr/>
        </p:nvPicPr>
        <p:blipFill>
          <a:blip r:embed="rId10"/>
          <a:stretch/>
        </p:blipFill>
        <p:spPr>
          <a:xfrm>
            <a:off x="7956720" y="4653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63" name="02卖报歌（伴奏）.wma" descr=""/>
          <p:cNvPicPr/>
          <p:nvPr/>
        </p:nvPicPr>
        <p:blipFill>
          <a:blip r:embed="rId11"/>
          <a:stretch/>
        </p:blipFill>
        <p:spPr>
          <a:xfrm>
            <a:off x="8244000" y="5877000"/>
            <a:ext cx="512640" cy="512640"/>
          </a:xfrm>
          <a:prstGeom prst="rect">
            <a:avLst/>
          </a:prstGeom>
          <a:ln w="0">
            <a:noFill/>
          </a:ln>
        </p:spPr>
      </p:pic>
      <p:sp>
        <p:nvSpPr>
          <p:cNvPr id="564" name="灯片编号占位符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AB3F-4AF9-4DA9-A393-793681E0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重做背景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2008103000450593"/>
          <p:cNvPicPr/>
          <p:nvPr/>
        </p:nvPicPr>
        <p:blipFill>
          <a:blip r:embed="rId2"/>
          <a:stretch/>
        </p:blipFill>
        <p:spPr>
          <a:xfrm>
            <a:off x="5435640" y="836640"/>
            <a:ext cx="3247920" cy="27050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11201719"/>
          <p:cNvPicPr/>
          <p:nvPr/>
        </p:nvPicPr>
        <p:blipFill>
          <a:blip r:embed="rId3"/>
          <a:stretch/>
        </p:blipFill>
        <p:spPr>
          <a:xfrm>
            <a:off x="774072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11201727"/>
          <p:cNvPicPr/>
          <p:nvPr/>
        </p:nvPicPr>
        <p:blipFill>
          <a:blip r:embed="rId4"/>
          <a:stretch/>
        </p:blipFill>
        <p:spPr>
          <a:xfrm>
            <a:off x="702000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07250515"/>
          <p:cNvPicPr/>
          <p:nvPr/>
        </p:nvPicPr>
        <p:blipFill>
          <a:blip r:embed="rId5"/>
          <a:stretch/>
        </p:blipFill>
        <p:spPr>
          <a:xfrm>
            <a:off x="0" y="4797360"/>
            <a:ext cx="1055520" cy="1890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0725050"/>
          <p:cNvPicPr/>
          <p:nvPr/>
        </p:nvPicPr>
        <p:blipFill>
          <a:blip r:embed="rId6"/>
          <a:stretch/>
        </p:blipFill>
        <p:spPr>
          <a:xfrm>
            <a:off x="2195640" y="4724280"/>
            <a:ext cx="965160" cy="17733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0725052"/>
          <p:cNvPicPr/>
          <p:nvPr/>
        </p:nvPicPr>
        <p:blipFill>
          <a:blip r:embed="rId7"/>
          <a:stretch/>
        </p:blipFill>
        <p:spPr>
          <a:xfrm>
            <a:off x="324000" y="2781360"/>
            <a:ext cx="1176120" cy="1760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dwgs100500_sina_1155986034384511"/>
          <p:cNvPicPr/>
          <p:nvPr/>
        </p:nvPicPr>
        <p:blipFill>
          <a:blip r:embed="rId8"/>
          <a:stretch/>
        </p:blipFill>
        <p:spPr>
          <a:xfrm>
            <a:off x="7093080" y="4941720"/>
            <a:ext cx="761760" cy="381240"/>
          </a:xfrm>
          <a:prstGeom prst="rect">
            <a:avLst/>
          </a:prstGeom>
          <a:ln w="0">
            <a:noFill/>
          </a:ln>
        </p:spPr>
      </p:pic>
      <p:sp>
        <p:nvSpPr>
          <p:cNvPr id="57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DEF7-40AE-45AA-AFC0-9A10A5379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Line 2"/>
          <p:cNvSpPr/>
          <p:nvPr/>
        </p:nvSpPr>
        <p:spPr>
          <a:xfrm>
            <a:off x="468360" y="170028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"/>
          <p:cNvSpPr/>
          <p:nvPr/>
        </p:nvSpPr>
        <p:spPr>
          <a:xfrm>
            <a:off x="466560" y="1125360"/>
            <a:ext cx="813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468360" y="83664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7812000" y="83664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7849440" y="112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784944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4286520" y="765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0" descr="蝴蝶鸡J"/>
          <p:cNvPicPr/>
          <p:nvPr/>
        </p:nvPicPr>
        <p:blipFill>
          <a:blip r:embed="rId1"/>
          <a:stretch/>
        </p:blipFill>
        <p:spPr>
          <a:xfrm>
            <a:off x="1042920" y="1916280"/>
            <a:ext cx="2737080" cy="45370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1"/>
          <p:cNvSpPr/>
          <p:nvPr/>
        </p:nvSpPr>
        <p:spPr>
          <a:xfrm>
            <a:off x="3708360" y="38606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小鸡小鸡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j   j   j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586A-309E-409B-A525-03BEA6A00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2"/>
          <p:cNvSpPr/>
          <p:nvPr/>
        </p:nvSpPr>
        <p:spPr>
          <a:xfrm>
            <a:off x="755640" y="76500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755640" y="134136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755640" y="162864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气球1"/>
          <p:cNvPicPr/>
          <p:nvPr/>
        </p:nvPicPr>
        <p:blipFill>
          <a:blip r:embed="rId1"/>
          <a:stretch/>
        </p:blipFill>
        <p:spPr>
          <a:xfrm>
            <a:off x="1187280" y="2492280"/>
            <a:ext cx="2700360" cy="331164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3924360" y="76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7849440" y="765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7849440" y="10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7849440" y="1341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1"/>
          <p:cNvSpPr/>
          <p:nvPr/>
        </p:nvSpPr>
        <p:spPr>
          <a:xfrm>
            <a:off x="4140360" y="40053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气球气球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  q 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114F-B6C4-43B7-BCEC-4C4E41673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2"/>
          <p:cNvSpPr/>
          <p:nvPr/>
        </p:nvSpPr>
        <p:spPr>
          <a:xfrm>
            <a:off x="684360" y="69228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684360" y="98100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684360" y="126828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684360" y="155736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7777800" y="692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777800" y="981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7777800" y="1268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切西瓜"/>
          <p:cNvPicPr/>
          <p:nvPr/>
        </p:nvPicPr>
        <p:blipFill>
          <a:blip r:embed="rId1"/>
          <a:stretch/>
        </p:blipFill>
        <p:spPr>
          <a:xfrm>
            <a:off x="539640" y="2637000"/>
            <a:ext cx="3527640" cy="302400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10"/>
          <p:cNvSpPr/>
          <p:nvPr/>
        </p:nvSpPr>
        <p:spPr>
          <a:xfrm>
            <a:off x="4141800" y="6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3708360" y="321300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西瓜西瓜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x   x  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0F0D-E64D-48EE-8237-E595DA1A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4145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3" descr="C:\My Documents\图片\书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2286000" y="2743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声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4859280" y="1268280"/>
            <a:ext cx="2089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</a:t>
            </a: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q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</a:t>
            </a: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6" descr="200710117919367"/>
          <p:cNvPicPr/>
          <p:nvPr/>
        </p:nvPicPr>
        <p:blipFill>
          <a:blip r:embed="rId2"/>
          <a:stretch/>
        </p:blipFill>
        <p:spPr>
          <a:xfrm>
            <a:off x="971640" y="404640"/>
            <a:ext cx="2276280" cy="2664000"/>
          </a:xfrm>
          <a:prstGeom prst="rect">
            <a:avLst/>
          </a:prstGeom>
          <a:ln w="0">
            <a:noFill/>
          </a:ln>
        </p:spPr>
      </p:pic>
      <p:sp>
        <p:nvSpPr>
          <p:cNvPr id="616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647D-2AD4-4FB7-B3E6-3B812EF35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d87e8b8b451ef3699f2fb4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78520" y="2637000"/>
            <a:ext cx="363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2050920" y="2997360"/>
            <a:ext cx="108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349080" y="263700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4649400" y="263700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5614560" y="256536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6665760" y="256536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7630920" y="263700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726840" y="400536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——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3"/>
          <p:cNvSpPr/>
          <p:nvPr/>
        </p:nvSpPr>
        <p:spPr>
          <a:xfrm>
            <a:off x="2124000" y="4365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4"/>
          <p:cNvSpPr/>
          <p:nvPr/>
        </p:nvSpPr>
        <p:spPr>
          <a:xfrm>
            <a:off x="3420720" y="400536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4775040" y="400536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572436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6659640" y="3933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766764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19"/>
          <p:cNvGrpSpPr/>
          <p:nvPr/>
        </p:nvGrpSpPr>
        <p:grpSpPr>
          <a:xfrm>
            <a:off x="468360" y="5229360"/>
            <a:ext cx="4751280" cy="764280"/>
            <a:chOff x="468360" y="5229360"/>
            <a:chExt cx="4751280" cy="764280"/>
          </a:xfrm>
        </p:grpSpPr>
        <p:sp>
          <p:nvSpPr>
            <p:cNvPr id="636" name="Text Box 20"/>
            <p:cNvSpPr/>
            <p:nvPr/>
          </p:nvSpPr>
          <p:spPr>
            <a:xfrm>
              <a:off x="468360" y="5229360"/>
              <a:ext cx="475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n-US" sz="4400" spc="-1" strike="noStrike">
                  <a:solidFill>
                    <a:srgbClr val="0000ff"/>
                  </a:solidFill>
                  <a:latin typeface="Arial"/>
                </a:rPr>
                <a:t>——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i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2268720" y="5662800"/>
              <a:ext cx="11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22"/>
          <p:cNvSpPr/>
          <p:nvPr/>
        </p:nvSpPr>
        <p:spPr>
          <a:xfrm>
            <a:off x="4859280" y="522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Impact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6732720" y="5157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766764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3564000" y="522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6"/>
          <p:cNvSpPr/>
          <p:nvPr/>
        </p:nvSpPr>
        <p:spPr>
          <a:xfrm>
            <a:off x="5867280" y="5229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2793600" y="620640"/>
            <a:ext cx="18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  <a:ea typeface="Arial"/>
              </a:rPr>
              <a:t>▲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读音节要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声母要读得短些轻一些，韵母要读得大声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灯片编号占位符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D77E-CCB4-4A21-A0EB-0D7FD30C9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950000" cy="37130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3"/>
          <p:cNvSpPr/>
          <p:nvPr/>
        </p:nvSpPr>
        <p:spPr>
          <a:xfrm>
            <a:off x="1600200" y="4724280"/>
            <a:ext cx="441972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b0dc"/>
              </a:gs>
            </a:gsLst>
            <a:lin ang="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j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4343400" y="4648320"/>
            <a:ext cx="15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D8A4-D339-460C-85D9-2C9604DB6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11"/>
          <p:cNvSpPr/>
          <p:nvPr/>
        </p:nvSpPr>
        <p:spPr>
          <a:xfrm>
            <a:off x="2286000" y="914400"/>
            <a:ext cx="302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n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2916360" y="206064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3"/>
          <p:cNvSpPr/>
          <p:nvPr/>
        </p:nvSpPr>
        <p:spPr>
          <a:xfrm flipV="1">
            <a:off x="3060720" y="357156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4067280" y="249228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5940360" y="836640"/>
            <a:ext cx="2808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6"/>
          <p:cNvSpPr/>
          <p:nvPr/>
        </p:nvSpPr>
        <p:spPr>
          <a:xfrm flipV="1">
            <a:off x="4788000" y="206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4788000" y="3571920"/>
            <a:ext cx="1152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5181480" y="57150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4648320" y="472428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音轻短后音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音相连猛一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E4F-A184-4191-83B3-C1A8BB32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3505320" y="4724280"/>
            <a:ext cx="3429000" cy="12193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dc2cb0"/>
              </a:gs>
            </a:gsLst>
            <a:lin ang="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5105520" y="457200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q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3505320" y="4572000"/>
            <a:ext cx="22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9CBE-FFD8-4885-B913-98325F5CC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"/>
          <p:cNvSpPr/>
          <p:nvPr/>
        </p:nvSpPr>
        <p:spPr>
          <a:xfrm>
            <a:off x="3124080" y="4724280"/>
            <a:ext cx="3962520" cy="1219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2c24e"/>
              </a:gs>
            </a:gsLst>
            <a:lin ang="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4876920" y="4495680"/>
            <a:ext cx="1538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429000" y="4495680"/>
            <a:ext cx="212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华文细黑"/>
                <a:ea typeface="华文细黑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AC6D-D95B-4A2E-9EF7-0B116A4F9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183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j  q  x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真淘气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从不和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在一起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它们和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来相拼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见了帽子就摘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45E3-21F4-44D0-9C8D-CA76A3AC2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3000600" y="-153360"/>
            <a:ext cx="6238800" cy="2629440"/>
            <a:chOff x="3000600" y="-153360"/>
            <a:chExt cx="6238800" cy="2629440"/>
          </a:xfrm>
        </p:grpSpPr>
        <p:sp>
          <p:nvSpPr>
            <p:cNvPr id="666" name="AutoShape 3"/>
            <p:cNvSpPr/>
            <p:nvPr/>
          </p:nvSpPr>
          <p:spPr>
            <a:xfrm rot="568800">
              <a:off x="3095640" y="333360"/>
              <a:ext cx="6048360" cy="1656000"/>
            </a:xfrm>
            <a:prstGeom prst="cloudCallout">
              <a:avLst>
                <a:gd name="adj1" fmla="val -8032"/>
                <a:gd name="adj2" fmla="val 9285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4"/>
            <p:cNvSpPr/>
            <p:nvPr/>
          </p:nvSpPr>
          <p:spPr>
            <a:xfrm rot="934800">
              <a:off x="4669200" y="701280"/>
              <a:ext cx="352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方正舒体"/>
                </a:rPr>
                <a:t>比一比，看谁最聪明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5"/>
          <p:cNvSpPr/>
          <p:nvPr/>
        </p:nvSpPr>
        <p:spPr>
          <a:xfrm>
            <a:off x="324000" y="198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468360" y="270972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左下半圆（           ），左上半圆（              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右下半圆（              ），右上半圆（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2268360" y="2637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  d 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6372360" y="256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  q 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2268360" y="321300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 b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6732720" y="3213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  p 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395280" y="39337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判断对与错（对的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“√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错的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X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611280" y="4581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新宋体-18030"/>
              </a:rPr>
              <a:t>q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2197080" y="45813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j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3706920" y="4653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新宋体-18030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新宋体-18030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-18030"/>
              </a:rPr>
              <a:t>/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-18030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5"/>
          <p:cNvSpPr/>
          <p:nvPr/>
        </p:nvSpPr>
        <p:spPr>
          <a:xfrm>
            <a:off x="6299280" y="4653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新宋体-18030"/>
              </a:rPr>
              <a:t>q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新宋体-18030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新宋体-18030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-18030"/>
              </a:rPr>
              <a:t>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-18030"/>
              </a:rPr>
              <a:t>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16"/>
          <p:cNvGrpSpPr/>
          <p:nvPr/>
        </p:nvGrpSpPr>
        <p:grpSpPr>
          <a:xfrm>
            <a:off x="324000" y="4653000"/>
            <a:ext cx="8496000" cy="1939680"/>
            <a:chOff x="324000" y="4653000"/>
            <a:chExt cx="8496000" cy="1939680"/>
          </a:xfrm>
        </p:grpSpPr>
        <p:grpSp>
          <p:nvGrpSpPr>
            <p:cNvPr id="680" name="Group 17"/>
            <p:cNvGrpSpPr/>
            <p:nvPr/>
          </p:nvGrpSpPr>
          <p:grpSpPr>
            <a:xfrm>
              <a:off x="324000" y="4653000"/>
              <a:ext cx="8496000" cy="1081080"/>
              <a:chOff x="324000" y="4653000"/>
              <a:chExt cx="8496000" cy="1081080"/>
            </a:xfrm>
          </p:grpSpPr>
          <p:grpSp>
            <p:nvGrpSpPr>
              <p:cNvPr id="681" name="Group 18"/>
              <p:cNvGrpSpPr/>
              <p:nvPr/>
            </p:nvGrpSpPr>
            <p:grpSpPr>
              <a:xfrm>
                <a:off x="324000" y="4653000"/>
                <a:ext cx="8459640" cy="1079280"/>
                <a:chOff x="324000" y="4653000"/>
                <a:chExt cx="8459640" cy="1079280"/>
              </a:xfrm>
            </p:grpSpPr>
            <p:sp>
              <p:nvSpPr>
                <p:cNvPr id="682" name="Line 19"/>
                <p:cNvSpPr/>
                <p:nvPr/>
              </p:nvSpPr>
              <p:spPr>
                <a:xfrm>
                  <a:off x="324000" y="465300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20"/>
                <p:cNvSpPr/>
                <p:nvPr/>
              </p:nvSpPr>
              <p:spPr>
                <a:xfrm>
                  <a:off x="324000" y="501336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21"/>
                <p:cNvSpPr/>
                <p:nvPr/>
              </p:nvSpPr>
              <p:spPr>
                <a:xfrm>
                  <a:off x="324000" y="537192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22"/>
                <p:cNvSpPr/>
                <p:nvPr/>
              </p:nvSpPr>
              <p:spPr>
                <a:xfrm>
                  <a:off x="324000" y="573228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Line 23"/>
              <p:cNvSpPr/>
              <p:nvPr/>
            </p:nvSpPr>
            <p:spPr>
              <a:xfrm>
                <a:off x="324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183528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3348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608472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>
                <a:off x="8820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Text Box 28"/>
            <p:cNvSpPr/>
            <p:nvPr/>
          </p:nvSpPr>
          <p:spPr>
            <a:xfrm>
              <a:off x="46836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"/>
            <p:cNvSpPr/>
            <p:nvPr/>
          </p:nvSpPr>
          <p:spPr>
            <a:xfrm>
              <a:off x="205272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30"/>
            <p:cNvSpPr/>
            <p:nvPr/>
          </p:nvSpPr>
          <p:spPr>
            <a:xfrm>
              <a:off x="421164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31"/>
            <p:cNvSpPr/>
            <p:nvPr/>
          </p:nvSpPr>
          <p:spPr>
            <a:xfrm>
              <a:off x="687708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32"/>
          <p:cNvSpPr/>
          <p:nvPr/>
        </p:nvSpPr>
        <p:spPr>
          <a:xfrm>
            <a:off x="612720" y="5877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2195640" y="5877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573440" y="57546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7021440" y="590724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灯片编号占位符 3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6BC-65EF-4549-9998-C436FF58B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4"/>
          <p:cNvGrpSpPr/>
          <p:nvPr/>
        </p:nvGrpSpPr>
        <p:grpSpPr>
          <a:xfrm>
            <a:off x="2057400" y="914400"/>
            <a:ext cx="6912000" cy="4673520"/>
            <a:chOff x="2057400" y="914400"/>
            <a:chExt cx="6912000" cy="4673520"/>
          </a:xfrm>
        </p:grpSpPr>
        <p:grpSp>
          <p:nvGrpSpPr>
            <p:cNvPr id="470" name="Group 13"/>
            <p:cNvGrpSpPr/>
            <p:nvPr/>
          </p:nvGrpSpPr>
          <p:grpSpPr>
            <a:xfrm>
              <a:off x="2057400" y="914400"/>
              <a:ext cx="6912000" cy="4673520"/>
              <a:chOff x="2057400" y="914400"/>
              <a:chExt cx="6912000" cy="4673520"/>
            </a:xfrm>
          </p:grpSpPr>
          <p:sp>
            <p:nvSpPr>
              <p:cNvPr id="471" name="Text Box 11"/>
              <p:cNvSpPr/>
              <p:nvPr/>
            </p:nvSpPr>
            <p:spPr>
              <a:xfrm>
                <a:off x="2057400" y="1058760"/>
                <a:ext cx="3024360" cy="45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j  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12"/>
              <p:cNvSpPr/>
              <p:nvPr/>
            </p:nvSpPr>
            <p:spPr>
              <a:xfrm>
                <a:off x="2849760" y="2067120"/>
                <a:ext cx="1152360" cy="8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3"/>
              <p:cNvSpPr/>
              <p:nvPr/>
            </p:nvSpPr>
            <p:spPr>
              <a:xfrm>
                <a:off x="2921040" y="329112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4"/>
              <p:cNvSpPr/>
              <p:nvPr/>
            </p:nvSpPr>
            <p:spPr>
              <a:xfrm flipV="1">
                <a:off x="2994120" y="3578040"/>
                <a:ext cx="108108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5"/>
              <p:cNvSpPr/>
              <p:nvPr/>
            </p:nvSpPr>
            <p:spPr>
              <a:xfrm>
                <a:off x="4073760" y="2570400"/>
                <a:ext cx="1081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66"/>
                    </a:solidFill>
                    <a:latin typeface="Arial"/>
                  </a:rPr>
                  <a:t>ü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16"/>
              <p:cNvSpPr/>
              <p:nvPr/>
            </p:nvSpPr>
            <p:spPr>
              <a:xfrm>
                <a:off x="6161040" y="914400"/>
                <a:ext cx="2808360" cy="45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j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17"/>
              <p:cNvSpPr/>
              <p:nvPr/>
            </p:nvSpPr>
            <p:spPr>
              <a:xfrm flipV="1">
                <a:off x="4721400" y="2066760"/>
                <a:ext cx="115236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8"/>
              <p:cNvSpPr/>
              <p:nvPr/>
            </p:nvSpPr>
            <p:spPr>
              <a:xfrm>
                <a:off x="4721400" y="32911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19"/>
            <p:cNvSpPr/>
            <p:nvPr/>
          </p:nvSpPr>
          <p:spPr>
            <a:xfrm>
              <a:off x="4789440" y="363564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1078-E56B-4394-B736-8EE1BB49A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4" descr="008"/>
          <p:cNvPicPr/>
          <p:nvPr/>
        </p:nvPicPr>
        <p:blipFill>
          <a:blip r:embed="rId1"/>
          <a:stretch/>
        </p:blipFill>
        <p:spPr>
          <a:xfrm>
            <a:off x="9360" y="-34920"/>
            <a:ext cx="9112320" cy="6850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pic_227642"/>
          <p:cNvPicPr/>
          <p:nvPr/>
        </p:nvPicPr>
        <p:blipFill>
          <a:blip r:embed="rId2"/>
          <a:stretch/>
        </p:blipFill>
        <p:spPr>
          <a:xfrm>
            <a:off x="1066680" y="533520"/>
            <a:ext cx="6477120" cy="441936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6"/>
          <p:cNvSpPr/>
          <p:nvPr/>
        </p:nvSpPr>
        <p:spPr>
          <a:xfrm>
            <a:off x="3798720" y="4114800"/>
            <a:ext cx="479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见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脱帽敬个礼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552-A186-4B58-A6D8-D4A6AAB5D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2151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Object 2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949640" cy="37134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3"/>
          <p:cNvSpPr/>
          <p:nvPr/>
        </p:nvSpPr>
        <p:spPr>
          <a:xfrm>
            <a:off x="755640" y="4437000"/>
            <a:ext cx="770400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b0dc"/>
              </a:gs>
            </a:gsLst>
            <a:lin ang="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jū    jú   jǔ    j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3F51-EC2C-4084-9261-A40651709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Object 2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468360" y="4365720"/>
            <a:ext cx="8280360" cy="121896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dc2cb0"/>
              </a:gs>
            </a:gsLst>
            <a:lin ang="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qū    qú   qǔ    q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105520" y="4572000"/>
            <a:ext cx="16905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4029-06A0-4EC3-B54A-7AAFF972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Object 2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533520" y="4114800"/>
            <a:ext cx="8135640" cy="1219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2c24e"/>
              </a:gs>
            </a:gsLst>
            <a:lin ang="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xū    xú   xǔ    x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684360" y="4495680"/>
            <a:ext cx="4865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B662-77A0-44F9-B311-2926F221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308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果树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3"/>
          <p:cNvGrpSpPr/>
          <p:nvPr/>
        </p:nvGrpSpPr>
        <p:grpSpPr>
          <a:xfrm>
            <a:off x="2895480" y="304920"/>
            <a:ext cx="1425240" cy="1224000"/>
            <a:chOff x="2895480" y="304920"/>
            <a:chExt cx="1425240" cy="1224000"/>
          </a:xfrm>
        </p:grpSpPr>
        <p:pic>
          <p:nvPicPr>
            <p:cNvPr id="505" name="Picture 4" descr="苹果1"/>
            <p:cNvPicPr/>
            <p:nvPr/>
          </p:nvPicPr>
          <p:blipFill>
            <a:blip r:embed="rId2"/>
            <a:stretch/>
          </p:blipFill>
          <p:spPr>
            <a:xfrm>
              <a:off x="2895480" y="30492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5"/>
            <p:cNvSpPr/>
            <p:nvPr/>
          </p:nvSpPr>
          <p:spPr>
            <a:xfrm>
              <a:off x="3170160" y="52056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6"/>
          <p:cNvGrpSpPr/>
          <p:nvPr/>
        </p:nvGrpSpPr>
        <p:grpSpPr>
          <a:xfrm>
            <a:off x="7162920" y="1295280"/>
            <a:ext cx="1368000" cy="1224000"/>
            <a:chOff x="7162920" y="1295280"/>
            <a:chExt cx="1368000" cy="1224000"/>
          </a:xfrm>
        </p:grpSpPr>
        <p:pic>
          <p:nvPicPr>
            <p:cNvPr id="508" name="Picture 7" descr="苹果1"/>
            <p:cNvPicPr/>
            <p:nvPr/>
          </p:nvPicPr>
          <p:blipFill>
            <a:blip r:embed="rId3"/>
            <a:stretch/>
          </p:blipFill>
          <p:spPr>
            <a:xfrm>
              <a:off x="7162920" y="1295280"/>
              <a:ext cx="1368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8"/>
            <p:cNvSpPr/>
            <p:nvPr/>
          </p:nvSpPr>
          <p:spPr>
            <a:xfrm>
              <a:off x="7162920" y="1439640"/>
              <a:ext cx="131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n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9"/>
          <p:cNvGrpSpPr/>
          <p:nvPr/>
        </p:nvGrpSpPr>
        <p:grpSpPr>
          <a:xfrm>
            <a:off x="914400" y="0"/>
            <a:ext cx="1599840" cy="1676160"/>
            <a:chOff x="914400" y="0"/>
            <a:chExt cx="1599840" cy="1676160"/>
          </a:xfrm>
        </p:grpSpPr>
        <p:pic>
          <p:nvPicPr>
            <p:cNvPr id="511" name="Picture 10" descr="苹果1"/>
            <p:cNvPicPr/>
            <p:nvPr/>
          </p:nvPicPr>
          <p:blipFill>
            <a:blip r:embed="rId4"/>
            <a:stretch/>
          </p:blipFill>
          <p:spPr>
            <a:xfrm>
              <a:off x="914400" y="0"/>
              <a:ext cx="1599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11"/>
            <p:cNvSpPr/>
            <p:nvPr/>
          </p:nvSpPr>
          <p:spPr>
            <a:xfrm>
              <a:off x="1222560" y="295200"/>
              <a:ext cx="123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2"/>
          <p:cNvGrpSpPr/>
          <p:nvPr/>
        </p:nvGrpSpPr>
        <p:grpSpPr>
          <a:xfrm>
            <a:off x="3809880" y="1981080"/>
            <a:ext cx="1642680" cy="1503000"/>
            <a:chOff x="3809880" y="1981080"/>
            <a:chExt cx="1642680" cy="1503000"/>
          </a:xfrm>
        </p:grpSpPr>
        <p:pic>
          <p:nvPicPr>
            <p:cNvPr id="514" name="Picture 13" descr="苹果1"/>
            <p:cNvPicPr/>
            <p:nvPr/>
          </p:nvPicPr>
          <p:blipFill>
            <a:blip r:embed="rId5"/>
            <a:stretch/>
          </p:blipFill>
          <p:spPr>
            <a:xfrm>
              <a:off x="3809880" y="1981080"/>
              <a:ext cx="1642680" cy="15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14"/>
            <p:cNvSpPr/>
            <p:nvPr/>
          </p:nvSpPr>
          <p:spPr>
            <a:xfrm>
              <a:off x="4126320" y="224568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5"/>
          <p:cNvGrpSpPr/>
          <p:nvPr/>
        </p:nvGrpSpPr>
        <p:grpSpPr>
          <a:xfrm>
            <a:off x="4267080" y="152280"/>
            <a:ext cx="1591920" cy="1224000"/>
            <a:chOff x="4267080" y="152280"/>
            <a:chExt cx="1591920" cy="1224000"/>
          </a:xfrm>
        </p:grpSpPr>
        <p:pic>
          <p:nvPicPr>
            <p:cNvPr id="517" name="Picture 16" descr="苹果1"/>
            <p:cNvPicPr/>
            <p:nvPr/>
          </p:nvPicPr>
          <p:blipFill>
            <a:blip r:embed="rId6"/>
            <a:stretch/>
          </p:blipFill>
          <p:spPr>
            <a:xfrm>
              <a:off x="4267080" y="152280"/>
              <a:ext cx="1591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17"/>
            <p:cNvSpPr/>
            <p:nvPr/>
          </p:nvSpPr>
          <p:spPr>
            <a:xfrm>
              <a:off x="4573800" y="367920"/>
              <a:ext cx="12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1"/>
          <p:cNvGrpSpPr/>
          <p:nvPr/>
        </p:nvGrpSpPr>
        <p:grpSpPr>
          <a:xfrm>
            <a:off x="6400800" y="0"/>
            <a:ext cx="1439640" cy="1224000"/>
            <a:chOff x="6400800" y="0"/>
            <a:chExt cx="1439640" cy="1224000"/>
          </a:xfrm>
        </p:grpSpPr>
        <p:pic>
          <p:nvPicPr>
            <p:cNvPr id="520" name="Picture 22" descr="苹果1"/>
            <p:cNvPicPr/>
            <p:nvPr/>
          </p:nvPicPr>
          <p:blipFill>
            <a:blip r:embed="rId7"/>
            <a:stretch/>
          </p:blipFill>
          <p:spPr>
            <a:xfrm>
              <a:off x="6400800" y="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23"/>
            <p:cNvSpPr/>
            <p:nvPr/>
          </p:nvSpPr>
          <p:spPr>
            <a:xfrm>
              <a:off x="6678000" y="215640"/>
              <a:ext cx="11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4"/>
          <p:cNvGrpSpPr/>
          <p:nvPr/>
        </p:nvGrpSpPr>
        <p:grpSpPr>
          <a:xfrm>
            <a:off x="762120" y="2362320"/>
            <a:ext cx="1447200" cy="1224000"/>
            <a:chOff x="762120" y="2362320"/>
            <a:chExt cx="1447200" cy="1224000"/>
          </a:xfrm>
        </p:grpSpPr>
        <p:pic>
          <p:nvPicPr>
            <p:cNvPr id="523" name="Picture 25" descr="苹果1"/>
            <p:cNvPicPr/>
            <p:nvPr/>
          </p:nvPicPr>
          <p:blipFill>
            <a:blip r:embed="rId8"/>
            <a:stretch/>
          </p:blipFill>
          <p:spPr>
            <a:xfrm>
              <a:off x="762120" y="236232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26"/>
            <p:cNvSpPr/>
            <p:nvPr/>
          </p:nvSpPr>
          <p:spPr>
            <a:xfrm>
              <a:off x="1040760" y="2577960"/>
              <a:ext cx="111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q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30"/>
          <p:cNvGrpSpPr/>
          <p:nvPr/>
        </p:nvGrpSpPr>
        <p:grpSpPr>
          <a:xfrm>
            <a:off x="5334120" y="1600200"/>
            <a:ext cx="1642680" cy="1503000"/>
            <a:chOff x="5334120" y="1600200"/>
            <a:chExt cx="1642680" cy="1503000"/>
          </a:xfrm>
        </p:grpSpPr>
        <p:pic>
          <p:nvPicPr>
            <p:cNvPr id="526" name="Picture 31" descr="苹果1"/>
            <p:cNvPicPr/>
            <p:nvPr/>
          </p:nvPicPr>
          <p:blipFill>
            <a:blip r:embed="rId9"/>
            <a:stretch/>
          </p:blipFill>
          <p:spPr>
            <a:xfrm>
              <a:off x="5334120" y="1600200"/>
              <a:ext cx="1642680" cy="15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32"/>
            <p:cNvSpPr/>
            <p:nvPr/>
          </p:nvSpPr>
          <p:spPr>
            <a:xfrm>
              <a:off x="5650560" y="186480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36"/>
          <p:cNvGrpSpPr/>
          <p:nvPr/>
        </p:nvGrpSpPr>
        <p:grpSpPr>
          <a:xfrm>
            <a:off x="2286000" y="1752480"/>
            <a:ext cx="1447560" cy="1224000"/>
            <a:chOff x="2286000" y="1752480"/>
            <a:chExt cx="1447560" cy="1224000"/>
          </a:xfrm>
        </p:grpSpPr>
        <p:pic>
          <p:nvPicPr>
            <p:cNvPr id="529" name="Picture 37" descr="苹果1"/>
            <p:cNvPicPr/>
            <p:nvPr/>
          </p:nvPicPr>
          <p:blipFill>
            <a:blip r:embed="rId10"/>
            <a:stretch/>
          </p:blipFill>
          <p:spPr>
            <a:xfrm>
              <a:off x="2286000" y="175248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38"/>
            <p:cNvSpPr/>
            <p:nvPr/>
          </p:nvSpPr>
          <p:spPr>
            <a:xfrm>
              <a:off x="2565000" y="1968120"/>
              <a:ext cx="11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灯片编号占位符 3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1197-001C-4AF9-B4C0-E7FCDB908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页脚占位符 3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(WBFYT`{8D[LWK1}16HD4DD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F561-1F1E-4A3F-8B9D-B4EB01D7A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4:05:56Z</dcterms:created>
  <dc:creator/>
  <dc:description/>
  <cp:keywords/>
  <dc:language>en-US</dc:language>
  <cp:lastModifiedBy>User</cp:lastModifiedBy>
  <dcterms:modified xsi:type="dcterms:W3CDTF">2016-10-05T12:44:1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  <property fmtid="{D5CDD505-2E9C-101B-9397-08002B2CF9AE}" pid="3" name="Version">
    <vt:r8>1</vt:r8>
  </property>
</Properties>
</file>