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F64-ED94-434A-9AC0-797F86EF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4D4E-DF98-4E72-BA0F-9392CDED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E4B08-EC12-4F7D-80A7-97F964D7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4A14-EA89-4B26-A6A9-F3DD52F9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185CC-0746-49D1-93F2-9ACCF8A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88E1C-4786-4217-B769-0DAB172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8CEC7-275C-434C-ADAD-F49B975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1142-5DE1-4795-B337-7F17A230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79199-7D1B-4D5D-8B90-8A98647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246B1-3CD1-4331-ADF6-94E8AFFA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3374E-6006-4AE2-BE87-63EB2935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F541-B8A5-4EB5-AFCD-69A92876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569-35AD-404A-B0F5-2D3202C7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1A16B-A9A1-47B4-A606-24F54818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B1E1-54F1-46AF-9FAA-D0F6EDE1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2B0B2-1422-4D2E-A83B-1330A3DE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C5297-D29B-453D-93BC-2E0B355B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FB475-A485-433A-9AB0-5D78F82D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B0FE5-0428-40FC-B5F3-B471559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57FC8-A252-4C72-B3B5-815C068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9EF2C-693C-4489-8A7F-C5B33CD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F297C-58CB-407B-800D-FDE811CB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7C927-65CD-452B-B06D-E2CC4E55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4BB-7BD8-469E-9E87-688CCCB6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43566-7C7C-49EE-850A-4D9C5D0A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7A418-34DF-47C1-BDEF-2DA438F3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8BEEB-5385-4176-BA46-223C42AA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FC40-EB69-41AC-8393-2599CA8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C9D3C-B2C2-4CD3-8671-B2AB66A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99F92-E270-4B89-BC72-942FCD3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003D2-5A27-4227-B681-CEC822D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AC85C-515F-43F3-80A8-76395326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CE5F8-3975-432F-B266-12E3617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C802-1465-4747-9AF3-23D5E4B2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30D3-E02B-41A9-8A98-8BF6D8ED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53190-139F-462B-B7F6-E8137E8F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8C107-6D40-4961-8DC8-DAFE916F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94282-1177-4356-97CF-BB71148E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88CB-282F-4B2D-BD92-FDE2BE8B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B81-A99C-4068-9FD9-B26D27D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D2C5-3006-4C5F-BA38-6020422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EB3-5603-460D-A069-E14CECAE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3868-E0C5-482D-89C0-DB9A1BB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894C-B2A3-47CB-B570-E01BD85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D7B-4A4E-4531-802D-F965A39F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2699-9766-4702-BDE4-335168D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ABAB-28CC-4ADB-8FDE-E6705F4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DA5-D32B-4C16-A5C4-656E409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3CAF-5F6A-4253-A7B8-A5D22A09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7049-8188-460D-8FFD-C64C2F19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F78E-9718-4595-B0C9-DE7CF44A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F4C9-5814-4E73-8AA5-7A92E161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A203-FC93-4F99-A58B-D59E92D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5FA8-491D-497F-9A2F-E49D001C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4448-814B-4748-A924-23F4508A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36B-7FD1-4FA2-B1B7-9B32A414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9A838-DCCE-415B-9910-A1AA518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31DD3-A977-42FC-8B58-522DA77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530BB-3D6B-46A7-A51B-73BF1620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898C-4834-4EDC-9E7A-5529815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84CA-C71A-4CC5-8634-C11B998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6635-5C29-4BF4-8832-365CB5F8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503EC-4CBA-4767-96BA-4491E4C7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5408C-A386-400A-8F92-CEBF8F7CD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9990-E34F-4EBD-859B-CDC998EE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39C8-3AD6-408A-BD26-B436E5CF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0C4-A69B-4A04-AC19-1B57B08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B2A7-397C-495D-9A6B-24D410C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A08B-49BF-4FB4-9088-EFF19755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DD0F-0780-4487-8658-D3F82B83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C0D31-5F9E-4FE4-99B6-AB3E6766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29A0F-A8D1-4654-9C2E-5363841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A39A-007B-4BB0-B607-25908A0F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8AA20-9AE3-44E4-8898-8C2C420F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A2C9D-47C6-4811-B6B5-6E330AEF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0CE7D-3B24-4D92-819A-7898EFCE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6628D-CB05-430C-8792-3E529B71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06F-0E50-4383-809F-CEF0DCD7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84D7D-CCA1-4AED-9AF2-F89DFBB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1C49-49E1-4D43-A9D9-A8533F7D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D76C-2B72-4AF8-BE4E-6FD038E5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B3EBF-2628-41CC-8413-6C2DC3FD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D4D7-C10A-4FD1-90A7-7F78DE6F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237C1-A6A9-4847-B92B-55629C5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478AC-2776-42AC-A6D9-D59A102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8ADC7-B4F4-43CB-8493-60FDA4B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647F-1B08-4C25-8C66-949138F4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BAAEB-AD2E-4C7B-949B-628650B9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3C6-9266-40D9-8BB4-2B395AB9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6A65-0E59-4B11-B16F-AF9416F7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D5826-6157-4688-A977-5F078F0E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CE8A-458F-492F-A803-25B87CC1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1671B-1EC3-4E0C-B7E3-6D8AE490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008D3-97CC-435B-A2B2-769D2995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0BF78-5EAF-4C73-B13B-4F59810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4AE8-1348-463A-B099-C69A7822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DA4A-6F2B-4634-A9FD-D68D79E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4227E-2B11-4B80-AC75-53C7CD0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FC66B-3E0A-4C63-BDDC-336BDB6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462-889B-4A00-98BB-A8C9F00C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B0BA-8B37-4745-894D-E4543A5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556B4-0FCA-4F67-B0D8-BF43A1E9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72A96-12B1-4817-BEA1-EE2EB3AB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B718E-3C32-4C1D-AE91-C233BEDE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FCE03-78F7-423F-885F-811D4F61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ED86-CFED-42ED-99DF-E77B3CB1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E952C-9C00-4005-998D-825ECAF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1285D-F3B1-4389-A69F-C34B95B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AE70-6A3A-4132-B370-0C215D7F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9EE49-7244-4D4C-BF52-802BFBC5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D347-A398-4BD2-821D-59B30DB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C8171-2773-4309-B403-4881D2E4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5CC83-6EBF-4EAB-8DBD-FB52A7BD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CB916-3763-473B-9F1A-A64D2088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54400-73F7-43BC-A88E-9089D562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0D06-3DFC-4B7E-A4F4-3D857005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FD19D-3626-4995-979F-2FC9A885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71233-5562-448C-9522-9AA45C60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C612B-A8F9-4429-AC8C-7D7CB2EE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68E90-A179-4357-A847-9A7883A6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D2FFF-05BE-40E8-AD1B-47397111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51C-C48F-4420-8AFF-F71781A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7045-743F-4245-A243-4998CCF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0BCEB-9C86-4ED6-9D82-1499E076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9F718-B616-4821-9520-203404E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BC0B6-4EBB-4E66-BEEB-68DE232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26C4F-7179-43D0-B24E-584A3CB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03E71-88BE-4ACD-8805-CFCD1DDC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8742-7814-43F9-8ECC-C9B1B5FC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2B0F8-FCC6-4FF1-94F5-E14A150C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2F674-CF6F-4C11-B6F5-D79B034C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5DA5A-F096-40EA-8EE3-E10ED0B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A147-E402-4F77-9CA1-F874AB673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0ED6-5AD2-4C4C-842D-F9D9B5709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283-0AC5-4B33-A90C-F2A171417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A8AA-535D-4BD6-863C-57F47B8D8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A0E1-B383-4258-B8C8-4D4DBFC3B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F371-D76C-4A50-8178-A61B3FBD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0896-8A0D-4F03-8B72-A07C23DDE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7158-2F7B-42EF-95CC-33883E987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6D97-6767-493B-9BAE-CA530AFF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8F00-D552-404A-84E2-22A0FA5EF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C76A-FCEA-48C8-A446-44F761809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2"/>
          <p:cNvSpPr/>
          <p:nvPr/>
        </p:nvSpPr>
        <p:spPr>
          <a:xfrm>
            <a:off x="1344600" y="4365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5"/>
          <p:cNvSpPr txBox="1"/>
          <p:nvPr/>
        </p:nvSpPr>
        <p:spPr>
          <a:xfrm>
            <a:off x="1763640" y="1628640"/>
            <a:ext cx="5545080" cy="202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z c 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3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5F61-A0E2-488C-9B1B-10255070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wall03-1024"/>
          <p:cNvPicPr/>
          <p:nvPr/>
        </p:nvPicPr>
        <p:blipFill>
          <a:blip r:embed="rId2"/>
          <a:stretch/>
        </p:blipFill>
        <p:spPr>
          <a:xfrm>
            <a:off x="-324000" y="-819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1908000" y="2060640"/>
            <a:ext cx="8950680" cy="34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z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11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8CB3-7F0F-4637-ADC5-D57F5FC64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4"/>
          <p:cNvSpPr txBox="1"/>
          <p:nvPr/>
        </p:nvSpPr>
        <p:spPr>
          <a:xfrm>
            <a:off x="324000" y="1197000"/>
            <a:ext cx="79200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zī zí zǐ z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91F-2CD6-4107-BF50-B44F8CAA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9"/>
          <p:cNvSpPr/>
          <p:nvPr/>
        </p:nvSpPr>
        <p:spPr>
          <a:xfrm>
            <a:off x="1187280" y="4292640"/>
            <a:ext cx="727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cc"/>
                </a:solidFill>
                <a:latin typeface="幼圆"/>
                <a:ea typeface="幼圆"/>
              </a:rPr>
              <a:t>半个圆圈</a:t>
            </a:r>
            <a:r>
              <a:rPr b="1" lang="en-US" sz="6600" spc="-1" strike="noStrike">
                <a:solidFill>
                  <a:srgbClr val="0033cc"/>
                </a:solidFill>
                <a:latin typeface="zypyyb"/>
                <a:ea typeface="zypyyb"/>
              </a:rPr>
              <a:t>c c c</a:t>
            </a:r>
            <a:r>
              <a:rPr b="0" lang="en-US" sz="6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1" descr="MDL-ZXM-1081-1"/>
          <p:cNvPicPr/>
          <p:nvPr/>
        </p:nvPicPr>
        <p:blipFill>
          <a:blip r:embed="rId3"/>
          <a:srcRect l="7433" t="20491" r="10595" b="18028"/>
          <a:stretch/>
        </p:blipFill>
        <p:spPr>
          <a:xfrm>
            <a:off x="4643280" y="126828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519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5E70-391A-4019-8548-47203D9EB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cɑ  ce  cu  c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ABA4-BA80-4690-B9B8-34ABFC92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1835280" y="2133720"/>
            <a:ext cx="9597960" cy="30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c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2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DCA6-54EF-4723-BE68-7AAA44DD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WordArt 4"/>
          <p:cNvSpPr txBox="1"/>
          <p:nvPr/>
        </p:nvSpPr>
        <p:spPr>
          <a:xfrm>
            <a:off x="457200" y="2205000"/>
            <a:ext cx="82296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cī cí cǐ c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2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3E45-2824-4D27-9F4A-83D9EC91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3"/>
          <p:cNvPicPr/>
          <p:nvPr/>
        </p:nvPicPr>
        <p:blipFill>
          <a:blip r:embed="rId2"/>
          <a:stretch/>
        </p:blipFill>
        <p:spPr>
          <a:xfrm>
            <a:off x="4572000" y="476280"/>
            <a:ext cx="3651120" cy="36003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9"/>
          <p:cNvSpPr/>
          <p:nvPr/>
        </p:nvSpPr>
        <p:spPr>
          <a:xfrm>
            <a:off x="1619280" y="4292640"/>
            <a:ext cx="65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半个 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8 </a:t>
            </a:r>
            <a:r>
              <a:rPr b="1" lang="zh-CN" sz="5400" spc="-1" strike="noStrike">
                <a:solidFill>
                  <a:srgbClr val="660033"/>
                </a:solidFill>
                <a:latin typeface="幼圆"/>
                <a:ea typeface="幼圆"/>
              </a:rPr>
              <a:t>字 </a:t>
            </a:r>
            <a:r>
              <a:rPr b="1" lang="en-US" sz="5400" spc="-1" strike="noStrike">
                <a:solidFill>
                  <a:srgbClr val="660033"/>
                </a:solidFill>
                <a:latin typeface="zypyyb"/>
                <a:ea typeface="zypyyb"/>
              </a:rPr>
              <a:t>s s s</a:t>
            </a:r>
            <a:r>
              <a:rPr b="1" lang="en-US" sz="54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0" descr="2010_3_4_14_38_8_3226"/>
          <p:cNvPicPr/>
          <p:nvPr/>
        </p:nvPicPr>
        <p:blipFill>
          <a:blip r:embed="rId3"/>
          <a:stretch/>
        </p:blipFill>
        <p:spPr>
          <a:xfrm>
            <a:off x="0" y="0"/>
            <a:ext cx="3719520" cy="3719520"/>
          </a:xfrm>
          <a:prstGeom prst="rect">
            <a:avLst/>
          </a:prstGeom>
          <a:ln w="0">
            <a:noFill/>
          </a:ln>
        </p:spPr>
      </p:pic>
      <p:sp>
        <p:nvSpPr>
          <p:cNvPr id="534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26E-C79D-4F14-981C-C8C625B4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dj088"/>
          <p:cNvPicPr/>
          <p:nvPr/>
        </p:nvPicPr>
        <p:blipFill>
          <a:blip r:embed="rId2"/>
          <a:stretch/>
        </p:blipFill>
        <p:spPr>
          <a:xfrm>
            <a:off x="5724360" y="981000"/>
            <a:ext cx="1873440" cy="23050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2262686_193656038_2"/>
          <p:cNvPicPr/>
          <p:nvPr/>
        </p:nvPicPr>
        <p:blipFill>
          <a:blip r:embed="rId3"/>
          <a:stretch/>
        </p:blipFill>
        <p:spPr>
          <a:xfrm>
            <a:off x="0" y="1341360"/>
            <a:ext cx="1884240" cy="2016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200811875512522_2"/>
          <p:cNvPicPr/>
          <p:nvPr/>
        </p:nvPicPr>
        <p:blipFill>
          <a:blip r:embed="rId4">
            <a:lum contrast="18000"/>
          </a:blip>
          <a:srcRect l="47027" t="5759" r="0" b="22353"/>
          <a:stretch/>
        </p:blipFill>
        <p:spPr>
          <a:xfrm>
            <a:off x="3780000" y="1484280"/>
            <a:ext cx="1782720" cy="1873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200932125940862_2"/>
          <p:cNvPicPr/>
          <p:nvPr/>
        </p:nvPicPr>
        <p:blipFill>
          <a:blip r:embed="rId5">
            <a:lum contrast="24000"/>
          </a:blip>
          <a:srcRect l="11118" t="21538" r="12471" b="13860"/>
          <a:stretch/>
        </p:blipFill>
        <p:spPr>
          <a:xfrm>
            <a:off x="1908000" y="1557360"/>
            <a:ext cx="1872000" cy="172728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ɑ   se   su   s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3010-8DB1-4083-A9C9-B377FECD0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340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4661bc1b9f36d0e0832f18b900c375b6"/>
          <p:cNvPicPr/>
          <p:nvPr/>
        </p:nvPicPr>
        <p:blipFill>
          <a:blip r:embed="rId2"/>
          <a:srcRect l="0" t="0" r="8479" b="15055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546" name="WordArt 4"/>
          <p:cNvSpPr txBox="1"/>
          <p:nvPr/>
        </p:nvSpPr>
        <p:spPr>
          <a:xfrm>
            <a:off x="539640" y="404640"/>
            <a:ext cx="612000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si   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54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D0AA-EAB4-41CE-BD31-8B31DC979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4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MS UI Gothic"/>
              </a:rPr>
              <a:t>sī sí sǐ sì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MS UI Gothic"/>
              <a:ea typeface="MS UI Gothic"/>
            </a:endParaRPr>
          </a:p>
        </p:txBody>
      </p:sp>
      <p:sp>
        <p:nvSpPr>
          <p:cNvPr id="55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2153-726F-4E50-8CE0-04DE17B9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4" descr="2133"/>
          <p:cNvPicPr/>
          <p:nvPr/>
        </p:nvPicPr>
        <p:blipFill>
          <a:blip r:embed="rId3"/>
          <a:stretch/>
        </p:blipFill>
        <p:spPr>
          <a:xfrm>
            <a:off x="11160" y="0"/>
            <a:ext cx="9144000" cy="6915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0" descr="12S314625250-21V5"/>
          <p:cNvPicPr/>
          <p:nvPr/>
        </p:nvPicPr>
        <p:blipFill>
          <a:blip r:embed="rId4"/>
          <a:stretch/>
        </p:blipFill>
        <p:spPr>
          <a:xfrm>
            <a:off x="1908000" y="1341360"/>
            <a:ext cx="4681800" cy="468144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5"/>
          <p:cNvSpPr/>
          <p:nvPr/>
        </p:nvSpPr>
        <p:spPr>
          <a:xfrm>
            <a:off x="3274920" y="1773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f0076"/>
                </a:solidFill>
                <a:latin typeface="Arial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3564000" y="234936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3348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3564000" y="191628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333399"/>
                </a:solidFill>
                <a:latin typeface="Arial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3780000" y="1989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99"/>
                </a:solidFill>
                <a:latin typeface="Arial"/>
              </a:rPr>
              <a:t>t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3995640" y="2205000"/>
            <a:ext cx="1801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00"/>
                </a:solidFill>
                <a:latin typeface="Arial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3995640" y="2421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2"/>
          <p:cNvSpPr/>
          <p:nvPr/>
        </p:nvSpPr>
        <p:spPr>
          <a:xfrm>
            <a:off x="4211640" y="234936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66"/>
                </a:solidFill>
                <a:latin typeface="Arial"/>
              </a:rPr>
              <a:t>n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3995640" y="2060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66cc"/>
                </a:solidFill>
                <a:latin typeface="Arial"/>
              </a:rPr>
              <a:t>y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4211640" y="227664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3300"/>
                </a:solidFill>
                <a:latin typeface="Arial"/>
              </a:rPr>
              <a:t>j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4427640" y="2852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3635280" y="213372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1c1c1c"/>
                </a:solidFill>
                <a:latin typeface="Arial"/>
              </a:rPr>
              <a:t>g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4067280" y="206064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800080"/>
                </a:solidFill>
                <a:latin typeface="Arial"/>
              </a:rPr>
              <a:t>x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572000" y="2637000"/>
            <a:ext cx="2160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ff00"/>
                </a:solidFill>
                <a:latin typeface="Arial"/>
              </a:rPr>
              <a:t>k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3924360" y="2205000"/>
            <a:ext cx="21603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灯片编号占位符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D822-0563-4C4D-AE6D-1E752954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8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2" dur="1" fill="hold"/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5"/>
          <p:cNvSpPr/>
          <p:nvPr/>
        </p:nvSpPr>
        <p:spPr>
          <a:xfrm>
            <a:off x="1042920" y="90792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妞妞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4574160" y="76500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1042920" y="1844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蚕儿吐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4427640" y="1625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9"/>
          <p:cNvSpPr/>
          <p:nvPr/>
        </p:nvSpPr>
        <p:spPr>
          <a:xfrm>
            <a:off x="1042920" y="2852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半个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4430160" y="270828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1"/>
          <p:cNvSpPr/>
          <p:nvPr/>
        </p:nvSpPr>
        <p:spPr>
          <a:xfrm>
            <a:off x="1042920" y="3716280"/>
            <a:ext cx="324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一个半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"/>
          <p:cNvSpPr/>
          <p:nvPr/>
        </p:nvSpPr>
        <p:spPr>
          <a:xfrm>
            <a:off x="4503240" y="357336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CC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3"/>
          <p:cNvSpPr/>
          <p:nvPr/>
        </p:nvSpPr>
        <p:spPr>
          <a:xfrm>
            <a:off x="1116000" y="458136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像个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4"/>
          <p:cNvSpPr/>
          <p:nvPr/>
        </p:nvSpPr>
        <p:spPr>
          <a:xfrm>
            <a:off x="4574160" y="4508640"/>
            <a:ext cx="157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Arial"/>
              </a:rPr>
              <a:t>ZZ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15"/>
          <p:cNvSpPr txBox="1"/>
          <p:nvPr/>
        </p:nvSpPr>
        <p:spPr>
          <a:xfrm>
            <a:off x="2124000" y="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猜谜语</a:t>
            </a:r>
            <a:endParaRPr b="1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79C-09DF-4A91-B670-DC55C6F9E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46"/>
          <p:cNvPicPr/>
          <p:nvPr/>
        </p:nvPicPr>
        <p:blipFill>
          <a:blip r:embed="rId2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899640" y="404640"/>
            <a:ext cx="655164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小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2zzz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圆半圆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ccc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你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我拍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，半个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字就是</a:t>
            </a: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2_1"/>
          <p:cNvPicPr/>
          <p:nvPr/>
        </p:nvPicPr>
        <p:blipFill>
          <a:blip r:embed="rId3"/>
          <a:stretch/>
        </p:blipFill>
        <p:spPr>
          <a:xfrm>
            <a:off x="7667640" y="5373720"/>
            <a:ext cx="1152360" cy="1233360"/>
          </a:xfrm>
          <a:prstGeom prst="rect">
            <a:avLst/>
          </a:prstGeom>
          <a:ln w="0">
            <a:noFill/>
          </a:ln>
        </p:spPr>
      </p:pic>
      <p:sp>
        <p:nvSpPr>
          <p:cNvPr id="56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ABB-3C10-475E-B1C7-0619D396F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148360" y="1238040"/>
            <a:ext cx="251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572" name="Line 4"/>
          <p:cNvSpPr/>
          <p:nvPr/>
        </p:nvSpPr>
        <p:spPr>
          <a:xfrm>
            <a:off x="5292720" y="17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292720" y="2708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364000" y="765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5292720" y="37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795-28CB-4E42-A5F5-A71495A35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5076720" y="1600200"/>
            <a:ext cx="15112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2000"/>
          </a:bodyPr>
          <a:p>
            <a:pPr marL="75240" indent="-7524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"/>
          <p:cNvPicPr/>
          <p:nvPr/>
        </p:nvPicPr>
        <p:blipFill>
          <a:blip r:embed="rId2"/>
          <a:stretch/>
        </p:blipFill>
        <p:spPr>
          <a:xfrm>
            <a:off x="0" y="0"/>
            <a:ext cx="4071960" cy="4508640"/>
          </a:xfrm>
          <a:prstGeom prst="rect">
            <a:avLst/>
          </a:prstGeom>
          <a:ln w="0">
            <a:noFill/>
          </a:ln>
        </p:spPr>
      </p:pic>
      <p:sp>
        <p:nvSpPr>
          <p:cNvPr id="579" name="Line 5"/>
          <p:cNvSpPr/>
          <p:nvPr/>
        </p:nvSpPr>
        <p:spPr>
          <a:xfrm>
            <a:off x="4572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572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7"/>
          <p:cNvSpPr/>
          <p:nvPr/>
        </p:nvSpPr>
        <p:spPr>
          <a:xfrm>
            <a:off x="4572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4572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1114560" y="5300640"/>
            <a:ext cx="72738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798E-3C01-45FF-A2A5-BF37D1EE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72840" y="1600200"/>
            <a:ext cx="22431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-14040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3"/>
          <p:cNvPicPr/>
          <p:nvPr/>
        </p:nvPicPr>
        <p:blipFill>
          <a:blip r:embed="rId2"/>
          <a:stretch/>
        </p:blipFill>
        <p:spPr>
          <a:xfrm>
            <a:off x="5076720" y="333360"/>
            <a:ext cx="3651480" cy="3600360"/>
          </a:xfrm>
          <a:prstGeom prst="rect">
            <a:avLst/>
          </a:prstGeom>
          <a:ln w="0">
            <a:noFill/>
          </a:ln>
        </p:spPr>
      </p:pic>
      <p:sp>
        <p:nvSpPr>
          <p:cNvPr id="588" name="Line 5"/>
          <p:cNvSpPr/>
          <p:nvPr/>
        </p:nvSpPr>
        <p:spPr>
          <a:xfrm>
            <a:off x="108000" y="2492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6"/>
          <p:cNvSpPr/>
          <p:nvPr/>
        </p:nvSpPr>
        <p:spPr>
          <a:xfrm>
            <a:off x="108000" y="3500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7"/>
          <p:cNvSpPr/>
          <p:nvPr/>
        </p:nvSpPr>
        <p:spPr>
          <a:xfrm>
            <a:off x="108000" y="1484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8"/>
          <p:cNvSpPr/>
          <p:nvPr/>
        </p:nvSpPr>
        <p:spPr>
          <a:xfrm>
            <a:off x="108000" y="45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0A74-BA7B-4E38-8E10-2728ACEB3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2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WordArt 5"/>
          <p:cNvSpPr txBox="1"/>
          <p:nvPr/>
        </p:nvSpPr>
        <p:spPr>
          <a:xfrm>
            <a:off x="900000" y="981000"/>
            <a:ext cx="48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     c     s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5" name="WordArt 6"/>
          <p:cNvSpPr txBox="1"/>
          <p:nvPr/>
        </p:nvSpPr>
        <p:spPr>
          <a:xfrm>
            <a:off x="539640" y="3789360"/>
            <a:ext cx="504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i   ci   si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E6BB-DC4C-4BF7-A448-AF3212F46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WordArt 4"/>
          <p:cNvSpPr txBox="1"/>
          <p:nvPr/>
        </p:nvSpPr>
        <p:spPr>
          <a:xfrm>
            <a:off x="1403280" y="2349360"/>
            <a:ext cx="6264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cī cí cǐ c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99" name="WordArt 5"/>
          <p:cNvSpPr txBox="1"/>
          <p:nvPr/>
        </p:nvSpPr>
        <p:spPr>
          <a:xfrm>
            <a:off x="1403280" y="333360"/>
            <a:ext cx="6120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黑体"/>
              </a:rPr>
              <a:t>zī zí zǐ z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黑体"/>
              <a:ea typeface="黑体"/>
            </a:endParaRPr>
          </a:p>
        </p:txBody>
      </p:sp>
      <p:sp>
        <p:nvSpPr>
          <p:cNvPr id="600" name="WordArt 6"/>
          <p:cNvSpPr txBox="1"/>
          <p:nvPr/>
        </p:nvSpPr>
        <p:spPr>
          <a:xfrm>
            <a:off x="1332000" y="4292640"/>
            <a:ext cx="6264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黑体"/>
              </a:rPr>
              <a:t>sī sí sǐ sì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黑体"/>
              <a:ea typeface="黑体"/>
            </a:endParaRPr>
          </a:p>
        </p:txBody>
      </p:sp>
      <p:sp>
        <p:nvSpPr>
          <p:cNvPr id="601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C84F-6734-4B79-A4E8-1CEBF01E2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5" descr="IMAG1238549786024439"/>
          <p:cNvPicPr/>
          <p:nvPr/>
        </p:nvPicPr>
        <p:blipFill>
          <a:blip r:embed="rId2"/>
          <a:srcRect l="0" t="20117" r="0" b="0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 txBox="1"/>
          <p:nvPr/>
        </p:nvSpPr>
        <p:spPr>
          <a:xfrm>
            <a:off x="0" y="7646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ff0000"/>
                </a:solidFill>
                <a:latin typeface="黑体"/>
                <a:ea typeface="黑体"/>
              </a:rPr>
              <a:t>sī jī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7200" spc="-1" strike="noStrike">
                <a:solidFill>
                  <a:srgbClr val="0033cc"/>
                </a:solidFill>
                <a:latin typeface="黑体"/>
                <a:ea typeface="黑体"/>
              </a:rPr>
              <a:t>cí yǔ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en-US" sz="7200" spc="-1" strike="noStrike">
                <a:solidFill>
                  <a:srgbClr val="cc0066"/>
                </a:solidFill>
                <a:latin typeface="黑体"/>
                <a:ea typeface="黑体"/>
              </a:rPr>
              <a:t>zǐ sè  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tuō mǎ s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_1"/>
          <p:cNvPicPr/>
          <p:nvPr/>
        </p:nvPicPr>
        <p:blipFill>
          <a:blip r:embed="rId3"/>
          <a:stretch/>
        </p:blipFill>
        <p:spPr>
          <a:xfrm>
            <a:off x="8059680" y="5697360"/>
            <a:ext cx="1084320" cy="1160640"/>
          </a:xfrm>
          <a:prstGeom prst="rect">
            <a:avLst/>
          </a:prstGeom>
          <a:ln w="0">
            <a:noFill/>
          </a:ln>
        </p:spPr>
      </p:pic>
      <p:sp>
        <p:nvSpPr>
          <p:cNvPr id="60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C09C-6FB3-4CB7-8EE3-C3FDE249D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46_1286934152Z7Vg"/>
          <p:cNvPicPr/>
          <p:nvPr/>
        </p:nvPicPr>
        <p:blipFill>
          <a:blip r:embed="rId2"/>
          <a:stretch/>
        </p:blipFill>
        <p:spPr>
          <a:xfrm>
            <a:off x="6480" y="3240"/>
            <a:ext cx="9099360" cy="6823080"/>
          </a:xfrm>
          <a:prstGeom prst="rect">
            <a:avLst/>
          </a:prstGeom>
          <a:ln w="0">
            <a:noFill/>
          </a:ln>
        </p:spPr>
      </p:pic>
      <p:sp>
        <p:nvSpPr>
          <p:cNvPr id="478" name="WordArt 4"/>
          <p:cNvSpPr txBox="1"/>
          <p:nvPr/>
        </p:nvSpPr>
        <p:spPr>
          <a:xfrm>
            <a:off x="2195640" y="-17136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欢迎你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EC5B-B1E6-4564-9AB0-A17CD4144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14342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148360" y="-6075000"/>
            <a:ext cx="2519280" cy="16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5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83" name="Picture 4" descr="1"/>
          <p:cNvPicPr/>
          <p:nvPr/>
        </p:nvPicPr>
        <p:blipFill>
          <a:blip r:embed="rId2"/>
          <a:stretch/>
        </p:blipFill>
        <p:spPr>
          <a:xfrm>
            <a:off x="-252360" y="0"/>
            <a:ext cx="4745160" cy="49672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4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像个小２ </a:t>
            </a: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z z z</a:t>
            </a: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0" descr="f704bdfe50255cb9b901a0f7"/>
          <p:cNvPicPr/>
          <p:nvPr/>
        </p:nvPicPr>
        <p:blipFill>
          <a:blip r:embed="rId3"/>
          <a:stretch/>
        </p:blipFill>
        <p:spPr>
          <a:xfrm>
            <a:off x="4643280" y="0"/>
            <a:ext cx="3810240" cy="3314880"/>
          </a:xfrm>
          <a:prstGeom prst="rect">
            <a:avLst/>
          </a:prstGeom>
          <a:ln w="0">
            <a:noFill/>
          </a:ln>
        </p:spPr>
      </p:pic>
      <p:sp>
        <p:nvSpPr>
          <p:cNvPr id="48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8791-DC07-477C-9A13-1C1019384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3997440" y="1341360"/>
            <a:ext cx="167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z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4141800" y="3357720"/>
            <a:ext cx="193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1044360" y="3284640"/>
            <a:ext cx="131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1173240" y="1143000"/>
            <a:ext cx="145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A684-019D-4885-AD1D-82CE6473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16393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ā  zá   zǎ  z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C7AC-3E79-48A5-9B6B-DCA9169EB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ē  zé  zě  z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6A2-B73E-4910-829D-756A0A33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zū  zú   zǔ  z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8063-D354-4C03-9356-DF5163BED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zuō  zuó  zuǒ  z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8CD-3773-4E3D-BA0D-BFE6FBF1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5:15:40Z</dcterms:created>
  <dc:creator/>
  <dc:description/>
  <cp:keywords/>
  <dc:language>en-US</dc:language>
  <cp:lastModifiedBy>User</cp:lastModifiedBy>
  <dcterms:modified xsi:type="dcterms:W3CDTF">2016-10-05T12:47:28Z</dcterms:modified>
  <cp:revision>57</cp:revision>
  <dc:subject/>
  <dc:title>幻灯片 1</dc:title>
</cp:coreProperties>
</file>