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59D-5E3C-4845-9DB5-FA40066F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9A9-A7E9-4B02-83B7-65DB23BB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BF95C-3A7D-4BF2-9D01-916E4A19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71B4C-75CF-4B7E-8FC3-8590ED5D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AC0F5-35D0-4CFE-8F45-651A93EE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D2380-F055-4EB8-9247-863E1E35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9B2D8-602C-4482-AACD-3C7FC853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64171-FF33-4C0B-8210-6131CA70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24F0D-28CA-459A-81A5-07C8EC5A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D2EE6-216D-4851-803C-932D592A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5A68A-481F-4526-A8FB-C5D8B4F2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65A82-A71A-4098-B282-14C559D3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094-05D4-45A4-9C38-7517A6B8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CE3F8-B064-4EAC-8A00-361626C6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53423-31BF-47D4-BEE5-06B2231E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34717-950B-4CC4-849C-E5D9CEE1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FC4D9-C49F-43D8-AEB7-6F55EB01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1FFA7-95E2-4D0D-81A5-6D8BBF3A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28DB2-E9FD-4DD3-A0FE-32046A8C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A46E0-BFB5-4B7D-A2B1-33FBD4B1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29B85-335D-4EE6-8D87-98A00933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17CF5-D73D-4164-9A0C-821134F8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2FF5F-30C8-4D86-ABE4-4C62EDE1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5D8-F8DB-4EC6-9358-C185E7B4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809EE-50F2-4193-B500-8380A4E5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BD2F9-CF8B-4565-84DE-22B0FB43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6364A-967B-467A-9E8A-540A8E77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B0F5B-082F-4FE9-B6E3-70076932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E0009-6613-4FE0-849C-F1768AB8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3A148-FCB0-43F3-9765-B37204CD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0F45A-4080-4F60-8A1A-B8AEAABA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6114A-5FEE-4C95-84C5-0AD6368A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40BF8-D8CF-402C-ADBB-E86BEC81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760DD-B30E-48D7-AA07-D930357B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3AB4-5CF1-403E-80BD-EFA1A9E1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7BE1C-0CB0-42B9-A050-2B4216FF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680CA-D69A-4CF2-9AE3-CF50E601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F718C-DF05-4FB2-B9F1-A458071A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D7FB-8836-4643-90BA-C0250586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6A7F-72CB-4041-8D18-B450D6EE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6388-252E-47A9-AEB4-C2C70BA2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8B5B-52B6-4E09-AACA-6DB3941F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B6D5-B3F6-4F05-B112-9A14BD71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8716-FC17-4EF5-ADDF-1CAB0459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0003-2439-41A3-82EA-2DC9F1C2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2A78-8693-4A5B-A1A1-A1E8EA05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51CE-8728-4EC3-B4E3-323D79C7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F43F-B0FC-405D-920A-5A6EC808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4AD5-55DD-4D30-98C5-D50E9226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981E-0AC5-4DB5-80D3-BEFD8413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B07F5-3ED9-4E43-AA45-BFCA67CF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21CD6-35CA-4C6B-BAFD-A475D209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6195F-FC25-40B7-8A33-F46E80D7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71CC3-FF4C-4370-A9A4-666F5ECB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AAD6F-B510-4134-AF2B-5496FC02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B72E-C209-4198-971E-9C6D6DA1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68B6B-C337-4591-A5DB-0C04156B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BDA5B-1A24-4635-9F92-790BA3F4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D295B-BCD2-437E-B436-B73215CF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F2CDC-6E83-4BFF-960A-27F545EE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DAF8E-FA92-4012-9406-52872EE5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16C6A-207C-4436-B13F-6A733618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40377-4F3A-41F8-BC6B-A55F063D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B8B43-BC84-4399-9F8E-0016AE22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9DE81-7A9F-4E12-807F-0536D8FF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54BB3-FA7D-47EA-8396-533E053F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E21-7A10-4421-9E93-D2F8C46F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186E1-A180-4CB9-907B-7BEEB195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8F517-CCE9-4950-BB12-4A0D7DB8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2445A-63D7-4376-B39F-0E9B2E91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B33D0-0AC3-4F12-8214-573162DF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E61D1-A35F-42A6-9D3F-89311051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4A56C-F553-4283-8819-8D63A0AE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823A7-29BD-40CF-9361-487CCA99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CE5FF-5C17-4A54-BADF-3C7115DC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89B64-BD1D-4B66-AF4E-75F171A1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A8D6F-8CA4-47FD-9666-CFFF1D54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309-4B64-419C-8B4E-BE9F5E26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73974-382C-41CA-8675-3143C9C5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3628D-D116-4DAB-A984-7DB6C3CA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E6FC4-99BD-4CF0-9B2E-C287AE7E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EFEF2-1FE2-4685-B027-08B46FA1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9E817-7DBE-49E9-8FA1-14BCBDAD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1DDFB-7154-405D-B31A-D8C91BE7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B7EF3-6C74-464B-988E-C4E40AF5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7EA22-96E2-4B43-A764-ACE0FC9D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7D366-2C81-4163-8012-30BD5A9E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659A9-2E5D-4820-91D7-DFC97DDF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FCD0-4D0D-4CCC-82F6-91AEB6EB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651A9-D742-4635-92A4-6C784F83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2CA0D-D4EF-4C65-8A08-D57417F8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C53C8-19C4-458D-8343-FB4F3E58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6C917-CE9A-4AC3-9FBA-C0A36561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9C003-8E9E-4888-8B3E-4ECDF274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222CF-CAB3-4F45-9DD8-B03B4633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DB0FC-0702-4E67-A978-9EE924DF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BC118-76B5-4B27-BBBA-41944F0B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464D9-B396-43D2-B983-990FA319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1359E-45F7-40E5-B958-4918D095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2231-746B-425D-AD35-D4166C3F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F90E5-7C2E-451D-9DD6-E01AA25D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F4A14-FD80-4FF1-95FD-9763D778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614A0-89F0-43E1-A423-6A83B107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04374-E7ED-464D-845A-12EB8A5F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21F38-C1F2-4872-ABEF-E7710442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8155C-BA32-418C-970A-B015208E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09944-7736-4EEA-90D6-03710921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5C76A-7F0A-472E-9FE5-42BFAD1C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1CB11-0000-4FAB-A1B0-7FFC7C63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A3FA3-67F4-4A7B-8EEA-222D2B52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0DAB-90D6-412C-B8AC-F0921BD2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B7FEB-51D8-4B98-9E7D-376F9EA9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ABB8A-81CF-4B3D-988E-83BEABA4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B82FD-6D8F-43F1-B194-27F7B9E1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3E7E2-F139-4105-82ED-8535C192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D3DB6-20EC-478C-A3FC-5554293B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8B3A4-3BB9-491B-A888-B902CDAE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7B4DB-E52E-4573-988F-E74E2EF3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29111-1D33-4310-A5F6-EF25C1C2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D96CD-FB1E-4916-9F52-D4B6E600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B545C-6E7F-4F09-988B-D354456E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27E-B5EA-4A25-AF73-3BBCA55E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26EBB-2CA2-4ABD-8EAF-DF87A11A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CA81C-0CCC-448E-98B7-A956D3BE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D81AB-7E26-4C74-81FF-C373C72D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CE7D9-CB21-47C7-8B87-CA280F1D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42EAB-E217-462A-ACE6-959104AC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CE1B9-A52E-451C-B0C0-2165BE72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6C87E-36F9-4D32-B4F3-C8149DB9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EE5F8-07E6-477A-9EFA-0BA4C55C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F0DB6-BC5B-452B-BF2E-E4BEFEE6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90D73-B77B-4E61-B898-D645AD63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88E7-DD5A-4BDB-A2AC-F5BE332BA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1930-C1FF-4825-B899-C6E2EED11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2BE5-1AEF-48E8-948D-DE58B756A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3A6A-FBE6-4325-B7C1-275931726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F25B-2DCC-4EB7-882A-41CCC5B35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130B-CED6-410F-8F7C-38032BD33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2579-86C0-444F-A752-5FF784919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AEE9-1440-41D6-A583-7CBCCCBAC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9E01-F049-4E31-AD8C-ABB16F183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BFD9-90FE-4D5F-B083-22849B2E6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9F47-AA43-4F55-B3C0-A7122AC8E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2"/>
          <p:cNvSpPr/>
          <p:nvPr/>
        </p:nvSpPr>
        <p:spPr>
          <a:xfrm>
            <a:off x="1344600" y="436572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15"/>
          <p:cNvSpPr txBox="1"/>
          <p:nvPr/>
        </p:nvSpPr>
        <p:spPr>
          <a:xfrm>
            <a:off x="1763640" y="1628640"/>
            <a:ext cx="5545080" cy="20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z c 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3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0F1C-67B4-4CC5-91B4-AE5B8FFD5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5" descr="wall03-1024"/>
          <p:cNvPicPr/>
          <p:nvPr/>
        </p:nvPicPr>
        <p:blipFill>
          <a:blip r:embed="rId2"/>
          <a:stretch/>
        </p:blipFill>
        <p:spPr>
          <a:xfrm>
            <a:off x="-324000" y="-819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WordArt 4"/>
          <p:cNvSpPr txBox="1"/>
          <p:nvPr/>
        </p:nvSpPr>
        <p:spPr>
          <a:xfrm>
            <a:off x="1908000" y="2060640"/>
            <a:ext cx="8950680" cy="34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zi  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11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BB48-3A5A-4319-A1E0-E83EF15D0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WordArt 4"/>
          <p:cNvSpPr txBox="1"/>
          <p:nvPr/>
        </p:nvSpPr>
        <p:spPr>
          <a:xfrm>
            <a:off x="324000" y="1197000"/>
            <a:ext cx="79200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MS UI Gothic"/>
              </a:rPr>
              <a:t>zī zí zǐ zì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MS UI Gothic"/>
              <a:ea typeface="MS UI Gothic"/>
            </a:endParaRPr>
          </a:p>
        </p:txBody>
      </p:sp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2BE3-4F06-454B-893C-E1ED087D3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2"/>
          <p:cNvPicPr/>
          <p:nvPr/>
        </p:nvPicPr>
        <p:blipFill>
          <a:blip r:embed="rId2"/>
          <a:stretch/>
        </p:blipFill>
        <p:spPr>
          <a:xfrm>
            <a:off x="0" y="0"/>
            <a:ext cx="4071960" cy="45086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9"/>
          <p:cNvSpPr/>
          <p:nvPr/>
        </p:nvSpPr>
        <p:spPr>
          <a:xfrm>
            <a:off x="1187280" y="4292640"/>
            <a:ext cx="727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幼圆"/>
                <a:ea typeface="幼圆"/>
              </a:rPr>
              <a:t>半个圆圈</a:t>
            </a:r>
            <a:r>
              <a:rPr b="1" lang="en-US" sz="6600" spc="-1" strike="noStrike">
                <a:solidFill>
                  <a:srgbClr val="0033cc"/>
                </a:solidFill>
                <a:latin typeface="zypyyb"/>
                <a:ea typeface="zypyyb"/>
              </a:rPr>
              <a:t>c c c</a:t>
            </a:r>
            <a:r>
              <a:rPr b="0" lang="en-US" sz="6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1" descr="MDL-ZXM-1081-1"/>
          <p:cNvPicPr/>
          <p:nvPr/>
        </p:nvPicPr>
        <p:blipFill>
          <a:blip r:embed="rId3"/>
          <a:srcRect l="7433" t="20491" r="10595" b="18028"/>
          <a:stretch/>
        </p:blipFill>
        <p:spPr>
          <a:xfrm>
            <a:off x="4643280" y="126828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519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5BFC-29B8-4417-A5E8-AFF697697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cɑ  ce  cu  c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FE8A-89E4-428F-9C9E-73AE16C43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1835280" y="2133720"/>
            <a:ext cx="9597960" cy="30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ci  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2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9E9A-0402-4301-A8D8-35D70294E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WordArt 4"/>
          <p:cNvSpPr txBox="1"/>
          <p:nvPr/>
        </p:nvSpPr>
        <p:spPr>
          <a:xfrm>
            <a:off x="457200" y="2205000"/>
            <a:ext cx="82296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MS UI Gothic"/>
              </a:rPr>
              <a:t>cī cí cǐ cì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MS UI Gothic"/>
              <a:ea typeface="MS UI Gothic"/>
            </a:endParaRPr>
          </a:p>
        </p:txBody>
      </p:sp>
      <p:sp>
        <p:nvSpPr>
          <p:cNvPr id="52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CFDD-CC85-4D5D-8C9A-826E41DC8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3"/>
          <p:cNvPicPr/>
          <p:nvPr/>
        </p:nvPicPr>
        <p:blipFill>
          <a:blip r:embed="rId2"/>
          <a:stretch/>
        </p:blipFill>
        <p:spPr>
          <a:xfrm>
            <a:off x="4572000" y="476280"/>
            <a:ext cx="3651120" cy="360036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9"/>
          <p:cNvSpPr/>
          <p:nvPr/>
        </p:nvSpPr>
        <p:spPr>
          <a:xfrm>
            <a:off x="1619280" y="4292640"/>
            <a:ext cx="65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幼圆"/>
                <a:ea typeface="幼圆"/>
              </a:rPr>
              <a:t>半个 </a:t>
            </a:r>
            <a:r>
              <a:rPr b="1" lang="en-US" sz="5400" spc="-1" strike="noStrike">
                <a:solidFill>
                  <a:srgbClr val="660033"/>
                </a:solidFill>
                <a:latin typeface="幼圆"/>
                <a:ea typeface="幼圆"/>
              </a:rPr>
              <a:t>8 </a:t>
            </a:r>
            <a:r>
              <a:rPr b="1" lang="zh-CN" sz="5400" spc="-1" strike="noStrike">
                <a:solidFill>
                  <a:srgbClr val="660033"/>
                </a:solidFill>
                <a:latin typeface="幼圆"/>
                <a:ea typeface="幼圆"/>
              </a:rPr>
              <a:t>字 </a:t>
            </a:r>
            <a:r>
              <a:rPr b="1" lang="en-US" sz="5400" spc="-1" strike="noStrike">
                <a:solidFill>
                  <a:srgbClr val="660033"/>
                </a:solidFill>
                <a:latin typeface="zypyyb"/>
                <a:ea typeface="zypyyb"/>
              </a:rPr>
              <a:t>s s s</a:t>
            </a:r>
            <a:r>
              <a:rPr b="1" lang="en-US" sz="5400" spc="-1" strike="noStrike">
                <a:solidFill>
                  <a:srgbClr val="660033"/>
                </a:solidFill>
                <a:latin typeface="幼圆"/>
                <a:ea typeface="幼圆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0" descr="2010_3_4_14_38_8_3226"/>
          <p:cNvPicPr/>
          <p:nvPr/>
        </p:nvPicPr>
        <p:blipFill>
          <a:blip r:embed="rId3"/>
          <a:stretch/>
        </p:blipFill>
        <p:spPr>
          <a:xfrm>
            <a:off x="0" y="0"/>
            <a:ext cx="3719520" cy="3719520"/>
          </a:xfrm>
          <a:prstGeom prst="rect">
            <a:avLst/>
          </a:prstGeom>
          <a:ln w="0">
            <a:noFill/>
          </a:ln>
        </p:spPr>
      </p:pic>
      <p:sp>
        <p:nvSpPr>
          <p:cNvPr id="53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3049-DDE2-402D-A98C-565041E37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dj088"/>
          <p:cNvPicPr/>
          <p:nvPr/>
        </p:nvPicPr>
        <p:blipFill>
          <a:blip r:embed="rId2"/>
          <a:stretch/>
        </p:blipFill>
        <p:spPr>
          <a:xfrm>
            <a:off x="5724360" y="981000"/>
            <a:ext cx="1873440" cy="23050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2262686_193656038_2"/>
          <p:cNvPicPr/>
          <p:nvPr/>
        </p:nvPicPr>
        <p:blipFill>
          <a:blip r:embed="rId3"/>
          <a:stretch/>
        </p:blipFill>
        <p:spPr>
          <a:xfrm>
            <a:off x="0" y="1341360"/>
            <a:ext cx="1884240" cy="2016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200811875512522_2"/>
          <p:cNvPicPr/>
          <p:nvPr/>
        </p:nvPicPr>
        <p:blipFill>
          <a:blip r:embed="rId4">
            <a:lum contrast="18000"/>
          </a:blip>
          <a:srcRect l="47027" t="5759" r="0" b="22353"/>
          <a:stretch/>
        </p:blipFill>
        <p:spPr>
          <a:xfrm>
            <a:off x="3780000" y="1484280"/>
            <a:ext cx="1782720" cy="1873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200932125940862_2"/>
          <p:cNvPicPr/>
          <p:nvPr/>
        </p:nvPicPr>
        <p:blipFill>
          <a:blip r:embed="rId5">
            <a:lum contrast="24000"/>
          </a:blip>
          <a:srcRect l="11118" t="21538" r="12471" b="13860"/>
          <a:stretch/>
        </p:blipFill>
        <p:spPr>
          <a:xfrm>
            <a:off x="1908000" y="1557360"/>
            <a:ext cx="1872000" cy="17272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ɑ   se   su   s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1D4A-EC70-4D63-9957-3C4D0B826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340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4661bc1b9f36d0e0832f18b900c375b6"/>
          <p:cNvPicPr/>
          <p:nvPr/>
        </p:nvPicPr>
        <p:blipFill>
          <a:blip r:embed="rId2"/>
          <a:srcRect l="0" t="0" r="8479" b="15055"/>
          <a:stretch/>
        </p:blipFill>
        <p:spPr>
          <a:xfrm>
            <a:off x="0" y="-630360"/>
            <a:ext cx="9144000" cy="7488360"/>
          </a:xfrm>
          <a:prstGeom prst="rect">
            <a:avLst/>
          </a:prstGeom>
          <a:ln w="0">
            <a:noFill/>
          </a:ln>
        </p:spPr>
      </p:pic>
      <p:sp>
        <p:nvSpPr>
          <p:cNvPr id="546" name="WordArt 4"/>
          <p:cNvSpPr txBox="1"/>
          <p:nvPr/>
        </p:nvSpPr>
        <p:spPr>
          <a:xfrm>
            <a:off x="539640" y="404640"/>
            <a:ext cx="612000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si  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47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88B6-1292-49FB-8F9F-22125F39B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WordArt 4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MS UI Gothic"/>
              </a:rPr>
              <a:t>sī sí sǐ sì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MS UI Gothic"/>
              <a:ea typeface="MS UI Gothic"/>
            </a:endParaRPr>
          </a:p>
        </p:txBody>
      </p:sp>
      <p:sp>
        <p:nvSpPr>
          <p:cNvPr id="55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6BC5-E1DF-41B3-A872-DDC2AB974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2133"/>
          <p:cNvPicPr/>
          <p:nvPr/>
        </p:nvPicPr>
        <p:blipFill>
          <a:blip r:embed="rId3"/>
          <a:stretch/>
        </p:blipFill>
        <p:spPr>
          <a:xfrm>
            <a:off x="1116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0" descr="12S314625250-21V5"/>
          <p:cNvPicPr/>
          <p:nvPr/>
        </p:nvPicPr>
        <p:blipFill>
          <a:blip r:embed="rId4"/>
          <a:stretch/>
        </p:blipFill>
        <p:spPr>
          <a:xfrm>
            <a:off x="1908000" y="1341360"/>
            <a:ext cx="4681800" cy="468144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5"/>
          <p:cNvSpPr/>
          <p:nvPr/>
        </p:nvSpPr>
        <p:spPr>
          <a:xfrm>
            <a:off x="3274920" y="177336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1f0076"/>
                </a:solidFill>
                <a:latin typeface="Arial"/>
              </a:rPr>
              <a:t>b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3564000" y="234936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9999"/>
                </a:solidFill>
                <a:latin typeface="Arial"/>
              </a:rPr>
              <a:t>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3348000" y="198900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3564000" y="191628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333399"/>
                </a:solidFill>
                <a:latin typeface="Arial"/>
              </a:rPr>
              <a:t>p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3780000" y="198900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99"/>
                </a:solidFill>
                <a:latin typeface="Arial"/>
              </a:rPr>
              <a:t>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3995640" y="220500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3995640" y="242100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4211640" y="234936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66"/>
                </a:solidFill>
                <a:latin typeface="Arial"/>
              </a:rPr>
              <a:t>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3995640" y="206064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66cc"/>
                </a:solidFill>
                <a:latin typeface="Arial"/>
              </a:rPr>
              <a:t>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4211640" y="227664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3300"/>
                </a:solidFill>
                <a:latin typeface="Arial"/>
              </a:rPr>
              <a:t>j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4427640" y="2852640"/>
            <a:ext cx="216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ff00"/>
                </a:solidFill>
                <a:latin typeface="Arial"/>
              </a:rPr>
              <a:t>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3635280" y="213372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1c1c1c"/>
                </a:solidFill>
                <a:latin typeface="Arial"/>
              </a:rPr>
              <a:t>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4067280" y="2060640"/>
            <a:ext cx="216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800080"/>
                </a:solidFill>
                <a:latin typeface="Arial"/>
              </a:rPr>
              <a:t>x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4572000" y="263700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ff00"/>
                </a:solidFill>
                <a:latin typeface="Arial"/>
              </a:rPr>
              <a:t>k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3924360" y="2205000"/>
            <a:ext cx="216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灯片编号占位符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62FC-5EBF-4233-AE59-5570B61DE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4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8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0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8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5"/>
          <p:cNvSpPr/>
          <p:nvPr/>
        </p:nvSpPr>
        <p:spPr>
          <a:xfrm>
            <a:off x="1042920" y="907920"/>
            <a:ext cx="31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妞妞写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4574160" y="765000"/>
            <a:ext cx="157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Z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042920" y="18446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蚕儿吐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4427640" y="162576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s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1042920" y="28526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半个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4430160" y="2708280"/>
            <a:ext cx="170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1"/>
          <p:cNvSpPr/>
          <p:nvPr/>
        </p:nvSpPr>
        <p:spPr>
          <a:xfrm>
            <a:off x="1042920" y="3716280"/>
            <a:ext cx="32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一个半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2"/>
          <p:cNvSpPr/>
          <p:nvPr/>
        </p:nvSpPr>
        <p:spPr>
          <a:xfrm>
            <a:off x="4503240" y="3573360"/>
            <a:ext cx="183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CC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1116000" y="458136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像个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4574160" y="4508640"/>
            <a:ext cx="157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ZZ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WordArt 15"/>
          <p:cNvSpPr txBox="1"/>
          <p:nvPr/>
        </p:nvSpPr>
        <p:spPr>
          <a:xfrm>
            <a:off x="2124000" y="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猜谜语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3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E593-1C4A-44E0-B2FA-4974A79BA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46"/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899640" y="404640"/>
            <a:ext cx="6551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你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我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小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小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2zzz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你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我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半圆半圆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ccc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你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我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半个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字就是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5" descr="2_1"/>
          <p:cNvPicPr/>
          <p:nvPr/>
        </p:nvPicPr>
        <p:blipFill>
          <a:blip r:embed="rId3"/>
          <a:stretch/>
        </p:blipFill>
        <p:spPr>
          <a:xfrm>
            <a:off x="7667640" y="5373720"/>
            <a:ext cx="1152360" cy="1233360"/>
          </a:xfrm>
          <a:prstGeom prst="rect">
            <a:avLst/>
          </a:prstGeom>
          <a:ln w="0">
            <a:noFill/>
          </a:ln>
        </p:spPr>
      </p:pic>
      <p:sp>
        <p:nvSpPr>
          <p:cNvPr id="568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FBAE-9444-40DA-A868-5411F07B2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148360" y="1238040"/>
            <a:ext cx="2519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" descr="1"/>
          <p:cNvPicPr/>
          <p:nvPr/>
        </p:nvPicPr>
        <p:blipFill>
          <a:blip r:embed="rId2"/>
          <a:stretch/>
        </p:blipFill>
        <p:spPr>
          <a:xfrm>
            <a:off x="0" y="0"/>
            <a:ext cx="4745160" cy="4967280"/>
          </a:xfrm>
          <a:prstGeom prst="rect">
            <a:avLst/>
          </a:prstGeom>
          <a:ln w="0">
            <a:noFill/>
          </a:ln>
        </p:spPr>
      </p:pic>
      <p:sp>
        <p:nvSpPr>
          <p:cNvPr id="572" name="Line 4"/>
          <p:cNvSpPr/>
          <p:nvPr/>
        </p:nvSpPr>
        <p:spPr>
          <a:xfrm>
            <a:off x="5292720" y="1700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"/>
          <p:cNvSpPr/>
          <p:nvPr/>
        </p:nvSpPr>
        <p:spPr>
          <a:xfrm>
            <a:off x="5292720" y="2708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6"/>
          <p:cNvSpPr/>
          <p:nvPr/>
        </p:nvSpPr>
        <p:spPr>
          <a:xfrm>
            <a:off x="5364000" y="76500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5292720" y="3716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4A99-333B-4458-92F1-2F8A3534F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5076720" y="1600200"/>
            <a:ext cx="15112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2000"/>
          </a:bodyPr>
          <a:p>
            <a:pPr marL="75240" indent="-7524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2"/>
          <p:cNvPicPr/>
          <p:nvPr/>
        </p:nvPicPr>
        <p:blipFill>
          <a:blip r:embed="rId2"/>
          <a:stretch/>
        </p:blipFill>
        <p:spPr>
          <a:xfrm>
            <a:off x="0" y="0"/>
            <a:ext cx="4071960" cy="4508640"/>
          </a:xfrm>
          <a:prstGeom prst="rect">
            <a:avLst/>
          </a:prstGeom>
          <a:ln w="0">
            <a:noFill/>
          </a:ln>
        </p:spPr>
      </p:pic>
      <p:sp>
        <p:nvSpPr>
          <p:cNvPr id="579" name="Line 5"/>
          <p:cNvSpPr/>
          <p:nvPr/>
        </p:nvSpPr>
        <p:spPr>
          <a:xfrm>
            <a:off x="4572000" y="2492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4572000" y="3500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4572000" y="1484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4572000" y="450864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1114560" y="5300640"/>
            <a:ext cx="72738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00C9-FB75-43E6-B1F8-EE6482C04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672840" y="1600200"/>
            <a:ext cx="224316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4" descr="3"/>
          <p:cNvPicPr/>
          <p:nvPr/>
        </p:nvPicPr>
        <p:blipFill>
          <a:blip r:embed="rId2"/>
          <a:stretch/>
        </p:blipFill>
        <p:spPr>
          <a:xfrm>
            <a:off x="5076720" y="333360"/>
            <a:ext cx="3651480" cy="3600360"/>
          </a:xfrm>
          <a:prstGeom prst="rect">
            <a:avLst/>
          </a:prstGeom>
          <a:ln w="0">
            <a:noFill/>
          </a:ln>
        </p:spPr>
      </p:pic>
      <p:sp>
        <p:nvSpPr>
          <p:cNvPr id="588" name="Line 5"/>
          <p:cNvSpPr/>
          <p:nvPr/>
        </p:nvSpPr>
        <p:spPr>
          <a:xfrm>
            <a:off x="108000" y="2492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6"/>
          <p:cNvSpPr/>
          <p:nvPr/>
        </p:nvSpPr>
        <p:spPr>
          <a:xfrm>
            <a:off x="108000" y="3500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7"/>
          <p:cNvSpPr/>
          <p:nvPr/>
        </p:nvSpPr>
        <p:spPr>
          <a:xfrm>
            <a:off x="108000" y="1484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8"/>
          <p:cNvSpPr/>
          <p:nvPr/>
        </p:nvSpPr>
        <p:spPr>
          <a:xfrm>
            <a:off x="108000" y="450864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3891-EA4C-4981-9E12-4FD40090A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WordArt 5"/>
          <p:cNvSpPr txBox="1"/>
          <p:nvPr/>
        </p:nvSpPr>
        <p:spPr>
          <a:xfrm>
            <a:off x="900000" y="981000"/>
            <a:ext cx="482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z     c     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5" name="WordArt 6"/>
          <p:cNvSpPr txBox="1"/>
          <p:nvPr/>
        </p:nvSpPr>
        <p:spPr>
          <a:xfrm>
            <a:off x="539640" y="3789360"/>
            <a:ext cx="5040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zi   ci   si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423A-78E6-414C-80C7-7F19CAE58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WordArt 4"/>
          <p:cNvSpPr txBox="1"/>
          <p:nvPr/>
        </p:nvSpPr>
        <p:spPr>
          <a:xfrm>
            <a:off x="1403280" y="2349360"/>
            <a:ext cx="62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cī cí cǐ cì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99" name="WordArt 5"/>
          <p:cNvSpPr txBox="1"/>
          <p:nvPr/>
        </p:nvSpPr>
        <p:spPr>
          <a:xfrm>
            <a:off x="1403280" y="333360"/>
            <a:ext cx="6120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黑体"/>
              </a:rPr>
              <a:t>zī zí zǐ zì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黑体"/>
              <a:ea typeface="黑体"/>
            </a:endParaRPr>
          </a:p>
        </p:txBody>
      </p:sp>
      <p:sp>
        <p:nvSpPr>
          <p:cNvPr id="600" name="WordArt 6"/>
          <p:cNvSpPr txBox="1"/>
          <p:nvPr/>
        </p:nvSpPr>
        <p:spPr>
          <a:xfrm>
            <a:off x="1332000" y="4292640"/>
            <a:ext cx="62643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黑体"/>
              </a:rPr>
              <a:t>sī sí sǐ sì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黑体"/>
              <a:ea typeface="黑体"/>
            </a:endParaRPr>
          </a:p>
        </p:txBody>
      </p:sp>
      <p:sp>
        <p:nvSpPr>
          <p:cNvPr id="601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BE07-BBDE-4B6C-AAF0-D82CC27F6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5" descr="IMAG1238549786024439"/>
          <p:cNvPicPr/>
          <p:nvPr/>
        </p:nvPicPr>
        <p:blipFill>
          <a:blip r:embed="rId2"/>
          <a:srcRect l="0" t="20117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 txBox="1"/>
          <p:nvPr/>
        </p:nvSpPr>
        <p:spPr>
          <a:xfrm>
            <a:off x="0" y="76464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en-US" sz="7200" spc="-1" strike="noStrike">
                <a:solidFill>
                  <a:srgbClr val="ff0000"/>
                </a:solidFill>
                <a:latin typeface="黑体"/>
                <a:ea typeface="黑体"/>
              </a:rPr>
              <a:t>sī jī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7200" spc="-1" strike="noStrike">
                <a:solidFill>
                  <a:srgbClr val="0033cc"/>
                </a:solidFill>
                <a:latin typeface="黑体"/>
                <a:ea typeface="黑体"/>
              </a:rPr>
              <a:t>cí yǔ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66"/>
                </a:solidFill>
                <a:latin typeface="黑体"/>
                <a:ea typeface="黑体"/>
              </a:rPr>
              <a:t>  </a:t>
            </a:r>
            <a:r>
              <a:rPr b="1" lang="en-US" sz="7200" spc="-1" strike="noStrike">
                <a:solidFill>
                  <a:srgbClr val="cc0066"/>
                </a:solidFill>
                <a:latin typeface="黑体"/>
                <a:ea typeface="黑体"/>
              </a:rPr>
              <a:t>zǐ sè  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tuō mǎ s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2_1"/>
          <p:cNvPicPr/>
          <p:nvPr/>
        </p:nvPicPr>
        <p:blipFill>
          <a:blip r:embed="rId3"/>
          <a:stretch/>
        </p:blipFill>
        <p:spPr>
          <a:xfrm>
            <a:off x="8059680" y="5697360"/>
            <a:ext cx="1084320" cy="1160640"/>
          </a:xfrm>
          <a:prstGeom prst="rect">
            <a:avLst/>
          </a:prstGeom>
          <a:ln w="0">
            <a:noFill/>
          </a:ln>
        </p:spPr>
      </p:pic>
      <p:sp>
        <p:nvSpPr>
          <p:cNvPr id="60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3A5A-F253-4B83-A29D-04F00957F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5" descr="46_1286934152Z7Vg"/>
          <p:cNvPicPr/>
          <p:nvPr/>
        </p:nvPicPr>
        <p:blipFill>
          <a:blip r:embed="rId2"/>
          <a:stretch/>
        </p:blipFill>
        <p:spPr>
          <a:xfrm>
            <a:off x="6480" y="3240"/>
            <a:ext cx="9099360" cy="6823080"/>
          </a:xfrm>
          <a:prstGeom prst="rect">
            <a:avLst/>
          </a:prstGeom>
          <a:ln w="0">
            <a:noFill/>
          </a:ln>
        </p:spPr>
      </p:pic>
      <p:sp>
        <p:nvSpPr>
          <p:cNvPr id="478" name="WordArt 4"/>
          <p:cNvSpPr txBox="1"/>
          <p:nvPr/>
        </p:nvSpPr>
        <p:spPr>
          <a:xfrm>
            <a:off x="2195640" y="-171360"/>
            <a:ext cx="53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欢迎你</a:t>
            </a:r>
            <a:endParaRPr b="1" lang="en-US" sz="40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71D8-C33D-4EA0-9AEA-F96F5E131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14342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148360" y="-6075000"/>
            <a:ext cx="2519280" cy="160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5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83" name="Picture 4" descr="1"/>
          <p:cNvPicPr/>
          <p:nvPr/>
        </p:nvPicPr>
        <p:blipFill>
          <a:blip r:embed="rId2"/>
          <a:stretch/>
        </p:blipFill>
        <p:spPr>
          <a:xfrm>
            <a:off x="-252360" y="0"/>
            <a:ext cx="4745160" cy="496728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484360" y="3860280"/>
            <a:ext cx="6400800" cy="4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</a:rPr>
              <a:t>像个小２ 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z z z</a:t>
            </a: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10" descr="f704bdfe50255cb9b901a0f7"/>
          <p:cNvPicPr/>
          <p:nvPr/>
        </p:nvPicPr>
        <p:blipFill>
          <a:blip r:embed="rId3"/>
          <a:stretch/>
        </p:blipFill>
        <p:spPr>
          <a:xfrm>
            <a:off x="4643280" y="0"/>
            <a:ext cx="3810240" cy="3314880"/>
          </a:xfrm>
          <a:prstGeom prst="rect">
            <a:avLst/>
          </a:prstGeom>
          <a:ln w="0">
            <a:noFill/>
          </a:ln>
        </p:spPr>
      </p:pic>
      <p:sp>
        <p:nvSpPr>
          <p:cNvPr id="48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FCD8-4249-4464-85A0-3130CBD5F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3997440" y="1341360"/>
            <a:ext cx="167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z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4141800" y="3357720"/>
            <a:ext cx="193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zu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1044360" y="3284640"/>
            <a:ext cx="131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z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1173240" y="1143000"/>
            <a:ext cx="145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4B5F-13A9-47DD-9721-D0C62CB10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16393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684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zā  zá   zǎ  z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9B93-86DB-4EE6-BF3D-B0CEE73C9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zē  zé  zě  z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60E5-11F0-4DF7-8128-1A5C1DA4C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zū  zú   zǔ  z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98AA-B376-454A-8EF9-1CC4CB762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zuō  zuó  zuǒ  z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C9B7-5EC9-43DD-9A95-3F8E50DE7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5:15:40Z</dcterms:created>
  <dc:creator/>
  <dc:description/>
  <cp:keywords/>
  <dc:language>en-US</dc:language>
  <cp:lastModifiedBy>User</cp:lastModifiedBy>
  <dcterms:modified xsi:type="dcterms:W3CDTF">2016-10-05T12:47:28Z</dcterms:modified>
  <cp:revision>57</cp:revision>
  <dc:subject/>
  <dc:title>幻灯片 1</dc:title>
</cp:coreProperties>
</file>