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31.wmf" ContentType="image/x-wmf"/>
  <Override PartName="/ppt/media/image6.png" ContentType="image/png"/>
  <Override PartName="/ppt/media/image4.jpeg" ContentType="image/jpeg"/>
  <Override PartName="/ppt/media/image8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26.jpeg" ContentType="image/jpeg"/>
  <Override PartName="/ppt/media/image27.wmf" ContentType="image/x-wmf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type.wav" ContentType="audio/x-wav"/>
  <Override PartName="/ppt/media/image3.jpeg" ContentType="image/jpeg"/>
  <Override PartName="/ppt/media/image28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12.wmf" ContentType="image/x-wmf"/>
  <Override PartName="/ppt/media/laser.wav" ContentType="audio/x-wav"/>
  <Override PartName="/ppt/media/image16.jpeg" ContentType="image/jpeg"/>
  <Override PartName="/ppt/media/image13.jpeg" ContentType="image/jpeg"/>
  <Override PartName="/ppt/media/arrow.wav" ContentType="audio/x-wav"/>
  <Override PartName="/ppt/media/image23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  <p:sldId id="336" r:id="rId93"/>
    <p:sldId id="337" r:id="rId94"/>
    <p:sldId id="33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slide" Target="slides/slide81.xml"/><Relationship Id="rId94" Type="http://schemas.openxmlformats.org/officeDocument/2006/relationships/slide" Target="slides/slide82.xml"/><Relationship Id="rId95" Type="http://schemas.openxmlformats.org/officeDocument/2006/relationships/slide" Target="slides/slide8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51C-D76A-45F1-83B9-C9EFD983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A5D-2F2A-4850-BFAD-DC2E6C4D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8FA25-27F6-4ECD-9248-CB991505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C90C5-61D7-4117-92DB-19DBD965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5572C-034A-4188-8AA2-E7BF9572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658B5-75A1-4F9B-94FD-EF0FB8C9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6A545-6B79-44D5-9749-D99EEDE1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261FB-415F-4804-BEF5-78A70AE0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C8FF0-0E83-4150-964D-B82005EF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4BEC4-E3B2-4388-8140-85A5A5CD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78D54-A12F-4C2F-8D6A-F116295B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B1E51-097D-4369-80EF-BDFE69E7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947-3545-435C-B37F-32241AE4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0FE48-FB65-409A-8437-8A8B8895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2F37D-FD8A-409D-ABF2-DFE83CBD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C18C3-D0CA-4D44-A408-5E1C03D1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4AE80-BE5E-4166-9B89-9BEC4118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CB008-6699-4757-B2C9-F83AFAF9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606B0-0277-4703-8F62-F7B9AA10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1B8BC-ED68-4E3C-B316-2C480346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DCB06-0E26-48E7-91DA-7334C9B7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1E37A-BE77-42F8-8725-A90114CA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45F3F-E1E1-42AA-BE0B-CEA52CEA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006-105F-4BBA-A616-DA567ED3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39948-9214-4284-9C8D-FC6D26DB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45BBD-AF0C-48F7-BBA0-51A04884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F31BB-A98E-4A66-9B09-124B0347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759A1-942C-41BE-B269-693B515A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B023B-222D-48FF-BB91-3A083C20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3F61E-6FD8-430F-96DF-6EB5762C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B0F6C-3971-448F-BCB8-7B0C4886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B4305-2B40-4CA4-9476-7AC6509F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25DBF-8EBF-4CEC-944A-3BC97FE9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17F2D-7641-4442-8537-5DFE736B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D227-41D1-46C4-8EB6-0BAD81A1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2B060-73F9-4976-AC88-7073BEC3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67E9F-0F1E-4F75-BE81-17B68933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0EC17-98F3-4687-8AC8-03993FC5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7474-967A-49CF-9A2F-AE756409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AD31-FA11-4CA5-BA5C-5365E94C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7B3E-9C9C-42EA-9A31-8353A352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A04C-793E-4B39-AF17-5E7A9DF6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4290-BE9B-4DDF-980A-EB19140F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5160-E8AE-4050-8B15-E7C77589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22F-077F-4FC3-BFFD-9696802D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F2E3-A8AE-4FC6-B5B0-582D9C08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3464-B13D-4C6E-AB9F-02FF2401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4A1B-AF2E-4108-BA77-157A48C9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4FCB-E277-4687-8455-88464059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A2D4-EF84-4AD1-A680-C1EBEA43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2A55F-C57F-4932-A1C5-FE12D1F3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5F9C5-7087-454C-A049-F22BC3FB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A7CE2-F9A0-4EC9-AAF0-3CF64D87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D97CF-3264-4C63-BD3A-ACF9C811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62FDD-A5FC-4750-9F60-0E01BB80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F52-B7DE-4C2B-B037-7F6A3F80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B84D6-CE70-4EEB-915B-E8038ECD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0C0D4-A16A-40CC-8D70-45CF9BD8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8DD76-417C-4C62-8989-1D157A8B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E4393-040A-4950-8E37-971252FB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388C-ABBD-42F7-9DEB-13B4B48E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DB198-000C-48E5-BA9F-0FCB9386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8AC5-3348-49A4-B37F-C050DCFD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8F51D-FD7B-4E4A-BFB9-435F9776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D71F0-F677-4260-BC27-BF451784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DA776-881D-4918-BC30-BD082337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24C7-0B4C-473E-89D8-9C8F42C4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57C55-CC99-481A-96D3-CBE05F77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40164-F0F8-4ED2-84C2-2D0FD6D0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CE81-01B6-440F-9573-13B065A4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9FB0F-C2A5-482C-9B93-D0A91E6E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7D3D7-6ECE-46F6-B5FD-36339EBC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065AC-A985-488D-B4F4-764A3BC3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83475-22C0-4611-83AE-09C384EB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19D0B-5E9C-472F-BDEB-74834845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13983-98D0-41BF-9ABD-5904C8AC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289A0-9358-4D4E-B078-F02C65DB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4BB-244E-4ABC-84A0-BE2BC403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36520-A8A2-4DA2-8179-F3A2FC74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1E6EA-DA8D-499F-9D8A-1E39E443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81DBF-D542-4A36-9286-7DCDC543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4D314-58A0-40AF-BDA8-BD6F4D9C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1FC96-93B0-4363-B9B7-457BF52F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3A191-93BC-4E79-BEA7-E0CE985E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5A513-8CEE-422F-881E-B3FC95A2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26A34-7EC2-4CF1-992D-49912A9C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5A5B1-AA70-4AC0-896A-3C3A9607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97C1B-DB04-42B6-8665-091C7BCC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5B7-723C-4EAC-8602-3A61EC32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55759-75B1-4AC2-9795-A82A05C7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1D19A-7501-4F97-B2CE-E9D01193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0FD7D-5944-4B21-9696-87368A1C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94F80-3C20-4121-BAB8-79137E91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DAC0C-265B-4168-90CB-F58A8C4B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FB619-BD91-448F-A721-252C56DD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E8829-E37A-4687-89DC-FD758C8E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8224E-4D83-4272-AE63-2D960996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67A91-6C2C-448E-A5CE-A2D41B59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AEBB5-5245-4D1A-9D57-B5092FBD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262-4F07-4F9D-B170-0A430080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781E8-33A9-4137-A232-CD6C82A6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E37B4-11CB-4EDE-82DD-45D1513C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E22E2-21AD-45C9-B84D-E2474E0C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715AA-CFCC-4A68-8087-AACFF7F6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4CAA3-BFB0-49B4-99E0-172D15E8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70119-C6B1-4626-9AB5-83BE0C8B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8D9E6-428C-458F-831F-DC94DC89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70AF9-394C-4460-A2DD-F7A94D0F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98032-AF72-404E-96FF-38A49F6E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DEB80-C3D5-4D5A-B3DA-E9FDD02A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D0C-E2D6-4DDF-B152-B83EE3E9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9CBC8-3D22-4B6C-8BBB-F4D60686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8F398-4FE8-433E-9E45-409659EA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38351-9510-4DC5-913F-47A934C0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84B15-AAA0-47FE-A37A-9410EE8F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F6207-68DC-4B1E-B4A7-BE7352D2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FB6D0-4958-4B06-A438-00088A96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34CE0-CDA8-4600-AB22-E5B1F9AE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C76F4-FA5B-41A3-806A-6697955C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8B4C5-7C3B-4453-BCC2-3FB21BC7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980A2-8CDF-4C9E-A6E6-8A00D044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80A-5EC5-49C3-ADA2-54B0E1DD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C91F9-C18C-470A-B0B5-30C99E87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4AD8B-FB63-4ACB-AE5D-F83AB614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540E6-106C-4033-8B78-7C276F8C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05FBE-3FC6-4713-9ECE-99052CFA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23DC6-DD9D-43D5-AE19-A2CD6130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A30DC-7656-4A8C-8A42-5969F5EB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DE957-C39E-42AB-9259-57A56179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5BB1E-EC03-421E-AC92-B1405F98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998A5-9A9D-46E4-B8CD-3668A4FA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E2B8D-DD3F-45AF-888E-6178127D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D961-5528-4593-80E6-8573D285F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5174-8A65-4818-A5EC-20682DE61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C493-B59A-41E9-AD63-CC496C65E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E19C-0B40-4CCC-AF57-DEB7E0CDB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FB40-AEA4-4F81-9BB8-CD6E6C3BC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F2EA-DB08-4DD6-A8B8-475EEC5C4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D144-02B8-499A-A3BC-95E617529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B142-334B-41F7-A185-D61856E80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FF32-6483-4CC1-8DEE-2BAC9454F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6117-682C-4052-94D7-18D6077CC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E8B6-D635-4BCE-95F0-060AFD44D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8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-71280" y="-66600"/>
            <a:ext cx="896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单韵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声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2054160" y="198360"/>
            <a:ext cx="583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"/>
          <p:cNvSpPr/>
          <p:nvPr/>
        </p:nvSpPr>
        <p:spPr>
          <a:xfrm>
            <a:off x="2708280" y="1457280"/>
            <a:ext cx="61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ɑ  o  e  i  u 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"/>
          <p:cNvSpPr/>
          <p:nvPr/>
        </p:nvSpPr>
        <p:spPr>
          <a:xfrm>
            <a:off x="2054160" y="2316240"/>
            <a:ext cx="61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   p   m   f   d   t   n   l  g  k  h  j  q  x  z  c  s  y  w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4"/>
          <p:cNvSpPr/>
          <p:nvPr/>
        </p:nvSpPr>
        <p:spPr>
          <a:xfrm>
            <a:off x="4616280" y="3995640"/>
            <a:ext cx="618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i  wu  y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i   ci  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zh"/>
          <p:cNvPicPr/>
          <p:nvPr/>
        </p:nvPicPr>
        <p:blipFill>
          <a:blip r:embed="rId1"/>
          <a:stretch/>
        </p:blipFill>
        <p:spPr>
          <a:xfrm>
            <a:off x="179280" y="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1619280" y="530064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织毛衣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 zh z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042920" y="836640"/>
            <a:ext cx="22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19280" y="1988640"/>
            <a:ext cx="12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917080" y="1773360"/>
            <a:ext cx="349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1643040" y="521496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我吃苹果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h ch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6012000" y="1052640"/>
            <a:ext cx="160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ch"/>
          <p:cNvPicPr/>
          <p:nvPr/>
        </p:nvPicPr>
        <p:blipFill>
          <a:blip r:embed="rId1"/>
          <a:stretch/>
        </p:blipFill>
        <p:spPr>
          <a:xfrm>
            <a:off x="357120" y="642960"/>
            <a:ext cx="4896000" cy="4546440"/>
          </a:xfrm>
          <a:prstGeom prst="rect">
            <a:avLst/>
          </a:prstGeom>
          <a:ln w="0">
            <a:noFill/>
          </a:ln>
        </p:spPr>
      </p:pic>
      <p:sp>
        <p:nvSpPr>
          <p:cNvPr id="51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 —  c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979640" y="465300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狮子狮子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老师老师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5725440" y="1413000"/>
            <a:ext cx="16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sh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 —  s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940400" y="58244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表示翘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辨一辨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100080" y="-44280"/>
            <a:ext cx="8943840" cy="6589440"/>
          </a:xfrm>
          <a:prstGeom prst="rect">
            <a:avLst/>
          </a:prstGeom>
          <a:ln w="0">
            <a:noFill/>
          </a:ln>
        </p:spPr>
      </p:pic>
      <p:sp>
        <p:nvSpPr>
          <p:cNvPr id="460" name="文本框 4"/>
          <p:cNvSpPr/>
          <p:nvPr/>
        </p:nvSpPr>
        <p:spPr>
          <a:xfrm>
            <a:off x="2233440" y="274680"/>
            <a:ext cx="3676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á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jǐ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l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412920" y="495360"/>
            <a:ext cx="15350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6118200" y="3683160"/>
            <a:ext cx="15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í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7"/>
          <p:cNvSpPr/>
          <p:nvPr/>
        </p:nvSpPr>
        <p:spPr>
          <a:xfrm>
            <a:off x="6451560" y="2728800"/>
            <a:ext cx="3035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ā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ē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bǎn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8"/>
          <p:cNvSpPr/>
          <p:nvPr/>
        </p:nvSpPr>
        <p:spPr>
          <a:xfrm>
            <a:off x="3792600" y="3535200"/>
            <a:ext cx="1560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9"/>
          <p:cNvSpPr/>
          <p:nvPr/>
        </p:nvSpPr>
        <p:spPr>
          <a:xfrm>
            <a:off x="4367160" y="4641840"/>
            <a:ext cx="2265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máo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yī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10"/>
          <p:cNvSpPr/>
          <p:nvPr/>
        </p:nvSpPr>
        <p:spPr>
          <a:xfrm>
            <a:off x="1947960" y="1637640"/>
            <a:ext cx="1598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1"/>
          <p:cNvSpPr/>
          <p:nvPr/>
        </p:nvSpPr>
        <p:spPr>
          <a:xfrm>
            <a:off x="412920" y="4359240"/>
            <a:ext cx="2581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c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227160" y="2621880"/>
            <a:ext cx="1522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we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3"/>
          <p:cNvSpPr/>
          <p:nvPr/>
        </p:nvSpPr>
        <p:spPr>
          <a:xfrm>
            <a:off x="3263760" y="2944800"/>
            <a:ext cx="1103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0" y="393372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轮红日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苗发芽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6227640" y="549360"/>
            <a:ext cx="9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r"/>
          <p:cNvPicPr/>
          <p:nvPr/>
        </p:nvPicPr>
        <p:blipFill>
          <a:blip r:embed="rId1"/>
          <a:stretch/>
        </p:blipFill>
        <p:spPr>
          <a:xfrm>
            <a:off x="-22320" y="-44280"/>
            <a:ext cx="4484880" cy="4155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133720" y="15238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0" y="342900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翘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705720" y="331164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495680" y="15238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133720" y="331164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9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分类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4495680" y="331164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2133720" y="48769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0" y="169704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平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0"/>
          <p:cNvSpPr/>
          <p:nvPr/>
        </p:nvSpPr>
        <p:spPr>
          <a:xfrm>
            <a:off x="2895480" y="380880"/>
            <a:ext cx="59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0"/>
          <p:cNvSpPr/>
          <p:nvPr/>
        </p:nvSpPr>
        <p:spPr>
          <a:xfrm>
            <a:off x="2895480" y="380880"/>
            <a:ext cx="57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0" y="458136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1619280" y="2205000"/>
            <a:ext cx="75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宋体"/>
              </a:rPr>
              <a:t>看谁听得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373120" y="609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举字母游戏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文本框 4" descr=""/>
          <p:cNvPicPr/>
          <p:nvPr/>
        </p:nvPicPr>
        <p:blipFill>
          <a:blip r:embed="rId1"/>
          <a:stretch/>
        </p:blipFill>
        <p:spPr>
          <a:xfrm>
            <a:off x="606600" y="588960"/>
            <a:ext cx="8184960" cy="5262480"/>
          </a:xfrm>
          <a:prstGeom prst="rect">
            <a:avLst/>
          </a:prstGeom>
          <a:ln w="0">
            <a:noFill/>
          </a:ln>
        </p:spPr>
      </p:pic>
      <p:pic>
        <p:nvPicPr>
          <p:cNvPr id="580" name="矩形 6" descr=""/>
          <p:cNvPicPr/>
          <p:nvPr/>
        </p:nvPicPr>
        <p:blipFill>
          <a:blip r:embed="rId2"/>
          <a:stretch/>
        </p:blipFill>
        <p:spPr>
          <a:xfrm>
            <a:off x="3514680" y="5278320"/>
            <a:ext cx="4935600" cy="1198800"/>
          </a:xfrm>
          <a:prstGeom prst="rect">
            <a:avLst/>
          </a:prstGeom>
          <a:ln w="0">
            <a:noFill/>
          </a:ln>
        </p:spPr>
      </p:pic>
      <p:pic>
        <p:nvPicPr>
          <p:cNvPr id="581" name="矩形 7" descr=""/>
          <p:cNvPicPr/>
          <p:nvPr/>
        </p:nvPicPr>
        <p:blipFill>
          <a:blip r:embed="rId3"/>
          <a:stretch/>
        </p:blipFill>
        <p:spPr>
          <a:xfrm>
            <a:off x="263520" y="-12600"/>
            <a:ext cx="8415360" cy="110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4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3781440" y="620640"/>
            <a:ext cx="709560" cy="2379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msotw9_temp0"/>
          <p:cNvPicPr/>
          <p:nvPr/>
        </p:nvPicPr>
        <p:blipFill>
          <a:blip r:embed="rId2"/>
          <a:srcRect l="51715" t="38359" r="40280" b="57909"/>
          <a:stretch/>
        </p:blipFill>
        <p:spPr>
          <a:xfrm>
            <a:off x="4788000" y="0"/>
            <a:ext cx="3024000" cy="3716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1908000" y="39337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zhī   zhí   zhǐ   z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050920" y="47242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知      直      指     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msotw9_temp0"/>
          <p:cNvPicPr/>
          <p:nvPr/>
        </p:nvPicPr>
        <p:blipFill>
          <a:blip r:embed="rId2"/>
          <a:srcRect l="50005" t="65282" r="42750" b="30664"/>
          <a:stretch/>
        </p:blipFill>
        <p:spPr>
          <a:xfrm>
            <a:off x="4788000" y="0"/>
            <a:ext cx="3047760" cy="3429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571680" y="3500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shī   shí   shǐ  sh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-428760" y="4714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师     十    始    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WordArt 5"/>
          <p:cNvSpPr txBox="1"/>
          <p:nvPr/>
        </p:nvSpPr>
        <p:spPr>
          <a:xfrm>
            <a:off x="2590920" y="5335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zh ch sh r 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msotw9_temp0"/>
          <p:cNvPicPr/>
          <p:nvPr/>
        </p:nvPicPr>
        <p:blipFill>
          <a:blip r:embed="rId2"/>
          <a:srcRect l="50940" t="51889" r="41244" b="44352"/>
          <a:stretch/>
        </p:blipFill>
        <p:spPr>
          <a:xfrm>
            <a:off x="4427640" y="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762120" y="32004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chī  chí   chǐ  ch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0" y="41148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  <a:ea typeface="宋体"/>
              </a:rPr>
              <a:t>吃    迟   尺    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7961040" y="-9468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msotw9_temp0"/>
          <p:cNvPicPr/>
          <p:nvPr/>
        </p:nvPicPr>
        <p:blipFill>
          <a:blip r:embed="rId2"/>
          <a:srcRect l="48967" t="77768" r="42750" b="17956"/>
          <a:stretch/>
        </p:blipFill>
        <p:spPr>
          <a:xfrm>
            <a:off x="4067280" y="0"/>
            <a:ext cx="3025800" cy="3429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755640" y="33577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r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755640" y="44370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816680" y="-230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Arial"/>
              </a:rPr>
              <a:t>抽奖票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dyd"/>
          <p:cNvPicPr/>
          <p:nvPr/>
        </p:nvPicPr>
        <p:blipFill>
          <a:blip r:embed="rId1"/>
          <a:stretch/>
        </p:blipFill>
        <p:spPr>
          <a:xfrm>
            <a:off x="611280" y="98100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468360" y="1773360"/>
            <a:ext cx="62182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1165680" y="6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11280" y="1700280"/>
            <a:ext cx="6634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900000" y="119700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900000" y="1700280"/>
            <a:ext cx="82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468360" y="476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1692360" y="141300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r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rú    rǔ    r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u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r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文本框 1" descr=""/>
          <p:cNvPicPr/>
          <p:nvPr/>
        </p:nvPicPr>
        <p:blipFill>
          <a:blip r:embed="rId1"/>
          <a:stretch/>
        </p:blipFill>
        <p:spPr>
          <a:xfrm>
            <a:off x="1820880" y="1434960"/>
            <a:ext cx="618660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763640" y="2708280"/>
            <a:ext cx="8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29" name="WordArt 3"/>
          <p:cNvSpPr txBox="1"/>
          <p:nvPr/>
        </p:nvSpPr>
        <p:spPr>
          <a:xfrm>
            <a:off x="179280" y="2276640"/>
            <a:ext cx="108108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0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1" name="WordArt 5"/>
          <p:cNvSpPr txBox="1"/>
          <p:nvPr/>
        </p:nvSpPr>
        <p:spPr>
          <a:xfrm>
            <a:off x="6659640" y="2637000"/>
            <a:ext cx="720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2" name="WordArt 6"/>
          <p:cNvSpPr txBox="1"/>
          <p:nvPr/>
        </p:nvSpPr>
        <p:spPr>
          <a:xfrm>
            <a:off x="5506920" y="2276640"/>
            <a:ext cx="1009800" cy="11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3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4" name="WordArt 8"/>
          <p:cNvSpPr txBox="1"/>
          <p:nvPr/>
        </p:nvSpPr>
        <p:spPr>
          <a:xfrm>
            <a:off x="133200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5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6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78" name="文本框 4"/>
          <p:cNvSpPr/>
          <p:nvPr/>
        </p:nvSpPr>
        <p:spPr>
          <a:xfrm>
            <a:off x="4108320" y="373212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4108320" y="4422600"/>
            <a:ext cx="46548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织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máo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衣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yī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zhz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7"/>
          <p:cNvSpPr/>
          <p:nvPr/>
        </p:nvSpPr>
        <p:spPr>
          <a:xfrm>
            <a:off x="4108320" y="5607000"/>
            <a:ext cx="4654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椅子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 zh z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5"/>
          <p:cNvSpPr/>
          <p:nvPr/>
        </p:nvSpPr>
        <p:spPr>
          <a:xfrm>
            <a:off x="330120" y="560700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ū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8"/>
          <p:cNvSpPr/>
          <p:nvPr/>
        </p:nvSpPr>
        <p:spPr>
          <a:xfrm>
            <a:off x="1757520" y="3976560"/>
            <a:ext cx="25365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2"/>
          <p:cNvSpPr txBox="1"/>
          <p:nvPr/>
        </p:nvSpPr>
        <p:spPr>
          <a:xfrm>
            <a:off x="1979640" y="270828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6877080" y="2637000"/>
            <a:ext cx="503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1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2" name="WordArt 8"/>
          <p:cNvSpPr txBox="1"/>
          <p:nvPr/>
        </p:nvSpPr>
        <p:spPr>
          <a:xfrm>
            <a:off x="147636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3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4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5" name="WordArt 11"/>
          <p:cNvSpPr txBox="1"/>
          <p:nvPr/>
        </p:nvSpPr>
        <p:spPr>
          <a:xfrm>
            <a:off x="214200" y="242892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6" name="WordArt 12"/>
          <p:cNvSpPr txBox="1"/>
          <p:nvPr/>
        </p:nvSpPr>
        <p:spPr>
          <a:xfrm>
            <a:off x="5508720" y="2349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2"/>
          <p:cNvSpPr txBox="1"/>
          <p:nvPr/>
        </p:nvSpPr>
        <p:spPr>
          <a:xfrm>
            <a:off x="2700360" y="2133720"/>
            <a:ext cx="93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49" name="WordArt 3"/>
          <p:cNvSpPr txBox="1"/>
          <p:nvPr/>
        </p:nvSpPr>
        <p:spPr>
          <a:xfrm>
            <a:off x="468360" y="1773360"/>
            <a:ext cx="151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7236000" y="4106880"/>
            <a:ext cx="7887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1" name="WordArt 5"/>
          <p:cNvSpPr txBox="1"/>
          <p:nvPr/>
        </p:nvSpPr>
        <p:spPr>
          <a:xfrm>
            <a:off x="6300720" y="41497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2" name="WordArt 6"/>
          <p:cNvSpPr txBox="1"/>
          <p:nvPr/>
        </p:nvSpPr>
        <p:spPr>
          <a:xfrm>
            <a:off x="4788000" y="3860640"/>
            <a:ext cx="136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3" name="WordArt 7"/>
          <p:cNvSpPr txBox="1"/>
          <p:nvPr/>
        </p:nvSpPr>
        <p:spPr>
          <a:xfrm>
            <a:off x="4282920" y="2092320"/>
            <a:ext cx="8874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4" name="WordArt 8"/>
          <p:cNvSpPr txBox="1"/>
          <p:nvPr/>
        </p:nvSpPr>
        <p:spPr>
          <a:xfrm>
            <a:off x="2050920" y="2494080"/>
            <a:ext cx="547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5" name="WordArt 9"/>
          <p:cNvSpPr txBox="1"/>
          <p:nvPr/>
        </p:nvSpPr>
        <p:spPr>
          <a:xfrm>
            <a:off x="3706920" y="2494080"/>
            <a:ext cx="54756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6" name="WordArt 10"/>
          <p:cNvSpPr txBox="1"/>
          <p:nvPr/>
        </p:nvSpPr>
        <p:spPr>
          <a:xfrm>
            <a:off x="3851280" y="443700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745920"/>
            <a:ext cx="14572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尺子2"/>
          <p:cNvPicPr/>
          <p:nvPr/>
        </p:nvPicPr>
        <p:blipFill>
          <a:blip r:embed="rId1"/>
          <a:stretch/>
        </p:blipFill>
        <p:spPr>
          <a:xfrm>
            <a:off x="395280" y="2492280"/>
            <a:ext cx="2016000" cy="13334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吃鱼1"/>
          <p:cNvPicPr/>
          <p:nvPr/>
        </p:nvPicPr>
        <p:blipFill>
          <a:blip r:embed="rId2"/>
          <a:stretch/>
        </p:blipFill>
        <p:spPr>
          <a:xfrm>
            <a:off x="395280" y="189000"/>
            <a:ext cx="1873080" cy="1728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柿子"/>
          <p:cNvPicPr/>
          <p:nvPr/>
        </p:nvPicPr>
        <p:blipFill>
          <a:blip r:embed="rId3"/>
          <a:stretch/>
        </p:blipFill>
        <p:spPr>
          <a:xfrm>
            <a:off x="6443640" y="479736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狮子"/>
          <p:cNvPicPr/>
          <p:nvPr/>
        </p:nvPicPr>
        <p:blipFill>
          <a:blip r:embed="rId4"/>
          <a:stretch/>
        </p:blipFill>
        <p:spPr>
          <a:xfrm>
            <a:off x="539640" y="450864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日历"/>
          <p:cNvPicPr/>
          <p:nvPr/>
        </p:nvPicPr>
        <p:blipFill>
          <a:blip r:embed="rId5"/>
          <a:stretch/>
        </p:blipFill>
        <p:spPr>
          <a:xfrm>
            <a:off x="637236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食指"/>
          <p:cNvPicPr/>
          <p:nvPr/>
        </p:nvPicPr>
        <p:blipFill>
          <a:blip r:embed="rId6"/>
          <a:stretch/>
        </p:blipFill>
        <p:spPr>
          <a:xfrm>
            <a:off x="6372360" y="2492280"/>
            <a:ext cx="1942920" cy="1584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"/>
          <p:cNvSpPr/>
          <p:nvPr/>
        </p:nvSpPr>
        <p:spPr>
          <a:xfrm>
            <a:off x="3635280" y="189000"/>
            <a:ext cx="180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í  ch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ì   l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ī    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ì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í     zh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ī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1908000" y="220500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2268360" y="1916280"/>
            <a:ext cx="151164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 flipV="1">
            <a:off x="2411280" y="404280"/>
            <a:ext cx="129708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"/>
          <p:cNvSpPr/>
          <p:nvPr/>
        </p:nvSpPr>
        <p:spPr>
          <a:xfrm>
            <a:off x="2340000" y="522936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>
            <a:off x="4427640" y="1557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5"/>
          <p:cNvSpPr/>
          <p:nvPr/>
        </p:nvSpPr>
        <p:spPr>
          <a:xfrm flipV="1">
            <a:off x="5148360" y="3357360"/>
            <a:ext cx="1224000" cy="143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6"/>
          <p:cNvSpPr/>
          <p:nvPr/>
        </p:nvSpPr>
        <p:spPr>
          <a:xfrm>
            <a:off x="4859280" y="3789360"/>
            <a:ext cx="1513080" cy="1800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7" name="chimes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内容占位符 3" descr="2063911053"/>
          <p:cNvPicPr/>
          <p:nvPr/>
        </p:nvPicPr>
        <p:blipFill>
          <a:blip r:embed="rId1"/>
          <a:stretch/>
        </p:blipFill>
        <p:spPr>
          <a:xfrm rot="16200000">
            <a:off x="2652480" y="-1920600"/>
            <a:ext cx="3936960" cy="832788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4"/>
          <p:cNvSpPr/>
          <p:nvPr/>
        </p:nvSpPr>
        <p:spPr>
          <a:xfrm>
            <a:off x="457200" y="4668840"/>
            <a:ext cx="41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cā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huō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i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5"/>
          <p:cNvSpPr/>
          <p:nvPr/>
        </p:nvSpPr>
        <p:spPr>
          <a:xfrm>
            <a:off x="4861080" y="4668840"/>
            <a:ext cx="3641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é)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纸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ǐ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4"/>
          <p:cNvSpPr/>
          <p:nvPr/>
        </p:nvSpPr>
        <p:spPr>
          <a:xfrm>
            <a:off x="7324560" y="3573360"/>
            <a:ext cx="112104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7323480" y="189720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733320" y="2070000"/>
            <a:ext cx="8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2812680" y="2055960"/>
            <a:ext cx="11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4933080" y="200484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0.014514 0.474074 E">
                                      <p:cBhvr>
                                        <p:cTn id="583" dur="1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-0.512222 0.374444 E">
                                      <p:cBhvr>
                                        <p:cTn id="587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-0.006528 0.423241 E">
                                      <p:cBhvr>
                                        <p:cTn id="591" dur="1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.006574 L 0.509167 0.37537 E">
                                      <p:cBhvr>
                                        <p:cTn id="595" dur="1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舌头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四       十       十四       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ì       shí      shí sì     sì s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3132000" y="189000"/>
            <a:ext cx="42483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 是 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 是  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是    十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是 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不  读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不  读  十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3"/>
          <p:cNvSpPr txBox="1"/>
          <p:nvPr/>
        </p:nvSpPr>
        <p:spPr>
          <a:xfrm rot="5400000">
            <a:off x="-276120" y="2371320"/>
            <a:ext cx="4032360" cy="110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来绕口令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msotw9_temp0"/>
          <p:cNvPicPr/>
          <p:nvPr/>
        </p:nvPicPr>
        <p:blipFill>
          <a:blip r:embed="rId2"/>
          <a:srcRect l="49708" t="29963" r="38774" b="62107"/>
          <a:stretch/>
        </p:blipFill>
        <p:spPr>
          <a:xfrm>
            <a:off x="5148360" y="0"/>
            <a:ext cx="3095640" cy="3733920"/>
          </a:xfrm>
          <a:prstGeom prst="rect">
            <a:avLst/>
          </a:prstGeom>
          <a:ln w="0">
            <a:noFill/>
          </a:ln>
        </p:spPr>
      </p:pic>
      <p:sp>
        <p:nvSpPr>
          <p:cNvPr id="700" name="Line 4"/>
          <p:cNvSpPr/>
          <p:nvPr/>
        </p:nvSpPr>
        <p:spPr>
          <a:xfrm>
            <a:off x="2484360" y="378936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"/>
          <p:cNvSpPr/>
          <p:nvPr/>
        </p:nvSpPr>
        <p:spPr>
          <a:xfrm>
            <a:off x="2484360" y="638172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"/>
          <p:cNvSpPr/>
          <p:nvPr/>
        </p:nvSpPr>
        <p:spPr>
          <a:xfrm>
            <a:off x="2484360" y="5516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2484360" y="458136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141800" y="3716280"/>
            <a:ext cx="20858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179280" y="39736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2846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msotw9_temp0"/>
          <p:cNvPicPr/>
          <p:nvPr/>
        </p:nvPicPr>
        <p:blipFill>
          <a:blip r:embed="rId2"/>
          <a:srcRect l="50210" t="44423" r="39778" b="49047"/>
          <a:stretch/>
        </p:blipFill>
        <p:spPr>
          <a:xfrm>
            <a:off x="3505320" y="0"/>
            <a:ext cx="2514600" cy="3284640"/>
          </a:xfrm>
          <a:prstGeom prst="rect">
            <a:avLst/>
          </a:prstGeom>
          <a:ln w="0">
            <a:noFill/>
          </a:ln>
        </p:spPr>
      </p:pic>
      <p:sp>
        <p:nvSpPr>
          <p:cNvPr id="709" name="Line 4"/>
          <p:cNvSpPr/>
          <p:nvPr/>
        </p:nvSpPr>
        <p:spPr>
          <a:xfrm>
            <a:off x="1476360" y="3284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1476360" y="645336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6"/>
          <p:cNvSpPr/>
          <p:nvPr/>
        </p:nvSpPr>
        <p:spPr>
          <a:xfrm>
            <a:off x="1476360" y="5445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7"/>
          <p:cNvSpPr/>
          <p:nvPr/>
        </p:nvSpPr>
        <p:spPr>
          <a:xfrm>
            <a:off x="1476360" y="4292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3133440" y="328464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588000" y="105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2"/>
          <p:cNvSpPr/>
          <p:nvPr/>
        </p:nvSpPr>
        <p:spPr>
          <a:xfrm>
            <a:off x="222120" y="2308320"/>
            <a:ext cx="3079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2"/>
          <p:cNvSpPr/>
          <p:nvPr/>
        </p:nvSpPr>
        <p:spPr>
          <a:xfrm>
            <a:off x="2443320" y="2528280"/>
            <a:ext cx="501480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c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wei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藏在椅子后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chchch</a:t>
            </a:r>
            <a:r>
              <a:rPr b="0" lang="zh-CN" sz="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1"/>
          <p:cNvSpPr/>
          <p:nvPr/>
        </p:nvSpPr>
        <p:spPr>
          <a:xfrm>
            <a:off x="2443320" y="4038480"/>
            <a:ext cx="4776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h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i  chi  ch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msotw9_temp0"/>
          <p:cNvPicPr/>
          <p:nvPr/>
        </p:nvPicPr>
        <p:blipFill>
          <a:blip r:embed="rId2"/>
          <a:srcRect l="50005" t="57789" r="42750" b="35081"/>
          <a:stretch/>
        </p:blipFill>
        <p:spPr>
          <a:xfrm>
            <a:off x="3733920" y="0"/>
            <a:ext cx="2709720" cy="3429000"/>
          </a:xfrm>
          <a:prstGeom prst="rect">
            <a:avLst/>
          </a:prstGeom>
          <a:ln w="0">
            <a:noFill/>
          </a:ln>
        </p:spPr>
      </p:pic>
      <p:sp>
        <p:nvSpPr>
          <p:cNvPr id="718" name="Line 4"/>
          <p:cNvSpPr/>
          <p:nvPr/>
        </p:nvSpPr>
        <p:spPr>
          <a:xfrm>
            <a:off x="1547640" y="350028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"/>
          <p:cNvSpPr/>
          <p:nvPr/>
        </p:nvSpPr>
        <p:spPr>
          <a:xfrm>
            <a:off x="1547640" y="4508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6"/>
          <p:cNvSpPr/>
          <p:nvPr/>
        </p:nvSpPr>
        <p:spPr>
          <a:xfrm>
            <a:off x="1547640" y="566100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7"/>
          <p:cNvSpPr/>
          <p:nvPr/>
        </p:nvSpPr>
        <p:spPr>
          <a:xfrm>
            <a:off x="1547640" y="666900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3133440" y="350028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0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" descr="msotw9_temp0"/>
          <p:cNvPicPr/>
          <p:nvPr/>
        </p:nvPicPr>
        <p:blipFill>
          <a:blip r:embed="rId2"/>
          <a:srcRect l="48967" t="71701" r="42750" b="22594"/>
          <a:stretch/>
        </p:blipFill>
        <p:spPr>
          <a:xfrm>
            <a:off x="3657600" y="0"/>
            <a:ext cx="2819520" cy="3429000"/>
          </a:xfrm>
          <a:prstGeom prst="rect">
            <a:avLst/>
          </a:prstGeom>
          <a:ln w="0">
            <a:noFill/>
          </a:ln>
        </p:spPr>
      </p:pic>
      <p:sp>
        <p:nvSpPr>
          <p:cNvPr id="726" name="Line 4"/>
          <p:cNvSpPr/>
          <p:nvPr/>
        </p:nvSpPr>
        <p:spPr>
          <a:xfrm>
            <a:off x="1116000" y="3429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"/>
          <p:cNvSpPr/>
          <p:nvPr/>
        </p:nvSpPr>
        <p:spPr>
          <a:xfrm>
            <a:off x="1116000" y="5661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6"/>
          <p:cNvSpPr/>
          <p:nvPr/>
        </p:nvSpPr>
        <p:spPr>
          <a:xfrm>
            <a:off x="1116000" y="6669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7"/>
          <p:cNvSpPr/>
          <p:nvPr/>
        </p:nvSpPr>
        <p:spPr>
          <a:xfrm>
            <a:off x="1116000" y="4508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3494160" y="3500280"/>
            <a:ext cx="907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3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g8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 起 学 儿 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轮红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r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山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shī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子想来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c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树上同伴有办法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伸下树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z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来搭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平舌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WordArt 2"/>
          <p:cNvSpPr txBox="1"/>
          <p:nvPr/>
        </p:nvSpPr>
        <p:spPr>
          <a:xfrm>
            <a:off x="395280" y="1557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0" name="WordArt 3"/>
          <p:cNvSpPr txBox="1"/>
          <p:nvPr/>
        </p:nvSpPr>
        <p:spPr>
          <a:xfrm>
            <a:off x="2971800" y="1752480"/>
            <a:ext cx="7779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1" name="WordArt 4"/>
          <p:cNvSpPr txBox="1"/>
          <p:nvPr/>
        </p:nvSpPr>
        <p:spPr>
          <a:xfrm>
            <a:off x="6084720" y="1628640"/>
            <a:ext cx="100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2" name="WordArt 5"/>
          <p:cNvSpPr txBox="1"/>
          <p:nvPr/>
        </p:nvSpPr>
        <p:spPr>
          <a:xfrm>
            <a:off x="826920" y="3500280"/>
            <a:ext cx="136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3" name="WordArt 6"/>
          <p:cNvSpPr txBox="1"/>
          <p:nvPr/>
        </p:nvSpPr>
        <p:spPr>
          <a:xfrm>
            <a:off x="7238880" y="1905120"/>
            <a:ext cx="720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4" name="WordArt 7"/>
          <p:cNvSpPr txBox="1"/>
          <p:nvPr/>
        </p:nvSpPr>
        <p:spPr>
          <a:xfrm>
            <a:off x="2362320" y="3840120"/>
            <a:ext cx="761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e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5" name="WordArt 8"/>
          <p:cNvSpPr txBox="1"/>
          <p:nvPr/>
        </p:nvSpPr>
        <p:spPr>
          <a:xfrm>
            <a:off x="6400800" y="3886200"/>
            <a:ext cx="64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6" name="WordArt 9"/>
          <p:cNvSpPr txBox="1"/>
          <p:nvPr/>
        </p:nvSpPr>
        <p:spPr>
          <a:xfrm>
            <a:off x="4859280" y="3573360"/>
            <a:ext cx="1366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7" name="WordArt 10"/>
          <p:cNvSpPr txBox="1"/>
          <p:nvPr/>
        </p:nvSpPr>
        <p:spPr>
          <a:xfrm>
            <a:off x="1763640" y="2131920"/>
            <a:ext cx="8971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8" name="WordArt 11"/>
          <p:cNvSpPr txBox="1"/>
          <p:nvPr/>
        </p:nvSpPr>
        <p:spPr>
          <a:xfrm>
            <a:off x="4716360" y="1844640"/>
            <a:ext cx="897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3618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490" name="文本框 4"/>
          <p:cNvSpPr/>
          <p:nvPr/>
        </p:nvSpPr>
        <p:spPr>
          <a:xfrm>
            <a:off x="2495520" y="1554120"/>
            <a:ext cx="23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4397400" y="1753920"/>
            <a:ext cx="32479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3"/>
          <p:cNvSpPr/>
          <p:nvPr/>
        </p:nvSpPr>
        <p:spPr>
          <a:xfrm>
            <a:off x="4397400" y="2478240"/>
            <a:ext cx="4376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椅子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h sh 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5"/>
          <p:cNvSpPr/>
          <p:nvPr/>
        </p:nvSpPr>
        <p:spPr>
          <a:xfrm>
            <a:off x="4427640" y="47628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3132000" y="1733400"/>
            <a:ext cx="54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e—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r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o--ru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4" descr="MCj03450830000[1]"/>
          <p:cNvPicPr/>
          <p:nvPr/>
        </p:nvPicPr>
        <p:blipFill>
          <a:blip r:embed="rId2"/>
          <a:stretch/>
        </p:blipFill>
        <p:spPr>
          <a:xfrm>
            <a:off x="6858000" y="4876920"/>
            <a:ext cx="2209680" cy="1892160"/>
          </a:xfrm>
          <a:prstGeom prst="rect">
            <a:avLst/>
          </a:prstGeom>
          <a:ln w="0">
            <a:noFill/>
          </a:ln>
        </p:spPr>
      </p:pic>
      <p:sp>
        <p:nvSpPr>
          <p:cNvPr id="78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MCj04292310000[1]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71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0" name="Rectangle 3"/>
          <p:cNvSpPr/>
          <p:nvPr/>
        </p:nvSpPr>
        <p:spPr>
          <a:xfrm>
            <a:off x="6172200" y="1828800"/>
            <a:ext cx="17524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 rot="185400">
            <a:off x="838080" y="4876920"/>
            <a:ext cx="167652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 rot="20951400">
            <a:off x="6780600" y="5659200"/>
            <a:ext cx="1676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 rot="21332400">
            <a:off x="6858000" y="30481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 rot="1444200">
            <a:off x="4114440" y="304776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 rot="20838000">
            <a:off x="2588400" y="4342680"/>
            <a:ext cx="236232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4038480" y="5659560"/>
            <a:ext cx="228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-60480" y="3357720"/>
            <a:ext cx="1752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1"/>
          <p:cNvSpPr/>
          <p:nvPr/>
        </p:nvSpPr>
        <p:spPr>
          <a:xfrm>
            <a:off x="7162920" y="4114800"/>
            <a:ext cx="1828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838080" y="35053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1981080" y="51814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5"/>
          <p:cNvSpPr/>
          <p:nvPr/>
        </p:nvSpPr>
        <p:spPr>
          <a:xfrm>
            <a:off x="4191120" y="46483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6"/>
          <p:cNvSpPr/>
          <p:nvPr/>
        </p:nvSpPr>
        <p:spPr>
          <a:xfrm flipV="1">
            <a:off x="4419720" y="45716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7"/>
          <p:cNvSpPr/>
          <p:nvPr/>
        </p:nvSpPr>
        <p:spPr>
          <a:xfrm>
            <a:off x="5715000" y="59436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"/>
          <p:cNvSpPr/>
          <p:nvPr/>
        </p:nvSpPr>
        <p:spPr>
          <a:xfrm>
            <a:off x="5867280" y="365760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9"/>
          <p:cNvSpPr/>
          <p:nvPr/>
        </p:nvSpPr>
        <p:spPr>
          <a:xfrm>
            <a:off x="7391520" y="198108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8077320" y="320040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1"/>
          <p:cNvSpPr/>
          <p:nvPr/>
        </p:nvSpPr>
        <p:spPr>
          <a:xfrm flipV="1">
            <a:off x="8229600" y="32000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2"/>
          <p:cNvSpPr/>
          <p:nvPr/>
        </p:nvSpPr>
        <p:spPr>
          <a:xfrm>
            <a:off x="8381880" y="42670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3"/>
          <p:cNvSpPr/>
          <p:nvPr/>
        </p:nvSpPr>
        <p:spPr>
          <a:xfrm flipV="1">
            <a:off x="8077320" y="5638320"/>
            <a:ext cx="15228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汉拼32"/>
          <p:cNvPicPr/>
          <p:nvPr/>
        </p:nvPicPr>
        <p:blipFill>
          <a:blip r:embed="rId1"/>
          <a:srcRect l="6753" t="62715" r="0" b="7483"/>
          <a:stretch/>
        </p:blipFill>
        <p:spPr>
          <a:xfrm>
            <a:off x="611280" y="476280"/>
            <a:ext cx="7921440" cy="583236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汉拼32"/>
          <p:cNvPicPr/>
          <p:nvPr/>
        </p:nvPicPr>
        <p:blipFill>
          <a:blip r:embed="rId1"/>
          <a:srcRect l="12898" t="9069" r="6051" b="40249"/>
          <a:stretch/>
        </p:blipFill>
        <p:spPr>
          <a:xfrm>
            <a:off x="755640" y="0"/>
            <a:ext cx="7272360" cy="685800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W0200808254028407118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5"/>
          <p:cNvSpPr/>
          <p:nvPr/>
        </p:nvSpPr>
        <p:spPr>
          <a:xfrm>
            <a:off x="2438280" y="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rì </a:t>
            </a: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日  </a:t>
            </a: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6477120" y="2666880"/>
            <a:ext cx="2286000" cy="299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dú s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读  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371600" y="43434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qí ch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骑  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76320" y="16002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zhú z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竹 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27468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4"/>
          <p:cNvSpPr/>
          <p:nvPr/>
        </p:nvSpPr>
        <p:spPr>
          <a:xfrm>
            <a:off x="6335640" y="3400560"/>
            <a:ext cx="1903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"/>
          <p:cNvSpPr/>
          <p:nvPr/>
        </p:nvSpPr>
        <p:spPr>
          <a:xfrm>
            <a:off x="957240" y="1087560"/>
            <a:ext cx="285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5"/>
          <p:cNvSpPr/>
          <p:nvPr/>
        </p:nvSpPr>
        <p:spPr>
          <a:xfrm>
            <a:off x="4879800" y="3068640"/>
            <a:ext cx="360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值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6"/>
          <p:cNvSpPr/>
          <p:nvPr/>
        </p:nvSpPr>
        <p:spPr>
          <a:xfrm>
            <a:off x="3457440" y="5143680"/>
            <a:ext cx="522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禾苗向日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rr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7"/>
          <p:cNvSpPr/>
          <p:nvPr/>
        </p:nvSpPr>
        <p:spPr>
          <a:xfrm>
            <a:off x="4708440" y="396720"/>
            <a:ext cx="360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250920" y="1125000"/>
            <a:ext cx="87408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日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太阳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一轮红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升起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151920" y="9079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小弟弟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老爷爷带着小孙子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761760" y="1646280"/>
            <a:ext cx="92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有很多很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的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长得很茂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76212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大姐姐坐在公园的椅子上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3" descr="MCj042923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4"/>
          <p:cNvSpPr/>
          <p:nvPr/>
        </p:nvSpPr>
        <p:spPr>
          <a:xfrm>
            <a:off x="1066680" y="0"/>
            <a:ext cx="6934320" cy="6942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欢迎台湾小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船，扬白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飘呀飘呀到台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接来台湾小朋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到我学校玩一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伸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双手紧紧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情的话儿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不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590920" y="533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zh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2362320" y="4572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1828800" y="5562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r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4495680" y="556272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s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755640" y="5084640"/>
            <a:ext cx="998640" cy="928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4140360" y="2565360"/>
            <a:ext cx="10141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5364000" y="2565360"/>
            <a:ext cx="1041480" cy="113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539640" y="2565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979640" y="2565360"/>
            <a:ext cx="11224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6877080" y="4941720"/>
            <a:ext cx="1152360" cy="110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3708360" y="5013360"/>
            <a:ext cx="112068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196920" y="76500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u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2967840" y="765000"/>
            <a:ext cx="11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5847840" y="836640"/>
            <a:ext cx="7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43916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16484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6912720" y="836640"/>
            <a:ext cx="9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5"/>
          <p:cNvSpPr/>
          <p:nvPr/>
        </p:nvSpPr>
        <p:spPr>
          <a:xfrm>
            <a:off x="8089200" y="836640"/>
            <a:ext cx="9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30636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1121" dur="1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1125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1818E-006 L -0.29913 0.12908 E">
                                      <p:cBhvr>
                                        <p:cTn id="1129" dur="1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0.39445 0.13949 E">
                                      <p:cBhvr>
                                        <p:cTn id="1133" dur="1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-0.40955 0.517 E">
                                      <p:cBhvr>
                                        <p:cTn id="1137" dur="1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1141" dur="1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1145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2133720" y="4876920"/>
            <a:ext cx="1676160" cy="16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7086600" y="2743200"/>
            <a:ext cx="1676520" cy="17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3962520" y="2438280"/>
            <a:ext cx="1676160" cy="1752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1066680" y="2438280"/>
            <a:ext cx="1752840" cy="1828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5105520" y="4876920"/>
            <a:ext cx="16761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5867280" y="457200"/>
            <a:ext cx="17528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2514600" y="304920"/>
            <a:ext cx="1752480" cy="167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27000" y="115848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91920" y="248436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1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6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 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3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  读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看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行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5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交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8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8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电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筒  听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讲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9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4" dur="20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09:04Z</dcterms:created>
  <dc:creator/>
  <dc:description/>
  <dc:language>en-US</dc:language>
  <cp:lastModifiedBy>ASUS</cp:lastModifiedBy>
  <dcterms:modified xsi:type="dcterms:W3CDTF">2017-10-24T16:03:24Z</dcterms:modified>
  <cp:revision>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