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chimes.wav" ContentType="audio/x-wav"/>
  <Override PartName="/ppt/media/image8.png" ContentType="image/png"/>
  <Override PartName="/ppt/media/image6.png" ContentType="image/png"/>
  <Override PartName="/ppt/media/image11.png" ContentType="image/png"/>
  <Override PartName="/ppt/media/image7.png" ContentType="image/png"/>
  <Override PartName="/ppt/media/applause.wav" ContentType="audio/x-wav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1" descr=""/>
          <p:cNvPicPr/>
          <p:nvPr/>
        </p:nvPicPr>
        <p:blipFill>
          <a:blip r:embed="rId1"/>
          <a:stretch/>
        </p:blipFill>
        <p:spPr>
          <a:xfrm>
            <a:off x="-19080" y="0"/>
            <a:ext cx="9151920" cy="6892920"/>
          </a:xfrm>
          <a:prstGeom prst="rect">
            <a:avLst/>
          </a:prstGeom>
          <a:ln w="0">
            <a:noFill/>
          </a:ln>
        </p:spPr>
      </p:pic>
      <p:sp>
        <p:nvSpPr>
          <p:cNvPr id="40" name="直线连接符 21"/>
          <p:cNvSpPr/>
          <p:nvPr/>
        </p:nvSpPr>
        <p:spPr>
          <a:xfrm>
            <a:off x="2873520" y="3176640"/>
            <a:ext cx="53290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矩形 4"/>
          <p:cNvSpPr/>
          <p:nvPr/>
        </p:nvSpPr>
        <p:spPr>
          <a:xfrm>
            <a:off x="2904840" y="1835280"/>
            <a:ext cx="565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Calibri"/>
              </a:rPr>
              <a:t>zh  ch  sh r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5365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"/>
          <p:cNvSpPr/>
          <p:nvPr/>
        </p:nvSpPr>
        <p:spPr>
          <a:xfrm>
            <a:off x="179280" y="2697120"/>
            <a:ext cx="867420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Calibri"/>
                <a:ea typeface="楷体_GB2312"/>
              </a:rPr>
              <a:t>          </a:t>
            </a:r>
            <a:r>
              <a:rPr b="1" lang="zh-CN" sz="7200" spc="-1" strike="noStrike">
                <a:solidFill>
                  <a:srgbClr val="3366ff"/>
                </a:solidFill>
                <a:latin typeface="Calibri"/>
                <a:ea typeface="楷体_GB2312"/>
              </a:rPr>
              <a:t>zh   ch   sh  r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Calibri"/>
                <a:ea typeface="楷体_GB2312"/>
              </a:rPr>
              <a:t>zhi   chi  shi  ri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96720" y="981000"/>
            <a:ext cx="822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  一  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43040" y="2854440"/>
            <a:ext cx="15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Calibri"/>
                <a:ea typeface="黑体"/>
              </a:rPr>
              <a:t>声母 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25440" y="4726080"/>
            <a:ext cx="226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Calibri"/>
                <a:ea typeface="黑体"/>
              </a:rPr>
              <a:t>整体认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Calibri"/>
                <a:ea typeface="黑体"/>
              </a:rPr>
              <a:t>   </a:t>
            </a:r>
            <a:r>
              <a:rPr b="1" lang="zh-CN" sz="4800" spc="-1" strike="noStrike">
                <a:solidFill>
                  <a:srgbClr val="ff5050"/>
                </a:solidFill>
                <a:latin typeface="Calibri"/>
                <a:ea typeface="黑体"/>
              </a:rPr>
              <a:t>读音节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939960" y="817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  <a:ea typeface="黑体"/>
              </a:rPr>
              <a:t>整 体 认 读 音 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95280" y="2031840"/>
            <a:ext cx="826596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zhi</a:t>
            </a: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   zhī  zhí  zhǐ  zhì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chi</a:t>
            </a: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  chī  chí  chǐ  chì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shi</a:t>
            </a: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  shī  shí  shǐ  shì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ri</a:t>
            </a: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     rī      rí     rǐ     rì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130" name="WordArt 2"/>
          <p:cNvSpPr txBox="1"/>
          <p:nvPr/>
        </p:nvSpPr>
        <p:spPr>
          <a:xfrm>
            <a:off x="4068720" y="1125360"/>
            <a:ext cx="2665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幼圆"/>
              </a:rPr>
              <a:t>比一比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69800" y="3718080"/>
            <a:ext cx="32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alibri"/>
              </a:rPr>
              <a:t>c  ch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541440" y="515772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alibri"/>
              </a:rPr>
              <a:t>s  sh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861080" y="22845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alibri"/>
              </a:rPr>
              <a:t>zi zh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861080" y="3718080"/>
            <a:ext cx="36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alibri"/>
              </a:rPr>
              <a:t>ci ch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861080" y="5157720"/>
            <a:ext cx="36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alibri"/>
              </a:rPr>
              <a:t>si sh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69800" y="2297160"/>
            <a:ext cx="41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alibri"/>
              </a:rPr>
              <a:t>z  zh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9" descr="girl3"/>
          <p:cNvPicPr/>
          <p:nvPr/>
        </p:nvPicPr>
        <p:blipFill>
          <a:blip r:embed="rId2"/>
          <a:stretch/>
        </p:blipFill>
        <p:spPr>
          <a:xfrm>
            <a:off x="7240680" y="4591080"/>
            <a:ext cx="1592280" cy="18716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6637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760320" y="1920960"/>
            <a:ext cx="1152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Calibri"/>
                <a:ea typeface="黑体"/>
              </a:rPr>
              <a:t>绕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Calibri"/>
                <a:ea typeface="黑体"/>
              </a:rPr>
              <a:t>口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Calibri"/>
                <a:ea typeface="黑体"/>
              </a:rPr>
              <a:t>令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同侧圆角矩形 5"/>
          <p:cNvSpPr/>
          <p:nvPr/>
        </p:nvSpPr>
        <p:spPr>
          <a:xfrm>
            <a:off x="468360" y="8380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1" descr="D2JD_5PH7(_[3W5UCXQ[9OC"/>
          <p:cNvPicPr/>
          <p:nvPr/>
        </p:nvPicPr>
        <p:blipFill>
          <a:blip r:embed="rId1"/>
          <a:stretch/>
        </p:blipFill>
        <p:spPr>
          <a:xfrm>
            <a:off x="2330280" y="1522440"/>
            <a:ext cx="63136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914400" y="4267080"/>
            <a:ext cx="731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alibri"/>
              </a:rPr>
              <a:t>ru</a:t>
            </a:r>
            <a:r>
              <a:rPr b="0" lang="zh-CN" sz="80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zh-CN" sz="8000" spc="-1" strike="noStrike">
                <a:solidFill>
                  <a:srgbClr val="000000"/>
                </a:solidFill>
                <a:latin typeface="Calibri"/>
              </a:rPr>
              <a:t>lu    re</a:t>
            </a:r>
            <a:r>
              <a:rPr b="0" lang="zh-CN" sz="80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zh-CN" sz="8000" spc="-1" strike="noStrike">
                <a:solidFill>
                  <a:srgbClr val="000000"/>
                </a:solidFill>
                <a:latin typeface="Calibri"/>
              </a:rPr>
              <a:t>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900000" y="2709720"/>
            <a:ext cx="6353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Arial"/>
              </a:rPr>
              <a:t>看谁读得最准</a:t>
            </a:r>
            <a:endParaRPr b="1" lang="en-US" sz="6000" spc="-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7324560" y="3573360"/>
            <a:ext cx="112104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5219640" y="3573360"/>
            <a:ext cx="10159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12720" y="3573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2844720" y="3573360"/>
            <a:ext cx="1120680" cy="1144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折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7323480" y="189720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h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733320" y="2070000"/>
            <a:ext cx="8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795400" y="2055960"/>
            <a:ext cx="122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h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933080" y="200484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hu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4179240" y="119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Comic Sans MS"/>
                <a:ea typeface="楷体_GB2312"/>
              </a:rPr>
              <a:t>戴帽子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同侧圆角矩形 1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1818E-006 L -0.12673 0.48577 E">
                                      <p:cBhvr>
                                        <p:cTn id="221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1818E-006 L -0.56441 0.12908 E">
                                      <p:cBhvr>
                                        <p:cTn id="225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25607E-006 L -0.11806 0.13949 E">
                                      <p:cBhvr>
                                        <p:cTn id="229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5607E-006 L 0.37743 0.50659 E">
                                      <p:cBhvr>
                                        <p:cTn id="233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msotw9_temp0"/>
          <p:cNvPicPr/>
          <p:nvPr/>
        </p:nvPicPr>
        <p:blipFill>
          <a:blip r:embed="rId1"/>
          <a:srcRect l="49708" t="29963" r="38774" b="62107"/>
          <a:stretch/>
        </p:blipFill>
        <p:spPr>
          <a:xfrm>
            <a:off x="5148360" y="981000"/>
            <a:ext cx="3095640" cy="2679840"/>
          </a:xfrm>
          <a:prstGeom prst="rect">
            <a:avLst/>
          </a:prstGeom>
          <a:ln w="0">
            <a:noFill/>
          </a:ln>
        </p:spPr>
      </p:pic>
      <p:sp>
        <p:nvSpPr>
          <p:cNvPr id="45" name="Line 4"/>
          <p:cNvSpPr/>
          <p:nvPr/>
        </p:nvSpPr>
        <p:spPr>
          <a:xfrm>
            <a:off x="2484360" y="378936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5"/>
          <p:cNvSpPr/>
          <p:nvPr/>
        </p:nvSpPr>
        <p:spPr>
          <a:xfrm>
            <a:off x="2484360" y="638172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6"/>
          <p:cNvSpPr/>
          <p:nvPr/>
        </p:nvSpPr>
        <p:spPr>
          <a:xfrm>
            <a:off x="2484360" y="5516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7"/>
          <p:cNvSpPr/>
          <p:nvPr/>
        </p:nvSpPr>
        <p:spPr>
          <a:xfrm>
            <a:off x="2484360" y="458136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264560" y="3716280"/>
            <a:ext cx="18403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ff0066"/>
                </a:solidFill>
                <a:latin typeface="Calibri"/>
              </a:rPr>
              <a:t>zh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55400" y="4076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翘舌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图片 1" descr="5{58%Y25]068C$BU7G_GYH3"/>
          <p:cNvPicPr/>
          <p:nvPr/>
        </p:nvPicPr>
        <p:blipFill>
          <a:blip r:embed="rId2"/>
          <a:stretch/>
        </p:blipFill>
        <p:spPr>
          <a:xfrm>
            <a:off x="2070000" y="2155680"/>
            <a:ext cx="29149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 flipH="1">
            <a:off x="3492360" y="692280"/>
            <a:ext cx="31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Calibri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140360" y="2781360"/>
            <a:ext cx="424800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zh--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ɑ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—zh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ɑ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zh—e--zh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zh—u--zhu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zh—u—o--zhu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msotw9_temp0"/>
          <p:cNvPicPr/>
          <p:nvPr/>
        </p:nvPicPr>
        <p:blipFill>
          <a:blip r:embed="rId1"/>
          <a:srcRect l="50210" t="44423" r="39778" b="49047"/>
          <a:stretch/>
        </p:blipFill>
        <p:spPr>
          <a:xfrm>
            <a:off x="4132440" y="981000"/>
            <a:ext cx="2514600" cy="213372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1535040" y="3114720"/>
            <a:ext cx="58327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5"/>
          <p:cNvSpPr/>
          <p:nvPr/>
        </p:nvSpPr>
        <p:spPr>
          <a:xfrm>
            <a:off x="1535040" y="6283440"/>
            <a:ext cx="58327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6"/>
          <p:cNvSpPr/>
          <p:nvPr/>
        </p:nvSpPr>
        <p:spPr>
          <a:xfrm>
            <a:off x="1535040" y="5273640"/>
            <a:ext cx="583272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7"/>
          <p:cNvSpPr/>
          <p:nvPr/>
        </p:nvSpPr>
        <p:spPr>
          <a:xfrm>
            <a:off x="1535040" y="4121280"/>
            <a:ext cx="583272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310200" y="3114720"/>
            <a:ext cx="22518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0066"/>
                </a:solidFill>
                <a:latin typeface="Calibri"/>
              </a:rPr>
              <a:t>ch</a:t>
            </a:r>
            <a:endParaRPr b="0" lang="en-US" sz="1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984000" y="8827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同侧圆角矩形 10"/>
          <p:cNvSpPr/>
          <p:nvPr/>
        </p:nvSpPr>
        <p:spPr>
          <a:xfrm>
            <a:off x="330120" y="264960"/>
            <a:ext cx="2073240" cy="1028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线连接符 21"/>
          <p:cNvSpPr/>
          <p:nvPr/>
        </p:nvSpPr>
        <p:spPr>
          <a:xfrm flipV="1">
            <a:off x="330120" y="140652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844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1" descr="Q(VAYIZFO]Q`QS(}UGO614R"/>
          <p:cNvPicPr/>
          <p:nvPr/>
        </p:nvPicPr>
        <p:blipFill>
          <a:blip r:embed="rId2"/>
          <a:stretch/>
        </p:blipFill>
        <p:spPr>
          <a:xfrm>
            <a:off x="1515960" y="1523880"/>
            <a:ext cx="20480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 flipH="1">
            <a:off x="3784680" y="81108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9600" spc="-1" strike="noStrike">
                <a:solidFill>
                  <a:srgbClr val="ff0000"/>
                </a:solidFill>
                <a:latin typeface="Calibri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211640" y="2827440"/>
            <a:ext cx="389088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ch—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ɑ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—ch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ch—e—c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ch—u—ch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ch—u—o--chu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19462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1946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msotw9_temp0"/>
          <p:cNvPicPr/>
          <p:nvPr/>
        </p:nvPicPr>
        <p:blipFill>
          <a:blip r:embed="rId1"/>
          <a:srcRect l="50005" t="57789" r="42750" b="35081"/>
          <a:stretch/>
        </p:blipFill>
        <p:spPr>
          <a:xfrm>
            <a:off x="4861080" y="1054080"/>
            <a:ext cx="27097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139"/>
          <p:cNvPicPr/>
          <p:nvPr/>
        </p:nvPicPr>
        <p:blipFill>
          <a:blip r:embed="rId2"/>
          <a:stretch/>
        </p:blipFill>
        <p:spPr>
          <a:xfrm>
            <a:off x="7589880" y="3041640"/>
            <a:ext cx="1600200" cy="3124080"/>
          </a:xfrm>
          <a:prstGeom prst="rect">
            <a:avLst/>
          </a:prstGeom>
          <a:ln w="0">
            <a:noFill/>
          </a:ln>
        </p:spPr>
      </p:pic>
      <p:sp>
        <p:nvSpPr>
          <p:cNvPr id="81" name="Line 5"/>
          <p:cNvSpPr/>
          <p:nvPr/>
        </p:nvSpPr>
        <p:spPr>
          <a:xfrm>
            <a:off x="1593720" y="3114720"/>
            <a:ext cx="58327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6"/>
          <p:cNvSpPr/>
          <p:nvPr/>
        </p:nvSpPr>
        <p:spPr>
          <a:xfrm>
            <a:off x="1593720" y="4121280"/>
            <a:ext cx="583272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7"/>
          <p:cNvSpPr/>
          <p:nvPr/>
        </p:nvSpPr>
        <p:spPr>
          <a:xfrm>
            <a:off x="1593720" y="5273640"/>
            <a:ext cx="583272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8"/>
          <p:cNvSpPr/>
          <p:nvPr/>
        </p:nvSpPr>
        <p:spPr>
          <a:xfrm>
            <a:off x="1593720" y="6283440"/>
            <a:ext cx="58327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332520" y="3114720"/>
            <a:ext cx="2181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0066"/>
                </a:solidFill>
                <a:latin typeface="Calibri"/>
              </a:rPr>
              <a:t>sh</a:t>
            </a:r>
            <a:endParaRPr b="0" lang="en-US" sz="1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同侧圆角矩形 1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1" descr="G94B8}2065A(2T41F62(B$Y"/>
          <p:cNvPicPr/>
          <p:nvPr/>
        </p:nvPicPr>
        <p:blipFill>
          <a:blip r:embed="rId3"/>
          <a:stretch/>
        </p:blipFill>
        <p:spPr>
          <a:xfrm>
            <a:off x="2468520" y="1574640"/>
            <a:ext cx="21049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924360" y="836640"/>
            <a:ext cx="38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9600" spc="-1" strike="noStrike">
                <a:solidFill>
                  <a:srgbClr val="ff0000"/>
                </a:solidFill>
                <a:latin typeface="Calibri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788000" y="2708280"/>
            <a:ext cx="381636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sh—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ɑ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—sh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sh—e—s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sh—u—sh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sh—u—o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shu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5682600" y="1125360"/>
            <a:ext cx="201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18000" spc="-1" strike="noStrike">
                <a:solidFill>
                  <a:srgbClr val="ff0000"/>
                </a:solidFill>
                <a:latin typeface="Calibri"/>
              </a:rPr>
              <a:t>r </a:t>
            </a:r>
            <a:endParaRPr b="0" lang="en-US" sz="1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702320" y="460836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re       r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1" descr="TO_ER5EWNBUU5IQA71}KO_Y"/>
          <p:cNvPicPr/>
          <p:nvPr/>
        </p:nvPicPr>
        <p:blipFill>
          <a:blip r:embed="rId1"/>
          <a:stretch/>
        </p:blipFill>
        <p:spPr>
          <a:xfrm>
            <a:off x="736560" y="2311560"/>
            <a:ext cx="3251160" cy="37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103" name="Line 2"/>
          <p:cNvSpPr/>
          <p:nvPr/>
        </p:nvSpPr>
        <p:spPr>
          <a:xfrm>
            <a:off x="12600" y="3556080"/>
            <a:ext cx="9296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12600" y="4241880"/>
            <a:ext cx="9296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12600" y="4927680"/>
            <a:ext cx="9296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4920" y="5661000"/>
            <a:ext cx="9296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7333560" y="3387600"/>
            <a:ext cx="1410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2000" spc="-1" strike="noStrike">
                <a:solidFill>
                  <a:srgbClr val="ff0000"/>
                </a:solidFill>
                <a:latin typeface="Calibri"/>
              </a:rPr>
              <a:t>r 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-25920" y="3448080"/>
            <a:ext cx="2293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2000" spc="-1" strike="noStrike">
                <a:solidFill>
                  <a:srgbClr val="ff0000"/>
                </a:solidFill>
                <a:latin typeface="Calibri"/>
              </a:rPr>
              <a:t>zh 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287080" y="3403440"/>
            <a:ext cx="2325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2000" spc="-1" strike="noStrike">
                <a:solidFill>
                  <a:srgbClr val="ff0000"/>
                </a:solidFill>
                <a:latin typeface="Calibri"/>
              </a:rPr>
              <a:t>ch 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-520560" y="1265400"/>
            <a:ext cx="100584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0000"/>
                </a:solidFill>
                <a:latin typeface="Calibri"/>
                <a:ea typeface="楷体_GB2312"/>
              </a:rPr>
              <a:t>zh  ch  sh  r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765320" y="3403440"/>
            <a:ext cx="22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2000" spc="-1" strike="noStrike">
                <a:solidFill>
                  <a:srgbClr val="ff0000"/>
                </a:solidFill>
                <a:latin typeface="Calibri"/>
              </a:rPr>
              <a:t>sh 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同侧圆角矩形 1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32:00Z</dcterms:created>
  <dc:creator/>
  <dc:description/>
  <cp:keywords/>
  <dc:language>en-US</dc:language>
  <cp:lastModifiedBy>User</cp:lastModifiedBy>
  <dcterms:modified xsi:type="dcterms:W3CDTF">2016-10-15T12:45:07Z</dcterms:modified>
  <cp:revision>6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