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29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12.wmf" ContentType="image/x-wmf"/>
  <Override PartName="/ppt/media/image8.png" ContentType="image/pn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3DD-2F59-4F15-A656-9D7D3A0D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AE1-8734-4C2E-8FEF-DCEC1CC5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E4018-1CE7-4C29-82D0-3A8044B5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5DEB4-099B-492B-9147-A1E16C4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305BF-1630-4289-B3F4-EDA43B6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9F011-195D-4F52-BC91-3E31DE64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8451B-1759-404D-8433-FEE3E91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E8837-56E5-4049-ACCB-E89BBDB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1422D-2A16-4DF3-B6C5-28C76B0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F7BB-ACE7-4171-B406-DD565185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B9837-E8CC-4BB7-95AD-0D50A821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4E332-691D-4322-A3B3-359B69DD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6F3-E0D3-42E2-BC84-F42A09D3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BC6BB-FF02-46FE-B5A6-565FA80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AD11A-E2FC-44C4-8579-3F36CD05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23715-58FF-4425-9721-34B226E7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947A4-A615-4105-B0F8-C2BCD83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6E831-43F1-46E4-89A6-4E6A714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5C517-273E-49DA-AB7B-9CD5FC8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15738-89FC-435F-AE50-A9579B6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807A1-E68D-4A42-A56C-4C1A24B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6B442-8C33-429F-9BAC-5A0F573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5649E-1257-4102-85A6-95A0EDE8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1B5-700F-4806-AA30-B0493E16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9EC42-E3AB-4E47-A5C1-F7CA92B4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49F03-767F-4684-A163-2DFD1DD3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F5028-44C2-4CA3-A9B5-8475BDBF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F7468-7CB1-4DB1-B4A4-12F5175B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C32BC-4CFA-4CB9-AEB0-412D70E4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7DBD6-F964-4795-8203-6C56C60B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141BA-9443-4768-9CA9-08705F03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BEB18-906D-4760-8A9F-95A0F1D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FCB44-CC6D-448B-B125-1F052656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CA1A-F7DC-4288-933B-B5700E1A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F914-F161-484B-8FA2-B619A43C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9A20B-8091-42DF-B214-A1C1102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55A73-1720-4782-B8E6-9BAA91C3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D758-A037-4361-8A42-FCE4C136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E9F-B35F-4239-845E-8B654C23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0C1-B824-4E91-B384-E730137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D551-2200-4F53-87B6-EDC7007D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56E6-8AA1-43AC-BE9D-81BF301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84A-2733-4400-A4E3-84F19145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E72-4641-4AEB-A9BE-3089179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6B7-D1E9-4F55-81D0-66759282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62E-4243-4241-BA41-F7BF5A9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1266-102C-46AE-9E59-45EEE59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C855-3B3F-48FA-BB70-3508E216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74A8-1624-47E2-8FE8-4BC1F00B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4A6-0813-4837-8432-AB7C069C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E98C-378A-453C-9651-236D863B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E8CC-7E08-4547-8A46-CCD0E30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9BB8-75A7-4E34-ADEA-7A0B8C90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4B20-1BF8-4769-BBC8-4E473395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AFB5-663D-466A-BFA4-CD423C1E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982-7445-4A3B-B1A0-47DD9362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0B3E-F21D-4D6A-9524-F927BBD1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9775-D7C8-4178-97A6-F153B15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BE5B-3D01-4CF1-A007-A6AB4EB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84F2-39B4-448D-A92D-542E398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B524-5CDC-47BB-8252-DF0AB64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87D5-4E96-409A-8A51-C29CDDC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6918-D56B-4C33-807F-55721519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2197-E9B8-4E6E-8ADB-89164E0E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0744-03B1-431C-9E83-F7139D20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19E3-3B04-495C-981F-9FD3AB1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96D-33F6-44E1-A8CD-EBB8EA7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23CE-8E3E-4C7E-BF32-39F1A15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7A08-8C16-4BA4-9938-E3E2549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2F88-994C-4754-BE2F-D5DCD63B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BE22-B8D7-40A2-BE65-C0AB120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F0BA-FE6D-4C1D-B1C4-1AF4A97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CA8A3-F2CC-463D-A5C1-7673AAB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256F-5305-4615-8DCF-E5D8D7E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798D-C42D-4CB7-A72E-71B3EA14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A787-3BCA-4162-9904-965F643B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1F5E-B9D7-4CC0-9F96-DF0F3C13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DE5-F841-4A0A-A951-A4C6BAD0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5B48-AA15-4CF3-85FF-0E48C79F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68E42-8243-45A6-8F69-4B1ACFA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0C180-0758-4F0C-A92E-C0B726DB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08C1A-04D9-4048-B50D-16E1129D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F95B-76C7-45B2-BC8D-B533F8AE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E86E-0FFF-491C-95BC-0E505F4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A03AB-D46A-4777-84B3-C9FA358F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CA84-60A3-430D-B5E9-6DB9D3D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FD23-AA39-4F40-801C-F5B7C60C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F626-F8E8-4592-B753-DE060DAB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E1F-AAC0-4A94-8E50-2D72935A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F522-0E62-402B-9C6A-5E114F7D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AD2B-E6AA-4267-9589-DFEBC85F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4E7FD-EBB9-4828-BAF6-75C5E551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8404-143C-45DC-A68B-CF426C0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F4C3-E6DB-4A22-A6C5-0050E62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3444-9202-423A-825A-CFFBF81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DF7E-914A-4AC1-828B-226215B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A47F2-A1DB-4240-A5FE-9147321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1509-8478-4DAC-82B6-DA74A74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EC950-DD90-48A4-A098-3EBED4C1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531-0DA7-4AF1-90DE-3D45F8F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66C6-FBFE-44A8-953B-00E032A0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E59B-EA71-4323-A519-CA9B824A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2BF4-66B6-40F2-8C25-011F1C8A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63F2-187E-4661-9B80-91E9E052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943DA-4EF4-440A-BC80-B14DA08F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7403-F149-432A-9E48-49B84415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7FE8F-C5C5-49F4-BFA3-BDF07B16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A7EA-8B3C-4CB4-8FEA-83220CA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9C2E-B4F5-42D5-8D76-ED87CE3E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2768F-0D32-4C27-97C4-8C2123A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929-6DBD-4271-8E4C-A6BBBE9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437D9-06F7-4675-8898-C23DC36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4196B-A0A7-4987-BBB8-EBE6B3D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74A4A-177E-4282-9883-9A969977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C2A7-441A-40F5-ABF3-CF784229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D657-260F-4625-B890-D296BFE1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0AA75-E254-4660-9293-E6D71DB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2F47-D12B-427C-9404-3E6365A8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26A33-296E-4259-A90D-EA6009CC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E36DC-1981-42F7-A584-3F65FF9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9333-6009-49C0-B34A-A69DB3A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FA8-3BC1-405F-A192-D059F7A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DE2B-8A38-4B6C-BF81-FC4B5D2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E190-3EA8-429E-9537-F1C7051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8559-88A2-48F5-97FE-EEFC9DD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AD9E-62B1-4384-BD95-277BF49D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8B55E-A9E5-44E0-B2B4-004526D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59D25-5062-4A8F-8830-0C129BE0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08A49-ABF0-43C7-8630-D071BEBE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01042-F7BD-43F9-9597-E9736A1C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EACE5-3DF4-4D33-B019-E788AE8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C0E56-10AE-4EE8-BBCE-40CC366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351-17EE-4B82-B749-AC3229E56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39B9-38A7-4786-AED7-3EAE262BD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51DF-570E-4995-917F-A1CBF3237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F02-4087-4904-B5BB-13D94DC70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092B-2FCF-42F7-B04B-BD76FCFAA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D854-012C-447E-A5E2-27CDB53EC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79E-BEFC-465D-8E1F-E1C4687D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9CE3-801A-49A5-917D-BFF4E2AC7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158-9A7B-4F7A-9ECE-8919AF76A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6DE-6E5A-4CC8-802A-407173B1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AA1-CF2C-4755-8824-E57D3C46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200861795854662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dyd"/>
          <p:cNvPicPr/>
          <p:nvPr/>
        </p:nvPicPr>
        <p:blipFill>
          <a:blip r:embed="rId3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A520-DEB7-4B1E-A4CC-B248922B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2007012723312755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97164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标调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187280" y="90792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ɑ o e,i u 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标调时按顺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，不放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标调就摘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并排标后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01C-487A-496D-9E9A-A2B73B927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3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4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3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4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46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547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48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49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550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1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553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4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5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556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7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5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65C6-DCFB-4B4D-9161-477C23AFE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469440" y="7200"/>
            <a:ext cx="8461080" cy="6801120"/>
            <a:chOff x="469440" y="7200"/>
            <a:chExt cx="8461080" cy="6801120"/>
          </a:xfrm>
        </p:grpSpPr>
        <p:sp>
          <p:nvSpPr>
            <p:cNvPr id="562" name="AutoShape 4"/>
            <p:cNvSpPr/>
            <p:nvPr/>
          </p:nvSpPr>
          <p:spPr>
            <a:xfrm rot="3261600">
              <a:off x="6045480" y="25596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 rot="4644000">
              <a:off x="6609600" y="1465920"/>
              <a:ext cx="186228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6"/>
            <p:cNvSpPr/>
            <p:nvPr/>
          </p:nvSpPr>
          <p:spPr>
            <a:xfrm rot="7293600">
              <a:off x="6059160" y="413496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 rot="5988000">
              <a:off x="6604920" y="282420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8"/>
            <p:cNvSpPr/>
            <p:nvPr/>
          </p:nvSpPr>
          <p:spPr>
            <a:xfrm rot="14237400">
              <a:off x="1357560" y="4151880"/>
              <a:ext cx="1862280" cy="24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9"/>
            <p:cNvSpPr/>
            <p:nvPr/>
          </p:nvSpPr>
          <p:spPr>
            <a:xfrm rot="15619800">
              <a:off x="894240" y="294552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0"/>
            <p:cNvSpPr/>
            <p:nvPr/>
          </p:nvSpPr>
          <p:spPr>
            <a:xfrm rot="16963200">
              <a:off x="931680" y="155664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1"/>
            <p:cNvSpPr/>
            <p:nvPr/>
          </p:nvSpPr>
          <p:spPr>
            <a:xfrm rot="18269400">
              <a:off x="1473120" y="28728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3278160" y="2057400"/>
              <a:ext cx="281916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WordArt 13"/>
            <p:cNvSpPr txBox="1"/>
            <p:nvPr/>
          </p:nvSpPr>
          <p:spPr>
            <a:xfrm>
              <a:off x="3735360" y="2514600"/>
              <a:ext cx="178092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7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4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577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78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79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580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1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583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4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586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7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8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EFD4-A600-475F-83A2-BF74568C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9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02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3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5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607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08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610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1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2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613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4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5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616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7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1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7BF1-66E8-4C45-B4C9-707DF93B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ai4"/>
          <p:cNvPicPr/>
          <p:nvPr/>
        </p:nvPicPr>
        <p:blipFill>
          <a:blip r:embed="rId1"/>
          <a:stretch/>
        </p:blipFill>
        <p:spPr>
          <a:xfrm>
            <a:off x="2916360" y="333360"/>
            <a:ext cx="3487680" cy="5357880"/>
          </a:xfrm>
          <a:prstGeom prst="rect">
            <a:avLst/>
          </a:prstGeom>
          <a:ln w="0">
            <a:noFill/>
          </a:ln>
        </p:spPr>
      </p:pic>
      <p:sp>
        <p:nvSpPr>
          <p:cNvPr id="62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3873-5342-4FF3-9F62-3237B9DE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ai5"/>
          <p:cNvPicPr/>
          <p:nvPr/>
        </p:nvPicPr>
        <p:blipFill>
          <a:blip r:embed="rId1"/>
          <a:stretch/>
        </p:blipFill>
        <p:spPr>
          <a:xfrm>
            <a:off x="2771640" y="404640"/>
            <a:ext cx="3649680" cy="5381640"/>
          </a:xfrm>
          <a:prstGeom prst="rect">
            <a:avLst/>
          </a:prstGeom>
          <a:ln w="0">
            <a:noFill/>
          </a:ln>
        </p:spPr>
      </p:pic>
      <p:sp>
        <p:nvSpPr>
          <p:cNvPr id="62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FBA-D6AE-4839-8D42-21563B537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ai6"/>
          <p:cNvPicPr/>
          <p:nvPr/>
        </p:nvPicPr>
        <p:blipFill>
          <a:blip r:embed="rId1"/>
          <a:stretch/>
        </p:blipFill>
        <p:spPr>
          <a:xfrm>
            <a:off x="2627280" y="404640"/>
            <a:ext cx="3941640" cy="576432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E54-0A53-4DA0-AA42-3CD149E74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ai7"/>
          <p:cNvPicPr/>
          <p:nvPr/>
        </p:nvPicPr>
        <p:blipFill>
          <a:blip r:embed="rId1"/>
          <a:stretch/>
        </p:blipFill>
        <p:spPr>
          <a:xfrm>
            <a:off x="755640" y="7668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63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707F-42F1-4FBD-A5A6-2559B729F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9" descr="168_5795"/>
          <p:cNvPicPr/>
          <p:nvPr/>
        </p:nvPicPr>
        <p:blipFill>
          <a:blip r:embed="rId2"/>
          <a:stretch/>
        </p:blipFill>
        <p:spPr>
          <a:xfrm>
            <a:off x="1042920" y="2637000"/>
            <a:ext cx="5145120" cy="3652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2500560" y="620640"/>
            <a:ext cx="2478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á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c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白     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5919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741-4566-4FEB-82AF-F07D8A8E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73806f722rfnycd"/>
          <p:cNvPicPr/>
          <p:nvPr/>
        </p:nvPicPr>
        <p:blipFill>
          <a:blip r:embed="rId2"/>
          <a:stretch/>
        </p:blipFill>
        <p:spPr>
          <a:xfrm>
            <a:off x="1979640" y="278136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2202480" y="649440"/>
            <a:ext cx="29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玫       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2DF6-801E-488F-968D-CF6767968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3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MS PGothic"/>
              </a:rPr>
              <a:t>a o e i u 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1763640" y="1052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单韵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763640" y="35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á  è  ǐ  ū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BB8-61A7-475B-BCE0-131C8D3B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20075180292"/>
          <p:cNvPicPr/>
          <p:nvPr/>
        </p:nvPicPr>
        <p:blipFill>
          <a:blip r:embed="rId2"/>
          <a:stretch/>
        </p:blipFill>
        <p:spPr>
          <a:xfrm>
            <a:off x="1476360" y="2708280"/>
            <a:ext cx="4317840" cy="35305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370600" y="620640"/>
            <a:ext cx="26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杯 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915-8D3F-4AB8-A3A5-5A0109615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8"/>
          <p:cNvSpPr/>
          <p:nvPr/>
        </p:nvSpPr>
        <p:spPr>
          <a:xfrm>
            <a:off x="228276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20051475036753"/>
          <p:cNvPicPr/>
          <p:nvPr/>
        </p:nvPicPr>
        <p:blipFill>
          <a:blip r:embed="rId2"/>
          <a:stretch/>
        </p:blipFill>
        <p:spPr>
          <a:xfrm>
            <a:off x="1763640" y="2708280"/>
            <a:ext cx="3960720" cy="3429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1"/>
          <p:cNvSpPr/>
          <p:nvPr/>
        </p:nvSpPr>
        <p:spPr>
          <a:xfrm>
            <a:off x="2508120" y="636480"/>
            <a:ext cx="227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9137-E597-4F84-8CA6-9924F92C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339640" y="620640"/>
            <a:ext cx="268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     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       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yqlovestory,20070707123315855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D23B-0003-4BF5-B38D-29FEACA4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haigui2_002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310120" y="620640"/>
            <a:ext cx="26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海     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E14-FFF8-41FF-8F62-CF9B3282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964300221847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85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2397960" y="620640"/>
            <a:ext cx="231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飞     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8BE-A3CA-4754-A9AC-E6AF9DF8D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200610822521553377"/>
          <p:cNvPicPr/>
          <p:nvPr/>
        </p:nvPicPr>
        <p:blipFill>
          <a:blip r:embed="rId2"/>
          <a:stretch/>
        </p:blipFill>
        <p:spPr>
          <a:xfrm>
            <a:off x="539640" y="2492280"/>
            <a:ext cx="6264360" cy="39229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185560" y="620640"/>
            <a:ext cx="285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梅      花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4268-9062-4AAF-BBDB-09FE89F2B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016p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751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491200" y="549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sh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袋   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C07-96A3-4BA5-B689-28420307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butterfly1"/>
          <p:cNvPicPr/>
          <p:nvPr/>
        </p:nvPicPr>
        <p:blipFill>
          <a:blip r:embed="rId2"/>
          <a:stretch/>
        </p:blipFill>
        <p:spPr>
          <a:xfrm>
            <a:off x="900000" y="414972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butterfly1"/>
          <p:cNvPicPr/>
          <p:nvPr/>
        </p:nvPicPr>
        <p:blipFill>
          <a:blip r:embed="rId3"/>
          <a:stretch/>
        </p:blipFill>
        <p:spPr>
          <a:xfrm>
            <a:off x="2268360" y="4724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112536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ái ɡē      dài shǔ    mǎi c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á bēi    huà méi   wěi b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uíjīn     hē shuǐ    pái d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4552-738F-48B8-A88B-4AE0802F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2334240" y="575136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āi sh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栽  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839400" y="575136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i t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  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238720" y="573408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í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 水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898560" y="4665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ā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h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ǒ  qù  tí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栽    树  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培   土 ， 我   去  提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C33-00AD-4384-8AAD-1B675D0F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W020070323694530889248"/>
          <p:cNvPicPr/>
          <p:nvPr/>
        </p:nvPicPr>
        <p:blipFill>
          <a:blip r:embed="rId1"/>
          <a:srcRect l="14433" t="19520" r="10867" b="24384"/>
          <a:stretch/>
        </p:blipFill>
        <p:spPr>
          <a:xfrm>
            <a:off x="-36360" y="0"/>
            <a:ext cx="9432720" cy="566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826920" y="58294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（    ），他（    ），我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7D1-9F33-48E2-9A72-6AEDEEE8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Documents and Settings\dell\桌面\12.jpg"/>
          <p:cNvPicPr/>
          <p:nvPr/>
        </p:nvPicPr>
        <p:blipFill>
          <a:blip r:embed="rId1"/>
          <a:stretch/>
        </p:blipFill>
        <p:spPr>
          <a:xfrm>
            <a:off x="0" y="0"/>
            <a:ext cx="913140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395280" y="90792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单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435640" y="981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557440" y="4076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52280" y="4067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787400" y="5373720"/>
            <a:ext cx="4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2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85308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439640" y="3929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4C0-AA9D-4EFB-B85A-CCE69277F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3"/>
          <p:cNvGrpSpPr/>
          <p:nvPr/>
        </p:nvGrpSpPr>
        <p:grpSpPr>
          <a:xfrm>
            <a:off x="4140360" y="2205000"/>
            <a:ext cx="4176360" cy="1584000"/>
            <a:chOff x="4140360" y="2205000"/>
            <a:chExt cx="4176360" cy="1584000"/>
          </a:xfrm>
        </p:grpSpPr>
        <p:sp>
          <p:nvSpPr>
            <p:cNvPr id="478" name="WordArt 4"/>
            <p:cNvSpPr txBox="1"/>
            <p:nvPr/>
          </p:nvSpPr>
          <p:spPr>
            <a:xfrm>
              <a:off x="414036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79" name="WordArt 5"/>
            <p:cNvSpPr txBox="1"/>
            <p:nvPr/>
          </p:nvSpPr>
          <p:spPr>
            <a:xfrm>
              <a:off x="732564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0" name="WordArt 6"/>
            <p:cNvSpPr txBox="1"/>
            <p:nvPr/>
          </p:nvSpPr>
          <p:spPr>
            <a:xfrm>
              <a:off x="5768640" y="2205000"/>
              <a:ext cx="99072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81" name="WordArt 7"/>
          <p:cNvSpPr txBox="1"/>
          <p:nvPr/>
        </p:nvSpPr>
        <p:spPr>
          <a:xfrm>
            <a:off x="826920" y="2205000"/>
            <a:ext cx="25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复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68360" y="549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拼音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CBBD-D42F-4266-9717-D054D388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b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525780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ɑ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4211640" y="4076640"/>
            <a:ext cx="4648320" cy="895320"/>
            <a:chOff x="4211640" y="4076640"/>
            <a:chExt cx="4648320" cy="895320"/>
          </a:xfrm>
        </p:grpSpPr>
        <p:sp>
          <p:nvSpPr>
            <p:cNvPr id="488" name="WordArt 6"/>
            <p:cNvSpPr txBox="1"/>
            <p:nvPr/>
          </p:nvSpPr>
          <p:spPr>
            <a:xfrm>
              <a:off x="42116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ā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9" name="WordArt 7"/>
            <p:cNvSpPr txBox="1"/>
            <p:nvPr/>
          </p:nvSpPr>
          <p:spPr>
            <a:xfrm>
              <a:off x="5507280" y="407664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á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0" name="WordArt 8"/>
            <p:cNvSpPr txBox="1"/>
            <p:nvPr/>
          </p:nvSpPr>
          <p:spPr>
            <a:xfrm>
              <a:off x="680256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ǎ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1" name="WordArt 9"/>
            <p:cNvSpPr txBox="1"/>
            <p:nvPr/>
          </p:nvSpPr>
          <p:spPr>
            <a:xfrm>
              <a:off x="80978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à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92" name="Text Box 10"/>
          <p:cNvSpPr/>
          <p:nvPr/>
        </p:nvSpPr>
        <p:spPr>
          <a:xfrm>
            <a:off x="4859280" y="3573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122B-3499-4CDD-9846-B2A9D54EA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562720" y="137160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284720" y="4005360"/>
            <a:ext cx="4647960" cy="895320"/>
            <a:chOff x="4284720" y="4005360"/>
            <a:chExt cx="4647960" cy="895320"/>
          </a:xfrm>
        </p:grpSpPr>
        <p:sp>
          <p:nvSpPr>
            <p:cNvPr id="497" name="WordArt 5"/>
            <p:cNvSpPr txBox="1"/>
            <p:nvPr/>
          </p:nvSpPr>
          <p:spPr>
            <a:xfrm>
              <a:off x="42847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ē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8" name="WordArt 6"/>
            <p:cNvSpPr txBox="1"/>
            <p:nvPr/>
          </p:nvSpPr>
          <p:spPr>
            <a:xfrm>
              <a:off x="55800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é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9" name="WordArt 7"/>
            <p:cNvSpPr txBox="1"/>
            <p:nvPr/>
          </p:nvSpPr>
          <p:spPr>
            <a:xfrm>
              <a:off x="687528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ě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00" name="WordArt 8"/>
            <p:cNvSpPr txBox="1"/>
            <p:nvPr/>
          </p:nvSpPr>
          <p:spPr>
            <a:xfrm>
              <a:off x="81709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è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01" name="Picture 12" descr="e57b0565-c5b2-444d-9e93-ecfe79fd6f75"/>
          <p:cNvPicPr/>
          <p:nvPr/>
        </p:nvPicPr>
        <p:blipFill>
          <a:blip r:embed="rId2"/>
          <a:stretch/>
        </p:blipFill>
        <p:spPr>
          <a:xfrm>
            <a:off x="0" y="404640"/>
            <a:ext cx="4067280" cy="5400720"/>
          </a:xfrm>
          <a:prstGeom prst="rect">
            <a:avLst/>
          </a:prstGeom>
          <a:ln w="0">
            <a:noFill/>
          </a:ln>
        </p:spPr>
      </p:pic>
      <p:pic>
        <p:nvPicPr>
          <p:cNvPr id="502" name="拔萝卜.mp3" descr=""/>
          <p:cNvPicPr/>
          <p:nvPr/>
        </p:nvPicPr>
        <p:blipFill>
          <a:blip r:embed="rId3"/>
          <a:stretch/>
        </p:blipFill>
        <p:spPr>
          <a:xfrm>
            <a:off x="18352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A638-C00F-439C-A553-1CB97FB2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742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279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3"/>
          <p:cNvSpPr txBox="1"/>
          <p:nvPr/>
        </p:nvSpPr>
        <p:spPr>
          <a:xfrm>
            <a:off x="563868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4211640" y="4005360"/>
            <a:ext cx="4647960" cy="895320"/>
            <a:chOff x="4211640" y="4005360"/>
            <a:chExt cx="4647960" cy="895320"/>
          </a:xfrm>
        </p:grpSpPr>
        <p:sp>
          <p:nvSpPr>
            <p:cNvPr id="509" name="WordArt 5"/>
            <p:cNvSpPr txBox="1"/>
            <p:nvPr/>
          </p:nvSpPr>
          <p:spPr>
            <a:xfrm>
              <a:off x="42116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0" name="WordArt 6"/>
            <p:cNvSpPr txBox="1"/>
            <p:nvPr/>
          </p:nvSpPr>
          <p:spPr>
            <a:xfrm>
              <a:off x="550692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1" name="WordArt 7"/>
            <p:cNvSpPr txBox="1"/>
            <p:nvPr/>
          </p:nvSpPr>
          <p:spPr>
            <a:xfrm>
              <a:off x="68022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2" name="WordArt 8"/>
            <p:cNvSpPr txBox="1"/>
            <p:nvPr/>
          </p:nvSpPr>
          <p:spPr>
            <a:xfrm>
              <a:off x="80978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13" name="Picture 9" descr="c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57A-71CE-420B-99AD-CEA68DEAE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666666"/>
          <p:cNvPicPr/>
          <p:nvPr/>
        </p:nvPicPr>
        <p:blipFill>
          <a:blip r:embed="rId1"/>
          <a:stretch/>
        </p:blipFill>
        <p:spPr>
          <a:xfrm>
            <a:off x="-60948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3551040" y="1557360"/>
            <a:ext cx="6523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白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白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wěi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尾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zuǐ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嘴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zài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在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1DC-994C-4B91-9D34-9D7AADA3F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666666"/>
          <p:cNvPicPr/>
          <p:nvPr/>
        </p:nvPicPr>
        <p:blipFill>
          <a:blip r:embed="rId1"/>
          <a:stretch/>
        </p:blipFill>
        <p:spPr>
          <a:xfrm>
            <a:off x="-324000" y="-136440"/>
            <a:ext cx="9649080" cy="7237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708360" y="1125360"/>
            <a:ext cx="5651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ě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尾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uǐ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嘴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à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6E24-1247-4C3A-BA3D-0F4C9A1A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048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1:10Z</dcterms:created>
  <dc:creator/>
  <dc:description/>
  <cp:keywords/>
  <dc:language>en-US</dc:language>
  <cp:lastModifiedBy>User</cp:lastModifiedBy>
  <dcterms:modified xsi:type="dcterms:W3CDTF">2016-10-05T12:57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