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1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977-DE59-414B-80E3-D1D200A0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0DF-0EF6-4387-ADA0-8AF553F8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43B-EA6D-4C1A-8E26-2BA68130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990-4D21-4C9C-A7FA-A36C104B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B87-00E4-4885-8069-0ED4B051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64F-04B7-4DC1-A35C-DB22B4C3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79E-5D20-42BE-AD21-E2928128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84E-E5BC-41FF-8557-F43D209A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A71-F680-4C84-8DC7-8CE55D67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6BC-00FE-4C89-B96A-9F883276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648-DDCB-4BD2-98D1-8B31F193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ABE-7E9C-42C0-99AC-A91FD47C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B92C-CC9A-4A7F-8B90-41CF0A9CF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hyperlink" Target="http://www.21cnjy.com/2/119498/" TargetMode="External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4.png"/><Relationship Id="rId23" Type="http://schemas.openxmlformats.org/officeDocument/2006/relationships/hyperlink" Target="http://www.21cnjy.com/2/119508/" TargetMode="Externa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5435640" y="3532320"/>
            <a:ext cx="3554280" cy="33415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250920" y="191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鸟念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云形标注 5"/>
          <p:cNvSpPr/>
          <p:nvPr/>
        </p:nvSpPr>
        <p:spPr>
          <a:xfrm>
            <a:off x="216000" y="3357720"/>
            <a:ext cx="5651280" cy="1726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25560">
            <a:solidFill>
              <a:srgbClr val="a0ae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想一想，小鸟怎么会“念书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/>
          <p:cNvPicPr/>
          <p:nvPr/>
        </p:nvPicPr>
        <p:blipFill>
          <a:blip r:embed="rId1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2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3"/>
          <a:stretch/>
        </p:blipFill>
        <p:spPr>
          <a:xfrm>
            <a:off x="5719680" y="795240"/>
            <a:ext cx="105912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4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5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6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7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8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9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0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1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2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3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4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238400" y="1574640"/>
            <a:ext cx="14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162320" y="156204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467000" y="3014640"/>
            <a:ext cx="7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5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680000" y="263052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634000" y="349740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5894280" y="1077840"/>
            <a:ext cx="8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828800" y="64620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913120" y="218268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7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8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19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852640" y="116352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196040" y="170964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0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1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2"/>
          <a:stretch/>
        </p:blipFill>
        <p:spPr>
          <a:xfrm>
            <a:off x="5861160" y="2073240"/>
            <a:ext cx="1120680" cy="1141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5987880" y="2340000"/>
            <a:ext cx="9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028000" y="2889360"/>
            <a:ext cx="10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73160" y="156996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767400" y="3855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üe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"/>
          <p:cNvSpPr/>
          <p:nvPr/>
        </p:nvSpPr>
        <p:spPr>
          <a:xfrm>
            <a:off x="2863800" y="93672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1"/>
          <p:cNvSpPr/>
          <p:nvPr/>
        </p:nvSpPr>
        <p:spPr>
          <a:xfrm>
            <a:off x="487440" y="1557360"/>
            <a:ext cx="775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quān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uán jié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iànhu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ēn nuǎn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èn lǜ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én m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hūn tiā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ūn shǒu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ūn duì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ún zhǎo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á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ú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队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          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440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93" name="矩形 2"/>
          <p:cNvSpPr/>
          <p:nvPr/>
        </p:nvSpPr>
        <p:spPr>
          <a:xfrm>
            <a:off x="3324960" y="1098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1"/>
          <p:cNvSpPr/>
          <p:nvPr/>
        </p:nvSpPr>
        <p:spPr>
          <a:xfrm>
            <a:off x="1187280" y="1773360"/>
            <a:ext cx="73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iàn kāng   chǎng duǎn   lóu fá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康            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uā fēng     péng yǒu      hán lě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           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友          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ēng bìng  huā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í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tóu dǐ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        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        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xióng  zhōng jiān   yǒng gǎ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        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       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15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云形标注 2"/>
          <p:cNvSpPr/>
          <p:nvPr/>
        </p:nvSpPr>
        <p:spPr>
          <a:xfrm>
            <a:off x="498600" y="295200"/>
            <a:ext cx="501012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988920" y="75240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现在分得清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498600" y="2026800"/>
            <a:ext cx="8064360" cy="301860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牢记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n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呢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大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g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哥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00" name="矩形 3"/>
          <p:cNvSpPr/>
          <p:nvPr/>
        </p:nvSpPr>
        <p:spPr>
          <a:xfrm>
            <a:off x="2860560" y="6015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七角星 14"/>
          <p:cNvSpPr/>
          <p:nvPr/>
        </p:nvSpPr>
        <p:spPr>
          <a:xfrm>
            <a:off x="1076400" y="3976560"/>
            <a:ext cx="1109520" cy="93348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七角星 15"/>
          <p:cNvSpPr/>
          <p:nvPr/>
        </p:nvSpPr>
        <p:spPr>
          <a:xfrm>
            <a:off x="4611600" y="4078440"/>
            <a:ext cx="1109880" cy="93312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七角星 16"/>
          <p:cNvSpPr/>
          <p:nvPr/>
        </p:nvSpPr>
        <p:spPr>
          <a:xfrm>
            <a:off x="2220840" y="3894120"/>
            <a:ext cx="1154160" cy="1027080"/>
          </a:xfrm>
          <a:custGeom>
            <a:avLst/>
            <a:gdLst/>
            <a:ahLst/>
            <a:rect l="l" t="t" r="r" b="b"/>
            <a:pathLst>
              <a:path w="1154112" h="1027112">
                <a:moveTo>
                  <a:pt x="-3" y="660542"/>
                </a:moveTo>
                <a:lnTo>
                  <a:pt x="177719" y="457110"/>
                </a:lnTo>
                <a:lnTo>
                  <a:pt x="114292" y="203433"/>
                </a:lnTo>
                <a:lnTo>
                  <a:pt x="399336" y="203433"/>
                </a:lnTo>
                <a:lnTo>
                  <a:pt x="577056" y="0"/>
                </a:lnTo>
                <a:lnTo>
                  <a:pt x="754775" y="203433"/>
                </a:lnTo>
                <a:lnTo>
                  <a:pt x="1039819" y="203433"/>
                </a:lnTo>
                <a:lnTo>
                  <a:pt x="976392" y="457110"/>
                </a:lnTo>
                <a:lnTo>
                  <a:pt x="1154115" y="660542"/>
                </a:lnTo>
                <a:lnTo>
                  <a:pt x="897297" y="773439"/>
                </a:lnTo>
                <a:lnTo>
                  <a:pt x="833869" y="1027117"/>
                </a:lnTo>
                <a:lnTo>
                  <a:pt x="577056" y="914219"/>
                </a:lnTo>
                <a:lnTo>
                  <a:pt x="320243" y="1027117"/>
                </a:lnTo>
                <a:lnTo>
                  <a:pt x="256814" y="77343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七角星 17"/>
          <p:cNvSpPr/>
          <p:nvPr/>
        </p:nvSpPr>
        <p:spPr>
          <a:xfrm>
            <a:off x="5964120" y="4114800"/>
            <a:ext cx="1162080" cy="933480"/>
          </a:xfrm>
          <a:custGeom>
            <a:avLst/>
            <a:gdLst/>
            <a:ahLst/>
            <a:rect l="l" t="t" r="r" b="b"/>
            <a:pathLst>
              <a:path w="1162050" h="933450">
                <a:moveTo>
                  <a:pt x="-3" y="600307"/>
                </a:moveTo>
                <a:lnTo>
                  <a:pt x="178941" y="415426"/>
                </a:lnTo>
                <a:lnTo>
                  <a:pt x="115078" y="184881"/>
                </a:lnTo>
                <a:lnTo>
                  <a:pt x="402083" y="184882"/>
                </a:lnTo>
                <a:lnTo>
                  <a:pt x="581025" y="0"/>
                </a:lnTo>
                <a:lnTo>
                  <a:pt x="759966" y="184882"/>
                </a:lnTo>
                <a:lnTo>
                  <a:pt x="1046971" y="184881"/>
                </a:lnTo>
                <a:lnTo>
                  <a:pt x="983108" y="415426"/>
                </a:lnTo>
                <a:lnTo>
                  <a:pt x="1162053" y="600307"/>
                </a:lnTo>
                <a:lnTo>
                  <a:pt x="903469" y="702909"/>
                </a:lnTo>
                <a:lnTo>
                  <a:pt x="839604" y="933454"/>
                </a:lnTo>
                <a:lnTo>
                  <a:pt x="581025" y="830851"/>
                </a:lnTo>
                <a:lnTo>
                  <a:pt x="322445" y="933454"/>
                </a:lnTo>
                <a:lnTo>
                  <a:pt x="258580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4"/>
          <p:cNvSpPr/>
          <p:nvPr/>
        </p:nvSpPr>
        <p:spPr>
          <a:xfrm rot="5400000">
            <a:off x="1581480" y="484740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25"/>
          <p:cNvSpPr/>
          <p:nvPr/>
        </p:nvSpPr>
        <p:spPr>
          <a:xfrm rot="5400000">
            <a:off x="5388840" y="49586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1320120" y="3982680"/>
            <a:ext cx="8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 flipV="1" rot="10800000">
            <a:off x="2451240" y="4032000"/>
            <a:ext cx="9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4716360" y="4193280"/>
            <a:ext cx="26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ì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心形 13"/>
          <p:cNvSpPr/>
          <p:nvPr/>
        </p:nvSpPr>
        <p:spPr>
          <a:xfrm>
            <a:off x="2287440" y="2071800"/>
            <a:ext cx="1295640" cy="1081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e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27"/>
          <p:cNvSpPr/>
          <p:nvPr/>
        </p:nvSpPr>
        <p:spPr>
          <a:xfrm>
            <a:off x="1000080" y="2021040"/>
            <a:ext cx="129708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28"/>
          <p:cNvSpPr/>
          <p:nvPr/>
        </p:nvSpPr>
        <p:spPr>
          <a:xfrm>
            <a:off x="469728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u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29"/>
          <p:cNvSpPr/>
          <p:nvPr/>
        </p:nvSpPr>
        <p:spPr>
          <a:xfrm>
            <a:off x="602280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16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817640" y="2072160"/>
            <a:ext cx="6985080" cy="228528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区分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的口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后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i  \  ei \   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前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 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22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222"/>
          <p:cNvSpPr/>
          <p:nvPr/>
        </p:nvSpPr>
        <p:spPr>
          <a:xfrm>
            <a:off x="3564000" y="1125360"/>
            <a:ext cx="523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3"/>
          <p:cNvSpPr/>
          <p:nvPr/>
        </p:nvSpPr>
        <p:spPr>
          <a:xfrm>
            <a:off x="-108000" y="1159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楷体"/>
                <a:ea typeface="华文楷体"/>
              </a:rPr>
              <a:t>读一读，记一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2"/>
          <a:stretch/>
        </p:blipFill>
        <p:spPr>
          <a:xfrm>
            <a:off x="3657600" y="648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圆角矩形标注 2"/>
          <p:cNvSpPr/>
          <p:nvPr/>
        </p:nvSpPr>
        <p:spPr>
          <a:xfrm>
            <a:off x="250920" y="2205000"/>
            <a:ext cx="3241440" cy="13986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一说你的名字里有哪些声母和韵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" descr=""/>
          <p:cNvPicPr/>
          <p:nvPr/>
        </p:nvPicPr>
        <p:blipFill>
          <a:blip r:embed="rId3"/>
          <a:stretch/>
        </p:blipFill>
        <p:spPr>
          <a:xfrm>
            <a:off x="-120600" y="4797360"/>
            <a:ext cx="43434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" descr=""/>
          <p:cNvPicPr/>
          <p:nvPr/>
        </p:nvPicPr>
        <p:blipFill>
          <a:blip r:embed="rId3"/>
          <a:stretch/>
        </p:blipFill>
        <p:spPr>
          <a:xfrm>
            <a:off x="2397240" y="1263600"/>
            <a:ext cx="5905440" cy="2462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4"/>
          <a:stretch/>
        </p:blipFill>
        <p:spPr>
          <a:xfrm>
            <a:off x="2381400" y="3751200"/>
            <a:ext cx="5876640" cy="23115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3"/>
          <p:cNvSpPr/>
          <p:nvPr/>
        </p:nvSpPr>
        <p:spPr>
          <a:xfrm>
            <a:off x="2421000" y="14223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图，在正确的拼音后面打“√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2354400" y="34401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拼音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1274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5:12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