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drumroll.wav" ContentType="audio/x-wav"/>
  <Override PartName="/ppt/media/image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5.gif" ContentType="image/gif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6.gif" ContentType="image/gif"/>
  <Override PartName="/ppt/media/image4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18.gif" ContentType="image/gif"/>
  <Override PartName="/ppt/media/image17.png" ContentType="image/png"/>
  <Override PartName="/ppt/media/image15.jpeg" ContentType="image/jpeg"/>
  <Override PartName="/ppt/media/image14.png" ContentType="image/png"/>
  <Override PartName="/ppt/media/image16.png" ContentType="image/png"/>
  <Override PartName="/ppt/media/chimes.wav" ContentType="audio/x-wav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绿色圃中小学教育网" initials="绿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<Relationship Id="rId26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16-08-29T15:29:26.718000000" idx="1">
    <p:pos x="5375" y="570"/>
    <p:text>
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baike.sogou.com/lemma/ShowInnerLink.htm?lemmaId=64845311&amp;ss_c=ssc.citiao.link" TargetMode="External"/><Relationship Id="rId3" Type="http://schemas.openxmlformats.org/officeDocument/2006/relationships/hyperlink" Target="http://baike.sogou.com/lemma/ShowInnerLink.htm?lemmaId=59423&amp;ss_c=ssc.citiao.link" TargetMode="External"/><Relationship Id="rId4" Type="http://schemas.openxmlformats.org/officeDocument/2006/relationships/hyperlink" Target="http://baike.sogou.com/lemma/ShowInnerLink.htm?lemmaId=63317934" TargetMode="External"/><Relationship Id="rId5" Type="http://schemas.openxmlformats.org/officeDocument/2006/relationships/hyperlink" Target="http://baike.sogou.com/lemma/ShowInnerLink.htm?lemmaId=236894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TextBox 1"/>
          <p:cNvSpPr/>
          <p:nvPr/>
        </p:nvSpPr>
        <p:spPr>
          <a:xfrm>
            <a:off x="2411280" y="1268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小小的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直线连接符 21"/>
          <p:cNvSpPr/>
          <p:nvPr/>
        </p:nvSpPr>
        <p:spPr>
          <a:xfrm>
            <a:off x="2700360" y="1989000"/>
            <a:ext cx="3816360" cy="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AutoShape 6"/>
          <p:cNvSpPr/>
          <p:nvPr/>
        </p:nvSpPr>
        <p:spPr>
          <a:xfrm flipH="1" rot="3401400">
            <a:off x="4378680" y="2754720"/>
            <a:ext cx="1703160" cy="304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921" y="1837"/>
                  <a:pt x="10242" y="5080"/>
                  <a:pt x="10242" y="10800"/>
                </a:cubicBezTo>
                <a:cubicBezTo>
                  <a:pt x="10242" y="16520"/>
                  <a:pt x="15921" y="1976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1434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914400" y="2349360"/>
            <a:ext cx="82296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弯弯的月儿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小小的船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小小的船儿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两头尖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我在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小小的船里坐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只看见闪闪的星星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蓝蓝的天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132000" y="7650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990033"/>
                </a:solidFill>
                <a:latin typeface="Times New Roman"/>
                <a:ea typeface="华文彩云"/>
              </a:rPr>
              <a:t>小小的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直线连接符 21"/>
          <p:cNvSpPr/>
          <p:nvPr/>
        </p:nvSpPr>
        <p:spPr>
          <a:xfrm flipV="1">
            <a:off x="395280" y="1773000"/>
            <a:ext cx="207324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Image12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3203640" y="3860640"/>
            <a:ext cx="4390920" cy="18003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</p:pic>
      <p:pic>
        <p:nvPicPr>
          <p:cNvPr id="152" name="Picture 3" descr="hz16_39"/>
          <p:cNvPicPr/>
          <p:nvPr/>
        </p:nvPicPr>
        <p:blipFill>
          <a:blip r:embed="rId2"/>
          <a:stretch/>
        </p:blipFill>
        <p:spPr>
          <a:xfrm>
            <a:off x="3276720" y="1268280"/>
            <a:ext cx="4360680" cy="2000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4478400" y="58752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对比体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192560" y="3213000"/>
            <a:ext cx="18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76123"/>
                </a:solidFill>
                <a:latin typeface="Arial"/>
                <a:ea typeface="楷体_GB2312"/>
              </a:rPr>
              <a:t>　弯弯的月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4757400" y="5732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76123"/>
                </a:solidFill>
                <a:latin typeface="Arial"/>
                <a:ea typeface="楷体_GB2312"/>
              </a:rPr>
              <a:t>小小的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2340000" y="1844640"/>
            <a:ext cx="5545080" cy="2808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4314240" y="1922400"/>
            <a:ext cx="152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小小的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3840120" y="2565360"/>
            <a:ext cx="2923920" cy="184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弯的月儿小小的船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小的船儿两头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180680" y="6915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54b1b"/>
                </a:solidFill>
                <a:latin typeface="Arial"/>
                <a:ea typeface="楷体_GB2312"/>
              </a:rPr>
              <a:t>细读课文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578480" y="46432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54b1b"/>
                </a:solidFill>
                <a:latin typeface="Arial"/>
                <a:ea typeface="楷体_GB2312"/>
              </a:rPr>
              <a:t>弯弯的月儿是什么样的？请同学们画一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2461680" y="544500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54b1b"/>
                </a:solidFill>
                <a:latin typeface="Arial"/>
                <a:ea typeface="楷体_GB2312"/>
              </a:rPr>
              <a:t>你在生活中还见过哪些“弯弯”的事物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3972240" y="13986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小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588480" y="262260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很小的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504960" y="39924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小小的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102760" y="29242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弯弯的月儿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5014080" y="292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小的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2031480" y="37162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蓝蓝的天空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2102760" y="4508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闪闪的星星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716360" y="3645000"/>
            <a:ext cx="12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大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4994280" y="4508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宝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4788000" y="5084640"/>
            <a:ext cx="2305080" cy="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4788000" y="3573360"/>
            <a:ext cx="2305080" cy="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4788000" y="4365720"/>
            <a:ext cx="2376360" cy="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403280" y="126828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Times New Roman"/>
              </a:rPr>
              <a:t>我会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l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弯弯的月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尖                 （弯弯的月亮图）             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  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   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                     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小小的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5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177" name="直线连接符 21"/>
          <p:cNvSpPr/>
          <p:nvPr/>
        </p:nvSpPr>
        <p:spPr>
          <a:xfrm flipV="1">
            <a:off x="468360" y="134136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611280" y="2421000"/>
            <a:ext cx="792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6633"/>
                </a:solidFill>
                <a:latin typeface="华文楷体"/>
                <a:ea typeface="华文楷体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文中写了一个孩子把新月看作小船，联想自己坐到月亮上去，在蓝天中航行，驶过星群，看望星星，表现了孩子喜悦的心情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76500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560520" y="2060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《小小的船》是一首优美的儿童诗，作者以丰富的想象描绘出晴天夜空美丽的景象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2019240" cy="533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卡通脸"/>
          <p:cNvPicPr/>
          <p:nvPr/>
        </p:nvPicPr>
        <p:blipFill>
          <a:blip r:embed="rId2"/>
          <a:stretch/>
        </p:blipFill>
        <p:spPr>
          <a:xfrm>
            <a:off x="395280" y="3789360"/>
            <a:ext cx="990720" cy="792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7"/>
          <p:cNvSpPr/>
          <p:nvPr/>
        </p:nvSpPr>
        <p:spPr>
          <a:xfrm>
            <a:off x="1958760" y="2205000"/>
            <a:ext cx="52344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会画：把你看到或想象到的星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画下来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3185280" y="3860640"/>
            <a:ext cx="371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考：月亮上面真的有嫦娥吗？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6"/>
          <p:cNvSpPr/>
          <p:nvPr/>
        </p:nvSpPr>
        <p:spPr>
          <a:xfrm>
            <a:off x="108000" y="191124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　　同学们，不仅仅是我们小朋友喜欢月亮，其实月亮也很喜欢我们，它总是默默地看着我们，看着我们快乐地学习，看着我们快乐地游戏，看着我们快乐地生活，她是我们永远的朋友！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305080" cy="6094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3708360" y="2387880"/>
            <a:ext cx="5292720" cy="266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叶圣陶（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894.10.28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～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988.2.16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），现代著名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作家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、语文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教育家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、编辑家、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出版家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、政治活动家，中国第一位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童话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作家。出版了中国童话集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稻草人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，以及小说集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隔膜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》《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火灾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等。主编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小说月报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等杂志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7" descr="20110216101657-691187368"/>
          <p:cNvPicPr/>
          <p:nvPr/>
        </p:nvPicPr>
        <p:blipFill>
          <a:blip r:embed="rId6"/>
          <a:stretch/>
        </p:blipFill>
        <p:spPr>
          <a:xfrm>
            <a:off x="539640" y="1989000"/>
            <a:ext cx="28083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0" y="1041840"/>
            <a:ext cx="93963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照样子说话训练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弯弯的月亮像小船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圆圆的西瓜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细细的柳条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洁白的云朵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红红的太阳像（          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146600" y="4581360"/>
            <a:ext cx="469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直线连接符 21"/>
          <p:cNvSpPr/>
          <p:nvPr/>
        </p:nvSpPr>
        <p:spPr>
          <a:xfrm flipV="1">
            <a:off x="324000" y="148428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bei jing-11"/>
          <p:cNvPicPr/>
          <p:nvPr/>
        </p:nvPicPr>
        <p:blipFill>
          <a:blip r:embed="rId1"/>
          <a:stretch/>
        </p:blipFill>
        <p:spPr>
          <a:xfrm>
            <a:off x="324000" y="836640"/>
            <a:ext cx="8820000" cy="4896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"/>
          <p:cNvSpPr/>
          <p:nvPr/>
        </p:nvSpPr>
        <p:spPr>
          <a:xfrm>
            <a:off x="685800" y="11509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1 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月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843280" y="11509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２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84360" y="3645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圆圆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500720" y="364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一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Line 7"/>
          <p:cNvSpPr/>
          <p:nvPr/>
        </p:nvSpPr>
        <p:spPr>
          <a:xfrm flipV="1">
            <a:off x="395280" y="4436640"/>
            <a:ext cx="835344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7289640" y="342900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Times New Roman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5077800" y="981000"/>
            <a:ext cx="175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３圆圆的</a:t>
            </a:r>
            <a:r>
              <a:rPr b="1" lang="zh-CN" sz="4800" spc="-1" strike="noStrike">
                <a:solidFill>
                  <a:srgbClr val="c0504d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539640" y="2133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４ 镜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jìnɡ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556000" y="3645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月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3945240" y="3645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5796000" y="3645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镜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4788000" y="20606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５一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WordArt 6" descr=""/>
          <p:cNvPicPr/>
          <p:nvPr/>
        </p:nvPicPr>
        <p:blipFill>
          <a:blip r:embed="rId1"/>
          <a:stretch/>
        </p:blipFill>
        <p:spPr>
          <a:xfrm>
            <a:off x="1752480" y="1746360"/>
            <a:ext cx="6015240" cy="2073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468360" y="3213000"/>
            <a:ext cx="3294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294800" y="855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54b1b"/>
                </a:solidFill>
                <a:latin typeface="Arial"/>
                <a:ea typeface="楷体_GB2312"/>
              </a:rPr>
              <a:t>会认的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10240" y="1915560"/>
            <a:ext cx="9568440" cy="375084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6123"/>
                </a:solidFill>
                <a:latin typeface="宋体"/>
              </a:rPr>
              <a:t>de  chuán  liǎng tóu zài  l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的     船     两   头    在    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76123"/>
                </a:solidFill>
                <a:latin typeface="Arial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76123"/>
                </a:solidFill>
                <a:latin typeface="宋体"/>
              </a:rPr>
              <a:t>kàn jiàn shǎn xīn</a:t>
            </a:r>
            <a:r>
              <a:rPr b="1" lang="en-US" sz="3600" spc="-1" strike="noStrike">
                <a:solidFill>
                  <a:srgbClr val="076123"/>
                </a:solidFill>
                <a:latin typeface="Arial"/>
                <a:ea typeface="楷体_GB2312"/>
              </a:rPr>
              <a:t>ɡ</a:t>
            </a:r>
            <a:r>
              <a:rPr b="1" lang="en-US" sz="3600" spc="-1" strike="noStrike">
                <a:solidFill>
                  <a:srgbClr val="076123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看   见    闪    星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2019240" cy="53352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5"/>
          <p:cNvGrpSpPr/>
          <p:nvPr/>
        </p:nvGrpSpPr>
        <p:grpSpPr>
          <a:xfrm>
            <a:off x="468360" y="907560"/>
            <a:ext cx="2073240" cy="662040"/>
            <a:chOff x="468360" y="907560"/>
            <a:chExt cx="2073240" cy="662040"/>
          </a:xfrm>
        </p:grpSpPr>
        <p:sp>
          <p:nvSpPr>
            <p:cNvPr id="53" name="直线连接符 21"/>
            <p:cNvSpPr/>
            <p:nvPr/>
          </p:nvSpPr>
          <p:spPr>
            <a:xfrm flipV="1">
              <a:off x="468360" y="907560"/>
              <a:ext cx="207324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矩形 16390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58920" y="1557360"/>
            <a:ext cx="6781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小船  闪电    蓝天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蓝色  星星   两头尖   只看见      闪闪的小小的船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468360" y="1413000"/>
            <a:ext cx="914400" cy="9144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a603ab"/>
              </a:gs>
              <a:gs pos="50000">
                <a:srgbClr val="a603ab"/>
              </a:gs>
              <a:gs pos="100000">
                <a:srgbClr val="a603a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17411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2050920" y="765000"/>
            <a:ext cx="4700880" cy="4105440"/>
            <a:chOff x="2050920" y="765000"/>
            <a:chExt cx="4700880" cy="4105440"/>
          </a:xfrm>
        </p:grpSpPr>
        <p:sp>
          <p:nvSpPr>
            <p:cNvPr id="59" name="AutoShape 3"/>
            <p:cNvSpPr/>
            <p:nvPr/>
          </p:nvSpPr>
          <p:spPr>
            <a:xfrm>
              <a:off x="2050920" y="765000"/>
              <a:ext cx="3743280" cy="4105440"/>
            </a:xfrm>
            <a:custGeom>
              <a:avLst/>
              <a:gdLst/>
              <a:ahLst/>
              <a:rect l="l" t="t" r="r" b="b"/>
              <a:pathLst>
                <a:path w="2358" h="2586">
                  <a:moveTo>
                    <a:pt x="0" y="987"/>
                  </a:moveTo>
                  <a:lnTo>
                    <a:pt x="900" y="987"/>
                  </a:lnTo>
                  <a:lnTo>
                    <a:pt x="1179" y="0"/>
                  </a:lnTo>
                  <a:lnTo>
                    <a:pt x="1457" y="987"/>
                  </a:lnTo>
                  <a:lnTo>
                    <a:pt x="2357" y="987"/>
                  </a:lnTo>
                  <a:lnTo>
                    <a:pt x="1629" y="1598"/>
                  </a:lnTo>
                  <a:lnTo>
                    <a:pt x="1907" y="2585"/>
                  </a:lnTo>
                  <a:lnTo>
                    <a:pt x="1179" y="1975"/>
                  </a:lnTo>
                  <a:lnTo>
                    <a:pt x="450" y="2585"/>
                  </a:lnTo>
                  <a:lnTo>
                    <a:pt x="728" y="1598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Text Box 4"/>
            <p:cNvSpPr/>
            <p:nvPr/>
          </p:nvSpPr>
          <p:spPr>
            <a:xfrm>
              <a:off x="2987640" y="2492280"/>
              <a:ext cx="376416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800" spc="-1" strike="noStrike">
                  <a:solidFill>
                    <a:srgbClr val="9933ff"/>
                  </a:solidFill>
                  <a:latin typeface="Times New Roman"/>
                  <a:ea typeface="黑体"/>
                </a:rPr>
                <a:t>小船　　　</a:t>
              </a:r>
              <a:endParaRPr b="0" lang="en-US" sz="5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Group 5"/>
          <p:cNvGrpSpPr/>
          <p:nvPr/>
        </p:nvGrpSpPr>
        <p:grpSpPr>
          <a:xfrm>
            <a:off x="2266920" y="981000"/>
            <a:ext cx="4700160" cy="4105440"/>
            <a:chOff x="2266920" y="981000"/>
            <a:chExt cx="4700160" cy="4105440"/>
          </a:xfrm>
        </p:grpSpPr>
        <p:sp>
          <p:nvSpPr>
            <p:cNvPr id="62" name="AutoShape 6"/>
            <p:cNvSpPr/>
            <p:nvPr/>
          </p:nvSpPr>
          <p:spPr>
            <a:xfrm>
              <a:off x="2266920" y="981000"/>
              <a:ext cx="3742920" cy="4105440"/>
            </a:xfrm>
            <a:custGeom>
              <a:avLst/>
              <a:gdLst/>
              <a:ahLst/>
              <a:rect l="l" t="t" r="r" b="b"/>
              <a:pathLst>
                <a:path w="2358" h="2586">
                  <a:moveTo>
                    <a:pt x="0" y="987"/>
                  </a:moveTo>
                  <a:lnTo>
                    <a:pt x="900" y="987"/>
                  </a:lnTo>
                  <a:lnTo>
                    <a:pt x="1179" y="0"/>
                  </a:lnTo>
                  <a:lnTo>
                    <a:pt x="1457" y="987"/>
                  </a:lnTo>
                  <a:lnTo>
                    <a:pt x="2357" y="987"/>
                  </a:lnTo>
                  <a:lnTo>
                    <a:pt x="1629" y="1598"/>
                  </a:lnTo>
                  <a:lnTo>
                    <a:pt x="1907" y="2585"/>
                  </a:lnTo>
                  <a:lnTo>
                    <a:pt x="1179" y="1975"/>
                  </a:lnTo>
                  <a:lnTo>
                    <a:pt x="450" y="2585"/>
                  </a:lnTo>
                  <a:lnTo>
                    <a:pt x="728" y="1598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 Box 7"/>
            <p:cNvSpPr/>
            <p:nvPr/>
          </p:nvSpPr>
          <p:spPr>
            <a:xfrm>
              <a:off x="3203280" y="2708280"/>
              <a:ext cx="37638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800" spc="-1" strike="noStrike">
                  <a:solidFill>
                    <a:srgbClr val="9933ff"/>
                  </a:solidFill>
                  <a:latin typeface="Times New Roman"/>
                  <a:ea typeface="黑体"/>
                </a:rPr>
                <a:t>弯弯的　　　</a:t>
              </a:r>
              <a:endParaRPr b="0" lang="en-US" sz="5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Group 8"/>
          <p:cNvGrpSpPr/>
          <p:nvPr/>
        </p:nvGrpSpPr>
        <p:grpSpPr>
          <a:xfrm>
            <a:off x="2482920" y="1197000"/>
            <a:ext cx="4700160" cy="4105080"/>
            <a:chOff x="2482920" y="1197000"/>
            <a:chExt cx="4700160" cy="4105080"/>
          </a:xfrm>
        </p:grpSpPr>
        <p:sp>
          <p:nvSpPr>
            <p:cNvPr id="65" name="AutoShape 9"/>
            <p:cNvSpPr/>
            <p:nvPr/>
          </p:nvSpPr>
          <p:spPr>
            <a:xfrm>
              <a:off x="2482920" y="1197000"/>
              <a:ext cx="3742920" cy="4105080"/>
            </a:xfrm>
            <a:custGeom>
              <a:avLst/>
              <a:gdLst/>
              <a:ahLst/>
              <a:rect l="l" t="t" r="r" b="b"/>
              <a:pathLst>
                <a:path w="2358" h="2586">
                  <a:moveTo>
                    <a:pt x="0" y="987"/>
                  </a:moveTo>
                  <a:lnTo>
                    <a:pt x="900" y="987"/>
                  </a:lnTo>
                  <a:lnTo>
                    <a:pt x="1179" y="0"/>
                  </a:lnTo>
                  <a:lnTo>
                    <a:pt x="1457" y="987"/>
                  </a:lnTo>
                  <a:lnTo>
                    <a:pt x="2357" y="987"/>
                  </a:lnTo>
                  <a:lnTo>
                    <a:pt x="1629" y="1598"/>
                  </a:lnTo>
                  <a:lnTo>
                    <a:pt x="1907" y="2585"/>
                  </a:lnTo>
                  <a:lnTo>
                    <a:pt x="1179" y="1975"/>
                  </a:lnTo>
                  <a:lnTo>
                    <a:pt x="450" y="2585"/>
                  </a:lnTo>
                  <a:lnTo>
                    <a:pt x="728" y="1598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Text Box 10"/>
            <p:cNvSpPr/>
            <p:nvPr/>
          </p:nvSpPr>
          <p:spPr>
            <a:xfrm>
              <a:off x="3419280" y="2923920"/>
              <a:ext cx="37638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800" spc="-1" strike="noStrike">
                  <a:solidFill>
                    <a:srgbClr val="9933ff"/>
                  </a:solidFill>
                  <a:latin typeface="Times New Roman"/>
                  <a:ea typeface="黑体"/>
                </a:rPr>
                <a:t>两头　　　</a:t>
              </a:r>
              <a:endParaRPr b="0" lang="en-US" sz="5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Group 11"/>
          <p:cNvGrpSpPr/>
          <p:nvPr/>
        </p:nvGrpSpPr>
        <p:grpSpPr>
          <a:xfrm>
            <a:off x="2698920" y="1413000"/>
            <a:ext cx="4700160" cy="4105080"/>
            <a:chOff x="2698920" y="1413000"/>
            <a:chExt cx="4700160" cy="4105080"/>
          </a:xfrm>
        </p:grpSpPr>
        <p:sp>
          <p:nvSpPr>
            <p:cNvPr id="68" name="AutoShape 12"/>
            <p:cNvSpPr/>
            <p:nvPr/>
          </p:nvSpPr>
          <p:spPr>
            <a:xfrm>
              <a:off x="2698920" y="1413000"/>
              <a:ext cx="3742920" cy="4105080"/>
            </a:xfrm>
            <a:custGeom>
              <a:avLst/>
              <a:gdLst/>
              <a:ahLst/>
              <a:rect l="l" t="t" r="r" b="b"/>
              <a:pathLst>
                <a:path w="2358" h="2586">
                  <a:moveTo>
                    <a:pt x="0" y="987"/>
                  </a:moveTo>
                  <a:lnTo>
                    <a:pt x="900" y="987"/>
                  </a:lnTo>
                  <a:lnTo>
                    <a:pt x="1179" y="0"/>
                  </a:lnTo>
                  <a:lnTo>
                    <a:pt x="1457" y="987"/>
                  </a:lnTo>
                  <a:lnTo>
                    <a:pt x="2357" y="987"/>
                  </a:lnTo>
                  <a:lnTo>
                    <a:pt x="1629" y="1598"/>
                  </a:lnTo>
                  <a:lnTo>
                    <a:pt x="1907" y="2585"/>
                  </a:lnTo>
                  <a:lnTo>
                    <a:pt x="1179" y="1975"/>
                  </a:lnTo>
                  <a:lnTo>
                    <a:pt x="450" y="2585"/>
                  </a:lnTo>
                  <a:lnTo>
                    <a:pt x="728" y="1598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 Box 13"/>
            <p:cNvSpPr/>
            <p:nvPr/>
          </p:nvSpPr>
          <p:spPr>
            <a:xfrm>
              <a:off x="3635280" y="3139920"/>
              <a:ext cx="37638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800" spc="-1" strike="noStrike">
                  <a:solidFill>
                    <a:srgbClr val="9933ff"/>
                  </a:solidFill>
                  <a:latin typeface="Times New Roman"/>
                  <a:ea typeface="黑体"/>
                </a:rPr>
                <a:t>看见　　　</a:t>
              </a:r>
              <a:endParaRPr b="0" lang="en-US" sz="5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14"/>
          <p:cNvGrpSpPr/>
          <p:nvPr/>
        </p:nvGrpSpPr>
        <p:grpSpPr>
          <a:xfrm>
            <a:off x="2914560" y="1628640"/>
            <a:ext cx="4700160" cy="4105440"/>
            <a:chOff x="2914560" y="1628640"/>
            <a:chExt cx="4700160" cy="4105440"/>
          </a:xfrm>
        </p:grpSpPr>
        <p:sp>
          <p:nvSpPr>
            <p:cNvPr id="71" name="AutoShape 15"/>
            <p:cNvSpPr/>
            <p:nvPr/>
          </p:nvSpPr>
          <p:spPr>
            <a:xfrm>
              <a:off x="2914560" y="1628640"/>
              <a:ext cx="3742920" cy="4105440"/>
            </a:xfrm>
            <a:custGeom>
              <a:avLst/>
              <a:gdLst/>
              <a:ahLst/>
              <a:rect l="l" t="t" r="r" b="b"/>
              <a:pathLst>
                <a:path w="2358" h="2586">
                  <a:moveTo>
                    <a:pt x="0" y="987"/>
                  </a:moveTo>
                  <a:lnTo>
                    <a:pt x="900" y="987"/>
                  </a:lnTo>
                  <a:lnTo>
                    <a:pt x="1179" y="0"/>
                  </a:lnTo>
                  <a:lnTo>
                    <a:pt x="1457" y="987"/>
                  </a:lnTo>
                  <a:lnTo>
                    <a:pt x="2357" y="987"/>
                  </a:lnTo>
                  <a:lnTo>
                    <a:pt x="1629" y="1598"/>
                  </a:lnTo>
                  <a:lnTo>
                    <a:pt x="1907" y="2585"/>
                  </a:lnTo>
                  <a:lnTo>
                    <a:pt x="1179" y="1975"/>
                  </a:lnTo>
                  <a:lnTo>
                    <a:pt x="450" y="2585"/>
                  </a:lnTo>
                  <a:lnTo>
                    <a:pt x="728" y="1598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 Box 16"/>
            <p:cNvSpPr/>
            <p:nvPr/>
          </p:nvSpPr>
          <p:spPr>
            <a:xfrm>
              <a:off x="3850920" y="3355920"/>
              <a:ext cx="37638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800" spc="-1" strike="noStrike">
                  <a:solidFill>
                    <a:srgbClr val="9933ff"/>
                  </a:solidFill>
                  <a:latin typeface="Times New Roman"/>
                  <a:ea typeface="黑体"/>
                </a:rPr>
                <a:t>闪闪的　　　</a:t>
              </a:r>
              <a:endParaRPr b="0" lang="en-US" sz="5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Group 17"/>
          <p:cNvGrpSpPr/>
          <p:nvPr/>
        </p:nvGrpSpPr>
        <p:grpSpPr>
          <a:xfrm>
            <a:off x="2627280" y="333360"/>
            <a:ext cx="4700160" cy="4105440"/>
            <a:chOff x="2627280" y="333360"/>
            <a:chExt cx="4700160" cy="4105440"/>
          </a:xfrm>
        </p:grpSpPr>
        <p:sp>
          <p:nvSpPr>
            <p:cNvPr id="74" name="AutoShape 18"/>
            <p:cNvSpPr/>
            <p:nvPr/>
          </p:nvSpPr>
          <p:spPr>
            <a:xfrm>
              <a:off x="2627280" y="333360"/>
              <a:ext cx="3742920" cy="4105440"/>
            </a:xfrm>
            <a:custGeom>
              <a:avLst/>
              <a:gdLst/>
              <a:ahLst/>
              <a:rect l="l" t="t" r="r" b="b"/>
              <a:pathLst>
                <a:path w="2358" h="2586">
                  <a:moveTo>
                    <a:pt x="0" y="987"/>
                  </a:moveTo>
                  <a:lnTo>
                    <a:pt x="900" y="987"/>
                  </a:lnTo>
                  <a:lnTo>
                    <a:pt x="1179" y="0"/>
                  </a:lnTo>
                  <a:lnTo>
                    <a:pt x="1457" y="987"/>
                  </a:lnTo>
                  <a:lnTo>
                    <a:pt x="2357" y="987"/>
                  </a:lnTo>
                  <a:lnTo>
                    <a:pt x="1629" y="1598"/>
                  </a:lnTo>
                  <a:lnTo>
                    <a:pt x="1907" y="2585"/>
                  </a:lnTo>
                  <a:lnTo>
                    <a:pt x="1179" y="1975"/>
                  </a:lnTo>
                  <a:lnTo>
                    <a:pt x="450" y="2585"/>
                  </a:lnTo>
                  <a:lnTo>
                    <a:pt x="728" y="1598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 Box 19"/>
            <p:cNvSpPr/>
            <p:nvPr/>
          </p:nvSpPr>
          <p:spPr>
            <a:xfrm>
              <a:off x="3563640" y="2060640"/>
              <a:ext cx="37638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800" spc="-1" strike="noStrike">
                  <a:solidFill>
                    <a:srgbClr val="9933ff"/>
                  </a:solidFill>
                  <a:latin typeface="Times New Roman"/>
                  <a:ea typeface="黑体"/>
                </a:rPr>
                <a:t>闪亮　　　</a:t>
              </a:r>
              <a:endParaRPr b="0" lang="en-US" sz="5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20"/>
          <p:cNvGrpSpPr/>
          <p:nvPr/>
        </p:nvGrpSpPr>
        <p:grpSpPr>
          <a:xfrm>
            <a:off x="2843280" y="549360"/>
            <a:ext cx="4700160" cy="4105080"/>
            <a:chOff x="2843280" y="549360"/>
            <a:chExt cx="4700160" cy="4105080"/>
          </a:xfrm>
        </p:grpSpPr>
        <p:sp>
          <p:nvSpPr>
            <p:cNvPr id="77" name="AutoShape 21"/>
            <p:cNvSpPr/>
            <p:nvPr/>
          </p:nvSpPr>
          <p:spPr>
            <a:xfrm>
              <a:off x="2843280" y="549360"/>
              <a:ext cx="3742920" cy="4105080"/>
            </a:xfrm>
            <a:custGeom>
              <a:avLst/>
              <a:gdLst/>
              <a:ahLst/>
              <a:rect l="l" t="t" r="r" b="b"/>
              <a:pathLst>
                <a:path w="2358" h="2586">
                  <a:moveTo>
                    <a:pt x="0" y="987"/>
                  </a:moveTo>
                  <a:lnTo>
                    <a:pt x="900" y="987"/>
                  </a:lnTo>
                  <a:lnTo>
                    <a:pt x="1179" y="0"/>
                  </a:lnTo>
                  <a:lnTo>
                    <a:pt x="1457" y="987"/>
                  </a:lnTo>
                  <a:lnTo>
                    <a:pt x="2357" y="987"/>
                  </a:lnTo>
                  <a:lnTo>
                    <a:pt x="1629" y="1598"/>
                  </a:lnTo>
                  <a:lnTo>
                    <a:pt x="1907" y="2585"/>
                  </a:lnTo>
                  <a:lnTo>
                    <a:pt x="1179" y="1975"/>
                  </a:lnTo>
                  <a:lnTo>
                    <a:pt x="450" y="2585"/>
                  </a:lnTo>
                  <a:lnTo>
                    <a:pt x="728" y="1598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 Box 22"/>
            <p:cNvSpPr/>
            <p:nvPr/>
          </p:nvSpPr>
          <p:spPr>
            <a:xfrm>
              <a:off x="3779640" y="2276280"/>
              <a:ext cx="37638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800" spc="-1" strike="noStrike">
                  <a:solidFill>
                    <a:srgbClr val="9933ff"/>
                  </a:solidFill>
                  <a:latin typeface="Times New Roman"/>
                  <a:ea typeface="黑体"/>
                </a:rPr>
                <a:t>蓝天　　　</a:t>
              </a:r>
              <a:endParaRPr b="0" lang="en-US" sz="5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23"/>
          <p:cNvGrpSpPr/>
          <p:nvPr/>
        </p:nvGrpSpPr>
        <p:grpSpPr>
          <a:xfrm>
            <a:off x="2627280" y="907920"/>
            <a:ext cx="4700160" cy="4105440"/>
            <a:chOff x="2627280" y="907920"/>
            <a:chExt cx="4700160" cy="4105440"/>
          </a:xfrm>
        </p:grpSpPr>
        <p:sp>
          <p:nvSpPr>
            <p:cNvPr id="80" name="AutoShape 24"/>
            <p:cNvSpPr/>
            <p:nvPr/>
          </p:nvSpPr>
          <p:spPr>
            <a:xfrm>
              <a:off x="2627280" y="907920"/>
              <a:ext cx="3742920" cy="4105440"/>
            </a:xfrm>
            <a:custGeom>
              <a:avLst/>
              <a:gdLst/>
              <a:ahLst/>
              <a:rect l="l" t="t" r="r" b="b"/>
              <a:pathLst>
                <a:path w="2358" h="2586">
                  <a:moveTo>
                    <a:pt x="0" y="987"/>
                  </a:moveTo>
                  <a:lnTo>
                    <a:pt x="900" y="987"/>
                  </a:lnTo>
                  <a:lnTo>
                    <a:pt x="1179" y="0"/>
                  </a:lnTo>
                  <a:lnTo>
                    <a:pt x="1457" y="987"/>
                  </a:lnTo>
                  <a:lnTo>
                    <a:pt x="2357" y="987"/>
                  </a:lnTo>
                  <a:lnTo>
                    <a:pt x="1629" y="1598"/>
                  </a:lnTo>
                  <a:lnTo>
                    <a:pt x="1907" y="2585"/>
                  </a:lnTo>
                  <a:lnTo>
                    <a:pt x="1179" y="1975"/>
                  </a:lnTo>
                  <a:lnTo>
                    <a:pt x="450" y="2585"/>
                  </a:lnTo>
                  <a:lnTo>
                    <a:pt x="728" y="1598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 Box 25"/>
            <p:cNvSpPr/>
            <p:nvPr/>
          </p:nvSpPr>
          <p:spPr>
            <a:xfrm>
              <a:off x="3563640" y="2635200"/>
              <a:ext cx="37638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800" spc="-1" strike="noStrike">
                  <a:solidFill>
                    <a:srgbClr val="9933ff"/>
                  </a:solidFill>
                  <a:latin typeface="Times New Roman"/>
                  <a:ea typeface="黑体"/>
                </a:rPr>
                <a:t>船儿</a:t>
              </a:r>
              <a:endParaRPr b="0" lang="en-US" sz="5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Group 26"/>
          <p:cNvGrpSpPr/>
          <p:nvPr/>
        </p:nvGrpSpPr>
        <p:grpSpPr>
          <a:xfrm>
            <a:off x="2484360" y="260280"/>
            <a:ext cx="4700160" cy="4105440"/>
            <a:chOff x="2484360" y="260280"/>
            <a:chExt cx="4700160" cy="4105440"/>
          </a:xfrm>
        </p:grpSpPr>
        <p:sp>
          <p:nvSpPr>
            <p:cNvPr id="83" name="AutoShape 27"/>
            <p:cNvSpPr/>
            <p:nvPr/>
          </p:nvSpPr>
          <p:spPr>
            <a:xfrm>
              <a:off x="2484360" y="260280"/>
              <a:ext cx="3742920" cy="4105440"/>
            </a:xfrm>
            <a:custGeom>
              <a:avLst/>
              <a:gdLst/>
              <a:ahLst/>
              <a:rect l="l" t="t" r="r" b="b"/>
              <a:pathLst>
                <a:path w="2358" h="2586">
                  <a:moveTo>
                    <a:pt x="0" y="987"/>
                  </a:moveTo>
                  <a:lnTo>
                    <a:pt x="900" y="987"/>
                  </a:lnTo>
                  <a:lnTo>
                    <a:pt x="1179" y="0"/>
                  </a:lnTo>
                  <a:lnTo>
                    <a:pt x="1457" y="987"/>
                  </a:lnTo>
                  <a:lnTo>
                    <a:pt x="2357" y="987"/>
                  </a:lnTo>
                  <a:lnTo>
                    <a:pt x="1629" y="1598"/>
                  </a:lnTo>
                  <a:lnTo>
                    <a:pt x="1907" y="2585"/>
                  </a:lnTo>
                  <a:lnTo>
                    <a:pt x="1179" y="1975"/>
                  </a:lnTo>
                  <a:lnTo>
                    <a:pt x="450" y="2585"/>
                  </a:lnTo>
                  <a:lnTo>
                    <a:pt x="728" y="1598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 Box 28"/>
            <p:cNvSpPr/>
            <p:nvPr/>
          </p:nvSpPr>
          <p:spPr>
            <a:xfrm>
              <a:off x="3420720" y="1987560"/>
              <a:ext cx="37638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800" spc="-1" strike="noStrike">
                  <a:solidFill>
                    <a:srgbClr val="9933ff"/>
                  </a:solidFill>
                  <a:latin typeface="Times New Roman"/>
                  <a:ea typeface="黑体"/>
                </a:rPr>
                <a:t>两个　　　</a:t>
              </a:r>
              <a:endParaRPr b="0" lang="en-US" sz="5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29"/>
          <p:cNvGrpSpPr/>
          <p:nvPr/>
        </p:nvGrpSpPr>
        <p:grpSpPr>
          <a:xfrm>
            <a:off x="2268360" y="765000"/>
            <a:ext cx="4700880" cy="4105440"/>
            <a:chOff x="2268360" y="765000"/>
            <a:chExt cx="4700880" cy="4105440"/>
          </a:xfrm>
        </p:grpSpPr>
        <p:sp>
          <p:nvSpPr>
            <p:cNvPr id="86" name="AutoShape 30"/>
            <p:cNvSpPr/>
            <p:nvPr/>
          </p:nvSpPr>
          <p:spPr>
            <a:xfrm>
              <a:off x="2268360" y="765000"/>
              <a:ext cx="3743280" cy="4105440"/>
            </a:xfrm>
            <a:custGeom>
              <a:avLst/>
              <a:gdLst/>
              <a:ahLst/>
              <a:rect l="l" t="t" r="r" b="b"/>
              <a:pathLst>
                <a:path w="2358" h="2586">
                  <a:moveTo>
                    <a:pt x="0" y="987"/>
                  </a:moveTo>
                  <a:lnTo>
                    <a:pt x="900" y="987"/>
                  </a:lnTo>
                  <a:lnTo>
                    <a:pt x="1179" y="0"/>
                  </a:lnTo>
                  <a:lnTo>
                    <a:pt x="1457" y="987"/>
                  </a:lnTo>
                  <a:lnTo>
                    <a:pt x="2357" y="987"/>
                  </a:lnTo>
                  <a:lnTo>
                    <a:pt x="1629" y="1598"/>
                  </a:lnTo>
                  <a:lnTo>
                    <a:pt x="1907" y="2585"/>
                  </a:lnTo>
                  <a:lnTo>
                    <a:pt x="1179" y="1975"/>
                  </a:lnTo>
                  <a:lnTo>
                    <a:pt x="450" y="2585"/>
                  </a:lnTo>
                  <a:lnTo>
                    <a:pt x="728" y="1598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 Box 31"/>
            <p:cNvSpPr/>
            <p:nvPr/>
          </p:nvSpPr>
          <p:spPr>
            <a:xfrm>
              <a:off x="3205080" y="2492280"/>
              <a:ext cx="376416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800" spc="-1" strike="noStrike">
                  <a:solidFill>
                    <a:srgbClr val="9933ff"/>
                  </a:solidFill>
                  <a:latin typeface="Times New Roman"/>
                  <a:ea typeface="黑体"/>
                </a:rPr>
                <a:t>月亮　　　</a:t>
              </a:r>
              <a:endParaRPr b="0" lang="en-US" sz="5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32"/>
          <p:cNvGrpSpPr/>
          <p:nvPr/>
        </p:nvGrpSpPr>
        <p:grpSpPr>
          <a:xfrm>
            <a:off x="2700360" y="692280"/>
            <a:ext cx="4700160" cy="4105080"/>
            <a:chOff x="2700360" y="692280"/>
            <a:chExt cx="4700160" cy="4105080"/>
          </a:xfrm>
        </p:grpSpPr>
        <p:sp>
          <p:nvSpPr>
            <p:cNvPr id="89" name="AutoShape 33"/>
            <p:cNvSpPr/>
            <p:nvPr/>
          </p:nvSpPr>
          <p:spPr>
            <a:xfrm>
              <a:off x="2700360" y="692280"/>
              <a:ext cx="3742920" cy="4105080"/>
            </a:xfrm>
            <a:custGeom>
              <a:avLst/>
              <a:gdLst/>
              <a:ahLst/>
              <a:rect l="l" t="t" r="r" b="b"/>
              <a:pathLst>
                <a:path w="2358" h="2586">
                  <a:moveTo>
                    <a:pt x="0" y="987"/>
                  </a:moveTo>
                  <a:lnTo>
                    <a:pt x="900" y="987"/>
                  </a:lnTo>
                  <a:lnTo>
                    <a:pt x="1179" y="0"/>
                  </a:lnTo>
                  <a:lnTo>
                    <a:pt x="1457" y="987"/>
                  </a:lnTo>
                  <a:lnTo>
                    <a:pt x="2357" y="987"/>
                  </a:lnTo>
                  <a:lnTo>
                    <a:pt x="1629" y="1598"/>
                  </a:lnTo>
                  <a:lnTo>
                    <a:pt x="1907" y="2585"/>
                  </a:lnTo>
                  <a:lnTo>
                    <a:pt x="1179" y="1975"/>
                  </a:lnTo>
                  <a:lnTo>
                    <a:pt x="450" y="2585"/>
                  </a:lnTo>
                  <a:lnTo>
                    <a:pt x="728" y="1598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34"/>
            <p:cNvSpPr/>
            <p:nvPr/>
          </p:nvSpPr>
          <p:spPr>
            <a:xfrm>
              <a:off x="3636720" y="2419200"/>
              <a:ext cx="37638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800" spc="-1" strike="noStrike">
                  <a:solidFill>
                    <a:srgbClr val="9933ff"/>
                  </a:solidFill>
                  <a:latin typeface="Times New Roman"/>
                  <a:ea typeface="黑体"/>
                </a:rPr>
                <a:t>见面　　　</a:t>
              </a:r>
              <a:endParaRPr b="0" lang="en-US" sz="5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35"/>
          <p:cNvGrpSpPr/>
          <p:nvPr/>
        </p:nvGrpSpPr>
        <p:grpSpPr>
          <a:xfrm>
            <a:off x="2627280" y="476280"/>
            <a:ext cx="4700160" cy="4105080"/>
            <a:chOff x="2627280" y="476280"/>
            <a:chExt cx="4700160" cy="4105080"/>
          </a:xfrm>
        </p:grpSpPr>
        <p:sp>
          <p:nvSpPr>
            <p:cNvPr id="92" name="AutoShape 36"/>
            <p:cNvSpPr/>
            <p:nvPr/>
          </p:nvSpPr>
          <p:spPr>
            <a:xfrm>
              <a:off x="2627280" y="476280"/>
              <a:ext cx="3742920" cy="4105080"/>
            </a:xfrm>
            <a:custGeom>
              <a:avLst/>
              <a:gdLst/>
              <a:ahLst/>
              <a:rect l="l" t="t" r="r" b="b"/>
              <a:pathLst>
                <a:path w="2358" h="2586">
                  <a:moveTo>
                    <a:pt x="0" y="987"/>
                  </a:moveTo>
                  <a:lnTo>
                    <a:pt x="900" y="987"/>
                  </a:lnTo>
                  <a:lnTo>
                    <a:pt x="1179" y="0"/>
                  </a:lnTo>
                  <a:lnTo>
                    <a:pt x="1457" y="987"/>
                  </a:lnTo>
                  <a:lnTo>
                    <a:pt x="2357" y="987"/>
                  </a:lnTo>
                  <a:lnTo>
                    <a:pt x="1629" y="1598"/>
                  </a:lnTo>
                  <a:lnTo>
                    <a:pt x="1907" y="2585"/>
                  </a:lnTo>
                  <a:lnTo>
                    <a:pt x="1179" y="1975"/>
                  </a:lnTo>
                  <a:lnTo>
                    <a:pt x="450" y="2585"/>
                  </a:lnTo>
                  <a:lnTo>
                    <a:pt x="728" y="1598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 Box 37"/>
            <p:cNvSpPr/>
            <p:nvPr/>
          </p:nvSpPr>
          <p:spPr>
            <a:xfrm>
              <a:off x="3563640" y="2203200"/>
              <a:ext cx="37638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800" spc="-1" strike="noStrike">
                  <a:solidFill>
                    <a:srgbClr val="9933ff"/>
                  </a:solidFill>
                  <a:latin typeface="Times New Roman"/>
                  <a:ea typeface="黑体"/>
                </a:rPr>
                <a:t>船头　　　</a:t>
              </a:r>
              <a:endParaRPr b="0" lang="en-US" sz="5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38"/>
          <p:cNvGrpSpPr/>
          <p:nvPr/>
        </p:nvGrpSpPr>
        <p:grpSpPr>
          <a:xfrm>
            <a:off x="2340000" y="260280"/>
            <a:ext cx="4700160" cy="4105440"/>
            <a:chOff x="2340000" y="260280"/>
            <a:chExt cx="4700160" cy="4105440"/>
          </a:xfrm>
        </p:grpSpPr>
        <p:sp>
          <p:nvSpPr>
            <p:cNvPr id="95" name="AutoShape 39"/>
            <p:cNvSpPr/>
            <p:nvPr/>
          </p:nvSpPr>
          <p:spPr>
            <a:xfrm>
              <a:off x="2340000" y="260280"/>
              <a:ext cx="3742920" cy="4105440"/>
            </a:xfrm>
            <a:custGeom>
              <a:avLst/>
              <a:gdLst/>
              <a:ahLst/>
              <a:rect l="l" t="t" r="r" b="b"/>
              <a:pathLst>
                <a:path w="2358" h="2586">
                  <a:moveTo>
                    <a:pt x="0" y="987"/>
                  </a:moveTo>
                  <a:lnTo>
                    <a:pt x="900" y="987"/>
                  </a:lnTo>
                  <a:lnTo>
                    <a:pt x="1179" y="0"/>
                  </a:lnTo>
                  <a:lnTo>
                    <a:pt x="1457" y="987"/>
                  </a:lnTo>
                  <a:lnTo>
                    <a:pt x="2357" y="987"/>
                  </a:lnTo>
                  <a:lnTo>
                    <a:pt x="1629" y="1598"/>
                  </a:lnTo>
                  <a:lnTo>
                    <a:pt x="1907" y="2585"/>
                  </a:lnTo>
                  <a:lnTo>
                    <a:pt x="1179" y="1975"/>
                  </a:lnTo>
                  <a:lnTo>
                    <a:pt x="450" y="2585"/>
                  </a:lnTo>
                  <a:lnTo>
                    <a:pt x="728" y="1598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 Box 40"/>
            <p:cNvSpPr/>
            <p:nvPr/>
          </p:nvSpPr>
          <p:spPr>
            <a:xfrm>
              <a:off x="3276360" y="1987560"/>
              <a:ext cx="37638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800" spc="-1" strike="noStrike">
                  <a:solidFill>
                    <a:srgbClr val="9933ff"/>
                  </a:solidFill>
                  <a:latin typeface="Times New Roman"/>
                  <a:ea typeface="黑体"/>
                </a:rPr>
                <a:t>蓝蓝的　　　</a:t>
              </a:r>
              <a:endParaRPr b="0" lang="en-US" sz="5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7" name="Picture 41" descr="星01"/>
          <p:cNvPicPr/>
          <p:nvPr/>
        </p:nvPicPr>
        <p:blipFill>
          <a:blip r:embed="rId1"/>
          <a:stretch/>
        </p:blipFill>
        <p:spPr>
          <a:xfrm>
            <a:off x="685800" y="1295280"/>
            <a:ext cx="2343240" cy="1096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2" descr="星01"/>
          <p:cNvPicPr/>
          <p:nvPr/>
        </p:nvPicPr>
        <p:blipFill>
          <a:blip r:embed="rId2"/>
          <a:stretch/>
        </p:blipFill>
        <p:spPr>
          <a:xfrm>
            <a:off x="5334120" y="762120"/>
            <a:ext cx="2342880" cy="1096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3" descr="星01"/>
          <p:cNvPicPr/>
          <p:nvPr/>
        </p:nvPicPr>
        <p:blipFill>
          <a:blip r:embed="rId3"/>
          <a:stretch/>
        </p:blipFill>
        <p:spPr>
          <a:xfrm>
            <a:off x="6084720" y="2708280"/>
            <a:ext cx="2343240" cy="1096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4" descr="星01"/>
          <p:cNvPicPr/>
          <p:nvPr/>
        </p:nvPicPr>
        <p:blipFill>
          <a:blip r:embed="rId4"/>
          <a:stretch/>
        </p:blipFill>
        <p:spPr>
          <a:xfrm>
            <a:off x="250920" y="3068640"/>
            <a:ext cx="2342880" cy="1096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5" descr="星04"/>
          <p:cNvPicPr/>
          <p:nvPr/>
        </p:nvPicPr>
        <p:blipFill>
          <a:blip r:embed="rId5"/>
          <a:stretch/>
        </p:blipFill>
        <p:spPr>
          <a:xfrm>
            <a:off x="1828800" y="9907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6" descr="星04"/>
          <p:cNvPicPr/>
          <p:nvPr/>
        </p:nvPicPr>
        <p:blipFill>
          <a:blip r:embed="rId6"/>
          <a:stretch/>
        </p:blipFill>
        <p:spPr>
          <a:xfrm>
            <a:off x="1403280" y="263700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7" descr="星04"/>
          <p:cNvPicPr/>
          <p:nvPr/>
        </p:nvPicPr>
        <p:blipFill>
          <a:blip r:embed="rId7"/>
          <a:stretch/>
        </p:blipFill>
        <p:spPr>
          <a:xfrm>
            <a:off x="7380360" y="90792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8" descr="星04"/>
          <p:cNvPicPr/>
          <p:nvPr/>
        </p:nvPicPr>
        <p:blipFill>
          <a:blip r:embed="rId8"/>
          <a:stretch/>
        </p:blipFill>
        <p:spPr>
          <a:xfrm>
            <a:off x="7596360" y="206064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9" descr="星04"/>
          <p:cNvPicPr/>
          <p:nvPr/>
        </p:nvPicPr>
        <p:blipFill>
          <a:blip r:embed="rId9"/>
          <a:stretch/>
        </p:blipFill>
        <p:spPr>
          <a:xfrm>
            <a:off x="8028000" y="119700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4" dur="1" fill="hold"/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sp>
          <p:nvSpPr>
            <p:cNvPr id="108" name="直线连接符 21"/>
            <p:cNvSpPr/>
            <p:nvPr/>
          </p:nvSpPr>
          <p:spPr>
            <a:xfrm flipV="1">
              <a:off x="466560" y="1267920"/>
              <a:ext cx="207360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pic>
        <p:nvPicPr>
          <p:cNvPr id="111" name="矩形 1" descr=""/>
          <p:cNvPicPr/>
          <p:nvPr/>
        </p:nvPicPr>
        <p:blipFill>
          <a:blip r:embed="rId3"/>
          <a:stretch/>
        </p:blipFill>
        <p:spPr>
          <a:xfrm>
            <a:off x="612720" y="2133720"/>
            <a:ext cx="2013120" cy="69984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8"/>
          <p:cNvSpPr/>
          <p:nvPr/>
        </p:nvSpPr>
        <p:spPr>
          <a:xfrm>
            <a:off x="3191040" y="3405240"/>
            <a:ext cx="577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楷体"/>
                <a:ea typeface="楷体"/>
              </a:rPr>
              <a:t>组词：月亮   明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图片 3" descr=""/>
          <p:cNvPicPr/>
          <p:nvPr/>
        </p:nvPicPr>
        <p:blipFill>
          <a:blip r:embed="rId4"/>
          <a:stretch/>
        </p:blipFill>
        <p:spPr>
          <a:xfrm>
            <a:off x="539640" y="3141720"/>
            <a:ext cx="2446560" cy="24462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1279440" y="2984400"/>
            <a:ext cx="11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826920" y="3357720"/>
            <a:ext cx="18147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276720" y="26668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楷体"/>
                <a:ea typeface="楷体"/>
              </a:rPr>
              <a:t>结构：独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7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7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7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sp>
          <p:nvSpPr>
            <p:cNvPr id="119" name="直线连接符 21"/>
            <p:cNvSpPr/>
            <p:nvPr/>
          </p:nvSpPr>
          <p:spPr>
            <a:xfrm flipV="1">
              <a:off x="466560" y="1267920"/>
              <a:ext cx="207360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0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pic>
        <p:nvPicPr>
          <p:cNvPr id="122" name="矩形 1" descr=""/>
          <p:cNvPicPr/>
          <p:nvPr/>
        </p:nvPicPr>
        <p:blipFill>
          <a:blip r:embed="rId3"/>
          <a:stretch/>
        </p:blipFill>
        <p:spPr>
          <a:xfrm>
            <a:off x="612720" y="2133720"/>
            <a:ext cx="2013120" cy="69984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8"/>
          <p:cNvSpPr/>
          <p:nvPr/>
        </p:nvSpPr>
        <p:spPr>
          <a:xfrm>
            <a:off x="3084480" y="3470400"/>
            <a:ext cx="580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楷体"/>
                <a:ea typeface="楷体"/>
              </a:rPr>
              <a:t>组词：儿子   月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图片 3" descr=""/>
          <p:cNvPicPr/>
          <p:nvPr/>
        </p:nvPicPr>
        <p:blipFill>
          <a:blip r:embed="rId4"/>
          <a:stretch/>
        </p:blipFill>
        <p:spPr>
          <a:xfrm>
            <a:off x="539640" y="2924280"/>
            <a:ext cx="2446560" cy="24462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5"/>
          <p:cNvSpPr/>
          <p:nvPr/>
        </p:nvSpPr>
        <p:spPr>
          <a:xfrm>
            <a:off x="826920" y="3141720"/>
            <a:ext cx="18147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华文新魏"/>
                <a:ea typeface="华文新魏"/>
              </a:rPr>
              <a:t>儿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3276720" y="26668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楷体"/>
                <a:ea typeface="楷体"/>
              </a:rPr>
              <a:t>结构：独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7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sp>
          <p:nvSpPr>
            <p:cNvPr id="129" name="直线连接符 21"/>
            <p:cNvSpPr/>
            <p:nvPr/>
          </p:nvSpPr>
          <p:spPr>
            <a:xfrm flipV="1">
              <a:off x="466560" y="1267920"/>
              <a:ext cx="207360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0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pic>
        <p:nvPicPr>
          <p:cNvPr id="132" name="矩形 1" descr=""/>
          <p:cNvPicPr/>
          <p:nvPr/>
        </p:nvPicPr>
        <p:blipFill>
          <a:blip r:embed="rId3"/>
          <a:stretch/>
        </p:blipFill>
        <p:spPr>
          <a:xfrm>
            <a:off x="612720" y="2133720"/>
            <a:ext cx="2013120" cy="69984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8"/>
          <p:cNvSpPr/>
          <p:nvPr/>
        </p:nvSpPr>
        <p:spPr>
          <a:xfrm>
            <a:off x="3191040" y="3357720"/>
            <a:ext cx="577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楷体"/>
                <a:ea typeface="楷体"/>
              </a:rPr>
              <a:t>组词：大头</a:t>
            </a:r>
            <a:r>
              <a:rPr b="0" lang="en-US" sz="3200" spc="-1" strike="noStrike">
                <a:solidFill>
                  <a:srgbClr val="99cc00"/>
                </a:solidFill>
                <a:latin typeface="楷体"/>
                <a:ea typeface="楷体"/>
              </a:rPr>
              <a:t> </a:t>
            </a:r>
            <a:r>
              <a:rPr b="0" lang="zh-CN" sz="3200" spc="-1" strike="noStrike">
                <a:solidFill>
                  <a:srgbClr val="99cc00"/>
                </a:solidFill>
                <a:latin typeface="楷体"/>
                <a:ea typeface="楷体"/>
              </a:rPr>
              <a:t>   头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图片 3" descr=""/>
          <p:cNvPicPr/>
          <p:nvPr/>
        </p:nvPicPr>
        <p:blipFill>
          <a:blip r:embed="rId4"/>
          <a:stretch/>
        </p:blipFill>
        <p:spPr>
          <a:xfrm>
            <a:off x="468360" y="3068640"/>
            <a:ext cx="2446200" cy="24462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755640" y="3357720"/>
            <a:ext cx="18144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头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3276720" y="26668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楷体"/>
                <a:ea typeface="楷体"/>
              </a:rPr>
              <a:t>结构：独体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7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sp>
          <p:nvSpPr>
            <p:cNvPr id="139" name="直线连接符 21"/>
            <p:cNvSpPr/>
            <p:nvPr/>
          </p:nvSpPr>
          <p:spPr>
            <a:xfrm flipV="1">
              <a:off x="466560" y="1267920"/>
              <a:ext cx="207360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0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pic>
        <p:nvPicPr>
          <p:cNvPr id="142" name="矩形 1" descr=""/>
          <p:cNvPicPr/>
          <p:nvPr/>
        </p:nvPicPr>
        <p:blipFill>
          <a:blip r:embed="rId3"/>
          <a:stretch/>
        </p:blipFill>
        <p:spPr>
          <a:xfrm>
            <a:off x="612720" y="2133720"/>
            <a:ext cx="2013120" cy="699840"/>
          </a:xfrm>
          <a:prstGeom prst="rect">
            <a:avLst/>
          </a:prstGeom>
          <a:ln w="0">
            <a:noFill/>
          </a:ln>
        </p:spPr>
      </p:pic>
      <p:sp>
        <p:nvSpPr>
          <p:cNvPr id="143" name="文本框 8"/>
          <p:cNvSpPr/>
          <p:nvPr/>
        </p:nvSpPr>
        <p:spPr>
          <a:xfrm>
            <a:off x="3191040" y="3370320"/>
            <a:ext cx="562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楷体"/>
                <a:ea typeface="楷体"/>
              </a:rPr>
              <a:t>组词：里面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图片 3" descr=""/>
          <p:cNvPicPr/>
          <p:nvPr/>
        </p:nvPicPr>
        <p:blipFill>
          <a:blip r:embed="rId4"/>
          <a:stretch/>
        </p:blipFill>
        <p:spPr>
          <a:xfrm>
            <a:off x="611280" y="3141720"/>
            <a:ext cx="2446200" cy="24462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5"/>
          <p:cNvSpPr/>
          <p:nvPr/>
        </p:nvSpPr>
        <p:spPr>
          <a:xfrm>
            <a:off x="971640" y="3429000"/>
            <a:ext cx="18144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里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3276720" y="26668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楷体"/>
                <a:ea typeface="楷体"/>
              </a:rPr>
              <a:t>结构：上下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7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0T11:32:16Z</dcterms:created>
  <dc:creator/>
  <dc:description/>
  <cp:keywords/>
  <dc:language>en-US</dc:language>
  <cp:lastModifiedBy>User</cp:lastModifiedBy>
  <dcterms:modified xsi:type="dcterms:W3CDTF">2016-10-05T14:27:21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