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18.jpeg" ContentType="image/jpeg"/>
  <Override PartName="/ppt/media/image15.jpeg" ContentType="image/jpeg"/>
  <Override PartName="/ppt/media/camera.wav" ContentType="audio/x-wav"/>
  <Override PartName="/ppt/media/image23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16.jpeg" ContentType="image/jpeg"/>
  <Override PartName="/ppt/media/image29.png" ContentType="image/png"/>
  <Override PartName="/ppt/media/chimes.wav" ContentType="audio/x-wav"/>
  <Override PartName="/ppt/media/image28.png" ContentType="image/png"/>
  <Override PartName="/ppt/media/image7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6.png" ContentType="image/png"/>
  <Override PartName="/ppt/media/image3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16.xml" ContentType="application/vnd.openxmlformats-officedocument.presentationml.comments+xml"/>
  <Override PartName="/ppt/comments/comment3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6-08-29T15:30:31.597000000" idx="1">
    <p:pos x="5568" y="663"/>
    <p:text>
</p:text>
  </p:cm>
</p:cmLst>
</file>

<file path=ppt/comments/comment35.xml><?xml version="1.0" encoding="utf-8"?>
<p:cmLst xmlns:p="http://schemas.openxmlformats.org/presentationml/2006/main">
  <p:cm authorId="0" dt="2016-08-29T15:30:41.653000000" idx="2">
    <p:pos x="5311" y="2260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图片 3" descr="200936212019"/>
          <p:cNvPicPr/>
          <p:nvPr/>
        </p:nvPicPr>
        <p:blipFill>
          <a:blip r:embed="rId1"/>
          <a:stretch/>
        </p:blipFill>
        <p:spPr>
          <a:xfrm>
            <a:off x="-28440" y="-4680"/>
            <a:ext cx="91915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ICT0189"/>
          <p:cNvPicPr/>
          <p:nvPr/>
        </p:nvPicPr>
        <p:blipFill>
          <a:blip r:embed="rId1"/>
          <a:stretch/>
        </p:blipFill>
        <p:spPr>
          <a:xfrm>
            <a:off x="44280" y="95400"/>
            <a:ext cx="9052200" cy="67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ICT0185"/>
          <p:cNvPicPr/>
          <p:nvPr/>
        </p:nvPicPr>
        <p:blipFill>
          <a:blip r:embed="rId1"/>
          <a:stretch/>
        </p:blipFill>
        <p:spPr>
          <a:xfrm>
            <a:off x="19080" y="12600"/>
            <a:ext cx="9124920" cy="68454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8001000" y="4648320"/>
            <a:ext cx="1143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4f7a474e32bf4e7009f7efae"/>
          <p:cNvPicPr/>
          <p:nvPr/>
        </p:nvPicPr>
        <p:blipFill>
          <a:blip r:embed="rId1"/>
          <a:stretch/>
        </p:blipFill>
        <p:spPr>
          <a:xfrm>
            <a:off x="33480" y="36360"/>
            <a:ext cx="9077040" cy="678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727200" y="819000"/>
            <a:ext cx="7689600" cy="1009080"/>
          </a:xfrm>
          <a:prstGeom prst="rect">
            <a:avLst/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真是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_______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啊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1766880"/>
            <a:ext cx="7689960" cy="1009080"/>
          </a:xfrm>
          <a:prstGeom prst="rect">
            <a:avLst/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"/>
              </a:rPr>
              <a:t>何田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57200" y="2921040"/>
            <a:ext cx="7689960" cy="1923480"/>
          </a:xfrm>
          <a:prstGeom prst="rect">
            <a:avLst/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"/>
              </a:rPr>
              <a:t>江南可采莲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"/>
              </a:rPr>
              <a:t>何田田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ttp://pic1.ooopic.cn/uploadfilepic/remenhangye/2009-11-20/OOOPIC_wuxiaomei_2009112046fcd0e51eb0a4dd.jpg"/>
          <p:cNvPicPr/>
          <p:nvPr/>
        </p:nvPicPr>
        <p:blipFill>
          <a:blip r:embed="rId1"/>
          <a:stretch/>
        </p:blipFill>
        <p:spPr>
          <a:xfrm>
            <a:off x="-46080" y="-19080"/>
            <a:ext cx="9236160" cy="68961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98280" y="635040"/>
            <a:ext cx="8947440" cy="210564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鱼儿一会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______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一会儿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____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pic1.ooopic.cn/uploadfilepic/remenhangye/2009-11-20/OOOPIC_wuxiaomei_2009112046fcd0e51eb0a4dd.jpg"/>
          <p:cNvPicPr/>
          <p:nvPr/>
        </p:nvPicPr>
        <p:blipFill>
          <a:blip r:embed="rId2"/>
          <a:stretch/>
        </p:blipFill>
        <p:spPr>
          <a:xfrm>
            <a:off x="-46080" y="-6480"/>
            <a:ext cx="9236160" cy="6896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-46080" y="1616040"/>
            <a:ext cx="8947080" cy="22273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鱼儿有的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______,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有的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________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4788000" y="3724200"/>
            <a:ext cx="4051080" cy="208116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3" descr=""/>
          <p:cNvPicPr/>
          <p:nvPr/>
        </p:nvPicPr>
        <p:blipFill>
          <a:blip r:embed="rId2"/>
          <a:stretch/>
        </p:blipFill>
        <p:spPr>
          <a:xfrm>
            <a:off x="317520" y="1125360"/>
            <a:ext cx="4114800" cy="222732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4" descr=""/>
          <p:cNvPicPr/>
          <p:nvPr/>
        </p:nvPicPr>
        <p:blipFill>
          <a:blip r:embed="rId3"/>
          <a:stretch/>
        </p:blipFill>
        <p:spPr>
          <a:xfrm>
            <a:off x="4788000" y="1125360"/>
            <a:ext cx="4038480" cy="223236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1998720"/>
          </a:xfrm>
          <a:prstGeom prst="rect">
            <a:avLst/>
          </a:prstGeom>
          <a:ln w="0">
            <a:noFill/>
          </a:ln>
        </p:spPr>
      </p:pic>
      <p:sp>
        <p:nvSpPr>
          <p:cNvPr id="116" name="Oval 6"/>
          <p:cNvSpPr/>
          <p:nvPr/>
        </p:nvSpPr>
        <p:spPr>
          <a:xfrm>
            <a:off x="4067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4427640" y="2060640"/>
            <a:ext cx="288720" cy="865080"/>
          </a:xfrm>
          <a:prstGeom prst="upArrow">
            <a:avLst>
              <a:gd name="adj1" fmla="val 50000"/>
              <a:gd name="adj2" fmla="val 74865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5219640" y="3429000"/>
            <a:ext cx="865080" cy="287280"/>
          </a:xfrm>
          <a:prstGeom prst="rightArrow">
            <a:avLst>
              <a:gd name="adj1" fmla="val 50000"/>
              <a:gd name="adj2" fmla="val 752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3132000" y="3357720"/>
            <a:ext cx="863640" cy="287280"/>
          </a:xfrm>
          <a:prstGeom prst="leftArrow">
            <a:avLst>
              <a:gd name="adj1" fmla="val 50000"/>
              <a:gd name="adj2" fmla="val 75101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4427640" y="4149720"/>
            <a:ext cx="288720" cy="863640"/>
          </a:xfrm>
          <a:prstGeom prst="downArrow">
            <a:avLst>
              <a:gd name="adj1" fmla="val 50000"/>
              <a:gd name="adj2" fmla="val 747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1835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622764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val 13"/>
          <p:cNvSpPr/>
          <p:nvPr/>
        </p:nvSpPr>
        <p:spPr>
          <a:xfrm>
            <a:off x="4067280" y="5084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val 14"/>
          <p:cNvSpPr/>
          <p:nvPr/>
        </p:nvSpPr>
        <p:spPr>
          <a:xfrm>
            <a:off x="4067280" y="836640"/>
            <a:ext cx="1081080" cy="1079640"/>
          </a:xfrm>
          <a:prstGeom prst="ellipse">
            <a:avLst/>
          </a:prstGeom>
          <a:solidFill>
            <a:srgbClr val="1f497d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val 15"/>
          <p:cNvSpPr/>
          <p:nvPr/>
        </p:nvSpPr>
        <p:spPr>
          <a:xfrm>
            <a:off x="7812000" y="5013360"/>
            <a:ext cx="719280" cy="79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9360" y="-20520"/>
            <a:ext cx="9150480" cy="7041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鱼儿一会儿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______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一会儿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________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4038480" cy="228744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3" descr=""/>
          <p:cNvPicPr/>
          <p:nvPr/>
        </p:nvPicPr>
        <p:blipFill>
          <a:blip r:embed="rId2"/>
          <a:stretch/>
        </p:blipFill>
        <p:spPr>
          <a:xfrm>
            <a:off x="304920" y="1052640"/>
            <a:ext cx="4114800" cy="23000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4" descr=""/>
          <p:cNvPicPr/>
          <p:nvPr/>
        </p:nvPicPr>
        <p:blipFill>
          <a:blip r:embed="rId3"/>
          <a:stretch/>
        </p:blipFill>
        <p:spPr>
          <a:xfrm>
            <a:off x="4800600" y="1052640"/>
            <a:ext cx="4038480" cy="231444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2287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744640" y="1600200"/>
            <a:ext cx="4060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莲叶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莲叶东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莲叶西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莲叶南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莲叶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江南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江南可采莲，莲叶何田田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鱼戏莲叶间。鱼戏莲叶东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鱼戏莲叶西，鱼戏莲叶南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鱼戏莲叶北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5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019240" cy="53352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135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Object 2" descr=""/>
          <p:cNvPicPr/>
          <p:nvPr/>
        </p:nvPicPr>
        <p:blipFill>
          <a:blip r:embed="rId1"/>
          <a:stretch/>
        </p:blipFill>
        <p:spPr>
          <a:xfrm>
            <a:off x="4788000" y="3724200"/>
            <a:ext cx="4051080" cy="208116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3" descr=""/>
          <p:cNvPicPr/>
          <p:nvPr/>
        </p:nvPicPr>
        <p:blipFill>
          <a:blip r:embed="rId2"/>
          <a:stretch/>
        </p:blipFill>
        <p:spPr>
          <a:xfrm>
            <a:off x="317520" y="1125360"/>
            <a:ext cx="4114800" cy="222732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3"/>
          <a:stretch/>
        </p:blipFill>
        <p:spPr>
          <a:xfrm>
            <a:off x="4788000" y="1125360"/>
            <a:ext cx="4038480" cy="22323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1998720"/>
          </a:xfrm>
          <a:prstGeom prst="rect">
            <a:avLst/>
          </a:prstGeom>
          <a:ln w="0">
            <a:noFill/>
          </a:ln>
        </p:spPr>
      </p:pic>
      <p:sp>
        <p:nvSpPr>
          <p:cNvPr id="141" name="Oval 6"/>
          <p:cNvSpPr/>
          <p:nvPr/>
        </p:nvSpPr>
        <p:spPr>
          <a:xfrm>
            <a:off x="4067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427640" y="2060640"/>
            <a:ext cx="288720" cy="865080"/>
          </a:xfrm>
          <a:prstGeom prst="upArrow">
            <a:avLst>
              <a:gd name="adj1" fmla="val 50000"/>
              <a:gd name="adj2" fmla="val 74865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5219640" y="3429000"/>
            <a:ext cx="865080" cy="287280"/>
          </a:xfrm>
          <a:prstGeom prst="rightArrow">
            <a:avLst>
              <a:gd name="adj1" fmla="val 50000"/>
              <a:gd name="adj2" fmla="val 752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3132000" y="3357720"/>
            <a:ext cx="863640" cy="287280"/>
          </a:xfrm>
          <a:prstGeom prst="leftArrow">
            <a:avLst>
              <a:gd name="adj1" fmla="val 50000"/>
              <a:gd name="adj2" fmla="val 75101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4427640" y="4149720"/>
            <a:ext cx="288720" cy="863640"/>
          </a:xfrm>
          <a:prstGeom prst="downArrow">
            <a:avLst>
              <a:gd name="adj1" fmla="val 50000"/>
              <a:gd name="adj2" fmla="val 747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1835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622764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val 13"/>
          <p:cNvSpPr/>
          <p:nvPr/>
        </p:nvSpPr>
        <p:spPr>
          <a:xfrm>
            <a:off x="4067280" y="5084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val 14"/>
          <p:cNvSpPr/>
          <p:nvPr/>
        </p:nvSpPr>
        <p:spPr>
          <a:xfrm>
            <a:off x="4067280" y="836640"/>
            <a:ext cx="1081080" cy="1079640"/>
          </a:xfrm>
          <a:prstGeom prst="ellipse">
            <a:avLst/>
          </a:prstGeom>
          <a:solidFill>
            <a:srgbClr val="1f497d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val 15"/>
          <p:cNvSpPr/>
          <p:nvPr/>
        </p:nvSpPr>
        <p:spPr>
          <a:xfrm>
            <a:off x="7812000" y="5013360"/>
            <a:ext cx="719280" cy="79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ject 2" descr=""/>
          <p:cNvPicPr/>
          <p:nvPr/>
        </p:nvPicPr>
        <p:blipFill>
          <a:blip r:embed="rId1"/>
          <a:stretch/>
        </p:blipFill>
        <p:spPr>
          <a:xfrm>
            <a:off x="4788000" y="3724200"/>
            <a:ext cx="4051080" cy="2081160"/>
          </a:xfrm>
          <a:prstGeom prst="rect">
            <a:avLst/>
          </a:prstGeom>
          <a:ln w="0">
            <a:noFill/>
          </a:ln>
        </p:spPr>
      </p:pic>
      <p:pic>
        <p:nvPicPr>
          <p:cNvPr id="43" name="Object 3" descr=""/>
          <p:cNvPicPr/>
          <p:nvPr/>
        </p:nvPicPr>
        <p:blipFill>
          <a:blip r:embed="rId2"/>
          <a:stretch/>
        </p:blipFill>
        <p:spPr>
          <a:xfrm>
            <a:off x="304920" y="1125360"/>
            <a:ext cx="4114800" cy="2227320"/>
          </a:xfrm>
          <a:prstGeom prst="rect">
            <a:avLst/>
          </a:prstGeom>
          <a:ln w="0">
            <a:noFill/>
          </a:ln>
        </p:spPr>
      </p:pic>
      <p:pic>
        <p:nvPicPr>
          <p:cNvPr id="44" name="Object 4" descr=""/>
          <p:cNvPicPr/>
          <p:nvPr/>
        </p:nvPicPr>
        <p:blipFill>
          <a:blip r:embed="rId3"/>
          <a:stretch/>
        </p:blipFill>
        <p:spPr>
          <a:xfrm>
            <a:off x="4788000" y="1125360"/>
            <a:ext cx="4038480" cy="2232360"/>
          </a:xfrm>
          <a:prstGeom prst="rect">
            <a:avLst/>
          </a:prstGeom>
          <a:ln w="0">
            <a:noFill/>
          </a:ln>
        </p:spPr>
      </p:pic>
      <p:pic>
        <p:nvPicPr>
          <p:cNvPr id="45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1998720"/>
          </a:xfrm>
          <a:prstGeom prst="rect">
            <a:avLst/>
          </a:prstGeom>
          <a:ln w="0">
            <a:noFill/>
          </a:ln>
        </p:spPr>
      </p:pic>
      <p:sp>
        <p:nvSpPr>
          <p:cNvPr id="46" name="Oval 6"/>
          <p:cNvSpPr/>
          <p:nvPr/>
        </p:nvSpPr>
        <p:spPr>
          <a:xfrm>
            <a:off x="4067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7"/>
          <p:cNvSpPr/>
          <p:nvPr/>
        </p:nvSpPr>
        <p:spPr>
          <a:xfrm>
            <a:off x="4427640" y="2060640"/>
            <a:ext cx="288720" cy="865080"/>
          </a:xfrm>
          <a:prstGeom prst="upArrow">
            <a:avLst>
              <a:gd name="adj1" fmla="val 50000"/>
              <a:gd name="adj2" fmla="val 74865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8"/>
          <p:cNvSpPr/>
          <p:nvPr/>
        </p:nvSpPr>
        <p:spPr>
          <a:xfrm>
            <a:off x="5219640" y="3429000"/>
            <a:ext cx="865080" cy="287280"/>
          </a:xfrm>
          <a:prstGeom prst="rightArrow">
            <a:avLst>
              <a:gd name="adj1" fmla="val 50000"/>
              <a:gd name="adj2" fmla="val 752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9"/>
          <p:cNvSpPr/>
          <p:nvPr/>
        </p:nvSpPr>
        <p:spPr>
          <a:xfrm>
            <a:off x="3132000" y="3357720"/>
            <a:ext cx="863640" cy="287280"/>
          </a:xfrm>
          <a:prstGeom prst="leftArrow">
            <a:avLst>
              <a:gd name="adj1" fmla="val 50000"/>
              <a:gd name="adj2" fmla="val 75101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0"/>
          <p:cNvSpPr/>
          <p:nvPr/>
        </p:nvSpPr>
        <p:spPr>
          <a:xfrm>
            <a:off x="4427640" y="4149720"/>
            <a:ext cx="288720" cy="863640"/>
          </a:xfrm>
          <a:prstGeom prst="downArrow">
            <a:avLst>
              <a:gd name="adj1" fmla="val 50000"/>
              <a:gd name="adj2" fmla="val 74726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val 11"/>
          <p:cNvSpPr/>
          <p:nvPr/>
        </p:nvSpPr>
        <p:spPr>
          <a:xfrm>
            <a:off x="1835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12"/>
          <p:cNvSpPr/>
          <p:nvPr/>
        </p:nvSpPr>
        <p:spPr>
          <a:xfrm>
            <a:off x="622764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4067280" y="5084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val 14"/>
          <p:cNvSpPr/>
          <p:nvPr/>
        </p:nvSpPr>
        <p:spPr>
          <a:xfrm>
            <a:off x="4067280" y="836640"/>
            <a:ext cx="1081080" cy="1079640"/>
          </a:xfrm>
          <a:prstGeom prst="ellipse">
            <a:avLst/>
          </a:prstGeom>
          <a:solidFill>
            <a:srgbClr val="1f497d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15"/>
          <p:cNvSpPr/>
          <p:nvPr/>
        </p:nvSpPr>
        <p:spPr>
          <a:xfrm>
            <a:off x="7812000" y="5013360"/>
            <a:ext cx="719280" cy="7905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482760" y="3398040"/>
            <a:ext cx="8173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江南自古以来就是一个美丽的地方，那里风景秀丽，风景如画。你们看，那美丽的莲池中，莲叶茂盛，莲花飘香，莲蓬多饱满啊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还有许多人在其中采莲呢。唐代诗人卢龟蒙就用诗歌写下了这动人的一幕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5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6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6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6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5" name="矩形 1639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2514600" y="1916280"/>
            <a:ext cx="4114800" cy="4114800"/>
            <a:chOff x="2514600" y="1916280"/>
            <a:chExt cx="4114800" cy="4114800"/>
          </a:xfrm>
        </p:grpSpPr>
        <p:grpSp>
          <p:nvGrpSpPr>
            <p:cNvPr id="167" name=""/>
            <p:cNvGrpSpPr/>
            <p:nvPr/>
          </p:nvGrpSpPr>
          <p:grpSpPr>
            <a:xfrm>
              <a:off x="2514600" y="3973680"/>
              <a:ext cx="4114800" cy="360"/>
              <a:chOff x="2514600" y="3973680"/>
              <a:chExt cx="4114800" cy="360"/>
            </a:xfrm>
          </p:grpSpPr>
          <p:sp>
            <p:nvSpPr>
              <p:cNvPr id="168" name="Line 3"/>
              <p:cNvSpPr/>
              <p:nvPr/>
            </p:nvSpPr>
            <p:spPr>
              <a:xfrm>
                <a:off x="2514600" y="397368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>
                <a:off x="2514600" y="397368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0" name="Group 4"/>
            <p:cNvGrpSpPr/>
            <p:nvPr/>
          </p:nvGrpSpPr>
          <p:grpSpPr>
            <a:xfrm>
              <a:off x="2514600" y="1916280"/>
              <a:ext cx="4114800" cy="4114800"/>
              <a:chOff x="2514600" y="1916280"/>
              <a:chExt cx="4114800" cy="4114800"/>
            </a:xfrm>
          </p:grpSpPr>
          <p:sp>
            <p:nvSpPr>
              <p:cNvPr id="171" name="Rectangle 5"/>
              <p:cNvSpPr/>
              <p:nvPr/>
            </p:nvSpPr>
            <p:spPr>
              <a:xfrm>
                <a:off x="2514600" y="191628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4572000" y="1916280"/>
                <a:ext cx="360" cy="4114800"/>
                <a:chOff x="4572000" y="1916280"/>
                <a:chExt cx="360" cy="4114800"/>
              </a:xfrm>
            </p:grpSpPr>
            <p:sp>
              <p:nvSpPr>
                <p:cNvPr id="173" name="Line 6"/>
                <p:cNvSpPr/>
                <p:nvPr/>
              </p:nvSpPr>
              <p:spPr>
                <a:xfrm>
                  <a:off x="4572000" y="191628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>
                  <a:off x="4572000" y="191628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75" name="Rectangle 7"/>
          <p:cNvSpPr/>
          <p:nvPr/>
        </p:nvSpPr>
        <p:spPr>
          <a:xfrm>
            <a:off x="3352320" y="25178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123000" y="25858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3581280" y="2906640"/>
            <a:ext cx="695520" cy="581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"/>
          <p:cNvPicPr/>
          <p:nvPr/>
        </p:nvPicPr>
        <p:blipFill>
          <a:blip r:embed="rId2"/>
          <a:stretch/>
        </p:blipFill>
        <p:spPr>
          <a:xfrm>
            <a:off x="4124160" y="2944800"/>
            <a:ext cx="600120" cy="1104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"/>
          <p:cNvPicPr/>
          <p:nvPr/>
        </p:nvPicPr>
        <p:blipFill>
          <a:blip r:embed="rId3"/>
          <a:stretch/>
        </p:blipFill>
        <p:spPr>
          <a:xfrm>
            <a:off x="4038480" y="4430880"/>
            <a:ext cx="857520" cy="1000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4"/>
          <a:stretch/>
        </p:blipFill>
        <p:spPr>
          <a:xfrm>
            <a:off x="4419720" y="2478240"/>
            <a:ext cx="952560" cy="2943000"/>
          </a:xfrm>
          <a:prstGeom prst="rect">
            <a:avLst/>
          </a:prstGeom>
          <a:ln w="0">
            <a:noFill/>
          </a:ln>
        </p:spPr>
      </p:pic>
      <p:sp>
        <p:nvSpPr>
          <p:cNvPr id="181" name="未知"/>
          <p:cNvSpPr/>
          <p:nvPr/>
        </p:nvSpPr>
        <p:spPr>
          <a:xfrm>
            <a:off x="3144960" y="2449440"/>
            <a:ext cx="2798640" cy="447840"/>
          </a:xfrm>
          <a:custGeom>
            <a:avLst/>
            <a:gdLst/>
            <a:ahLst/>
            <a:rect l="l" t="t" r="r" b="b"/>
            <a:pathLst>
              <a:path w="4409" h="706">
                <a:moveTo>
                  <a:pt x="4409" y="311"/>
                </a:moveTo>
                <a:lnTo>
                  <a:pt x="4409" y="325"/>
                </a:lnTo>
                <a:lnTo>
                  <a:pt x="4409" y="339"/>
                </a:lnTo>
                <a:lnTo>
                  <a:pt x="4395" y="339"/>
                </a:lnTo>
                <a:lnTo>
                  <a:pt x="4380" y="353"/>
                </a:lnTo>
                <a:lnTo>
                  <a:pt x="4366" y="353"/>
                </a:lnTo>
                <a:lnTo>
                  <a:pt x="4352" y="367"/>
                </a:lnTo>
                <a:lnTo>
                  <a:pt x="4338" y="381"/>
                </a:lnTo>
                <a:lnTo>
                  <a:pt x="4310" y="381"/>
                </a:lnTo>
                <a:lnTo>
                  <a:pt x="4267" y="381"/>
                </a:lnTo>
                <a:lnTo>
                  <a:pt x="4253" y="396"/>
                </a:lnTo>
                <a:lnTo>
                  <a:pt x="4225" y="396"/>
                </a:lnTo>
                <a:lnTo>
                  <a:pt x="4196" y="396"/>
                </a:lnTo>
                <a:lnTo>
                  <a:pt x="4168" y="396"/>
                </a:lnTo>
                <a:lnTo>
                  <a:pt x="4139" y="396"/>
                </a:lnTo>
                <a:lnTo>
                  <a:pt x="4111" y="396"/>
                </a:lnTo>
                <a:lnTo>
                  <a:pt x="4069" y="396"/>
                </a:lnTo>
                <a:lnTo>
                  <a:pt x="4026" y="381"/>
                </a:lnTo>
                <a:lnTo>
                  <a:pt x="3998" y="381"/>
                </a:lnTo>
                <a:lnTo>
                  <a:pt x="3941" y="381"/>
                </a:lnTo>
                <a:lnTo>
                  <a:pt x="3898" y="381"/>
                </a:lnTo>
                <a:lnTo>
                  <a:pt x="3856" y="381"/>
                </a:lnTo>
                <a:lnTo>
                  <a:pt x="3757" y="367"/>
                </a:lnTo>
                <a:lnTo>
                  <a:pt x="3672" y="367"/>
                </a:lnTo>
                <a:lnTo>
                  <a:pt x="3587" y="353"/>
                </a:lnTo>
                <a:lnTo>
                  <a:pt x="3516" y="353"/>
                </a:lnTo>
                <a:lnTo>
                  <a:pt x="3459" y="353"/>
                </a:lnTo>
                <a:lnTo>
                  <a:pt x="3402" y="353"/>
                </a:lnTo>
                <a:lnTo>
                  <a:pt x="3346" y="353"/>
                </a:lnTo>
                <a:lnTo>
                  <a:pt x="3317" y="353"/>
                </a:lnTo>
                <a:lnTo>
                  <a:pt x="3275" y="353"/>
                </a:lnTo>
                <a:lnTo>
                  <a:pt x="3218" y="353"/>
                </a:lnTo>
                <a:lnTo>
                  <a:pt x="3176" y="353"/>
                </a:lnTo>
                <a:lnTo>
                  <a:pt x="3105" y="353"/>
                </a:lnTo>
                <a:lnTo>
                  <a:pt x="3034" y="353"/>
                </a:lnTo>
                <a:lnTo>
                  <a:pt x="2963" y="367"/>
                </a:lnTo>
                <a:lnTo>
                  <a:pt x="2864" y="367"/>
                </a:lnTo>
                <a:lnTo>
                  <a:pt x="2764" y="381"/>
                </a:lnTo>
                <a:lnTo>
                  <a:pt x="2566" y="396"/>
                </a:lnTo>
                <a:lnTo>
                  <a:pt x="2353" y="424"/>
                </a:lnTo>
                <a:lnTo>
                  <a:pt x="2127" y="438"/>
                </a:lnTo>
                <a:lnTo>
                  <a:pt x="1900" y="466"/>
                </a:lnTo>
                <a:lnTo>
                  <a:pt x="1673" y="494"/>
                </a:lnTo>
                <a:lnTo>
                  <a:pt x="1432" y="537"/>
                </a:lnTo>
                <a:lnTo>
                  <a:pt x="1177" y="579"/>
                </a:lnTo>
                <a:lnTo>
                  <a:pt x="1049" y="593"/>
                </a:lnTo>
                <a:lnTo>
                  <a:pt x="922" y="622"/>
                </a:lnTo>
                <a:lnTo>
                  <a:pt x="851" y="636"/>
                </a:lnTo>
                <a:lnTo>
                  <a:pt x="794" y="650"/>
                </a:lnTo>
                <a:lnTo>
                  <a:pt x="737" y="650"/>
                </a:lnTo>
                <a:lnTo>
                  <a:pt x="695" y="664"/>
                </a:lnTo>
                <a:lnTo>
                  <a:pt x="638" y="678"/>
                </a:lnTo>
                <a:lnTo>
                  <a:pt x="596" y="678"/>
                </a:lnTo>
                <a:lnTo>
                  <a:pt x="553" y="692"/>
                </a:lnTo>
                <a:lnTo>
                  <a:pt x="511" y="692"/>
                </a:lnTo>
                <a:lnTo>
                  <a:pt x="482" y="692"/>
                </a:lnTo>
                <a:lnTo>
                  <a:pt x="454" y="706"/>
                </a:lnTo>
                <a:lnTo>
                  <a:pt x="425" y="706"/>
                </a:lnTo>
                <a:lnTo>
                  <a:pt x="397" y="706"/>
                </a:lnTo>
                <a:lnTo>
                  <a:pt x="383" y="706"/>
                </a:lnTo>
                <a:lnTo>
                  <a:pt x="369" y="706"/>
                </a:lnTo>
                <a:lnTo>
                  <a:pt x="355" y="706"/>
                </a:lnTo>
                <a:lnTo>
                  <a:pt x="340" y="706"/>
                </a:lnTo>
                <a:lnTo>
                  <a:pt x="326" y="706"/>
                </a:lnTo>
                <a:lnTo>
                  <a:pt x="312" y="706"/>
                </a:lnTo>
                <a:lnTo>
                  <a:pt x="284" y="692"/>
                </a:lnTo>
                <a:lnTo>
                  <a:pt x="270" y="678"/>
                </a:lnTo>
                <a:lnTo>
                  <a:pt x="241" y="664"/>
                </a:lnTo>
                <a:lnTo>
                  <a:pt x="213" y="650"/>
                </a:lnTo>
                <a:lnTo>
                  <a:pt x="184" y="622"/>
                </a:lnTo>
                <a:lnTo>
                  <a:pt x="142" y="593"/>
                </a:lnTo>
                <a:lnTo>
                  <a:pt x="114" y="579"/>
                </a:lnTo>
                <a:lnTo>
                  <a:pt x="85" y="551"/>
                </a:lnTo>
                <a:lnTo>
                  <a:pt x="57" y="537"/>
                </a:lnTo>
                <a:lnTo>
                  <a:pt x="43" y="509"/>
                </a:lnTo>
                <a:lnTo>
                  <a:pt x="29" y="494"/>
                </a:lnTo>
                <a:lnTo>
                  <a:pt x="14" y="480"/>
                </a:lnTo>
                <a:lnTo>
                  <a:pt x="14" y="466"/>
                </a:lnTo>
                <a:lnTo>
                  <a:pt x="14" y="452"/>
                </a:lnTo>
                <a:lnTo>
                  <a:pt x="0" y="452"/>
                </a:lnTo>
                <a:lnTo>
                  <a:pt x="0" y="438"/>
                </a:lnTo>
                <a:lnTo>
                  <a:pt x="14" y="438"/>
                </a:lnTo>
                <a:lnTo>
                  <a:pt x="14" y="424"/>
                </a:lnTo>
                <a:lnTo>
                  <a:pt x="29" y="424"/>
                </a:lnTo>
                <a:lnTo>
                  <a:pt x="57" y="424"/>
                </a:lnTo>
                <a:lnTo>
                  <a:pt x="71" y="424"/>
                </a:lnTo>
                <a:lnTo>
                  <a:pt x="85" y="424"/>
                </a:lnTo>
                <a:lnTo>
                  <a:pt x="99" y="410"/>
                </a:lnTo>
                <a:lnTo>
                  <a:pt x="114" y="410"/>
                </a:lnTo>
                <a:lnTo>
                  <a:pt x="142" y="410"/>
                </a:lnTo>
                <a:lnTo>
                  <a:pt x="170" y="410"/>
                </a:lnTo>
                <a:lnTo>
                  <a:pt x="213" y="410"/>
                </a:lnTo>
                <a:lnTo>
                  <a:pt x="241" y="410"/>
                </a:lnTo>
                <a:lnTo>
                  <a:pt x="284" y="396"/>
                </a:lnTo>
                <a:lnTo>
                  <a:pt x="326" y="396"/>
                </a:lnTo>
                <a:lnTo>
                  <a:pt x="369" y="396"/>
                </a:lnTo>
                <a:lnTo>
                  <a:pt x="425" y="381"/>
                </a:lnTo>
                <a:lnTo>
                  <a:pt x="482" y="381"/>
                </a:lnTo>
                <a:lnTo>
                  <a:pt x="539" y="381"/>
                </a:lnTo>
                <a:lnTo>
                  <a:pt x="596" y="381"/>
                </a:lnTo>
                <a:lnTo>
                  <a:pt x="837" y="353"/>
                </a:lnTo>
                <a:lnTo>
                  <a:pt x="1092" y="339"/>
                </a:lnTo>
                <a:lnTo>
                  <a:pt x="1333" y="311"/>
                </a:lnTo>
                <a:lnTo>
                  <a:pt x="1588" y="283"/>
                </a:lnTo>
                <a:lnTo>
                  <a:pt x="1715" y="268"/>
                </a:lnTo>
                <a:lnTo>
                  <a:pt x="1857" y="254"/>
                </a:lnTo>
                <a:lnTo>
                  <a:pt x="1999" y="240"/>
                </a:lnTo>
                <a:lnTo>
                  <a:pt x="2155" y="226"/>
                </a:lnTo>
                <a:lnTo>
                  <a:pt x="2325" y="198"/>
                </a:lnTo>
                <a:lnTo>
                  <a:pt x="2495" y="170"/>
                </a:lnTo>
                <a:lnTo>
                  <a:pt x="2679" y="141"/>
                </a:lnTo>
                <a:lnTo>
                  <a:pt x="2864" y="99"/>
                </a:lnTo>
                <a:lnTo>
                  <a:pt x="2963" y="99"/>
                </a:lnTo>
                <a:lnTo>
                  <a:pt x="3048" y="85"/>
                </a:lnTo>
                <a:lnTo>
                  <a:pt x="3133" y="71"/>
                </a:lnTo>
                <a:lnTo>
                  <a:pt x="3218" y="57"/>
                </a:lnTo>
                <a:lnTo>
                  <a:pt x="3289" y="42"/>
                </a:lnTo>
                <a:lnTo>
                  <a:pt x="3360" y="42"/>
                </a:lnTo>
                <a:lnTo>
                  <a:pt x="3431" y="28"/>
                </a:lnTo>
                <a:lnTo>
                  <a:pt x="3487" y="28"/>
                </a:lnTo>
                <a:lnTo>
                  <a:pt x="3544" y="14"/>
                </a:lnTo>
                <a:lnTo>
                  <a:pt x="3601" y="14"/>
                </a:lnTo>
                <a:lnTo>
                  <a:pt x="3643" y="0"/>
                </a:lnTo>
                <a:lnTo>
                  <a:pt x="3686" y="0"/>
                </a:lnTo>
                <a:lnTo>
                  <a:pt x="3714" y="0"/>
                </a:lnTo>
                <a:lnTo>
                  <a:pt x="3743" y="0"/>
                </a:lnTo>
                <a:lnTo>
                  <a:pt x="3771" y="0"/>
                </a:lnTo>
                <a:lnTo>
                  <a:pt x="3799" y="0"/>
                </a:lnTo>
                <a:lnTo>
                  <a:pt x="3828" y="0"/>
                </a:lnTo>
                <a:lnTo>
                  <a:pt x="3870" y="0"/>
                </a:lnTo>
                <a:lnTo>
                  <a:pt x="3913" y="14"/>
                </a:lnTo>
                <a:lnTo>
                  <a:pt x="3969" y="28"/>
                </a:lnTo>
                <a:lnTo>
                  <a:pt x="4012" y="42"/>
                </a:lnTo>
                <a:lnTo>
                  <a:pt x="4069" y="71"/>
                </a:lnTo>
                <a:lnTo>
                  <a:pt x="4125" y="99"/>
                </a:lnTo>
                <a:lnTo>
                  <a:pt x="4182" y="127"/>
                </a:lnTo>
                <a:lnTo>
                  <a:pt x="4239" y="155"/>
                </a:lnTo>
                <a:lnTo>
                  <a:pt x="4281" y="198"/>
                </a:lnTo>
                <a:lnTo>
                  <a:pt x="4324" y="226"/>
                </a:lnTo>
                <a:lnTo>
                  <a:pt x="4352" y="240"/>
                </a:lnTo>
                <a:lnTo>
                  <a:pt x="4380" y="268"/>
                </a:lnTo>
                <a:lnTo>
                  <a:pt x="4395" y="283"/>
                </a:lnTo>
                <a:lnTo>
                  <a:pt x="4409" y="297"/>
                </a:lnTo>
                <a:lnTo>
                  <a:pt x="4409" y="311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3635280" y="3268800"/>
            <a:ext cx="250920" cy="933480"/>
          </a:xfrm>
          <a:custGeom>
            <a:avLst/>
            <a:gdLst/>
            <a:ahLst/>
            <a:rect l="l" t="t" r="r" b="b"/>
            <a:pathLst>
              <a:path w="397" h="1469">
                <a:moveTo>
                  <a:pt x="42" y="255"/>
                </a:moveTo>
                <a:lnTo>
                  <a:pt x="28" y="226"/>
                </a:lnTo>
                <a:lnTo>
                  <a:pt x="14" y="198"/>
                </a:lnTo>
                <a:lnTo>
                  <a:pt x="0" y="170"/>
                </a:lnTo>
                <a:lnTo>
                  <a:pt x="0" y="142"/>
                </a:lnTo>
                <a:lnTo>
                  <a:pt x="0" y="127"/>
                </a:lnTo>
                <a:lnTo>
                  <a:pt x="0" y="99"/>
                </a:lnTo>
                <a:lnTo>
                  <a:pt x="0" y="71"/>
                </a:lnTo>
                <a:lnTo>
                  <a:pt x="0" y="43"/>
                </a:lnTo>
                <a:lnTo>
                  <a:pt x="14" y="29"/>
                </a:lnTo>
                <a:lnTo>
                  <a:pt x="28" y="14"/>
                </a:lnTo>
                <a:lnTo>
                  <a:pt x="42" y="14"/>
                </a:lnTo>
                <a:lnTo>
                  <a:pt x="57" y="0"/>
                </a:lnTo>
                <a:lnTo>
                  <a:pt x="71" y="0"/>
                </a:lnTo>
                <a:lnTo>
                  <a:pt x="85" y="0"/>
                </a:lnTo>
                <a:lnTo>
                  <a:pt x="113" y="0"/>
                </a:lnTo>
                <a:lnTo>
                  <a:pt x="142" y="0"/>
                </a:lnTo>
                <a:lnTo>
                  <a:pt x="170" y="0"/>
                </a:lnTo>
                <a:lnTo>
                  <a:pt x="198" y="0"/>
                </a:lnTo>
                <a:lnTo>
                  <a:pt x="227" y="14"/>
                </a:lnTo>
                <a:lnTo>
                  <a:pt x="269" y="14"/>
                </a:lnTo>
                <a:lnTo>
                  <a:pt x="298" y="29"/>
                </a:lnTo>
                <a:lnTo>
                  <a:pt x="340" y="29"/>
                </a:lnTo>
                <a:lnTo>
                  <a:pt x="397" y="43"/>
                </a:lnTo>
                <a:lnTo>
                  <a:pt x="397" y="198"/>
                </a:lnTo>
                <a:lnTo>
                  <a:pt x="397" y="339"/>
                </a:lnTo>
                <a:lnTo>
                  <a:pt x="397" y="466"/>
                </a:lnTo>
                <a:lnTo>
                  <a:pt x="397" y="594"/>
                </a:lnTo>
                <a:lnTo>
                  <a:pt x="397" y="707"/>
                </a:lnTo>
                <a:lnTo>
                  <a:pt x="383" y="820"/>
                </a:lnTo>
                <a:lnTo>
                  <a:pt x="383" y="904"/>
                </a:lnTo>
                <a:lnTo>
                  <a:pt x="383" y="1003"/>
                </a:lnTo>
                <a:lnTo>
                  <a:pt x="383" y="1074"/>
                </a:lnTo>
                <a:lnTo>
                  <a:pt x="383" y="1144"/>
                </a:lnTo>
                <a:lnTo>
                  <a:pt x="383" y="1201"/>
                </a:lnTo>
                <a:lnTo>
                  <a:pt x="383" y="1257"/>
                </a:lnTo>
                <a:lnTo>
                  <a:pt x="383" y="1300"/>
                </a:lnTo>
                <a:lnTo>
                  <a:pt x="383" y="1328"/>
                </a:lnTo>
                <a:lnTo>
                  <a:pt x="368" y="1356"/>
                </a:lnTo>
                <a:lnTo>
                  <a:pt x="368" y="1370"/>
                </a:lnTo>
                <a:lnTo>
                  <a:pt x="368" y="1399"/>
                </a:lnTo>
                <a:lnTo>
                  <a:pt x="354" y="1413"/>
                </a:lnTo>
                <a:lnTo>
                  <a:pt x="354" y="1427"/>
                </a:lnTo>
                <a:lnTo>
                  <a:pt x="340" y="1441"/>
                </a:lnTo>
                <a:lnTo>
                  <a:pt x="340" y="1455"/>
                </a:lnTo>
                <a:lnTo>
                  <a:pt x="326" y="1455"/>
                </a:lnTo>
                <a:lnTo>
                  <a:pt x="312" y="1469"/>
                </a:lnTo>
                <a:lnTo>
                  <a:pt x="312" y="1455"/>
                </a:lnTo>
                <a:lnTo>
                  <a:pt x="298" y="1455"/>
                </a:lnTo>
                <a:lnTo>
                  <a:pt x="298" y="1441"/>
                </a:lnTo>
                <a:lnTo>
                  <a:pt x="283" y="1427"/>
                </a:lnTo>
                <a:lnTo>
                  <a:pt x="283" y="1413"/>
                </a:lnTo>
                <a:lnTo>
                  <a:pt x="269" y="1384"/>
                </a:lnTo>
                <a:lnTo>
                  <a:pt x="269" y="1356"/>
                </a:lnTo>
                <a:lnTo>
                  <a:pt x="255" y="1328"/>
                </a:lnTo>
                <a:lnTo>
                  <a:pt x="241" y="1286"/>
                </a:lnTo>
                <a:lnTo>
                  <a:pt x="241" y="1243"/>
                </a:lnTo>
                <a:lnTo>
                  <a:pt x="227" y="1201"/>
                </a:lnTo>
                <a:lnTo>
                  <a:pt x="227" y="1144"/>
                </a:lnTo>
                <a:lnTo>
                  <a:pt x="212" y="1088"/>
                </a:lnTo>
                <a:lnTo>
                  <a:pt x="212" y="1031"/>
                </a:lnTo>
                <a:lnTo>
                  <a:pt x="198" y="975"/>
                </a:lnTo>
                <a:lnTo>
                  <a:pt x="198" y="904"/>
                </a:lnTo>
                <a:lnTo>
                  <a:pt x="184" y="834"/>
                </a:lnTo>
                <a:lnTo>
                  <a:pt x="184" y="777"/>
                </a:lnTo>
                <a:lnTo>
                  <a:pt x="170" y="707"/>
                </a:lnTo>
                <a:lnTo>
                  <a:pt x="170" y="664"/>
                </a:lnTo>
                <a:lnTo>
                  <a:pt x="156" y="608"/>
                </a:lnTo>
                <a:lnTo>
                  <a:pt x="142" y="551"/>
                </a:lnTo>
                <a:lnTo>
                  <a:pt x="142" y="509"/>
                </a:lnTo>
                <a:lnTo>
                  <a:pt x="127" y="466"/>
                </a:lnTo>
                <a:lnTo>
                  <a:pt x="113" y="424"/>
                </a:lnTo>
                <a:lnTo>
                  <a:pt x="113" y="396"/>
                </a:lnTo>
                <a:lnTo>
                  <a:pt x="99" y="353"/>
                </a:lnTo>
                <a:lnTo>
                  <a:pt x="85" y="325"/>
                </a:lnTo>
                <a:lnTo>
                  <a:pt x="71" y="311"/>
                </a:lnTo>
                <a:lnTo>
                  <a:pt x="71" y="283"/>
                </a:lnTo>
                <a:lnTo>
                  <a:pt x="57" y="269"/>
                </a:lnTo>
                <a:lnTo>
                  <a:pt x="42" y="255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未知"/>
          <p:cNvSpPr/>
          <p:nvPr/>
        </p:nvSpPr>
        <p:spPr>
          <a:xfrm>
            <a:off x="3809880" y="3821040"/>
            <a:ext cx="684360" cy="233280"/>
          </a:xfrm>
          <a:custGeom>
            <a:avLst/>
            <a:gdLst/>
            <a:ahLst/>
            <a:rect l="l" t="t" r="r" b="b"/>
            <a:pathLst>
              <a:path w="1077" h="367">
                <a:moveTo>
                  <a:pt x="963" y="56"/>
                </a:moveTo>
                <a:lnTo>
                  <a:pt x="992" y="70"/>
                </a:lnTo>
                <a:lnTo>
                  <a:pt x="1006" y="85"/>
                </a:lnTo>
                <a:lnTo>
                  <a:pt x="1034" y="99"/>
                </a:lnTo>
                <a:lnTo>
                  <a:pt x="1049" y="113"/>
                </a:lnTo>
                <a:lnTo>
                  <a:pt x="1063" y="127"/>
                </a:lnTo>
                <a:lnTo>
                  <a:pt x="1063" y="141"/>
                </a:lnTo>
                <a:lnTo>
                  <a:pt x="1077" y="155"/>
                </a:lnTo>
                <a:lnTo>
                  <a:pt x="1077" y="169"/>
                </a:lnTo>
                <a:lnTo>
                  <a:pt x="1063" y="169"/>
                </a:lnTo>
                <a:lnTo>
                  <a:pt x="1049" y="183"/>
                </a:lnTo>
                <a:lnTo>
                  <a:pt x="1034" y="197"/>
                </a:lnTo>
                <a:lnTo>
                  <a:pt x="1006" y="197"/>
                </a:lnTo>
                <a:lnTo>
                  <a:pt x="963" y="212"/>
                </a:lnTo>
                <a:lnTo>
                  <a:pt x="921" y="226"/>
                </a:lnTo>
                <a:lnTo>
                  <a:pt x="864" y="240"/>
                </a:lnTo>
                <a:lnTo>
                  <a:pt x="793" y="254"/>
                </a:lnTo>
                <a:lnTo>
                  <a:pt x="722" y="268"/>
                </a:lnTo>
                <a:lnTo>
                  <a:pt x="652" y="268"/>
                </a:lnTo>
                <a:lnTo>
                  <a:pt x="552" y="282"/>
                </a:lnTo>
                <a:lnTo>
                  <a:pt x="467" y="310"/>
                </a:lnTo>
                <a:lnTo>
                  <a:pt x="354" y="325"/>
                </a:lnTo>
                <a:lnTo>
                  <a:pt x="241" y="339"/>
                </a:lnTo>
                <a:lnTo>
                  <a:pt x="127" y="353"/>
                </a:lnTo>
                <a:lnTo>
                  <a:pt x="0" y="367"/>
                </a:lnTo>
                <a:lnTo>
                  <a:pt x="0" y="141"/>
                </a:lnTo>
                <a:lnTo>
                  <a:pt x="14" y="141"/>
                </a:lnTo>
                <a:lnTo>
                  <a:pt x="56" y="141"/>
                </a:lnTo>
                <a:lnTo>
                  <a:pt x="85" y="141"/>
                </a:lnTo>
                <a:lnTo>
                  <a:pt x="127" y="127"/>
                </a:lnTo>
                <a:lnTo>
                  <a:pt x="170" y="127"/>
                </a:lnTo>
                <a:lnTo>
                  <a:pt x="226" y="113"/>
                </a:lnTo>
                <a:lnTo>
                  <a:pt x="283" y="113"/>
                </a:lnTo>
                <a:lnTo>
                  <a:pt x="340" y="99"/>
                </a:lnTo>
                <a:lnTo>
                  <a:pt x="411" y="85"/>
                </a:lnTo>
                <a:lnTo>
                  <a:pt x="467" y="85"/>
                </a:lnTo>
                <a:lnTo>
                  <a:pt x="510" y="70"/>
                </a:lnTo>
                <a:lnTo>
                  <a:pt x="567" y="56"/>
                </a:lnTo>
                <a:lnTo>
                  <a:pt x="609" y="42"/>
                </a:lnTo>
                <a:lnTo>
                  <a:pt x="652" y="28"/>
                </a:lnTo>
                <a:lnTo>
                  <a:pt x="694" y="14"/>
                </a:lnTo>
                <a:lnTo>
                  <a:pt x="722" y="14"/>
                </a:lnTo>
                <a:lnTo>
                  <a:pt x="765" y="0"/>
                </a:lnTo>
                <a:lnTo>
                  <a:pt x="793" y="0"/>
                </a:lnTo>
                <a:lnTo>
                  <a:pt x="822" y="0"/>
                </a:lnTo>
                <a:lnTo>
                  <a:pt x="850" y="0"/>
                </a:lnTo>
                <a:lnTo>
                  <a:pt x="878" y="0"/>
                </a:lnTo>
                <a:lnTo>
                  <a:pt x="907" y="14"/>
                </a:lnTo>
                <a:lnTo>
                  <a:pt x="935" y="28"/>
                </a:lnTo>
                <a:lnTo>
                  <a:pt x="963" y="5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059280" y="404640"/>
            <a:ext cx="230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k ě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0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186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" name="Text Box 3"/>
          <p:cNvSpPr/>
          <p:nvPr/>
        </p:nvSpPr>
        <p:spPr>
          <a:xfrm>
            <a:off x="3500280" y="-284040"/>
            <a:ext cx="295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kě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2152800" y="1257480"/>
            <a:ext cx="5688000" cy="5300640"/>
            <a:chOff x="2152800" y="1257480"/>
            <a:chExt cx="5688000" cy="5300640"/>
          </a:xfrm>
        </p:grpSpPr>
        <p:sp>
          <p:nvSpPr>
            <p:cNvPr id="190" name="Rectangle 5"/>
            <p:cNvSpPr/>
            <p:nvPr/>
          </p:nvSpPr>
          <p:spPr>
            <a:xfrm>
              <a:off x="2152800" y="12574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2152800" y="3921480"/>
              <a:ext cx="5688000" cy="360"/>
              <a:chOff x="2152800" y="3921480"/>
              <a:chExt cx="5688000" cy="360"/>
            </a:xfrm>
          </p:grpSpPr>
          <p:sp>
            <p:nvSpPr>
              <p:cNvPr id="192" name="Line 6"/>
              <p:cNvSpPr/>
              <p:nvPr/>
            </p:nvSpPr>
            <p:spPr>
              <a:xfrm>
                <a:off x="2152800" y="392148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2152800" y="392148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195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 Box 9"/>
          <p:cNvSpPr/>
          <p:nvPr/>
        </p:nvSpPr>
        <p:spPr>
          <a:xfrm>
            <a:off x="3496680" y="83664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"/>
              </a:rPr>
              <a:t>可</a:t>
            </a:r>
            <a:endParaRPr b="0" lang="en-US" sz="3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20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20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20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20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08" name="Rectangle 7"/>
          <p:cNvSpPr/>
          <p:nvPr/>
        </p:nvSpPr>
        <p:spPr>
          <a:xfrm>
            <a:off x="3352320" y="1897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3123000" y="1965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2771640" y="76212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d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ō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987640" y="2133720"/>
            <a:ext cx="3168720" cy="390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ff0000"/>
                </a:solidFill>
                <a:latin typeface="Calibri"/>
              </a:rPr>
              <a:t>东</a:t>
            </a:r>
            <a:endParaRPr b="0" lang="en-US" sz="2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2049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214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3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217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1979640" y="4077000"/>
              <a:ext cx="5688000" cy="360"/>
              <a:chOff x="1979640" y="4077000"/>
              <a:chExt cx="5688000" cy="360"/>
            </a:xfrm>
          </p:grpSpPr>
          <p:sp>
            <p:nvSpPr>
              <p:cNvPr id="219" name="Line 6"/>
              <p:cNvSpPr/>
              <p:nvPr/>
            </p:nvSpPr>
            <p:spPr>
              <a:xfrm>
                <a:off x="1979640" y="407700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1979640" y="407700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222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Text Box 9"/>
          <p:cNvSpPr/>
          <p:nvPr/>
        </p:nvSpPr>
        <p:spPr>
          <a:xfrm>
            <a:off x="3512520" y="107172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"/>
              </a:rPr>
              <a:t>东</a:t>
            </a:r>
            <a:endParaRPr b="0" lang="en-US" sz="3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150012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东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3059280" y="765000"/>
            <a:ext cx="33130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22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23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23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36" name="Rectangle 7"/>
          <p:cNvSpPr/>
          <p:nvPr/>
        </p:nvSpPr>
        <p:spPr>
          <a:xfrm>
            <a:off x="3352320" y="18972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123000" y="1965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未知"/>
          <p:cNvSpPr/>
          <p:nvPr/>
        </p:nvSpPr>
        <p:spPr>
          <a:xfrm>
            <a:off x="3581280" y="2819520"/>
            <a:ext cx="1835280" cy="377640"/>
          </a:xfrm>
          <a:custGeom>
            <a:avLst/>
            <a:gdLst/>
            <a:ahLst/>
            <a:rect l="l" t="t" r="r" b="b"/>
            <a:pathLst>
              <a:path w="2890" h="594">
                <a:moveTo>
                  <a:pt x="99" y="509"/>
                </a:moveTo>
                <a:lnTo>
                  <a:pt x="85" y="495"/>
                </a:lnTo>
                <a:lnTo>
                  <a:pt x="56" y="481"/>
                </a:lnTo>
                <a:lnTo>
                  <a:pt x="42" y="467"/>
                </a:lnTo>
                <a:lnTo>
                  <a:pt x="28" y="453"/>
                </a:lnTo>
                <a:lnTo>
                  <a:pt x="14" y="438"/>
                </a:lnTo>
                <a:lnTo>
                  <a:pt x="0" y="424"/>
                </a:lnTo>
                <a:lnTo>
                  <a:pt x="0" y="410"/>
                </a:lnTo>
                <a:lnTo>
                  <a:pt x="0" y="396"/>
                </a:lnTo>
                <a:lnTo>
                  <a:pt x="14" y="396"/>
                </a:lnTo>
                <a:lnTo>
                  <a:pt x="28" y="396"/>
                </a:lnTo>
                <a:lnTo>
                  <a:pt x="42" y="396"/>
                </a:lnTo>
                <a:lnTo>
                  <a:pt x="71" y="382"/>
                </a:lnTo>
                <a:lnTo>
                  <a:pt x="99" y="382"/>
                </a:lnTo>
                <a:lnTo>
                  <a:pt x="127" y="382"/>
                </a:lnTo>
                <a:lnTo>
                  <a:pt x="156" y="382"/>
                </a:lnTo>
                <a:lnTo>
                  <a:pt x="184" y="382"/>
                </a:lnTo>
                <a:lnTo>
                  <a:pt x="226" y="382"/>
                </a:lnTo>
                <a:lnTo>
                  <a:pt x="283" y="382"/>
                </a:lnTo>
                <a:lnTo>
                  <a:pt x="340" y="382"/>
                </a:lnTo>
                <a:lnTo>
                  <a:pt x="397" y="382"/>
                </a:lnTo>
                <a:lnTo>
                  <a:pt x="467" y="382"/>
                </a:lnTo>
                <a:lnTo>
                  <a:pt x="552" y="368"/>
                </a:lnTo>
                <a:lnTo>
                  <a:pt x="581" y="368"/>
                </a:lnTo>
                <a:lnTo>
                  <a:pt x="623" y="354"/>
                </a:lnTo>
                <a:lnTo>
                  <a:pt x="680" y="354"/>
                </a:lnTo>
                <a:lnTo>
                  <a:pt x="722" y="340"/>
                </a:lnTo>
                <a:lnTo>
                  <a:pt x="779" y="340"/>
                </a:lnTo>
                <a:lnTo>
                  <a:pt x="850" y="325"/>
                </a:lnTo>
                <a:lnTo>
                  <a:pt x="907" y="311"/>
                </a:lnTo>
                <a:lnTo>
                  <a:pt x="977" y="297"/>
                </a:lnTo>
                <a:lnTo>
                  <a:pt x="1048" y="283"/>
                </a:lnTo>
                <a:lnTo>
                  <a:pt x="1133" y="269"/>
                </a:lnTo>
                <a:lnTo>
                  <a:pt x="1204" y="255"/>
                </a:lnTo>
                <a:lnTo>
                  <a:pt x="1289" y="241"/>
                </a:lnTo>
                <a:lnTo>
                  <a:pt x="1388" y="212"/>
                </a:lnTo>
                <a:lnTo>
                  <a:pt x="1473" y="198"/>
                </a:lnTo>
                <a:lnTo>
                  <a:pt x="1573" y="170"/>
                </a:lnTo>
                <a:lnTo>
                  <a:pt x="1686" y="142"/>
                </a:lnTo>
                <a:lnTo>
                  <a:pt x="1771" y="113"/>
                </a:lnTo>
                <a:lnTo>
                  <a:pt x="1870" y="99"/>
                </a:lnTo>
                <a:lnTo>
                  <a:pt x="1955" y="85"/>
                </a:lnTo>
                <a:lnTo>
                  <a:pt x="2040" y="57"/>
                </a:lnTo>
                <a:lnTo>
                  <a:pt x="2125" y="43"/>
                </a:lnTo>
                <a:lnTo>
                  <a:pt x="2196" y="43"/>
                </a:lnTo>
                <a:lnTo>
                  <a:pt x="2267" y="29"/>
                </a:lnTo>
                <a:lnTo>
                  <a:pt x="2338" y="14"/>
                </a:lnTo>
                <a:lnTo>
                  <a:pt x="2394" y="14"/>
                </a:lnTo>
                <a:lnTo>
                  <a:pt x="2451" y="0"/>
                </a:lnTo>
                <a:lnTo>
                  <a:pt x="2508" y="0"/>
                </a:lnTo>
                <a:lnTo>
                  <a:pt x="2550" y="0"/>
                </a:lnTo>
                <a:lnTo>
                  <a:pt x="2593" y="0"/>
                </a:lnTo>
                <a:lnTo>
                  <a:pt x="2635" y="0"/>
                </a:lnTo>
                <a:lnTo>
                  <a:pt x="2678" y="0"/>
                </a:lnTo>
                <a:lnTo>
                  <a:pt x="2706" y="0"/>
                </a:lnTo>
                <a:lnTo>
                  <a:pt x="2749" y="14"/>
                </a:lnTo>
                <a:lnTo>
                  <a:pt x="2791" y="29"/>
                </a:lnTo>
                <a:lnTo>
                  <a:pt x="2819" y="43"/>
                </a:lnTo>
                <a:lnTo>
                  <a:pt x="2848" y="57"/>
                </a:lnTo>
                <a:lnTo>
                  <a:pt x="2862" y="85"/>
                </a:lnTo>
                <a:lnTo>
                  <a:pt x="2876" y="99"/>
                </a:lnTo>
                <a:lnTo>
                  <a:pt x="2890" y="113"/>
                </a:lnTo>
                <a:lnTo>
                  <a:pt x="2890" y="142"/>
                </a:lnTo>
                <a:lnTo>
                  <a:pt x="2890" y="156"/>
                </a:lnTo>
                <a:lnTo>
                  <a:pt x="2890" y="170"/>
                </a:lnTo>
                <a:lnTo>
                  <a:pt x="2876" y="170"/>
                </a:lnTo>
                <a:lnTo>
                  <a:pt x="2876" y="184"/>
                </a:lnTo>
                <a:lnTo>
                  <a:pt x="2862" y="198"/>
                </a:lnTo>
                <a:lnTo>
                  <a:pt x="2848" y="198"/>
                </a:lnTo>
                <a:lnTo>
                  <a:pt x="2819" y="212"/>
                </a:lnTo>
                <a:lnTo>
                  <a:pt x="2805" y="226"/>
                </a:lnTo>
                <a:lnTo>
                  <a:pt x="2777" y="241"/>
                </a:lnTo>
                <a:lnTo>
                  <a:pt x="2749" y="241"/>
                </a:lnTo>
                <a:lnTo>
                  <a:pt x="2720" y="255"/>
                </a:lnTo>
                <a:lnTo>
                  <a:pt x="2692" y="269"/>
                </a:lnTo>
                <a:lnTo>
                  <a:pt x="2649" y="269"/>
                </a:lnTo>
                <a:lnTo>
                  <a:pt x="2621" y="283"/>
                </a:lnTo>
                <a:lnTo>
                  <a:pt x="2579" y="297"/>
                </a:lnTo>
                <a:lnTo>
                  <a:pt x="2536" y="311"/>
                </a:lnTo>
                <a:lnTo>
                  <a:pt x="2479" y="311"/>
                </a:lnTo>
                <a:lnTo>
                  <a:pt x="2423" y="325"/>
                </a:lnTo>
                <a:lnTo>
                  <a:pt x="2366" y="340"/>
                </a:lnTo>
                <a:lnTo>
                  <a:pt x="2309" y="354"/>
                </a:lnTo>
                <a:lnTo>
                  <a:pt x="2253" y="368"/>
                </a:lnTo>
                <a:lnTo>
                  <a:pt x="2182" y="382"/>
                </a:lnTo>
                <a:lnTo>
                  <a:pt x="2111" y="382"/>
                </a:lnTo>
                <a:lnTo>
                  <a:pt x="2040" y="396"/>
                </a:lnTo>
                <a:lnTo>
                  <a:pt x="1955" y="410"/>
                </a:lnTo>
                <a:lnTo>
                  <a:pt x="1870" y="424"/>
                </a:lnTo>
                <a:lnTo>
                  <a:pt x="1785" y="438"/>
                </a:lnTo>
                <a:lnTo>
                  <a:pt x="1700" y="438"/>
                </a:lnTo>
                <a:lnTo>
                  <a:pt x="1601" y="453"/>
                </a:lnTo>
                <a:lnTo>
                  <a:pt x="1502" y="467"/>
                </a:lnTo>
                <a:lnTo>
                  <a:pt x="1403" y="481"/>
                </a:lnTo>
                <a:lnTo>
                  <a:pt x="1289" y="495"/>
                </a:lnTo>
                <a:lnTo>
                  <a:pt x="1190" y="509"/>
                </a:lnTo>
                <a:lnTo>
                  <a:pt x="1091" y="523"/>
                </a:lnTo>
                <a:lnTo>
                  <a:pt x="1006" y="537"/>
                </a:lnTo>
                <a:lnTo>
                  <a:pt x="907" y="552"/>
                </a:lnTo>
                <a:lnTo>
                  <a:pt x="836" y="552"/>
                </a:lnTo>
                <a:lnTo>
                  <a:pt x="751" y="566"/>
                </a:lnTo>
                <a:lnTo>
                  <a:pt x="694" y="580"/>
                </a:lnTo>
                <a:lnTo>
                  <a:pt x="623" y="580"/>
                </a:lnTo>
                <a:lnTo>
                  <a:pt x="567" y="594"/>
                </a:lnTo>
                <a:lnTo>
                  <a:pt x="510" y="594"/>
                </a:lnTo>
                <a:lnTo>
                  <a:pt x="467" y="594"/>
                </a:lnTo>
                <a:lnTo>
                  <a:pt x="439" y="594"/>
                </a:lnTo>
                <a:lnTo>
                  <a:pt x="397" y="594"/>
                </a:lnTo>
                <a:lnTo>
                  <a:pt x="368" y="594"/>
                </a:lnTo>
                <a:lnTo>
                  <a:pt x="354" y="594"/>
                </a:lnTo>
                <a:lnTo>
                  <a:pt x="340" y="594"/>
                </a:lnTo>
                <a:lnTo>
                  <a:pt x="269" y="580"/>
                </a:lnTo>
                <a:lnTo>
                  <a:pt x="212" y="566"/>
                </a:lnTo>
                <a:lnTo>
                  <a:pt x="156" y="537"/>
                </a:lnTo>
                <a:lnTo>
                  <a:pt x="99" y="509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3870360" y="3124080"/>
            <a:ext cx="396720" cy="1562400"/>
          </a:xfrm>
          <a:custGeom>
            <a:avLst/>
            <a:gdLst/>
            <a:ahLst/>
            <a:rect l="l" t="t" r="r" b="b"/>
            <a:pathLst>
              <a:path w="624" h="2459">
                <a:moveTo>
                  <a:pt x="241" y="14"/>
                </a:moveTo>
                <a:lnTo>
                  <a:pt x="255" y="0"/>
                </a:lnTo>
                <a:lnTo>
                  <a:pt x="269" y="0"/>
                </a:lnTo>
                <a:lnTo>
                  <a:pt x="284" y="0"/>
                </a:lnTo>
                <a:lnTo>
                  <a:pt x="312" y="0"/>
                </a:lnTo>
                <a:lnTo>
                  <a:pt x="340" y="14"/>
                </a:lnTo>
                <a:lnTo>
                  <a:pt x="369" y="28"/>
                </a:lnTo>
                <a:lnTo>
                  <a:pt x="397" y="57"/>
                </a:lnTo>
                <a:lnTo>
                  <a:pt x="439" y="85"/>
                </a:lnTo>
                <a:lnTo>
                  <a:pt x="482" y="113"/>
                </a:lnTo>
                <a:lnTo>
                  <a:pt x="510" y="141"/>
                </a:lnTo>
                <a:lnTo>
                  <a:pt x="539" y="155"/>
                </a:lnTo>
                <a:lnTo>
                  <a:pt x="567" y="184"/>
                </a:lnTo>
                <a:lnTo>
                  <a:pt x="581" y="198"/>
                </a:lnTo>
                <a:lnTo>
                  <a:pt x="609" y="226"/>
                </a:lnTo>
                <a:lnTo>
                  <a:pt x="624" y="226"/>
                </a:lnTo>
                <a:lnTo>
                  <a:pt x="624" y="240"/>
                </a:lnTo>
                <a:lnTo>
                  <a:pt x="624" y="254"/>
                </a:lnTo>
                <a:lnTo>
                  <a:pt x="624" y="269"/>
                </a:lnTo>
                <a:lnTo>
                  <a:pt x="624" y="297"/>
                </a:lnTo>
                <a:lnTo>
                  <a:pt x="624" y="325"/>
                </a:lnTo>
                <a:lnTo>
                  <a:pt x="624" y="382"/>
                </a:lnTo>
                <a:lnTo>
                  <a:pt x="624" y="438"/>
                </a:lnTo>
                <a:lnTo>
                  <a:pt x="624" y="495"/>
                </a:lnTo>
                <a:lnTo>
                  <a:pt x="624" y="580"/>
                </a:lnTo>
                <a:lnTo>
                  <a:pt x="624" y="650"/>
                </a:lnTo>
                <a:lnTo>
                  <a:pt x="624" y="749"/>
                </a:lnTo>
                <a:lnTo>
                  <a:pt x="624" y="848"/>
                </a:lnTo>
                <a:lnTo>
                  <a:pt x="624" y="947"/>
                </a:lnTo>
                <a:lnTo>
                  <a:pt x="609" y="1046"/>
                </a:lnTo>
                <a:lnTo>
                  <a:pt x="595" y="1145"/>
                </a:lnTo>
                <a:lnTo>
                  <a:pt x="581" y="1258"/>
                </a:lnTo>
                <a:lnTo>
                  <a:pt x="567" y="1357"/>
                </a:lnTo>
                <a:lnTo>
                  <a:pt x="539" y="1470"/>
                </a:lnTo>
                <a:lnTo>
                  <a:pt x="524" y="1583"/>
                </a:lnTo>
                <a:lnTo>
                  <a:pt x="496" y="1696"/>
                </a:lnTo>
                <a:lnTo>
                  <a:pt x="468" y="1795"/>
                </a:lnTo>
                <a:lnTo>
                  <a:pt x="425" y="1894"/>
                </a:lnTo>
                <a:lnTo>
                  <a:pt x="397" y="1979"/>
                </a:lnTo>
                <a:lnTo>
                  <a:pt x="354" y="2064"/>
                </a:lnTo>
                <a:lnTo>
                  <a:pt x="312" y="2148"/>
                </a:lnTo>
                <a:lnTo>
                  <a:pt x="269" y="2219"/>
                </a:lnTo>
                <a:lnTo>
                  <a:pt x="241" y="2247"/>
                </a:lnTo>
                <a:lnTo>
                  <a:pt x="213" y="2276"/>
                </a:lnTo>
                <a:lnTo>
                  <a:pt x="184" y="2304"/>
                </a:lnTo>
                <a:lnTo>
                  <a:pt x="170" y="2332"/>
                </a:lnTo>
                <a:lnTo>
                  <a:pt x="142" y="2360"/>
                </a:lnTo>
                <a:lnTo>
                  <a:pt x="128" y="2375"/>
                </a:lnTo>
                <a:lnTo>
                  <a:pt x="114" y="2403"/>
                </a:lnTo>
                <a:lnTo>
                  <a:pt x="85" y="2417"/>
                </a:lnTo>
                <a:lnTo>
                  <a:pt x="71" y="2431"/>
                </a:lnTo>
                <a:lnTo>
                  <a:pt x="57" y="2445"/>
                </a:lnTo>
                <a:lnTo>
                  <a:pt x="43" y="2459"/>
                </a:lnTo>
                <a:lnTo>
                  <a:pt x="29" y="2459"/>
                </a:lnTo>
                <a:lnTo>
                  <a:pt x="14" y="2459"/>
                </a:lnTo>
                <a:lnTo>
                  <a:pt x="0" y="2445"/>
                </a:lnTo>
                <a:lnTo>
                  <a:pt x="0" y="2431"/>
                </a:lnTo>
                <a:lnTo>
                  <a:pt x="0" y="2403"/>
                </a:lnTo>
                <a:lnTo>
                  <a:pt x="14" y="2375"/>
                </a:lnTo>
                <a:lnTo>
                  <a:pt x="29" y="2346"/>
                </a:lnTo>
                <a:lnTo>
                  <a:pt x="43" y="2290"/>
                </a:lnTo>
                <a:lnTo>
                  <a:pt x="71" y="2233"/>
                </a:lnTo>
                <a:lnTo>
                  <a:pt x="85" y="2205"/>
                </a:lnTo>
                <a:lnTo>
                  <a:pt x="99" y="2177"/>
                </a:lnTo>
                <a:lnTo>
                  <a:pt x="128" y="2106"/>
                </a:lnTo>
                <a:lnTo>
                  <a:pt x="156" y="2035"/>
                </a:lnTo>
                <a:lnTo>
                  <a:pt x="184" y="1965"/>
                </a:lnTo>
                <a:lnTo>
                  <a:pt x="213" y="1880"/>
                </a:lnTo>
                <a:lnTo>
                  <a:pt x="241" y="1795"/>
                </a:lnTo>
                <a:lnTo>
                  <a:pt x="255" y="1710"/>
                </a:lnTo>
                <a:lnTo>
                  <a:pt x="284" y="1611"/>
                </a:lnTo>
                <a:lnTo>
                  <a:pt x="312" y="1512"/>
                </a:lnTo>
                <a:lnTo>
                  <a:pt x="340" y="1315"/>
                </a:lnTo>
                <a:lnTo>
                  <a:pt x="354" y="1117"/>
                </a:lnTo>
                <a:lnTo>
                  <a:pt x="369" y="919"/>
                </a:lnTo>
                <a:lnTo>
                  <a:pt x="369" y="721"/>
                </a:lnTo>
                <a:lnTo>
                  <a:pt x="369" y="622"/>
                </a:lnTo>
                <a:lnTo>
                  <a:pt x="354" y="551"/>
                </a:lnTo>
                <a:lnTo>
                  <a:pt x="354" y="466"/>
                </a:lnTo>
                <a:lnTo>
                  <a:pt x="340" y="410"/>
                </a:lnTo>
                <a:lnTo>
                  <a:pt x="326" y="339"/>
                </a:lnTo>
                <a:lnTo>
                  <a:pt x="312" y="297"/>
                </a:lnTo>
                <a:lnTo>
                  <a:pt x="298" y="240"/>
                </a:lnTo>
                <a:lnTo>
                  <a:pt x="284" y="198"/>
                </a:lnTo>
                <a:lnTo>
                  <a:pt x="269" y="170"/>
                </a:lnTo>
                <a:lnTo>
                  <a:pt x="255" y="127"/>
                </a:lnTo>
                <a:lnTo>
                  <a:pt x="255" y="99"/>
                </a:lnTo>
                <a:lnTo>
                  <a:pt x="241" y="85"/>
                </a:lnTo>
                <a:lnTo>
                  <a:pt x="241" y="57"/>
                </a:lnTo>
                <a:lnTo>
                  <a:pt x="241" y="42"/>
                </a:lnTo>
                <a:lnTo>
                  <a:pt x="241" y="28"/>
                </a:lnTo>
                <a:lnTo>
                  <a:pt x="241" y="14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未知"/>
          <p:cNvSpPr/>
          <p:nvPr/>
        </p:nvSpPr>
        <p:spPr>
          <a:xfrm>
            <a:off x="3200400" y="3886200"/>
            <a:ext cx="441360" cy="1390680"/>
          </a:xfrm>
          <a:custGeom>
            <a:avLst/>
            <a:gdLst/>
            <a:ahLst/>
            <a:rect l="l" t="t" r="r" b="b"/>
            <a:pathLst>
              <a:path w="695" h="2191">
                <a:moveTo>
                  <a:pt x="85" y="226"/>
                </a:moveTo>
                <a:lnTo>
                  <a:pt x="57" y="184"/>
                </a:lnTo>
                <a:lnTo>
                  <a:pt x="29" y="141"/>
                </a:lnTo>
                <a:lnTo>
                  <a:pt x="15" y="113"/>
                </a:lnTo>
                <a:lnTo>
                  <a:pt x="0" y="85"/>
                </a:lnTo>
                <a:lnTo>
                  <a:pt x="0" y="56"/>
                </a:lnTo>
                <a:lnTo>
                  <a:pt x="0" y="42"/>
                </a:lnTo>
                <a:lnTo>
                  <a:pt x="15" y="28"/>
                </a:lnTo>
                <a:lnTo>
                  <a:pt x="29" y="14"/>
                </a:lnTo>
                <a:lnTo>
                  <a:pt x="43" y="0"/>
                </a:lnTo>
                <a:lnTo>
                  <a:pt x="71" y="0"/>
                </a:lnTo>
                <a:lnTo>
                  <a:pt x="100" y="0"/>
                </a:lnTo>
                <a:lnTo>
                  <a:pt x="156" y="14"/>
                </a:lnTo>
                <a:lnTo>
                  <a:pt x="170" y="28"/>
                </a:lnTo>
                <a:lnTo>
                  <a:pt x="199" y="28"/>
                </a:lnTo>
                <a:lnTo>
                  <a:pt x="227" y="28"/>
                </a:lnTo>
                <a:lnTo>
                  <a:pt x="270" y="42"/>
                </a:lnTo>
                <a:lnTo>
                  <a:pt x="298" y="42"/>
                </a:lnTo>
                <a:lnTo>
                  <a:pt x="340" y="42"/>
                </a:lnTo>
                <a:lnTo>
                  <a:pt x="383" y="56"/>
                </a:lnTo>
                <a:lnTo>
                  <a:pt x="425" y="56"/>
                </a:lnTo>
                <a:lnTo>
                  <a:pt x="454" y="169"/>
                </a:lnTo>
                <a:lnTo>
                  <a:pt x="468" y="282"/>
                </a:lnTo>
                <a:lnTo>
                  <a:pt x="482" y="396"/>
                </a:lnTo>
                <a:lnTo>
                  <a:pt x="496" y="509"/>
                </a:lnTo>
                <a:lnTo>
                  <a:pt x="525" y="622"/>
                </a:lnTo>
                <a:lnTo>
                  <a:pt x="539" y="721"/>
                </a:lnTo>
                <a:lnTo>
                  <a:pt x="553" y="820"/>
                </a:lnTo>
                <a:lnTo>
                  <a:pt x="567" y="919"/>
                </a:lnTo>
                <a:lnTo>
                  <a:pt x="581" y="1017"/>
                </a:lnTo>
                <a:lnTo>
                  <a:pt x="595" y="1102"/>
                </a:lnTo>
                <a:lnTo>
                  <a:pt x="610" y="1201"/>
                </a:lnTo>
                <a:lnTo>
                  <a:pt x="624" y="1286"/>
                </a:lnTo>
                <a:lnTo>
                  <a:pt x="638" y="1371"/>
                </a:lnTo>
                <a:lnTo>
                  <a:pt x="638" y="1441"/>
                </a:lnTo>
                <a:lnTo>
                  <a:pt x="652" y="1526"/>
                </a:lnTo>
                <a:lnTo>
                  <a:pt x="666" y="1597"/>
                </a:lnTo>
                <a:lnTo>
                  <a:pt x="666" y="1668"/>
                </a:lnTo>
                <a:lnTo>
                  <a:pt x="680" y="1738"/>
                </a:lnTo>
                <a:lnTo>
                  <a:pt x="680" y="1795"/>
                </a:lnTo>
                <a:lnTo>
                  <a:pt x="680" y="1851"/>
                </a:lnTo>
                <a:lnTo>
                  <a:pt x="695" y="1908"/>
                </a:lnTo>
                <a:lnTo>
                  <a:pt x="695" y="1950"/>
                </a:lnTo>
                <a:lnTo>
                  <a:pt x="695" y="1993"/>
                </a:lnTo>
                <a:lnTo>
                  <a:pt x="695" y="2035"/>
                </a:lnTo>
                <a:lnTo>
                  <a:pt x="695" y="2063"/>
                </a:lnTo>
                <a:lnTo>
                  <a:pt x="680" y="2092"/>
                </a:lnTo>
                <a:lnTo>
                  <a:pt x="680" y="2120"/>
                </a:lnTo>
                <a:lnTo>
                  <a:pt x="680" y="2148"/>
                </a:lnTo>
                <a:lnTo>
                  <a:pt x="666" y="2162"/>
                </a:lnTo>
                <a:lnTo>
                  <a:pt x="666" y="2176"/>
                </a:lnTo>
                <a:lnTo>
                  <a:pt x="652" y="2191"/>
                </a:lnTo>
                <a:lnTo>
                  <a:pt x="638" y="2191"/>
                </a:lnTo>
                <a:lnTo>
                  <a:pt x="624" y="2191"/>
                </a:lnTo>
                <a:lnTo>
                  <a:pt x="610" y="2191"/>
                </a:lnTo>
                <a:lnTo>
                  <a:pt x="595" y="2176"/>
                </a:lnTo>
                <a:lnTo>
                  <a:pt x="581" y="2176"/>
                </a:lnTo>
                <a:lnTo>
                  <a:pt x="581" y="2162"/>
                </a:lnTo>
                <a:lnTo>
                  <a:pt x="567" y="2134"/>
                </a:lnTo>
                <a:lnTo>
                  <a:pt x="553" y="2120"/>
                </a:lnTo>
                <a:lnTo>
                  <a:pt x="553" y="2092"/>
                </a:lnTo>
                <a:lnTo>
                  <a:pt x="539" y="2078"/>
                </a:lnTo>
                <a:lnTo>
                  <a:pt x="539" y="2049"/>
                </a:lnTo>
                <a:lnTo>
                  <a:pt x="525" y="2007"/>
                </a:lnTo>
                <a:lnTo>
                  <a:pt x="510" y="1979"/>
                </a:lnTo>
                <a:lnTo>
                  <a:pt x="510" y="1950"/>
                </a:lnTo>
                <a:lnTo>
                  <a:pt x="496" y="1908"/>
                </a:lnTo>
                <a:lnTo>
                  <a:pt x="496" y="1866"/>
                </a:lnTo>
                <a:lnTo>
                  <a:pt x="468" y="1781"/>
                </a:lnTo>
                <a:lnTo>
                  <a:pt x="454" y="1682"/>
                </a:lnTo>
                <a:lnTo>
                  <a:pt x="425" y="1569"/>
                </a:lnTo>
                <a:lnTo>
                  <a:pt x="411" y="1470"/>
                </a:lnTo>
                <a:lnTo>
                  <a:pt x="383" y="1343"/>
                </a:lnTo>
                <a:lnTo>
                  <a:pt x="369" y="1229"/>
                </a:lnTo>
                <a:lnTo>
                  <a:pt x="340" y="1102"/>
                </a:lnTo>
                <a:lnTo>
                  <a:pt x="326" y="961"/>
                </a:lnTo>
                <a:lnTo>
                  <a:pt x="312" y="890"/>
                </a:lnTo>
                <a:lnTo>
                  <a:pt x="298" y="834"/>
                </a:lnTo>
                <a:lnTo>
                  <a:pt x="284" y="763"/>
                </a:lnTo>
                <a:lnTo>
                  <a:pt x="270" y="706"/>
                </a:lnTo>
                <a:lnTo>
                  <a:pt x="255" y="650"/>
                </a:lnTo>
                <a:lnTo>
                  <a:pt x="241" y="593"/>
                </a:lnTo>
                <a:lnTo>
                  <a:pt x="227" y="551"/>
                </a:lnTo>
                <a:lnTo>
                  <a:pt x="213" y="494"/>
                </a:lnTo>
                <a:lnTo>
                  <a:pt x="199" y="452"/>
                </a:lnTo>
                <a:lnTo>
                  <a:pt x="185" y="410"/>
                </a:lnTo>
                <a:lnTo>
                  <a:pt x="170" y="367"/>
                </a:lnTo>
                <a:lnTo>
                  <a:pt x="156" y="339"/>
                </a:lnTo>
                <a:lnTo>
                  <a:pt x="128" y="297"/>
                </a:lnTo>
                <a:lnTo>
                  <a:pt x="114" y="268"/>
                </a:lnTo>
                <a:lnTo>
                  <a:pt x="100" y="240"/>
                </a:lnTo>
                <a:lnTo>
                  <a:pt x="85" y="22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未知"/>
          <p:cNvSpPr/>
          <p:nvPr/>
        </p:nvSpPr>
        <p:spPr>
          <a:xfrm>
            <a:off x="3581280" y="4797360"/>
            <a:ext cx="1998720" cy="287280"/>
          </a:xfrm>
          <a:custGeom>
            <a:avLst/>
            <a:gdLst/>
            <a:ahLst/>
            <a:rect l="l" t="t" r="r" b="b"/>
            <a:pathLst>
              <a:path w="2621" h="424">
                <a:moveTo>
                  <a:pt x="0" y="226"/>
                </a:moveTo>
                <a:lnTo>
                  <a:pt x="14" y="226"/>
                </a:lnTo>
                <a:lnTo>
                  <a:pt x="28" y="226"/>
                </a:lnTo>
                <a:lnTo>
                  <a:pt x="56" y="212"/>
                </a:lnTo>
                <a:lnTo>
                  <a:pt x="85" y="212"/>
                </a:lnTo>
                <a:lnTo>
                  <a:pt x="127" y="212"/>
                </a:lnTo>
                <a:lnTo>
                  <a:pt x="170" y="212"/>
                </a:lnTo>
                <a:lnTo>
                  <a:pt x="226" y="198"/>
                </a:lnTo>
                <a:lnTo>
                  <a:pt x="283" y="198"/>
                </a:lnTo>
                <a:lnTo>
                  <a:pt x="340" y="183"/>
                </a:lnTo>
                <a:lnTo>
                  <a:pt x="411" y="169"/>
                </a:lnTo>
                <a:lnTo>
                  <a:pt x="482" y="169"/>
                </a:lnTo>
                <a:lnTo>
                  <a:pt x="567" y="155"/>
                </a:lnTo>
                <a:lnTo>
                  <a:pt x="652" y="141"/>
                </a:lnTo>
                <a:lnTo>
                  <a:pt x="737" y="127"/>
                </a:lnTo>
                <a:lnTo>
                  <a:pt x="836" y="113"/>
                </a:lnTo>
                <a:lnTo>
                  <a:pt x="935" y="99"/>
                </a:lnTo>
                <a:lnTo>
                  <a:pt x="1034" y="84"/>
                </a:lnTo>
                <a:lnTo>
                  <a:pt x="1133" y="70"/>
                </a:lnTo>
                <a:lnTo>
                  <a:pt x="1233" y="70"/>
                </a:lnTo>
                <a:lnTo>
                  <a:pt x="1318" y="56"/>
                </a:lnTo>
                <a:lnTo>
                  <a:pt x="1403" y="42"/>
                </a:lnTo>
                <a:lnTo>
                  <a:pt x="1488" y="42"/>
                </a:lnTo>
                <a:lnTo>
                  <a:pt x="1573" y="28"/>
                </a:lnTo>
                <a:lnTo>
                  <a:pt x="1643" y="28"/>
                </a:lnTo>
                <a:lnTo>
                  <a:pt x="1728" y="14"/>
                </a:lnTo>
                <a:lnTo>
                  <a:pt x="1799" y="14"/>
                </a:lnTo>
                <a:lnTo>
                  <a:pt x="1856" y="14"/>
                </a:lnTo>
                <a:lnTo>
                  <a:pt x="1913" y="0"/>
                </a:lnTo>
                <a:lnTo>
                  <a:pt x="1983" y="0"/>
                </a:lnTo>
                <a:lnTo>
                  <a:pt x="2026" y="0"/>
                </a:lnTo>
                <a:lnTo>
                  <a:pt x="2083" y="0"/>
                </a:lnTo>
                <a:lnTo>
                  <a:pt x="2125" y="0"/>
                </a:lnTo>
                <a:lnTo>
                  <a:pt x="2210" y="0"/>
                </a:lnTo>
                <a:lnTo>
                  <a:pt x="2295" y="14"/>
                </a:lnTo>
                <a:lnTo>
                  <a:pt x="2366" y="28"/>
                </a:lnTo>
                <a:lnTo>
                  <a:pt x="2423" y="56"/>
                </a:lnTo>
                <a:lnTo>
                  <a:pt x="2494" y="99"/>
                </a:lnTo>
                <a:lnTo>
                  <a:pt x="2536" y="141"/>
                </a:lnTo>
                <a:lnTo>
                  <a:pt x="2579" y="183"/>
                </a:lnTo>
                <a:lnTo>
                  <a:pt x="2621" y="240"/>
                </a:lnTo>
                <a:lnTo>
                  <a:pt x="2508" y="240"/>
                </a:lnTo>
                <a:lnTo>
                  <a:pt x="2409" y="240"/>
                </a:lnTo>
                <a:lnTo>
                  <a:pt x="2295" y="240"/>
                </a:lnTo>
                <a:lnTo>
                  <a:pt x="2182" y="240"/>
                </a:lnTo>
                <a:lnTo>
                  <a:pt x="2068" y="254"/>
                </a:lnTo>
                <a:lnTo>
                  <a:pt x="1941" y="254"/>
                </a:lnTo>
                <a:lnTo>
                  <a:pt x="1813" y="254"/>
                </a:lnTo>
                <a:lnTo>
                  <a:pt x="1686" y="268"/>
                </a:lnTo>
                <a:lnTo>
                  <a:pt x="1615" y="268"/>
                </a:lnTo>
                <a:lnTo>
                  <a:pt x="1530" y="268"/>
                </a:lnTo>
                <a:lnTo>
                  <a:pt x="1459" y="282"/>
                </a:lnTo>
                <a:lnTo>
                  <a:pt x="1374" y="282"/>
                </a:lnTo>
                <a:lnTo>
                  <a:pt x="1289" y="296"/>
                </a:lnTo>
                <a:lnTo>
                  <a:pt x="1190" y="296"/>
                </a:lnTo>
                <a:lnTo>
                  <a:pt x="1091" y="311"/>
                </a:lnTo>
                <a:lnTo>
                  <a:pt x="992" y="325"/>
                </a:lnTo>
                <a:lnTo>
                  <a:pt x="892" y="339"/>
                </a:lnTo>
                <a:lnTo>
                  <a:pt x="779" y="339"/>
                </a:lnTo>
                <a:lnTo>
                  <a:pt x="666" y="353"/>
                </a:lnTo>
                <a:lnTo>
                  <a:pt x="538" y="367"/>
                </a:lnTo>
                <a:lnTo>
                  <a:pt x="411" y="381"/>
                </a:lnTo>
                <a:lnTo>
                  <a:pt x="283" y="395"/>
                </a:lnTo>
                <a:lnTo>
                  <a:pt x="156" y="410"/>
                </a:lnTo>
                <a:lnTo>
                  <a:pt x="14" y="424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1"/>
          <a:stretch/>
        </p:blipFill>
        <p:spPr>
          <a:xfrm>
            <a:off x="4343400" y="2943360"/>
            <a:ext cx="657360" cy="1323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"/>
          <p:cNvPicPr/>
          <p:nvPr/>
        </p:nvPicPr>
        <p:blipFill>
          <a:blip r:embed="rId2"/>
          <a:stretch/>
        </p:blipFill>
        <p:spPr>
          <a:xfrm>
            <a:off x="4371840" y="4000680"/>
            <a:ext cx="1190880" cy="64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5" descr=""/>
          <p:cNvPicPr/>
          <p:nvPr/>
        </p:nvPicPr>
        <p:blipFill>
          <a:blip r:embed="rId3"/>
          <a:stretch/>
        </p:blipFill>
        <p:spPr>
          <a:xfrm>
            <a:off x="3181320" y="3562200"/>
            <a:ext cx="2762280" cy="7048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6"/>
          <p:cNvSpPr/>
          <p:nvPr/>
        </p:nvSpPr>
        <p:spPr>
          <a:xfrm>
            <a:off x="3564000" y="692280"/>
            <a:ext cx="227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Arial"/>
                <a:ea typeface="楷体_GB2312"/>
              </a:rPr>
              <a:t>xī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17" descr=""/>
          <p:cNvPicPr/>
          <p:nvPr/>
        </p:nvPicPr>
        <p:blipFill>
          <a:blip r:embed="rId4"/>
          <a:stretch/>
        </p:blipFill>
        <p:spPr>
          <a:xfrm>
            <a:off x="5291280" y="3357720"/>
            <a:ext cx="8157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8000"/>
                            </p:stCondLst>
                            <p:childTnLst>
                              <p:par>
                                <p:cTn id="2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1692360" y="4076640"/>
            <a:ext cx="360" cy="360"/>
            <a:chOff x="1692360" y="4076640"/>
            <a:chExt cx="360" cy="360"/>
          </a:xfrm>
        </p:grpSpPr>
        <p:sp>
          <p:nvSpPr>
            <p:cNvPr id="248" name="Line 2"/>
            <p:cNvSpPr/>
            <p:nvPr/>
          </p:nvSpPr>
          <p:spPr>
            <a:xfrm>
              <a:off x="1692360" y="40766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692360" y="4076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Text Box 3"/>
          <p:cNvSpPr/>
          <p:nvPr/>
        </p:nvSpPr>
        <p:spPr>
          <a:xfrm>
            <a:off x="3929040" y="-426960"/>
            <a:ext cx="29527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方正舒体"/>
                <a:ea typeface="方正舒体"/>
              </a:rPr>
              <a:t>xī</a:t>
            </a:r>
            <a:endParaRPr b="0" lang="en-US" sz="1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1979640" y="1413000"/>
            <a:ext cx="5688000" cy="5300640"/>
            <a:chOff x="1979640" y="1413000"/>
            <a:chExt cx="5688000" cy="5300640"/>
          </a:xfrm>
        </p:grpSpPr>
        <p:sp>
          <p:nvSpPr>
            <p:cNvPr id="252" name="Rectangle 5"/>
            <p:cNvSpPr/>
            <p:nvPr/>
          </p:nvSpPr>
          <p:spPr>
            <a:xfrm>
              <a:off x="1979640" y="1413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979640" y="4077000"/>
              <a:ext cx="5688000" cy="360"/>
              <a:chOff x="1979640" y="4077000"/>
              <a:chExt cx="5688000" cy="360"/>
            </a:xfrm>
          </p:grpSpPr>
          <p:sp>
            <p:nvSpPr>
              <p:cNvPr id="254" name="Line 6"/>
              <p:cNvSpPr/>
              <p:nvPr/>
            </p:nvSpPr>
            <p:spPr>
              <a:xfrm>
                <a:off x="1979640" y="4077000"/>
                <a:ext cx="568800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1979640" y="4077000"/>
                <a:ext cx="568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4859280" y="1341360"/>
            <a:ext cx="360" cy="5327640"/>
            <a:chOff x="4859280" y="1341360"/>
            <a:chExt cx="360" cy="5327640"/>
          </a:xfrm>
        </p:grpSpPr>
        <p:sp>
          <p:nvSpPr>
            <p:cNvPr id="257" name="Line 7"/>
            <p:cNvSpPr/>
            <p:nvPr/>
          </p:nvSpPr>
          <p:spPr>
            <a:xfrm>
              <a:off x="4859280" y="1341360"/>
              <a:ext cx="0" cy="532764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859280" y="1341360"/>
              <a:ext cx="360" cy="532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" name="Text Box 9"/>
          <p:cNvSpPr/>
          <p:nvPr/>
        </p:nvSpPr>
        <p:spPr>
          <a:xfrm>
            <a:off x="3297960" y="8571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000000"/>
                </a:solidFill>
                <a:latin typeface="Times New Roman"/>
                <a:ea typeface="楷体"/>
              </a:rPr>
              <a:t>西</a:t>
            </a:r>
            <a:endParaRPr b="0" lang="en-US" sz="3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0" y="1643040"/>
            <a:ext cx="187164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东西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西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hiphotos.baidu.com/zcwangshoudong/pic/item/6e58ab84866dd47d66096e34.jpg"/>
          <p:cNvPicPr/>
          <p:nvPr/>
        </p:nvPicPr>
        <p:blipFill>
          <a:blip r:embed="rId1"/>
          <a:stretch/>
        </p:blipFill>
        <p:spPr>
          <a:xfrm>
            <a:off x="971640" y="907920"/>
            <a:ext cx="6970680" cy="5137200"/>
          </a:xfrm>
          <a:prstGeom prst="rect">
            <a:avLst/>
          </a:prstGeom>
          <a:ln w="0">
            <a:noFill/>
          </a:ln>
        </p:spPr>
      </p:pic>
      <p:sp>
        <p:nvSpPr>
          <p:cNvPr id="262" name="云形 3"/>
          <p:cNvSpPr/>
          <p:nvPr/>
        </p:nvSpPr>
        <p:spPr>
          <a:xfrm>
            <a:off x="6732720" y="6524640"/>
            <a:ext cx="863640" cy="5047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lnTo>
                  <a:pt x="3899" y="14370"/>
                </a:lnTo>
                <a:cubicBezTo>
                  <a:pt x="3858" y="13959"/>
                  <a:pt x="3838" y="13545"/>
                  <a:pt x="3838" y="13131"/>
                </a:cubicBezTo>
                <a:cubicBezTo>
                  <a:pt x="3838" y="8055"/>
                  <a:pt x="6861" y="3941"/>
                  <a:pt x="10591" y="3941"/>
                </a:cubicBezTo>
                <a:cubicBezTo>
                  <a:pt x="11791" y="3940"/>
                  <a:pt x="12969" y="4376"/>
                  <a:pt x="14005" y="5201"/>
                </a:cubicBezTo>
                <a:lnTo>
                  <a:pt x="14005" y="5202"/>
                </a:lnTo>
                <a:cubicBezTo>
                  <a:pt x="14930" y="2828"/>
                  <a:pt x="16742" y="1343"/>
                  <a:pt x="18715" y="1344"/>
                </a:cubicBezTo>
                <a:cubicBezTo>
                  <a:pt x="20114" y="1344"/>
                  <a:pt x="21458" y="2093"/>
                  <a:pt x="22456" y="3431"/>
                </a:cubicBezTo>
                <a:lnTo>
                  <a:pt x="22456" y="3432"/>
                </a:lnTo>
                <a:cubicBezTo>
                  <a:pt x="23194" y="1415"/>
                  <a:pt x="24707" y="140"/>
                  <a:pt x="26362" y="141"/>
                </a:cubicBezTo>
                <a:cubicBezTo>
                  <a:pt x="27723" y="141"/>
                  <a:pt x="29007" y="1006"/>
                  <a:pt x="29832" y="2481"/>
                </a:cubicBezTo>
                <a:lnTo>
                  <a:pt x="29832" y="2480"/>
                </a:lnTo>
                <a:cubicBezTo>
                  <a:pt x="30755" y="1002"/>
                  <a:pt x="32110" y="149"/>
                  <a:pt x="33538" y="150"/>
                </a:cubicBezTo>
                <a:cubicBezTo>
                  <a:pt x="35888" y="150"/>
                  <a:pt x="37901" y="2435"/>
                  <a:pt x="38318" y="5575"/>
                </a:cubicBezTo>
                <a:lnTo>
                  <a:pt x="38317" y="5576"/>
                </a:lnTo>
                <a:cubicBezTo>
                  <a:pt x="40639" y="6438"/>
                  <a:pt x="42250" y="9313"/>
                  <a:pt x="42250" y="12594"/>
                </a:cubicBezTo>
                <a:cubicBezTo>
                  <a:pt x="42250" y="13579"/>
                  <a:pt x="42103" y="14554"/>
                  <a:pt x="41818" y="15460"/>
                </a:cubicBezTo>
                <a:lnTo>
                  <a:pt x="41818" y="15459"/>
                </a:lnTo>
                <a:cubicBezTo>
                  <a:pt x="42727" y="17070"/>
                  <a:pt x="43220" y="19044"/>
                  <a:pt x="43220" y="21076"/>
                </a:cubicBezTo>
                <a:cubicBezTo>
                  <a:pt x="43220" y="25663"/>
                  <a:pt x="40741" y="29553"/>
                  <a:pt x="37404" y="30203"/>
                </a:cubicBezTo>
                <a:lnTo>
                  <a:pt x="37403" y="30202"/>
                </a:lnTo>
                <a:cubicBezTo>
                  <a:pt x="37378" y="34523"/>
                  <a:pt x="34795" y="38006"/>
                  <a:pt x="31619" y="38007"/>
                </a:cubicBezTo>
                <a:cubicBezTo>
                  <a:pt x="30535" y="38007"/>
                  <a:pt x="29474" y="37593"/>
                  <a:pt x="28555" y="36813"/>
                </a:cubicBezTo>
                <a:lnTo>
                  <a:pt x="28556" y="36813"/>
                </a:lnTo>
                <a:cubicBezTo>
                  <a:pt x="27694" y="40699"/>
                  <a:pt x="25069" y="43357"/>
                  <a:pt x="22094" y="43358"/>
                </a:cubicBezTo>
                <a:cubicBezTo>
                  <a:pt x="19839" y="43358"/>
                  <a:pt x="17733" y="41821"/>
                  <a:pt x="16480" y="39263"/>
                </a:cubicBezTo>
                <a:lnTo>
                  <a:pt x="16480" y="39264"/>
                </a:lnTo>
                <a:cubicBezTo>
                  <a:pt x="15279" y="40250"/>
                  <a:pt x="13904" y="40770"/>
                  <a:pt x="12503" y="40771"/>
                </a:cubicBezTo>
                <a:cubicBezTo>
                  <a:pt x="9735" y="40771"/>
                  <a:pt x="7180" y="38748"/>
                  <a:pt x="5804" y="35469"/>
                </a:cubicBezTo>
                <a:lnTo>
                  <a:pt x="5803" y="35469"/>
                </a:lnTo>
                <a:cubicBezTo>
                  <a:pt x="5635" y="35496"/>
                  <a:pt x="5465" y="35509"/>
                  <a:pt x="5296" y="35510"/>
                </a:cubicBezTo>
                <a:cubicBezTo>
                  <a:pt x="2888" y="35510"/>
                  <a:pt x="936" y="32860"/>
                  <a:pt x="936" y="29592"/>
                </a:cubicBezTo>
                <a:cubicBezTo>
                  <a:pt x="935" y="28090"/>
                  <a:pt x="1356" y="26644"/>
                  <a:pt x="2112" y="25547"/>
                </a:cubicBezTo>
                <a:lnTo>
                  <a:pt x="2113" y="25547"/>
                </a:lnTo>
                <a:cubicBezTo>
                  <a:pt x="781" y="24481"/>
                  <a:pt x="-36" y="22528"/>
                  <a:pt x="-36" y="20418"/>
                </a:cubicBezTo>
                <a:cubicBezTo>
                  <a:pt x="-37" y="17370"/>
                  <a:pt x="1647" y="14817"/>
                  <a:pt x="3863" y="14504"/>
                </a:cubicBezTo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cubicBezTo>
                  <a:pt x="4580" y="26189"/>
                  <a:pt x="4468" y="26194"/>
                  <a:pt x="4356" y="26195"/>
                </a:cubicBezTo>
                <a:cubicBezTo>
                  <a:pt x="3584" y="26195"/>
                  <a:pt x="2826" y="25913"/>
                  <a:pt x="2160" y="25379"/>
                </a:cubicBezTo>
                <a:moveTo>
                  <a:pt x="6928" y="34899"/>
                </a:moveTo>
                <a:lnTo>
                  <a:pt x="6927" y="34898"/>
                </a:lnTo>
                <a:cubicBezTo>
                  <a:pt x="6572" y="35091"/>
                  <a:pt x="6200" y="35219"/>
                  <a:pt x="5820" y="35280"/>
                </a:cubicBezTo>
                <a:moveTo>
                  <a:pt x="16478" y="39090"/>
                </a:moveTo>
                <a:lnTo>
                  <a:pt x="16477" y="39090"/>
                </a:lnTo>
                <a:cubicBezTo>
                  <a:pt x="16210" y="38544"/>
                  <a:pt x="15986" y="37960"/>
                  <a:pt x="15809" y="37350"/>
                </a:cubicBezTo>
                <a:moveTo>
                  <a:pt x="28827" y="34751"/>
                </a:moveTo>
                <a:lnTo>
                  <a:pt x="28826" y="34750"/>
                </a:lnTo>
                <a:cubicBezTo>
                  <a:pt x="28787" y="35398"/>
                  <a:pt x="28698" y="36038"/>
                  <a:pt x="28560" y="36660"/>
                </a:cubicBezTo>
                <a:moveTo>
                  <a:pt x="34129" y="22954"/>
                </a:moveTo>
                <a:lnTo>
                  <a:pt x="34128" y="22954"/>
                </a:lnTo>
                <a:cubicBezTo>
                  <a:pt x="36118" y="24271"/>
                  <a:pt x="37381" y="27017"/>
                  <a:pt x="37381" y="30027"/>
                </a:cubicBezTo>
                <a:cubicBezTo>
                  <a:pt x="37381" y="30048"/>
                  <a:pt x="37380" y="30069"/>
                  <a:pt x="37380" y="30090"/>
                </a:cubicBezTo>
                <a:moveTo>
                  <a:pt x="41798" y="15354"/>
                </a:moveTo>
                <a:lnTo>
                  <a:pt x="41798" y="15354"/>
                </a:ln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lnTo>
                  <a:pt x="38324" y="5425"/>
                </a:lnTo>
                <a:cubicBezTo>
                  <a:pt x="38375" y="5811"/>
                  <a:pt x="38401" y="6202"/>
                  <a:pt x="38401" y="6595"/>
                </a:cubicBezTo>
                <a:cubicBezTo>
                  <a:pt x="38401" y="6626"/>
                  <a:pt x="38400" y="6658"/>
                  <a:pt x="38400" y="6690"/>
                </a:cubicBezTo>
                <a:moveTo>
                  <a:pt x="29078" y="3952"/>
                </a:moveTo>
                <a:lnTo>
                  <a:pt x="29078" y="3952"/>
                </a:lnTo>
                <a:cubicBezTo>
                  <a:pt x="29266" y="3369"/>
                  <a:pt x="29516" y="2826"/>
                  <a:pt x="29820" y="2340"/>
                </a:cubicBezTo>
                <a:moveTo>
                  <a:pt x="22141" y="4720"/>
                </a:moveTo>
                <a:lnTo>
                  <a:pt x="22140" y="4719"/>
                </a:lnTo>
                <a:cubicBezTo>
                  <a:pt x="22217" y="4238"/>
                  <a:pt x="22338" y="3771"/>
                  <a:pt x="22500" y="3330"/>
                </a:cubicBezTo>
                <a:moveTo>
                  <a:pt x="14000" y="5192"/>
                </a:moveTo>
                <a:lnTo>
                  <a:pt x="14000" y="5191"/>
                </a:lnTo>
                <a:cubicBezTo>
                  <a:pt x="14471" y="5568"/>
                  <a:pt x="14908" y="6020"/>
                  <a:pt x="15299" y="6540"/>
                </a:cubicBezTo>
                <a:moveTo>
                  <a:pt x="4127" y="15789"/>
                </a:moveTo>
                <a:lnTo>
                  <a:pt x="4127" y="15788"/>
                </a:lnTo>
                <a:cubicBezTo>
                  <a:pt x="4024" y="15324"/>
                  <a:pt x="3948" y="14850"/>
                  <a:pt x="3900" y="14369"/>
                </a:cubicBez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http://hiphotos.baidu.com/zcwangshoudong/pic/item/6e58ab84866dd47d66096e34.jpg"/>
          <p:cNvPicPr/>
          <p:nvPr/>
        </p:nvPicPr>
        <p:blipFill>
          <a:blip r:embed="rId1"/>
          <a:stretch/>
        </p:blipFill>
        <p:spPr>
          <a:xfrm>
            <a:off x="900000" y="1052640"/>
            <a:ext cx="6683400" cy="44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太阳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边升起，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边落下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都在祖国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边，北京在祖国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2025720" y="1987560"/>
            <a:ext cx="122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东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5284800" y="1987560"/>
            <a:ext cx="122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西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2994120" y="3708360"/>
            <a:ext cx="122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6756480" y="3708360"/>
            <a:ext cx="122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571680" y="3114720"/>
            <a:ext cx="79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江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左大括号 3"/>
          <p:cNvSpPr/>
          <p:nvPr/>
        </p:nvSpPr>
        <p:spPr>
          <a:xfrm>
            <a:off x="1549440" y="2565360"/>
            <a:ext cx="358560" cy="3384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000 h 3384720"/>
              <a:gd name="textAreaBottom" fmla="*/ 33757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90"/>
                </a:cubicBezTo>
                <a:lnTo>
                  <a:pt x="10800" y="10610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90"/>
                </a:cubicBezTo>
                <a:lnTo>
                  <a:pt x="10800" y="21410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908000" y="2568600"/>
            <a:ext cx="38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鱼戏莲叶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1906560" y="330192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鱼戏莲叶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2"/>
          <p:cNvSpPr/>
          <p:nvPr/>
        </p:nvSpPr>
        <p:spPr>
          <a:xfrm>
            <a:off x="1906560" y="400680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鱼戏莲叶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1908000" y="5373720"/>
            <a:ext cx="42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鱼戏莲叶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1835280" y="4653000"/>
            <a:ext cx="42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鱼戏莲叶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7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611280" y="2276640"/>
            <a:ext cx="792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6633"/>
                </a:solidFill>
                <a:latin typeface="华文楷体"/>
                <a:ea typeface="华文楷体"/>
              </a:rPr>
              <a:t>　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写的是江南水乡人们采莲的情景。这首诗共七行两句话。诗句的前两行直接介绍了江南的水乡是采莲的好地方，后五行是写鱼儿在莲叶下面游水嬉戏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6"/>
          <p:cNvSpPr/>
          <p:nvPr/>
        </p:nvSpPr>
        <p:spPr>
          <a:xfrm>
            <a:off x="179280" y="2781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本课是一首古诗。选自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汉乐府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，整首诗语言生动活泼，通俗易懂，适合儿童阅读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82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4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252360" y="2550600"/>
            <a:ext cx="85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情景表演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戴上头饰表演鱼儿在荷叶中戏游的欢乐情景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同学戴着东、南、西、北的头饰扮演东、南、西、北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同学戴着小鱼的头饰扮演小鱼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同学戴着荷叶的头饰扮演荷叶，边背诵边表演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287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6"/>
          <p:cNvSpPr/>
          <p:nvPr/>
        </p:nvSpPr>
        <p:spPr>
          <a:xfrm>
            <a:off x="108000" y="2276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通过本课的学习，我们学会了本课的生字，理解了诗句的意思，看到了江南水乡的美丽景色，感受到了大自然是多么美好，我们以后要更加热爱大自然，保护大自然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9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5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3"/>
          <p:cNvSpPr/>
          <p:nvPr/>
        </p:nvSpPr>
        <p:spPr>
          <a:xfrm>
            <a:off x="539640" y="1773360"/>
            <a:ext cx="8317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背诵课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尝试背诵。（选择自己喜欢的方法练习背诵课文。）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　　　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抽生背诵，说说你用的什么方法背诵课文。（看图记、根据重点字词记、想象记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3640" y="1484280"/>
            <a:ext cx="2073600" cy="6480"/>
            <a:chOff x="323640" y="1484280"/>
            <a:chExt cx="2073600" cy="6480"/>
          </a:xfrm>
        </p:grpSpPr>
        <p:sp>
          <p:nvSpPr>
            <p:cNvPr id="298" name="直线连接符 21"/>
            <p:cNvSpPr/>
            <p:nvPr/>
          </p:nvSpPr>
          <p:spPr>
            <a:xfrm flipV="1">
              <a:off x="324000" y="148428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 rot="10800000">
              <a:off x="323640" y="148428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timg (22)"/>
          <p:cNvPicPr/>
          <p:nvPr/>
        </p:nvPicPr>
        <p:blipFill>
          <a:blip r:embed="rId1"/>
          <a:stretch/>
        </p:blipFill>
        <p:spPr>
          <a:xfrm>
            <a:off x="-1440" y="-25560"/>
            <a:ext cx="9171000" cy="6869160"/>
          </a:xfrm>
          <a:prstGeom prst="rect">
            <a:avLst/>
          </a:prstGeom>
          <a:ln w="0">
            <a:noFill/>
          </a:ln>
        </p:spPr>
      </p:pic>
      <p:pic>
        <p:nvPicPr>
          <p:cNvPr id="64" name="矩形 4" descr=""/>
          <p:cNvPicPr/>
          <p:nvPr/>
        </p:nvPicPr>
        <p:blipFill>
          <a:blip r:embed="rId2"/>
          <a:stretch/>
        </p:blipFill>
        <p:spPr>
          <a:xfrm>
            <a:off x="88920" y="274680"/>
            <a:ext cx="36860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1166760" y="1554480"/>
            <a:ext cx="88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    南   可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采     莲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1187280" y="393264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鱼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   西   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0" y="880920"/>
            <a:ext cx="10621800" cy="4996080"/>
            <a:chOff x="0" y="880920"/>
            <a:chExt cx="10621800" cy="4996080"/>
          </a:xfrm>
        </p:grpSpPr>
        <p:sp>
          <p:nvSpPr>
            <p:cNvPr id="68" name="Text Box 8"/>
            <p:cNvSpPr/>
            <p:nvPr/>
          </p:nvSpPr>
          <p:spPr>
            <a:xfrm>
              <a:off x="971640" y="880920"/>
              <a:ext cx="965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ji</a:t>
              </a: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ā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ng  n</a:t>
              </a: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á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n   kě   </a:t>
              </a: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cǎi      lián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 Box 9"/>
            <p:cNvSpPr/>
            <p:nvPr/>
          </p:nvSpPr>
          <p:spPr>
            <a:xfrm>
              <a:off x="0" y="2995560"/>
              <a:ext cx="965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y</a:t>
              </a:r>
              <a:r>
                <a:rPr b="1" lang="en-US" sz="4000" spc="-1" strike="noStrike">
                  <a:solidFill>
                    <a:srgbClr val="ff0000"/>
                  </a:solidFill>
                  <a:latin typeface="Calibri"/>
                </a:rPr>
                <a:t>ú      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dōng  xī  běi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0" y="5175360"/>
              <a:ext cx="96505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矩形 1741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73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843280" y="1341360"/>
            <a:ext cx="4067280" cy="472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江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江南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可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采莲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何田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东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西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南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鱼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"/>
              </a:rPr>
              <a:t>莲叶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79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54000" y="1440"/>
            <a:ext cx="9036000" cy="6855120"/>
          </a:xfrm>
          <a:prstGeom prst="rect">
            <a:avLst/>
          </a:prstGeom>
          <a:ln w="0">
            <a:noFill/>
          </a:ln>
        </p:spPr>
      </p:pic>
      <p:sp>
        <p:nvSpPr>
          <p:cNvPr id="82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395280" y="155520"/>
            <a:ext cx="327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采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18"/>
          <p:cNvGrpSpPr/>
          <p:nvPr/>
        </p:nvGrpSpPr>
        <p:grpSpPr>
          <a:xfrm>
            <a:off x="5974920" y="357120"/>
            <a:ext cx="3368880" cy="1541520"/>
            <a:chOff x="5974920" y="357120"/>
            <a:chExt cx="3368880" cy="1541520"/>
          </a:xfrm>
        </p:grpSpPr>
        <p:sp>
          <p:nvSpPr>
            <p:cNvPr id="85" name="文本框 4"/>
            <p:cNvSpPr/>
            <p:nvPr/>
          </p:nvSpPr>
          <p:spPr>
            <a:xfrm>
              <a:off x="6063840" y="357120"/>
              <a:ext cx="3279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莲</a:t>
              </a:r>
              <a:r>
                <a:rPr b="1" lang="zh-CN" sz="6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蓬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6" name="直接箭头连接符 12"/>
            <p:cNvCxnSpPr/>
            <p:nvPr/>
          </p:nvCxnSpPr>
          <p:spPr>
            <a:xfrm flipV="1">
              <a:off x="5974920" y="1340280"/>
              <a:ext cx="1117080" cy="558720"/>
            </a:xfrm>
            <a:prstGeom prst="straightConnector1">
              <a:avLst/>
            </a:prstGeom>
            <a:ln w="38160">
              <a:solidFill>
                <a:srgbClr val="c0504d"/>
              </a:solidFill>
              <a:round/>
              <a:tailEnd len="med" type="arrow" w="med"/>
            </a:ln>
          </p:spPr>
        </p:cxnSp>
      </p:grpSp>
      <p:grpSp>
        <p:nvGrpSpPr>
          <p:cNvPr id="87" name="组合 17"/>
          <p:cNvGrpSpPr/>
          <p:nvPr/>
        </p:nvGrpSpPr>
        <p:grpSpPr>
          <a:xfrm>
            <a:off x="1785960" y="2163600"/>
            <a:ext cx="7557840" cy="3471480"/>
            <a:chOff x="1785960" y="2163600"/>
            <a:chExt cx="7557840" cy="3471480"/>
          </a:xfrm>
        </p:grpSpPr>
        <p:sp>
          <p:nvSpPr>
            <p:cNvPr id="88" name="文本框 5"/>
            <p:cNvSpPr/>
            <p:nvPr/>
          </p:nvSpPr>
          <p:spPr>
            <a:xfrm>
              <a:off x="6064560" y="2875680"/>
              <a:ext cx="327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莲</a:t>
              </a:r>
              <a:r>
                <a:rPr b="1" lang="zh-CN" sz="6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子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9" name="肘形连接符 11"/>
            <p:cNvCxnSpPr>
              <a:endCxn id="88" idx="0"/>
            </p:cNvCxnSpPr>
            <p:nvPr/>
          </p:nvCxnSpPr>
          <p:spPr>
            <a:xfrm>
              <a:off x="5963760" y="2163600"/>
              <a:ext cx="1741680" cy="712800"/>
            </a:xfrm>
            <a:prstGeom prst="straightConnector1">
              <a:avLst/>
            </a:prstGeom>
            <a:ln w="38160">
              <a:solidFill>
                <a:srgbClr val="c0504d"/>
              </a:solidFill>
              <a:round/>
              <a:tailEnd len="med" type="arrow" w="med"/>
            </a:ln>
          </p:spPr>
        </p:cxnSp>
        <p:grpSp>
          <p:nvGrpSpPr>
            <p:cNvPr id="90" name="组合 16"/>
            <p:cNvGrpSpPr/>
            <p:nvPr/>
          </p:nvGrpSpPr>
          <p:grpSpPr>
            <a:xfrm>
              <a:off x="1785960" y="4093920"/>
              <a:ext cx="3530880" cy="1541160"/>
              <a:chOff x="1785960" y="4093920"/>
              <a:chExt cx="3530880" cy="1541160"/>
            </a:xfrm>
          </p:grpSpPr>
          <p:sp>
            <p:nvSpPr>
              <p:cNvPr id="91" name="文本框 3"/>
              <p:cNvSpPr/>
              <p:nvPr/>
            </p:nvSpPr>
            <p:spPr>
              <a:xfrm>
                <a:off x="2037960" y="4093920"/>
                <a:ext cx="32788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600" spc="-1" strike="noStrike">
                    <a:solidFill>
                      <a:srgbClr val="ff0000"/>
                    </a:solidFill>
                    <a:latin typeface="华文楷体"/>
                    <a:ea typeface="华文楷体"/>
                  </a:rPr>
                  <a:t>莲</a:t>
                </a:r>
                <a:r>
                  <a:rPr b="1" lang="zh-CN" sz="66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叶</a:t>
                </a:r>
                <a:endParaRPr b="0" lang="en-US" sz="6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92" name="直接箭头连接符 13"/>
              <p:cNvCxnSpPr>
                <a:endCxn id="88" idx="0"/>
              </p:cNvCxnSpPr>
              <p:nvPr/>
            </p:nvCxnSpPr>
            <p:spPr>
              <a:xfrm flipV="1">
                <a:off x="1785960" y="5011920"/>
                <a:ext cx="1202040" cy="623520"/>
              </a:xfrm>
              <a:prstGeom prst="straightConnector1">
                <a:avLst/>
              </a:prstGeom>
              <a:ln w="38160">
                <a:solidFill>
                  <a:srgbClr val="c0504d"/>
                </a:solidFill>
                <a:round/>
                <a:tailEnd len="med" type="arrow" w="med"/>
              </a:ln>
            </p:spPr>
          </p:cxnSp>
        </p:grpSp>
      </p:grpSp>
      <p:grpSp>
        <p:nvGrpSpPr>
          <p:cNvPr id="93" name="组合 15"/>
          <p:cNvGrpSpPr/>
          <p:nvPr/>
        </p:nvGrpSpPr>
        <p:grpSpPr>
          <a:xfrm>
            <a:off x="552600" y="2270160"/>
            <a:ext cx="3279600" cy="1663200"/>
            <a:chOff x="552600" y="2270160"/>
            <a:chExt cx="3279600" cy="1663200"/>
          </a:xfrm>
        </p:grpSpPr>
        <p:sp>
          <p:nvSpPr>
            <p:cNvPr id="94" name="文本框 2"/>
            <p:cNvSpPr/>
            <p:nvPr/>
          </p:nvSpPr>
          <p:spPr>
            <a:xfrm>
              <a:off x="552600" y="2270160"/>
              <a:ext cx="3279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莲</a:t>
              </a:r>
              <a:r>
                <a:rPr b="1" lang="zh-CN" sz="66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花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95" name="直接箭头连接符 14"/>
            <p:cNvCxnSpPr>
              <a:endCxn id="88" idx="0"/>
            </p:cNvCxnSpPr>
            <p:nvPr/>
          </p:nvCxnSpPr>
          <p:spPr>
            <a:xfrm flipV="1">
              <a:off x="920520" y="3139920"/>
              <a:ext cx="770760" cy="793800"/>
            </a:xfrm>
            <a:prstGeom prst="straightConnector1">
              <a:avLst/>
            </a:prstGeom>
            <a:ln w="38160">
              <a:solidFill>
                <a:srgbClr val="c0504d"/>
              </a:solidFill>
              <a:round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内容占位符 3" descr="timg (23)"/>
          <p:cNvPicPr/>
          <p:nvPr/>
        </p:nvPicPr>
        <p:blipFill>
          <a:blip r:embed="rId1"/>
          <a:stretch/>
        </p:blipFill>
        <p:spPr>
          <a:xfrm>
            <a:off x="306360" y="1417680"/>
            <a:ext cx="82296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851040" y="1703520"/>
            <a:ext cx="7689600" cy="1923480"/>
          </a:xfrm>
          <a:prstGeom prst="rect">
            <a:avLst/>
          </a:prstGeom>
          <a:solidFill>
            <a:srgbClr val="ddddd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"/>
              </a:rPr>
              <a:t>江南可采莲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1-22T12:56:46Z</dcterms:modified>
  <cp:revision>2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