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3.png" ContentType="image/png"/>
  <Override PartName="/ppt/media/image5.gif" ContentType="image/gif"/>
  <Override PartName="/ppt/media/image14.jpeg" ContentType="image/jpeg"/>
  <Override PartName="/ppt/media/image28.gif" ContentType="image/gif"/>
  <Override PartName="/ppt/media/image33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4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23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6.gif" ContentType="image/gif"/>
  <Override PartName="/ppt/media/chimes.wav" ContentType="audio/x-wav"/>
  <Override PartName="/ppt/media/image16.jpeg" ContentType="image/jpeg"/>
  <Override PartName="/ppt/media/image15.jpeg" ContentType="image/jpeg"/>
  <Override PartName="/ppt/media/image17.jpeg" ContentType="image/jpeg"/>
  <Override PartName="/ppt/media/image18.png" ContentType="image/png"/>
  <Override PartName="/ppt/media/type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FBF-D6D7-47FB-8670-DE5BD95D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952-38E3-42EF-9D1E-05A73323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C3D09-809A-4B6D-8FA5-7E09ABC2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58DD5-8DD1-46A7-BC06-1849DFB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23B97-934C-4B8D-947F-D747A654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CF00A-D35E-42EE-A3ED-BBD82155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2DF88-6FCD-4287-BE54-1D75EE3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63E91-71A3-4E64-AB59-36596803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32848-182D-482C-AA3A-6B703BCC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80F6F-8A93-4320-B307-414BBC65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AAAD2-CFC1-439B-956A-FC8B7915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C69C9-0A15-4799-AA79-7CF8B06F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BE4-D004-4610-897F-E15F6089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86535-6CF9-41E9-81B4-6B66D31A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3ECE2-6179-428B-AE26-AA81069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7C7EB-84E1-48BE-AC30-B89B45CD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6A0DD-B8EB-4E40-B6F2-2DDC83DE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E6BB6-1AF3-436A-B045-1B396C92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FA235-EAC6-4CB6-85C2-3C20FD3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E18D3-799B-4B23-A10A-928B751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A9E34-38A2-47E1-ACD7-0E9C2AC1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4449A-A255-457B-B818-0B9129F3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0754E-F2DF-4E3C-A27B-57CBCCEC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7E6-9613-4656-98F7-7DE0B43E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7E52B-9CB8-47DF-93FF-2914D7C1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A3B70-F9F5-4F8A-A8F4-C8175B68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80BC4-B87D-48FD-92A1-79B70F9C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5E7EB-ACEA-4B12-8AAF-21A3CA34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007F5-5581-43DD-A332-11E894AC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820BD-A5C4-4C40-A0C9-A16A5906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A9372-F0FB-4844-8064-9AB12420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BB640-EB1A-4835-A9BF-E6E0EC6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38495-8667-483D-AF67-4842D4EF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2A680-D5A9-4AD6-9ECE-E72EF61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5E49-D53C-429F-925E-58830F66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452FE-F829-4969-B614-409A4E2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58BA-8331-47C9-8D40-BE78F6E8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03373-DE55-4830-BA97-463FCE09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106B-D44E-4B00-83F0-1688661D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BA23-6710-49E6-9E7F-BD04A931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0029-EB8F-41BB-BB0A-39A41C5C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73B8-B5DF-42C4-A292-74177C56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BDBB-F5A0-4C7E-BBD7-31CA178E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420E-0C97-46A5-9D65-1CFA4E6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47C-5593-4780-8D0C-87A1C990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C057-B9ED-4C9F-9BEC-E2831970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CEA7-5294-4382-ACA4-3F2892C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FC40-EF1A-417E-9F90-E433BB30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6BC5-313C-4B8B-A0E1-23F2E554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D049-13B8-4734-9B6F-E3747FBE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E70BE-B014-45F9-A76F-D07BE4B9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46CF-F7B1-4EB4-B179-A3CB279B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C1A7-D71B-4A52-A68F-6EB70055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E568-2B35-45DB-BA54-CB841CA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B76D-C7DF-4F6C-AA8D-922EBAA4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DC2-F439-49B1-9F15-0ADD76E9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3CB3-E427-4672-AEB3-54FA989D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076F-389C-4737-B5AA-7A4397F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085A-301F-4766-B202-5978471E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1120-5B55-46B9-B85E-CB91DD6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B863-E3C5-4E2B-9D1C-571BDBA5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16CF-7FA7-4954-B688-66C36724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6EF1-F43D-439C-8104-CB56FE6E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FA091-5B31-45E6-8A25-B6042B03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D12E-766A-46EC-9CA7-C7BCC2AE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4336-446D-4EC2-BD42-C1A0F2EA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B4D-0B97-4843-877F-2AB55A6E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FC9F1-42C5-4521-91AC-69EBB9AF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DAF9E-12AB-4E32-A132-29525D73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84833-C482-4352-AA6A-12EC6D32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F92A-0230-4138-B41C-D09F3F95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87D7-6C5B-41B2-A5DA-D9A383C3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201E-C287-4D31-9085-70705DA4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4AB2-D3CF-4D58-874C-D3E49B7C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1C5E-85C2-45D8-A945-BDB938D8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99F9-4115-40E5-AF4A-BCECCF6F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C3043-6A1F-4FBD-95B7-FAF0D654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581-417E-448C-8376-C1122110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D403A-8064-43FD-9197-8F69E695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7436C-F57E-4E72-B12C-4650990F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BCF1F-FEBA-4102-9E7E-EB6A5D3F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9235-191C-40BE-86CA-A81B411A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E8558-64F5-4EED-B448-EE3143F6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A8B67-BA0E-4045-8FA0-CFE26363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8D311-AF1B-4D02-A2BB-B04B9632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2777D-C613-4C99-92CB-17E5B7FC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38C12-C3B4-477E-8199-C2D434BA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0A5F3-3B67-40D7-AEB7-D9ABEDA0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87F-5403-44A4-8F10-E6005F7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EE471-8A25-4623-B052-58F78FA4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8451A-8B46-48A5-8089-43172378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6FF0A-0561-4956-8E3F-4D86C0D0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9C98C-E8F5-4092-A34C-D7C0A51A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4950D-32BD-49B1-A95E-825256F1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AE8B2-8B6A-40B9-A7DB-03C71C8D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F8BA-4C36-41F4-ADA3-F7130DF1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4D7CB-F3A9-4A41-A295-46438A2B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2938B-2814-49DF-806C-61B4417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7FE51-01A7-4875-B273-57803B1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776-E370-40E8-B27B-A5E18A73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539B9-5602-45BE-9885-49B8AA47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5F90E-2752-4EA9-8A5E-AA4BB170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BB937-3454-4573-A0D0-C0CA32C2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1FC46-69AF-4B9A-B68D-46B2842C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43FAB-98B1-4464-B6BC-5047BB94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1D6D0-A39B-41E0-851F-FC63EEE7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E6BA8-61A8-4C4A-98EB-D1720E5E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4C58-DCB9-4EA0-9D2B-B0C55778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FBD1F-1B8C-401E-BFA1-F85F8526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81F40-ACC7-4499-B1FC-84DA8E6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7C0-39CB-4EEC-A93B-C44C5C8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6CFDF-0153-42B5-BBF0-73124D4B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767DF-F8C2-41F2-9C31-65633BDE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2957B-CBB8-4AB5-BB39-0FBD0C5D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EB1D5-945C-4D1B-88E0-33A91C55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B488E-D304-40A1-8BF0-99263025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EFE38-1629-461D-836D-1F88E779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14910-1CF4-4636-8A72-7B48E520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E4CD1-764C-4723-BEAF-EABB3599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F7CD7-AAC5-4DD9-ADAA-89ABB2C7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AF47F-0122-409D-B9AD-02855197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6E4-5420-4B1D-B117-EA77854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DC12D-78C6-4B5C-BF50-4C797D9A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D512-ABBD-4CD2-BDA8-940A56F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05F88-1347-4099-B13E-478E990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F6935-039B-46E3-BADF-0AEFF207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E927-F40B-4588-A991-46E11B76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3C89D-5D3D-4639-AC3D-7D1B92EF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004A8-6EB6-4431-B8B8-D1BCDDC0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33C85-E575-45FF-BF0F-A2C8BFA5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88768-744B-49A1-8453-FDC1363E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E5826-825B-43B4-9493-ABB2FE98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0500-4226-440B-BB2F-2C4E745F4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C0C9-4453-4255-8602-E83E34853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0AAA-B890-4FD7-84FF-C2DBC87C4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3939-7663-47B6-AAAA-A7E72B53F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A6F8-FDB5-4C85-9851-38026C970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D84E-19CB-46BF-9D68-E8D68AF73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39D-DDD9-4C22-9FB5-411DFE581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9F52-F491-41D8-B7B8-7C3E4372B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4DBA-7A96-482A-81C2-1F98C27D3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84D7-E202-422F-8C30-F8F92A1DB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B3E2-7A50-4863-A2FC-ADDFB2E67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457200" y="990720"/>
            <a:ext cx="3809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猜一猜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棵小树十个杈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长叶子不开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写会算还会画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天干活不说话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410080" y="1143000"/>
            <a:ext cx="2819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落三秋叶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开二月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江千尺浪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入竹万竿斜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752480" y="4419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手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6400800" y="4419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风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09F8-769F-4157-93B5-3355D3730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daixian"/>
          <p:cNvPicPr/>
          <p:nvPr/>
        </p:nvPicPr>
        <p:blipFill>
          <a:blip r:embed="rId2"/>
          <a:stretch/>
        </p:blipFill>
        <p:spPr>
          <a:xfrm>
            <a:off x="-38160" y="-120600"/>
            <a:ext cx="9220320" cy="69483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1006560" y="476280"/>
            <a:ext cx="49086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813C-64FB-4DBC-93FC-A11E4C990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7" name="组合 6"/>
          <p:cNvGrpSpPr/>
          <p:nvPr/>
        </p:nvGrpSpPr>
        <p:grpSpPr>
          <a:xfrm>
            <a:off x="2335320" y="2171880"/>
            <a:ext cx="1947600" cy="2325240"/>
            <a:chOff x="2335320" y="2171880"/>
            <a:chExt cx="1947600" cy="2325240"/>
          </a:xfrm>
        </p:grpSpPr>
        <p:sp>
          <p:nvSpPr>
            <p:cNvPr id="568" name="文本框 3"/>
            <p:cNvSpPr/>
            <p:nvPr/>
          </p:nvSpPr>
          <p:spPr>
            <a:xfrm>
              <a:off x="2358720" y="2940120"/>
              <a:ext cx="1901520" cy="155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声</a:t>
              </a:r>
              <a:endParaRPr b="1" lang="en-US" sz="9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9" name="文本框 4"/>
            <p:cNvSpPr/>
            <p:nvPr/>
          </p:nvSpPr>
          <p:spPr>
            <a:xfrm>
              <a:off x="2335320" y="2171880"/>
              <a:ext cx="194760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ēng</a:t>
              </a:r>
              <a:endParaRPr b="1" lang="en-US" sz="4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远      看     山     有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1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72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4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近   听     水     无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去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来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80F8-89A9-4401-B224-20C20CD91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0" name="椭圆 1"/>
          <p:cNvSpPr/>
          <p:nvPr/>
        </p:nvSpPr>
        <p:spPr>
          <a:xfrm>
            <a:off x="1676520" y="1066680"/>
            <a:ext cx="121896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看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3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84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6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听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7A68-B2F6-4756-AB6A-0D374D08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2" name="椭圆 1"/>
          <p:cNvSpPr/>
          <p:nvPr/>
        </p:nvSpPr>
        <p:spPr>
          <a:xfrm>
            <a:off x="1620720" y="1022400"/>
            <a:ext cx="121932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tnpic044"/>
          <p:cNvPicPr/>
          <p:nvPr/>
        </p:nvPicPr>
        <p:blipFill>
          <a:blip r:embed="rId1"/>
          <a:stretch/>
        </p:blipFill>
        <p:spPr>
          <a:xfrm>
            <a:off x="7337520" y="4038480"/>
            <a:ext cx="1806480" cy="2286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hude"/>
          <p:cNvPicPr/>
          <p:nvPr/>
        </p:nvPicPr>
        <p:blipFill>
          <a:blip r:embed="rId2"/>
          <a:stretch/>
        </p:blipFill>
        <p:spPr>
          <a:xfrm>
            <a:off x="7391520" y="342900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3261600" y="148284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近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3261600" y="419112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来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去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217320" y="289548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有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无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1037880" y="903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朋友你找对了吗？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383C-8541-4FD9-BD7B-1BA8BBFC5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2" name="矩形 26633"/>
          <p:cNvSpPr/>
          <p:nvPr/>
        </p:nvSpPr>
        <p:spPr>
          <a:xfrm>
            <a:off x="30492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米老鼠"/>
          <p:cNvPicPr/>
          <p:nvPr/>
        </p:nvPicPr>
        <p:blipFill>
          <a:blip r:embed="rId2"/>
          <a:stretch/>
        </p:blipFill>
        <p:spPr>
          <a:xfrm>
            <a:off x="0" y="0"/>
            <a:ext cx="2125800" cy="2274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3"/>
          <a:stretch/>
        </p:blipFill>
        <p:spPr>
          <a:xfrm>
            <a:off x="3240" y="5373720"/>
            <a:ext cx="9140760" cy="1700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4"/>
          <a:stretch/>
        </p:blipFill>
        <p:spPr>
          <a:xfrm rot="10800000">
            <a:off x="2880" y="0"/>
            <a:ext cx="9140760" cy="698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3124080" y="35568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说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46940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583776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446940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589032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矮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4469400" y="328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837760" y="321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哭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469400" y="40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5796000" y="4005360"/>
            <a:ext cx="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5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555B-6E0C-4AFC-89E8-699AC8CE3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6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540400" y="33012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对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Idioms7"/>
          <p:cNvPicPr/>
          <p:nvPr/>
        </p:nvPicPr>
        <p:blipFill>
          <a:blip r:embed="rId1"/>
          <a:stretch/>
        </p:blipFill>
        <p:spPr>
          <a:xfrm>
            <a:off x="0" y="-393840"/>
            <a:ext cx="9144000" cy="7239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1825560" y="812880"/>
            <a:ext cx="482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远看山有色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近听水无声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春去花还在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人来鸟不惊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B432-90FC-4E9A-8A8F-1308C4B6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矩形 1" descr=""/>
          <p:cNvPicPr/>
          <p:nvPr/>
        </p:nvPicPr>
        <p:blipFill>
          <a:blip r:embed="rId1"/>
          <a:stretch/>
        </p:blipFill>
        <p:spPr>
          <a:xfrm>
            <a:off x="685800" y="1962000"/>
            <a:ext cx="8839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9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86FC-CC70-4439-AC84-EE24C182D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0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63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8D78-36C6-43D4-8383-7238325C9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34" name="文本框 5" descr=""/>
          <p:cNvPicPr/>
          <p:nvPr/>
        </p:nvPicPr>
        <p:blipFill>
          <a:blip r:embed="rId3"/>
          <a:stretch/>
        </p:blipFill>
        <p:spPr>
          <a:xfrm>
            <a:off x="1233360" y="882720"/>
            <a:ext cx="4799160" cy="12240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1246320" y="2351160"/>
            <a:ext cx="49082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7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92A-E563-47A8-809E-9D7BC06A5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320" y="771120"/>
            <a:ext cx="8991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想一想，如果从远处看山，山上的景色能看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果水从山上直往下流，从近处听，会有什么声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各种花过了开花的季节就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鸟停在树上，人来到鸟的前面，鸟就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B712-6C23-450C-991C-ED5B062B0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514600" y="1143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3"/>
          <p:cNvSpPr/>
          <p:nvPr/>
        </p:nvSpPr>
        <p:spPr>
          <a:xfrm>
            <a:off x="2819520" y="4724280"/>
            <a:ext cx="40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春 去 花 还 在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26DB-82F9-4F30-9429-72E5F71C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FCF2-1161-45E3-AC63-7FA1256F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15"/>
          <p:cNvPicPr/>
          <p:nvPr/>
        </p:nvPicPr>
        <p:blipFill>
          <a:blip r:embed="rId1">
            <a:lum bright="18000"/>
          </a:blip>
          <a:srcRect l="0" t="0" r="0" b="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4"/>
          <p:cNvSpPr/>
          <p:nvPr/>
        </p:nvSpPr>
        <p:spPr>
          <a:xfrm>
            <a:off x="2486160" y="1901880"/>
            <a:ext cx="51973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 来 鸟 不 惊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FE39-BD1A-4B11-8443-A107002B7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828800" y="1828800"/>
            <a:ext cx="670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远看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色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1828800" y="2895480"/>
            <a:ext cx="66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近听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无声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752480" y="4038480"/>
            <a:ext cx="663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去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还在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752480" y="5105520"/>
            <a:ext cx="678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人来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鸟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惊。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5146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画</a:t>
            </a:r>
            <a:endParaRPr b="1" lang="en-US" sz="8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86FA-A698-483D-A67F-F14A669F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371600" y="129528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把生字在课文中找出来，作上记号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组合作认读生字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3" name="Picture 3" descr="合作之窗"/>
          <p:cNvPicPr/>
          <p:nvPr/>
        </p:nvPicPr>
        <p:blipFill>
          <a:blip r:embed="rId1"/>
          <a:stretch/>
        </p:blipFill>
        <p:spPr>
          <a:xfrm>
            <a:off x="3635280" y="494172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152920" y="594360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RW_004"/>
          <p:cNvPicPr/>
          <p:nvPr/>
        </p:nvPicPr>
        <p:blipFill>
          <a:blip r:embed="rId2"/>
          <a:stretch/>
        </p:blipFill>
        <p:spPr>
          <a:xfrm>
            <a:off x="304920" y="685800"/>
            <a:ext cx="1074600" cy="1074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line06"/>
          <p:cNvPicPr/>
          <p:nvPr/>
        </p:nvPicPr>
        <p:blipFill>
          <a:blip r:embed="rId3"/>
          <a:stretch/>
        </p:blipFill>
        <p:spPr>
          <a:xfrm flipH="1" rot="10800000">
            <a:off x="0" y="151920"/>
            <a:ext cx="9144000" cy="10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line06"/>
          <p:cNvPicPr/>
          <p:nvPr/>
        </p:nvPicPr>
        <p:blipFill>
          <a:blip r:embed="rId4"/>
          <a:stretch/>
        </p:blipFill>
        <p:spPr>
          <a:xfrm>
            <a:off x="0" y="333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line05"/>
          <p:cNvPicPr/>
          <p:nvPr/>
        </p:nvPicPr>
        <p:blipFill>
          <a:blip r:embed="rId5"/>
          <a:stretch/>
        </p:blipFill>
        <p:spPr>
          <a:xfrm>
            <a:off x="0" y="260280"/>
            <a:ext cx="9144000" cy="152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line05"/>
          <p:cNvPicPr/>
          <p:nvPr/>
        </p:nvPicPr>
        <p:blipFill>
          <a:blip r:embed="rId6"/>
          <a:stretch/>
        </p:blipFill>
        <p:spPr>
          <a:xfrm>
            <a:off x="0" y="6453360"/>
            <a:ext cx="9144000" cy="22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line11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line11"/>
          <p:cNvPicPr/>
          <p:nvPr/>
        </p:nvPicPr>
        <p:blipFill>
          <a:blip r:embed="rId8"/>
          <a:stretch/>
        </p:blipFill>
        <p:spPr>
          <a:xfrm flipH="1" rot="10800000">
            <a:off x="0" y="6308280"/>
            <a:ext cx="9144000" cy="71640"/>
          </a:xfrm>
          <a:prstGeom prst="rect">
            <a:avLst/>
          </a:prstGeom>
          <a:ln w="0">
            <a:noFill/>
          </a:ln>
        </p:spPr>
      </p:pic>
      <p:sp>
        <p:nvSpPr>
          <p:cNvPr id="482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2277-EF46-44E7-BD37-483FA22A5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3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Text Box 4" descr=""/>
          <p:cNvPicPr/>
          <p:nvPr/>
        </p:nvPicPr>
        <p:blipFill>
          <a:blip r:embed="rId4"/>
          <a:stretch/>
        </p:blipFill>
        <p:spPr>
          <a:xfrm>
            <a:off x="1547640" y="3357720"/>
            <a:ext cx="6301080" cy="761760"/>
          </a:xfrm>
          <a:prstGeom prst="rect">
            <a:avLst/>
          </a:prstGeom>
          <a:ln w="0">
            <a:noFill/>
          </a:ln>
        </p:spPr>
      </p:pic>
      <p:pic>
        <p:nvPicPr>
          <p:cNvPr id="487" name="Text Box 5" descr=""/>
          <p:cNvPicPr/>
          <p:nvPr/>
        </p:nvPicPr>
        <p:blipFill>
          <a:blip r:embed="rId5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   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   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 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763640" y="566100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2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8A1D-FA31-4411-97BB-6356CD246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3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1981080" y="19810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971640" y="19162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84360" y="126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ū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050920" y="19162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050920" y="126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ú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4085280" y="3286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拉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3132000" y="1916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3278520" y="131760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ì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572000" y="1916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140360" y="134136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ē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867280" y="396252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5943600" y="3581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è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900000" y="40053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684360" y="349092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uǎ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979640" y="4005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197964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132000" y="400536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3132000" y="3573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3" name="Text Box 21"/>
          <p:cNvSpPr/>
          <p:nvPr/>
        </p:nvSpPr>
        <p:spPr>
          <a:xfrm>
            <a:off x="420588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Text Box 22"/>
          <p:cNvSpPr/>
          <p:nvPr/>
        </p:nvSpPr>
        <p:spPr>
          <a:xfrm>
            <a:off x="3995640" y="357336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é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5" name="Text Box 23"/>
          <p:cNvSpPr/>
          <p:nvPr/>
        </p:nvSpPr>
        <p:spPr>
          <a:xfrm>
            <a:off x="514260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50767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8672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8" name="Text Box 26"/>
          <p:cNvSpPr/>
          <p:nvPr/>
        </p:nvSpPr>
        <p:spPr>
          <a:xfrm>
            <a:off x="57913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9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B9E2-BBFE-4D18-9191-A22A8542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0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981080" y="1981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914400" y="39625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105520" y="19810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971800" y="1981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4008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981080" y="19810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9144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510552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057400" y="39625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11076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10112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0384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4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181D-F1CE-4E5F-AC9F-178D0588F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矩形 20497"/>
          <p:cNvSpPr/>
          <p:nvPr/>
        </p:nvSpPr>
        <p:spPr>
          <a:xfrm>
            <a:off x="32400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023-6023-4131-B97B-003D6A7C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40" name="Picture 2" descr="daixian"/>
          <p:cNvPicPr/>
          <p:nvPr/>
        </p:nvPicPr>
        <p:blipFill>
          <a:blip r:embed="rId1"/>
          <a:stretch/>
        </p:blipFill>
        <p:spPr>
          <a:xfrm>
            <a:off x="306360" y="158760"/>
            <a:ext cx="4392720" cy="37274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699080" y="158760"/>
            <a:ext cx="4419360" cy="6966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5" descr="timg"/>
          <p:cNvPicPr/>
          <p:nvPr/>
        </p:nvPicPr>
        <p:blipFill>
          <a:blip r:embed="rId3"/>
          <a:stretch/>
        </p:blipFill>
        <p:spPr>
          <a:xfrm>
            <a:off x="155520" y="3886200"/>
            <a:ext cx="4543560" cy="3238560"/>
          </a:xfrm>
          <a:prstGeom prst="rect">
            <a:avLst/>
          </a:prstGeom>
          <a:ln w="0">
            <a:noFill/>
          </a:ln>
        </p:spPr>
      </p:pic>
      <p:pic>
        <p:nvPicPr>
          <p:cNvPr id="543" name="文本框 6" descr=""/>
          <p:cNvPicPr/>
          <p:nvPr/>
        </p:nvPicPr>
        <p:blipFill>
          <a:blip r:embed="rId4"/>
          <a:stretch/>
        </p:blipFill>
        <p:spPr>
          <a:xfrm>
            <a:off x="1371600" y="380880"/>
            <a:ext cx="2541600" cy="1320840"/>
          </a:xfrm>
          <a:prstGeom prst="rect">
            <a:avLst/>
          </a:prstGeom>
          <a:ln w="0">
            <a:noFill/>
          </a:ln>
        </p:spPr>
      </p:pic>
      <p:pic>
        <p:nvPicPr>
          <p:cNvPr id="544" name="文本框 7" descr=""/>
          <p:cNvPicPr/>
          <p:nvPr/>
        </p:nvPicPr>
        <p:blipFill>
          <a:blip r:embed="rId5"/>
          <a:stretch/>
        </p:blipFill>
        <p:spPr>
          <a:xfrm>
            <a:off x="6062760" y="2781360"/>
            <a:ext cx="1904760" cy="1568520"/>
          </a:xfrm>
          <a:prstGeom prst="rect">
            <a:avLst/>
          </a:prstGeom>
          <a:ln w="0">
            <a:noFill/>
          </a:ln>
        </p:spPr>
      </p:pic>
      <p:pic>
        <p:nvPicPr>
          <p:cNvPr id="545" name="文本框 8" descr=""/>
          <p:cNvPicPr/>
          <p:nvPr/>
        </p:nvPicPr>
        <p:blipFill>
          <a:blip r:embed="rId6"/>
          <a:stretch/>
        </p:blipFill>
        <p:spPr>
          <a:xfrm>
            <a:off x="1171440" y="5299200"/>
            <a:ext cx="1905120" cy="1568160"/>
          </a:xfrm>
          <a:prstGeom prst="rect">
            <a:avLst/>
          </a:prstGeom>
          <a:ln w="0">
            <a:noFill/>
          </a:ln>
        </p:spPr>
      </p:pic>
      <p:pic>
        <p:nvPicPr>
          <p:cNvPr id="546" name="文本框 9" descr=""/>
          <p:cNvPicPr/>
          <p:nvPr/>
        </p:nvPicPr>
        <p:blipFill>
          <a:blip r:embed="rId7"/>
          <a:stretch/>
        </p:blipFill>
        <p:spPr>
          <a:xfrm>
            <a:off x="1371600" y="2417760"/>
            <a:ext cx="1905120" cy="1322280"/>
          </a:xfrm>
          <a:prstGeom prst="rect">
            <a:avLst/>
          </a:prstGeom>
          <a:ln w="0">
            <a:noFill/>
          </a:ln>
        </p:spPr>
      </p:pic>
      <p:pic>
        <p:nvPicPr>
          <p:cNvPr id="547" name="文本框 10" descr=""/>
          <p:cNvPicPr/>
          <p:nvPr/>
        </p:nvPicPr>
        <p:blipFill>
          <a:blip r:embed="rId8"/>
          <a:stretch/>
        </p:blipFill>
        <p:spPr>
          <a:xfrm>
            <a:off x="2919240" y="1574640"/>
            <a:ext cx="25416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246320" y="1647720"/>
            <a:ext cx="15634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色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A9A1-9ACB-4228-8F0C-C6E203D0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1246320" y="352440"/>
            <a:ext cx="39463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绿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青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3490920" y="1647720"/>
            <a:ext cx="1563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爸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4" name="文本框 5" descr=""/>
          <p:cNvPicPr/>
          <p:nvPr/>
        </p:nvPicPr>
        <p:blipFill>
          <a:blip r:embed="rId3"/>
          <a:stretch/>
        </p:blipFill>
        <p:spPr>
          <a:xfrm>
            <a:off x="1233360" y="3324240"/>
            <a:ext cx="4799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2" descr="U_]V(5`XR[DVKVL]L4[T52M"/>
          <p:cNvPicPr/>
          <p:nvPr/>
        </p:nvPicPr>
        <p:blipFill>
          <a:blip r:embed="rId1"/>
          <a:stretch/>
        </p:blipFill>
        <p:spPr>
          <a:xfrm>
            <a:off x="2925720" y="2844720"/>
            <a:ext cx="3465720" cy="34322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1209600" y="136440"/>
            <a:ext cx="17542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</a:t>
            </a:r>
            <a:endParaRPr b="1" lang="en-US" sz="8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57" name="组合 9"/>
          <p:cNvGrpSpPr/>
          <p:nvPr/>
        </p:nvGrpSpPr>
        <p:grpSpPr>
          <a:xfrm>
            <a:off x="3781440" y="185760"/>
            <a:ext cx="1866960" cy="2651760"/>
            <a:chOff x="3781440" y="185760"/>
            <a:chExt cx="1866960" cy="2651760"/>
          </a:xfrm>
        </p:grpSpPr>
        <p:sp>
          <p:nvSpPr>
            <p:cNvPr id="558" name="文本框 3"/>
            <p:cNvSpPr/>
            <p:nvPr/>
          </p:nvSpPr>
          <p:spPr>
            <a:xfrm>
              <a:off x="3781440" y="185760"/>
              <a:ext cx="175284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近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59" name="文本框 7"/>
            <p:cNvSpPr/>
            <p:nvPr/>
          </p:nvSpPr>
          <p:spPr>
            <a:xfrm>
              <a:off x="3912840" y="1738080"/>
              <a:ext cx="1735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jìn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560" name="组合 10"/>
          <p:cNvGrpSpPr/>
          <p:nvPr/>
        </p:nvGrpSpPr>
        <p:grpSpPr>
          <a:xfrm>
            <a:off x="6303960" y="185760"/>
            <a:ext cx="1754280" cy="2689560"/>
            <a:chOff x="6303960" y="185760"/>
            <a:chExt cx="1754280" cy="2689560"/>
          </a:xfrm>
        </p:grpSpPr>
        <p:sp>
          <p:nvSpPr>
            <p:cNvPr id="561" name="文本框 4"/>
            <p:cNvSpPr/>
            <p:nvPr/>
          </p:nvSpPr>
          <p:spPr>
            <a:xfrm>
              <a:off x="6303960" y="185760"/>
              <a:ext cx="175428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还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2" name="文本框 8"/>
            <p:cNvSpPr/>
            <p:nvPr/>
          </p:nvSpPr>
          <p:spPr>
            <a:xfrm>
              <a:off x="6312240" y="1775880"/>
              <a:ext cx="1737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r>
                <a:rPr b="1" lang="en-US" sz="6600" spc="-1" strike="noStrike">
                  <a:solidFill>
                    <a:srgbClr val="ff3300"/>
                  </a:solidFill>
                  <a:latin typeface="宋体"/>
                </a:rPr>
                <a:t>á</a:t>
              </a: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1:52:56Z</dcterms:created>
  <dc:creator/>
  <dc:description/>
  <dc:language>en-US</dc:language>
  <cp:lastModifiedBy>noodee</cp:lastModifiedBy>
  <dcterms:modified xsi:type="dcterms:W3CDTF">2017-11-28T14:41:09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  <property fmtid="{D5CDD505-2E9C-101B-9397-08002B2CF9AE}" pid="3" name="Version">
    <vt:r8>1</vt:r8>
  </property>
</Properties>
</file>