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2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3.png" ContentType="image/png"/>
  <Override PartName="/ppt/media/image5.gif" ContentType="image/gif"/>
  <Override PartName="/ppt/media/image14.jpeg" ContentType="image/jpeg"/>
  <Override PartName="/ppt/media/image28.gif" ContentType="image/gif"/>
  <Override PartName="/ppt/media/image33.png" ContentType="image/png"/>
  <Override PartName="/ppt/media/image26.jpeg" ContentType="image/jpeg"/>
  <Override PartName="/ppt/media/image7.gif" ContentType="image/gif"/>
  <Override PartName="/ppt/media/image8.gif" ContentType="image/gif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4.jpeg" ContentType="image/jpeg"/>
  <Override PartName="/ppt/media/image4.gif" ContentType="image/gif"/>
  <Override PartName="/ppt/media/image27.gif" ContentType="image/gif"/>
  <Override PartName="/ppt/media/image12.png" ContentType="image/png"/>
  <Override PartName="/ppt/media/image23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6.gif" ContentType="image/gif"/>
  <Override PartName="/ppt/media/chimes.wav" ContentType="audio/x-wav"/>
  <Override PartName="/ppt/media/image16.jpeg" ContentType="image/jpeg"/>
  <Override PartName="/ppt/media/image15.jpeg" ContentType="image/jpeg"/>
  <Override PartName="/ppt/media/image17.jpeg" ContentType="image/jpeg"/>
  <Override PartName="/ppt/media/image18.png" ContentType="image/png"/>
  <Override PartName="/ppt/media/type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5E5-C231-47D6-BF1F-14C32440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366-D119-426D-BD12-431B2512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C581D-B20E-41B0-B333-B1451E4A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2D43E-48AA-4B37-81EF-27E4A240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0A49F-C522-4C8A-900C-E3C0F9A8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2C7D9-6387-4C31-BF36-DEC84539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E9918-74F8-43C0-9FAB-C8F4130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AEEF6-E131-4722-988F-B8226256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5F232-5368-4829-87FE-C085EF9A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128B3-7F0E-4B4F-95FB-F6F5E3DC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5FF1D-8F30-45D3-BC02-DD53DF5B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0F809-3D89-44BE-9665-39221824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056-7470-4C7E-9B63-77820E9C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8D6B9-1862-4ACC-98D9-2599B714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21CCB-DDD4-499A-9B45-F818AF70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FEEC2-4B18-41E9-9A2F-D979F3E9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17B6F-9B9C-4410-8873-28866081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6D44C-A393-4D8E-A80D-B908DF9B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83003-E0FB-4257-9B94-65950BA2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B0789-4F5A-4754-8777-1DA394B9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9DF67-4DC1-4EB0-8C69-D369D016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2014F-51C9-4A5F-940D-09AA1B3A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1B5D6-54D1-430D-B30F-797CAACE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D3B-33BA-43FF-8A3F-9D5850BA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2C8F0-1829-4EFD-8FA9-82764D04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B8FDF-2065-45F5-8093-1C550E24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A2DC2-ADDA-4C10-B574-2D89313B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F2323-224C-48EB-9302-DB80BFA3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6F46B-8C41-4AA8-A9B1-B51C0C29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D0178-0C7F-4A1F-94CC-9D7F5453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EE2BF-F488-46EE-99D9-E7EFAE49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AB5AA-D76B-4A25-954D-F636F918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8F15F-1185-4660-A326-8F8FAD18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BBC13-8C24-4715-A731-761AC1F3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81D1-7A2B-49E0-A032-9E072CE5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E9297-B9C7-46B1-90B4-2BE1CE5F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1E896-72A5-454A-A84A-5BF8FFD2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54DF4-B53C-4ECA-A667-0831D9B0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2831-A0FD-45DC-8A74-1C07C86D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0F9B-A5C7-41D6-933F-BA0A52F6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047F-F802-475B-AE88-56942390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A20E-CA3B-47D9-8077-B658F926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7AE6-F772-4F82-B114-198A285C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C4F2-B778-47F8-9991-FF46CAAF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5EC-332E-4673-85C5-A981C313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9025-FCCF-4479-90B8-6FDFD92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6C3A-5EC2-4182-9B3E-B686E902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EC62-724F-4979-A58F-977D0F69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9E5A-1F20-4E52-82C6-4CD3E358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F7B3-EFA4-4098-8119-9B039428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C625-9AE9-478A-AF73-573F2A49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BF5D-DBC6-4E82-8A89-426D76FB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55CE-0280-479E-91E2-818D90D9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0768-7671-4E3A-9796-02FE38CF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71E3-A723-46A6-B094-AE3699CB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DD3-FE76-48BC-8E77-ABE50F2F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FFE2-A1D0-4535-87E4-B0D65905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6F0A-D016-4DE2-817D-69C2B9C7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E561-6F61-4B5D-84A6-49C8C330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CABD-BB73-42E1-810E-85BD78AC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48D7-CCFD-4022-AF55-28EDE8BE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76F8-EE2E-4F6C-A9B8-C0F9D5DB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BB79-B28E-4014-8016-E34C3B5B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2B1D-89D7-4F15-BB65-590386E2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A9B1-1E9B-4237-A07A-2C78A31F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86A1-9F0C-4C97-B8AE-0DD35C13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3A3-04DF-45D1-BA11-EE3E43C7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1D927-A211-4B85-876E-17529B1D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4818-FA62-4B70-A6ED-0EF8090E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7CBD1-BFD5-4F14-90DD-C29C7C35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EA7CD-563A-4AF3-A62E-7ACE6E04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7A0FA-D23C-4EE1-A785-6D627022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0294-BB28-4781-AE6D-B70BD119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E9E90-1FD1-4D7C-B505-5333B800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F00EB-70F6-4006-859C-D01D6E7B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D915-FA3E-4A46-A822-7FA7F2F8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4A725-B341-4EBC-A62C-B47F963D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212-DCF9-4ABD-9121-2E051A47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87616-814A-4350-B36F-0E27EC6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D1F9-230B-4BEB-A0E2-2F2F21D5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0259E-A939-4826-9732-3785D3F9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69C2D-1E0B-42AA-91D8-C8A2F4F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5D2F6-2A28-4EB1-9B24-F944E8A0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40A18-8F51-4CC2-BA98-8CA664E3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BC21-02F1-4ECC-9650-CCC148E2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9AB8A-F896-4221-8960-0A005A65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1A35A-2D45-4A6C-B25C-5DC935E9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5C12-FCE0-491B-90B3-C8AB20D0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DFB-BBFF-4597-956A-2CB3E38A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47F19-C10E-40E7-914F-4287712F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D4558-03EC-41FE-BB62-0CDBACA5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7A67F-39DC-47C4-AE03-7B9DB3E9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0BA7-A871-411C-AB89-6F30DDC9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47FD9-F6B9-41B2-B489-7339E50B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423CC-8603-4762-A925-8423B1AB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F5E7F-67CC-407B-AE34-970262D7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22BF1-A7C3-4859-AD06-6AAAB27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69F75-3852-4655-B4C8-9ED8F72A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E5C09-EFAD-4414-A815-139B8200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602-D877-44A1-9606-36AF4708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43D69-F856-4C52-8D9F-997B8B13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74C7F-0A5F-4255-85E9-A843AF65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248DD-CA2E-44EE-A11E-EBAD8773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770A1-EFB2-4CAE-8928-65DBE886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4ED47-0BA3-4EE8-BEC5-74B42FE4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8B4AA-C994-4A1C-B74E-4492700B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1674E-45C9-4D6C-97A5-6B4E7D22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2C65A-E26D-4572-8A66-B96C4AC3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C8829-BCB6-45BD-A443-9DE9ABF4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C95E4-4C7F-448F-9DD2-2AED92C7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170-25BE-4A4F-979B-CB83E672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A35B-438D-4165-9901-9B7A6DCB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750D4-580E-4C4B-AC5B-129A0CDE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073DA-695A-4F18-A291-1B98D4EB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E0F19-FB95-4728-AC79-8F16B70C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AB21F-46C4-4279-84E5-216C76F4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1B595-E7E8-41C8-AAFB-52D07463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7978F-8D82-4440-9FBB-AAE94B28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FA837-53E4-407D-9967-F33A2C0E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A0C9B-3AFC-4DDC-83C6-2F5EB22D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725DC-806F-424F-B5F9-EC9516C2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297-F74C-4B8A-81BB-CBD04100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67254-31B5-43D0-9C49-8CD52CE2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78764-EA02-4F86-BE60-91A0B596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C9472-0BC5-4073-9250-780FD3FE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D7110-AEFC-4D2F-9606-00420071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4DA0C-3972-494C-B40B-411ECBF4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7ED05-2A61-4829-B824-90BE96B5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5BF36-58CB-40EF-A606-619BD4C0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3147B-19EA-44A6-8608-83F05B8D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E08C6-9A31-4E80-86AA-265FA99A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808EB-4943-47A1-B8AA-3BF3894C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66E0-0402-43C5-9F22-ED0DCC8B9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855D-4826-40FB-976D-20D28CD69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2B70-ED1D-465C-B3F5-7EF942AD3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3327-CA58-4DB2-892E-BDAA7CB3D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AA1C-F5A6-4047-8155-B3D3F9D2C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AEB8-E977-4702-8843-9F3FEE559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B2EB-8935-465D-9C1F-6A8286D8E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14E2-C2C9-41ED-9C82-D03032B72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CE51-2C58-496D-B020-AD22F1F7F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2B0E-12FC-423C-8303-40528FAC8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973F-1EF1-435C-A8C4-62DE6414F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"/>
          <p:cNvSpPr/>
          <p:nvPr/>
        </p:nvSpPr>
        <p:spPr>
          <a:xfrm>
            <a:off x="457200" y="990720"/>
            <a:ext cx="3809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猜一猜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棵小树十个杈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长叶子不开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写会算还会画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天干活不说话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410080" y="1143000"/>
            <a:ext cx="2819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落三秋叶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开二月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江千尺浪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入竹万竿斜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752480" y="4419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手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6400800" y="44197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风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0B1B-DF2F-4359-AB36-37C127926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daixian"/>
          <p:cNvPicPr/>
          <p:nvPr/>
        </p:nvPicPr>
        <p:blipFill>
          <a:blip r:embed="rId2"/>
          <a:stretch/>
        </p:blipFill>
        <p:spPr>
          <a:xfrm>
            <a:off x="-38160" y="-120600"/>
            <a:ext cx="9220320" cy="69483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1006560" y="476280"/>
            <a:ext cx="490860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CA6D-9084-406E-9A7F-C8DC9549C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7" name="组合 6"/>
          <p:cNvGrpSpPr/>
          <p:nvPr/>
        </p:nvGrpSpPr>
        <p:grpSpPr>
          <a:xfrm>
            <a:off x="2335320" y="2171880"/>
            <a:ext cx="1947600" cy="2325240"/>
            <a:chOff x="2335320" y="2171880"/>
            <a:chExt cx="1947600" cy="2325240"/>
          </a:xfrm>
        </p:grpSpPr>
        <p:sp>
          <p:nvSpPr>
            <p:cNvPr id="568" name="文本框 3"/>
            <p:cNvSpPr/>
            <p:nvPr/>
          </p:nvSpPr>
          <p:spPr>
            <a:xfrm>
              <a:off x="2358720" y="2940120"/>
              <a:ext cx="1901520" cy="155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声</a:t>
              </a:r>
              <a:endParaRPr b="1" lang="en-US" sz="9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9" name="文本框 4"/>
            <p:cNvSpPr/>
            <p:nvPr/>
          </p:nvSpPr>
          <p:spPr>
            <a:xfrm>
              <a:off x="2335320" y="2171880"/>
              <a:ext cx="194760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ēng</a:t>
              </a:r>
              <a:endParaRPr b="1" lang="en-US" sz="4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远      看     山     有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1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72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4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近   听     水     无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去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来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B4EA-D997-41B4-B8E0-E69953A76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0" name="椭圆 1"/>
          <p:cNvSpPr/>
          <p:nvPr/>
        </p:nvSpPr>
        <p:spPr>
          <a:xfrm>
            <a:off x="1676520" y="1066680"/>
            <a:ext cx="121896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1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看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3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84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6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听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E428-E08D-4789-B3E7-62B2376F1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2" name="椭圆 1"/>
          <p:cNvSpPr/>
          <p:nvPr/>
        </p:nvSpPr>
        <p:spPr>
          <a:xfrm>
            <a:off x="1620720" y="1022400"/>
            <a:ext cx="121932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tnpic044"/>
          <p:cNvPicPr/>
          <p:nvPr/>
        </p:nvPicPr>
        <p:blipFill>
          <a:blip r:embed="rId1"/>
          <a:stretch/>
        </p:blipFill>
        <p:spPr>
          <a:xfrm>
            <a:off x="7337520" y="4038480"/>
            <a:ext cx="1806480" cy="2286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hude"/>
          <p:cNvPicPr/>
          <p:nvPr/>
        </p:nvPicPr>
        <p:blipFill>
          <a:blip r:embed="rId2"/>
          <a:stretch/>
        </p:blipFill>
        <p:spPr>
          <a:xfrm>
            <a:off x="7391520" y="342900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3261600" y="148284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远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近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3261600" y="419112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来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去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3217320" y="289548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有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无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1037880" y="9032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朋友你找对了吗？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9F62-B4F3-4295-87AA-077720BB0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2" name="矩形 26633"/>
          <p:cNvSpPr/>
          <p:nvPr/>
        </p:nvSpPr>
        <p:spPr>
          <a:xfrm>
            <a:off x="30492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米老鼠"/>
          <p:cNvPicPr/>
          <p:nvPr/>
        </p:nvPicPr>
        <p:blipFill>
          <a:blip r:embed="rId2"/>
          <a:stretch/>
        </p:blipFill>
        <p:spPr>
          <a:xfrm>
            <a:off x="0" y="0"/>
            <a:ext cx="2125800" cy="2274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3"/>
          <a:stretch/>
        </p:blipFill>
        <p:spPr>
          <a:xfrm>
            <a:off x="3240" y="5373720"/>
            <a:ext cx="9140760" cy="1700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"/>
          <p:cNvPicPr/>
          <p:nvPr/>
        </p:nvPicPr>
        <p:blipFill>
          <a:blip r:embed="rId4"/>
          <a:stretch/>
        </p:blipFill>
        <p:spPr>
          <a:xfrm rot="10800000">
            <a:off x="2880" y="0"/>
            <a:ext cx="9140760" cy="698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3124080" y="35568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说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46940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583776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446940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高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589032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矮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4469400" y="328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5837760" y="321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哭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4469400" y="407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晚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5796000" y="4005360"/>
            <a:ext cx="7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早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5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4C38-CC2C-4D64-8789-15878BE3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6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540400" y="33012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对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Idioms7"/>
          <p:cNvPicPr/>
          <p:nvPr/>
        </p:nvPicPr>
        <p:blipFill>
          <a:blip r:embed="rId1"/>
          <a:stretch/>
        </p:blipFill>
        <p:spPr>
          <a:xfrm>
            <a:off x="0" y="-393840"/>
            <a:ext cx="9144000" cy="72392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1825560" y="812880"/>
            <a:ext cx="482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远看山有色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近听水无声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春去花还在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人来鸟不惊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2927-8918-4F56-8E18-5DFEC0174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矩形 1" descr=""/>
          <p:cNvPicPr/>
          <p:nvPr/>
        </p:nvPicPr>
        <p:blipFill>
          <a:blip r:embed="rId1"/>
          <a:stretch/>
        </p:blipFill>
        <p:spPr>
          <a:xfrm>
            <a:off x="685800" y="1962000"/>
            <a:ext cx="8839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9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2EA7-B28A-4C3D-A7D5-7A4589AEC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0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63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839F-BDB9-4509-8A44-C9EB96ED5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34" name="文本框 5" descr=""/>
          <p:cNvPicPr/>
          <p:nvPr/>
        </p:nvPicPr>
        <p:blipFill>
          <a:blip r:embed="rId3"/>
          <a:stretch/>
        </p:blipFill>
        <p:spPr>
          <a:xfrm>
            <a:off x="1233360" y="882720"/>
            <a:ext cx="4799160" cy="12240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1246320" y="2351160"/>
            <a:ext cx="49082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7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1209-F90F-4E8C-8B16-1AA87D05F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320" y="771120"/>
            <a:ext cx="8991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想一想，如果从远处看山，山上的景色能看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果水从山上直往下流，从近处听，会有什么声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各种花过了开花的季节就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鸟停在树上，人来到鸟的前面，鸟就会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F7C2-C39F-4CB9-A9C3-D653CA375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514600" y="1143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3"/>
          <p:cNvSpPr/>
          <p:nvPr/>
        </p:nvSpPr>
        <p:spPr>
          <a:xfrm>
            <a:off x="2819520" y="4724280"/>
            <a:ext cx="40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春 去 花 还 在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A40E-784A-4DAB-A790-797D3939E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CCA-3272-49A4-A5CB-6F0D86631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15"/>
          <p:cNvPicPr/>
          <p:nvPr/>
        </p:nvPicPr>
        <p:blipFill>
          <a:blip r:embed="rId1">
            <a:lum bright="18000"/>
          </a:blip>
          <a:srcRect l="0" t="0" r="0" b="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4"/>
          <p:cNvSpPr/>
          <p:nvPr/>
        </p:nvSpPr>
        <p:spPr>
          <a:xfrm>
            <a:off x="2486160" y="1901880"/>
            <a:ext cx="51973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 来 鸟 不 惊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989D-8B6F-4F79-9A53-BA3AD4435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828800" y="1828800"/>
            <a:ext cx="670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远看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色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1828800" y="2895480"/>
            <a:ext cx="663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近听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无声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752480" y="4038480"/>
            <a:ext cx="663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春去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还在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752480" y="5105520"/>
            <a:ext cx="678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人来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鸟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惊。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25146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画</a:t>
            </a:r>
            <a:endParaRPr b="1" lang="en-US" sz="8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4C92-3ECD-4F46-B261-CA83DAA0F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371600" y="129528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把生字在课文中找出来，作上记号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小组合作认读生字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73" name="Picture 3" descr="合作之窗"/>
          <p:cNvPicPr/>
          <p:nvPr/>
        </p:nvPicPr>
        <p:blipFill>
          <a:blip r:embed="rId1"/>
          <a:stretch/>
        </p:blipFill>
        <p:spPr>
          <a:xfrm>
            <a:off x="3635280" y="4941720"/>
            <a:ext cx="3581640" cy="10670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152920" y="594360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RW_004"/>
          <p:cNvPicPr/>
          <p:nvPr/>
        </p:nvPicPr>
        <p:blipFill>
          <a:blip r:embed="rId2"/>
          <a:stretch/>
        </p:blipFill>
        <p:spPr>
          <a:xfrm>
            <a:off x="304920" y="685800"/>
            <a:ext cx="1074600" cy="1074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line06"/>
          <p:cNvPicPr/>
          <p:nvPr/>
        </p:nvPicPr>
        <p:blipFill>
          <a:blip r:embed="rId3"/>
          <a:stretch/>
        </p:blipFill>
        <p:spPr>
          <a:xfrm flipH="1" rot="10800000">
            <a:off x="0" y="151920"/>
            <a:ext cx="9144000" cy="108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line06"/>
          <p:cNvPicPr/>
          <p:nvPr/>
        </p:nvPicPr>
        <p:blipFill>
          <a:blip r:embed="rId4"/>
          <a:stretch/>
        </p:blipFill>
        <p:spPr>
          <a:xfrm>
            <a:off x="0" y="333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line05"/>
          <p:cNvPicPr/>
          <p:nvPr/>
        </p:nvPicPr>
        <p:blipFill>
          <a:blip r:embed="rId5"/>
          <a:stretch/>
        </p:blipFill>
        <p:spPr>
          <a:xfrm>
            <a:off x="0" y="260280"/>
            <a:ext cx="9144000" cy="152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line05"/>
          <p:cNvPicPr/>
          <p:nvPr/>
        </p:nvPicPr>
        <p:blipFill>
          <a:blip r:embed="rId6"/>
          <a:stretch/>
        </p:blipFill>
        <p:spPr>
          <a:xfrm>
            <a:off x="0" y="6453360"/>
            <a:ext cx="9144000" cy="228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line11"/>
          <p:cNvPicPr/>
          <p:nvPr/>
        </p:nvPicPr>
        <p:blipFill>
          <a:blip r:embed="rId7"/>
          <a:stretch/>
        </p:blipFill>
        <p:spPr>
          <a:xfrm>
            <a:off x="0" y="549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line11"/>
          <p:cNvPicPr/>
          <p:nvPr/>
        </p:nvPicPr>
        <p:blipFill>
          <a:blip r:embed="rId8"/>
          <a:stretch/>
        </p:blipFill>
        <p:spPr>
          <a:xfrm flipH="1" rot="10800000">
            <a:off x="0" y="6308280"/>
            <a:ext cx="9144000" cy="71640"/>
          </a:xfrm>
          <a:prstGeom prst="rect">
            <a:avLst/>
          </a:prstGeom>
          <a:ln w="0">
            <a:noFill/>
          </a:ln>
        </p:spPr>
      </p:pic>
      <p:sp>
        <p:nvSpPr>
          <p:cNvPr id="482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4D05-A744-4C11-90FB-17A1E84D1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3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Text Box 4" descr=""/>
          <p:cNvPicPr/>
          <p:nvPr/>
        </p:nvPicPr>
        <p:blipFill>
          <a:blip r:embed="rId4"/>
          <a:stretch/>
        </p:blipFill>
        <p:spPr>
          <a:xfrm>
            <a:off x="1547640" y="3357720"/>
            <a:ext cx="6301080" cy="761760"/>
          </a:xfrm>
          <a:prstGeom prst="rect">
            <a:avLst/>
          </a:prstGeom>
          <a:ln w="0">
            <a:noFill/>
          </a:ln>
        </p:spPr>
      </p:pic>
      <p:pic>
        <p:nvPicPr>
          <p:cNvPr id="487" name="Text Box 5" descr=""/>
          <p:cNvPicPr/>
          <p:nvPr/>
        </p:nvPicPr>
        <p:blipFill>
          <a:blip r:embed="rId5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   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   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 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1763640" y="566100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2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EB3D-9F30-4EAE-9E27-7E316A184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3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1981080" y="19810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971640" y="19162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684360" y="126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ū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050920" y="19162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050920" y="1268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ú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4085280" y="3286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拉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3132000" y="1916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3278520" y="131760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ì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572000" y="1916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140360" y="1341360"/>
            <a:ext cx="17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ē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5867280" y="396252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5943600" y="3581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è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900000" y="400536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684360" y="349092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uǎ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1979640" y="4005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1979640" y="35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3132000" y="4005360"/>
            <a:ext cx="8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2" name="Text Box 20"/>
          <p:cNvSpPr/>
          <p:nvPr/>
        </p:nvSpPr>
        <p:spPr>
          <a:xfrm>
            <a:off x="3132000" y="357336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3" name="Text Box 21"/>
          <p:cNvSpPr/>
          <p:nvPr/>
        </p:nvSpPr>
        <p:spPr>
          <a:xfrm>
            <a:off x="420588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Text Box 22"/>
          <p:cNvSpPr/>
          <p:nvPr/>
        </p:nvSpPr>
        <p:spPr>
          <a:xfrm>
            <a:off x="3995640" y="3573360"/>
            <a:ext cx="10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é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5" name="Text Box 23"/>
          <p:cNvSpPr/>
          <p:nvPr/>
        </p:nvSpPr>
        <p:spPr>
          <a:xfrm>
            <a:off x="514260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507672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8672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8" name="Text Box 26"/>
          <p:cNvSpPr/>
          <p:nvPr/>
        </p:nvSpPr>
        <p:spPr>
          <a:xfrm>
            <a:off x="5791320" y="1371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9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84BD-0492-4D7C-9E71-AF55DDC5E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0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3"/>
          <p:cNvSpPr/>
          <p:nvPr/>
        </p:nvSpPr>
        <p:spPr>
          <a:xfrm>
            <a:off x="1981080" y="1981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914400" y="39625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5105520" y="19810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2971800" y="1981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4008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1981080" y="198108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9144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510552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2057400" y="396252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11076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10112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40384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4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ED3C-C5FB-4088-AF14-A7E82AFD3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6" name="矩形 20497"/>
          <p:cNvSpPr/>
          <p:nvPr/>
        </p:nvSpPr>
        <p:spPr>
          <a:xfrm>
            <a:off x="32400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889A-DD29-490A-BFE9-C8F65AD46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40" name="Picture 2" descr="daixian"/>
          <p:cNvPicPr/>
          <p:nvPr/>
        </p:nvPicPr>
        <p:blipFill>
          <a:blip r:embed="rId1"/>
          <a:stretch/>
        </p:blipFill>
        <p:spPr>
          <a:xfrm>
            <a:off x="306360" y="158760"/>
            <a:ext cx="4392720" cy="37274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699080" y="158760"/>
            <a:ext cx="4419360" cy="69660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5" descr="timg"/>
          <p:cNvPicPr/>
          <p:nvPr/>
        </p:nvPicPr>
        <p:blipFill>
          <a:blip r:embed="rId3"/>
          <a:stretch/>
        </p:blipFill>
        <p:spPr>
          <a:xfrm>
            <a:off x="155520" y="3886200"/>
            <a:ext cx="4543560" cy="3238560"/>
          </a:xfrm>
          <a:prstGeom prst="rect">
            <a:avLst/>
          </a:prstGeom>
          <a:ln w="0">
            <a:noFill/>
          </a:ln>
        </p:spPr>
      </p:pic>
      <p:pic>
        <p:nvPicPr>
          <p:cNvPr id="543" name="文本框 6" descr=""/>
          <p:cNvPicPr/>
          <p:nvPr/>
        </p:nvPicPr>
        <p:blipFill>
          <a:blip r:embed="rId4"/>
          <a:stretch/>
        </p:blipFill>
        <p:spPr>
          <a:xfrm>
            <a:off x="1371600" y="380880"/>
            <a:ext cx="2541600" cy="1320840"/>
          </a:xfrm>
          <a:prstGeom prst="rect">
            <a:avLst/>
          </a:prstGeom>
          <a:ln w="0">
            <a:noFill/>
          </a:ln>
        </p:spPr>
      </p:pic>
      <p:pic>
        <p:nvPicPr>
          <p:cNvPr id="544" name="文本框 7" descr=""/>
          <p:cNvPicPr/>
          <p:nvPr/>
        </p:nvPicPr>
        <p:blipFill>
          <a:blip r:embed="rId5"/>
          <a:stretch/>
        </p:blipFill>
        <p:spPr>
          <a:xfrm>
            <a:off x="6062760" y="2781360"/>
            <a:ext cx="1904760" cy="1568520"/>
          </a:xfrm>
          <a:prstGeom prst="rect">
            <a:avLst/>
          </a:prstGeom>
          <a:ln w="0">
            <a:noFill/>
          </a:ln>
        </p:spPr>
      </p:pic>
      <p:pic>
        <p:nvPicPr>
          <p:cNvPr id="545" name="文本框 8" descr=""/>
          <p:cNvPicPr/>
          <p:nvPr/>
        </p:nvPicPr>
        <p:blipFill>
          <a:blip r:embed="rId6"/>
          <a:stretch/>
        </p:blipFill>
        <p:spPr>
          <a:xfrm>
            <a:off x="1171440" y="5299200"/>
            <a:ext cx="1905120" cy="1568160"/>
          </a:xfrm>
          <a:prstGeom prst="rect">
            <a:avLst/>
          </a:prstGeom>
          <a:ln w="0">
            <a:noFill/>
          </a:ln>
        </p:spPr>
      </p:pic>
      <p:pic>
        <p:nvPicPr>
          <p:cNvPr id="546" name="文本框 9" descr=""/>
          <p:cNvPicPr/>
          <p:nvPr/>
        </p:nvPicPr>
        <p:blipFill>
          <a:blip r:embed="rId7"/>
          <a:stretch/>
        </p:blipFill>
        <p:spPr>
          <a:xfrm>
            <a:off x="1371600" y="2417760"/>
            <a:ext cx="1905120" cy="1322280"/>
          </a:xfrm>
          <a:prstGeom prst="rect">
            <a:avLst/>
          </a:prstGeom>
          <a:ln w="0">
            <a:noFill/>
          </a:ln>
        </p:spPr>
      </p:pic>
      <p:pic>
        <p:nvPicPr>
          <p:cNvPr id="547" name="文本框 10" descr=""/>
          <p:cNvPicPr/>
          <p:nvPr/>
        </p:nvPicPr>
        <p:blipFill>
          <a:blip r:embed="rId8"/>
          <a:stretch/>
        </p:blipFill>
        <p:spPr>
          <a:xfrm>
            <a:off x="2919240" y="1574640"/>
            <a:ext cx="25416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1246320" y="1647720"/>
            <a:ext cx="15634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色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BCDC-C082-4ACF-B8B3-C37ECBFE2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2" name="文本框 1"/>
          <p:cNvSpPr/>
          <p:nvPr/>
        </p:nvSpPr>
        <p:spPr>
          <a:xfrm>
            <a:off x="1246320" y="352440"/>
            <a:ext cx="39463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绿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青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3490920" y="1647720"/>
            <a:ext cx="15638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爸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4" name="文本框 5" descr=""/>
          <p:cNvPicPr/>
          <p:nvPr/>
        </p:nvPicPr>
        <p:blipFill>
          <a:blip r:embed="rId3"/>
          <a:stretch/>
        </p:blipFill>
        <p:spPr>
          <a:xfrm>
            <a:off x="1233360" y="3324240"/>
            <a:ext cx="47991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2" descr="U_]V(5`XR[DVKVL]L4[T52M"/>
          <p:cNvPicPr/>
          <p:nvPr/>
        </p:nvPicPr>
        <p:blipFill>
          <a:blip r:embed="rId1"/>
          <a:stretch/>
        </p:blipFill>
        <p:spPr>
          <a:xfrm>
            <a:off x="2925720" y="2844720"/>
            <a:ext cx="3465720" cy="34322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1209600" y="136440"/>
            <a:ext cx="17542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远</a:t>
            </a:r>
            <a:endParaRPr b="1" lang="en-US" sz="8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57" name="组合 9"/>
          <p:cNvGrpSpPr/>
          <p:nvPr/>
        </p:nvGrpSpPr>
        <p:grpSpPr>
          <a:xfrm>
            <a:off x="3781440" y="185760"/>
            <a:ext cx="1866960" cy="2651760"/>
            <a:chOff x="3781440" y="185760"/>
            <a:chExt cx="1866960" cy="2651760"/>
          </a:xfrm>
        </p:grpSpPr>
        <p:sp>
          <p:nvSpPr>
            <p:cNvPr id="558" name="文本框 3"/>
            <p:cNvSpPr/>
            <p:nvPr/>
          </p:nvSpPr>
          <p:spPr>
            <a:xfrm>
              <a:off x="3781440" y="185760"/>
              <a:ext cx="175284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近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59" name="文本框 7"/>
            <p:cNvSpPr/>
            <p:nvPr/>
          </p:nvSpPr>
          <p:spPr>
            <a:xfrm>
              <a:off x="3912840" y="1738080"/>
              <a:ext cx="1735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jìn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560" name="组合 10"/>
          <p:cNvGrpSpPr/>
          <p:nvPr/>
        </p:nvGrpSpPr>
        <p:grpSpPr>
          <a:xfrm>
            <a:off x="6303960" y="185760"/>
            <a:ext cx="1754280" cy="2689560"/>
            <a:chOff x="6303960" y="185760"/>
            <a:chExt cx="1754280" cy="2689560"/>
          </a:xfrm>
        </p:grpSpPr>
        <p:sp>
          <p:nvSpPr>
            <p:cNvPr id="561" name="文本框 4"/>
            <p:cNvSpPr/>
            <p:nvPr/>
          </p:nvSpPr>
          <p:spPr>
            <a:xfrm>
              <a:off x="6303960" y="185760"/>
              <a:ext cx="175428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还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2" name="文本框 8"/>
            <p:cNvSpPr/>
            <p:nvPr/>
          </p:nvSpPr>
          <p:spPr>
            <a:xfrm>
              <a:off x="6312240" y="1775880"/>
              <a:ext cx="1737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h</a:t>
              </a:r>
              <a:r>
                <a:rPr b="1" lang="en-US" sz="6600" spc="-1" strike="noStrike">
                  <a:solidFill>
                    <a:srgbClr val="ff3300"/>
                  </a:solidFill>
                  <a:latin typeface="宋体"/>
                </a:rPr>
                <a:t>á</a:t>
              </a: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1:52:56Z</dcterms:created>
  <dc:creator/>
  <dc:description/>
  <dc:language>en-US</dc:language>
  <cp:lastModifiedBy>noodee</cp:lastModifiedBy>
  <dcterms:modified xsi:type="dcterms:W3CDTF">2017-11-28T14:41:09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  <property fmtid="{D5CDD505-2E9C-101B-9397-08002B2CF9AE}" pid="3" name="Version">
    <vt:r8>1</vt:r8>
  </property>
</Properties>
</file>