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2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3.png" ContentType="image/png"/>
  <Override PartName="/ppt/media/image5.gif" ContentType="image/gif"/>
  <Override PartName="/ppt/media/image14.jpeg" ContentType="image/jpeg"/>
  <Override PartName="/ppt/media/image28.gif" ContentType="image/gif"/>
  <Override PartName="/ppt/media/image33.png" ContentType="image/png"/>
  <Override PartName="/ppt/media/image26.jpeg" ContentType="image/jpeg"/>
  <Override PartName="/ppt/media/image7.gif" ContentType="image/gif"/>
  <Override PartName="/ppt/media/image8.gif" ContentType="image/gif"/>
  <Override PartName="/ppt/media/image10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4.jpeg" ContentType="image/jpeg"/>
  <Override PartName="/ppt/media/image4.gif" ContentType="image/gif"/>
  <Override PartName="/ppt/media/image27.gif" ContentType="image/gif"/>
  <Override PartName="/ppt/media/image12.png" ContentType="image/png"/>
  <Override PartName="/ppt/media/image23.jpeg" ContentType="image/jpeg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6.gif" ContentType="image/gif"/>
  <Override PartName="/ppt/media/chimes.wav" ContentType="audio/x-wav"/>
  <Override PartName="/ppt/media/image16.jpeg" ContentType="image/jpeg"/>
  <Override PartName="/ppt/media/image15.jpeg" ContentType="image/jpeg"/>
  <Override PartName="/ppt/media/image17.jpeg" ContentType="image/jpeg"/>
  <Override PartName="/ppt/media/image18.png" ContentType="image/png"/>
  <Override PartName="/ppt/media/type.wav" ContentType="audio/x-wav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952D-EB2B-412F-B330-84BBB172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30C-2589-407C-A224-57294F4D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DAB70-DEE1-47AB-8E16-5060B0D6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ACCA1-6403-4CEA-90D5-03892AA8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172F1-BF7B-4088-BBEB-C3DDC0CA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D5AAB-BAF9-4550-BB71-7048664A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0466B-FAA6-45E7-B6EE-03781555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8BE1F-9BA9-4990-89E1-33E4E638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4DBC2-4282-4A61-BB8C-02E29BAF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AEABF-F969-4FB5-823F-D2EA233F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429DF-EABA-469E-906A-A863BBE6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42153-DFBC-46EE-94A8-86B6E694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55B-F8C2-4D33-9126-3D90DE9A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7CF8F-94C1-450A-B85A-171C3442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34AF1-40D4-4463-BCCE-32AB9A28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7E015-0F76-428B-835E-4C8B3AB9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F8D68-2DBF-4F6F-821D-A215EEBE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2DD4E-1B91-4AC9-8ED2-A9CA92F8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6BBF7-84F1-48BC-883A-ECF0CA80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4B67F-394F-4CDE-9BB2-9B68611F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D32EE-5D93-432A-99CB-1429F53F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D9C91-770C-4FB1-8D11-03949152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A1534-B3E6-4E38-A84F-5A2CE094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B6D-91A7-4DC0-8BAB-82144815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CEA76-E2AB-4F00-9CDF-4CB1AE4C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1634F-3AFC-41BE-A0DB-72346222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02FDD-7C40-44E8-B9E6-EEE797B2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213BA-FCD5-4307-96B7-0C56578D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1B060-716B-4505-841C-12731EC9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A87FB-63AA-4311-A584-E392D1D9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AEB4B-9B83-4B8A-B022-D4532DF1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34F31-19BC-460B-856F-9B6AA205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43B56-4672-4BD6-AF5F-DD57FE76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C5B15-4291-4639-AD60-EFC22D94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B0C9-7091-46CC-AB5E-A458B400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9A4B5-B643-408E-BC48-34116698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A90DF-06C3-4980-A985-257BC6D7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B6973-8C5A-457E-9CBA-B7A1C46D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97D8-0948-4177-A2F5-0023DE72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82E3-5362-45F1-8FDF-0E6B0071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049A-CCC1-4A31-9CFE-5EEFADBC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06F5-DF9E-4F66-BA92-0910DCCA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FD44-9EE3-450E-891E-43B1B709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00E8-F212-49C7-AB5B-82B09C64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B78-599C-4894-AEF1-F760F32E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6D21-134E-418F-BEEE-64774D5C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67BF-7718-4E5C-A385-9467028D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8032-70ED-4E4A-924F-7865CBFE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307D-875C-4D7F-A15A-755ADE6D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E876-6FE1-4275-A926-B6017761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A8A87-E304-483A-BA70-B13BDD1E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FA97-49AB-49F6-A5E4-733A72A7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1A48-0198-474C-89B9-E497E5BB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E29F7-5E88-4596-9CF8-1F24D449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EA28-9110-4D92-B733-D8295C25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24A-9EF3-44EA-9590-EB03A49A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1172D-7224-49FA-8059-DB2C52E7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A837-82E4-46B1-90F8-02B0CD34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EEC7-9F0B-4DFA-B803-81E76A80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E43C8-AA67-41E9-BEA7-F8B1439F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1245-7A18-43C7-92C6-3EB38B36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BB29-B104-40A9-8D92-56B03605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E4985-5E94-4186-94DA-1A77DF3A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03C6C-C61A-4554-A762-A4564117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E067D-71E5-4517-8292-43E47625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5B195-5E86-41D7-ABED-044C07D8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8CB-FC48-4851-B399-81459579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3CA7-DF61-45FD-B9AA-9E5ECA1A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B33BF-A680-4839-B9E4-19A27304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BEEBD-03B3-4D52-A077-8D4A5513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04864-DE7F-4E1F-87EA-CB7255FB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B0A80-9102-46E4-A77B-595DC7D9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768B7-0459-43B3-B236-C2834ED9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DFB8F-48D7-458F-B460-19991366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76C59-0A89-4562-8025-CDB292A1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4FB8D-F197-4809-B15D-1D8F15F3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90039-23F3-40CE-9C1D-51CBF664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492-CB95-4CBD-BFE3-CABA69E1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A9BF2-2793-4220-ADCF-FD8D7160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47042-2666-4F60-98DF-CE60C4BB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E1970-9AE5-4679-A729-CE9DB4E2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1ECD4-10F0-49E9-8A59-CAAFB11E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B14D0-6FB0-478D-BD48-1665687D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5AC46-B8D4-4403-9CC9-F97048D0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F53E0-E0E1-49B3-B15B-671CE094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44885-B6AE-4BA6-A267-1D8A4530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9F129-A475-43E9-A73E-EA6D5560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A97FA-486F-473D-A339-E7E088F0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437-F9B1-4B6F-AAFB-3CDDAFBA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3C2D1-6702-4A6F-B12B-9B240FBF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A010D-2CBD-4784-85BF-CCD608C5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50F5F-F44D-4CB1-9F7C-48DB0729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71DA3-1894-497C-8044-ADD54E1C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953B1-87DA-4F68-8FAE-D9B81DCF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CFCE1-2A6D-4559-8E9B-39AC53F4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3418C-2456-452F-BCE0-2B8DFDC7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49AD2-0691-4EEB-841C-F0F1B68F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42940-ED0E-4321-9368-B6054161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F8CEE-8895-48C1-84ED-B905BC50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B13-9588-4E3D-9902-5EBA8165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8F7C8-EC0D-4F8A-976E-7D0D556A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68D40-1CD5-42B8-8570-6DE3E866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69878-D844-45B9-A7D2-D0E79690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8124F-0A03-48F5-B966-7493DF83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64561-506C-4E22-9DEE-289DADC1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51DF9-6F7A-4FA5-8155-BFC5644C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429EB-BDC4-49AA-A846-A51D7EE9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6F501-9AE7-43C6-8CD1-69761D06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1BE01-6BD9-4741-9AE2-66350F95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9E6BE-9B93-4751-8CF6-617F89B4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036-9AAB-4417-A89F-0CA98494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BCE69-F0A6-412E-88B5-5A942E30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40058-74A5-49DA-AA2B-38BB485F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17A90-5D06-4CB5-810D-CD55F594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93A6A-63C3-434C-9CE8-4EC56147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7C3D0-33EF-404A-B4B9-5C84CC7E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55319-BBD2-4A85-8E45-F4193D2C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B1566-D0FB-46AB-9179-FCBC1806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23AD7-BE5B-4EBC-B8BB-1E196C82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4CBFE-FBE8-4315-B438-DD1CE255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1F069-86C1-4D42-8FC3-B402554C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FE2-E4F6-413A-A3A8-9862EEF1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2882D-B8FB-40B2-9DE4-F227E2F5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FE03F-D7A8-48F9-B18E-DBFD4A68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C8B26-EF8F-48C8-AA65-8D2724F7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0C28B-C0A3-4040-8EFA-8F1A9BBF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B0348-495C-468D-8D5E-0FC34F15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F0801-B0FD-4748-B304-F0F0B630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A5C17-7A8D-4862-AA29-C334ACA0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6E909-4B76-4F74-8341-37829F89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84967-3F60-419C-8BD4-E92C9712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1F126-FE79-48C8-A964-C1C21B5B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AC10-47DF-4F90-B039-1E3A6FD2D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B454-598A-4AB4-8C98-80233F69E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1D9E-FFBE-4E6E-B07A-EF601B19E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67E6-9333-4463-9109-8BBDE1758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9908-0768-42DF-A485-5FB38B939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8CA9-8C87-4CB1-BD53-26A5DCCAD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E575-285E-4890-A5C4-DD16D59F6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C1AA-ECB8-4EE6-AEF2-9AE778832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8737-8613-4F58-AFDF-01DC66988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A0BE-E6A7-4D28-BA1C-B3BA009AF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4D3C-B31A-4FFC-AA7D-7ECE92798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"/>
          <p:cNvSpPr/>
          <p:nvPr/>
        </p:nvSpPr>
        <p:spPr>
          <a:xfrm>
            <a:off x="457200" y="990720"/>
            <a:ext cx="3809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猜一猜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棵小树十个杈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长叶子不开花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写会算还会画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天天干活不说话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410080" y="1143000"/>
            <a:ext cx="2819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落三秋叶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开二月花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过江千尺浪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入竹万竿斜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752480" y="44197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（手）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6400800" y="44197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（风）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8040-0F50-4A92-95E8-EEB18A084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daixian"/>
          <p:cNvPicPr/>
          <p:nvPr/>
        </p:nvPicPr>
        <p:blipFill>
          <a:blip r:embed="rId2"/>
          <a:stretch/>
        </p:blipFill>
        <p:spPr>
          <a:xfrm>
            <a:off x="-38160" y="-120600"/>
            <a:ext cx="9220320" cy="694836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1006560" y="476280"/>
            <a:ext cx="490860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近听</a:t>
            </a: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无声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6AA6-1DF9-4361-8796-B86646B7B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67" name="组合 6"/>
          <p:cNvGrpSpPr/>
          <p:nvPr/>
        </p:nvGrpSpPr>
        <p:grpSpPr>
          <a:xfrm>
            <a:off x="2335320" y="2171880"/>
            <a:ext cx="1947600" cy="2325240"/>
            <a:chOff x="2335320" y="2171880"/>
            <a:chExt cx="1947600" cy="2325240"/>
          </a:xfrm>
        </p:grpSpPr>
        <p:sp>
          <p:nvSpPr>
            <p:cNvPr id="568" name="文本框 3"/>
            <p:cNvSpPr/>
            <p:nvPr/>
          </p:nvSpPr>
          <p:spPr>
            <a:xfrm>
              <a:off x="2358720" y="2940120"/>
              <a:ext cx="1901520" cy="155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声</a:t>
              </a:r>
              <a:endParaRPr b="1" lang="en-US" sz="9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69" name="文本框 4"/>
            <p:cNvSpPr/>
            <p:nvPr/>
          </p:nvSpPr>
          <p:spPr>
            <a:xfrm>
              <a:off x="2335320" y="2171880"/>
              <a:ext cx="194760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hēng</a:t>
              </a:r>
              <a:endParaRPr b="1" lang="en-US" sz="4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远      看     山     有   色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1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572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4"/>
          <p:cNvSpPr/>
          <p:nvPr/>
        </p:nvSpPr>
        <p:spPr>
          <a:xfrm>
            <a:off x="1547640" y="3357720"/>
            <a:ext cx="63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ūn  qù  huā  hái  zài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4" name="Text Box 5" descr=""/>
          <p:cNvPicPr/>
          <p:nvPr/>
        </p:nvPicPr>
        <p:blipFill>
          <a:blip r:embed="rId4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近   听     水     无     声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去   花     还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1620720" y="563868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来 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8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55EC-90CD-4B97-AE28-3A61EDA2E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0" name="椭圆 1"/>
          <p:cNvSpPr/>
          <p:nvPr/>
        </p:nvSpPr>
        <p:spPr>
          <a:xfrm>
            <a:off x="1676520" y="1066680"/>
            <a:ext cx="121896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1" name="椭圆 2"/>
          <p:cNvSpPr/>
          <p:nvPr/>
        </p:nvSpPr>
        <p:spPr>
          <a:xfrm>
            <a:off x="1219320" y="914400"/>
            <a:ext cx="14475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看     山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色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3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584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1547640" y="3357720"/>
            <a:ext cx="63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ūn  qù  huā  hái  zài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6" name="Text Box 5" descr=""/>
          <p:cNvPicPr/>
          <p:nvPr/>
        </p:nvPicPr>
        <p:blipFill>
          <a:blip r:embed="rId4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听     水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声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花     还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1620720" y="563868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来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0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E0DC-228D-4B9D-8565-2758F71D9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1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2" name="椭圆 1"/>
          <p:cNvSpPr/>
          <p:nvPr/>
        </p:nvSpPr>
        <p:spPr>
          <a:xfrm>
            <a:off x="1620720" y="1022400"/>
            <a:ext cx="121932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3" name="椭圆 2"/>
          <p:cNvSpPr/>
          <p:nvPr/>
        </p:nvSpPr>
        <p:spPr>
          <a:xfrm>
            <a:off x="1219320" y="914400"/>
            <a:ext cx="14475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tnpic044"/>
          <p:cNvPicPr/>
          <p:nvPr/>
        </p:nvPicPr>
        <p:blipFill>
          <a:blip r:embed="rId1"/>
          <a:stretch/>
        </p:blipFill>
        <p:spPr>
          <a:xfrm>
            <a:off x="7337520" y="4038480"/>
            <a:ext cx="1806480" cy="2286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hude"/>
          <p:cNvPicPr/>
          <p:nvPr/>
        </p:nvPicPr>
        <p:blipFill>
          <a:blip r:embed="rId2"/>
          <a:stretch/>
        </p:blipFill>
        <p:spPr>
          <a:xfrm>
            <a:off x="7391520" y="3429000"/>
            <a:ext cx="1000080" cy="1143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4"/>
          <p:cNvSpPr/>
          <p:nvPr/>
        </p:nvSpPr>
        <p:spPr>
          <a:xfrm>
            <a:off x="3261600" y="148284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远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近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3261600" y="419112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来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去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3217320" y="289548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有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无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1037880" y="9032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小朋友你找对了吗？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0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2241-73BD-416D-B88F-CCFB1EFF2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1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2" name="矩形 26633"/>
          <p:cNvSpPr/>
          <p:nvPr/>
        </p:nvSpPr>
        <p:spPr>
          <a:xfrm>
            <a:off x="304920" y="4365720"/>
            <a:ext cx="457200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1" lang="en-US" sz="1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米老鼠"/>
          <p:cNvPicPr/>
          <p:nvPr/>
        </p:nvPicPr>
        <p:blipFill>
          <a:blip r:embed="rId2"/>
          <a:stretch/>
        </p:blipFill>
        <p:spPr>
          <a:xfrm>
            <a:off x="0" y="0"/>
            <a:ext cx="2125800" cy="2274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"/>
          <p:cNvPicPr/>
          <p:nvPr/>
        </p:nvPicPr>
        <p:blipFill>
          <a:blip r:embed="rId3"/>
          <a:stretch/>
        </p:blipFill>
        <p:spPr>
          <a:xfrm>
            <a:off x="3240" y="5373720"/>
            <a:ext cx="9140760" cy="17002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"/>
          <p:cNvPicPr/>
          <p:nvPr/>
        </p:nvPicPr>
        <p:blipFill>
          <a:blip r:embed="rId4"/>
          <a:stretch/>
        </p:blipFill>
        <p:spPr>
          <a:xfrm rot="10800000">
            <a:off x="2880" y="0"/>
            <a:ext cx="9140760" cy="6984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3124080" y="355680"/>
            <a:ext cx="19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我说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4469400" y="1730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白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5837760" y="1730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黑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4469400" y="24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高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0" name="Text Box 13"/>
          <p:cNvSpPr/>
          <p:nvPr/>
        </p:nvSpPr>
        <p:spPr>
          <a:xfrm>
            <a:off x="5890320" y="24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矮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1" name="Text Box 14"/>
          <p:cNvSpPr/>
          <p:nvPr/>
        </p:nvSpPr>
        <p:spPr>
          <a:xfrm>
            <a:off x="4469400" y="3284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笑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2" name="Text Box 15"/>
          <p:cNvSpPr/>
          <p:nvPr/>
        </p:nvSpPr>
        <p:spPr>
          <a:xfrm>
            <a:off x="5837760" y="321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哭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3" name="Text Box 16"/>
          <p:cNvSpPr/>
          <p:nvPr/>
        </p:nvSpPr>
        <p:spPr>
          <a:xfrm>
            <a:off x="4469400" y="4076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晚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4" name="Text Box 17"/>
          <p:cNvSpPr/>
          <p:nvPr/>
        </p:nvSpPr>
        <p:spPr>
          <a:xfrm>
            <a:off x="5796000" y="4005360"/>
            <a:ext cx="72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早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5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C898-F0B8-4031-B8C9-8D5603ECF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6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5540400" y="330120"/>
            <a:ext cx="19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我对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Idioms7"/>
          <p:cNvPicPr/>
          <p:nvPr/>
        </p:nvPicPr>
        <p:blipFill>
          <a:blip r:embed="rId1"/>
          <a:stretch/>
        </p:blipFill>
        <p:spPr>
          <a:xfrm>
            <a:off x="0" y="-393840"/>
            <a:ext cx="9144000" cy="723924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1825560" y="812880"/>
            <a:ext cx="482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远看山有色，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近听水无声。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春去花还在，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人来鸟不惊。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7863-A723-4990-83C0-175FA6436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矩形 1" descr=""/>
          <p:cNvPicPr/>
          <p:nvPr/>
        </p:nvPicPr>
        <p:blipFill>
          <a:blip r:embed="rId1"/>
          <a:stretch/>
        </p:blipFill>
        <p:spPr>
          <a:xfrm>
            <a:off x="685800" y="1962000"/>
            <a:ext cx="8839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9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EE6D-2FA0-4AD3-BA16-DA8C2F71F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0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daixian"/>
          <p:cNvPicPr/>
          <p:nvPr/>
        </p:nvPicPr>
        <p:blipFill>
          <a:blip r:embed="rId2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63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CCB5-6D1F-4590-BA10-B932AAA77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634" name="文本框 5" descr=""/>
          <p:cNvPicPr/>
          <p:nvPr/>
        </p:nvPicPr>
        <p:blipFill>
          <a:blip r:embed="rId3"/>
          <a:stretch/>
        </p:blipFill>
        <p:spPr>
          <a:xfrm>
            <a:off x="1233360" y="882720"/>
            <a:ext cx="4799160" cy="12240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3"/>
          <p:cNvSpPr/>
          <p:nvPr/>
        </p:nvSpPr>
        <p:spPr>
          <a:xfrm>
            <a:off x="1246320" y="2351160"/>
            <a:ext cx="49082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近听</a:t>
            </a:r>
            <a:r>
              <a:rPr b="1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</a:t>
            </a: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无声</a:t>
            </a:r>
            <a:endParaRPr b="1" lang="en-US" sz="7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0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1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7805-AB56-4020-83DB-BFB2B2E9F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320" y="771120"/>
            <a:ext cx="8991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想一想，如果从远处看山，山上的景色能看清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如果水从山上直往下流，从近处听，会有什么声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各种花过了开花的季节就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鸟停在树上，人来到鸟的前面，鸟就会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75E2-7889-4CB4-854C-A61C349CA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春之恋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514600" y="1143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3"/>
          <p:cNvSpPr/>
          <p:nvPr/>
        </p:nvSpPr>
        <p:spPr>
          <a:xfrm>
            <a:off x="2819520" y="4724280"/>
            <a:ext cx="40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春 去 花 还 在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C0CD-3F20-4B40-B978-C0B84312B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4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8B26-455D-408E-9B97-9C9536F59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15"/>
          <p:cNvPicPr/>
          <p:nvPr/>
        </p:nvPicPr>
        <p:blipFill>
          <a:blip r:embed="rId1">
            <a:lum bright="18000"/>
          </a:blip>
          <a:srcRect l="0" t="0" r="0" b="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4"/>
          <p:cNvSpPr/>
          <p:nvPr/>
        </p:nvSpPr>
        <p:spPr>
          <a:xfrm>
            <a:off x="2486160" y="1901880"/>
            <a:ext cx="51973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 来 鸟 不 惊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C00B-7755-4442-B002-70314AA9B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828800" y="1828800"/>
            <a:ext cx="670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远看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色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1828800" y="2895480"/>
            <a:ext cx="663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近听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水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无声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1752480" y="4038480"/>
            <a:ext cx="663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春去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还在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752480" y="5105520"/>
            <a:ext cx="678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人来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鸟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不惊。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25146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画</a:t>
            </a:r>
            <a:endParaRPr b="1" lang="en-US" sz="8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3AA6-7AA0-45A3-83EB-65C010A12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371600" y="1295280"/>
            <a:ext cx="7391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1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把生字在课文中找出来，作上记号。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小组合作认读生字。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73" name="Picture 3" descr="合作之窗"/>
          <p:cNvPicPr/>
          <p:nvPr/>
        </p:nvPicPr>
        <p:blipFill>
          <a:blip r:embed="rId1"/>
          <a:stretch/>
        </p:blipFill>
        <p:spPr>
          <a:xfrm>
            <a:off x="3635280" y="4941720"/>
            <a:ext cx="3581640" cy="106704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152920" y="594360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5" descr="RW_004"/>
          <p:cNvPicPr/>
          <p:nvPr/>
        </p:nvPicPr>
        <p:blipFill>
          <a:blip r:embed="rId2"/>
          <a:stretch/>
        </p:blipFill>
        <p:spPr>
          <a:xfrm>
            <a:off x="304920" y="685800"/>
            <a:ext cx="1074600" cy="1074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line06"/>
          <p:cNvPicPr/>
          <p:nvPr/>
        </p:nvPicPr>
        <p:blipFill>
          <a:blip r:embed="rId3"/>
          <a:stretch/>
        </p:blipFill>
        <p:spPr>
          <a:xfrm flipH="1" rot="10800000">
            <a:off x="0" y="151920"/>
            <a:ext cx="9144000" cy="108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line06"/>
          <p:cNvPicPr/>
          <p:nvPr/>
        </p:nvPicPr>
        <p:blipFill>
          <a:blip r:embed="rId4"/>
          <a:stretch/>
        </p:blipFill>
        <p:spPr>
          <a:xfrm>
            <a:off x="0" y="333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line05"/>
          <p:cNvPicPr/>
          <p:nvPr/>
        </p:nvPicPr>
        <p:blipFill>
          <a:blip r:embed="rId5"/>
          <a:stretch/>
        </p:blipFill>
        <p:spPr>
          <a:xfrm>
            <a:off x="0" y="260280"/>
            <a:ext cx="9144000" cy="1526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line05"/>
          <p:cNvPicPr/>
          <p:nvPr/>
        </p:nvPicPr>
        <p:blipFill>
          <a:blip r:embed="rId6"/>
          <a:stretch/>
        </p:blipFill>
        <p:spPr>
          <a:xfrm>
            <a:off x="0" y="6453360"/>
            <a:ext cx="9144000" cy="228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line11"/>
          <p:cNvPicPr/>
          <p:nvPr/>
        </p:nvPicPr>
        <p:blipFill>
          <a:blip r:embed="rId7"/>
          <a:stretch/>
        </p:blipFill>
        <p:spPr>
          <a:xfrm>
            <a:off x="0" y="549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line11"/>
          <p:cNvPicPr/>
          <p:nvPr/>
        </p:nvPicPr>
        <p:blipFill>
          <a:blip r:embed="rId8"/>
          <a:stretch/>
        </p:blipFill>
        <p:spPr>
          <a:xfrm flipH="1" rot="10800000">
            <a:off x="0" y="6308280"/>
            <a:ext cx="9144000" cy="71640"/>
          </a:xfrm>
          <a:prstGeom prst="rect">
            <a:avLst/>
          </a:prstGeom>
          <a:ln w="0">
            <a:noFill/>
          </a:ln>
        </p:spPr>
      </p:pic>
      <p:sp>
        <p:nvSpPr>
          <p:cNvPr id="482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8DB8-CDEC-443E-840F-2A1A188E6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3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485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pic>
        <p:nvPicPr>
          <p:cNvPr id="486" name="Text Box 4" descr=""/>
          <p:cNvPicPr/>
          <p:nvPr/>
        </p:nvPicPr>
        <p:blipFill>
          <a:blip r:embed="rId4"/>
          <a:stretch/>
        </p:blipFill>
        <p:spPr>
          <a:xfrm>
            <a:off x="1547640" y="3357720"/>
            <a:ext cx="6301080" cy="761760"/>
          </a:xfrm>
          <a:prstGeom prst="rect">
            <a:avLst/>
          </a:prstGeom>
          <a:ln w="0">
            <a:noFill/>
          </a:ln>
        </p:spPr>
      </p:pic>
      <p:pic>
        <p:nvPicPr>
          <p:cNvPr id="487" name="Text Box 5" descr=""/>
          <p:cNvPicPr/>
          <p:nvPr/>
        </p:nvPicPr>
        <p:blipFill>
          <a:blip r:embed="rId5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山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有   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近   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水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花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 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1763640" y="566100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2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5E13-B0F7-4133-A7A8-513056267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3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3"/>
          <p:cNvSpPr/>
          <p:nvPr/>
        </p:nvSpPr>
        <p:spPr>
          <a:xfrm>
            <a:off x="1981080" y="198108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971640" y="19162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春 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684360" y="1268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ū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050920" y="19162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050920" y="1268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ú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4085280" y="3286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拉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3132000" y="1916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近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3278520" y="131760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ì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4572000" y="19162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声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140360" y="1341360"/>
            <a:ext cx="17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ē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5867280" y="396252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色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5943600" y="3581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è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900000" y="400536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远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8" name="Text Box 16"/>
          <p:cNvSpPr/>
          <p:nvPr/>
        </p:nvSpPr>
        <p:spPr>
          <a:xfrm>
            <a:off x="684360" y="349092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uǎ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1979640" y="4005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惊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0" name="Text Box 18"/>
          <p:cNvSpPr/>
          <p:nvPr/>
        </p:nvSpPr>
        <p:spPr>
          <a:xfrm>
            <a:off x="1979640" y="3500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ī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1" name="Text Box 19"/>
          <p:cNvSpPr/>
          <p:nvPr/>
        </p:nvSpPr>
        <p:spPr>
          <a:xfrm>
            <a:off x="3132000" y="4005360"/>
            <a:ext cx="8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还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2" name="Text Box 20"/>
          <p:cNvSpPr/>
          <p:nvPr/>
        </p:nvSpPr>
        <p:spPr>
          <a:xfrm>
            <a:off x="3132000" y="357336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ái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3" name="Text Box 21"/>
          <p:cNvSpPr/>
          <p:nvPr/>
        </p:nvSpPr>
        <p:spPr>
          <a:xfrm>
            <a:off x="4205880" y="400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人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4" name="Text Box 22"/>
          <p:cNvSpPr/>
          <p:nvPr/>
        </p:nvSpPr>
        <p:spPr>
          <a:xfrm>
            <a:off x="3995640" y="3573360"/>
            <a:ext cx="10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é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5" name="Text Box 23"/>
          <p:cNvSpPr/>
          <p:nvPr/>
        </p:nvSpPr>
        <p:spPr>
          <a:xfrm>
            <a:off x="5142600" y="400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来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507672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ái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5867280" y="19810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听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8" name="Text Box 26"/>
          <p:cNvSpPr/>
          <p:nvPr/>
        </p:nvSpPr>
        <p:spPr>
          <a:xfrm>
            <a:off x="5791320" y="13716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ī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9" name="灯片编号占位符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0ADA-A987-4E7D-A5DE-FD0E079D6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0" name="页脚占位符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3"/>
          <p:cNvSpPr/>
          <p:nvPr/>
        </p:nvSpPr>
        <p:spPr>
          <a:xfrm>
            <a:off x="1981080" y="1981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914400" y="39625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春 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5105520" y="19810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2971800" y="1981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近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6400800" y="19810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声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1981080" y="198108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色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914400" y="19810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远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510552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惊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2057400" y="3962520"/>
            <a:ext cx="8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还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3110760" y="3962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人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4101120" y="3962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来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4038480" y="19810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听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4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F054-A70E-478C-9930-4B32765A3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6" name="矩形 20497"/>
          <p:cNvSpPr/>
          <p:nvPr/>
        </p:nvSpPr>
        <p:spPr>
          <a:xfrm>
            <a:off x="324000" y="4365720"/>
            <a:ext cx="457200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1" lang="en-US" sz="1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6C48-19F5-487C-829E-8689441DB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40" name="Picture 2" descr="daixian"/>
          <p:cNvPicPr/>
          <p:nvPr/>
        </p:nvPicPr>
        <p:blipFill>
          <a:blip r:embed="rId1"/>
          <a:stretch/>
        </p:blipFill>
        <p:spPr>
          <a:xfrm>
            <a:off x="306360" y="158760"/>
            <a:ext cx="4392720" cy="37274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春之恋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699080" y="158760"/>
            <a:ext cx="4419360" cy="696600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5" descr="timg"/>
          <p:cNvPicPr/>
          <p:nvPr/>
        </p:nvPicPr>
        <p:blipFill>
          <a:blip r:embed="rId3"/>
          <a:stretch/>
        </p:blipFill>
        <p:spPr>
          <a:xfrm>
            <a:off x="155520" y="3886200"/>
            <a:ext cx="4543560" cy="3238560"/>
          </a:xfrm>
          <a:prstGeom prst="rect">
            <a:avLst/>
          </a:prstGeom>
          <a:ln w="0">
            <a:noFill/>
          </a:ln>
        </p:spPr>
      </p:pic>
      <p:pic>
        <p:nvPicPr>
          <p:cNvPr id="543" name="文本框 6" descr=""/>
          <p:cNvPicPr/>
          <p:nvPr/>
        </p:nvPicPr>
        <p:blipFill>
          <a:blip r:embed="rId4"/>
          <a:stretch/>
        </p:blipFill>
        <p:spPr>
          <a:xfrm>
            <a:off x="1371600" y="380880"/>
            <a:ext cx="2541600" cy="1320840"/>
          </a:xfrm>
          <a:prstGeom prst="rect">
            <a:avLst/>
          </a:prstGeom>
          <a:ln w="0">
            <a:noFill/>
          </a:ln>
        </p:spPr>
      </p:pic>
      <p:pic>
        <p:nvPicPr>
          <p:cNvPr id="544" name="文本框 7" descr=""/>
          <p:cNvPicPr/>
          <p:nvPr/>
        </p:nvPicPr>
        <p:blipFill>
          <a:blip r:embed="rId5"/>
          <a:stretch/>
        </p:blipFill>
        <p:spPr>
          <a:xfrm>
            <a:off x="6062760" y="2781360"/>
            <a:ext cx="1904760" cy="1568520"/>
          </a:xfrm>
          <a:prstGeom prst="rect">
            <a:avLst/>
          </a:prstGeom>
          <a:ln w="0">
            <a:noFill/>
          </a:ln>
        </p:spPr>
      </p:pic>
      <p:pic>
        <p:nvPicPr>
          <p:cNvPr id="545" name="文本框 8" descr=""/>
          <p:cNvPicPr/>
          <p:nvPr/>
        </p:nvPicPr>
        <p:blipFill>
          <a:blip r:embed="rId6"/>
          <a:stretch/>
        </p:blipFill>
        <p:spPr>
          <a:xfrm>
            <a:off x="1171440" y="5299200"/>
            <a:ext cx="1905120" cy="1568160"/>
          </a:xfrm>
          <a:prstGeom prst="rect">
            <a:avLst/>
          </a:prstGeom>
          <a:ln w="0">
            <a:noFill/>
          </a:ln>
        </p:spPr>
      </p:pic>
      <p:pic>
        <p:nvPicPr>
          <p:cNvPr id="546" name="文本框 9" descr=""/>
          <p:cNvPicPr/>
          <p:nvPr/>
        </p:nvPicPr>
        <p:blipFill>
          <a:blip r:embed="rId7"/>
          <a:stretch/>
        </p:blipFill>
        <p:spPr>
          <a:xfrm>
            <a:off x="1371600" y="2417760"/>
            <a:ext cx="1905120" cy="1322280"/>
          </a:xfrm>
          <a:prstGeom prst="rect">
            <a:avLst/>
          </a:prstGeom>
          <a:ln w="0">
            <a:noFill/>
          </a:ln>
        </p:spPr>
      </p:pic>
      <p:pic>
        <p:nvPicPr>
          <p:cNvPr id="547" name="文本框 10" descr=""/>
          <p:cNvPicPr/>
          <p:nvPr/>
        </p:nvPicPr>
        <p:blipFill>
          <a:blip r:embed="rId8"/>
          <a:stretch/>
        </p:blipFill>
        <p:spPr>
          <a:xfrm>
            <a:off x="2919240" y="1574640"/>
            <a:ext cx="25416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daixian"/>
          <p:cNvPicPr/>
          <p:nvPr/>
        </p:nvPicPr>
        <p:blipFill>
          <a:blip r:embed="rId2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1246320" y="1647720"/>
            <a:ext cx="15634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色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15B2-79D9-465E-B187-22173DA61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2" name="文本框 1"/>
          <p:cNvSpPr/>
          <p:nvPr/>
        </p:nvSpPr>
        <p:spPr>
          <a:xfrm>
            <a:off x="1246320" y="352440"/>
            <a:ext cx="39463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绿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色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青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色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3490920" y="1647720"/>
            <a:ext cx="15638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爸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54" name="文本框 5" descr=""/>
          <p:cNvPicPr/>
          <p:nvPr/>
        </p:nvPicPr>
        <p:blipFill>
          <a:blip r:embed="rId3"/>
          <a:stretch/>
        </p:blipFill>
        <p:spPr>
          <a:xfrm>
            <a:off x="1233360" y="3324240"/>
            <a:ext cx="47991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图片 2" descr="U_]V(5`XR[DVKVL]L4[T52M"/>
          <p:cNvPicPr/>
          <p:nvPr/>
        </p:nvPicPr>
        <p:blipFill>
          <a:blip r:embed="rId1"/>
          <a:stretch/>
        </p:blipFill>
        <p:spPr>
          <a:xfrm>
            <a:off x="2925720" y="2844720"/>
            <a:ext cx="3465720" cy="343224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"/>
          <p:cNvSpPr/>
          <p:nvPr/>
        </p:nvSpPr>
        <p:spPr>
          <a:xfrm>
            <a:off x="1209600" y="136440"/>
            <a:ext cx="17542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远</a:t>
            </a:r>
            <a:endParaRPr b="1" lang="en-US" sz="8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57" name="组合 9"/>
          <p:cNvGrpSpPr/>
          <p:nvPr/>
        </p:nvGrpSpPr>
        <p:grpSpPr>
          <a:xfrm>
            <a:off x="3781440" y="185760"/>
            <a:ext cx="1866960" cy="2651760"/>
            <a:chOff x="3781440" y="185760"/>
            <a:chExt cx="1866960" cy="2651760"/>
          </a:xfrm>
        </p:grpSpPr>
        <p:sp>
          <p:nvSpPr>
            <p:cNvPr id="558" name="文本框 3"/>
            <p:cNvSpPr/>
            <p:nvPr/>
          </p:nvSpPr>
          <p:spPr>
            <a:xfrm>
              <a:off x="3781440" y="185760"/>
              <a:ext cx="1752840" cy="1434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近</a:t>
              </a:r>
              <a:endParaRPr b="1" lang="en-US" sz="8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59" name="文本框 7"/>
            <p:cNvSpPr/>
            <p:nvPr/>
          </p:nvSpPr>
          <p:spPr>
            <a:xfrm>
              <a:off x="3912840" y="1738080"/>
              <a:ext cx="1735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jìn</a:t>
              </a:r>
              <a:endParaRPr b="1" lang="en-US" sz="66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560" name="组合 10"/>
          <p:cNvGrpSpPr/>
          <p:nvPr/>
        </p:nvGrpSpPr>
        <p:grpSpPr>
          <a:xfrm>
            <a:off x="6303960" y="185760"/>
            <a:ext cx="1754280" cy="2689560"/>
            <a:chOff x="6303960" y="185760"/>
            <a:chExt cx="1754280" cy="2689560"/>
          </a:xfrm>
        </p:grpSpPr>
        <p:sp>
          <p:nvSpPr>
            <p:cNvPr id="561" name="文本框 4"/>
            <p:cNvSpPr/>
            <p:nvPr/>
          </p:nvSpPr>
          <p:spPr>
            <a:xfrm>
              <a:off x="6303960" y="185760"/>
              <a:ext cx="1754280" cy="1434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还</a:t>
              </a:r>
              <a:endParaRPr b="1" lang="en-US" sz="8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62" name="文本框 8"/>
            <p:cNvSpPr/>
            <p:nvPr/>
          </p:nvSpPr>
          <p:spPr>
            <a:xfrm>
              <a:off x="6312240" y="1775880"/>
              <a:ext cx="1737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h</a:t>
              </a:r>
              <a:r>
                <a:rPr b="1" lang="en-US" sz="6600" spc="-1" strike="noStrike">
                  <a:solidFill>
                    <a:srgbClr val="ff3300"/>
                  </a:solidFill>
                  <a:latin typeface="宋体"/>
                </a:rPr>
                <a:t>á</a:t>
              </a: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endParaRPr b="1" lang="en-US" sz="66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1:52:56Z</dcterms:created>
  <dc:creator/>
  <dc:description/>
  <dc:language>en-US</dc:language>
  <cp:lastModifiedBy>noodee</cp:lastModifiedBy>
  <dcterms:modified xsi:type="dcterms:W3CDTF">2017-11-28T14:41:09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  <property fmtid="{D5CDD505-2E9C-101B-9397-08002B2CF9AE}" pid="3" name="Version">
    <vt:r8>1</vt:r8>
  </property>
</Properties>
</file>