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2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3.png" ContentType="image/png"/>
  <Override PartName="/ppt/media/image5.gif" ContentType="image/gif"/>
  <Override PartName="/ppt/media/image14.jpeg" ContentType="image/jpeg"/>
  <Override PartName="/ppt/media/image28.gif" ContentType="image/gif"/>
  <Override PartName="/ppt/media/image33.png" ContentType="image/png"/>
  <Override PartName="/ppt/media/image26.jpeg" ContentType="image/jpeg"/>
  <Override PartName="/ppt/media/image7.gif" ContentType="image/gif"/>
  <Override PartName="/ppt/media/image8.gif" ContentType="image/gif"/>
  <Override PartName="/ppt/media/image10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4.jpeg" ContentType="image/jpeg"/>
  <Override PartName="/ppt/media/image4.gif" ContentType="image/gif"/>
  <Override PartName="/ppt/media/image27.gif" ContentType="image/gif"/>
  <Override PartName="/ppt/media/image12.png" ContentType="image/png"/>
  <Override PartName="/ppt/media/image23.jpeg" ContentType="image/jpe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6.gif" ContentType="image/gif"/>
  <Override PartName="/ppt/media/chimes.wav" ContentType="audio/x-wav"/>
  <Override PartName="/ppt/media/image16.jpeg" ContentType="image/jpeg"/>
  <Override PartName="/ppt/media/image15.jpeg" ContentType="image/jpeg"/>
  <Override PartName="/ppt/media/image17.jpeg" ContentType="image/jpeg"/>
  <Override PartName="/ppt/media/image18.png" ContentType="image/png"/>
  <Override PartName="/ppt/media/type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40F-5B95-43AF-85C5-A725CA0C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02A-4720-4172-8979-5EC8F0B2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68FDE-2BBE-4D8C-BA93-98E1D833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2446E-6199-438B-BE09-FC2A0683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416E8-FA9C-461A-941C-080B1288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FEA70-C0A9-4FBE-997E-60B27736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1C483-0B23-414B-B5A1-AF64506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CAF6C-145B-45B2-895B-2974CBAE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18297-F783-4F7B-BE60-8A5C1F91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29978-FBBC-4233-8137-96B7D2EC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86F33-29DF-45EE-966A-F0462E71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1B912-0193-4F47-B381-DA2A78B3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09D-4EAD-4B1B-A2F3-7B8F5BEC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995EA-C2F7-49EA-BB81-CC4EB89B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028E4-0A6F-4119-BA83-BFD28637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D89FE-24CD-417C-B84A-92A0932E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8EC4D-B139-4B48-94D7-42C9D73F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EFA99-E716-49F2-AC6D-5B8538C6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54C64-0B50-4E22-AA7E-EE56C90A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68774-CE13-4FD7-98F1-803E743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17467-2619-4990-95ED-B25EEBD6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933DC-90F1-42A9-AB08-B65EE88A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12913-4F35-442A-AB22-1B694338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946-A364-4560-B01B-6AE361A3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429AB-77D9-4CB2-9379-534A729B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71E77-AC5E-4839-9CB4-5154A109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25743-640D-47D1-990D-2ED71081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52380-34A9-4A40-A845-B037570A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E402D-3798-4EA9-B151-1495C10E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787F0-5F38-412B-AB1B-3DF9A8FA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32FAF-C6DC-4EDE-95E2-CF644B44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7C9BA-95BE-4D0D-8106-395823D4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526A3-B99A-43E5-B5A3-E165917C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77E5B-02AF-4CCB-A700-73C07400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494A-BE6E-43FA-AA13-529D9EC9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64D2B-8F5B-4AEC-9003-358F73BA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DE7D4-0F12-46EB-8730-CA5BA07A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35601-FE26-46FF-92F5-C06819C2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B553-FE28-4EED-B11A-98E13DD1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E4A9-4456-4324-8D0E-67AE3D4A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A181-70CD-49FD-B3BD-223DDA4B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15A2-A7FF-4F45-8D8F-0406225C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1159-E981-4C99-AC5A-A8FC3499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38C2-0835-41CC-B3CD-65C12682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6AD-C5CD-4C72-89AE-AE1CB5F8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E7C6-27E6-4C1B-B93C-8AE73B1C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60DD-B27E-4834-BE0D-8EF3DCB0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C7A0-AF49-4F6E-86E1-9AB68B0B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12DB-66F2-4EB2-985D-564E88CE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B36F-6E82-41FD-82A1-F7C22B30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6E5BD-F2AC-4C11-83C4-023BA05C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DEF4-D270-42E4-9346-78C099FD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889A2-22A7-4FFA-9438-819D0292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3720-1F49-437D-BD91-82B9D878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1DFB-994D-4864-9C9A-7EF8AA3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4A3-5938-4B2A-8549-4FEF44A5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1D6F5-7CFC-4453-9DBC-00277ECB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D9DA-031C-4029-AA6F-80643A75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2BAD-D12C-4954-A4B8-E18CB02F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254D-9B11-490C-8CF8-7CEFE806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CCF8D-D145-4283-9E0D-4B28E248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B2ED-8FD7-4BA6-87B0-C5A4537E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34EB5-5FC1-4116-ABC6-CF8AAD18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8852B-BBC1-4E2A-B965-249096EF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9089-53DF-41E5-B088-3F3CAF58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C745C-D38A-451E-AC6C-E3AD8E5F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D6F-23A2-401F-A015-2CB9D47C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6921-D4AB-4534-802F-DADD20BE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7A70A-3F10-4E70-99F6-F6B5AA11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260E5-5F4F-42F7-AE3A-B7C3798A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ADE6-BF5D-4F84-A24F-C339F97B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7957-4513-479E-8FC7-9C892700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DF33C-96B5-4BE9-B49B-2F47EFD1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291B-CDA8-4670-BCE4-49B9CA62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EFCBE-25D0-4595-9C98-8E97CEEB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6092-6C40-4AFA-B475-B88B034B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C216-82C0-4F10-8AE2-13207955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433-1C7C-42E4-A637-EE74EED4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764C5-E2BB-4053-AE06-BDAE3738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E27C4-C42B-4139-9F76-45016D80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EB781-4765-49D4-8B37-C1A3EDED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FCD16-8F97-4521-B228-775FC127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414E6-D13F-4F42-B621-EDA83C0D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FEA0-EF03-4837-80F1-9A52D4DD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62550-5746-41BE-B773-6863DB32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F4C32-9BA1-47A6-B8CA-B68D31F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EE85F-C6D6-40A5-A0AA-6463E612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1463-324F-4A84-81DA-A190B22E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C29-6265-4428-99D2-7823DF34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4BF06-4DBE-44F5-8B0C-0C01E067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807D0-ED2A-4E75-9C08-600B4E78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7DF1D-FAD4-4D84-9AC9-4F06DFA1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A25E3-E1C3-4BFE-A451-0E2B2E9C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8B4F6-EE57-441E-90A1-052C13DE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72C06-74C4-4409-A5AE-C9418E8F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9A938-B7F7-4A34-AC50-0A0F8F5C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D8E7-7C7D-409B-B329-2EEAFB6C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B2C3-4B4D-4690-9A95-1E454699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FCEE4-80CE-4F22-8BF7-98DD71A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5F8-8C71-406B-88B6-9B1282AC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2B55F-5DDB-41D1-8206-4FC14E5D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7A0B1-50F3-4AC9-A2BD-A10DB7AA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74939-1224-4961-932D-D595B253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8847B-FCD9-4CA0-8A45-B19E2D9E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FF4ED-0C69-45F9-BBD2-DB3F8917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30396-7A73-49B8-BCB0-6AE5E81B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6F0CE-F1F3-47F3-8A19-8F621DC1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30909-CF3B-43FB-9466-37ECDD64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4E3B9-B01C-43B1-BD61-CFB9E0E3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A387B-1095-483F-B567-0C46F04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AD5-6B2A-4647-AE2D-FA75230A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12291-B259-4550-84B6-3EE990A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04214-CA29-4D6C-91F2-EE0E5FF2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0CE91-5AD6-4A7A-AC6E-3A97D4EF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B2368-BD15-48A5-AE61-F8600494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795A6-6C36-4077-8CB7-C1021F4C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A05C2-72A5-453D-A168-5C82FD9B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53072-5BD7-474C-9CFC-6FB0E948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7A81A-0AFF-4106-A7F9-BB91E87E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0AD62-29DE-4076-B82A-D1897FF9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43CB-B762-41BF-B1AB-A148956E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E85-58BA-476D-85FF-2B125BFA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ADE2C-0008-4D7C-852A-4A43FF02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4104C-DBE6-4266-9230-7229A204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D1C0D-912A-4779-B8FC-223D3168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BBE52-BAEE-4A4A-AB45-58A9C62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F4406-1DE0-48AE-B878-33AFF13C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13F61-5A14-4E02-B3C5-C06A6880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76EFB-9310-436F-90C4-A2AE011C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30232-A8E9-410F-A287-C93A10BB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DDB7C-7A5E-4B54-AD92-B6F8C2F8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D6B90-6219-483D-A3DF-7C4B1318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8331-9DBC-4EEB-AD6A-EE70C71ED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641B-3AAF-40EF-8D8D-5A583AF7F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DAC5-D4E8-4D36-A303-F8436991A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B1FF-81B8-428C-B6C4-7B2A917FF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1215-654D-459A-86C8-31AE6CE4E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5ACE-D457-4FC5-BAC7-E9E98CD26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22B1-CCA9-4F1F-B1C9-83B14E763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804C-F56F-4F49-BAA9-98B39A710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C899-3743-400D-9B87-95990B81F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7972-D8FA-4A7E-9851-EC9130D50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图标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3568-4769-4F4B-8E2B-D547F746E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jpeg"/><Relationship Id="rId3" Type="http://schemas.openxmlformats.org/officeDocument/2006/relationships/image" Target="../media/image2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"/>
          <p:cNvSpPr/>
          <p:nvPr/>
        </p:nvSpPr>
        <p:spPr>
          <a:xfrm>
            <a:off x="457200" y="990720"/>
            <a:ext cx="3809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猜一猜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棵小树十个杈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长叶子不开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写会算还会画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天天干活不说话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410080" y="1143000"/>
            <a:ext cx="2819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落三秋叶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开二月花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过江千尺浪，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入竹万竿斜。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752480" y="4419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手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6400800" y="44197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（风）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A06F-6C84-4C77-A927-B2E175B9E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daixian"/>
          <p:cNvPicPr/>
          <p:nvPr/>
        </p:nvPicPr>
        <p:blipFill>
          <a:blip r:embed="rId2"/>
          <a:stretch/>
        </p:blipFill>
        <p:spPr>
          <a:xfrm>
            <a:off x="-38160" y="-120600"/>
            <a:ext cx="9220320" cy="694836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3"/>
          <p:cNvSpPr/>
          <p:nvPr/>
        </p:nvSpPr>
        <p:spPr>
          <a:xfrm>
            <a:off x="1006560" y="476280"/>
            <a:ext cx="490860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E3D1-2ED4-4BE1-AA85-BD46E1763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67" name="组合 6"/>
          <p:cNvGrpSpPr/>
          <p:nvPr/>
        </p:nvGrpSpPr>
        <p:grpSpPr>
          <a:xfrm>
            <a:off x="2335320" y="2171880"/>
            <a:ext cx="1947600" cy="2325240"/>
            <a:chOff x="2335320" y="2171880"/>
            <a:chExt cx="1947600" cy="2325240"/>
          </a:xfrm>
        </p:grpSpPr>
        <p:sp>
          <p:nvSpPr>
            <p:cNvPr id="568" name="文本框 3"/>
            <p:cNvSpPr/>
            <p:nvPr/>
          </p:nvSpPr>
          <p:spPr>
            <a:xfrm>
              <a:off x="2358720" y="2940120"/>
              <a:ext cx="1901520" cy="155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声</a:t>
              </a:r>
              <a:endParaRPr b="1" lang="en-US" sz="96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9" name="文本框 4"/>
            <p:cNvSpPr/>
            <p:nvPr/>
          </p:nvSpPr>
          <p:spPr>
            <a:xfrm>
              <a:off x="2335320" y="2171880"/>
              <a:ext cx="194760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hēng</a:t>
              </a:r>
              <a:endParaRPr b="1" lang="en-US" sz="4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远      看     山     有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1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72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74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近   听     水     无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去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来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130B-2E93-49F1-8882-41B0BFAE5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7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0" name="椭圆 1"/>
          <p:cNvSpPr/>
          <p:nvPr/>
        </p:nvSpPr>
        <p:spPr>
          <a:xfrm>
            <a:off x="1676520" y="1066680"/>
            <a:ext cx="121896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1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看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色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3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584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1547640" y="3357720"/>
            <a:ext cx="63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ūn  qù  huā  hái  zài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86" name="Text Box 5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听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声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 还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620720" y="563868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0018-0470-41FA-8177-8CCF8ADC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2" name="椭圆 1"/>
          <p:cNvSpPr/>
          <p:nvPr/>
        </p:nvSpPr>
        <p:spPr>
          <a:xfrm>
            <a:off x="1620720" y="1022400"/>
            <a:ext cx="121932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椭圆 2"/>
          <p:cNvSpPr/>
          <p:nvPr/>
        </p:nvSpPr>
        <p:spPr>
          <a:xfrm>
            <a:off x="1219320" y="914400"/>
            <a:ext cx="144756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tnpic044"/>
          <p:cNvPicPr/>
          <p:nvPr/>
        </p:nvPicPr>
        <p:blipFill>
          <a:blip r:embed="rId1"/>
          <a:stretch/>
        </p:blipFill>
        <p:spPr>
          <a:xfrm>
            <a:off x="7337520" y="4038480"/>
            <a:ext cx="1806480" cy="2286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hude"/>
          <p:cNvPicPr/>
          <p:nvPr/>
        </p:nvPicPr>
        <p:blipFill>
          <a:blip r:embed="rId2"/>
          <a:stretch/>
        </p:blipFill>
        <p:spPr>
          <a:xfrm>
            <a:off x="7391520" y="342900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3261600" y="148284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远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近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3261600" y="419112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来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去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3217320" y="289548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有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无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1037880" y="9032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小朋友你找对了吗？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0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4760-FDF9-4B00-B9B5-1F6289E89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2" name="矩形 26633"/>
          <p:cNvSpPr/>
          <p:nvPr/>
        </p:nvSpPr>
        <p:spPr>
          <a:xfrm>
            <a:off x="30492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米老鼠"/>
          <p:cNvPicPr/>
          <p:nvPr/>
        </p:nvPicPr>
        <p:blipFill>
          <a:blip r:embed="rId2"/>
          <a:stretch/>
        </p:blipFill>
        <p:spPr>
          <a:xfrm>
            <a:off x="0" y="0"/>
            <a:ext cx="2125800" cy="2274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3"/>
          <a:stretch/>
        </p:blipFill>
        <p:spPr>
          <a:xfrm>
            <a:off x="3240" y="5373720"/>
            <a:ext cx="9140760" cy="17002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"/>
          <p:cNvPicPr/>
          <p:nvPr/>
        </p:nvPicPr>
        <p:blipFill>
          <a:blip r:embed="rId4"/>
          <a:stretch/>
        </p:blipFill>
        <p:spPr>
          <a:xfrm rot="10800000">
            <a:off x="2880" y="0"/>
            <a:ext cx="9140760" cy="698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3124080" y="35568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说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446940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5837760" y="17305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446940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高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5890320" y="24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矮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4469400" y="3284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笑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5837760" y="3213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哭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4469400" y="4076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晚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5796000" y="4005360"/>
            <a:ext cx="72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早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5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9462-D9CE-4A82-986D-9CA942929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6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540400" y="330120"/>
            <a:ext cx="19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对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Idioms7"/>
          <p:cNvPicPr/>
          <p:nvPr/>
        </p:nvPicPr>
        <p:blipFill>
          <a:blip r:embed="rId1"/>
          <a:stretch/>
        </p:blipFill>
        <p:spPr>
          <a:xfrm>
            <a:off x="0" y="-393840"/>
            <a:ext cx="9144000" cy="72392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1825560" y="812880"/>
            <a:ext cx="482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远看山有色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近听水无声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春去花还在，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33"/>
                </a:solidFill>
                <a:latin typeface="Arial"/>
                <a:ea typeface="楷体_GB2312"/>
              </a:rPr>
              <a:t>人来鸟不惊。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E945-F813-4B1C-B3EA-42BDF8A18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矩形 1" descr=""/>
          <p:cNvPicPr/>
          <p:nvPr/>
        </p:nvPicPr>
        <p:blipFill>
          <a:blip r:embed="rId1"/>
          <a:stretch/>
        </p:blipFill>
        <p:spPr>
          <a:xfrm>
            <a:off x="685800" y="1962000"/>
            <a:ext cx="88390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7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9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DFCB-DA18-436B-8403-F734A2C0D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0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63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5C96-56A9-43B3-8A4F-94C311045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634" name="文本框 5" descr=""/>
          <p:cNvPicPr/>
          <p:nvPr/>
        </p:nvPicPr>
        <p:blipFill>
          <a:blip r:embed="rId3"/>
          <a:stretch/>
        </p:blipFill>
        <p:spPr>
          <a:xfrm>
            <a:off x="1233360" y="882720"/>
            <a:ext cx="4799160" cy="12240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1246320" y="2351160"/>
            <a:ext cx="49082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近听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</a:t>
            </a: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无声</a:t>
            </a:r>
            <a:endParaRPr b="1" lang="en-US" sz="7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9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6557-3E91-4357-A15F-91B44752B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320" y="771120"/>
            <a:ext cx="8991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想一想，如果从远处看山，山上的景色能看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果水从山上直往下流，从近处听，会有什么声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各种花过了开花的季节就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鸟停在树上，人来到鸟的前面，鸟就会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A112-85C6-4330-B2C1-2DC3DA4A0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7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514600" y="11430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3"/>
          <p:cNvSpPr/>
          <p:nvPr/>
        </p:nvSpPr>
        <p:spPr>
          <a:xfrm>
            <a:off x="2819520" y="4724280"/>
            <a:ext cx="40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春 去 花 还 在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3D45-D8DE-4D13-AB1D-5BDC8B5DD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pic017"/>
          <p:cNvPicPr/>
          <p:nvPr/>
        </p:nvPicPr>
        <p:blipFill>
          <a:blip r:embed="rId1"/>
          <a:stretch/>
        </p:blipFill>
        <p:spPr>
          <a:xfrm>
            <a:off x="380880" y="228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5"/>
          <p:cNvSpPr/>
          <p:nvPr/>
        </p:nvSpPr>
        <p:spPr>
          <a:xfrm>
            <a:off x="3021840" y="68580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议一议、读一读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2401200" y="298764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听，还是听不到水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2423520" y="39639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春天已经过去了，花还没谢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2292120" y="48769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人走近了，鸟没飞走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914400" y="2057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为什么山远看还能看得清楚颜色？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7E73-6D20-4C03-A1D8-0DD38C5C9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15"/>
          <p:cNvPicPr/>
          <p:nvPr/>
        </p:nvPicPr>
        <p:blipFill>
          <a:blip r:embed="rId1">
            <a:lum bright="18000"/>
          </a:blip>
          <a:srcRect l="0" t="0" r="0" b="55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4"/>
          <p:cNvSpPr/>
          <p:nvPr/>
        </p:nvSpPr>
        <p:spPr>
          <a:xfrm>
            <a:off x="2486160" y="1901880"/>
            <a:ext cx="51973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 来 鸟 不 惊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3172-6E0E-4E21-BD50-9ABC5FBDE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828800" y="1828800"/>
            <a:ext cx="670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远看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色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1828800" y="2895480"/>
            <a:ext cx="663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近听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水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无声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752480" y="4038480"/>
            <a:ext cx="663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春去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还在，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752480" y="5105520"/>
            <a:ext cx="678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人来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鸟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∕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不惊。</a:t>
            </a:r>
            <a:endParaRPr b="1" lang="en-US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2514600" y="3808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画</a:t>
            </a:r>
            <a:endParaRPr b="1" lang="en-US" sz="8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3DDC-861D-4BD2-A7BD-CDF9AFA1D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371600" y="1295280"/>
            <a:ext cx="7391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把生字在课文中找出来，作上记号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小组合作认读生字。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73" name="Picture 3" descr="合作之窗"/>
          <p:cNvPicPr/>
          <p:nvPr/>
        </p:nvPicPr>
        <p:blipFill>
          <a:blip r:embed="rId1"/>
          <a:stretch/>
        </p:blipFill>
        <p:spPr>
          <a:xfrm>
            <a:off x="3635280" y="4941720"/>
            <a:ext cx="3581640" cy="10670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152920" y="5943600"/>
            <a:ext cx="304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RW_004"/>
          <p:cNvPicPr/>
          <p:nvPr/>
        </p:nvPicPr>
        <p:blipFill>
          <a:blip r:embed="rId2"/>
          <a:stretch/>
        </p:blipFill>
        <p:spPr>
          <a:xfrm>
            <a:off x="304920" y="685800"/>
            <a:ext cx="1074600" cy="1074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" descr="line06"/>
          <p:cNvPicPr/>
          <p:nvPr/>
        </p:nvPicPr>
        <p:blipFill>
          <a:blip r:embed="rId3"/>
          <a:stretch/>
        </p:blipFill>
        <p:spPr>
          <a:xfrm flipH="1" rot="10800000">
            <a:off x="0" y="151920"/>
            <a:ext cx="9144000" cy="108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line06"/>
          <p:cNvPicPr/>
          <p:nvPr/>
        </p:nvPicPr>
        <p:blipFill>
          <a:blip r:embed="rId4"/>
          <a:stretch/>
        </p:blipFill>
        <p:spPr>
          <a:xfrm>
            <a:off x="0" y="333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line05"/>
          <p:cNvPicPr/>
          <p:nvPr/>
        </p:nvPicPr>
        <p:blipFill>
          <a:blip r:embed="rId5"/>
          <a:stretch/>
        </p:blipFill>
        <p:spPr>
          <a:xfrm>
            <a:off x="0" y="260280"/>
            <a:ext cx="9144000" cy="1526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line05"/>
          <p:cNvPicPr/>
          <p:nvPr/>
        </p:nvPicPr>
        <p:blipFill>
          <a:blip r:embed="rId6"/>
          <a:stretch/>
        </p:blipFill>
        <p:spPr>
          <a:xfrm>
            <a:off x="0" y="6453360"/>
            <a:ext cx="9144000" cy="228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line11"/>
          <p:cNvPicPr/>
          <p:nvPr/>
        </p:nvPicPr>
        <p:blipFill>
          <a:blip r:embed="rId7"/>
          <a:stretch/>
        </p:blipFill>
        <p:spPr>
          <a:xfrm>
            <a:off x="0" y="54936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line11"/>
          <p:cNvPicPr/>
          <p:nvPr/>
        </p:nvPicPr>
        <p:blipFill>
          <a:blip r:embed="rId8"/>
          <a:stretch/>
        </p:blipFill>
        <p:spPr>
          <a:xfrm flipH="1" rot="10800000">
            <a:off x="0" y="6308280"/>
            <a:ext cx="9144000" cy="71640"/>
          </a:xfrm>
          <a:prstGeom prst="rect">
            <a:avLst/>
          </a:prstGeom>
          <a:ln w="0">
            <a:noFill/>
          </a:ln>
        </p:spPr>
      </p:pic>
      <p:sp>
        <p:nvSpPr>
          <p:cNvPr id="482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7E8C-EDE7-4551-9DC0-952C8032A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3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Text Box 2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872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Text Box 3" descr=""/>
          <p:cNvPicPr/>
          <p:nvPr/>
        </p:nvPicPr>
        <p:blipFill>
          <a:blip r:embed="rId3"/>
          <a:stretch/>
        </p:blipFill>
        <p:spPr>
          <a:xfrm>
            <a:off x="1476360" y="1844640"/>
            <a:ext cx="676908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Text Box 4" descr=""/>
          <p:cNvPicPr/>
          <p:nvPr/>
        </p:nvPicPr>
        <p:blipFill>
          <a:blip r:embed="rId4"/>
          <a:stretch/>
        </p:blipFill>
        <p:spPr>
          <a:xfrm>
            <a:off x="1547640" y="3357720"/>
            <a:ext cx="6301080" cy="761760"/>
          </a:xfrm>
          <a:prstGeom prst="rect">
            <a:avLst/>
          </a:prstGeom>
          <a:ln w="0">
            <a:noFill/>
          </a:ln>
        </p:spPr>
      </p:pic>
      <p:pic>
        <p:nvPicPr>
          <p:cNvPr id="487" name="Text Box 5" descr=""/>
          <p:cNvPicPr/>
          <p:nvPr/>
        </p:nvPicPr>
        <p:blipFill>
          <a:blip r:embed="rId5"/>
          <a:stretch/>
        </p:blipFill>
        <p:spPr>
          <a:xfrm>
            <a:off x="1600200" y="4876920"/>
            <a:ext cx="61563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154764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山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有   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476360" y="26067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近   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水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619280" y="414972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花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 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在，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1763640" y="5661000"/>
            <a:ext cx="62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鸟     不    惊。</a:t>
            </a:r>
            <a:endParaRPr b="1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2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726B-6870-4FC7-90B4-E5FCF7F48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3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1981080" y="19810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971640" y="19162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684360" y="126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ū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050920" y="19162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050920" y="1268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ú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4085280" y="3286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拉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3132000" y="1916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3278520" y="131760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ì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572000" y="1916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140360" y="1341360"/>
            <a:ext cx="17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ē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5867280" y="396252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5943600" y="3581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è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900000" y="400536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684360" y="349092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yuǎ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1979640" y="4005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0" name="Text Box 18"/>
          <p:cNvSpPr/>
          <p:nvPr/>
        </p:nvSpPr>
        <p:spPr>
          <a:xfrm>
            <a:off x="1979640" y="35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1" name="Text Box 19"/>
          <p:cNvSpPr/>
          <p:nvPr/>
        </p:nvSpPr>
        <p:spPr>
          <a:xfrm>
            <a:off x="3132000" y="4005360"/>
            <a:ext cx="8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2" name="Text Box 20"/>
          <p:cNvSpPr/>
          <p:nvPr/>
        </p:nvSpPr>
        <p:spPr>
          <a:xfrm>
            <a:off x="3132000" y="357336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3" name="Text Box 21"/>
          <p:cNvSpPr/>
          <p:nvPr/>
        </p:nvSpPr>
        <p:spPr>
          <a:xfrm>
            <a:off x="420588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4" name="Text Box 22"/>
          <p:cNvSpPr/>
          <p:nvPr/>
        </p:nvSpPr>
        <p:spPr>
          <a:xfrm>
            <a:off x="3995640" y="3573360"/>
            <a:ext cx="10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é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5" name="Text Box 23"/>
          <p:cNvSpPr/>
          <p:nvPr/>
        </p:nvSpPr>
        <p:spPr>
          <a:xfrm>
            <a:off x="5142600" y="400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507672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ái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8672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8" name="Text Box 26"/>
          <p:cNvSpPr/>
          <p:nvPr/>
        </p:nvSpPr>
        <p:spPr>
          <a:xfrm>
            <a:off x="5791320" y="13716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īng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9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2849-B95B-413A-B451-DA29812B8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0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3"/>
          <p:cNvSpPr/>
          <p:nvPr/>
        </p:nvSpPr>
        <p:spPr>
          <a:xfrm>
            <a:off x="1981080" y="1981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914400" y="39625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春 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5105520" y="19810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2971800" y="1981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近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4008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声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1981080" y="198108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色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914400" y="19810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远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510552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惊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2057400" y="396252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还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311076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人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101120" y="3962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来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4038480" y="1981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听</a:t>
            </a:r>
            <a:endParaRPr b="1" lang="en-US" sz="5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4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2E42-4BDB-4158-82E5-095339829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6" name="矩形 20497"/>
          <p:cNvSpPr/>
          <p:nvPr/>
        </p:nvSpPr>
        <p:spPr>
          <a:xfrm>
            <a:off x="324000" y="4365720"/>
            <a:ext cx="4572000" cy="1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1" lang="en-US" sz="1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7D86-3BD4-4E81-B738-2238570C6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40" name="Picture 2" descr="daixian"/>
          <p:cNvPicPr/>
          <p:nvPr/>
        </p:nvPicPr>
        <p:blipFill>
          <a:blip r:embed="rId1"/>
          <a:stretch/>
        </p:blipFill>
        <p:spPr>
          <a:xfrm>
            <a:off x="306360" y="158760"/>
            <a:ext cx="4392720" cy="37274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春之恋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699080" y="158760"/>
            <a:ext cx="4419360" cy="69660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5" descr="timg"/>
          <p:cNvPicPr/>
          <p:nvPr/>
        </p:nvPicPr>
        <p:blipFill>
          <a:blip r:embed="rId3"/>
          <a:stretch/>
        </p:blipFill>
        <p:spPr>
          <a:xfrm>
            <a:off x="155520" y="3886200"/>
            <a:ext cx="4543560" cy="3238560"/>
          </a:xfrm>
          <a:prstGeom prst="rect">
            <a:avLst/>
          </a:prstGeom>
          <a:ln w="0">
            <a:noFill/>
          </a:ln>
        </p:spPr>
      </p:pic>
      <p:pic>
        <p:nvPicPr>
          <p:cNvPr id="543" name="文本框 6" descr=""/>
          <p:cNvPicPr/>
          <p:nvPr/>
        </p:nvPicPr>
        <p:blipFill>
          <a:blip r:embed="rId4"/>
          <a:stretch/>
        </p:blipFill>
        <p:spPr>
          <a:xfrm>
            <a:off x="1371600" y="380880"/>
            <a:ext cx="2541600" cy="1320840"/>
          </a:xfrm>
          <a:prstGeom prst="rect">
            <a:avLst/>
          </a:prstGeom>
          <a:ln w="0">
            <a:noFill/>
          </a:ln>
        </p:spPr>
      </p:pic>
      <p:pic>
        <p:nvPicPr>
          <p:cNvPr id="544" name="文本框 7" descr=""/>
          <p:cNvPicPr/>
          <p:nvPr/>
        </p:nvPicPr>
        <p:blipFill>
          <a:blip r:embed="rId5"/>
          <a:stretch/>
        </p:blipFill>
        <p:spPr>
          <a:xfrm>
            <a:off x="6062760" y="2781360"/>
            <a:ext cx="1904760" cy="1568520"/>
          </a:xfrm>
          <a:prstGeom prst="rect">
            <a:avLst/>
          </a:prstGeom>
          <a:ln w="0">
            <a:noFill/>
          </a:ln>
        </p:spPr>
      </p:pic>
      <p:pic>
        <p:nvPicPr>
          <p:cNvPr id="545" name="文本框 8" descr=""/>
          <p:cNvPicPr/>
          <p:nvPr/>
        </p:nvPicPr>
        <p:blipFill>
          <a:blip r:embed="rId6"/>
          <a:stretch/>
        </p:blipFill>
        <p:spPr>
          <a:xfrm>
            <a:off x="1171440" y="5299200"/>
            <a:ext cx="1905120" cy="1568160"/>
          </a:xfrm>
          <a:prstGeom prst="rect">
            <a:avLst/>
          </a:prstGeom>
          <a:ln w="0">
            <a:noFill/>
          </a:ln>
        </p:spPr>
      </p:pic>
      <p:pic>
        <p:nvPicPr>
          <p:cNvPr id="546" name="文本框 9" descr=""/>
          <p:cNvPicPr/>
          <p:nvPr/>
        </p:nvPicPr>
        <p:blipFill>
          <a:blip r:embed="rId7"/>
          <a:stretch/>
        </p:blipFill>
        <p:spPr>
          <a:xfrm>
            <a:off x="1371600" y="2417760"/>
            <a:ext cx="1905120" cy="1322280"/>
          </a:xfrm>
          <a:prstGeom prst="rect">
            <a:avLst/>
          </a:prstGeom>
          <a:ln w="0">
            <a:noFill/>
          </a:ln>
        </p:spPr>
      </p:pic>
      <p:pic>
        <p:nvPicPr>
          <p:cNvPr id="547" name="文本框 10" descr=""/>
          <p:cNvPicPr/>
          <p:nvPr/>
        </p:nvPicPr>
        <p:blipFill>
          <a:blip r:embed="rId8"/>
          <a:stretch/>
        </p:blipFill>
        <p:spPr>
          <a:xfrm>
            <a:off x="2919240" y="1574640"/>
            <a:ext cx="25416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daixian"/>
          <p:cNvPicPr/>
          <p:nvPr/>
        </p:nvPicPr>
        <p:blipFill>
          <a:blip r:embed="rId2"/>
          <a:stretch/>
        </p:blipFill>
        <p:spPr>
          <a:xfrm>
            <a:off x="-38160" y="-44280"/>
            <a:ext cx="9220320" cy="69465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1246320" y="1647720"/>
            <a:ext cx="156348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色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410B-511D-4E13-B496-22AFB8B9D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2" name="文本框 1"/>
          <p:cNvSpPr/>
          <p:nvPr/>
        </p:nvSpPr>
        <p:spPr>
          <a:xfrm>
            <a:off x="1246320" y="352440"/>
            <a:ext cx="394632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绿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青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色</a:t>
            </a:r>
            <a:endParaRPr b="1" lang="en-US" sz="4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3490920" y="1647720"/>
            <a:ext cx="15638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cc"/>
                </a:solidFill>
                <a:latin typeface="华文楷体"/>
                <a:ea typeface="华文楷体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爸</a:t>
            </a:r>
            <a:endParaRPr b="1" lang="en-US" sz="6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554" name="文本框 5" descr=""/>
          <p:cNvPicPr/>
          <p:nvPr/>
        </p:nvPicPr>
        <p:blipFill>
          <a:blip r:embed="rId3"/>
          <a:stretch/>
        </p:blipFill>
        <p:spPr>
          <a:xfrm>
            <a:off x="1233360" y="3324240"/>
            <a:ext cx="47991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图片 2" descr="U_]V(5`XR[DVKVL]L4[T52M"/>
          <p:cNvPicPr/>
          <p:nvPr/>
        </p:nvPicPr>
        <p:blipFill>
          <a:blip r:embed="rId1"/>
          <a:stretch/>
        </p:blipFill>
        <p:spPr>
          <a:xfrm>
            <a:off x="2925720" y="2844720"/>
            <a:ext cx="3465720" cy="3432240"/>
          </a:xfrm>
          <a:prstGeom prst="rect">
            <a:avLst/>
          </a:prstGeom>
          <a:ln w="0">
            <a:noFill/>
          </a:ln>
        </p:spPr>
      </p:pic>
      <p:sp>
        <p:nvSpPr>
          <p:cNvPr id="556" name="文本框 5"/>
          <p:cNvSpPr/>
          <p:nvPr/>
        </p:nvSpPr>
        <p:spPr>
          <a:xfrm>
            <a:off x="1209600" y="136440"/>
            <a:ext cx="17542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远</a:t>
            </a:r>
            <a:endParaRPr b="1" lang="en-US" sz="8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57" name="组合 9"/>
          <p:cNvGrpSpPr/>
          <p:nvPr/>
        </p:nvGrpSpPr>
        <p:grpSpPr>
          <a:xfrm>
            <a:off x="3781440" y="185760"/>
            <a:ext cx="1866960" cy="2651760"/>
            <a:chOff x="3781440" y="185760"/>
            <a:chExt cx="1866960" cy="2651760"/>
          </a:xfrm>
        </p:grpSpPr>
        <p:sp>
          <p:nvSpPr>
            <p:cNvPr id="558" name="文本框 3"/>
            <p:cNvSpPr/>
            <p:nvPr/>
          </p:nvSpPr>
          <p:spPr>
            <a:xfrm>
              <a:off x="3781440" y="185760"/>
              <a:ext cx="175284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近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59" name="文本框 7"/>
            <p:cNvSpPr/>
            <p:nvPr/>
          </p:nvSpPr>
          <p:spPr>
            <a:xfrm>
              <a:off x="3912840" y="1738080"/>
              <a:ext cx="1735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jìn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grpSp>
        <p:nvGrpSpPr>
          <p:cNvPr id="560" name="组合 10"/>
          <p:cNvGrpSpPr/>
          <p:nvPr/>
        </p:nvGrpSpPr>
        <p:grpSpPr>
          <a:xfrm>
            <a:off x="6303960" y="185760"/>
            <a:ext cx="1754280" cy="2689560"/>
            <a:chOff x="6303960" y="185760"/>
            <a:chExt cx="1754280" cy="2689560"/>
          </a:xfrm>
        </p:grpSpPr>
        <p:sp>
          <p:nvSpPr>
            <p:cNvPr id="561" name="文本框 4"/>
            <p:cNvSpPr/>
            <p:nvPr/>
          </p:nvSpPr>
          <p:spPr>
            <a:xfrm>
              <a:off x="6303960" y="185760"/>
              <a:ext cx="1754280" cy="1434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还</a:t>
              </a:r>
              <a:endParaRPr b="1" lang="en-US" sz="8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562" name="文本框 8"/>
            <p:cNvSpPr/>
            <p:nvPr/>
          </p:nvSpPr>
          <p:spPr>
            <a:xfrm>
              <a:off x="6312240" y="1775880"/>
              <a:ext cx="1737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h</a:t>
              </a:r>
              <a:r>
                <a:rPr b="1" lang="en-US" sz="6600" spc="-1" strike="noStrike">
                  <a:solidFill>
                    <a:srgbClr val="ff3300"/>
                  </a:solidFill>
                  <a:latin typeface="宋体"/>
                </a:rPr>
                <a:t>á</a:t>
              </a:r>
              <a:r>
                <a:rPr b="1" lang="en-US" sz="6600" spc="-1" strike="noStrike">
                  <a:solidFill>
                    <a:srgbClr val="ff3300"/>
                  </a:solidFill>
                  <a:latin typeface="Arial"/>
                </a:rPr>
                <a:t>i</a:t>
              </a:r>
              <a:endParaRPr b="1" lang="en-US" sz="66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1:52:56Z</dcterms:created>
  <dc:creator/>
  <dc:description/>
  <dc:language>en-US</dc:language>
  <cp:lastModifiedBy>noodee</cp:lastModifiedBy>
  <dcterms:modified xsi:type="dcterms:W3CDTF">2017-11-28T14:41:09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  <property fmtid="{D5CDD505-2E9C-101B-9397-08002B2CF9AE}" pid="3" name="Version">
    <vt:r8>1</vt:r8>
  </property>
</Properties>
</file>