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2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3.png" ContentType="image/png"/>
  <Override PartName="/ppt/media/image5.gif" ContentType="image/gif"/>
  <Override PartName="/ppt/media/image14.jpeg" ContentType="image/jpeg"/>
  <Override PartName="/ppt/media/image28.gif" ContentType="image/gif"/>
  <Override PartName="/ppt/media/image33.png" ContentType="image/png"/>
  <Override PartName="/ppt/media/image26.jpeg" ContentType="image/jpeg"/>
  <Override PartName="/ppt/media/image7.gif" ContentType="image/gif"/>
  <Override PartName="/ppt/media/image8.gif" ContentType="image/gif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4.jpeg" ContentType="image/jpeg"/>
  <Override PartName="/ppt/media/image4.gif" ContentType="image/gif"/>
  <Override PartName="/ppt/media/image27.gif" ContentType="image/gif"/>
  <Override PartName="/ppt/media/image12.png" ContentType="image/png"/>
  <Override PartName="/ppt/media/image23.jpeg" ContentType="image/jpe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6.gif" ContentType="image/gif"/>
  <Override PartName="/ppt/media/chimes.wav" ContentType="audio/x-wav"/>
  <Override PartName="/ppt/media/image16.jpeg" ContentType="image/jpeg"/>
  <Override PartName="/ppt/media/image15.jpeg" ContentType="image/jpeg"/>
  <Override PartName="/ppt/media/image17.jpeg" ContentType="image/jpeg"/>
  <Override PartName="/ppt/media/image18.png" ContentType="image/png"/>
  <Override PartName="/ppt/media/type.wav" ContentType="audio/x-wav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6D7-7FB6-4AEB-B42E-3DC1656E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E53-C35F-435C-B59D-0AD03FF5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EC37A-40AB-48D1-8827-4241FBBE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0141C-6CDC-4648-9BF9-6CAEADDF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06D78-C554-4566-AE6A-3BC01FA7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F8F05-4C54-4E97-BA27-CF53362F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B1E0E-1685-4563-9B8E-F72B1504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962CD-29AC-42D0-BB7B-593FF25E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81309-6C3A-4720-AFC5-18C7AB23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BCD7E-285D-4742-A1AC-2A09E8C4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7D886-B9D5-4EDC-A0E1-34DC3B8E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871A6-9832-484A-BFC4-83065679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73F-86BC-45FC-9596-D32E8CA1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E0BC9-B700-4B02-B83B-185F4B3D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AB487-252A-4E4B-8B69-948C0138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39100-D8FE-4423-8A5B-DA0EFBB6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A5342-6952-451E-831F-D33C7BD9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9193E-BA0B-4600-A8D7-1D0DB523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0A382-2E5D-46B4-8B9B-7DF2D6C3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B5C09-EF10-4279-B664-C1EDC58B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C033D-2F9D-4752-9C98-57A256D5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84154-1ECD-4916-8DF9-5A8533BE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FA9FD-ED0D-4220-925F-EB313D75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61F-3011-480B-B9C2-E2EDF1F7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8286C-9221-4CFC-9EC7-F149E9D2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5B165-8455-4FB2-BA54-A3A85D9B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B299A-E106-4DBC-A0D3-0D1E62AE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38DFC-3ED1-49BA-8384-288144CB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E7E52-D0D6-4A44-90E4-AAC80682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3DA4F-DC31-42FA-A1A8-70A1CFF2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5976F-6BAF-4BC9-8BAD-6813B64B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C2442-3E45-4791-B813-244B8FE0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6D75D-FE32-4D88-80DA-563A4379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173A0-81A2-4BE7-A634-1FF92056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4423-0B3F-4E6B-9CAC-D03C8C1F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A10FF-66A5-480A-B10C-761277FD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52603-52FD-42B2-9366-39C750BD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887D1-4ADA-4D6C-9D40-16055D6E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99BC-DCA3-4980-B324-DCB87F35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EC02-66D5-4D6B-8E89-12C0FDAD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ADBD-B5E8-4D82-BA4B-F73846C2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D073-37B8-4979-ACEB-B895CF52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F1FB-C2F2-4398-8AEB-81436C39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D570-DDE0-4D9B-ACCA-641AB78A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3D7-DD1B-4770-B07E-DCA2A812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461D-F960-4B9F-BD00-184EB5C1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9A94-F1F3-4742-A8E6-43EC7487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B73C-CF55-40CC-B455-3AA4209A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A4AE-FCBB-4971-B296-EC3BF3BB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0EDD-EA9B-4CA4-9B14-2A5B1242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B9BAC-A2B5-4412-8B5C-D86CE7D7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FF8F4-7A4F-432D-BD3F-F5174FB1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2698-DA6B-422F-A663-5666F50F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CA1E-6A30-4D21-99C7-2170813E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26ED-B876-447C-9DB7-94EE4B92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E64-DA8F-462E-95E2-5AA921D6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FE508-3352-4621-882B-DCC8D586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D628-6BB8-4C3C-A58A-37B37F34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DE13-9B1A-41C0-A312-4EAE0EAA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A669-3CC2-4863-B844-8D0A4C0A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115DB-5131-404F-B7AB-64F06E33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F993-7177-46B9-93E1-A59A8EAC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AD686-CC72-4EA7-88F9-AA63CE43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4F90D-1AF2-4A46-BDD2-E97568C8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982BF-5A7F-48FC-907C-EACB6B97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1EAFB-C46E-4FA5-AD23-81064396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C28-763B-4C90-9FB7-A66A4CB4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DB82-A83F-4C11-AB71-3397B7A8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CEDD-F622-4BEB-A4ED-FD9A00A8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48901-3277-435F-940A-F4409B21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F115B-D67D-439E-A72D-075F0827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17B9-FCDF-42BE-91DC-E79C3F74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A2FCF-E2F4-4A9A-BFEF-24381E22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88670-3834-4175-B59D-5FFE7A5E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8FF9F-11E4-4DD2-8402-653C2F3F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42D3-2238-4652-A3E8-3DA8D403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271EE-AAC1-4E50-B721-65D81ED3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98C-EEA8-49C2-B4FC-D95379E6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C63E2-FEC8-4721-8821-13A58E33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AB03A-5983-4F8B-84DB-4D9F56EC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E9AA4-1989-4979-B3DD-1DBCF79B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8D882-B2E1-48DA-A668-DBCC987A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DFD27-8E49-4EB0-B57A-88ADB736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00D3F-4934-4F5F-95E8-5F1CAE6B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8869B-773C-4410-B7B9-70CB1D85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B278A-A67E-46E4-9368-C7F8FAE5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00A50-BB0A-47F7-8A5A-5EE8A28D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B17F2-7540-459D-8BFF-2A11DFC3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C57-F2E6-4D71-AF42-4B0314F3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3D9D8-D209-47DF-AB9C-850C4877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6E0A7-3A1D-4AEB-92DB-011A9D3B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75B6D-689A-468C-91E5-B15E261F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4C1CD-56D3-4EA2-AEE7-0B324787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AC7C5-D0DD-4D8F-9253-8AED8AFE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CCADA-B795-4E19-8680-3D621425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EDD08-F8C2-46DC-A340-5EE05369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42BEE-DD71-4BD0-AD27-7CEC51C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22BD5-CD9C-47FE-BF07-01DD3C23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17CAA-585C-4444-ACB3-C48E8B1D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7DB-3BD2-4F15-AD62-7E91E985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1ED8F-0695-4369-B5AE-6E2F7B7C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7ACC3-9274-4156-8BB2-2AD7C9D5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6722A-DDAF-4AB3-AB60-171E1649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76DE3-C156-4AE6-B18A-8E2FE08A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2DD02-1C6E-4189-B70D-33F9227F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8011C-E8C0-4C52-B7B7-6D8F1E58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16AB0-AD02-4D5E-A921-2E252239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9724A-0343-4D70-AF8E-3C3383FF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4581E-1BAF-4DF9-BC56-565765E7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C9FE0-11C2-4327-8DCD-63E4E53B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4D0-B970-4201-A295-B96CBDC7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4ECD1-7313-4CC1-A382-DF6AECC0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DDFEB-198F-4BEE-BAD7-60911C85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1D5FB-582B-45CE-81DE-DF55D77D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25446-39FB-44C3-81B8-E0F3D8CF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7E810-8B6A-454C-AF5C-69985EAD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184B4-1A04-45C4-B79D-BD8314B9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D5AE2-DD78-4C54-8E1B-DB09C766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91DE0-A027-415A-A94F-E9E3A550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BD659-215C-445A-B282-8E2B2179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9C8E9-3E99-42B2-A99F-DBE9CEE1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290-B702-4235-A220-FAA03DA8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DB063-5588-4D55-AA2D-093F8E5B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137A3-B6C4-41E1-960A-A8B07C1D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B926D-6994-4EE2-9541-91E50CDD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C05E4-CA24-4044-87F3-7FFE1592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19302-1569-4EA6-84C1-9690687F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2618F-F5C1-4BFD-9748-7806E07E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40230-7003-4AB7-B7F5-B7EC78C3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C1213-BDE9-406B-8433-D8C9D17F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B0BD6-FB73-445A-A377-9F003D57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DB23D-2934-4560-B170-2A0A0B71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8475-CEA8-4B45-ACF3-985F129CB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E42D-A6EB-4CE8-BA02-9DA865AAE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159D-DEAA-4511-B259-D2A077195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A75B-6A2E-4287-A875-827A4390F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4ED4-259E-4226-B94A-0093E20E5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A4FC-145F-4F0A-AEF1-9C05BC8E0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FFA4-5BBB-41DF-8970-609558B22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6AD4-45E8-435F-A331-5897093AC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C33F-85B5-42D6-A384-7406C359C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F27A-4E68-4DBE-A0DE-E425F7AAC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B0F3-BF4C-419F-8DF4-058DD53C2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"/>
          <p:cNvSpPr/>
          <p:nvPr/>
        </p:nvSpPr>
        <p:spPr>
          <a:xfrm>
            <a:off x="457200" y="990720"/>
            <a:ext cx="3809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猜一猜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棵小树十个杈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长叶子不开花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写会算还会画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天干活不说话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410080" y="1143000"/>
            <a:ext cx="2819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落三秋叶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开二月花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过江千尺浪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入竹万竿斜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752480" y="44197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手）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6400800" y="44197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风）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B3FB-8848-4F6A-A85C-A47CEB1E0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daixian"/>
          <p:cNvPicPr/>
          <p:nvPr/>
        </p:nvPicPr>
        <p:blipFill>
          <a:blip r:embed="rId2"/>
          <a:stretch/>
        </p:blipFill>
        <p:spPr>
          <a:xfrm>
            <a:off x="-38160" y="-120600"/>
            <a:ext cx="9220320" cy="694836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1006560" y="476280"/>
            <a:ext cx="490860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近听</a:t>
            </a: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声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8F77-B556-4AA1-8F4B-F475A9FBE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67" name="组合 6"/>
          <p:cNvGrpSpPr/>
          <p:nvPr/>
        </p:nvGrpSpPr>
        <p:grpSpPr>
          <a:xfrm>
            <a:off x="2335320" y="2171880"/>
            <a:ext cx="1947600" cy="2325240"/>
            <a:chOff x="2335320" y="2171880"/>
            <a:chExt cx="1947600" cy="2325240"/>
          </a:xfrm>
        </p:grpSpPr>
        <p:sp>
          <p:nvSpPr>
            <p:cNvPr id="568" name="文本框 3"/>
            <p:cNvSpPr/>
            <p:nvPr/>
          </p:nvSpPr>
          <p:spPr>
            <a:xfrm>
              <a:off x="2358720" y="2940120"/>
              <a:ext cx="1901520" cy="155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声</a:t>
              </a:r>
              <a:endParaRPr b="1" lang="en-US" sz="9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9" name="文本框 4"/>
            <p:cNvSpPr/>
            <p:nvPr/>
          </p:nvSpPr>
          <p:spPr>
            <a:xfrm>
              <a:off x="2335320" y="2171880"/>
              <a:ext cx="194760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ēng</a:t>
              </a:r>
              <a:endParaRPr b="1" lang="en-US" sz="4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远      看     山     有   色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1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572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4"/>
          <p:cNvSpPr/>
          <p:nvPr/>
        </p:nvSpPr>
        <p:spPr>
          <a:xfrm>
            <a:off x="1547640" y="335772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ūn  qù  huā  hái  zài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4" name="Text Box 5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近   听     水     无     声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去   花     还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1620720" y="563868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来 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8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8E78-0410-44AC-B710-E68FCDE57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0" name="椭圆 1"/>
          <p:cNvSpPr/>
          <p:nvPr/>
        </p:nvSpPr>
        <p:spPr>
          <a:xfrm>
            <a:off x="1676520" y="1066680"/>
            <a:ext cx="121896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1" name="椭圆 2"/>
          <p:cNvSpPr/>
          <p:nvPr/>
        </p:nvSpPr>
        <p:spPr>
          <a:xfrm>
            <a:off x="1219320" y="91440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看     山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色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3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584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1547640" y="335772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ūn  qù  huā  hái  zài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6" name="Text Box 5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听     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声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花     还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1620720" y="563868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来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0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EA31-9BAB-4617-83B6-CA60AF94E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1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2" name="椭圆 1"/>
          <p:cNvSpPr/>
          <p:nvPr/>
        </p:nvSpPr>
        <p:spPr>
          <a:xfrm>
            <a:off x="1620720" y="1022400"/>
            <a:ext cx="121932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3" name="椭圆 2"/>
          <p:cNvSpPr/>
          <p:nvPr/>
        </p:nvSpPr>
        <p:spPr>
          <a:xfrm>
            <a:off x="1219320" y="91440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tnpic044"/>
          <p:cNvPicPr/>
          <p:nvPr/>
        </p:nvPicPr>
        <p:blipFill>
          <a:blip r:embed="rId1"/>
          <a:stretch/>
        </p:blipFill>
        <p:spPr>
          <a:xfrm>
            <a:off x="7337520" y="4038480"/>
            <a:ext cx="1806480" cy="2286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hude"/>
          <p:cNvPicPr/>
          <p:nvPr/>
        </p:nvPicPr>
        <p:blipFill>
          <a:blip r:embed="rId2"/>
          <a:stretch/>
        </p:blipFill>
        <p:spPr>
          <a:xfrm>
            <a:off x="7391520" y="342900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4"/>
          <p:cNvSpPr/>
          <p:nvPr/>
        </p:nvSpPr>
        <p:spPr>
          <a:xfrm>
            <a:off x="3261600" y="148284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远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近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3261600" y="419112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来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去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3217320" y="289548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有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无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1037880" y="9032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小朋友你找对了吗？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0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58A6-B759-4E61-9FFC-06AFBF398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2" name="矩形 26633"/>
          <p:cNvSpPr/>
          <p:nvPr/>
        </p:nvSpPr>
        <p:spPr>
          <a:xfrm>
            <a:off x="304920" y="4365720"/>
            <a:ext cx="457200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1" lang="en-US" sz="1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米老鼠"/>
          <p:cNvPicPr/>
          <p:nvPr/>
        </p:nvPicPr>
        <p:blipFill>
          <a:blip r:embed="rId2"/>
          <a:stretch/>
        </p:blipFill>
        <p:spPr>
          <a:xfrm>
            <a:off x="0" y="0"/>
            <a:ext cx="2125800" cy="2274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3"/>
          <a:stretch/>
        </p:blipFill>
        <p:spPr>
          <a:xfrm>
            <a:off x="3240" y="5373720"/>
            <a:ext cx="9140760" cy="1700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"/>
          <p:cNvPicPr/>
          <p:nvPr/>
        </p:nvPicPr>
        <p:blipFill>
          <a:blip r:embed="rId4"/>
          <a:stretch/>
        </p:blipFill>
        <p:spPr>
          <a:xfrm rot="10800000">
            <a:off x="2880" y="0"/>
            <a:ext cx="9140760" cy="6984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3124080" y="35568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说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469400" y="1730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白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5837760" y="1730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黑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446940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高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0" name="Text Box 13"/>
          <p:cNvSpPr/>
          <p:nvPr/>
        </p:nvSpPr>
        <p:spPr>
          <a:xfrm>
            <a:off x="589032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矮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4469400" y="3284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笑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2" name="Text Box 15"/>
          <p:cNvSpPr/>
          <p:nvPr/>
        </p:nvSpPr>
        <p:spPr>
          <a:xfrm>
            <a:off x="5837760" y="321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哭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4469400" y="4076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晚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5796000" y="4005360"/>
            <a:ext cx="72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早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5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946F-2B3F-4902-BFEB-5BF13BEE6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6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540400" y="33012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对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Idioms7"/>
          <p:cNvPicPr/>
          <p:nvPr/>
        </p:nvPicPr>
        <p:blipFill>
          <a:blip r:embed="rId1"/>
          <a:stretch/>
        </p:blipFill>
        <p:spPr>
          <a:xfrm>
            <a:off x="0" y="-393840"/>
            <a:ext cx="9144000" cy="723924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1825560" y="812880"/>
            <a:ext cx="482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远看山有色，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近听水无声。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春去花还在，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人来鸟不惊。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209C-6146-4E21-B14A-633B2322C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矩形 1" descr=""/>
          <p:cNvPicPr/>
          <p:nvPr/>
        </p:nvPicPr>
        <p:blipFill>
          <a:blip r:embed="rId1"/>
          <a:stretch/>
        </p:blipFill>
        <p:spPr>
          <a:xfrm>
            <a:off x="685800" y="1962000"/>
            <a:ext cx="8839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9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CFCD-8869-46A6-BBA5-A9EF6BFBF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0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daixian"/>
          <p:cNvPicPr/>
          <p:nvPr/>
        </p:nvPicPr>
        <p:blipFill>
          <a:blip r:embed="rId2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63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2986-E638-4196-96DE-4E52F9F56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634" name="文本框 5" descr=""/>
          <p:cNvPicPr/>
          <p:nvPr/>
        </p:nvPicPr>
        <p:blipFill>
          <a:blip r:embed="rId3"/>
          <a:stretch/>
        </p:blipFill>
        <p:spPr>
          <a:xfrm>
            <a:off x="1233360" y="882720"/>
            <a:ext cx="4799160" cy="12240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3"/>
          <p:cNvSpPr/>
          <p:nvPr/>
        </p:nvSpPr>
        <p:spPr>
          <a:xfrm>
            <a:off x="1246320" y="2351160"/>
            <a:ext cx="49082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近听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声</a:t>
            </a:r>
            <a:endParaRPr b="1" lang="en-US" sz="7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1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6A4F-C0D8-4F66-A289-1DD5B389B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320" y="771120"/>
            <a:ext cx="8991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想一想，如果从远处看山，山上的景色能看清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果水从山上直往下流，从近处听，会有什么声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各种花过了开花的季节就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鸟停在树上，人来到鸟的前面，鸟就会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FE58-5485-4309-9CF0-26CA515D7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春之恋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514600" y="1143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3"/>
          <p:cNvSpPr/>
          <p:nvPr/>
        </p:nvSpPr>
        <p:spPr>
          <a:xfrm>
            <a:off x="2819520" y="4724280"/>
            <a:ext cx="40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春 去 花 还 在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AD5A-005D-4C5C-B8F3-BDB601F3F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4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8BAB-4E0A-4CD2-8DE5-E907A9A9F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15"/>
          <p:cNvPicPr/>
          <p:nvPr/>
        </p:nvPicPr>
        <p:blipFill>
          <a:blip r:embed="rId1">
            <a:lum bright="18000"/>
          </a:blip>
          <a:srcRect l="0" t="0" r="0" b="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4"/>
          <p:cNvSpPr/>
          <p:nvPr/>
        </p:nvSpPr>
        <p:spPr>
          <a:xfrm>
            <a:off x="2486160" y="1901880"/>
            <a:ext cx="51973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 来 鸟 不 惊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D90E-71DE-4DCF-9725-8E5ABEF58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828800" y="1828800"/>
            <a:ext cx="670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远看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色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1828800" y="2895480"/>
            <a:ext cx="663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近听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无声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1752480" y="4038480"/>
            <a:ext cx="663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春去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还在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752480" y="5105520"/>
            <a:ext cx="678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人来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鸟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不惊。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25146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画</a:t>
            </a:r>
            <a:endParaRPr b="1" lang="en-US" sz="8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49B6-5C24-4A93-9C61-4BFC8CA27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371600" y="1295280"/>
            <a:ext cx="7391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把生字在课文中找出来，作上记号。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小组合作认读生字。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73" name="Picture 3" descr="合作之窗"/>
          <p:cNvPicPr/>
          <p:nvPr/>
        </p:nvPicPr>
        <p:blipFill>
          <a:blip r:embed="rId1"/>
          <a:stretch/>
        </p:blipFill>
        <p:spPr>
          <a:xfrm>
            <a:off x="3635280" y="4941720"/>
            <a:ext cx="3581640" cy="106704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152920" y="594360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5" descr="RW_004"/>
          <p:cNvPicPr/>
          <p:nvPr/>
        </p:nvPicPr>
        <p:blipFill>
          <a:blip r:embed="rId2"/>
          <a:stretch/>
        </p:blipFill>
        <p:spPr>
          <a:xfrm>
            <a:off x="304920" y="685800"/>
            <a:ext cx="1074600" cy="1074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line06"/>
          <p:cNvPicPr/>
          <p:nvPr/>
        </p:nvPicPr>
        <p:blipFill>
          <a:blip r:embed="rId3"/>
          <a:stretch/>
        </p:blipFill>
        <p:spPr>
          <a:xfrm flipH="1" rot="10800000">
            <a:off x="0" y="151920"/>
            <a:ext cx="9144000" cy="108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line06"/>
          <p:cNvPicPr/>
          <p:nvPr/>
        </p:nvPicPr>
        <p:blipFill>
          <a:blip r:embed="rId4"/>
          <a:stretch/>
        </p:blipFill>
        <p:spPr>
          <a:xfrm>
            <a:off x="0" y="333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line05"/>
          <p:cNvPicPr/>
          <p:nvPr/>
        </p:nvPicPr>
        <p:blipFill>
          <a:blip r:embed="rId5"/>
          <a:stretch/>
        </p:blipFill>
        <p:spPr>
          <a:xfrm>
            <a:off x="0" y="260280"/>
            <a:ext cx="9144000" cy="1526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line05"/>
          <p:cNvPicPr/>
          <p:nvPr/>
        </p:nvPicPr>
        <p:blipFill>
          <a:blip r:embed="rId6"/>
          <a:stretch/>
        </p:blipFill>
        <p:spPr>
          <a:xfrm>
            <a:off x="0" y="6453360"/>
            <a:ext cx="9144000" cy="228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line11"/>
          <p:cNvPicPr/>
          <p:nvPr/>
        </p:nvPicPr>
        <p:blipFill>
          <a:blip r:embed="rId7"/>
          <a:stretch/>
        </p:blipFill>
        <p:spPr>
          <a:xfrm>
            <a:off x="0" y="549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line11"/>
          <p:cNvPicPr/>
          <p:nvPr/>
        </p:nvPicPr>
        <p:blipFill>
          <a:blip r:embed="rId8"/>
          <a:stretch/>
        </p:blipFill>
        <p:spPr>
          <a:xfrm flipH="1" rot="10800000">
            <a:off x="0" y="6308280"/>
            <a:ext cx="9144000" cy="71640"/>
          </a:xfrm>
          <a:prstGeom prst="rect">
            <a:avLst/>
          </a:prstGeom>
          <a:ln w="0">
            <a:noFill/>
          </a:ln>
        </p:spPr>
      </p:pic>
      <p:sp>
        <p:nvSpPr>
          <p:cNvPr id="482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BCC3-DF57-4EA0-8B5E-8FBBA79DA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3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485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Text Box 4" descr=""/>
          <p:cNvPicPr/>
          <p:nvPr/>
        </p:nvPicPr>
        <p:blipFill>
          <a:blip r:embed="rId4"/>
          <a:stretch/>
        </p:blipFill>
        <p:spPr>
          <a:xfrm>
            <a:off x="1547640" y="3357720"/>
            <a:ext cx="6301080" cy="761760"/>
          </a:xfrm>
          <a:prstGeom prst="rect">
            <a:avLst/>
          </a:prstGeom>
          <a:ln w="0">
            <a:noFill/>
          </a:ln>
        </p:spPr>
      </p:pic>
      <p:pic>
        <p:nvPicPr>
          <p:cNvPr id="487" name="Text Box 5" descr=""/>
          <p:cNvPicPr/>
          <p:nvPr/>
        </p:nvPicPr>
        <p:blipFill>
          <a:blip r:embed="rId5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山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   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近   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花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 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1763640" y="566100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2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1183-F4BB-422F-9D8E-4CE7AD687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3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3"/>
          <p:cNvSpPr/>
          <p:nvPr/>
        </p:nvSpPr>
        <p:spPr>
          <a:xfrm>
            <a:off x="1981080" y="19810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971640" y="19162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 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684360" y="1268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ū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050920" y="19162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050920" y="1268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ú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4085280" y="3286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拉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3132000" y="1916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近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3278520" y="131760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ì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4572000" y="19162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声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140360" y="1341360"/>
            <a:ext cx="17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ē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5867280" y="396252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色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5943600" y="3581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è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900000" y="400536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远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684360" y="349092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uǎ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1979640" y="4005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惊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0" name="Text Box 18"/>
          <p:cNvSpPr/>
          <p:nvPr/>
        </p:nvSpPr>
        <p:spPr>
          <a:xfrm>
            <a:off x="1979640" y="3500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ī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1" name="Text Box 19"/>
          <p:cNvSpPr/>
          <p:nvPr/>
        </p:nvSpPr>
        <p:spPr>
          <a:xfrm>
            <a:off x="3132000" y="4005360"/>
            <a:ext cx="8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还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2" name="Text Box 20"/>
          <p:cNvSpPr/>
          <p:nvPr/>
        </p:nvSpPr>
        <p:spPr>
          <a:xfrm>
            <a:off x="3132000" y="357336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ái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3" name="Text Box 21"/>
          <p:cNvSpPr/>
          <p:nvPr/>
        </p:nvSpPr>
        <p:spPr>
          <a:xfrm>
            <a:off x="4205880" y="400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4" name="Text Box 22"/>
          <p:cNvSpPr/>
          <p:nvPr/>
        </p:nvSpPr>
        <p:spPr>
          <a:xfrm>
            <a:off x="3995640" y="3573360"/>
            <a:ext cx="10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é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5" name="Text Box 23"/>
          <p:cNvSpPr/>
          <p:nvPr/>
        </p:nvSpPr>
        <p:spPr>
          <a:xfrm>
            <a:off x="5142600" y="400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来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507672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ái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867280" y="1981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听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8" name="Text Box 26"/>
          <p:cNvSpPr/>
          <p:nvPr/>
        </p:nvSpPr>
        <p:spPr>
          <a:xfrm>
            <a:off x="5791320" y="1371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ī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9" name="灯片编号占位符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D9F1-FA1D-4BDB-8D51-F36B386EA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0" name="页脚占位符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3"/>
          <p:cNvSpPr/>
          <p:nvPr/>
        </p:nvSpPr>
        <p:spPr>
          <a:xfrm>
            <a:off x="1981080" y="1981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914400" y="39625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 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5105520" y="19810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2971800" y="1981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近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400800" y="19810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声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1981080" y="198108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色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914400" y="19810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远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510552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惊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2057400" y="3962520"/>
            <a:ext cx="8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还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311076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410112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来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4038480" y="1981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听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4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80C4-0BC8-406C-89B1-21042230C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6" name="矩形 20497"/>
          <p:cNvSpPr/>
          <p:nvPr/>
        </p:nvSpPr>
        <p:spPr>
          <a:xfrm>
            <a:off x="324000" y="4365720"/>
            <a:ext cx="457200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1" lang="en-US" sz="1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B654-A76E-4CDC-B187-CADF9C8DD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40" name="Picture 2" descr="daixian"/>
          <p:cNvPicPr/>
          <p:nvPr/>
        </p:nvPicPr>
        <p:blipFill>
          <a:blip r:embed="rId1"/>
          <a:stretch/>
        </p:blipFill>
        <p:spPr>
          <a:xfrm>
            <a:off x="306360" y="158760"/>
            <a:ext cx="4392720" cy="37274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春之恋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699080" y="158760"/>
            <a:ext cx="4419360" cy="69660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5" descr="timg"/>
          <p:cNvPicPr/>
          <p:nvPr/>
        </p:nvPicPr>
        <p:blipFill>
          <a:blip r:embed="rId3"/>
          <a:stretch/>
        </p:blipFill>
        <p:spPr>
          <a:xfrm>
            <a:off x="155520" y="3886200"/>
            <a:ext cx="4543560" cy="3238560"/>
          </a:xfrm>
          <a:prstGeom prst="rect">
            <a:avLst/>
          </a:prstGeom>
          <a:ln w="0">
            <a:noFill/>
          </a:ln>
        </p:spPr>
      </p:pic>
      <p:pic>
        <p:nvPicPr>
          <p:cNvPr id="543" name="文本框 6" descr=""/>
          <p:cNvPicPr/>
          <p:nvPr/>
        </p:nvPicPr>
        <p:blipFill>
          <a:blip r:embed="rId4"/>
          <a:stretch/>
        </p:blipFill>
        <p:spPr>
          <a:xfrm>
            <a:off x="1371600" y="380880"/>
            <a:ext cx="2541600" cy="1320840"/>
          </a:xfrm>
          <a:prstGeom prst="rect">
            <a:avLst/>
          </a:prstGeom>
          <a:ln w="0">
            <a:noFill/>
          </a:ln>
        </p:spPr>
      </p:pic>
      <p:pic>
        <p:nvPicPr>
          <p:cNvPr id="544" name="文本框 7" descr=""/>
          <p:cNvPicPr/>
          <p:nvPr/>
        </p:nvPicPr>
        <p:blipFill>
          <a:blip r:embed="rId5"/>
          <a:stretch/>
        </p:blipFill>
        <p:spPr>
          <a:xfrm>
            <a:off x="6062760" y="2781360"/>
            <a:ext cx="1904760" cy="1568520"/>
          </a:xfrm>
          <a:prstGeom prst="rect">
            <a:avLst/>
          </a:prstGeom>
          <a:ln w="0">
            <a:noFill/>
          </a:ln>
        </p:spPr>
      </p:pic>
      <p:pic>
        <p:nvPicPr>
          <p:cNvPr id="545" name="文本框 8" descr=""/>
          <p:cNvPicPr/>
          <p:nvPr/>
        </p:nvPicPr>
        <p:blipFill>
          <a:blip r:embed="rId6"/>
          <a:stretch/>
        </p:blipFill>
        <p:spPr>
          <a:xfrm>
            <a:off x="1171440" y="5299200"/>
            <a:ext cx="1905120" cy="1568160"/>
          </a:xfrm>
          <a:prstGeom prst="rect">
            <a:avLst/>
          </a:prstGeom>
          <a:ln w="0">
            <a:noFill/>
          </a:ln>
        </p:spPr>
      </p:pic>
      <p:pic>
        <p:nvPicPr>
          <p:cNvPr id="546" name="文本框 9" descr=""/>
          <p:cNvPicPr/>
          <p:nvPr/>
        </p:nvPicPr>
        <p:blipFill>
          <a:blip r:embed="rId7"/>
          <a:stretch/>
        </p:blipFill>
        <p:spPr>
          <a:xfrm>
            <a:off x="1371600" y="2417760"/>
            <a:ext cx="1905120" cy="1322280"/>
          </a:xfrm>
          <a:prstGeom prst="rect">
            <a:avLst/>
          </a:prstGeom>
          <a:ln w="0">
            <a:noFill/>
          </a:ln>
        </p:spPr>
      </p:pic>
      <p:pic>
        <p:nvPicPr>
          <p:cNvPr id="547" name="文本框 10" descr=""/>
          <p:cNvPicPr/>
          <p:nvPr/>
        </p:nvPicPr>
        <p:blipFill>
          <a:blip r:embed="rId8"/>
          <a:stretch/>
        </p:blipFill>
        <p:spPr>
          <a:xfrm>
            <a:off x="2919240" y="1574640"/>
            <a:ext cx="25416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daixian"/>
          <p:cNvPicPr/>
          <p:nvPr/>
        </p:nvPicPr>
        <p:blipFill>
          <a:blip r:embed="rId2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1246320" y="1647720"/>
            <a:ext cx="15634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色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4270-2F41-41BB-9E56-8C21E83EE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2" name="文本框 1"/>
          <p:cNvSpPr/>
          <p:nvPr/>
        </p:nvSpPr>
        <p:spPr>
          <a:xfrm>
            <a:off x="1246320" y="352440"/>
            <a:ext cx="39463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绿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色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青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色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3490920" y="1647720"/>
            <a:ext cx="15638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爸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54" name="文本框 5" descr=""/>
          <p:cNvPicPr/>
          <p:nvPr/>
        </p:nvPicPr>
        <p:blipFill>
          <a:blip r:embed="rId3"/>
          <a:stretch/>
        </p:blipFill>
        <p:spPr>
          <a:xfrm>
            <a:off x="1233360" y="3324240"/>
            <a:ext cx="47991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图片 2" descr="U_]V(5`XR[DVKVL]L4[T52M"/>
          <p:cNvPicPr/>
          <p:nvPr/>
        </p:nvPicPr>
        <p:blipFill>
          <a:blip r:embed="rId1"/>
          <a:stretch/>
        </p:blipFill>
        <p:spPr>
          <a:xfrm>
            <a:off x="2925720" y="2844720"/>
            <a:ext cx="3465720" cy="34322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1209600" y="136440"/>
            <a:ext cx="17542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远</a:t>
            </a:r>
            <a:endParaRPr b="1" lang="en-US" sz="8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57" name="组合 9"/>
          <p:cNvGrpSpPr/>
          <p:nvPr/>
        </p:nvGrpSpPr>
        <p:grpSpPr>
          <a:xfrm>
            <a:off x="3781440" y="185760"/>
            <a:ext cx="1866960" cy="2651760"/>
            <a:chOff x="3781440" y="185760"/>
            <a:chExt cx="1866960" cy="2651760"/>
          </a:xfrm>
        </p:grpSpPr>
        <p:sp>
          <p:nvSpPr>
            <p:cNvPr id="558" name="文本框 3"/>
            <p:cNvSpPr/>
            <p:nvPr/>
          </p:nvSpPr>
          <p:spPr>
            <a:xfrm>
              <a:off x="3781440" y="185760"/>
              <a:ext cx="1752840" cy="1434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近</a:t>
              </a:r>
              <a:endParaRPr b="1" lang="en-US" sz="8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59" name="文本框 7"/>
            <p:cNvSpPr/>
            <p:nvPr/>
          </p:nvSpPr>
          <p:spPr>
            <a:xfrm>
              <a:off x="3912840" y="1738080"/>
              <a:ext cx="1735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jìn</a:t>
              </a:r>
              <a:endParaRPr b="1" lang="en-US" sz="66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560" name="组合 10"/>
          <p:cNvGrpSpPr/>
          <p:nvPr/>
        </p:nvGrpSpPr>
        <p:grpSpPr>
          <a:xfrm>
            <a:off x="6303960" y="185760"/>
            <a:ext cx="1754280" cy="2689560"/>
            <a:chOff x="6303960" y="185760"/>
            <a:chExt cx="1754280" cy="2689560"/>
          </a:xfrm>
        </p:grpSpPr>
        <p:sp>
          <p:nvSpPr>
            <p:cNvPr id="561" name="文本框 4"/>
            <p:cNvSpPr/>
            <p:nvPr/>
          </p:nvSpPr>
          <p:spPr>
            <a:xfrm>
              <a:off x="6303960" y="185760"/>
              <a:ext cx="1754280" cy="1434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还</a:t>
              </a:r>
              <a:endParaRPr b="1" lang="en-US" sz="8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2" name="文本框 8"/>
            <p:cNvSpPr/>
            <p:nvPr/>
          </p:nvSpPr>
          <p:spPr>
            <a:xfrm>
              <a:off x="6312240" y="1775880"/>
              <a:ext cx="1737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h</a:t>
              </a:r>
              <a:r>
                <a:rPr b="1" lang="en-US" sz="6600" spc="-1" strike="noStrike">
                  <a:solidFill>
                    <a:srgbClr val="ff3300"/>
                  </a:solidFill>
                  <a:latin typeface="宋体"/>
                </a:rPr>
                <a:t>á</a:t>
              </a: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endParaRPr b="1" lang="en-US" sz="66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1:52:56Z</dcterms:created>
  <dc:creator/>
  <dc:description/>
  <dc:language>en-US</dc:language>
  <cp:lastModifiedBy>noodee</cp:lastModifiedBy>
  <dcterms:modified xsi:type="dcterms:W3CDTF">2017-11-28T14:41:09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  <property fmtid="{D5CDD505-2E9C-101B-9397-08002B2CF9AE}" pid="3" name="Version">
    <vt:r8>1</vt:r8>
  </property>
</Properties>
</file>