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6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A7A-1029-4D2D-9AE2-636E6750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C3B-BA34-41BF-A07D-8601E857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106-4315-4C98-AD80-BD6B1822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9B5-1F7C-4839-84E9-234E97CE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230-0FF4-4F9A-94D4-350BBB66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82F-4E2B-4F08-A63B-4D515EAD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F45-A8D6-4920-AF10-DBCCC690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D89-D45A-4758-8EB0-5C46B551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91B1-4F25-4A5F-9C76-EE373331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2D0-8B95-4AFA-AE35-619BF295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0D0-D7C9-439D-9B7E-B51BF6F5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A75-5AE1-4B85-B3CB-B39E1E36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绿色圃中小学教育网</a:t>
            </a: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http://www.lspj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A667-39D8-4817-AB28-4C72065CF156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endParaRPr b="0" lang="en-US" sz="1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d788d43f8794a4c2d34ccb0204f41bd5ad6e39af"/>
          <p:cNvPicPr/>
          <p:nvPr/>
        </p:nvPicPr>
        <p:blipFill>
          <a:blip r:embed="rId1"/>
          <a:stretch/>
        </p:blipFill>
        <p:spPr>
          <a:xfrm>
            <a:off x="15840" y="-23760"/>
            <a:ext cx="5284800" cy="3860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b58f8c5494eef01ff397efe8eafe9925bc317d18"/>
          <p:cNvPicPr/>
          <p:nvPr/>
        </p:nvPicPr>
        <p:blipFill>
          <a:blip r:embed="rId2"/>
          <a:stretch/>
        </p:blipFill>
        <p:spPr>
          <a:xfrm>
            <a:off x="4086360" y="588960"/>
            <a:ext cx="5097240" cy="4537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3"/>
          <a:stretch/>
        </p:blipFill>
        <p:spPr>
          <a:xfrm>
            <a:off x="374760" y="4081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"/>
          <p:cNvPicPr/>
          <p:nvPr/>
        </p:nvPicPr>
        <p:blipFill>
          <a:blip r:embed="rId3"/>
          <a:stretch/>
        </p:blipFill>
        <p:spPr>
          <a:xfrm>
            <a:off x="334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96" name="矩形 11"/>
          <p:cNvSpPr/>
          <p:nvPr/>
        </p:nvSpPr>
        <p:spPr>
          <a:xfrm>
            <a:off x="612720" y="3860640"/>
            <a:ext cx="2211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5043600" y="2046240"/>
            <a:ext cx="221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枣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314440" y="4444920"/>
            <a:ext cx="22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2651040" y="4476600"/>
            <a:ext cx="22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3205080" y="2046240"/>
            <a:ext cx="22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k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timg (24)"/>
          <p:cNvPicPr/>
          <p:nvPr/>
        </p:nvPicPr>
        <p:blipFill>
          <a:blip r:embed="rId1"/>
          <a:stretch/>
        </p:blipFill>
        <p:spPr>
          <a:xfrm>
            <a:off x="17640" y="-15840"/>
            <a:ext cx="5383080" cy="3579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timg (26)"/>
          <p:cNvPicPr/>
          <p:nvPr/>
        </p:nvPicPr>
        <p:blipFill>
          <a:blip r:embed="rId2"/>
          <a:stretch/>
        </p:blipFill>
        <p:spPr>
          <a:xfrm rot="5400000">
            <a:off x="3462840" y="1065600"/>
            <a:ext cx="6813720" cy="4646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timg (25)"/>
          <p:cNvPicPr/>
          <p:nvPr/>
        </p:nvPicPr>
        <p:blipFill>
          <a:blip r:embed="rId3"/>
          <a:stretch/>
        </p:blipFill>
        <p:spPr>
          <a:xfrm>
            <a:off x="-71280" y="3565440"/>
            <a:ext cx="5562360" cy="323208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3" descr=""/>
          <p:cNvPicPr/>
          <p:nvPr/>
        </p:nvPicPr>
        <p:blipFill>
          <a:blip r:embed="rId4"/>
          <a:stretch/>
        </p:blipFill>
        <p:spPr>
          <a:xfrm>
            <a:off x="635040" y="2119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tretch/>
        </p:blipFill>
        <p:spPr>
          <a:xfrm>
            <a:off x="307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1"/>
          <p:cNvSpPr/>
          <p:nvPr/>
        </p:nvSpPr>
        <p:spPr>
          <a:xfrm>
            <a:off x="447840" y="3860640"/>
            <a:ext cx="561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苹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颗枣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866960" y="3675240"/>
            <a:ext cx="94932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4707000" y="3675240"/>
            <a:ext cx="95076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187280" y="4581360"/>
            <a:ext cx="1611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杏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子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5654520" y="4581360"/>
            <a:ext cx="16113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桃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719520" y="3686040"/>
            <a:ext cx="17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木字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860400" y="4392720"/>
            <a:ext cx="727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边（   ），一边（  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（    ）杏子  一个桃。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590920" y="395604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"/>
          <p:cNvSpPr/>
          <p:nvPr/>
        </p:nvSpPr>
        <p:spPr>
          <a:xfrm>
            <a:off x="6442200" y="405612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2152800" y="5038560"/>
            <a:ext cx="168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一堆（             ）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timg (32)"/>
          <p:cNvPicPr/>
          <p:nvPr/>
        </p:nvPicPr>
        <p:blipFill>
          <a:blip r:embed="rId1"/>
          <a:stretch/>
        </p:blipFill>
        <p:spPr>
          <a:xfrm>
            <a:off x="628560" y="3057480"/>
            <a:ext cx="467856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timg (33)"/>
          <p:cNvPicPr/>
          <p:nvPr/>
        </p:nvPicPr>
        <p:blipFill>
          <a:blip r:embed="rId2"/>
          <a:stretch/>
        </p:blipFill>
        <p:spPr>
          <a:xfrm>
            <a:off x="5178600" y="1270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timg (35)"/>
          <p:cNvPicPr/>
          <p:nvPr/>
        </p:nvPicPr>
        <p:blipFill>
          <a:blip r:embed="rId3"/>
          <a:stretch/>
        </p:blipFill>
        <p:spPr>
          <a:xfrm>
            <a:off x="98280" y="55440"/>
            <a:ext cx="3600720" cy="2678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timg (34)"/>
          <p:cNvPicPr/>
          <p:nvPr/>
        </p:nvPicPr>
        <p:blipFill>
          <a:blip r:embed="rId4"/>
          <a:stretch/>
        </p:blipFill>
        <p:spPr>
          <a:xfrm>
            <a:off x="5472000" y="2660760"/>
            <a:ext cx="3516480" cy="411624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7" descr=""/>
          <p:cNvPicPr/>
          <p:nvPr/>
        </p:nvPicPr>
        <p:blipFill>
          <a:blip r:embed="rId5"/>
          <a:stretch/>
        </p:blipFill>
        <p:spPr>
          <a:xfrm>
            <a:off x="318960" y="2654280"/>
            <a:ext cx="53755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37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   </a:t>
            </a:r>
            <a:r>
              <a:rPr b="0" lang="zh-CN" sz="29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大，一个小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只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大，一个小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颗枣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边多，一边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杏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桃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900000" y="907920"/>
            <a:ext cx="2808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谁背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604600" y="439560"/>
            <a:ext cx="24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264720" y="439560"/>
            <a:ext cx="100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6080" y="2007720"/>
            <a:ext cx="23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4120" y="3938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7563240" y="200196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1200" y="5131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413240" y="2007720"/>
            <a:ext cx="249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内容占位符 3" descr="73D58PICsUA_1024"/>
          <p:cNvPicPr/>
          <p:nvPr/>
        </p:nvPicPr>
        <p:blipFill>
          <a:blip r:embed="rId1"/>
          <a:stretch/>
        </p:blipFill>
        <p:spPr>
          <a:xfrm>
            <a:off x="123840" y="246240"/>
            <a:ext cx="4502160" cy="5981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92"/>
          <p:cNvPicPr/>
          <p:nvPr/>
        </p:nvPicPr>
        <p:blipFill>
          <a:blip r:embed="rId2"/>
          <a:stretch/>
        </p:blipFill>
        <p:spPr>
          <a:xfrm>
            <a:off x="5118120" y="3254400"/>
            <a:ext cx="398448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2016071456923112"/>
          <p:cNvPicPr/>
          <p:nvPr/>
        </p:nvPicPr>
        <p:blipFill>
          <a:blip r:embed="rId3"/>
          <a:stretch/>
        </p:blipFill>
        <p:spPr>
          <a:xfrm>
            <a:off x="4960800" y="88920"/>
            <a:ext cx="414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441520" y="439560"/>
            <a:ext cx="30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huáng 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54120" y="439560"/>
            <a:ext cx="16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mā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00800" y="2084040"/>
            <a:ext cx="325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qún  yā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4120" y="3471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píng guǒ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kē     z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7414200" y="2001960"/>
            <a:ext cx="14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5040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ī   xìng      táo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249800" y="2084040"/>
            <a:ext cx="28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ō s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3718080" y="355680"/>
            <a:ext cx="273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7508880" y="1812960"/>
            <a:ext cx="19731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宋体"/>
              </a:rPr>
              <a:t>mā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1949400" y="12319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5751360" y="2874960"/>
            <a:ext cx="273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185760" y="11145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4197240" y="28749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timg (29)"/>
          <p:cNvPicPr/>
          <p:nvPr/>
        </p:nvPicPr>
        <p:blipFill>
          <a:blip r:embed="rId1"/>
          <a:stretch/>
        </p:blipFill>
        <p:spPr>
          <a:xfrm>
            <a:off x="3930480" y="63360"/>
            <a:ext cx="50817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2"/>
          <a:stretch/>
        </p:blipFill>
        <p:spPr>
          <a:xfrm>
            <a:off x="-77760" y="55440"/>
            <a:ext cx="3983040" cy="2705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timg (27)"/>
          <p:cNvPicPr/>
          <p:nvPr/>
        </p:nvPicPr>
        <p:blipFill>
          <a:blip r:embed="rId3"/>
          <a:stretch/>
        </p:blipFill>
        <p:spPr>
          <a:xfrm>
            <a:off x="130320" y="3675240"/>
            <a:ext cx="380016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" descr="timg (28)"/>
          <p:cNvPicPr/>
          <p:nvPr/>
        </p:nvPicPr>
        <p:blipFill>
          <a:blip r:embed="rId4"/>
          <a:stretch/>
        </p:blipFill>
        <p:spPr>
          <a:xfrm>
            <a:off x="3930480" y="3641760"/>
            <a:ext cx="50515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内容占位符 3" descr="timg (30)"/>
          <p:cNvPicPr/>
          <p:nvPr/>
        </p:nvPicPr>
        <p:blipFill>
          <a:blip r:embed="rId1"/>
          <a:stretch/>
        </p:blipFill>
        <p:spPr>
          <a:xfrm>
            <a:off x="-42840" y="-36360"/>
            <a:ext cx="6716520" cy="4351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timg (31)"/>
          <p:cNvPicPr/>
          <p:nvPr/>
        </p:nvPicPr>
        <p:blipFill>
          <a:blip r:embed="rId2"/>
          <a:stretch/>
        </p:blipFill>
        <p:spPr>
          <a:xfrm>
            <a:off x="3122640" y="3279600"/>
            <a:ext cx="603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6"/>
          <p:cNvSpPr/>
          <p:nvPr/>
        </p:nvSpPr>
        <p:spPr>
          <a:xfrm>
            <a:off x="3122640" y="630360"/>
            <a:ext cx="564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大，一个小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黄牛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猫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54000" y="220500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"/>
          <p:cNvSpPr/>
          <p:nvPr/>
        </p:nvSpPr>
        <p:spPr>
          <a:xfrm>
            <a:off x="955800" y="237960"/>
            <a:ext cx="280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y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5599080" y="811080"/>
            <a:ext cx="28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955800" y="4992840"/>
            <a:ext cx="25272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5737320" y="4884840"/>
            <a:ext cx="2525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5462640" y="2205000"/>
            <a:ext cx="27986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zh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819000" y="2205000"/>
            <a:ext cx="28004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ú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2080" y="58716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群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一只鸟</a:t>
            </a:r>
            <a:r>
              <a:rPr b="0" lang="zh-CN" sz="49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000"/>
            </a:b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20520" y="225252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08:23:24Z</dcterms:created>
  <dc:creator/>
  <dc:description/>
  <dc:language>en-US</dc:language>
  <cp:lastModifiedBy>noodee</cp:lastModifiedBy>
  <dcterms:modified xsi:type="dcterms:W3CDTF">2017-12-04T14:36:18Z</dcterms:modified>
  <cp:revision>19</cp:revision>
  <dc:subject/>
  <dc:title>大小多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