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type.wav" ContentType="audio/x-wav"/>
  <Override PartName="/ppt/media/image18.png" ContentType="image/png"/>
  <Override PartName="/ppt/media/image25.gif" ContentType="image/gif"/>
  <Override PartName="/ppt/media/image26.jpeg" ContentType="image/jpeg"/>
  <Override PartName="/ppt/media/projctor.wav" ContentType="audio/x-wav"/>
  <Override PartName="/ppt/media/image22.png" ContentType="image/png"/>
  <Override PartName="/ppt/media/image2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arrow.wav" ContentType="audio/x-wav"/>
  <Override PartName="/ppt/media/image23.png" ContentType="image/png"/>
  <Override PartName="/ppt/media/image32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gif" ContentType="image/gif"/>
  <Override PartName="/ppt/media/image33.jpeg" ContentType="image/jpeg"/>
  <Override PartName="/ppt/media/image27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19.wmf" ContentType="image/x-wmf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A29-B853-42EB-A8F8-F56DB0BD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9FB-FD49-4C98-B9FD-ABE5BAF6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86DB7-B82D-480F-B15D-BF2B583A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20D8E-4E2E-493E-AA49-9099A209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8EA64-EB36-4BA0-B905-A9652D93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8497A-1D95-48C0-87BD-C6F3F6FE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073B7-00EB-4025-9D58-A0ED2A61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93AFA-4785-4E2D-8658-C9ECA7E0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FA273-83D0-4916-8812-2BD81D08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49A74-CD42-411F-AF2B-F6A90A05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2591E-6C91-4F38-866D-07E44F30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A5F29-39A2-4835-88A4-FA1F166C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BC1-2407-4261-A48F-B95BDFF5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69D1D-4E90-40D1-B988-C8B851D5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D5621-B68E-49E2-A8F1-24FB9FB1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C2781-94CB-42ED-945B-53B007EE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25E35-04B9-4F7A-8E65-5A1A76A0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EBFD8-1C8B-4426-A2EC-92DE87A2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2C630-5E91-423E-B146-6D6DB176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535E0-4145-49F4-AA6B-10013A3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43BF9-308C-42F3-A0E6-AE749069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18EB1-E45F-4E57-A2B6-F20CC1A8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6E6BF-F855-4AD8-8B5E-86BDB4CF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822-302F-4B9B-BC6D-6162034A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ED28E-5144-4477-A316-AA8D17D0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E9335-F892-48F7-9F36-7DF25D9A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74ACC-4325-4E13-B050-0196F5AA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16EFE-4060-4464-B449-ED11C222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9FD55-4495-411A-8A23-08BF2B27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7EFAE-7063-4AE1-A323-E3C7411E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BC0B0-AA63-42C3-B7B8-B4C6C658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99FA1-356C-458F-9ED0-9DBAEE9F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16CF4-61B2-469E-B031-659DBFC3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B4CC1-E74E-4600-9C8A-86954CBA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36DE-9FFF-4241-9B64-604D1FD8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02FA6-3178-433D-A23F-1F8B6F9B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C7434-5572-4122-B99E-4DCA247D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21183-7C28-4ABB-84C2-44045EE1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777D4-AD02-4A2C-BE20-2DB694D7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E73FF-4276-419B-B2D9-657606E4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3BFD7-FF3A-489F-9928-F91324F8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D6DF0-455C-4E6E-8327-82D9A33E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6DBC3-B219-4CD5-AF45-75399B4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1AC46-2A44-4DD2-8165-D48F4EB3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3B852-DBEE-43F0-B571-5D41AC4C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864A-9E33-4D83-B6EA-BAB3D8E5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EA668-14CB-40D6-944F-46734EBC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07F07-98F5-421D-9F54-4B614881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866C9-C65E-4264-9142-287CA247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E4D21-9F69-471B-96F2-1ED994EB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5D0CB-A7E5-4046-BAB9-EC5831FF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A3BBEE-003A-4FE0-961B-B0E2E71D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B29910-2F26-43F5-8CD1-ACE60064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1B6D12-3E33-42DB-909E-307D2015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272996-1762-4F65-BDE2-DF1B04B3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2F0BF8-142E-4FE0-9BEF-9A8E6B3F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67BA-6C24-4E90-9349-70B8888C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0A6D73-4A4F-41B1-AE7B-F7610A93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AD917E-89E9-49BC-8C00-58569020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05B0E9-3F5A-450D-AD98-150BB8D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DC201D-929E-4A23-B0A8-CD26F727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0A2FEA-B243-4A12-826B-371ADBF0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CB1660-02EE-4905-B162-A2869580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BC3189-A77B-405B-A79D-E1BB3B36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C98C-C0F7-4403-A0E3-02CB94E1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5B09-84A6-445B-9DC1-E8AA025A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46F3-EE04-4D92-A380-B802D85B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2734-FE2A-40F0-B798-1549F88B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D62-A3C8-4B06-8A44-F6D30693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458B-F8BD-4CC3-85F3-83B786AA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16FE-9112-4BEF-B98B-890852F6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3BB8-0BAA-45D6-9B1C-D26F1025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472C-1671-4E8C-B430-EF197D8B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1BB7-FD28-46D3-88FB-0A3C949F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A0AC-4AB5-4C7D-8E0B-4463CD98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85A0-6A5D-4D3D-8076-C8F5C79F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2F66-B3B6-4951-B99F-558862F0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5BBB-EBB9-4F35-A95C-43F2B2FA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C3F68-54A4-42F8-9BA4-9715AB32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6EC-7C8C-47C2-81DF-3A903FFD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3E76-8DF3-4588-A8F1-9F41E18A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EDAF4-0078-4C3A-990E-230C8ED4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7EB29-F439-4327-9A67-6FCCE175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E7BF-3FDF-4A61-9CDC-56BC73BA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95F6-9746-49AA-91DC-339CD149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5BE2C-8F5D-48AF-808E-B63A45B5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4053-C069-4870-939B-3781181C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E6FD9-2576-4A3E-8E8A-DA2AD087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CB74F-F613-43FD-8A93-872A9AC3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2837B-4979-4310-83A7-25493213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BDB0-F4D5-4E69-9CB5-3849B665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D115-D4E4-42FB-9C80-E37932A8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82952-99C9-468F-953C-B5258588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CFEDF-D215-4EF6-A48F-9B591A7A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5C25-DDF8-45C3-ABA0-16428DF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FE4E1-48CE-4B10-B898-05B3F351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B1CA4-32E3-4F1E-870A-04E67141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9608-5C98-4CF5-B1F2-87D27BC1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4881D-633C-4970-ACE5-FEF4E2CB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5BA9B-FD67-4E95-BB2C-608A83C3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0B6DF-5298-4911-8EAF-A942E86D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A12-5FCA-4C82-92A8-D858A98C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1A147-E6D3-4966-878A-54F71B9C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317E9-2E20-4ED8-B6E5-CDF84275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5F708-A8B3-4A84-9B34-E9215A72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1646B-9F8F-46AF-9873-3B8AE0F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15A7D-E325-4B71-9316-A7D8450F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0F63F-C2B0-4036-B556-BEAEC957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81873-0A30-4054-9E9F-CCD9C044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F31C8-C754-4B07-A115-EEE31606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8F043-D616-4756-9BC9-07503FA1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1C78C-0931-4877-9538-17813725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DA2-4CE9-4BC6-A953-46187CB9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8749-DC06-456D-BF1A-535DD1A5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B5D63-2411-4D06-A0E3-E097009B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5C303-4C67-43AF-906D-E9E9D6C9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56FAB-F57B-4B0C-AE5B-445C5C92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D961B-9209-4FDB-8C08-96D7432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D2494-1BDB-421F-B68D-27DD4D0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34EE7-3E38-4416-BFC4-88DCC875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11585-0DA8-4842-BD83-6B0D5174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88F50-671D-459E-88DB-E6808984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E43C4-A240-4BE0-A15A-2B5FE356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F7E-E0D0-44D7-B6BC-80F0730F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A9943-4B00-440D-A5FF-00DD3682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3BAFC-F391-4ADD-A077-E1F0367F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0D4EB-4C92-4829-B09D-81E8AA3B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492C6-8D68-48DC-8F40-F062A2AA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FC8D1-98F1-47B0-AA07-95AC041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936C0-6E0E-4B66-A59F-C96A83C8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CDDF4-C4DA-4025-8630-9EE9AC74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D2B66-FC9D-419B-855E-E65AF346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F8453-D1AA-40E1-A000-7743DB20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B9B72-A123-4A3A-9B87-56E4E302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907-7600-4D88-B28E-BFE598B2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A4A5B-BD3B-4895-AAE5-5290909E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4C36F-8644-4809-A042-0C9D6B02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5ACA9-CADB-453B-828C-3E661A3E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AA7A3-1E2C-48A0-9C5B-B91F5446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6CB05-4916-4D49-844F-BACE2D9B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9F0C8-3149-46ED-969D-A399B7A4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972B4-D29F-4C54-B1AC-7F4E226A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52FB3-889E-479B-B313-BA1B8612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FC82B-8CD0-4CC7-8031-9A0D93D0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84988-DFC7-4381-97FF-2C34E7E2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890-F36A-4949-9BF8-12DDD273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FF2D3-087A-4567-AAD5-E23A9745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8E2D3-C8CB-4AEC-AC27-99DD44BC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6F3F3-AC2D-4D18-9054-0D0EFC84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BF862-0689-4D4A-B799-1E8355FA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EBF0F-93E8-4ACC-8BC4-816DD01B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FA0FC-4720-4F95-82C6-FFD79B95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BDA6A-30AE-47A3-8BBB-E5CB556E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C4DA1-86CE-4A41-84F1-E854FE8C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DE29E-7825-4E33-B57E-C49F5476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12D34-E249-47C4-BBB3-3C814805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B646-D682-4A85-B8F6-5D8738BE73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B70A-EB51-4AA5-B819-DF04FA4EB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2CEB-BBF6-4854-B1CE-814F779F0E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58A0-AC90-4409-B4B2-8B34D1272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4151-4162-4FA5-882A-5322F7AD4B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750B-C4ED-4A27-8422-BAB7471EC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9B32-6DA6-4F6B-A1C4-1B9ABCA56E7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6254-EB58-48D2-89E9-EB7E2426C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1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C864-5B3F-46A9-AF87-DB938ECA076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7F33-6CE3-443B-A864-B78B5902F7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7599-373F-4944-B727-6B708A6C7600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158A-90E2-4A12-B703-5E874C7307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0B0C-B72A-4A9C-859C-CD366B0796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E85-E1CA-4B68-8251-A2DE11813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353D-B849-4346-A685-20AE335CA6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C60F-09A1-48C9-ADEF-7B1932BF1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6B42-AD27-4FF8-A792-9F846802A9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80AD-FBAA-4FB6-92DC-75A408A1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5396-6736-4060-97DD-295AFAFB74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E0CC-31C2-4337-B739-6129C7523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5892-3531-4D3A-8A8F-9BBD746926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A0CB-C236-4404-835C-B01D2D37A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C352-B26D-4DB3-8C2C-2C203EE94C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1137-9A43-4665-8E6D-C99AB6058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071C-328C-45C4-BBDC-2DE2181705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D91F-D7FE-4FB5-B399-632B7286D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jpeg"/><Relationship Id="rId6" Type="http://schemas.openxmlformats.org/officeDocument/2006/relationships/slide" Target="slide12.xml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" Target="slide13.xml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5.jpeg"/><Relationship Id="rId14" Type="http://schemas.openxmlformats.org/officeDocument/2006/relationships/slide" Target="slide13.xml"/><Relationship Id="rId15" Type="http://schemas.openxmlformats.org/officeDocument/2006/relationships/image" Target="../media/image16.jpeg"/><Relationship Id="rId16" Type="http://schemas.openxmlformats.org/officeDocument/2006/relationships/slide" Target="slide15.xml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slide" Target="slide9.xml"/><Relationship Id="rId20" Type="http://schemas.openxmlformats.org/officeDocument/2006/relationships/image" Target="../media/image19.wmf"/><Relationship Id="rId21" Type="http://schemas.openxmlformats.org/officeDocument/2006/relationships/slide" Target="slide11.xml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image" Target="../media/image22.png"/><Relationship Id="rId25" Type="http://schemas.openxmlformats.org/officeDocument/2006/relationships/slide" Target="slide14.xml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slide" Target="slide16.xml"/><Relationship Id="rId3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slide" Target="slide9.xml"/><Relationship Id="rId6" Type="http://schemas.openxmlformats.org/officeDocument/2006/relationships/image" Target="../media/image19.wmf"/><Relationship Id="rId7" Type="http://schemas.openxmlformats.org/officeDocument/2006/relationships/image" Target="../media/image25.gif"/><Relationship Id="rId8" Type="http://schemas.openxmlformats.org/officeDocument/2006/relationships/slide" Target="slide8.xml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9002-76E8-4D26-A253-C946D0217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huangtaiyang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7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矩形 1434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9584E-006 C 0.00712 -0.06337 0.01424 -0.12673 0.03525 -0.17206 C 0.05625 -0.21739 0.09375 -0.2426 0.12605 -0.27243 C 0.15834 -0.3025 0.1915 -0.32678 0.22917 -0.35245 C 0.26684 -0.37812 0.33004 -0.41235 0.35226 -0.42623 C 0.37448 -0.4401 0.36875 -0.43825 0.36302 -0.4364 E">
                                      <p:cBhvr>
                                        <p:cTn id="6" dur="5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A504-D46E-46FF-B8C3-377D5457D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3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380880"/>
            <a:ext cx="4419720" cy="5943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田力男3"/>
          <p:cNvPicPr/>
          <p:nvPr/>
        </p:nvPicPr>
        <p:blipFill>
          <a:blip r:embed="rId4"/>
          <a:stretch/>
        </p:blipFill>
        <p:spPr>
          <a:xfrm>
            <a:off x="3581280" y="3429000"/>
            <a:ext cx="2030400" cy="289548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6781680" y="304920"/>
            <a:ext cx="1676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6716520" y="4005360"/>
            <a:ext cx="16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á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835200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10800"/>
                </a:moveTo>
                <a:lnTo>
                  <a:pt x="24960" y="3794"/>
                </a:lnTo>
                <a:lnTo>
                  <a:pt x="249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A25A-0046-4388-BC8D-E26B59926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4" descr="休息"/>
          <p:cNvPicPr/>
          <p:nvPr/>
        </p:nvPicPr>
        <p:blipFill>
          <a:blip r:embed="rId1"/>
          <a:stretch/>
        </p:blipFill>
        <p:spPr>
          <a:xfrm>
            <a:off x="304920" y="304920"/>
            <a:ext cx="4140000" cy="6095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5"/>
          <p:cNvSpPr/>
          <p:nvPr/>
        </p:nvSpPr>
        <p:spPr>
          <a:xfrm>
            <a:off x="4495680" y="457200"/>
            <a:ext cx="4648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木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6443640" y="350028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559560" y="2924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ū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E110-6A44-4A43-932F-3E50F9749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1027" descr="树2"/>
          <p:cNvPicPr/>
          <p:nvPr/>
        </p:nvPicPr>
        <p:blipFill>
          <a:blip r:embed="rId1"/>
          <a:stretch/>
        </p:blipFill>
        <p:spPr>
          <a:xfrm>
            <a:off x="990720" y="380880"/>
            <a:ext cx="1761840" cy="3276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029" descr="树2"/>
          <p:cNvPicPr/>
          <p:nvPr/>
        </p:nvPicPr>
        <p:blipFill>
          <a:blip r:embed="rId2"/>
          <a:stretch/>
        </p:blipFill>
        <p:spPr>
          <a:xfrm>
            <a:off x="2743200" y="380880"/>
            <a:ext cx="17622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89" name="Group 1037"/>
          <p:cNvGrpSpPr/>
          <p:nvPr/>
        </p:nvGrpSpPr>
        <p:grpSpPr>
          <a:xfrm>
            <a:off x="533520" y="3581280"/>
            <a:ext cx="4343400" cy="2379960"/>
            <a:chOff x="533520" y="3581280"/>
            <a:chExt cx="4343400" cy="2379960"/>
          </a:xfrm>
        </p:grpSpPr>
        <p:sp>
          <p:nvSpPr>
            <p:cNvPr id="690" name="Rectangle 1032"/>
            <p:cNvSpPr/>
            <p:nvPr/>
          </p:nvSpPr>
          <p:spPr>
            <a:xfrm>
              <a:off x="533520" y="3581280"/>
              <a:ext cx="2209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033"/>
            <p:cNvSpPr/>
            <p:nvPr/>
          </p:nvSpPr>
          <p:spPr>
            <a:xfrm>
              <a:off x="2666880" y="3581280"/>
              <a:ext cx="22100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Rectangle 1034"/>
          <p:cNvSpPr/>
          <p:nvPr/>
        </p:nvSpPr>
        <p:spPr>
          <a:xfrm>
            <a:off x="5943600" y="2590920"/>
            <a:ext cx="2895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林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036"/>
          <p:cNvSpPr/>
          <p:nvPr/>
        </p:nvSpPr>
        <p:spPr>
          <a:xfrm>
            <a:off x="6477120" y="1295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lí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1038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6650-0B63-4137-84D0-72FF960C8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3" descr="树2"/>
          <p:cNvPicPr/>
          <p:nvPr/>
        </p:nvPicPr>
        <p:blipFill>
          <a:blip r:embed="rId1"/>
          <a:stretch/>
        </p:blipFill>
        <p:spPr>
          <a:xfrm>
            <a:off x="3352680" y="533520"/>
            <a:ext cx="1311480" cy="2438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树2"/>
          <p:cNvPicPr/>
          <p:nvPr/>
        </p:nvPicPr>
        <p:blipFill>
          <a:blip r:embed="rId2"/>
          <a:stretch/>
        </p:blipFill>
        <p:spPr>
          <a:xfrm>
            <a:off x="2057400" y="533520"/>
            <a:ext cx="1311120" cy="24382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树2"/>
          <p:cNvPicPr/>
          <p:nvPr/>
        </p:nvPicPr>
        <p:blipFill>
          <a:blip r:embed="rId3"/>
          <a:stretch/>
        </p:blipFill>
        <p:spPr>
          <a:xfrm>
            <a:off x="762120" y="533520"/>
            <a:ext cx="1311120" cy="2438280"/>
          </a:xfrm>
          <a:prstGeom prst="rect">
            <a:avLst/>
          </a:prstGeom>
          <a:ln w="0">
            <a:noFill/>
          </a:ln>
        </p:spPr>
      </p:pic>
      <p:sp>
        <p:nvSpPr>
          <p:cNvPr id="700" name="Line 6"/>
          <p:cNvSpPr/>
          <p:nvPr/>
        </p:nvSpPr>
        <p:spPr>
          <a:xfrm>
            <a:off x="4648320" y="1752480"/>
            <a:ext cx="133488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7" descr="森林1"/>
          <p:cNvPicPr/>
          <p:nvPr/>
        </p:nvPicPr>
        <p:blipFill>
          <a:blip r:embed="rId4"/>
          <a:stretch/>
        </p:blipFill>
        <p:spPr>
          <a:xfrm>
            <a:off x="6019920" y="533520"/>
            <a:ext cx="2895480" cy="2458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14"/>
          <p:cNvGrpSpPr/>
          <p:nvPr/>
        </p:nvGrpSpPr>
        <p:grpSpPr>
          <a:xfrm>
            <a:off x="762120" y="4419720"/>
            <a:ext cx="3733560" cy="1434600"/>
            <a:chOff x="762120" y="4419720"/>
            <a:chExt cx="3733560" cy="1434600"/>
          </a:xfrm>
        </p:grpSpPr>
        <p:sp>
          <p:nvSpPr>
            <p:cNvPr id="703" name="Rectangle 8"/>
            <p:cNvSpPr/>
            <p:nvPr/>
          </p:nvSpPr>
          <p:spPr>
            <a:xfrm>
              <a:off x="76212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10"/>
            <p:cNvSpPr/>
            <p:nvPr/>
          </p:nvSpPr>
          <p:spPr>
            <a:xfrm>
              <a:off x="335268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1"/>
            <p:cNvSpPr/>
            <p:nvPr/>
          </p:nvSpPr>
          <p:spPr>
            <a:xfrm>
              <a:off x="205740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Rectangle 12"/>
          <p:cNvSpPr/>
          <p:nvPr/>
        </p:nvSpPr>
        <p:spPr>
          <a:xfrm>
            <a:off x="6019920" y="419112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3"/>
          <p:cNvSpPr/>
          <p:nvPr/>
        </p:nvSpPr>
        <p:spPr>
          <a:xfrm>
            <a:off x="5943600" y="31240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sē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15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页脚占位符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F85F-6067-4A0E-A95D-CE737A7B4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4" descr="人1"/>
          <p:cNvPicPr/>
          <p:nvPr/>
        </p:nvPicPr>
        <p:blipFill>
          <a:blip r:embed="rId1"/>
          <a:stretch/>
        </p:blipFill>
        <p:spPr>
          <a:xfrm>
            <a:off x="3348000" y="333360"/>
            <a:ext cx="2073240" cy="39956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5" descr="人1"/>
          <p:cNvPicPr/>
          <p:nvPr/>
        </p:nvPicPr>
        <p:blipFill>
          <a:blip r:embed="rId2"/>
          <a:stretch/>
        </p:blipFill>
        <p:spPr>
          <a:xfrm>
            <a:off x="1187280" y="476280"/>
            <a:ext cx="2038680" cy="392436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6"/>
          <p:cNvSpPr/>
          <p:nvPr/>
        </p:nvSpPr>
        <p:spPr>
          <a:xfrm>
            <a:off x="147636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363528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6084720" y="2924280"/>
            <a:ext cx="2519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E95D-CCD2-4421-9152-EC925F36A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3708360" y="2276640"/>
            <a:ext cx="1593720" cy="9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5" descr="众人"/>
          <p:cNvPicPr/>
          <p:nvPr/>
        </p:nvPicPr>
        <p:blipFill>
          <a:blip r:embed="rId1"/>
          <a:stretch/>
        </p:blipFill>
        <p:spPr>
          <a:xfrm>
            <a:off x="5867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人1"/>
          <p:cNvPicPr/>
          <p:nvPr/>
        </p:nvPicPr>
        <p:blipFill>
          <a:blip r:embed="rId2"/>
          <a:stretch/>
        </p:blipFill>
        <p:spPr>
          <a:xfrm>
            <a:off x="611280" y="1341360"/>
            <a:ext cx="1104840" cy="21272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人1"/>
          <p:cNvPicPr/>
          <p:nvPr/>
        </p:nvPicPr>
        <p:blipFill>
          <a:blip r:embed="rId3"/>
          <a:stretch/>
        </p:blipFill>
        <p:spPr>
          <a:xfrm>
            <a:off x="2411280" y="1557360"/>
            <a:ext cx="1009800" cy="19429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人1"/>
          <p:cNvPicPr/>
          <p:nvPr/>
        </p:nvPicPr>
        <p:blipFill>
          <a:blip r:embed="rId4"/>
          <a:stretch/>
        </p:blipFill>
        <p:spPr>
          <a:xfrm>
            <a:off x="1619280" y="333360"/>
            <a:ext cx="1066680" cy="20541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9"/>
          <p:cNvSpPr/>
          <p:nvPr/>
        </p:nvSpPr>
        <p:spPr>
          <a:xfrm>
            <a:off x="684360" y="3789360"/>
            <a:ext cx="3958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    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5580000" y="3357720"/>
            <a:ext cx="3203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ò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1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2746-0D2D-404A-B73D-1D0B44548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880280" y="1447920"/>
            <a:ext cx="5668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　鲜　尘　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灭　力　男　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　林　森　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1206360" y="3049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0099"/>
                </a:solidFill>
                <a:latin typeface="Times New Roman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4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73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F59-8851-4EEF-BA6E-BF2444FB8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3"/>
          <p:cNvSpPr/>
          <p:nvPr/>
        </p:nvSpPr>
        <p:spPr>
          <a:xfrm>
            <a:off x="971640" y="1052640"/>
            <a:ext cx="70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日  月  鱼  羊  小  土  大  一  火  田  力  人  木  手  目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977760" y="317808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5261040" y="31957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WordArt 6"/>
          <p:cNvSpPr txBox="1"/>
          <p:nvPr/>
        </p:nvSpPr>
        <p:spPr>
          <a:xfrm>
            <a:off x="3059280" y="4365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lì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9" name="WordArt 7"/>
          <p:cNvSpPr txBox="1"/>
          <p:nvPr/>
        </p:nvSpPr>
        <p:spPr>
          <a:xfrm>
            <a:off x="4859280" y="4365720"/>
            <a:ext cx="10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shǒu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740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18038 0.2544 E">
                                      <p:cBhvr>
                                        <p:cTn id="169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05174 0.24143 E">
                                      <p:cBhvr>
                                        <p:cTn id="17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3F65-C41D-4026-8EBB-AF72E1C0E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WordArt 3"/>
          <p:cNvSpPr txBox="1"/>
          <p:nvPr/>
        </p:nvSpPr>
        <p:spPr>
          <a:xfrm>
            <a:off x="6804000" y="1197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3132000" y="12682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745" name="WordArt 5"/>
          <p:cNvSpPr txBox="1"/>
          <p:nvPr/>
        </p:nvSpPr>
        <p:spPr>
          <a:xfrm>
            <a:off x="305928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6" name="WordArt 6"/>
          <p:cNvSpPr txBox="1"/>
          <p:nvPr/>
        </p:nvSpPr>
        <p:spPr>
          <a:xfrm>
            <a:off x="665964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7" name="WordArt 7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日月明，鱼羊鲜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8" name="WordArt 8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土尘，小大尖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9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8D37-E34C-4DFF-9B34-CDCF720D1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WordArt 3"/>
          <p:cNvSpPr txBox="1"/>
          <p:nvPr/>
        </p:nvSpPr>
        <p:spPr>
          <a:xfrm>
            <a:off x="1476360" y="191628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火灭，田力男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3" name="WordArt 4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木休，手目看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4" name="WordArt 5"/>
          <p:cNvSpPr txBox="1"/>
          <p:nvPr/>
        </p:nvSpPr>
        <p:spPr>
          <a:xfrm>
            <a:off x="3203640" y="3357720"/>
            <a:ext cx="7189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5" name="WordArt 6"/>
          <p:cNvSpPr txBox="1"/>
          <p:nvPr/>
        </p:nvSpPr>
        <p:spPr>
          <a:xfrm>
            <a:off x="3276720" y="1268280"/>
            <a:ext cx="7189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6" name="WordArt 7"/>
          <p:cNvSpPr txBox="1"/>
          <p:nvPr/>
        </p:nvSpPr>
        <p:spPr>
          <a:xfrm>
            <a:off x="6877080" y="1268280"/>
            <a:ext cx="7192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7" name="WordArt 8"/>
          <p:cNvSpPr txBox="1"/>
          <p:nvPr/>
        </p:nvSpPr>
        <p:spPr>
          <a:xfrm>
            <a:off x="6804000" y="3429000"/>
            <a:ext cx="7192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kà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8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51AB-3FCB-4038-B013-2A399C9B8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2"/>
          <p:cNvSpPr/>
          <p:nvPr/>
        </p:nvSpPr>
        <p:spPr>
          <a:xfrm>
            <a:off x="179280" y="3068640"/>
            <a:ext cx="2160720" cy="338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5723E-006 C 0.04409 -0.05318 0.08819 -0.10612 0.12291 -0.14034 C 0.15746 -0.17456 0.16666 -0.17826 0.20885 -0.20462 C 0.25121 -0.23075 0.30416 -0.26844 0.37621 -0.29803 C 0.44826 -0.32786 0.59739 -0.36878 0.64184 -0.38266 E">
                                      <p:cBhvr>
                                        <p:cTn id="18" dur="5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469D-8CEC-4F1D-A3B8-AE84C1535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复件 PM_030"/>
          <p:cNvPicPr/>
          <p:nvPr/>
        </p:nvPicPr>
        <p:blipFill>
          <a:blip r:embed="rId1"/>
          <a:stretch/>
        </p:blipFill>
        <p:spPr>
          <a:xfrm>
            <a:off x="-28440" y="-196920"/>
            <a:ext cx="9172440" cy="70549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 txBox="1"/>
          <p:nvPr/>
        </p:nvSpPr>
        <p:spPr>
          <a:xfrm>
            <a:off x="2055600" y="2662200"/>
            <a:ext cx="4964040" cy="31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WordArt 4"/>
          <p:cNvSpPr txBox="1"/>
          <p:nvPr/>
        </p:nvSpPr>
        <p:spPr>
          <a:xfrm>
            <a:off x="6877080" y="134136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3" name="WordArt 5"/>
          <p:cNvSpPr txBox="1"/>
          <p:nvPr/>
        </p:nvSpPr>
        <p:spPr>
          <a:xfrm>
            <a:off x="3276720" y="126828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4" name="WordArt 6"/>
          <p:cNvSpPr txBox="1"/>
          <p:nvPr/>
        </p:nvSpPr>
        <p:spPr>
          <a:xfrm>
            <a:off x="3276720" y="32846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5" name="WordArt 7"/>
          <p:cNvSpPr txBox="1"/>
          <p:nvPr/>
        </p:nvSpPr>
        <p:spPr>
          <a:xfrm>
            <a:off x="6804000" y="314172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6" name="WordArt 8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木林，三木森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7" name="WordArt 9"/>
          <p:cNvSpPr txBox="1"/>
          <p:nvPr/>
        </p:nvSpPr>
        <p:spPr>
          <a:xfrm>
            <a:off x="1547640" y="3716280"/>
            <a:ext cx="6478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人从，三人众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8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F2ED-226B-4BC0-9700-999EB6BAD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2" descr="4"/>
          <p:cNvPicPr/>
          <p:nvPr/>
        </p:nvPicPr>
        <p:blipFill>
          <a:blip r:embed="rId1"/>
          <a:stretch/>
        </p:blipFill>
        <p:spPr>
          <a:xfrm>
            <a:off x="-181080" y="-387360"/>
            <a:ext cx="9541080" cy="7553160"/>
          </a:xfrm>
          <a:prstGeom prst="rect">
            <a:avLst/>
          </a:prstGeom>
          <a:ln w="0">
            <a:noFill/>
          </a:ln>
        </p:spPr>
      </p:pic>
      <p:sp>
        <p:nvSpPr>
          <p:cNvPr id="771" name="WordArt 3"/>
          <p:cNvSpPr txBox="1"/>
          <p:nvPr/>
        </p:nvSpPr>
        <p:spPr>
          <a:xfrm>
            <a:off x="161928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鲜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3348000" y="198900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3" name="WordArt 5"/>
          <p:cNvSpPr txBox="1"/>
          <p:nvPr/>
        </p:nvSpPr>
        <p:spPr>
          <a:xfrm>
            <a:off x="5508720" y="4797360"/>
            <a:ext cx="5032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灭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4" name="WordArt 6"/>
          <p:cNvSpPr txBox="1"/>
          <p:nvPr/>
        </p:nvSpPr>
        <p:spPr>
          <a:xfrm>
            <a:off x="6877080" y="4797360"/>
            <a:ext cx="5047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尘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507672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2916360" y="487044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男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3348000" y="3357720"/>
            <a:ext cx="576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6732720" y="1989000"/>
            <a:ext cx="574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森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1619280" y="3284640"/>
            <a:ext cx="50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0" name="WordArt 12"/>
          <p:cNvSpPr txBox="1"/>
          <p:nvPr/>
        </p:nvSpPr>
        <p:spPr>
          <a:xfrm>
            <a:off x="4211640" y="4797360"/>
            <a:ext cx="576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尖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1" name="WordArt 13"/>
          <p:cNvSpPr txBox="1"/>
          <p:nvPr/>
        </p:nvSpPr>
        <p:spPr>
          <a:xfrm>
            <a:off x="1547640" y="479736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2" name="WordArt 14"/>
          <p:cNvSpPr txBox="1"/>
          <p:nvPr/>
        </p:nvSpPr>
        <p:spPr>
          <a:xfrm>
            <a:off x="320364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3" name="WordArt 15"/>
          <p:cNvSpPr txBox="1"/>
          <p:nvPr/>
        </p:nvSpPr>
        <p:spPr>
          <a:xfrm>
            <a:off x="140328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4" name="WordArt 16"/>
          <p:cNvSpPr txBox="1"/>
          <p:nvPr/>
        </p:nvSpPr>
        <p:spPr>
          <a:xfrm>
            <a:off x="6659640" y="407664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5" name="WordArt 17"/>
          <p:cNvSpPr txBox="1"/>
          <p:nvPr/>
        </p:nvSpPr>
        <p:spPr>
          <a:xfrm>
            <a:off x="4068720" y="4221000"/>
            <a:ext cx="86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6" name="WordArt 18"/>
          <p:cNvSpPr txBox="1"/>
          <p:nvPr/>
        </p:nvSpPr>
        <p:spPr>
          <a:xfrm>
            <a:off x="5435640" y="4149720"/>
            <a:ext cx="79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7" name="WordArt 19"/>
          <p:cNvSpPr txBox="1"/>
          <p:nvPr/>
        </p:nvSpPr>
        <p:spPr>
          <a:xfrm>
            <a:off x="2771640" y="414972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8" name="WordArt 20"/>
          <p:cNvSpPr txBox="1"/>
          <p:nvPr/>
        </p:nvSpPr>
        <p:spPr>
          <a:xfrm>
            <a:off x="5076720" y="1197000"/>
            <a:ext cx="6494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9" name="WordArt 21"/>
          <p:cNvSpPr txBox="1"/>
          <p:nvPr/>
        </p:nvSpPr>
        <p:spPr>
          <a:xfrm>
            <a:off x="3276720" y="2708280"/>
            <a:ext cx="720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0" name="WordArt 22"/>
          <p:cNvSpPr txBox="1"/>
          <p:nvPr/>
        </p:nvSpPr>
        <p:spPr>
          <a:xfrm>
            <a:off x="6661080" y="1197000"/>
            <a:ext cx="6476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1" name="WordArt 23"/>
          <p:cNvSpPr txBox="1"/>
          <p:nvPr/>
        </p:nvSpPr>
        <p:spPr>
          <a:xfrm>
            <a:off x="1476360" y="2781360"/>
            <a:ext cx="865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2" name="WordArt 24"/>
          <p:cNvSpPr txBox="1"/>
          <p:nvPr/>
        </p:nvSpPr>
        <p:spPr>
          <a:xfrm>
            <a:off x="1260360" y="4149720"/>
            <a:ext cx="107964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3" name="WordArt 25"/>
          <p:cNvSpPr txBox="1"/>
          <p:nvPr/>
        </p:nvSpPr>
        <p:spPr>
          <a:xfrm>
            <a:off x="5076720" y="3357720"/>
            <a:ext cx="50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力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4" name="WordArt 26"/>
          <p:cNvSpPr txBox="1"/>
          <p:nvPr/>
        </p:nvSpPr>
        <p:spPr>
          <a:xfrm>
            <a:off x="6732720" y="3357720"/>
            <a:ext cx="57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手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5" name="WordArt 27"/>
          <p:cNvSpPr txBox="1"/>
          <p:nvPr/>
        </p:nvSpPr>
        <p:spPr>
          <a:xfrm>
            <a:off x="6516720" y="2708280"/>
            <a:ext cx="10080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hǒu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6" name="WordArt 28"/>
          <p:cNvSpPr txBox="1"/>
          <p:nvPr/>
        </p:nvSpPr>
        <p:spPr>
          <a:xfrm>
            <a:off x="5148360" y="2781360"/>
            <a:ext cx="43164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ì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7" name="页脚占位符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1AC2-2724-4A06-A009-61D782B79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Group 2"/>
          <p:cNvGrpSpPr/>
          <p:nvPr/>
        </p:nvGrpSpPr>
        <p:grpSpPr>
          <a:xfrm>
            <a:off x="6372360" y="4626000"/>
            <a:ext cx="2016000" cy="2232000"/>
            <a:chOff x="6372360" y="4626000"/>
            <a:chExt cx="2016000" cy="2232000"/>
          </a:xfrm>
        </p:grpSpPr>
        <p:sp>
          <p:nvSpPr>
            <p:cNvPr id="800" name="AutoShape 3"/>
            <p:cNvSpPr/>
            <p:nvPr/>
          </p:nvSpPr>
          <p:spPr>
            <a:xfrm>
              <a:off x="637236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WordArt 4"/>
            <p:cNvSpPr txBox="1"/>
            <p:nvPr/>
          </p:nvSpPr>
          <p:spPr>
            <a:xfrm>
              <a:off x="7078680" y="5506920"/>
              <a:ext cx="61092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2" name="Group 5"/>
          <p:cNvGrpSpPr/>
          <p:nvPr/>
        </p:nvGrpSpPr>
        <p:grpSpPr>
          <a:xfrm>
            <a:off x="1403280" y="4678200"/>
            <a:ext cx="2016360" cy="2232360"/>
            <a:chOff x="1403280" y="4678200"/>
            <a:chExt cx="2016360" cy="2232360"/>
          </a:xfrm>
        </p:grpSpPr>
        <p:sp>
          <p:nvSpPr>
            <p:cNvPr id="803" name="AutoShape 6"/>
            <p:cNvSpPr/>
            <p:nvPr/>
          </p:nvSpPr>
          <p:spPr>
            <a:xfrm>
              <a:off x="140328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WordArt 7"/>
            <p:cNvSpPr txBox="1"/>
            <p:nvPr/>
          </p:nvSpPr>
          <p:spPr>
            <a:xfrm>
              <a:off x="2124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5" name="Group 8"/>
          <p:cNvGrpSpPr/>
          <p:nvPr/>
        </p:nvGrpSpPr>
        <p:grpSpPr>
          <a:xfrm>
            <a:off x="0" y="4678200"/>
            <a:ext cx="2016000" cy="2232360"/>
            <a:chOff x="0" y="4678200"/>
            <a:chExt cx="2016000" cy="2232360"/>
          </a:xfrm>
        </p:grpSpPr>
        <p:sp>
          <p:nvSpPr>
            <p:cNvPr id="806" name="AutoShape 9"/>
            <p:cNvSpPr/>
            <p:nvPr/>
          </p:nvSpPr>
          <p:spPr>
            <a:xfrm>
              <a:off x="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WordArt 10"/>
            <p:cNvSpPr txBox="1"/>
            <p:nvPr/>
          </p:nvSpPr>
          <p:spPr>
            <a:xfrm>
              <a:off x="720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鲜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2627280" y="4626000"/>
            <a:ext cx="2016000" cy="2232000"/>
            <a:chOff x="2627280" y="4626000"/>
            <a:chExt cx="2016000" cy="2232000"/>
          </a:xfrm>
        </p:grpSpPr>
        <p:sp>
          <p:nvSpPr>
            <p:cNvPr id="809" name="AutoShape 12"/>
            <p:cNvSpPr/>
            <p:nvPr/>
          </p:nvSpPr>
          <p:spPr>
            <a:xfrm>
              <a:off x="262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WordArt 13"/>
            <p:cNvSpPr txBox="1"/>
            <p:nvPr/>
          </p:nvSpPr>
          <p:spPr>
            <a:xfrm>
              <a:off x="3348000" y="551664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手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1" name="Group 14"/>
          <p:cNvGrpSpPr/>
          <p:nvPr/>
        </p:nvGrpSpPr>
        <p:grpSpPr>
          <a:xfrm>
            <a:off x="3851280" y="4678200"/>
            <a:ext cx="2016000" cy="2232360"/>
            <a:chOff x="3851280" y="4678200"/>
            <a:chExt cx="2016000" cy="2232360"/>
          </a:xfrm>
        </p:grpSpPr>
        <p:sp>
          <p:nvSpPr>
            <p:cNvPr id="812" name="AutoShape 15"/>
            <p:cNvSpPr/>
            <p:nvPr/>
          </p:nvSpPr>
          <p:spPr>
            <a:xfrm>
              <a:off x="385128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WordArt 16"/>
            <p:cNvSpPr txBox="1"/>
            <p:nvPr/>
          </p:nvSpPr>
          <p:spPr>
            <a:xfrm>
              <a:off x="4572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4" name="Group 17"/>
          <p:cNvGrpSpPr/>
          <p:nvPr/>
        </p:nvGrpSpPr>
        <p:grpSpPr>
          <a:xfrm>
            <a:off x="5219640" y="4678200"/>
            <a:ext cx="2016360" cy="2232360"/>
            <a:chOff x="5219640" y="4678200"/>
            <a:chExt cx="2016360" cy="2232360"/>
          </a:xfrm>
        </p:grpSpPr>
        <p:sp>
          <p:nvSpPr>
            <p:cNvPr id="815" name="AutoShape 18"/>
            <p:cNvSpPr/>
            <p:nvPr/>
          </p:nvSpPr>
          <p:spPr>
            <a:xfrm>
              <a:off x="521964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WordArt 19"/>
            <p:cNvSpPr txBox="1"/>
            <p:nvPr/>
          </p:nvSpPr>
          <p:spPr>
            <a:xfrm>
              <a:off x="594036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森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7" name="Group 20"/>
          <p:cNvGrpSpPr/>
          <p:nvPr/>
        </p:nvGrpSpPr>
        <p:grpSpPr>
          <a:xfrm>
            <a:off x="3132000" y="4678200"/>
            <a:ext cx="2016360" cy="2232360"/>
            <a:chOff x="3132000" y="4678200"/>
            <a:chExt cx="2016360" cy="2232360"/>
          </a:xfrm>
        </p:grpSpPr>
        <p:sp>
          <p:nvSpPr>
            <p:cNvPr id="818" name="AutoShape 21"/>
            <p:cNvSpPr/>
            <p:nvPr/>
          </p:nvSpPr>
          <p:spPr>
            <a:xfrm>
              <a:off x="3132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WordArt 22"/>
            <p:cNvSpPr txBox="1"/>
            <p:nvPr/>
          </p:nvSpPr>
          <p:spPr>
            <a:xfrm>
              <a:off x="3852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尘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0" name="Group 23"/>
          <p:cNvGrpSpPr/>
          <p:nvPr/>
        </p:nvGrpSpPr>
        <p:grpSpPr>
          <a:xfrm>
            <a:off x="684360" y="4678200"/>
            <a:ext cx="2016000" cy="2232360"/>
            <a:chOff x="684360" y="4678200"/>
            <a:chExt cx="2016000" cy="2232360"/>
          </a:xfrm>
        </p:grpSpPr>
        <p:sp>
          <p:nvSpPr>
            <p:cNvPr id="821" name="AutoShape 24"/>
            <p:cNvSpPr/>
            <p:nvPr/>
          </p:nvSpPr>
          <p:spPr>
            <a:xfrm>
              <a:off x="68436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WordArt 25"/>
            <p:cNvSpPr txBox="1"/>
            <p:nvPr/>
          </p:nvSpPr>
          <p:spPr>
            <a:xfrm>
              <a:off x="1405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男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3" name="Group 26"/>
          <p:cNvGrpSpPr/>
          <p:nvPr/>
        </p:nvGrpSpPr>
        <p:grpSpPr>
          <a:xfrm>
            <a:off x="1908000" y="4678200"/>
            <a:ext cx="2016360" cy="2232360"/>
            <a:chOff x="1908000" y="4678200"/>
            <a:chExt cx="2016360" cy="2232360"/>
          </a:xfrm>
        </p:grpSpPr>
        <p:sp>
          <p:nvSpPr>
            <p:cNvPr id="824" name="AutoShape 27"/>
            <p:cNvSpPr/>
            <p:nvPr/>
          </p:nvSpPr>
          <p:spPr>
            <a:xfrm>
              <a:off x="1908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WordArt 28"/>
            <p:cNvSpPr txBox="1"/>
            <p:nvPr/>
          </p:nvSpPr>
          <p:spPr>
            <a:xfrm>
              <a:off x="2629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6" name="Group 29"/>
          <p:cNvGrpSpPr/>
          <p:nvPr/>
        </p:nvGrpSpPr>
        <p:grpSpPr>
          <a:xfrm>
            <a:off x="4500720" y="4678200"/>
            <a:ext cx="2016000" cy="2232360"/>
            <a:chOff x="4500720" y="4678200"/>
            <a:chExt cx="2016000" cy="2232360"/>
          </a:xfrm>
        </p:grpSpPr>
        <p:sp>
          <p:nvSpPr>
            <p:cNvPr id="827" name="AutoShape 30"/>
            <p:cNvSpPr/>
            <p:nvPr/>
          </p:nvSpPr>
          <p:spPr>
            <a:xfrm>
              <a:off x="450072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WordArt 31"/>
            <p:cNvSpPr txBox="1"/>
            <p:nvPr/>
          </p:nvSpPr>
          <p:spPr>
            <a:xfrm>
              <a:off x="522144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休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7128000" y="4678200"/>
            <a:ext cx="2016000" cy="2232360"/>
            <a:chOff x="7128000" y="4678200"/>
            <a:chExt cx="2016000" cy="2232360"/>
          </a:xfrm>
        </p:grpSpPr>
        <p:sp>
          <p:nvSpPr>
            <p:cNvPr id="830" name="AutoShape 33"/>
            <p:cNvSpPr/>
            <p:nvPr/>
          </p:nvSpPr>
          <p:spPr>
            <a:xfrm>
              <a:off x="712800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WordArt 34"/>
            <p:cNvSpPr txBox="1"/>
            <p:nvPr/>
          </p:nvSpPr>
          <p:spPr>
            <a:xfrm>
              <a:off x="784836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尖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2" name="Group 35"/>
          <p:cNvGrpSpPr/>
          <p:nvPr/>
        </p:nvGrpSpPr>
        <p:grpSpPr>
          <a:xfrm>
            <a:off x="5867280" y="4626000"/>
            <a:ext cx="2016000" cy="2232000"/>
            <a:chOff x="5867280" y="4626000"/>
            <a:chExt cx="2016000" cy="2232000"/>
          </a:xfrm>
        </p:grpSpPr>
        <p:sp>
          <p:nvSpPr>
            <p:cNvPr id="833" name="AutoShape 36"/>
            <p:cNvSpPr/>
            <p:nvPr/>
          </p:nvSpPr>
          <p:spPr>
            <a:xfrm>
              <a:off x="586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WordArt 37"/>
            <p:cNvSpPr txBox="1"/>
            <p:nvPr/>
          </p:nvSpPr>
          <p:spPr>
            <a:xfrm>
              <a:off x="6588000" y="551628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灭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5" name="Group 38"/>
          <p:cNvGrpSpPr/>
          <p:nvPr/>
        </p:nvGrpSpPr>
        <p:grpSpPr>
          <a:xfrm>
            <a:off x="4716360" y="4626000"/>
            <a:ext cx="2016360" cy="2232000"/>
            <a:chOff x="4716360" y="4626000"/>
            <a:chExt cx="2016360" cy="2232000"/>
          </a:xfrm>
        </p:grpSpPr>
        <p:sp>
          <p:nvSpPr>
            <p:cNvPr id="836" name="AutoShape 39"/>
            <p:cNvSpPr/>
            <p:nvPr/>
          </p:nvSpPr>
          <p:spPr>
            <a:xfrm>
              <a:off x="4716360" y="4626000"/>
              <a:ext cx="2016360" cy="223200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WordArt 40"/>
            <p:cNvSpPr txBox="1"/>
            <p:nvPr/>
          </p:nvSpPr>
          <p:spPr>
            <a:xfrm>
              <a:off x="5437080" y="5516280"/>
              <a:ext cx="611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力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838" name="页脚占位符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35838E-007 L -0.41736 -0.64855 E">
                                      <p:cBhvr>
                                        <p:cTn id="239" dur="2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35838E-007 L -0.13386 -0.44948 E">
                                      <p:cBhvr>
                                        <p:cTn id="249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13873E-006 L 0.2283 -0.65017 E">
                                      <p:cBhvr>
                                        <p:cTn id="259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35838E-007 L 0.59844 -0.65919 E">
                                      <p:cBhvr>
                                        <p:cTn id="269" dur="1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-0.00023 C 0.11962 -0.15561 -0.13021 -0.31121 -0.16285 -0.42451 C -0.19531 -0.5378 0.11666 -0.63769 0.17239 -0.68 E">
                                      <p:cBhvr>
                                        <p:cTn id="279" dur="1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6.35838E-007 L 0.22847 -0.56485 E">
                                      <p:cBhvr>
                                        <p:cTn id="289" dur="1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C 0.21129 -0.07376 0.42257 -0.14775 0.45556 -0.23468 C 0.48855 -0.32185 0.24098 -0.47538 0.19844 -0.52277 E">
                                      <p:cBhvr>
                                        <p:cTn id="299" dur="1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L 0.29931 -0.21873 E">
                                      <p:cBhvr>
                                        <p:cTn id="309" dur="1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14965 -0.23075 E">
                                      <p:cBhvr>
                                        <p:cTn id="319" dur="1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19653E-006 C 0.02187 0.00694 0.04375 0.01411 0.03993 -0.0326 C 0.03594 -0.0793 0.09878 -0.2511 -0.02344 -0.28 C -0.14531 -0.30867 -0.41875 -0.25734 -0.69219 -0.20601 E">
                                      <p:cBhvr>
                                        <p:cTn id="329" dur="1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36 -0.02266 C -0.05504 -0.16393 -0.03837 -0.30474 -0.05035 -0.36809 C -0.06198 -0.43121 -0.12656 -0.39815 -0.14167 -0.40416 E">
                                      <p:cBhvr>
                                        <p:cTn id="339" dur="1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0.03954 C 0.05399 0.0541 0.06597 0.06983 0.06424 -0.02913 C 0.06181 -0.1274 0.09792 -0.48879 0.02865 -0.54959 C -0.03993 -0.60948 -0.1934 -0.50196 -0.34653 -0.39399 E">
                                      <p:cBhvr>
                                        <p:cTn id="349" dur="1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08092E-006 L 2.5E-006 -0.2726 E">
                                      <p:cBhvr>
                                        <p:cTn id="359" dur="5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51EC-7DF4-4D17-9448-6EEA0171A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2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1" name="WordArt 3"/>
          <p:cNvSpPr txBox="1"/>
          <p:nvPr/>
        </p:nvSpPr>
        <p:spPr>
          <a:xfrm>
            <a:off x="143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手心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2" name="WordArt 4"/>
          <p:cNvSpPr txBox="1"/>
          <p:nvPr/>
        </p:nvSpPr>
        <p:spPr>
          <a:xfrm>
            <a:off x="377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鲜花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3" name="WordArt 5"/>
          <p:cNvSpPr txBox="1"/>
          <p:nvPr/>
        </p:nvSpPr>
        <p:spPr>
          <a:xfrm>
            <a:off x="143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尖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4" name="WordArt 6"/>
          <p:cNvSpPr txBox="1"/>
          <p:nvPr/>
        </p:nvSpPr>
        <p:spPr>
          <a:xfrm>
            <a:off x="6116760" y="125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尘土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5" name="WordArt 7"/>
          <p:cNvSpPr txBox="1"/>
          <p:nvPr/>
        </p:nvSpPr>
        <p:spPr>
          <a:xfrm>
            <a:off x="377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明天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6" name="WordArt 8"/>
          <p:cNvSpPr txBox="1"/>
          <p:nvPr/>
        </p:nvSpPr>
        <p:spPr>
          <a:xfrm>
            <a:off x="143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森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7" name="WordArt 9"/>
          <p:cNvSpPr txBox="1"/>
          <p:nvPr/>
        </p:nvSpPr>
        <p:spPr>
          <a:xfrm>
            <a:off x="6116760" y="269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灭火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8" name="WordArt 10"/>
          <p:cNvSpPr txBox="1"/>
          <p:nvPr/>
        </p:nvSpPr>
        <p:spPr>
          <a:xfrm>
            <a:off x="377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竹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9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8CB3-4895-40D8-A8A9-74811939C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3"/>
          <p:cNvSpPr/>
          <p:nvPr/>
        </p:nvSpPr>
        <p:spPr>
          <a:xfrm>
            <a:off x="4572000" y="6858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5791320" y="762120"/>
            <a:ext cx="304776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歪扭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4572000" y="22860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4648320" y="38862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562720"/>
            <a:ext cx="838080" cy="79668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8"/>
          <p:cNvSpPr/>
          <p:nvPr/>
        </p:nvSpPr>
        <p:spPr>
          <a:xfrm>
            <a:off x="5867280" y="2438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眼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9"/>
          <p:cNvSpPr/>
          <p:nvPr/>
        </p:nvSpPr>
        <p:spPr>
          <a:xfrm>
            <a:off x="5943600" y="39625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"/>
          <p:cNvSpPr/>
          <p:nvPr/>
        </p:nvSpPr>
        <p:spPr>
          <a:xfrm>
            <a:off x="5943600" y="56386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晶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2484360" y="0"/>
            <a:ext cx="12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   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2484360" y="1844640"/>
            <a:ext cx="93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 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2484360" y="3500280"/>
            <a:ext cx="92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2411280" y="5121360"/>
            <a:ext cx="106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WordArt 16"/>
          <p:cNvSpPr txBox="1"/>
          <p:nvPr/>
        </p:nvSpPr>
        <p:spPr>
          <a:xfrm rot="5400000">
            <a:off x="-800280" y="1485720"/>
            <a:ext cx="32004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读想想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4" name="Picture 1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65" name="Line 20"/>
          <p:cNvSpPr/>
          <p:nvPr/>
        </p:nvSpPr>
        <p:spPr>
          <a:xfrm>
            <a:off x="3419640" y="404640"/>
            <a:ext cx="93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1"/>
          <p:cNvSpPr/>
          <p:nvPr/>
        </p:nvSpPr>
        <p:spPr>
          <a:xfrm flipV="1">
            <a:off x="3348000" y="105264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2"/>
          <p:cNvSpPr/>
          <p:nvPr/>
        </p:nvSpPr>
        <p:spPr>
          <a:xfrm>
            <a:off x="3276720" y="227664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3"/>
          <p:cNvSpPr/>
          <p:nvPr/>
        </p:nvSpPr>
        <p:spPr>
          <a:xfrm flipV="1">
            <a:off x="3276720" y="2781360"/>
            <a:ext cx="107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25"/>
          <p:cNvSpPr/>
          <p:nvPr/>
        </p:nvSpPr>
        <p:spPr>
          <a:xfrm>
            <a:off x="3203640" y="393372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26"/>
          <p:cNvSpPr/>
          <p:nvPr/>
        </p:nvSpPr>
        <p:spPr>
          <a:xfrm flipV="1">
            <a:off x="3276720" y="4365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27"/>
          <p:cNvSpPr/>
          <p:nvPr/>
        </p:nvSpPr>
        <p:spPr>
          <a:xfrm>
            <a:off x="3348000" y="566100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28"/>
          <p:cNvSpPr/>
          <p:nvPr/>
        </p:nvSpPr>
        <p:spPr>
          <a:xfrm flipV="1">
            <a:off x="3348000" y="609264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页脚占位符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C5E3-7030-46DF-BF3F-91A61EEE6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762120" y="34290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采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手在树上，采摘东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艳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色彩丰富，鲜艳美丽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苗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田间长草，植物幼苗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 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泪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眼睛流水，泪水汪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功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出工有力，就会成功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1413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 Unicode MS"/>
              </a:rPr>
              <a:t>　　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朋友，我们学习的汉字中，有许多字是由两个或几个汉字组成的，有趣的是它的意思就是这几个汉字意思的组合，这样的汉字有个名字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会意字。让我们一起认识 下面几个会意字，看它们是不是很有趣。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WordArt 5"/>
          <p:cNvSpPr txBox="1"/>
          <p:nvPr/>
        </p:nvSpPr>
        <p:spPr>
          <a:xfrm>
            <a:off x="304920" y="304920"/>
            <a:ext cx="7848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有趣的会意字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8" name="Picture 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79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7F70-75DC-4F74-AC3F-660D71CC9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83808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"/>
          <p:cNvSpPr/>
          <p:nvPr/>
        </p:nvSpPr>
        <p:spPr>
          <a:xfrm>
            <a:off x="2971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5257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明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5383800" y="304920"/>
            <a:ext cx="29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mínɡ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Picture 6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86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532B-12B8-4C81-A0FF-989059CC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WordArt 2"/>
          <p:cNvSpPr txBox="1"/>
          <p:nvPr/>
        </p:nvSpPr>
        <p:spPr>
          <a:xfrm>
            <a:off x="1258920" y="3933720"/>
            <a:ext cx="136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4" name="WordArt 3"/>
          <p:cNvSpPr txBox="1"/>
          <p:nvPr/>
        </p:nvSpPr>
        <p:spPr>
          <a:xfrm>
            <a:off x="5796000" y="3500280"/>
            <a:ext cx="2232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468360" y="260280"/>
            <a:ext cx="3239640" cy="3095640"/>
            <a:chOff x="468360" y="260280"/>
            <a:chExt cx="3239640" cy="3095640"/>
          </a:xfrm>
        </p:grpSpPr>
        <p:pic>
          <p:nvPicPr>
            <p:cNvPr id="586" name="Picture 5" descr="1066862330200342265288425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32396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6" descr="复件 v01-1"/>
            <p:cNvPicPr/>
            <p:nvPr/>
          </p:nvPicPr>
          <p:blipFill>
            <a:blip r:embed="rId2"/>
            <a:stretch/>
          </p:blipFill>
          <p:spPr>
            <a:xfrm>
              <a:off x="688680" y="470880"/>
              <a:ext cx="2798640" cy="267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Group 7"/>
          <p:cNvGrpSpPr/>
          <p:nvPr/>
        </p:nvGrpSpPr>
        <p:grpSpPr>
          <a:xfrm>
            <a:off x="5580000" y="333360"/>
            <a:ext cx="3168720" cy="2970360"/>
            <a:chOff x="5580000" y="333360"/>
            <a:chExt cx="3168720" cy="2970360"/>
          </a:xfrm>
        </p:grpSpPr>
        <p:pic>
          <p:nvPicPr>
            <p:cNvPr id="589" name="Picture 8" descr="1066862330200342265288425"/>
            <p:cNvPicPr/>
            <p:nvPr/>
          </p:nvPicPr>
          <p:blipFill>
            <a:blip r:embed="rId3"/>
            <a:stretch/>
          </p:blipFill>
          <p:spPr>
            <a:xfrm>
              <a:off x="5580000" y="333360"/>
              <a:ext cx="3168720" cy="29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9" descr="复件 lesson1"/>
            <p:cNvPicPr/>
            <p:nvPr/>
          </p:nvPicPr>
          <p:blipFill>
            <a:blip r:embed="rId4"/>
            <a:stretch/>
          </p:blipFill>
          <p:spPr>
            <a:xfrm>
              <a:off x="5796000" y="535680"/>
              <a:ext cx="273672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8.67052E-007 L 0.17726 0.00532 E">
                                      <p:cBhvr>
                                        <p:cTn id="40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19653E-006 L -0.20868 0.00023 E">
                                      <p:cBhvr>
                                        <p:cTn id="42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771D-0DAA-43EB-8EB9-7F8B408F0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5715000" y="533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5867280" y="31240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羊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13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5" descr="mfriendsheep"/>
          <p:cNvPicPr/>
          <p:nvPr/>
        </p:nvPicPr>
        <p:blipFill>
          <a:blip r:embed="rId4"/>
          <a:stretch/>
        </p:blipFill>
        <p:spPr>
          <a:xfrm>
            <a:off x="2438280" y="3200400"/>
            <a:ext cx="1995480" cy="2478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6" descr="UA0529_gif"/>
          <p:cNvPicPr/>
          <p:nvPr/>
        </p:nvPicPr>
        <p:blipFill>
          <a:blip r:embed="rId5"/>
          <a:stretch/>
        </p:blipFill>
        <p:spPr>
          <a:xfrm>
            <a:off x="2286000" y="4572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9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7816-F696-4383-AD9E-AE78B1BCB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6095880" y="167652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鲜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400800" y="857160"/>
            <a:ext cx="2743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066680" y="22096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590920" y="228600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羊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>
            <a:off x="4648320" y="3581280"/>
            <a:ext cx="152388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7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06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AE07-CB85-413C-9532-430E1C6D3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5638680" y="18288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尘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5569560" y="685800"/>
            <a:ext cx="33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h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é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6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9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1"/>
          <p:cNvSpPr/>
          <p:nvPr/>
        </p:nvSpPr>
        <p:spPr>
          <a:xfrm>
            <a:off x="3124080" y="3505320"/>
            <a:ext cx="221004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矩形 194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10EC-368A-47E2-86AE-438B6FBB2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6019920" y="1752480"/>
            <a:ext cx="2590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尖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6151680" y="857160"/>
            <a:ext cx="348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3124080" y="3505320"/>
            <a:ext cx="251460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0544-674F-45E6-BD5D-4EF1228CC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2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57600" y="1523880"/>
            <a:ext cx="2114640" cy="1800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pic003"/>
          <p:cNvPicPr/>
          <p:nvPr/>
        </p:nvPicPr>
        <p:blipFill>
          <a:blip r:embed="rId4"/>
          <a:stretch/>
        </p:blipFill>
        <p:spPr>
          <a:xfrm>
            <a:off x="1066680" y="3049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"/>
          <p:cNvSpPr/>
          <p:nvPr/>
        </p:nvSpPr>
        <p:spPr>
          <a:xfrm>
            <a:off x="4414680" y="4572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讨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5"/>
          <p:cNvSpPr/>
          <p:nvPr/>
        </p:nvSpPr>
        <p:spPr>
          <a:xfrm>
            <a:off x="1600200" y="2438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7" descr="田力男3"/>
          <p:cNvPicPr/>
          <p:nvPr/>
        </p:nvPicPr>
        <p:blipFill>
          <a:blip r:embed="rId5"/>
          <a:stretch/>
        </p:blipFill>
        <p:spPr>
          <a:xfrm>
            <a:off x="4800600" y="2209680"/>
            <a:ext cx="676440" cy="9651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5" descr="树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195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4" descr="树2"/>
          <p:cNvPicPr/>
          <p:nvPr/>
        </p:nvPicPr>
        <p:blipFill>
          <a:blip r:embed="rId8"/>
          <a:stretch/>
        </p:blipFill>
        <p:spPr>
          <a:xfrm>
            <a:off x="609588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0" descr="树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8640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9" descr="树2"/>
          <p:cNvPicPr/>
          <p:nvPr/>
        </p:nvPicPr>
        <p:blipFill>
          <a:blip r:embed="rId11"/>
          <a:stretch/>
        </p:blipFill>
        <p:spPr>
          <a:xfrm>
            <a:off x="48769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8" descr="树2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29000" y="3657600"/>
            <a:ext cx="676440" cy="1257480"/>
          </a:xfrm>
          <a:prstGeom prst="rect">
            <a:avLst/>
          </a:prstGeom>
          <a:ln w="0">
            <a:noFill/>
          </a:ln>
        </p:spPr>
      </p:pic>
      <p:sp>
        <p:nvSpPr>
          <p:cNvPr id="635" name="Line 17"/>
          <p:cNvSpPr/>
          <p:nvPr/>
        </p:nvSpPr>
        <p:spPr>
          <a:xfrm>
            <a:off x="6781680" y="419112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6" descr="森林1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315200" y="3657600"/>
            <a:ext cx="1514520" cy="1285920"/>
          </a:xfrm>
          <a:prstGeom prst="rect">
            <a:avLst/>
          </a:prstGeom>
          <a:ln w="0">
            <a:noFill/>
          </a:ln>
        </p:spPr>
      </p:pic>
      <p:sp>
        <p:nvSpPr>
          <p:cNvPr id="637" name="Line 10"/>
          <p:cNvSpPr/>
          <p:nvPr/>
        </p:nvSpPr>
        <p:spPr>
          <a:xfrm>
            <a:off x="5715000" y="5867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11" descr="众人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400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4" descr="火"/>
          <p:cNvPicPr/>
          <p:nvPr/>
        </p:nvPicPr>
        <p:blipFill>
          <a:blip r:embed="rId18"/>
          <a:stretch/>
        </p:blipFill>
        <p:spPr>
          <a:xfrm>
            <a:off x="380880" y="1600200"/>
            <a:ext cx="1152720" cy="148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火灭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209680" y="1676520"/>
            <a:ext cx="542880" cy="11998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1"/>
          <p:cNvSpPr/>
          <p:nvPr/>
        </p:nvSpPr>
        <p:spPr>
          <a:xfrm>
            <a:off x="0" y="1523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21" descr="休息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10280" y="1371600"/>
            <a:ext cx="1409760" cy="20764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2" descr="手2"/>
          <p:cNvPicPr/>
          <p:nvPr/>
        </p:nvPicPr>
        <p:blipFill>
          <a:blip r:embed="rId23"/>
          <a:stretch/>
        </p:blipFill>
        <p:spPr>
          <a:xfrm>
            <a:off x="914400" y="3505320"/>
            <a:ext cx="1219320" cy="9428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9" descr="人1"/>
          <p:cNvPicPr/>
          <p:nvPr/>
        </p:nvPicPr>
        <p:blipFill>
          <a:blip r:embed="rId24"/>
          <a:stretch/>
        </p:blipFill>
        <p:spPr>
          <a:xfrm>
            <a:off x="36576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人1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98108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人1"/>
          <p:cNvPicPr/>
          <p:nvPr/>
        </p:nvPicPr>
        <p:blipFill>
          <a:blip r:embed="rId27"/>
          <a:stretch/>
        </p:blipFill>
        <p:spPr>
          <a:xfrm>
            <a:off x="50292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人1"/>
          <p:cNvPicPr/>
          <p:nvPr/>
        </p:nvPicPr>
        <p:blipFill>
          <a:blip r:embed="rId28"/>
          <a:stretch/>
        </p:blipFill>
        <p:spPr>
          <a:xfrm>
            <a:off x="43434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人1"/>
          <p:cNvPicPr/>
          <p:nvPr/>
        </p:nvPicPr>
        <p:blipFill>
          <a:blip r:embed="rId29"/>
          <a:stretch/>
        </p:blipFill>
        <p:spPr>
          <a:xfrm>
            <a:off x="1295280" y="5334120"/>
            <a:ext cx="638280" cy="1228680"/>
          </a:xfrm>
          <a:prstGeom prst="rect">
            <a:avLst/>
          </a:prstGeom>
          <a:ln w="0">
            <a:noFill/>
          </a:ln>
        </p:spPr>
      </p:pic>
      <p:sp>
        <p:nvSpPr>
          <p:cNvPr id="649" name="Line 26"/>
          <p:cNvSpPr/>
          <p:nvPr/>
        </p:nvSpPr>
        <p:spPr>
          <a:xfrm>
            <a:off x="457200" y="1981080"/>
            <a:ext cx="10825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3" descr="眼睛2"/>
          <p:cNvPicPr/>
          <p:nvPr/>
        </p:nvPicPr>
        <p:blipFill>
          <a:blip r:embed="rId30"/>
          <a:stretch/>
        </p:blipFill>
        <p:spPr>
          <a:xfrm>
            <a:off x="838080" y="4267080"/>
            <a:ext cx="1295640" cy="7714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520" y="13716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8"/>
          <p:cNvSpPr/>
          <p:nvPr/>
        </p:nvSpPr>
        <p:spPr>
          <a:xfrm>
            <a:off x="302832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9"/>
          <p:cNvSpPr/>
          <p:nvPr/>
        </p:nvSpPr>
        <p:spPr>
          <a:xfrm>
            <a:off x="638100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0"/>
          <p:cNvSpPr/>
          <p:nvPr/>
        </p:nvSpPr>
        <p:spPr>
          <a:xfrm>
            <a:off x="285120" y="33526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41"/>
          <p:cNvSpPr/>
          <p:nvPr/>
        </p:nvSpPr>
        <p:spPr>
          <a:xfrm>
            <a:off x="2266200" y="327672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2"/>
          <p:cNvSpPr/>
          <p:nvPr/>
        </p:nvSpPr>
        <p:spPr>
          <a:xfrm>
            <a:off x="4399920" y="34290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43"/>
          <p:cNvSpPr/>
          <p:nvPr/>
        </p:nvSpPr>
        <p:spPr>
          <a:xfrm>
            <a:off x="380520" y="530064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4"/>
          <p:cNvSpPr/>
          <p:nvPr/>
        </p:nvSpPr>
        <p:spPr>
          <a:xfrm>
            <a:off x="2952000" y="52578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5">
            <a:hlinkClick r:id="rId31" action="ppaction://hlinksldjump"/>
          </p:cNvPr>
          <p:cNvSpPr/>
          <p:nvPr/>
        </p:nvSpPr>
        <p:spPr>
          <a:xfrm>
            <a:off x="8352000" y="628344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7878" y="3794"/>
                </a:moveTo>
                <a:lnTo>
                  <a:pt x="21891" y="10800"/>
                </a:lnTo>
                <a:lnTo>
                  <a:pt x="787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页脚占位符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A1D9-4EC3-45E4-B818-244349E67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63" name="Line 3"/>
          <p:cNvSpPr/>
          <p:nvPr/>
        </p:nvSpPr>
        <p:spPr>
          <a:xfrm>
            <a:off x="4114800" y="1981080"/>
            <a:ext cx="127152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火"/>
          <p:cNvPicPr/>
          <p:nvPr/>
        </p:nvPicPr>
        <p:blipFill>
          <a:blip r:embed="rId4"/>
          <a:stretch/>
        </p:blipFill>
        <p:spPr>
          <a:xfrm>
            <a:off x="2590920" y="990720"/>
            <a:ext cx="1417680" cy="18288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火灭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38680" y="1219320"/>
            <a:ext cx="654120" cy="1447560"/>
          </a:xfrm>
          <a:prstGeom prst="rect">
            <a:avLst/>
          </a:prstGeom>
          <a:ln w="0">
            <a:noFill/>
          </a:ln>
        </p:spPr>
      </p:pic>
      <p:sp>
        <p:nvSpPr>
          <p:cNvPr id="666" name="Line 6"/>
          <p:cNvSpPr/>
          <p:nvPr/>
        </p:nvSpPr>
        <p:spPr>
          <a:xfrm>
            <a:off x="2743200" y="1143000"/>
            <a:ext cx="10666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2779200" y="4267080"/>
            <a:ext cx="335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火　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5639760" y="3429000"/>
            <a:ext cx="155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è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9" descr="pic01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11">
            <a:hlinkClick r:id="rId8" action="ppaction://hlinksldjump"/>
          </p:cNvPr>
          <p:cNvSpPr/>
          <p:nvPr/>
        </p:nvSpPr>
        <p:spPr>
          <a:xfrm>
            <a:off x="550872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3:12:57Z</dcterms:created>
  <dc:creator/>
  <dc:description/>
  <dc:language>en-US</dc:language>
  <cp:lastModifiedBy>User</cp:lastModifiedBy>
  <dcterms:modified xsi:type="dcterms:W3CDTF">2016-10-05T14:43:0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