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18.png" ContentType="image/png"/>
  <Override PartName="/ppt/media/image25.gif" ContentType="image/gif"/>
  <Override PartName="/ppt/media/image26.jpeg" ContentType="image/jpeg"/>
  <Override PartName="/ppt/media/projctor.wav" ContentType="audio/x-wav"/>
  <Override PartName="/ppt/media/image22.png" ContentType="image/png"/>
  <Override PartName="/ppt/media/image24.jpeg" ContentType="image/jpeg"/>
  <Override PartName="/ppt/media/image13.gif" ContentType="image/gif"/>
  <Override PartName="/ppt/media/image16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arrow.wav" ContentType="audio/x-wav"/>
  <Override PartName="/ppt/media/image23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gif" ContentType="image/gif"/>
  <Override PartName="/ppt/media/image33.jpeg" ContentType="image/jpeg"/>
  <Override PartName="/ppt/media/image27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9.wmf" ContentType="image/x-wmf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E0C-01E5-4D5D-AF96-23DF8852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984-D793-4B7C-B4EE-CDB776D2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1A7A9-370C-4D5D-BBB4-5EE3527B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EDC6B-098F-428A-9F0E-2D5BEE20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68C58-CEA9-47C7-A4AA-0FFE3638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0B9B6-D764-4C04-A48A-B1F86F4B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C374C-0192-440C-92DB-DFAF8FBD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917E5-8C43-4C72-8B03-C952432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0C19-B9F5-4091-AFE6-4D20C4F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0308-A824-431F-8D7B-ED69DC4C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7F5CC-EEE4-42DA-82C7-A26E9C59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AA584-F9DA-4FAB-B89D-ECDD658FE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697-22A5-45CB-A834-200E1B7D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8D1B2-785F-4918-817F-E6E26E1F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D76A1-2D56-4CCA-A8A3-53ADD252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170C8-4E64-4A25-81E6-BA1B896D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8BCE6-C961-4AEC-956C-3EF11A9D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01F19-1B2B-43AB-B0AE-953B152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4FF6F-4D55-492B-BE52-CD80F5F5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F0053-38A7-4C9F-B0A2-D94718E0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9FF7F-6EBE-4B54-BF04-E4C4686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6B95E-55B7-4B9E-9644-42520C23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5BE6D-569B-4428-A808-64C4232F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6A9-9D85-478E-9165-0B5B093B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80973-9F1D-467C-AA3C-05A965BF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25961-76E6-48C6-A82F-34323F1F1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11FC2-8FAD-494E-91CB-8A18EF53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2354-2AC2-4CD7-B974-1329B049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A557E-C81A-4FFD-A1D9-C8A6078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5A462-CEBE-4C89-8690-1D72114B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5D4CF-E155-4067-8612-38D32543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CE976-5CC8-4253-853E-C878B12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9DD71-4D3A-43BC-A2B4-366B81AE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1D0D1-5904-4ADC-A048-29DAEB36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E7AA-0BFF-4AFD-A0BB-F53896A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6290-4B91-45A2-B18F-658DD37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53CD1-494F-4637-9598-479FA7C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C726C-709A-4DAE-B81D-3CDC9C8B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00653-DDA7-4426-9620-20CB8901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13393-3F9C-4F22-AE92-42EBEA83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54F3-2564-46BA-9D58-B68AF3F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4E8D6-519D-49AA-9ADB-C258785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C6DD3-DD5D-44DD-80D2-26DC56BF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303FC-70E4-44AD-BC2D-EBCF4DAF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E8001-85F4-4C75-A2BD-A21941EB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1FB6-B188-4690-B0E7-0B20C72F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7E6A1-F01B-41B2-85C4-4912D0C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75C3E-97DF-4DD9-98C2-8273AFB4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7FB93-3C28-43F4-A3A5-72F7DF2D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9D52-9C20-4110-998C-2972C558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08024-A03D-4C01-9771-B7B750D2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5B1CA0-11C3-41C0-9A77-51653C9E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9B29D-D52E-4B25-8CA3-D9B0A708F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EA96AF-1016-47F6-AED2-90B3DC8E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003F2F-C713-4F7A-9080-8FCBBB1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ADF79-9179-4EB7-9929-49FC1DBD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7819-BBE6-42BA-BB74-215F368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AA13FC-2667-459E-9D5A-9D44855D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762308-A041-412A-B5BA-C48F67C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2B58FE-29C4-473C-8B5B-40F751DE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FB7EA0-6570-4815-989C-99AF3CA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101329-F8EC-4FA0-9281-406CBA7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4BB049-E9F9-4E0B-A161-9F4B4BD8F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147A1C-F4EC-4BD3-8E3D-EF28BAEB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EDD-F6B6-4719-9583-6E9D14E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4602-E032-4C5E-AE43-43335916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BD9B-1909-470D-8E66-97A5418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6738-5EDD-4AF4-8292-0B566562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2B2-68EF-4E53-B9D8-68B65571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7C05-0BB4-4BB5-B304-9EE19B5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401C-7123-42CF-9AC8-CCC8045F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2641-AEB8-4BD3-B2B0-EC1CB005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1A95-E7E4-4851-8DDC-5F600BAE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8FB6-12E8-4955-816A-0F3046BF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48D62-D3D9-46B3-AFBB-2585EA16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1496-8308-4627-8B2D-CD973070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757E-9A49-4571-93C2-CE183DCA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D074-359A-4757-A75D-1F7DA66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F55E-84D1-49AE-92E5-723C1650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BF6-58E3-435A-9A1A-2ACFF158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B4E7-8DFC-452F-8397-74185837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7EC14-E268-4884-AD5F-ADD31911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3CA9-3FDF-4FAB-8C36-F5965D19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3C13-83A6-4363-ADDE-F67DDFF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5E7E-4DD6-4B09-8E2E-BF3BC801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21BF-DDA6-4D4B-84CA-C5A50FC2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DCF1-5530-4A07-BBD3-8C475041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59D4A-62ED-44FF-9ECC-A23804E5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606EF-7CEF-472D-8882-D71817C5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1579-095A-4928-9A88-39125546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DF9-B48E-48E3-8C48-27F43FCA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05F4-EDED-41A5-9F6C-6D339FCB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51B93-A034-4CAE-AE8A-BFAB59F5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74F7-ABE1-4DE4-95F6-5F692683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E0AF-4267-443E-BDC2-0B0CFFE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FC9E-C41F-4FE2-8EBF-74A27623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1B8F-450A-4303-8032-536590EF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574E-2298-47A2-A398-C9AD3E1C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434E3-C282-4ED1-89CE-68F8AE74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C6E4-72B7-47FD-ABF2-6E1DC8D4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4AE74-FBAF-44A7-985A-6EC300A6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E18-0C68-4F64-BF39-189160DA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C937-EFEB-47DD-BB6B-DFEF3B73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8B7B5-16B3-457A-BC40-E7B3C62A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45602-EB88-4E83-AB79-2EB669DE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C07B9-C7D4-410B-BF69-FF5E05D5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54BA9-204D-4F72-8CC8-4A939C16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C6FB-6E9E-45EC-8E60-3117D30C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9B092-10A1-4DA3-A69D-A494B97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F9A1-343B-4345-B9C7-F084AA3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568EB-8459-4CEE-AA67-98B24B4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81D32-CFF9-46DD-AC69-010309FD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2396-D758-4636-840D-724F2CB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B30D3-DBFF-478A-9C66-795F26C2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D7FE0-53FA-45CC-9444-5D1376BB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3B458-C325-4145-AA10-C629FD3A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498DB-E691-4DD3-9237-67B0203A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D4AB-9C34-40F5-902B-2F9BDE73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65DBE-8E18-4A5E-8F02-9FE3A7B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3FEBC-1040-49D8-8663-FA9A7947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AAED-8412-4156-8035-6ACA9579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00D2-9EAA-4F99-866F-B302E13F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00F8-8298-44D1-A768-415F1C0D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CFC-3E45-48D9-A29C-F2C100A6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1A340-4CE1-4C33-A65D-CA9B851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49C6C-8499-4CA2-8EE8-700DAFB4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8EBF-9CE7-4A22-BAFC-582E3D9A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60F6-3262-4E88-A488-FCC060D8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7AEB1-5FC1-42A2-A09F-C1B4E7CE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4D35E-710D-48EB-81BE-DAA34B0A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020F-F940-4558-AB57-23CFF043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8005-C276-4BDB-8943-081C0B1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FCC5D-61CA-48AF-9272-82A48238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102D-3712-4783-8ABA-3E825B60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E25-66DE-4315-8083-2676EEE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9299A-6EFE-47E4-ADB1-7129412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AFBA1-EBC1-4EC0-AA1D-66BA8C9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17721-F528-4515-B67E-81327567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C94C7-1B73-431A-A354-34B6D7B4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16AEE-258B-42C2-B8DB-4DFD4A66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B47B-CE97-4245-A052-0E89B532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4127-232D-4FB3-9BBD-A034B472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25124-F107-4F35-8B87-11C3AC36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6D333-3C8A-4D9E-8421-CE159C9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E7EBD-6303-4254-8E7F-CE62A6C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A97-4491-43FF-9876-06BBBD6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0DED0-9EB1-4D11-9476-3D38F407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03095-754D-434B-9584-04CFC99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AF090-A0C1-4579-8847-517A2270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AD045-B357-409C-9C9F-13E1D3D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C5183-5083-4174-AC29-5A4CB55B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17062-3ED7-4485-A64B-9B3FE1DC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4DE6B-040F-4310-834B-4D6AE02B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99B4E-792A-4835-B2D3-096E46F2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24C0D-C5C6-43B7-ACB4-12C17D8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3F061-AD03-4485-AB9B-99FB604F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D3B-D6EC-4563-ABBB-26DAA3F83C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47BD-0B3A-40D5-B1F2-0E3180F2A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130C-F519-43AC-B68C-5A12A7C758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4716-C85F-45AC-9E89-54B2E4030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3E0B-31BC-4552-A020-7F8B5E875D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84F1-8462-4371-B5C8-63ED58A5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46BB-4903-4A3D-A7E3-A875EE88FE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836-E2A9-4ACF-B757-36B457295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1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7B14-32D1-450D-8879-D331AF161FD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AA11-5ECB-4AE7-9AA9-300A2B536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E9EB-2E45-4F45-A1F3-DB9F9E339661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0E66-CF93-4666-B7A4-58B2AD151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307B-88F9-4797-A52E-E0A55F81B55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2F7D-9995-4559-BDEA-B251FD1AD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2F6B-7D0E-4BF2-AC67-E67147DF91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5D24-9F4F-4A0B-ADD0-EE5310BE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7665-A04C-4A78-A109-9B5A456255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06FE-162A-4029-BB3C-453034E67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FCB0-611C-4537-935C-9FCD326B0E8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B8DB-18EE-4AF0-BADE-BA05B7DB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94C3-9A3A-4134-AD28-B5130963A3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1925-C01D-4A4A-8DBC-351C33B9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1D34-F5D6-4F4D-B9C1-E48AB80BA7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2B53-6EA9-4C1E-8740-024C5C894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05F3-A1F2-4592-B461-F173859878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FE2-B2A6-47F2-892C-11AD010C1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26.jpeg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0.xml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slide" Target="slide12.xml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" Target="slide13.xml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" Target="slide12.xml"/><Relationship Id="rId13" Type="http://schemas.openxmlformats.org/officeDocument/2006/relationships/image" Target="../media/image15.jpeg"/><Relationship Id="rId14" Type="http://schemas.openxmlformats.org/officeDocument/2006/relationships/slide" Target="slide13.xml"/><Relationship Id="rId15" Type="http://schemas.openxmlformats.org/officeDocument/2006/relationships/image" Target="../media/image16.jpeg"/><Relationship Id="rId16" Type="http://schemas.openxmlformats.org/officeDocument/2006/relationships/slide" Target="slide15.xml"/><Relationship Id="rId17" Type="http://schemas.openxmlformats.org/officeDocument/2006/relationships/image" Target="../media/image17.jpeg"/><Relationship Id="rId18" Type="http://schemas.openxmlformats.org/officeDocument/2006/relationships/image" Target="../media/image18.png"/><Relationship Id="rId19" Type="http://schemas.openxmlformats.org/officeDocument/2006/relationships/slide" Target="slide9.xml"/><Relationship Id="rId20" Type="http://schemas.openxmlformats.org/officeDocument/2006/relationships/image" Target="../media/image19.wmf"/><Relationship Id="rId21" Type="http://schemas.openxmlformats.org/officeDocument/2006/relationships/slide" Target="slide11.xml"/><Relationship Id="rId22" Type="http://schemas.openxmlformats.org/officeDocument/2006/relationships/image" Target="../media/image20.jpeg"/><Relationship Id="rId23" Type="http://schemas.openxmlformats.org/officeDocument/2006/relationships/image" Target="../media/image21.jpeg"/><Relationship Id="rId24" Type="http://schemas.openxmlformats.org/officeDocument/2006/relationships/image" Target="../media/image22.png"/><Relationship Id="rId25" Type="http://schemas.openxmlformats.org/officeDocument/2006/relationships/slide" Target="slide14.xml"/><Relationship Id="rId26" Type="http://schemas.openxmlformats.org/officeDocument/2006/relationships/image" Target="../media/image22.png"/><Relationship Id="rId27" Type="http://schemas.openxmlformats.org/officeDocument/2006/relationships/image" Target="../media/image22.png"/><Relationship Id="rId28" Type="http://schemas.openxmlformats.org/officeDocument/2006/relationships/image" Target="../media/image22.png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slide" Target="slide16.xml"/><Relationship Id="rId3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18.png"/><Relationship Id="rId5" Type="http://schemas.openxmlformats.org/officeDocument/2006/relationships/slide" Target="slide9.xml"/><Relationship Id="rId6" Type="http://schemas.openxmlformats.org/officeDocument/2006/relationships/image" Target="../media/image19.wmf"/><Relationship Id="rId7" Type="http://schemas.openxmlformats.org/officeDocument/2006/relationships/image" Target="../media/image25.gif"/><Relationship Id="rId8" Type="http://schemas.openxmlformats.org/officeDocument/2006/relationships/slide" Target="slide8.xml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7F9-3511-4D74-95F4-49A0B7E16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huangtaiyang"/>
          <p:cNvPicPr/>
          <p:nvPr/>
        </p:nvPicPr>
        <p:blipFill>
          <a:blip r:embed="rId1"/>
          <a:stretch/>
        </p:blipFill>
        <p:spPr>
          <a:xfrm>
            <a:off x="0" y="3124080"/>
            <a:ext cx="4343400" cy="373392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7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矩形 1434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9584E-006 C 0.00712 -0.06337 0.01424 -0.12673 0.03525 -0.17206 C 0.05625 -0.21739 0.09375 -0.2426 0.12605 -0.27243 C 0.15834 -0.3025 0.1915 -0.32678 0.22917 -0.35245 C 0.26684 -0.37812 0.33004 -0.41235 0.35226 -0.42623 C 0.37448 -0.4401 0.36875 -0.43825 0.36302 -0.4364 E">
                                      <p:cBhvr>
                                        <p:cTn id="6" dur="5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1FFC-55D9-4C2F-8E51-7B40AB2A6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Picture 3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00200" y="380880"/>
            <a:ext cx="4419720" cy="5943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" descr="田力男3"/>
          <p:cNvPicPr/>
          <p:nvPr/>
        </p:nvPicPr>
        <p:blipFill>
          <a:blip r:embed="rId4"/>
          <a:stretch/>
        </p:blipFill>
        <p:spPr>
          <a:xfrm>
            <a:off x="3581280" y="3429000"/>
            <a:ext cx="2030400" cy="289548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5"/>
          <p:cNvSpPr/>
          <p:nvPr/>
        </p:nvSpPr>
        <p:spPr>
          <a:xfrm>
            <a:off x="6781680" y="304920"/>
            <a:ext cx="167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6716520" y="4005360"/>
            <a:ext cx="16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á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9"/>
          <p:cNvSpPr/>
          <p:nvPr/>
        </p:nvSpPr>
        <p:spPr>
          <a:xfrm>
            <a:off x="8352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476-F906-4F3E-889C-995080B8D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4" descr="休息"/>
          <p:cNvPicPr/>
          <p:nvPr/>
        </p:nvPicPr>
        <p:blipFill>
          <a:blip r:embed="rId1"/>
          <a:stretch/>
        </p:blipFill>
        <p:spPr>
          <a:xfrm>
            <a:off x="304920" y="304920"/>
            <a:ext cx="4140000" cy="609588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5"/>
          <p:cNvSpPr/>
          <p:nvPr/>
        </p:nvSpPr>
        <p:spPr>
          <a:xfrm>
            <a:off x="4495680" y="457200"/>
            <a:ext cx="4648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木</a:t>
            </a:r>
            <a:r>
              <a:rPr b="1" lang="zh-CN" sz="15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6443640" y="350028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559560" y="2924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ū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061E-EF40-4BE8-8C97-172CCF87D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1027" descr="树2"/>
          <p:cNvPicPr/>
          <p:nvPr/>
        </p:nvPicPr>
        <p:blipFill>
          <a:blip r:embed="rId1"/>
          <a:stretch/>
        </p:blipFill>
        <p:spPr>
          <a:xfrm>
            <a:off x="990720" y="380880"/>
            <a:ext cx="1761840" cy="3276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029" descr="树2"/>
          <p:cNvPicPr/>
          <p:nvPr/>
        </p:nvPicPr>
        <p:blipFill>
          <a:blip r:embed="rId2"/>
          <a:stretch/>
        </p:blipFill>
        <p:spPr>
          <a:xfrm>
            <a:off x="2743200" y="380880"/>
            <a:ext cx="17622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689" name="Group 1037"/>
          <p:cNvGrpSpPr/>
          <p:nvPr/>
        </p:nvGrpSpPr>
        <p:grpSpPr>
          <a:xfrm>
            <a:off x="533520" y="3581280"/>
            <a:ext cx="4343400" cy="2379960"/>
            <a:chOff x="533520" y="3581280"/>
            <a:chExt cx="4343400" cy="2379960"/>
          </a:xfrm>
        </p:grpSpPr>
        <p:sp>
          <p:nvSpPr>
            <p:cNvPr id="690" name="Rectangle 1032"/>
            <p:cNvSpPr/>
            <p:nvPr/>
          </p:nvSpPr>
          <p:spPr>
            <a:xfrm>
              <a:off x="533520" y="3581280"/>
              <a:ext cx="220968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33"/>
            <p:cNvSpPr/>
            <p:nvPr/>
          </p:nvSpPr>
          <p:spPr>
            <a:xfrm>
              <a:off x="2666880" y="3581280"/>
              <a:ext cx="221004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1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Rectangle 1034"/>
          <p:cNvSpPr/>
          <p:nvPr/>
        </p:nvSpPr>
        <p:spPr>
          <a:xfrm>
            <a:off x="5943600" y="2590920"/>
            <a:ext cx="2895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林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036"/>
          <p:cNvSpPr/>
          <p:nvPr/>
        </p:nvSpPr>
        <p:spPr>
          <a:xfrm>
            <a:off x="6477120" y="1295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lí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1038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7C43-E4F0-4ADE-9811-15C0FFF92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Picture 3" descr="树2"/>
          <p:cNvPicPr/>
          <p:nvPr/>
        </p:nvPicPr>
        <p:blipFill>
          <a:blip r:embed="rId1"/>
          <a:stretch/>
        </p:blipFill>
        <p:spPr>
          <a:xfrm>
            <a:off x="3352680" y="533520"/>
            <a:ext cx="1311480" cy="2438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树2"/>
          <p:cNvPicPr/>
          <p:nvPr/>
        </p:nvPicPr>
        <p:blipFill>
          <a:blip r:embed="rId2"/>
          <a:stretch/>
        </p:blipFill>
        <p:spPr>
          <a:xfrm>
            <a:off x="2057400" y="533520"/>
            <a:ext cx="1311120" cy="24382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树2"/>
          <p:cNvPicPr/>
          <p:nvPr/>
        </p:nvPicPr>
        <p:blipFill>
          <a:blip r:embed="rId3"/>
          <a:stretch/>
        </p:blipFill>
        <p:spPr>
          <a:xfrm>
            <a:off x="762120" y="533520"/>
            <a:ext cx="1311120" cy="2438280"/>
          </a:xfrm>
          <a:prstGeom prst="rect">
            <a:avLst/>
          </a:prstGeom>
          <a:ln w="0">
            <a:noFill/>
          </a:ln>
        </p:spPr>
      </p:pic>
      <p:sp>
        <p:nvSpPr>
          <p:cNvPr id="700" name="Line 6"/>
          <p:cNvSpPr/>
          <p:nvPr/>
        </p:nvSpPr>
        <p:spPr>
          <a:xfrm>
            <a:off x="4648320" y="1752480"/>
            <a:ext cx="133488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Picture 7" descr="森林1"/>
          <p:cNvPicPr/>
          <p:nvPr/>
        </p:nvPicPr>
        <p:blipFill>
          <a:blip r:embed="rId4"/>
          <a:stretch/>
        </p:blipFill>
        <p:spPr>
          <a:xfrm>
            <a:off x="6019920" y="533520"/>
            <a:ext cx="2895480" cy="2458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14"/>
          <p:cNvGrpSpPr/>
          <p:nvPr/>
        </p:nvGrpSpPr>
        <p:grpSpPr>
          <a:xfrm>
            <a:off x="762120" y="4419720"/>
            <a:ext cx="3733560" cy="1434600"/>
            <a:chOff x="762120" y="4419720"/>
            <a:chExt cx="3733560" cy="1434600"/>
          </a:xfrm>
        </p:grpSpPr>
        <p:sp>
          <p:nvSpPr>
            <p:cNvPr id="703" name="Rectangle 8"/>
            <p:cNvSpPr/>
            <p:nvPr/>
          </p:nvSpPr>
          <p:spPr>
            <a:xfrm>
              <a:off x="76212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10"/>
            <p:cNvSpPr/>
            <p:nvPr/>
          </p:nvSpPr>
          <p:spPr>
            <a:xfrm>
              <a:off x="335268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1"/>
            <p:cNvSpPr/>
            <p:nvPr/>
          </p:nvSpPr>
          <p:spPr>
            <a:xfrm>
              <a:off x="2057400" y="4419720"/>
              <a:ext cx="1143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木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12"/>
          <p:cNvSpPr/>
          <p:nvPr/>
        </p:nvSpPr>
        <p:spPr>
          <a:xfrm>
            <a:off x="6019920" y="4191120"/>
            <a:ext cx="18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13"/>
          <p:cNvSpPr/>
          <p:nvPr/>
        </p:nvSpPr>
        <p:spPr>
          <a:xfrm>
            <a:off x="5943600" y="31240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sēn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15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800E-89D7-4F0B-8578-AF37AE4B7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4" descr="人1"/>
          <p:cNvPicPr/>
          <p:nvPr/>
        </p:nvPicPr>
        <p:blipFill>
          <a:blip r:embed="rId1"/>
          <a:stretch/>
        </p:blipFill>
        <p:spPr>
          <a:xfrm>
            <a:off x="3348000" y="333360"/>
            <a:ext cx="2073240" cy="39956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5" descr="人1"/>
          <p:cNvPicPr/>
          <p:nvPr/>
        </p:nvPicPr>
        <p:blipFill>
          <a:blip r:embed="rId2"/>
          <a:stretch/>
        </p:blipFill>
        <p:spPr>
          <a:xfrm>
            <a:off x="1187280" y="476280"/>
            <a:ext cx="2038680" cy="392436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6"/>
          <p:cNvSpPr/>
          <p:nvPr/>
        </p:nvSpPr>
        <p:spPr>
          <a:xfrm>
            <a:off x="147636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7"/>
          <p:cNvSpPr/>
          <p:nvPr/>
        </p:nvSpPr>
        <p:spPr>
          <a:xfrm>
            <a:off x="3635280" y="486900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6084720" y="2924280"/>
            <a:ext cx="2519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AA41-9647-432F-849C-2D457B2D3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3708360" y="2276640"/>
            <a:ext cx="1593720" cy="93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5" descr="众人"/>
          <p:cNvPicPr/>
          <p:nvPr/>
        </p:nvPicPr>
        <p:blipFill>
          <a:blip r:embed="rId1"/>
          <a:stretch/>
        </p:blipFill>
        <p:spPr>
          <a:xfrm>
            <a:off x="5867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6" descr="人1"/>
          <p:cNvPicPr/>
          <p:nvPr/>
        </p:nvPicPr>
        <p:blipFill>
          <a:blip r:embed="rId2"/>
          <a:stretch/>
        </p:blipFill>
        <p:spPr>
          <a:xfrm>
            <a:off x="611280" y="1341360"/>
            <a:ext cx="1104840" cy="21272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7" descr="人1"/>
          <p:cNvPicPr/>
          <p:nvPr/>
        </p:nvPicPr>
        <p:blipFill>
          <a:blip r:embed="rId3"/>
          <a:stretch/>
        </p:blipFill>
        <p:spPr>
          <a:xfrm>
            <a:off x="2411280" y="1557360"/>
            <a:ext cx="1009800" cy="19429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8" descr="人1"/>
          <p:cNvPicPr/>
          <p:nvPr/>
        </p:nvPicPr>
        <p:blipFill>
          <a:blip r:embed="rId4"/>
          <a:stretch/>
        </p:blipFill>
        <p:spPr>
          <a:xfrm>
            <a:off x="1619280" y="333360"/>
            <a:ext cx="1066680" cy="205416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9"/>
          <p:cNvSpPr/>
          <p:nvPr/>
        </p:nvSpPr>
        <p:spPr>
          <a:xfrm>
            <a:off x="684360" y="3789360"/>
            <a:ext cx="3958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     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10"/>
          <p:cNvSpPr/>
          <p:nvPr/>
        </p:nvSpPr>
        <p:spPr>
          <a:xfrm>
            <a:off x="5580000" y="3357720"/>
            <a:ext cx="3203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11"/>
          <p:cNvSpPr/>
          <p:nvPr/>
        </p:nvSpPr>
        <p:spPr>
          <a:xfrm>
            <a:off x="835200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22A6-E137-408C-AAA0-DC5E0C724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880280" y="1447920"/>
            <a:ext cx="56685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　鲜　尘　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灭　力　男　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　林　森　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"/>
          <p:cNvSpPr/>
          <p:nvPr/>
        </p:nvSpPr>
        <p:spPr>
          <a:xfrm>
            <a:off x="120636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cc0099"/>
                </a:solidFill>
                <a:latin typeface="Times New Roman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4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73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F72B-D1A2-4361-B8CA-895F4CCEF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3"/>
          <p:cNvSpPr/>
          <p:nvPr/>
        </p:nvSpPr>
        <p:spPr>
          <a:xfrm>
            <a:off x="971640" y="1052640"/>
            <a:ext cx="70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日  月  鱼  羊  小  土  大  一  火  田  力  人  木  手  目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977760" y="31780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261040" y="319572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手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WordArt 6"/>
          <p:cNvSpPr txBox="1"/>
          <p:nvPr/>
        </p:nvSpPr>
        <p:spPr>
          <a:xfrm>
            <a:off x="3059280" y="436572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lì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9" name="WordArt 7"/>
          <p:cNvSpPr txBox="1"/>
          <p:nvPr/>
        </p:nvSpPr>
        <p:spPr>
          <a:xfrm>
            <a:off x="4859280" y="4365720"/>
            <a:ext cx="1009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shǒu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74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 L 0.18038 0.2544 E">
                                      <p:cBhvr>
                                        <p:cTn id="169" dur="2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737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6 L -0.05174 0.24143 E">
                                      <p:cBhvr>
                                        <p:cTn id="179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evt="onClick">
                          <p:tgtEl>
                            <p:spTgt spid="737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75AA-EB8C-4D73-B4B6-2E0BCBB11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WordArt 3"/>
          <p:cNvSpPr txBox="1"/>
          <p:nvPr/>
        </p:nvSpPr>
        <p:spPr>
          <a:xfrm>
            <a:off x="6804000" y="1197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4" name="WordArt 4"/>
          <p:cNvSpPr txBox="1"/>
          <p:nvPr/>
        </p:nvSpPr>
        <p:spPr>
          <a:xfrm>
            <a:off x="3132000" y="1268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745" name="WordArt 5"/>
          <p:cNvSpPr txBox="1"/>
          <p:nvPr/>
        </p:nvSpPr>
        <p:spPr>
          <a:xfrm>
            <a:off x="305928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6" name="WordArt 6"/>
          <p:cNvSpPr txBox="1"/>
          <p:nvPr/>
        </p:nvSpPr>
        <p:spPr>
          <a:xfrm>
            <a:off x="6659640" y="34290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7" name="WordArt 7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日月明，鱼羊鲜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8" name="WordArt 8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土尘，小大尖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9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FFF-9C2B-4682-9447-F1EE04078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复件 PM_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WordArt 3"/>
          <p:cNvSpPr txBox="1"/>
          <p:nvPr/>
        </p:nvSpPr>
        <p:spPr>
          <a:xfrm>
            <a:off x="1476360" y="191628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火灭，田力男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3" name="WordArt 4"/>
          <p:cNvSpPr txBox="1"/>
          <p:nvPr/>
        </p:nvSpPr>
        <p:spPr>
          <a:xfrm>
            <a:off x="1403280" y="4005360"/>
            <a:ext cx="647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木休，手目看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4" name="WordArt 5"/>
          <p:cNvSpPr txBox="1"/>
          <p:nvPr/>
        </p:nvSpPr>
        <p:spPr>
          <a:xfrm>
            <a:off x="3203640" y="3357720"/>
            <a:ext cx="7189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5" name="WordArt 6"/>
          <p:cNvSpPr txBox="1"/>
          <p:nvPr/>
        </p:nvSpPr>
        <p:spPr>
          <a:xfrm>
            <a:off x="3276720" y="1268280"/>
            <a:ext cx="7189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6" name="WordArt 7"/>
          <p:cNvSpPr txBox="1"/>
          <p:nvPr/>
        </p:nvSpPr>
        <p:spPr>
          <a:xfrm>
            <a:off x="6877080" y="1268280"/>
            <a:ext cx="71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7" name="WordArt 8"/>
          <p:cNvSpPr txBox="1"/>
          <p:nvPr/>
        </p:nvSpPr>
        <p:spPr>
          <a:xfrm>
            <a:off x="6804000" y="3429000"/>
            <a:ext cx="71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kà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5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D6D-BE68-4D7A-9ADF-743B565CA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"/>
          <p:cNvSpPr/>
          <p:nvPr/>
        </p:nvSpPr>
        <p:spPr>
          <a:xfrm>
            <a:off x="179280" y="3068640"/>
            <a:ext cx="2160720" cy="338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3"/>
          <p:cNvSpPr txBox="1"/>
          <p:nvPr/>
        </p:nvSpPr>
        <p:spPr>
          <a:xfrm>
            <a:off x="2050920" y="3500280"/>
            <a:ext cx="223200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5723E-006 C 0.04409 -0.05318 0.08819 -0.10612 0.12291 -0.14034 C 0.15746 -0.17456 0.16666 -0.17826 0.20885 -0.20462 C 0.25121 -0.23075 0.30416 -0.26844 0.37621 -0.29803 C 0.44826 -0.32786 0.59739 -0.36878 0.64184 -0.38266 E">
                                      <p:cBhvr>
                                        <p:cTn id="18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EDB9-5D8F-4270-8EAB-F18B0FABF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复件 PM_030"/>
          <p:cNvPicPr/>
          <p:nvPr/>
        </p:nvPicPr>
        <p:blipFill>
          <a:blip r:embed="rId1"/>
          <a:stretch/>
        </p:blipFill>
        <p:spPr>
          <a:xfrm>
            <a:off x="-28440" y="-196920"/>
            <a:ext cx="9172440" cy="705492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 txBox="1"/>
          <p:nvPr/>
        </p:nvSpPr>
        <p:spPr>
          <a:xfrm>
            <a:off x="2055600" y="2662200"/>
            <a:ext cx="4964040" cy="31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WordArt 4"/>
          <p:cNvSpPr txBox="1"/>
          <p:nvPr/>
        </p:nvSpPr>
        <p:spPr>
          <a:xfrm>
            <a:off x="6877080" y="134136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3" name="WordArt 5"/>
          <p:cNvSpPr txBox="1"/>
          <p:nvPr/>
        </p:nvSpPr>
        <p:spPr>
          <a:xfrm>
            <a:off x="3276720" y="1268280"/>
            <a:ext cx="900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4" name="WordArt 6"/>
          <p:cNvSpPr txBox="1"/>
          <p:nvPr/>
        </p:nvSpPr>
        <p:spPr>
          <a:xfrm>
            <a:off x="3276720" y="32846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5" name="WordArt 7"/>
          <p:cNvSpPr txBox="1"/>
          <p:nvPr/>
        </p:nvSpPr>
        <p:spPr>
          <a:xfrm>
            <a:off x="6804000" y="31417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808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6" name="WordArt 8"/>
          <p:cNvSpPr txBox="1"/>
          <p:nvPr/>
        </p:nvSpPr>
        <p:spPr>
          <a:xfrm>
            <a:off x="1476360" y="1773360"/>
            <a:ext cx="64785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木林，三木森，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7" name="WordArt 9"/>
          <p:cNvSpPr txBox="1"/>
          <p:nvPr/>
        </p:nvSpPr>
        <p:spPr>
          <a:xfrm>
            <a:off x="1547640" y="3716280"/>
            <a:ext cx="64789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二人从，三人众。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68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308-40FB-4C58-9807-0C951DEC7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2" descr="4"/>
          <p:cNvPicPr/>
          <p:nvPr/>
        </p:nvPicPr>
        <p:blipFill>
          <a:blip r:embed="rId1"/>
          <a:stretch/>
        </p:blipFill>
        <p:spPr>
          <a:xfrm>
            <a:off x="-181080" y="-387360"/>
            <a:ext cx="9541080" cy="7553160"/>
          </a:xfrm>
          <a:prstGeom prst="rect">
            <a:avLst/>
          </a:prstGeom>
          <a:ln w="0">
            <a:noFill/>
          </a:ln>
        </p:spPr>
      </p:pic>
      <p:sp>
        <p:nvSpPr>
          <p:cNvPr id="771" name="WordArt 3"/>
          <p:cNvSpPr txBox="1"/>
          <p:nvPr/>
        </p:nvSpPr>
        <p:spPr>
          <a:xfrm>
            <a:off x="161928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鲜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3348000" y="198900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3" name="WordArt 5"/>
          <p:cNvSpPr txBox="1"/>
          <p:nvPr/>
        </p:nvSpPr>
        <p:spPr>
          <a:xfrm>
            <a:off x="5508720" y="4797360"/>
            <a:ext cx="5032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灭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4" name="WordArt 6"/>
          <p:cNvSpPr txBox="1"/>
          <p:nvPr/>
        </p:nvSpPr>
        <p:spPr>
          <a:xfrm>
            <a:off x="6877080" y="4797360"/>
            <a:ext cx="50472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尘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5" name="WordArt 7"/>
          <p:cNvSpPr txBox="1"/>
          <p:nvPr/>
        </p:nvSpPr>
        <p:spPr>
          <a:xfrm>
            <a:off x="5076720" y="1989000"/>
            <a:ext cx="5763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休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6" name="WordArt 8"/>
          <p:cNvSpPr txBox="1"/>
          <p:nvPr/>
        </p:nvSpPr>
        <p:spPr>
          <a:xfrm>
            <a:off x="2916360" y="4870440"/>
            <a:ext cx="5047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男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7" name="WordArt 9"/>
          <p:cNvSpPr txBox="1"/>
          <p:nvPr/>
        </p:nvSpPr>
        <p:spPr>
          <a:xfrm>
            <a:off x="3348000" y="3357720"/>
            <a:ext cx="57636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8" name="WordArt 10"/>
          <p:cNvSpPr txBox="1"/>
          <p:nvPr/>
        </p:nvSpPr>
        <p:spPr>
          <a:xfrm>
            <a:off x="6732720" y="1989000"/>
            <a:ext cx="5745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森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79" name="WordArt 11"/>
          <p:cNvSpPr txBox="1"/>
          <p:nvPr/>
        </p:nvSpPr>
        <p:spPr>
          <a:xfrm>
            <a:off x="1619280" y="328464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从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0" name="WordArt 12"/>
          <p:cNvSpPr txBox="1"/>
          <p:nvPr/>
        </p:nvSpPr>
        <p:spPr>
          <a:xfrm>
            <a:off x="4211640" y="4797360"/>
            <a:ext cx="57636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尖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1" name="WordArt 13"/>
          <p:cNvSpPr txBox="1"/>
          <p:nvPr/>
        </p:nvSpPr>
        <p:spPr>
          <a:xfrm>
            <a:off x="1547640" y="4797360"/>
            <a:ext cx="503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众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2" name="WordArt 14"/>
          <p:cNvSpPr txBox="1"/>
          <p:nvPr/>
        </p:nvSpPr>
        <p:spPr>
          <a:xfrm>
            <a:off x="320364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í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3" name="WordArt 15"/>
          <p:cNvSpPr txBox="1"/>
          <p:nvPr/>
        </p:nvSpPr>
        <p:spPr>
          <a:xfrm>
            <a:off x="1403280" y="1197000"/>
            <a:ext cx="936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4" name="WordArt 16"/>
          <p:cNvSpPr txBox="1"/>
          <p:nvPr/>
        </p:nvSpPr>
        <p:spPr>
          <a:xfrm>
            <a:off x="6659640" y="4076640"/>
            <a:ext cx="93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hé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5" name="WordArt 17"/>
          <p:cNvSpPr txBox="1"/>
          <p:nvPr/>
        </p:nvSpPr>
        <p:spPr>
          <a:xfrm>
            <a:off x="4068720" y="4221000"/>
            <a:ext cx="86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jiā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6" name="WordArt 18"/>
          <p:cNvSpPr txBox="1"/>
          <p:nvPr/>
        </p:nvSpPr>
        <p:spPr>
          <a:xfrm>
            <a:off x="5435640" y="4149720"/>
            <a:ext cx="79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iè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7" name="WordArt 19"/>
          <p:cNvSpPr txBox="1"/>
          <p:nvPr/>
        </p:nvSpPr>
        <p:spPr>
          <a:xfrm>
            <a:off x="2771640" y="4149720"/>
            <a:ext cx="72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á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8" name="WordArt 20"/>
          <p:cNvSpPr txBox="1"/>
          <p:nvPr/>
        </p:nvSpPr>
        <p:spPr>
          <a:xfrm>
            <a:off x="5076720" y="1197000"/>
            <a:ext cx="6494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iū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9" name="WordArt 21"/>
          <p:cNvSpPr txBox="1"/>
          <p:nvPr/>
        </p:nvSpPr>
        <p:spPr>
          <a:xfrm>
            <a:off x="3276720" y="2708280"/>
            <a:ext cx="72072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í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0" name="WordArt 22"/>
          <p:cNvSpPr txBox="1"/>
          <p:nvPr/>
        </p:nvSpPr>
        <p:spPr>
          <a:xfrm>
            <a:off x="6661080" y="1197000"/>
            <a:ext cx="64764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ē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1" name="WordArt 23"/>
          <p:cNvSpPr txBox="1"/>
          <p:nvPr/>
        </p:nvSpPr>
        <p:spPr>
          <a:xfrm>
            <a:off x="1476360" y="2781360"/>
            <a:ext cx="86508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ó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2" name="WordArt 24"/>
          <p:cNvSpPr txBox="1"/>
          <p:nvPr/>
        </p:nvSpPr>
        <p:spPr>
          <a:xfrm>
            <a:off x="1260360" y="4149720"/>
            <a:ext cx="107964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hònɡ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3" name="WordArt 25"/>
          <p:cNvSpPr txBox="1"/>
          <p:nvPr/>
        </p:nvSpPr>
        <p:spPr>
          <a:xfrm>
            <a:off x="5076720" y="3357720"/>
            <a:ext cx="503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力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4" name="WordArt 26"/>
          <p:cNvSpPr txBox="1"/>
          <p:nvPr/>
        </p:nvSpPr>
        <p:spPr>
          <a:xfrm>
            <a:off x="6732720" y="3357720"/>
            <a:ext cx="57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手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5" name="WordArt 27"/>
          <p:cNvSpPr txBox="1"/>
          <p:nvPr/>
        </p:nvSpPr>
        <p:spPr>
          <a:xfrm>
            <a:off x="6516720" y="2708280"/>
            <a:ext cx="1008000" cy="5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hǒu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6" name="WordArt 28"/>
          <p:cNvSpPr txBox="1"/>
          <p:nvPr/>
        </p:nvSpPr>
        <p:spPr>
          <a:xfrm>
            <a:off x="5148360" y="2781360"/>
            <a:ext cx="431640" cy="46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ì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7" name="页脚占位符 3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1D24-8DF5-47A2-8081-9AE024AD7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9" name="Group 2"/>
          <p:cNvGrpSpPr/>
          <p:nvPr/>
        </p:nvGrpSpPr>
        <p:grpSpPr>
          <a:xfrm>
            <a:off x="6372360" y="4626000"/>
            <a:ext cx="2016000" cy="2232000"/>
            <a:chOff x="6372360" y="4626000"/>
            <a:chExt cx="2016000" cy="2232000"/>
          </a:xfrm>
        </p:grpSpPr>
        <p:sp>
          <p:nvSpPr>
            <p:cNvPr id="800" name="AutoShape 3"/>
            <p:cNvSpPr/>
            <p:nvPr/>
          </p:nvSpPr>
          <p:spPr>
            <a:xfrm>
              <a:off x="637236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WordArt 4"/>
            <p:cNvSpPr txBox="1"/>
            <p:nvPr/>
          </p:nvSpPr>
          <p:spPr>
            <a:xfrm>
              <a:off x="7078680" y="5506920"/>
              <a:ext cx="610920" cy="50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2" name="Group 5"/>
          <p:cNvGrpSpPr/>
          <p:nvPr/>
        </p:nvGrpSpPr>
        <p:grpSpPr>
          <a:xfrm>
            <a:off x="1403280" y="4678200"/>
            <a:ext cx="2016360" cy="2232360"/>
            <a:chOff x="1403280" y="4678200"/>
            <a:chExt cx="2016360" cy="2232360"/>
          </a:xfrm>
        </p:grpSpPr>
        <p:sp>
          <p:nvSpPr>
            <p:cNvPr id="803" name="AutoShape 6"/>
            <p:cNvSpPr/>
            <p:nvPr/>
          </p:nvSpPr>
          <p:spPr>
            <a:xfrm>
              <a:off x="140328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WordArt 7"/>
            <p:cNvSpPr txBox="1"/>
            <p:nvPr/>
          </p:nvSpPr>
          <p:spPr>
            <a:xfrm>
              <a:off x="2124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5" name="Group 8"/>
          <p:cNvGrpSpPr/>
          <p:nvPr/>
        </p:nvGrpSpPr>
        <p:grpSpPr>
          <a:xfrm>
            <a:off x="0" y="4678200"/>
            <a:ext cx="2016000" cy="2232360"/>
            <a:chOff x="0" y="4678200"/>
            <a:chExt cx="2016000" cy="2232360"/>
          </a:xfrm>
        </p:grpSpPr>
        <p:sp>
          <p:nvSpPr>
            <p:cNvPr id="806" name="AutoShape 9"/>
            <p:cNvSpPr/>
            <p:nvPr/>
          </p:nvSpPr>
          <p:spPr>
            <a:xfrm>
              <a:off x="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WordArt 10"/>
            <p:cNvSpPr txBox="1"/>
            <p:nvPr/>
          </p:nvSpPr>
          <p:spPr>
            <a:xfrm>
              <a:off x="720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鲜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08" name="Group 11"/>
          <p:cNvGrpSpPr/>
          <p:nvPr/>
        </p:nvGrpSpPr>
        <p:grpSpPr>
          <a:xfrm>
            <a:off x="2627280" y="4626000"/>
            <a:ext cx="2016000" cy="2232000"/>
            <a:chOff x="2627280" y="4626000"/>
            <a:chExt cx="2016000" cy="2232000"/>
          </a:xfrm>
        </p:grpSpPr>
        <p:sp>
          <p:nvSpPr>
            <p:cNvPr id="809" name="AutoShape 12"/>
            <p:cNvSpPr/>
            <p:nvPr/>
          </p:nvSpPr>
          <p:spPr>
            <a:xfrm>
              <a:off x="262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WordArt 13"/>
            <p:cNvSpPr txBox="1"/>
            <p:nvPr/>
          </p:nvSpPr>
          <p:spPr>
            <a:xfrm>
              <a:off x="3348000" y="551664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手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1" name="Group 14"/>
          <p:cNvGrpSpPr/>
          <p:nvPr/>
        </p:nvGrpSpPr>
        <p:grpSpPr>
          <a:xfrm>
            <a:off x="3851280" y="4678200"/>
            <a:ext cx="2016000" cy="2232360"/>
            <a:chOff x="3851280" y="4678200"/>
            <a:chExt cx="2016000" cy="2232360"/>
          </a:xfrm>
        </p:grpSpPr>
        <p:sp>
          <p:nvSpPr>
            <p:cNvPr id="812" name="AutoShape 15"/>
            <p:cNvSpPr/>
            <p:nvPr/>
          </p:nvSpPr>
          <p:spPr>
            <a:xfrm>
              <a:off x="385128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WordArt 16"/>
            <p:cNvSpPr txBox="1"/>
            <p:nvPr/>
          </p:nvSpPr>
          <p:spPr>
            <a:xfrm>
              <a:off x="457200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从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4" name="Group 17"/>
          <p:cNvGrpSpPr/>
          <p:nvPr/>
        </p:nvGrpSpPr>
        <p:grpSpPr>
          <a:xfrm>
            <a:off x="5219640" y="4678200"/>
            <a:ext cx="2016360" cy="2232360"/>
            <a:chOff x="5219640" y="4678200"/>
            <a:chExt cx="2016360" cy="2232360"/>
          </a:xfrm>
        </p:grpSpPr>
        <p:sp>
          <p:nvSpPr>
            <p:cNvPr id="815" name="AutoShape 18"/>
            <p:cNvSpPr/>
            <p:nvPr/>
          </p:nvSpPr>
          <p:spPr>
            <a:xfrm>
              <a:off x="521964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WordArt 19"/>
            <p:cNvSpPr txBox="1"/>
            <p:nvPr/>
          </p:nvSpPr>
          <p:spPr>
            <a:xfrm>
              <a:off x="594036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森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17" name="Group 20"/>
          <p:cNvGrpSpPr/>
          <p:nvPr/>
        </p:nvGrpSpPr>
        <p:grpSpPr>
          <a:xfrm>
            <a:off x="3132000" y="4678200"/>
            <a:ext cx="2016360" cy="2232360"/>
            <a:chOff x="3132000" y="4678200"/>
            <a:chExt cx="2016360" cy="2232360"/>
          </a:xfrm>
        </p:grpSpPr>
        <p:sp>
          <p:nvSpPr>
            <p:cNvPr id="818" name="AutoShape 21"/>
            <p:cNvSpPr/>
            <p:nvPr/>
          </p:nvSpPr>
          <p:spPr>
            <a:xfrm>
              <a:off x="3132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WordArt 22"/>
            <p:cNvSpPr txBox="1"/>
            <p:nvPr/>
          </p:nvSpPr>
          <p:spPr>
            <a:xfrm>
              <a:off x="3852720" y="5568840"/>
              <a:ext cx="61128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尘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0" name="Group 23"/>
          <p:cNvGrpSpPr/>
          <p:nvPr/>
        </p:nvGrpSpPr>
        <p:grpSpPr>
          <a:xfrm>
            <a:off x="684360" y="4678200"/>
            <a:ext cx="2016000" cy="2232360"/>
            <a:chOff x="684360" y="4678200"/>
            <a:chExt cx="2016000" cy="2232360"/>
          </a:xfrm>
        </p:grpSpPr>
        <p:sp>
          <p:nvSpPr>
            <p:cNvPr id="821" name="AutoShape 24"/>
            <p:cNvSpPr/>
            <p:nvPr/>
          </p:nvSpPr>
          <p:spPr>
            <a:xfrm>
              <a:off x="68436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WordArt 25"/>
            <p:cNvSpPr txBox="1"/>
            <p:nvPr/>
          </p:nvSpPr>
          <p:spPr>
            <a:xfrm>
              <a:off x="1405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男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3" name="Group 26"/>
          <p:cNvGrpSpPr/>
          <p:nvPr/>
        </p:nvGrpSpPr>
        <p:grpSpPr>
          <a:xfrm>
            <a:off x="1908000" y="4678200"/>
            <a:ext cx="2016360" cy="2232360"/>
            <a:chOff x="1908000" y="4678200"/>
            <a:chExt cx="2016360" cy="2232360"/>
          </a:xfrm>
        </p:grpSpPr>
        <p:sp>
          <p:nvSpPr>
            <p:cNvPr id="824" name="AutoShape 27"/>
            <p:cNvSpPr/>
            <p:nvPr/>
          </p:nvSpPr>
          <p:spPr>
            <a:xfrm>
              <a:off x="1908000" y="4678200"/>
              <a:ext cx="2016360" cy="223236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WordArt 28"/>
            <p:cNvSpPr txBox="1"/>
            <p:nvPr/>
          </p:nvSpPr>
          <p:spPr>
            <a:xfrm>
              <a:off x="262908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林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6" name="Group 29"/>
          <p:cNvGrpSpPr/>
          <p:nvPr/>
        </p:nvGrpSpPr>
        <p:grpSpPr>
          <a:xfrm>
            <a:off x="4500720" y="4678200"/>
            <a:ext cx="2016000" cy="2232360"/>
            <a:chOff x="4500720" y="4678200"/>
            <a:chExt cx="2016000" cy="2232360"/>
          </a:xfrm>
        </p:grpSpPr>
        <p:sp>
          <p:nvSpPr>
            <p:cNvPr id="827" name="AutoShape 30"/>
            <p:cNvSpPr/>
            <p:nvPr/>
          </p:nvSpPr>
          <p:spPr>
            <a:xfrm>
              <a:off x="450072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WordArt 31"/>
            <p:cNvSpPr txBox="1"/>
            <p:nvPr/>
          </p:nvSpPr>
          <p:spPr>
            <a:xfrm>
              <a:off x="522144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休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29" name="Group 32"/>
          <p:cNvGrpSpPr/>
          <p:nvPr/>
        </p:nvGrpSpPr>
        <p:grpSpPr>
          <a:xfrm>
            <a:off x="7128000" y="4678200"/>
            <a:ext cx="2016000" cy="2232360"/>
            <a:chOff x="7128000" y="4678200"/>
            <a:chExt cx="2016000" cy="2232360"/>
          </a:xfrm>
        </p:grpSpPr>
        <p:sp>
          <p:nvSpPr>
            <p:cNvPr id="830" name="AutoShape 33"/>
            <p:cNvSpPr/>
            <p:nvPr/>
          </p:nvSpPr>
          <p:spPr>
            <a:xfrm>
              <a:off x="7128000" y="4678200"/>
              <a:ext cx="2016000" cy="223236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360"/>
                <a:gd name="textAreaBottom" fmla="*/ 1403280 h 223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WordArt 34"/>
            <p:cNvSpPr txBox="1"/>
            <p:nvPr/>
          </p:nvSpPr>
          <p:spPr>
            <a:xfrm>
              <a:off x="7848360" y="5568840"/>
              <a:ext cx="61092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尖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2" name="Group 35"/>
          <p:cNvGrpSpPr/>
          <p:nvPr/>
        </p:nvGrpSpPr>
        <p:grpSpPr>
          <a:xfrm>
            <a:off x="5867280" y="4626000"/>
            <a:ext cx="2016000" cy="2232000"/>
            <a:chOff x="5867280" y="4626000"/>
            <a:chExt cx="2016000" cy="2232000"/>
          </a:xfrm>
        </p:grpSpPr>
        <p:sp>
          <p:nvSpPr>
            <p:cNvPr id="833" name="AutoShape 36"/>
            <p:cNvSpPr/>
            <p:nvPr/>
          </p:nvSpPr>
          <p:spPr>
            <a:xfrm>
              <a:off x="5867280" y="4626000"/>
              <a:ext cx="2016000" cy="2232000"/>
            </a:xfrm>
            <a:custGeom>
              <a:avLst/>
              <a:gdLst>
                <a:gd name="textAreaLeft" fmla="*/ 748800 w 2016000"/>
                <a:gd name="textAreaRight" fmla="*/ 1267200 w 201600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WordArt 37"/>
            <p:cNvSpPr txBox="1"/>
            <p:nvPr/>
          </p:nvSpPr>
          <p:spPr>
            <a:xfrm>
              <a:off x="6588000" y="5516280"/>
              <a:ext cx="6109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灭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835" name="Group 38"/>
          <p:cNvGrpSpPr/>
          <p:nvPr/>
        </p:nvGrpSpPr>
        <p:grpSpPr>
          <a:xfrm>
            <a:off x="4716360" y="4626000"/>
            <a:ext cx="2016360" cy="2232000"/>
            <a:chOff x="4716360" y="4626000"/>
            <a:chExt cx="2016360" cy="2232000"/>
          </a:xfrm>
        </p:grpSpPr>
        <p:sp>
          <p:nvSpPr>
            <p:cNvPr id="836" name="AutoShape 39"/>
            <p:cNvSpPr/>
            <p:nvPr/>
          </p:nvSpPr>
          <p:spPr>
            <a:xfrm>
              <a:off x="4716360" y="4626000"/>
              <a:ext cx="2016360" cy="2232000"/>
            </a:xfrm>
            <a:custGeom>
              <a:avLst/>
              <a:gdLst>
                <a:gd name="textAreaLeft" fmla="*/ 748800 w 2016360"/>
                <a:gd name="textAreaRight" fmla="*/ 1267560 w 2016360"/>
                <a:gd name="textAreaTop" fmla="*/ 829080 h 2232000"/>
                <a:gd name="textAreaBottom" fmla="*/ 14029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023" y="8023"/>
                  </a:lnTo>
                  <a:lnTo>
                    <a:pt x="10800" y="0"/>
                  </a:lnTo>
                  <a:lnTo>
                    <a:pt x="13577" y="8023"/>
                  </a:lnTo>
                  <a:lnTo>
                    <a:pt x="21600" y="10800"/>
                  </a:lnTo>
                  <a:lnTo>
                    <a:pt x="13577" y="13577"/>
                  </a:lnTo>
                  <a:lnTo>
                    <a:pt x="10800" y="21600"/>
                  </a:lnTo>
                  <a:lnTo>
                    <a:pt x="8023" y="1357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WordArt 40"/>
            <p:cNvSpPr txBox="1"/>
            <p:nvPr/>
          </p:nvSpPr>
          <p:spPr>
            <a:xfrm>
              <a:off x="5437080" y="5516280"/>
              <a:ext cx="6112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宋体"/>
                </a:rPr>
                <a:t>力</a:t>
              </a:r>
              <a:endParaRPr b="0" lang="en-US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838" name="页脚占位符 4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35838E-007 L -0.41736 -0.64855 E">
                                      <p:cBhvr>
                                        <p:cTn id="239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35838E-007 L -0.13386 -0.44948 E">
                                      <p:cBhvr>
                                        <p:cTn id="249" dur="1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13873E-006 L 0.2283 -0.65017 E">
                                      <p:cBhvr>
                                        <p:cTn id="259" dur="1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35838E-007 L 0.59844 -0.65919 E">
                                      <p:cBhvr>
                                        <p:cTn id="269" dur="10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014 -0.00023 C 0.11962 -0.15561 -0.13021 -0.31121 -0.16285 -0.42451 C -0.19531 -0.5378 0.11666 -0.63769 0.17239 -0.68 E">
                                      <p:cBhvr>
                                        <p:cTn id="279" dur="1000" fill="hold"/>
                                        <p:tgtEl>
                                          <p:spTgt spid="8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6.35838E-007 L 0.22847 -0.56485 E">
                                      <p:cBhvr>
                                        <p:cTn id="289" dur="10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C 0.21129 -0.07376 0.42257 -0.14775 0.45556 -0.23468 C 0.48855 -0.32185 0.24098 -0.47538 0.19844 -0.52277 E">
                                      <p:cBhvr>
                                        <p:cTn id="299" dur="10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6.35838E-007 L 0.29931 -0.21873 E">
                                      <p:cBhvr>
                                        <p:cTn id="309" dur="1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08092E-006 L -0.14965 -0.23075 E">
                                      <p:cBhvr>
                                        <p:cTn id="319" dur="1000" fill="hold"/>
                                        <p:tgtEl>
                                          <p:spTgt spid="8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19653E-006 C 0.02187 0.00694 0.04375 0.01411 0.03993 -0.0326 C 0.03594 -0.0793 0.09878 -0.2511 -0.02344 -0.28 C -0.14531 -0.30867 -0.41875 -0.25734 -0.69219 -0.20601 E">
                                      <p:cBhvr>
                                        <p:cTn id="329" dur="1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36 -0.02266 C -0.05504 -0.16393 -0.03837 -0.30474 -0.05035 -0.36809 C -0.06198 -0.43121 -0.12656 -0.39815 -0.14167 -0.40416 E">
                                      <p:cBhvr>
                                        <p:cTn id="339" dur="1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0.03954 C 0.05399 0.0541 0.06597 0.06983 0.06424 -0.02913 C 0.06181 -0.1274 0.09792 -0.48879 0.02865 -0.54959 C -0.03993 -0.60948 -0.1934 -0.50196 -0.34653 -0.39399 E">
                                      <p:cBhvr>
                                        <p:cTn id="349" dur="1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08092E-006 L 2.5E-006 -0.2726 E">
                                      <p:cBhvr>
                                        <p:cTn id="359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4F12-195B-46A9-8D88-9F1053E65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1" name="WordArt 3"/>
          <p:cNvSpPr txBox="1"/>
          <p:nvPr/>
        </p:nvSpPr>
        <p:spPr>
          <a:xfrm>
            <a:off x="143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手心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2" name="WordArt 4"/>
          <p:cNvSpPr txBox="1"/>
          <p:nvPr/>
        </p:nvSpPr>
        <p:spPr>
          <a:xfrm>
            <a:off x="377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鲜花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3" name="WordArt 5"/>
          <p:cNvSpPr txBox="1"/>
          <p:nvPr/>
        </p:nvSpPr>
        <p:spPr>
          <a:xfrm>
            <a:off x="1438200" y="125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笔尖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4" name="WordArt 6"/>
          <p:cNvSpPr txBox="1"/>
          <p:nvPr/>
        </p:nvSpPr>
        <p:spPr>
          <a:xfrm>
            <a:off x="6116760" y="125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尘土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5" name="WordArt 7"/>
          <p:cNvSpPr txBox="1"/>
          <p:nvPr/>
        </p:nvSpPr>
        <p:spPr>
          <a:xfrm>
            <a:off x="377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天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6" name="WordArt 8"/>
          <p:cNvSpPr txBox="1"/>
          <p:nvPr/>
        </p:nvSpPr>
        <p:spPr>
          <a:xfrm>
            <a:off x="1438200" y="269892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森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7" name="WordArt 9"/>
          <p:cNvSpPr txBox="1"/>
          <p:nvPr/>
        </p:nvSpPr>
        <p:spPr>
          <a:xfrm>
            <a:off x="6116760" y="2698920"/>
            <a:ext cx="1439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灭火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8" name="WordArt 10"/>
          <p:cNvSpPr txBox="1"/>
          <p:nvPr/>
        </p:nvSpPr>
        <p:spPr>
          <a:xfrm>
            <a:off x="3778200" y="4138560"/>
            <a:ext cx="14400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竹林</a:t>
            </a:r>
            <a:endParaRPr b="1" lang="en-US" sz="36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restart="whenNotActive" nodeType="interactiveSeq" fill="hold">
                <p:stCondLst>
                  <p:cond evt="onClick">
                    <p:tgtEl>
                      <p:spTgt spid="843"/>
                    </p:tgtEl>
                  </p:cond>
                </p:stCondLst>
                <p:childTnLst>
                  <p:par>
                    <p:cTn id="362" fill="hold">
                      <p:stCondLst>
                        <p:cond evt="onClick">
                          <p:tgtEl>
                            <p:spTgt spid="843"/>
                          </p:tgtEl>
                        </p:cond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847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847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1" restart="whenNotActive" nodeType="interactiveSeq" fill="hold">
                <p:stCondLst>
                  <p:cond evt="onClick">
                    <p:tgtEl>
                      <p:spTgt spid="844"/>
                    </p:tgtEl>
                  </p:cond>
                </p:stCondLst>
                <p:childTnLst>
                  <p:par>
                    <p:cTn id="402" fill="hold">
                      <p:stCondLst>
                        <p:cond evt="onClick">
                          <p:tgtEl>
                            <p:spTgt spid="844"/>
                          </p:tgtEl>
                        </p:cond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7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845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845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9829-1CC5-430C-B0B4-C4536F2EE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3"/>
          <p:cNvSpPr/>
          <p:nvPr/>
        </p:nvSpPr>
        <p:spPr>
          <a:xfrm>
            <a:off x="4572000" y="6858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5791320" y="762120"/>
            <a:ext cx="304776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歪歪扭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572000" y="22860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4648320" y="3886200"/>
            <a:ext cx="838080" cy="79704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562720"/>
            <a:ext cx="838080" cy="796680"/>
          </a:xfrm>
          <a:prstGeom prst="pentagon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8"/>
          <p:cNvSpPr/>
          <p:nvPr/>
        </p:nvSpPr>
        <p:spPr>
          <a:xfrm>
            <a:off x="5867280" y="24382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晃眼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9"/>
          <p:cNvSpPr/>
          <p:nvPr/>
        </p:nvSpPr>
        <p:spPr>
          <a:xfrm>
            <a:off x="5943600" y="396252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"/>
          <p:cNvSpPr/>
          <p:nvPr/>
        </p:nvSpPr>
        <p:spPr>
          <a:xfrm>
            <a:off x="5943600" y="5638680"/>
            <a:ext cx="2133720" cy="685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1"/>
          <p:cNvSpPr/>
          <p:nvPr/>
        </p:nvSpPr>
        <p:spPr>
          <a:xfrm>
            <a:off x="2484360" y="0"/>
            <a:ext cx="12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   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2484360" y="1844640"/>
            <a:ext cx="93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  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2484360" y="3500280"/>
            <a:ext cx="92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2411280" y="512136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   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WordArt 16"/>
          <p:cNvSpPr txBox="1"/>
          <p:nvPr/>
        </p:nvSpPr>
        <p:spPr>
          <a:xfrm rot="5400000">
            <a:off x="-800280" y="1485720"/>
            <a:ext cx="320040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读想想</a:t>
            </a:r>
            <a:endParaRPr b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4" name="Picture 1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65" name="Line 20"/>
          <p:cNvSpPr/>
          <p:nvPr/>
        </p:nvSpPr>
        <p:spPr>
          <a:xfrm>
            <a:off x="3419640" y="404640"/>
            <a:ext cx="936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1"/>
          <p:cNvSpPr/>
          <p:nvPr/>
        </p:nvSpPr>
        <p:spPr>
          <a:xfrm flipV="1">
            <a:off x="3348000" y="105264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2"/>
          <p:cNvSpPr/>
          <p:nvPr/>
        </p:nvSpPr>
        <p:spPr>
          <a:xfrm>
            <a:off x="3276720" y="227664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3"/>
          <p:cNvSpPr/>
          <p:nvPr/>
        </p:nvSpPr>
        <p:spPr>
          <a:xfrm flipV="1">
            <a:off x="3276720" y="2781360"/>
            <a:ext cx="1079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25"/>
          <p:cNvSpPr/>
          <p:nvPr/>
        </p:nvSpPr>
        <p:spPr>
          <a:xfrm>
            <a:off x="3203640" y="393372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26"/>
          <p:cNvSpPr/>
          <p:nvPr/>
        </p:nvSpPr>
        <p:spPr>
          <a:xfrm flipV="1">
            <a:off x="3276720" y="436572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7"/>
          <p:cNvSpPr/>
          <p:nvPr/>
        </p:nvSpPr>
        <p:spPr>
          <a:xfrm>
            <a:off x="3348000" y="5661000"/>
            <a:ext cx="1079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28"/>
          <p:cNvSpPr/>
          <p:nvPr/>
        </p:nvSpPr>
        <p:spPr>
          <a:xfrm flipV="1">
            <a:off x="3348000" y="6092640"/>
            <a:ext cx="107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页脚占位符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AA48-8BB1-48A3-832B-FDDD87FE1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762120" y="34290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手在树上，采摘东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艳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色彩丰富，鲜艳美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苗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田间长草，植物幼苗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泪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眼睛流水，泪水汪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功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出工有力，就会成功。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0" y="1413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 Unicode MS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朋友，我们学习的汉字中，有许多字是由两个或几个汉字组成的，有趣的是它的意思就是这几个汉字意思的组合，这样的汉字有个名字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会意字。让我们一起认识 下面几个会意字，看它们是不是很有趣。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            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WordArt 5"/>
          <p:cNvSpPr txBox="1"/>
          <p:nvPr/>
        </p:nvSpPr>
        <p:spPr>
          <a:xfrm>
            <a:off x="304920" y="304920"/>
            <a:ext cx="7848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有趣的会意字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8" name="Picture 7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79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09E4-ED95-4A22-A4C8-5A6193134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83808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日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"/>
          <p:cNvSpPr/>
          <p:nvPr/>
        </p:nvSpPr>
        <p:spPr>
          <a:xfrm>
            <a:off x="2971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月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4"/>
          <p:cNvSpPr/>
          <p:nvPr/>
        </p:nvSpPr>
        <p:spPr>
          <a:xfrm>
            <a:off x="5257800" y="13716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Comic Sans MS"/>
                <a:ea typeface="楷体_GB2312"/>
              </a:rPr>
              <a:t>明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5383800" y="304920"/>
            <a:ext cx="29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mínɡ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Picture 6" descr="BD14565_"/>
          <p:cNvPicPr/>
          <p:nvPr/>
        </p:nvPicPr>
        <p:blipFill>
          <a:blip r:embed="rId2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886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32BD-59A8-4F60-9D2D-3F305E80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WordArt 2"/>
          <p:cNvSpPr txBox="1"/>
          <p:nvPr/>
        </p:nvSpPr>
        <p:spPr>
          <a:xfrm>
            <a:off x="1258920" y="3933720"/>
            <a:ext cx="136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日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84" name="WordArt 3"/>
          <p:cNvSpPr txBox="1"/>
          <p:nvPr/>
        </p:nvSpPr>
        <p:spPr>
          <a:xfrm>
            <a:off x="5796000" y="3500280"/>
            <a:ext cx="2232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月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468360" y="260280"/>
            <a:ext cx="3239640" cy="3095640"/>
            <a:chOff x="468360" y="260280"/>
            <a:chExt cx="3239640" cy="3095640"/>
          </a:xfrm>
        </p:grpSpPr>
        <p:pic>
          <p:nvPicPr>
            <p:cNvPr id="586" name="Picture 5" descr="1066862330200342265288425"/>
            <p:cNvPicPr/>
            <p:nvPr/>
          </p:nvPicPr>
          <p:blipFill>
            <a:blip r:embed="rId1"/>
            <a:stretch/>
          </p:blipFill>
          <p:spPr>
            <a:xfrm>
              <a:off x="468360" y="260280"/>
              <a:ext cx="32396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6" descr="复件 v01-1"/>
            <p:cNvPicPr/>
            <p:nvPr/>
          </p:nvPicPr>
          <p:blipFill>
            <a:blip r:embed="rId2"/>
            <a:stretch/>
          </p:blipFill>
          <p:spPr>
            <a:xfrm>
              <a:off x="688680" y="470880"/>
              <a:ext cx="2798640" cy="267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7"/>
          <p:cNvGrpSpPr/>
          <p:nvPr/>
        </p:nvGrpSpPr>
        <p:grpSpPr>
          <a:xfrm>
            <a:off x="5580000" y="333360"/>
            <a:ext cx="3168720" cy="2970360"/>
            <a:chOff x="5580000" y="333360"/>
            <a:chExt cx="3168720" cy="2970360"/>
          </a:xfrm>
        </p:grpSpPr>
        <p:pic>
          <p:nvPicPr>
            <p:cNvPr id="589" name="Picture 8" descr="1066862330200342265288425"/>
            <p:cNvPicPr/>
            <p:nvPr/>
          </p:nvPicPr>
          <p:blipFill>
            <a:blip r:embed="rId3"/>
            <a:stretch/>
          </p:blipFill>
          <p:spPr>
            <a:xfrm>
              <a:off x="5580000" y="333360"/>
              <a:ext cx="3168720" cy="29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9" descr="复件 lesson1"/>
            <p:cNvPicPr/>
            <p:nvPr/>
          </p:nvPicPr>
          <p:blipFill>
            <a:blip r:embed="rId4"/>
            <a:stretch/>
          </p:blipFill>
          <p:spPr>
            <a:xfrm>
              <a:off x="5796000" y="535680"/>
              <a:ext cx="273672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页脚占位符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67052E-007 L 0.17726 0.00532 E">
                                      <p:cBhvr>
                                        <p:cTn id="40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19653E-006 L -0.20868 0.00023 E">
                                      <p:cBhvr>
                                        <p:cTn id="42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E87E-432F-4DBF-AE3F-3D58B8E6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5715000" y="533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5867280" y="31240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羊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13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5" descr="mfriendsheep"/>
          <p:cNvPicPr/>
          <p:nvPr/>
        </p:nvPicPr>
        <p:blipFill>
          <a:blip r:embed="rId4"/>
          <a:stretch/>
        </p:blipFill>
        <p:spPr>
          <a:xfrm>
            <a:off x="2438280" y="3200400"/>
            <a:ext cx="1995480" cy="2478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6" descr="UA0529_gif"/>
          <p:cNvPicPr/>
          <p:nvPr/>
        </p:nvPicPr>
        <p:blipFill>
          <a:blip r:embed="rId5"/>
          <a:stretch/>
        </p:blipFill>
        <p:spPr>
          <a:xfrm>
            <a:off x="2286000" y="45720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598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0DA9-F571-42A7-9865-F7F920FA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"/>
          <p:cNvSpPr/>
          <p:nvPr/>
        </p:nvSpPr>
        <p:spPr>
          <a:xfrm>
            <a:off x="6095880" y="167652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鲜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6400800" y="857160"/>
            <a:ext cx="2743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066680" y="220968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鱼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2590920" y="228600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羊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6"/>
          <p:cNvSpPr/>
          <p:nvPr/>
        </p:nvSpPr>
        <p:spPr>
          <a:xfrm>
            <a:off x="4648320" y="3581280"/>
            <a:ext cx="152388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0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B806-38DE-411E-95CE-4AF3504FC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5638680" y="1828800"/>
            <a:ext cx="25909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尘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4"/>
          <p:cNvSpPr/>
          <p:nvPr/>
        </p:nvSpPr>
        <p:spPr>
          <a:xfrm>
            <a:off x="5569560" y="685800"/>
            <a:ext cx="3358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8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é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6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土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1"/>
          <p:cNvSpPr/>
          <p:nvPr/>
        </p:nvSpPr>
        <p:spPr>
          <a:xfrm>
            <a:off x="3124080" y="3505320"/>
            <a:ext cx="221004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矩形 19465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155F-367F-4D24-9244-714E8F66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6019920" y="175248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尖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6151680" y="857160"/>
            <a:ext cx="348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0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ā</a:t>
            </a:r>
            <a:r>
              <a:rPr b="0" lang="en-US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990720" y="10666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990720" y="3124080"/>
            <a:ext cx="259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3124080" y="3505320"/>
            <a:ext cx="2514600" cy="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4EB6-F15A-4977-BAE5-61EC99371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2" descr="耕地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1523880"/>
            <a:ext cx="2114640" cy="1800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pic003"/>
          <p:cNvPicPr/>
          <p:nvPr/>
        </p:nvPicPr>
        <p:blipFill>
          <a:blip r:embed="rId4"/>
          <a:stretch/>
        </p:blipFill>
        <p:spPr>
          <a:xfrm>
            <a:off x="1066680" y="3049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4"/>
          <p:cNvSpPr/>
          <p:nvPr/>
        </p:nvSpPr>
        <p:spPr>
          <a:xfrm>
            <a:off x="4414680" y="457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讨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25"/>
          <p:cNvSpPr/>
          <p:nvPr/>
        </p:nvSpPr>
        <p:spPr>
          <a:xfrm>
            <a:off x="1600200" y="2438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7" descr="田力男3"/>
          <p:cNvPicPr/>
          <p:nvPr/>
        </p:nvPicPr>
        <p:blipFill>
          <a:blip r:embed="rId5"/>
          <a:stretch/>
        </p:blipFill>
        <p:spPr>
          <a:xfrm>
            <a:off x="4800600" y="2209680"/>
            <a:ext cx="676440" cy="965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15" descr="树2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195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4" descr="树2"/>
          <p:cNvPicPr/>
          <p:nvPr/>
        </p:nvPicPr>
        <p:blipFill>
          <a:blip r:embed="rId8"/>
          <a:stretch/>
        </p:blipFill>
        <p:spPr>
          <a:xfrm>
            <a:off x="609588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0" descr="树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486400" y="3657600"/>
            <a:ext cx="676440" cy="12574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19" descr="树2"/>
          <p:cNvPicPr/>
          <p:nvPr/>
        </p:nvPicPr>
        <p:blipFill>
          <a:blip r:embed="rId11"/>
          <a:stretch/>
        </p:blipFill>
        <p:spPr>
          <a:xfrm>
            <a:off x="4876920" y="3657600"/>
            <a:ext cx="676080" cy="12574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8" descr="树2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29000" y="3657600"/>
            <a:ext cx="676440" cy="1257480"/>
          </a:xfrm>
          <a:prstGeom prst="rect">
            <a:avLst/>
          </a:prstGeom>
          <a:ln w="0">
            <a:noFill/>
          </a:ln>
        </p:spPr>
      </p:pic>
      <p:sp>
        <p:nvSpPr>
          <p:cNvPr id="635" name="Line 17"/>
          <p:cNvSpPr/>
          <p:nvPr/>
        </p:nvSpPr>
        <p:spPr>
          <a:xfrm>
            <a:off x="6781680" y="419112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16" descr="森林1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315200" y="3657600"/>
            <a:ext cx="1514520" cy="1285920"/>
          </a:xfrm>
          <a:prstGeom prst="rect">
            <a:avLst/>
          </a:prstGeom>
          <a:ln w="0">
            <a:noFill/>
          </a:ln>
        </p:spPr>
      </p:pic>
      <p:sp>
        <p:nvSpPr>
          <p:cNvPr id="637" name="Line 10"/>
          <p:cNvSpPr/>
          <p:nvPr/>
        </p:nvSpPr>
        <p:spPr>
          <a:xfrm>
            <a:off x="5715000" y="5867280"/>
            <a:ext cx="54144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11" descr="众人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400800" y="5181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4" descr="火"/>
          <p:cNvPicPr/>
          <p:nvPr/>
        </p:nvPicPr>
        <p:blipFill>
          <a:blip r:embed="rId18"/>
          <a:stretch/>
        </p:blipFill>
        <p:spPr>
          <a:xfrm>
            <a:off x="380880" y="1600200"/>
            <a:ext cx="1152720" cy="14860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3" descr="火灭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209680" y="1676520"/>
            <a:ext cx="542880" cy="11998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31"/>
          <p:cNvSpPr/>
          <p:nvPr/>
        </p:nvSpPr>
        <p:spPr>
          <a:xfrm>
            <a:off x="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1" descr="休息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010280" y="1371600"/>
            <a:ext cx="1409760" cy="20764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2" descr="手2"/>
          <p:cNvPicPr/>
          <p:nvPr/>
        </p:nvPicPr>
        <p:blipFill>
          <a:blip r:embed="rId23"/>
          <a:stretch/>
        </p:blipFill>
        <p:spPr>
          <a:xfrm>
            <a:off x="914400" y="3505320"/>
            <a:ext cx="1219320" cy="9428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人1"/>
          <p:cNvPicPr/>
          <p:nvPr/>
        </p:nvPicPr>
        <p:blipFill>
          <a:blip r:embed="rId24"/>
          <a:stretch/>
        </p:blipFill>
        <p:spPr>
          <a:xfrm>
            <a:off x="36576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人1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98108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7" descr="人1"/>
          <p:cNvPicPr/>
          <p:nvPr/>
        </p:nvPicPr>
        <p:blipFill>
          <a:blip r:embed="rId27"/>
          <a:stretch/>
        </p:blipFill>
        <p:spPr>
          <a:xfrm>
            <a:off x="50292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6" descr="人1"/>
          <p:cNvPicPr/>
          <p:nvPr/>
        </p:nvPicPr>
        <p:blipFill>
          <a:blip r:embed="rId28"/>
          <a:stretch/>
        </p:blipFill>
        <p:spPr>
          <a:xfrm>
            <a:off x="4343400" y="5334120"/>
            <a:ext cx="638280" cy="122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人1"/>
          <p:cNvPicPr/>
          <p:nvPr/>
        </p:nvPicPr>
        <p:blipFill>
          <a:blip r:embed="rId29"/>
          <a:stretch/>
        </p:blipFill>
        <p:spPr>
          <a:xfrm>
            <a:off x="1295280" y="5334120"/>
            <a:ext cx="638280" cy="1228680"/>
          </a:xfrm>
          <a:prstGeom prst="rect">
            <a:avLst/>
          </a:prstGeom>
          <a:ln w="0">
            <a:noFill/>
          </a:ln>
        </p:spPr>
      </p:pic>
      <p:sp>
        <p:nvSpPr>
          <p:cNvPr id="649" name="Line 26"/>
          <p:cNvSpPr/>
          <p:nvPr/>
        </p:nvSpPr>
        <p:spPr>
          <a:xfrm>
            <a:off x="457200" y="1981080"/>
            <a:ext cx="10825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3" descr="眼睛2"/>
          <p:cNvPicPr/>
          <p:nvPr/>
        </p:nvPicPr>
        <p:blipFill>
          <a:blip r:embed="rId30"/>
          <a:stretch/>
        </p:blipFill>
        <p:spPr>
          <a:xfrm>
            <a:off x="838080" y="4267080"/>
            <a:ext cx="1295640" cy="7714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520" y="13716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8"/>
          <p:cNvSpPr/>
          <p:nvPr/>
        </p:nvSpPr>
        <p:spPr>
          <a:xfrm>
            <a:off x="302832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9"/>
          <p:cNvSpPr/>
          <p:nvPr/>
        </p:nvSpPr>
        <p:spPr>
          <a:xfrm>
            <a:off x="6381000" y="12952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0"/>
          <p:cNvSpPr/>
          <p:nvPr/>
        </p:nvSpPr>
        <p:spPr>
          <a:xfrm>
            <a:off x="285120" y="335268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1"/>
          <p:cNvSpPr/>
          <p:nvPr/>
        </p:nvSpPr>
        <p:spPr>
          <a:xfrm>
            <a:off x="2266200" y="327672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2"/>
          <p:cNvSpPr/>
          <p:nvPr/>
        </p:nvSpPr>
        <p:spPr>
          <a:xfrm>
            <a:off x="4399920" y="34290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43"/>
          <p:cNvSpPr/>
          <p:nvPr/>
        </p:nvSpPr>
        <p:spPr>
          <a:xfrm>
            <a:off x="380520" y="530064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4"/>
          <p:cNvSpPr/>
          <p:nvPr/>
        </p:nvSpPr>
        <p:spPr>
          <a:xfrm>
            <a:off x="2952000" y="5257800"/>
            <a:ext cx="5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45">
            <a:hlinkClick r:id="rId31" action="ppaction://hlinksldjump"/>
          </p:cNvPr>
          <p:cNvSpPr/>
          <p:nvPr/>
        </p:nvSpPr>
        <p:spPr>
          <a:xfrm>
            <a:off x="8352000" y="628344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3794"/>
                </a:moveTo>
                <a:lnTo>
                  <a:pt x="21891" y="10800"/>
                </a:lnTo>
                <a:lnTo>
                  <a:pt x="787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灯片编号占位符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2463-328F-4C88-9AE2-88AA8D6C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BD14565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466920" cy="466920"/>
          </a:xfrm>
          <a:prstGeom prst="rect">
            <a:avLst/>
          </a:prstGeom>
          <a:ln w="0">
            <a:noFill/>
          </a:ln>
        </p:spPr>
      </p:pic>
      <p:sp>
        <p:nvSpPr>
          <p:cNvPr id="663" name="Line 3"/>
          <p:cNvSpPr/>
          <p:nvPr/>
        </p:nvSpPr>
        <p:spPr>
          <a:xfrm>
            <a:off x="4114800" y="1981080"/>
            <a:ext cx="1271520" cy="324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4" descr="火"/>
          <p:cNvPicPr/>
          <p:nvPr/>
        </p:nvPicPr>
        <p:blipFill>
          <a:blip r:embed="rId4"/>
          <a:stretch/>
        </p:blipFill>
        <p:spPr>
          <a:xfrm>
            <a:off x="2590920" y="990720"/>
            <a:ext cx="1417680" cy="182880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5" descr="火灭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638680" y="1219320"/>
            <a:ext cx="654120" cy="1447560"/>
          </a:xfrm>
          <a:prstGeom prst="rect">
            <a:avLst/>
          </a:prstGeom>
          <a:ln w="0">
            <a:noFill/>
          </a:ln>
        </p:spPr>
      </p:pic>
      <p:sp>
        <p:nvSpPr>
          <p:cNvPr id="666" name="Line 6"/>
          <p:cNvSpPr/>
          <p:nvPr/>
        </p:nvSpPr>
        <p:spPr>
          <a:xfrm>
            <a:off x="2743200" y="1143000"/>
            <a:ext cx="106668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2779200" y="4267080"/>
            <a:ext cx="33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火　灭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5639760" y="3429000"/>
            <a:ext cx="1557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è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9" descr="pic01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11">
            <a:hlinkClick r:id="rId8" action="ppaction://hlinksldjump"/>
          </p:cNvPr>
          <p:cNvSpPr/>
          <p:nvPr/>
        </p:nvSpPr>
        <p:spPr>
          <a:xfrm>
            <a:off x="5508720" y="6308640"/>
            <a:ext cx="792000" cy="549360"/>
          </a:xfrm>
          <a:custGeom>
            <a:avLst/>
            <a:gdLst>
              <a:gd name="textAreaLeft" fmla="*/ 35280 w 792000"/>
              <a:gd name="textAreaRight" fmla="*/ 756720 w 79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34" h="21600">
                <a:moveTo>
                  <a:pt x="0" y="0"/>
                </a:moveTo>
                <a:lnTo>
                  <a:pt x="31134" y="0"/>
                </a:lnTo>
                <a:lnTo>
                  <a:pt x="31134" y="21600"/>
                </a:lnTo>
                <a:lnTo>
                  <a:pt x="0" y="21600"/>
                </a:lnTo>
                <a:close/>
              </a:path>
              <a:path fill="lightenLess" w="31134" h="21600">
                <a:moveTo>
                  <a:pt x="0" y="0"/>
                </a:moveTo>
                <a:lnTo>
                  <a:pt x="31134" y="0"/>
                </a:lnTo>
                <a:lnTo>
                  <a:pt x="29734" y="1400"/>
                </a:lnTo>
                <a:lnTo>
                  <a:pt x="1400" y="1400"/>
                </a:lnTo>
                <a:close/>
              </a:path>
              <a:path fill="darken" w="31134" h="21600">
                <a:moveTo>
                  <a:pt x="31134" y="0"/>
                </a:moveTo>
                <a:lnTo>
                  <a:pt x="31134" y="21600"/>
                </a:lnTo>
                <a:lnTo>
                  <a:pt x="29734" y="20200"/>
                </a:lnTo>
                <a:lnTo>
                  <a:pt x="29734" y="1400"/>
                </a:lnTo>
                <a:close/>
              </a:path>
              <a:path fill="darkenLess" w="31134" h="21600">
                <a:moveTo>
                  <a:pt x="311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34" y="20200"/>
                </a:lnTo>
                <a:close/>
              </a:path>
              <a:path fill="lighten" w="311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34" h="21600">
                <a:moveTo>
                  <a:pt x="8561" y="10800"/>
                </a:moveTo>
                <a:lnTo>
                  <a:pt x="22573" y="3794"/>
                </a:lnTo>
                <a:lnTo>
                  <a:pt x="2257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3:12:57Z</dcterms:created>
  <dc:creator/>
  <dc:description/>
  <dc:language>en-US</dc:language>
  <cp:lastModifiedBy>User</cp:lastModifiedBy>
  <dcterms:modified xsi:type="dcterms:W3CDTF">2016-10-05T14:43:05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