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type.wav" ContentType="audio/x-wav"/>
  <Override PartName="/ppt/media/image18.png" ContentType="image/png"/>
  <Override PartName="/ppt/media/image25.gif" ContentType="image/gif"/>
  <Override PartName="/ppt/media/image26.jpeg" ContentType="image/jpeg"/>
  <Override PartName="/ppt/media/projctor.wav" ContentType="audio/x-wav"/>
  <Override PartName="/ppt/media/image22.png" ContentType="image/png"/>
  <Override PartName="/ppt/media/image24.jpeg" ContentType="image/jpeg"/>
  <Override PartName="/ppt/media/image13.gif" ContentType="image/gif"/>
  <Override PartName="/ppt/media/image16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28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arrow.wav" ContentType="audio/x-wav"/>
  <Override PartName="/ppt/media/image23.png" ContentType="image/png"/>
  <Override PartName="/ppt/media/image32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.gif" ContentType="image/gif"/>
  <Override PartName="/ppt/media/image33.jpeg" ContentType="image/jpeg"/>
  <Override PartName="/ppt/media/image27.png" ContentType="image/png"/>
  <Override PartName="/ppt/media/image14.jpeg" ContentType="image/jpeg"/>
  <Override PartName="/ppt/media/image15.jpeg" ContentType="image/jpeg"/>
  <Override PartName="/ppt/media/image17.jpeg" ContentType="image/jpeg"/>
  <Override PartName="/ppt/media/image19.wmf" ContentType="image/x-wmf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334-4E8C-4E58-A3D9-CE0CD7A7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9585-749A-4AB2-B731-45D1BDB8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547F1-9F8A-440B-BDE6-9958E3D4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713A4-24A2-4C2B-9AF2-3EFEA0B1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0B27D-65C3-4291-AAAF-DEBA19B0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D014C-AE0A-453B-BBBE-E57C27BB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4F85F-4ABB-48F3-BC64-D2F37E0F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D6B10-24A6-4A46-B1A5-38EDA856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2CA73-EC60-496F-B1F0-DFE44D0C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A5312-9816-4A6B-9EED-57A3D8DF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CBE8C-A168-440E-99EE-CB85203B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4A6AB-7E64-4A4F-9424-EA5578EC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14AB-92E5-4D61-B571-6963CCAA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98893-D259-4770-9714-8C90D1C1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8E00C-C069-4C75-8451-4339523A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F30CC-AEE4-49D8-B1B5-E3E9FA7E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59BFF-BE4B-47C6-9158-1BDEEA09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2A484-0650-4D5E-8D3E-3B159BDD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61218-4935-4619-A425-224EEA9C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5B684-FB88-459F-8A9A-A2F94365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96F85-4335-419E-A7B8-48058935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C5842-8C7E-48E6-8414-168D9CC0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F5DB5-854E-4E1F-8D21-AAAF2536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DF0-6535-48F8-A47E-C9E1D9D1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E4C9F-F2F2-4A1B-81B3-9EC29015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8C572-723D-4B0D-AB9D-30C8C4C4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D06F7-CBF4-43BE-B514-0C82C51B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BF83C-E31E-498A-9CF8-89AB844A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8E09E-7827-4A92-9AFA-7FA8E8A5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047A6-864F-4176-8DFD-2E13E476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E0ECF-F63E-4BDE-906E-3585D7A8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B46C0-A60B-41DA-B670-FB370BA1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327DD-F7DF-41C1-BADD-86B894F0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1C85C-88B0-41F1-85C1-B042F9F1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398C-4722-4E69-8451-85E9362B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F8F69-ED1C-4DA2-8D9F-3CA9F9B4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5EF82-83A3-4DB1-BF30-EE327349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A3CE6-7261-4F0E-A1C6-55208F0D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42A03-15BC-4D7D-B1B2-AF9F7702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26DDC-D284-45C2-BDB3-076B5AC1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446BD-9C48-47E0-8D0C-4947BE19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D8919-DA5B-490B-84BE-26389A9A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0476E-DC2A-47BF-95FE-F03D51D3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DE3AC-79F8-4D84-B4C7-6696D998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CA484-0B9E-4C1F-B545-7BAA832A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BDCD-CB34-426A-A311-A64B4B4B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B6047-CABA-4FB1-A00D-0ABDBB7F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9B274-7500-46E3-B8DC-D9EA1B53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976DD-3A32-4479-AE9D-EF17068F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4B0D6-6365-4FDE-8D13-90C5DC71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54FD3-0FFD-4871-8FB1-B4E46D41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968340-4E34-426F-AC1B-73B77C19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B1D8D4-7C79-44E0-9951-6663BE15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D21488-E0D4-471A-BC34-FA13C386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784694-8B77-482C-A1C1-02AB971D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13DD4A-C706-4E8C-940F-A3928B00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7E16-66C4-4B30-A217-67DF620A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765E97-DF53-430E-9D2C-47D9AF19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C18B55-BA91-48AD-B124-FF4B1180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BB7D42-EF0A-43F7-A972-DA6DFD44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3A5E2E-7F9B-433D-944E-EE6EDD62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3DEA6D-F5D6-47BF-A199-985F11A6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F0C766-6899-4794-A940-2CB5FA60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EB5C13-5BA3-4D67-ABA3-DF884741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5B1D-7A54-4FF0-B3A2-80941BAE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0975-3C3D-4F14-A552-4B043E72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90DA-8EA9-415E-91D6-76B0E249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018E-CDA4-4B93-9BF0-94CE2E0C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657-A576-448B-A57C-E76015D4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B900-DCC7-49BA-B052-76B916B6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24E1-88A2-4314-A7DC-E14110F7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2F01-E6E0-4139-9326-A9D32E8C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CA18-DA33-46D4-A119-7FF67D3C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435B-3BC2-41E3-9F89-E3628AC3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5E4A0-453C-403C-ABFA-AFD640CA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AC6EC-837B-4B44-9B7B-917DE683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286C6-68BD-4A18-90EF-72C8BDD5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779D9-EAE0-42F6-A9FB-FB5361BD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12375-549A-4C83-AAF8-7D880801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4159-7CB1-44F5-ABAF-866CA0A8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15D22-5AC0-4C5B-9181-59188F57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57C89-D7D4-4921-8BD9-8F6BA4A3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32D53-1E9F-4257-A80D-3103D33E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F782B-907C-46A0-8CDF-3E1C5523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2B694-1060-4902-9E58-C2AB0DA9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BFAA3-7F8D-40EF-8058-AB934AE2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0939D-CF1F-4184-88AF-8A34CDE0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03836-E7F8-4F80-B208-828078B8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492D2-9AF6-44D6-A00B-8EB0B284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6C95B-79B6-4F0F-A128-7BF0D307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C75-B442-4F36-94A7-1519B478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70CCB-4595-4506-83D5-3C738715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8B311-0FBC-4DB8-BCC7-36595FCA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8242F-B41D-4EB9-ADE8-F6026B90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B536D-0A80-4DEF-98D8-91710892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CD41A-4D5D-48AE-99B7-EF110D80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DD07C-0864-4226-B224-D50DB6C2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9B9E4-EEEE-4DC5-B6DB-918FAE1C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99BD0-B93F-4085-B5D0-0E4BC586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F85CD-A9F3-42C9-985A-194404F7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D71C5-28DD-4635-8DCA-4AA63079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7CE-41EA-455A-A1B9-E082E966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4858B-2032-4744-BFA6-987B6B18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C19D1-D3A7-4FDE-876D-44D2F0FB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ED77C-1EA7-455A-839F-23B68BCC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31208-4F8A-4C15-A7D4-C6ECD66B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422CA-D1D6-48F0-95F7-EDD75354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88B33-F705-4ACF-8947-1173AD77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E7986-C3A9-4DEF-8199-BD197A06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0D976-B794-4749-877F-F46DD485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A57FC-280C-4A0D-81D9-2E33E215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296C4-AEDA-43E4-B901-94E8C151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C836-C1BF-4EC8-BE60-7E222D27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59CF4-36FC-4A43-982F-FB3DCAF8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4A533-38A2-4261-A335-F1901227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B7689-B8E0-4062-913E-BCD61910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BB88C-591F-48C2-9DA3-87C7796E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CC4B0-43E9-43EF-ACDE-8F82AFF3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0A384-E6B6-4C1D-A145-502C3BD5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971FA-0409-45F7-9BB0-EC32E59E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33275-47A6-4D7C-A7D4-CF06A8A7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D48C4-D7C1-455C-AB8B-1C5DFDD8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730EC-A72F-4C9E-8A02-A3D841A2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B17-BA23-486D-A249-3BAB9511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1F7FC-5771-4461-8D8D-5651D7AB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36B2E-7001-4483-9E62-DDDBB3D7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B6766-44AB-47C4-AA0C-4264F4E7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475B5-43FC-46A0-BEB4-AF29DC72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A9874-9378-4BCC-AADA-327989B8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008BE-0210-44DF-8BE6-046CCE09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0879C-6296-4A26-885A-51531DB8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3601E-D907-4D0A-ACDA-D2CD81BF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84B1C-A244-4A9A-8411-7F985054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9DBF1-49F3-4D21-AAA5-6E84DEE5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A2A1-2C60-42EA-B4D7-60729A3F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4CA18-4D2F-4B92-BDAC-AD24CF07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40B08-94B5-490B-A203-057245B9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F6D20-FF46-4067-B616-27D9A746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44505-845F-42FA-9371-4E7858A5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FC081-18AA-4EC7-91C5-04D2FE0A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8FB9D-3B45-434C-A000-8252AC33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4C63B-0B1E-4F9D-966C-077267EB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883C1-7118-419E-B256-80CBC32A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BA33C-6955-4DB9-BD52-ECEDA8B4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DA65A-B60F-41C9-A424-BD0591F4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BC0E-491F-4C4C-B3C7-6F7C4EE5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9D38A-A962-4C66-B907-C1D2E6A0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D738A-7A37-4777-BC84-7E6AC9AC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6E326-78BB-4D80-A06D-F7647DB2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6A04C-C3BC-4302-8168-02B3515F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80ECE-D9E7-4941-89E0-3CCC8344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AE5AD-FBBB-4A65-89D1-48316445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26D82-EAEF-47DD-86C4-804C630C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E8F86-1A01-4E2E-B39A-BBB3D6B4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58CD2-22B6-4A42-8D47-1851D64F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D9C6A-75C2-4918-A011-E8B302D3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706C-34C1-4A9E-A8EE-D539F04B54C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981D-CE34-46B9-BD94-FA43EDA38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B129-D743-4247-A850-48E72C1C021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0B79-1315-448A-A203-5459515F0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F57A-F97E-4B98-9A3D-3C37D7C255E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E1D1-7F2B-437D-9652-6FCF36689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9BFE-D249-43E7-8BF4-9E40BA7D8C3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A638-E2BB-41DF-B348-76CF63617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1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1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2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65AE-F0DA-41EC-9BBD-49AE7B688988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7BD1-3E86-4629-A8BD-EE9DC35CFB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|http://www.lspj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C36E-EE14-426A-95FF-6FA9DDF41948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|http://www.lspj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354B-0FAF-4C5B-82F7-A59FABD86E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30EF-570A-4A2F-8C6C-068CB8951B8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8C09-4038-4296-A1A0-75852A1C6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0B16-A37B-4D34-9218-49FFB85B662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DDB3-18D3-4EF6-A8EA-97DB5F8A9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CB3B-A0B1-488A-A347-3ABC477FB1E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29FA-95E3-4372-A2E7-EF03CF92E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7074-4A49-4025-A9FF-9D7FCBFEC9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F76B-4164-4D79-BC97-81542EB17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92D2-903C-48EF-B709-237880EC354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A3BA-3141-4935-8458-E4E76D2DD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8365-01FF-46C6-AF09-A20FB479790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D14A-2D08-4DCB-9BCB-DC02CCC90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B55C-4580-45CA-AE1D-3AB817F2429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9AF4-FFFB-4C9A-A78F-185CA4524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0.xml"/><Relationship Id="rId3" Type="http://schemas.openxmlformats.org/officeDocument/2006/relationships/image" Target="../media/image12.jpeg"/><Relationship Id="rId4" Type="http://schemas.openxmlformats.org/officeDocument/2006/relationships/image" Target="../media/image26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6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7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0.xml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4.jpeg"/><Relationship Id="rId6" Type="http://schemas.openxmlformats.org/officeDocument/2006/relationships/slide" Target="slide12.xml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slide" Target="slide13.xml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slide" Target="slide12.xml"/><Relationship Id="rId13" Type="http://schemas.openxmlformats.org/officeDocument/2006/relationships/image" Target="../media/image15.jpeg"/><Relationship Id="rId14" Type="http://schemas.openxmlformats.org/officeDocument/2006/relationships/slide" Target="slide13.xml"/><Relationship Id="rId15" Type="http://schemas.openxmlformats.org/officeDocument/2006/relationships/image" Target="../media/image16.jpeg"/><Relationship Id="rId16" Type="http://schemas.openxmlformats.org/officeDocument/2006/relationships/slide" Target="slide15.xml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slide" Target="slide9.xml"/><Relationship Id="rId20" Type="http://schemas.openxmlformats.org/officeDocument/2006/relationships/image" Target="../media/image19.wmf"/><Relationship Id="rId21" Type="http://schemas.openxmlformats.org/officeDocument/2006/relationships/slide" Target="slide11.xml"/><Relationship Id="rId22" Type="http://schemas.openxmlformats.org/officeDocument/2006/relationships/image" Target="../media/image20.jpeg"/><Relationship Id="rId23" Type="http://schemas.openxmlformats.org/officeDocument/2006/relationships/image" Target="../media/image21.jpeg"/><Relationship Id="rId24" Type="http://schemas.openxmlformats.org/officeDocument/2006/relationships/image" Target="../media/image22.png"/><Relationship Id="rId25" Type="http://schemas.openxmlformats.org/officeDocument/2006/relationships/slide" Target="slide14.xml"/><Relationship Id="rId26" Type="http://schemas.openxmlformats.org/officeDocument/2006/relationships/image" Target="../media/image22.png"/><Relationship Id="rId27" Type="http://schemas.openxmlformats.org/officeDocument/2006/relationships/image" Target="../media/image22.png"/><Relationship Id="rId28" Type="http://schemas.openxmlformats.org/officeDocument/2006/relationships/image" Target="../media/image22.png"/><Relationship Id="rId29" Type="http://schemas.openxmlformats.org/officeDocument/2006/relationships/image" Target="../media/image22.png"/><Relationship Id="rId30" Type="http://schemas.openxmlformats.org/officeDocument/2006/relationships/image" Target="../media/image23.png"/><Relationship Id="rId31" Type="http://schemas.openxmlformats.org/officeDocument/2006/relationships/slide" Target="slide16.xml"/><Relationship Id="rId3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image" Target="../media/image18.png"/><Relationship Id="rId5" Type="http://schemas.openxmlformats.org/officeDocument/2006/relationships/slide" Target="slide9.xml"/><Relationship Id="rId6" Type="http://schemas.openxmlformats.org/officeDocument/2006/relationships/image" Target="../media/image19.wmf"/><Relationship Id="rId7" Type="http://schemas.openxmlformats.org/officeDocument/2006/relationships/image" Target="../media/image25.gif"/><Relationship Id="rId8" Type="http://schemas.openxmlformats.org/officeDocument/2006/relationships/slide" Target="slide8.xml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600A-E5E1-42B6-BCEC-3E75C047D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2" descr="huangtaiyang"/>
          <p:cNvPicPr/>
          <p:nvPr/>
        </p:nvPicPr>
        <p:blipFill>
          <a:blip r:embed="rId1"/>
          <a:stretch/>
        </p:blipFill>
        <p:spPr>
          <a:xfrm>
            <a:off x="0" y="3124080"/>
            <a:ext cx="4343400" cy="3733920"/>
          </a:xfrm>
          <a:prstGeom prst="rect">
            <a:avLst/>
          </a:prstGeom>
          <a:ln w="0">
            <a:noFill/>
          </a:ln>
        </p:spPr>
      </p:pic>
      <p:sp>
        <p:nvSpPr>
          <p:cNvPr id="575" name="WordArt 3"/>
          <p:cNvSpPr txBox="1"/>
          <p:nvPr/>
        </p:nvSpPr>
        <p:spPr>
          <a:xfrm>
            <a:off x="2050920" y="3500280"/>
            <a:ext cx="223200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日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7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矩形 14343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9584E-006 C 0.00712 -0.06337 0.01424 -0.12673 0.03525 -0.17206 C 0.05625 -0.21739 0.09375 -0.2426 0.12605 -0.27243 C 0.15834 -0.3025 0.1915 -0.32678 0.22917 -0.35245 C 0.26684 -0.37812 0.33004 -0.41235 0.35226 -0.42623 C 0.37448 -0.4401 0.36875 -0.43825 0.36302 -0.4364 E">
                                      <p:cBhvr>
                                        <p:cTn id="6" dur="5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8194-8E6F-4EA8-917D-65D15BBF1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Picture 3" descr="耕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00200" y="380880"/>
            <a:ext cx="4419720" cy="5943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田力男3"/>
          <p:cNvPicPr/>
          <p:nvPr/>
        </p:nvPicPr>
        <p:blipFill>
          <a:blip r:embed="rId4"/>
          <a:stretch/>
        </p:blipFill>
        <p:spPr>
          <a:xfrm>
            <a:off x="3581280" y="3429000"/>
            <a:ext cx="2030400" cy="289548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5"/>
          <p:cNvSpPr/>
          <p:nvPr/>
        </p:nvSpPr>
        <p:spPr>
          <a:xfrm>
            <a:off x="6781680" y="304920"/>
            <a:ext cx="1676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男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6716520" y="4005360"/>
            <a:ext cx="167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á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9"/>
          <p:cNvSpPr/>
          <p:nvPr/>
        </p:nvSpPr>
        <p:spPr>
          <a:xfrm>
            <a:off x="8352000" y="6381720"/>
            <a:ext cx="792000" cy="476280"/>
          </a:xfrm>
          <a:custGeom>
            <a:avLst/>
            <a:gdLst>
              <a:gd name="textAreaLeft" fmla="*/ 30600 w 792000"/>
              <a:gd name="textAreaRight" fmla="*/ 761400 w 79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7" y="10800"/>
                </a:moveTo>
                <a:lnTo>
                  <a:pt x="24960" y="3794"/>
                </a:lnTo>
                <a:lnTo>
                  <a:pt x="2496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127E-1C1E-4F2E-AFD9-BCEECB122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4" descr="休息"/>
          <p:cNvPicPr/>
          <p:nvPr/>
        </p:nvPicPr>
        <p:blipFill>
          <a:blip r:embed="rId1"/>
          <a:stretch/>
        </p:blipFill>
        <p:spPr>
          <a:xfrm>
            <a:off x="304920" y="304920"/>
            <a:ext cx="4140000" cy="609588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5"/>
          <p:cNvSpPr/>
          <p:nvPr/>
        </p:nvSpPr>
        <p:spPr>
          <a:xfrm>
            <a:off x="4495680" y="457200"/>
            <a:ext cx="46483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 木</a:t>
            </a: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6443640" y="3500280"/>
            <a:ext cx="213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休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6559560" y="2924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iū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27CB-6300-403E-9874-9E8FECC58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1027" descr="树2"/>
          <p:cNvPicPr/>
          <p:nvPr/>
        </p:nvPicPr>
        <p:blipFill>
          <a:blip r:embed="rId1"/>
          <a:stretch/>
        </p:blipFill>
        <p:spPr>
          <a:xfrm>
            <a:off x="990720" y="380880"/>
            <a:ext cx="1761840" cy="3276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029" descr="树2"/>
          <p:cNvPicPr/>
          <p:nvPr/>
        </p:nvPicPr>
        <p:blipFill>
          <a:blip r:embed="rId2"/>
          <a:stretch/>
        </p:blipFill>
        <p:spPr>
          <a:xfrm>
            <a:off x="2743200" y="380880"/>
            <a:ext cx="17622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689" name="Group 1037"/>
          <p:cNvGrpSpPr/>
          <p:nvPr/>
        </p:nvGrpSpPr>
        <p:grpSpPr>
          <a:xfrm>
            <a:off x="533520" y="3581280"/>
            <a:ext cx="4343400" cy="2379960"/>
            <a:chOff x="533520" y="3581280"/>
            <a:chExt cx="4343400" cy="2379960"/>
          </a:xfrm>
        </p:grpSpPr>
        <p:sp>
          <p:nvSpPr>
            <p:cNvPr id="690" name="Rectangle 1032"/>
            <p:cNvSpPr/>
            <p:nvPr/>
          </p:nvSpPr>
          <p:spPr>
            <a:xfrm>
              <a:off x="533520" y="3581280"/>
              <a:ext cx="22096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1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1033"/>
            <p:cNvSpPr/>
            <p:nvPr/>
          </p:nvSpPr>
          <p:spPr>
            <a:xfrm>
              <a:off x="2666880" y="3581280"/>
              <a:ext cx="221004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1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Rectangle 1034"/>
          <p:cNvSpPr/>
          <p:nvPr/>
        </p:nvSpPr>
        <p:spPr>
          <a:xfrm>
            <a:off x="5943600" y="2590920"/>
            <a:ext cx="2895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林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036"/>
          <p:cNvSpPr/>
          <p:nvPr/>
        </p:nvSpPr>
        <p:spPr>
          <a:xfrm>
            <a:off x="6477120" y="12952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lín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1038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E870-A540-4BDF-872E-F01C91D65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Picture 3" descr="树2"/>
          <p:cNvPicPr/>
          <p:nvPr/>
        </p:nvPicPr>
        <p:blipFill>
          <a:blip r:embed="rId1"/>
          <a:stretch/>
        </p:blipFill>
        <p:spPr>
          <a:xfrm>
            <a:off x="3352680" y="533520"/>
            <a:ext cx="1311480" cy="2438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树2"/>
          <p:cNvPicPr/>
          <p:nvPr/>
        </p:nvPicPr>
        <p:blipFill>
          <a:blip r:embed="rId2"/>
          <a:stretch/>
        </p:blipFill>
        <p:spPr>
          <a:xfrm>
            <a:off x="2057400" y="533520"/>
            <a:ext cx="1311120" cy="24382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5" descr="树2"/>
          <p:cNvPicPr/>
          <p:nvPr/>
        </p:nvPicPr>
        <p:blipFill>
          <a:blip r:embed="rId3"/>
          <a:stretch/>
        </p:blipFill>
        <p:spPr>
          <a:xfrm>
            <a:off x="762120" y="533520"/>
            <a:ext cx="1311120" cy="2438280"/>
          </a:xfrm>
          <a:prstGeom prst="rect">
            <a:avLst/>
          </a:prstGeom>
          <a:ln w="0">
            <a:noFill/>
          </a:ln>
        </p:spPr>
      </p:pic>
      <p:sp>
        <p:nvSpPr>
          <p:cNvPr id="700" name="Line 6"/>
          <p:cNvSpPr/>
          <p:nvPr/>
        </p:nvSpPr>
        <p:spPr>
          <a:xfrm>
            <a:off x="4648320" y="1752480"/>
            <a:ext cx="1334880" cy="32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Picture 7" descr="森林1"/>
          <p:cNvPicPr/>
          <p:nvPr/>
        </p:nvPicPr>
        <p:blipFill>
          <a:blip r:embed="rId4"/>
          <a:stretch/>
        </p:blipFill>
        <p:spPr>
          <a:xfrm>
            <a:off x="6019920" y="533520"/>
            <a:ext cx="2895480" cy="2458800"/>
          </a:xfrm>
          <a:prstGeom prst="rect">
            <a:avLst/>
          </a:prstGeom>
          <a:ln w="0">
            <a:noFill/>
          </a:ln>
        </p:spPr>
      </p:pic>
      <p:grpSp>
        <p:nvGrpSpPr>
          <p:cNvPr id="702" name="Group 14"/>
          <p:cNvGrpSpPr/>
          <p:nvPr/>
        </p:nvGrpSpPr>
        <p:grpSpPr>
          <a:xfrm>
            <a:off x="762120" y="4419720"/>
            <a:ext cx="3733560" cy="1434600"/>
            <a:chOff x="762120" y="4419720"/>
            <a:chExt cx="3733560" cy="1434600"/>
          </a:xfrm>
        </p:grpSpPr>
        <p:sp>
          <p:nvSpPr>
            <p:cNvPr id="703" name="Rectangle 8"/>
            <p:cNvSpPr/>
            <p:nvPr/>
          </p:nvSpPr>
          <p:spPr>
            <a:xfrm>
              <a:off x="762120" y="4419720"/>
              <a:ext cx="114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10"/>
            <p:cNvSpPr/>
            <p:nvPr/>
          </p:nvSpPr>
          <p:spPr>
            <a:xfrm>
              <a:off x="3352680" y="4419720"/>
              <a:ext cx="114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Rectangle 11"/>
            <p:cNvSpPr/>
            <p:nvPr/>
          </p:nvSpPr>
          <p:spPr>
            <a:xfrm>
              <a:off x="2057400" y="4419720"/>
              <a:ext cx="114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Rectangle 12"/>
          <p:cNvSpPr/>
          <p:nvPr/>
        </p:nvSpPr>
        <p:spPr>
          <a:xfrm>
            <a:off x="6019920" y="4191120"/>
            <a:ext cx="18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森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3"/>
          <p:cNvSpPr/>
          <p:nvPr/>
        </p:nvSpPr>
        <p:spPr>
          <a:xfrm>
            <a:off x="5943600" y="31240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sēn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AutoShape 15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页脚占位符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8DED-3119-4C4B-8D11-1C12F448D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Picture 4" descr="人1"/>
          <p:cNvPicPr/>
          <p:nvPr/>
        </p:nvPicPr>
        <p:blipFill>
          <a:blip r:embed="rId1"/>
          <a:stretch/>
        </p:blipFill>
        <p:spPr>
          <a:xfrm>
            <a:off x="3348000" y="333360"/>
            <a:ext cx="2073240" cy="399564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5" descr="人1"/>
          <p:cNvPicPr/>
          <p:nvPr/>
        </p:nvPicPr>
        <p:blipFill>
          <a:blip r:embed="rId2"/>
          <a:stretch/>
        </p:blipFill>
        <p:spPr>
          <a:xfrm>
            <a:off x="1187280" y="476280"/>
            <a:ext cx="2038680" cy="392436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6"/>
          <p:cNvSpPr/>
          <p:nvPr/>
        </p:nvSpPr>
        <p:spPr>
          <a:xfrm>
            <a:off x="1476360" y="486900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3635280" y="486900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6084720" y="2924280"/>
            <a:ext cx="25196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ó</a:t>
            </a: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9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0CA5-EE27-4297-B8F1-7387D824B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"/>
          <p:cNvSpPr/>
          <p:nvPr/>
        </p:nvSpPr>
        <p:spPr>
          <a:xfrm>
            <a:off x="3708360" y="2276640"/>
            <a:ext cx="1593720" cy="9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Picture 5" descr="众人"/>
          <p:cNvPicPr/>
          <p:nvPr/>
        </p:nvPicPr>
        <p:blipFill>
          <a:blip r:embed="rId1"/>
          <a:stretch/>
        </p:blipFill>
        <p:spPr>
          <a:xfrm>
            <a:off x="5867280" y="98100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" descr="人1"/>
          <p:cNvPicPr/>
          <p:nvPr/>
        </p:nvPicPr>
        <p:blipFill>
          <a:blip r:embed="rId2"/>
          <a:stretch/>
        </p:blipFill>
        <p:spPr>
          <a:xfrm>
            <a:off x="611280" y="1341360"/>
            <a:ext cx="1104840" cy="21272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7" descr="人1"/>
          <p:cNvPicPr/>
          <p:nvPr/>
        </p:nvPicPr>
        <p:blipFill>
          <a:blip r:embed="rId3"/>
          <a:stretch/>
        </p:blipFill>
        <p:spPr>
          <a:xfrm>
            <a:off x="2411280" y="1557360"/>
            <a:ext cx="1009800" cy="19429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8" descr="人1"/>
          <p:cNvPicPr/>
          <p:nvPr/>
        </p:nvPicPr>
        <p:blipFill>
          <a:blip r:embed="rId4"/>
          <a:stretch/>
        </p:blipFill>
        <p:spPr>
          <a:xfrm>
            <a:off x="1619280" y="333360"/>
            <a:ext cx="1066680" cy="205416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9"/>
          <p:cNvSpPr/>
          <p:nvPr/>
        </p:nvSpPr>
        <p:spPr>
          <a:xfrm>
            <a:off x="684360" y="3789360"/>
            <a:ext cx="3958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     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5580000" y="3357720"/>
            <a:ext cx="3203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òn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众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11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4D1E-BFA8-4AFC-9596-49DCB4E95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"/>
          <p:cNvSpPr/>
          <p:nvPr/>
        </p:nvSpPr>
        <p:spPr>
          <a:xfrm>
            <a:off x="1880280" y="1447920"/>
            <a:ext cx="56685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明　鲜　尘　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灭　力　男　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手　林　森　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众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"/>
          <p:cNvSpPr/>
          <p:nvPr/>
        </p:nvSpPr>
        <p:spPr>
          <a:xfrm>
            <a:off x="1206360" y="30492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cc0099"/>
                </a:solidFill>
                <a:latin typeface="Times New Roman"/>
              </a:rPr>
              <a:t>读一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4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732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1356-AB8C-40BE-B6C2-5409E638C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3"/>
          <p:cNvSpPr/>
          <p:nvPr/>
        </p:nvSpPr>
        <p:spPr>
          <a:xfrm>
            <a:off x="971640" y="1052640"/>
            <a:ext cx="705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日  月  鱼  羊  小  土  大  一  火  田  力  人  木  手  目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977760" y="317808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力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5261040" y="319572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WordArt 6"/>
          <p:cNvSpPr txBox="1"/>
          <p:nvPr/>
        </p:nvSpPr>
        <p:spPr>
          <a:xfrm>
            <a:off x="3059280" y="436572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lì</a:t>
            </a:r>
            <a:endParaRPr b="0" lang="en-US" sz="3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39" name="WordArt 7"/>
          <p:cNvSpPr txBox="1"/>
          <p:nvPr/>
        </p:nvSpPr>
        <p:spPr>
          <a:xfrm>
            <a:off x="4859280" y="4365720"/>
            <a:ext cx="1009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shǒu</a:t>
            </a:r>
            <a:endParaRPr b="0" lang="en-US" sz="3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740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0.18038 0.2544 E">
                                      <p:cBhvr>
                                        <p:cTn id="169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6 L -0.05174 0.24143 E">
                                      <p:cBhvr>
                                        <p:cTn id="179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8F37-7487-4C8B-952A-17139AA05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Picture 2" descr="复件 PM_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WordArt 3"/>
          <p:cNvSpPr txBox="1"/>
          <p:nvPr/>
        </p:nvSpPr>
        <p:spPr>
          <a:xfrm>
            <a:off x="6804000" y="1197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ā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4" name="WordArt 4"/>
          <p:cNvSpPr txBox="1"/>
          <p:nvPr/>
        </p:nvSpPr>
        <p:spPr>
          <a:xfrm>
            <a:off x="3132000" y="12682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mínɡ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745" name="WordArt 5"/>
          <p:cNvSpPr txBox="1"/>
          <p:nvPr/>
        </p:nvSpPr>
        <p:spPr>
          <a:xfrm>
            <a:off x="3059280" y="3429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hé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6" name="WordArt 6"/>
          <p:cNvSpPr txBox="1"/>
          <p:nvPr/>
        </p:nvSpPr>
        <p:spPr>
          <a:xfrm>
            <a:off x="6659640" y="3429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jiā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7" name="WordArt 7"/>
          <p:cNvSpPr txBox="1"/>
          <p:nvPr/>
        </p:nvSpPr>
        <p:spPr>
          <a:xfrm>
            <a:off x="1476360" y="177336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日月明，鱼羊鲜，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8" name="WordArt 8"/>
          <p:cNvSpPr txBox="1"/>
          <p:nvPr/>
        </p:nvSpPr>
        <p:spPr>
          <a:xfrm>
            <a:off x="1403280" y="4005360"/>
            <a:ext cx="6478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土尘，小大尖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9" name="页脚占位符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3FDB-4159-45C7-BEF8-69AC7DAC0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2" descr="复件 PM_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2" name="WordArt 3"/>
          <p:cNvSpPr txBox="1"/>
          <p:nvPr/>
        </p:nvSpPr>
        <p:spPr>
          <a:xfrm>
            <a:off x="1476360" y="191628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火灭，田力男，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3" name="WordArt 4"/>
          <p:cNvSpPr txBox="1"/>
          <p:nvPr/>
        </p:nvSpPr>
        <p:spPr>
          <a:xfrm>
            <a:off x="1403280" y="4005360"/>
            <a:ext cx="6478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人木休，手目看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4" name="WordArt 5"/>
          <p:cNvSpPr txBox="1"/>
          <p:nvPr/>
        </p:nvSpPr>
        <p:spPr>
          <a:xfrm>
            <a:off x="3203640" y="3357720"/>
            <a:ext cx="7189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ū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5" name="WordArt 6"/>
          <p:cNvSpPr txBox="1"/>
          <p:nvPr/>
        </p:nvSpPr>
        <p:spPr>
          <a:xfrm>
            <a:off x="3276720" y="1268280"/>
            <a:ext cx="71892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iè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6" name="WordArt 7"/>
          <p:cNvSpPr txBox="1"/>
          <p:nvPr/>
        </p:nvSpPr>
        <p:spPr>
          <a:xfrm>
            <a:off x="6877080" y="1268280"/>
            <a:ext cx="7192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ná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7" name="WordArt 8"/>
          <p:cNvSpPr txBox="1"/>
          <p:nvPr/>
        </p:nvSpPr>
        <p:spPr>
          <a:xfrm>
            <a:off x="6804000" y="3429000"/>
            <a:ext cx="71928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kà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8" name="页脚占位符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E4EE-8621-4966-AC8C-28783FC02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2"/>
          <p:cNvSpPr/>
          <p:nvPr/>
        </p:nvSpPr>
        <p:spPr>
          <a:xfrm>
            <a:off x="179280" y="3068640"/>
            <a:ext cx="2160720" cy="338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WordArt 3"/>
          <p:cNvSpPr txBox="1"/>
          <p:nvPr/>
        </p:nvSpPr>
        <p:spPr>
          <a:xfrm>
            <a:off x="2050920" y="3500280"/>
            <a:ext cx="223200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月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8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5723E-006 C 0.04409 -0.05318 0.08819 -0.10612 0.12291 -0.14034 C 0.15746 -0.17456 0.16666 -0.17826 0.20885 -0.20462 C 0.25121 -0.23075 0.30416 -0.26844 0.37621 -0.29803 C 0.44826 -0.32786 0.59739 -0.36878 0.64184 -0.38266 E">
                                      <p:cBhvr>
                                        <p:cTn id="18" dur="5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B54B-439B-4A37-A888-453D9C669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" descr="复件 PM_030"/>
          <p:cNvPicPr/>
          <p:nvPr/>
        </p:nvPicPr>
        <p:blipFill>
          <a:blip r:embed="rId1"/>
          <a:stretch/>
        </p:blipFill>
        <p:spPr>
          <a:xfrm>
            <a:off x="-28440" y="-196920"/>
            <a:ext cx="9172440" cy="705492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 txBox="1"/>
          <p:nvPr/>
        </p:nvSpPr>
        <p:spPr>
          <a:xfrm>
            <a:off x="2055600" y="2662200"/>
            <a:ext cx="4964040" cy="31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WordArt 4"/>
          <p:cNvSpPr txBox="1"/>
          <p:nvPr/>
        </p:nvSpPr>
        <p:spPr>
          <a:xfrm>
            <a:off x="6877080" y="1341360"/>
            <a:ext cx="90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ē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3" name="WordArt 5"/>
          <p:cNvSpPr txBox="1"/>
          <p:nvPr/>
        </p:nvSpPr>
        <p:spPr>
          <a:xfrm>
            <a:off x="3276720" y="1268280"/>
            <a:ext cx="90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í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4" name="WordArt 6"/>
          <p:cNvSpPr txBox="1"/>
          <p:nvPr/>
        </p:nvSpPr>
        <p:spPr>
          <a:xfrm>
            <a:off x="3276720" y="328464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ónɡ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5" name="WordArt 7"/>
          <p:cNvSpPr txBox="1"/>
          <p:nvPr/>
        </p:nvSpPr>
        <p:spPr>
          <a:xfrm>
            <a:off x="6804000" y="3141720"/>
            <a:ext cx="108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zhònɡ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6" name="WordArt 8"/>
          <p:cNvSpPr txBox="1"/>
          <p:nvPr/>
        </p:nvSpPr>
        <p:spPr>
          <a:xfrm>
            <a:off x="1476360" y="177336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二木林，三木森，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7" name="WordArt 9"/>
          <p:cNvSpPr txBox="1"/>
          <p:nvPr/>
        </p:nvSpPr>
        <p:spPr>
          <a:xfrm>
            <a:off x="1547640" y="3716280"/>
            <a:ext cx="64789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二人从，三人众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8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5807-0C31-476B-9EE7-BD98E15F3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2" descr="4"/>
          <p:cNvPicPr/>
          <p:nvPr/>
        </p:nvPicPr>
        <p:blipFill>
          <a:blip r:embed="rId1"/>
          <a:stretch/>
        </p:blipFill>
        <p:spPr>
          <a:xfrm>
            <a:off x="-181080" y="-387360"/>
            <a:ext cx="9541080" cy="7553160"/>
          </a:xfrm>
          <a:prstGeom prst="rect">
            <a:avLst/>
          </a:prstGeom>
          <a:ln w="0">
            <a:noFill/>
          </a:ln>
        </p:spPr>
      </p:pic>
      <p:sp>
        <p:nvSpPr>
          <p:cNvPr id="771" name="WordArt 3"/>
          <p:cNvSpPr txBox="1"/>
          <p:nvPr/>
        </p:nvSpPr>
        <p:spPr>
          <a:xfrm>
            <a:off x="1619280" y="1989000"/>
            <a:ext cx="576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鲜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2" name="WordArt 4"/>
          <p:cNvSpPr txBox="1"/>
          <p:nvPr/>
        </p:nvSpPr>
        <p:spPr>
          <a:xfrm>
            <a:off x="3348000" y="1989000"/>
            <a:ext cx="504720" cy="5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明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3" name="WordArt 5"/>
          <p:cNvSpPr txBox="1"/>
          <p:nvPr/>
        </p:nvSpPr>
        <p:spPr>
          <a:xfrm>
            <a:off x="5508720" y="4797360"/>
            <a:ext cx="50328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灭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4" name="WordArt 6"/>
          <p:cNvSpPr txBox="1"/>
          <p:nvPr/>
        </p:nvSpPr>
        <p:spPr>
          <a:xfrm>
            <a:off x="6877080" y="4797360"/>
            <a:ext cx="50472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尘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5" name="WordArt 7"/>
          <p:cNvSpPr txBox="1"/>
          <p:nvPr/>
        </p:nvSpPr>
        <p:spPr>
          <a:xfrm>
            <a:off x="5076720" y="1989000"/>
            <a:ext cx="576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休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6" name="WordArt 8"/>
          <p:cNvSpPr txBox="1"/>
          <p:nvPr/>
        </p:nvSpPr>
        <p:spPr>
          <a:xfrm>
            <a:off x="2916360" y="4870440"/>
            <a:ext cx="504720" cy="5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男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7" name="WordArt 9"/>
          <p:cNvSpPr txBox="1"/>
          <p:nvPr/>
        </p:nvSpPr>
        <p:spPr>
          <a:xfrm>
            <a:off x="3348000" y="3357720"/>
            <a:ext cx="5763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林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8" name="WordArt 10"/>
          <p:cNvSpPr txBox="1"/>
          <p:nvPr/>
        </p:nvSpPr>
        <p:spPr>
          <a:xfrm>
            <a:off x="6732720" y="1989000"/>
            <a:ext cx="574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森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9" name="WordArt 11"/>
          <p:cNvSpPr txBox="1"/>
          <p:nvPr/>
        </p:nvSpPr>
        <p:spPr>
          <a:xfrm>
            <a:off x="1619280" y="3284640"/>
            <a:ext cx="504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从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0" name="WordArt 12"/>
          <p:cNvSpPr txBox="1"/>
          <p:nvPr/>
        </p:nvSpPr>
        <p:spPr>
          <a:xfrm>
            <a:off x="4211640" y="4797360"/>
            <a:ext cx="57636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尖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1" name="WordArt 13"/>
          <p:cNvSpPr txBox="1"/>
          <p:nvPr/>
        </p:nvSpPr>
        <p:spPr>
          <a:xfrm>
            <a:off x="1547640" y="4797360"/>
            <a:ext cx="503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众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2" name="WordArt 14"/>
          <p:cNvSpPr txBox="1"/>
          <p:nvPr/>
        </p:nvSpPr>
        <p:spPr>
          <a:xfrm>
            <a:off x="3203640" y="1197000"/>
            <a:ext cx="936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ínɡ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3" name="WordArt 15"/>
          <p:cNvSpPr txBox="1"/>
          <p:nvPr/>
        </p:nvSpPr>
        <p:spPr>
          <a:xfrm>
            <a:off x="1403280" y="1197000"/>
            <a:ext cx="936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ā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4" name="WordArt 16"/>
          <p:cNvSpPr txBox="1"/>
          <p:nvPr/>
        </p:nvSpPr>
        <p:spPr>
          <a:xfrm>
            <a:off x="6659640" y="4076640"/>
            <a:ext cx="93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hé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5" name="WordArt 17"/>
          <p:cNvSpPr txBox="1"/>
          <p:nvPr/>
        </p:nvSpPr>
        <p:spPr>
          <a:xfrm>
            <a:off x="4068720" y="4221000"/>
            <a:ext cx="86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jiā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6" name="WordArt 18"/>
          <p:cNvSpPr txBox="1"/>
          <p:nvPr/>
        </p:nvSpPr>
        <p:spPr>
          <a:xfrm>
            <a:off x="5435640" y="4149720"/>
            <a:ext cx="79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iè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7" name="WordArt 19"/>
          <p:cNvSpPr txBox="1"/>
          <p:nvPr/>
        </p:nvSpPr>
        <p:spPr>
          <a:xfrm>
            <a:off x="2771640" y="4149720"/>
            <a:ext cx="72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ná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8" name="WordArt 20"/>
          <p:cNvSpPr txBox="1"/>
          <p:nvPr/>
        </p:nvSpPr>
        <p:spPr>
          <a:xfrm>
            <a:off x="5076720" y="1197000"/>
            <a:ext cx="64944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ū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9" name="WordArt 21"/>
          <p:cNvSpPr txBox="1"/>
          <p:nvPr/>
        </p:nvSpPr>
        <p:spPr>
          <a:xfrm>
            <a:off x="3276720" y="2708280"/>
            <a:ext cx="720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í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0" name="WordArt 22"/>
          <p:cNvSpPr txBox="1"/>
          <p:nvPr/>
        </p:nvSpPr>
        <p:spPr>
          <a:xfrm>
            <a:off x="6661080" y="1197000"/>
            <a:ext cx="64764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ē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1" name="WordArt 23"/>
          <p:cNvSpPr txBox="1"/>
          <p:nvPr/>
        </p:nvSpPr>
        <p:spPr>
          <a:xfrm>
            <a:off x="1476360" y="2781360"/>
            <a:ext cx="86508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ónɡ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2" name="WordArt 24"/>
          <p:cNvSpPr txBox="1"/>
          <p:nvPr/>
        </p:nvSpPr>
        <p:spPr>
          <a:xfrm>
            <a:off x="1260360" y="4149720"/>
            <a:ext cx="107964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zhònɡ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3" name="WordArt 25"/>
          <p:cNvSpPr txBox="1"/>
          <p:nvPr/>
        </p:nvSpPr>
        <p:spPr>
          <a:xfrm>
            <a:off x="5076720" y="3357720"/>
            <a:ext cx="503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力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4" name="WordArt 26"/>
          <p:cNvSpPr txBox="1"/>
          <p:nvPr/>
        </p:nvSpPr>
        <p:spPr>
          <a:xfrm>
            <a:off x="6732720" y="3357720"/>
            <a:ext cx="57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手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5" name="WordArt 27"/>
          <p:cNvSpPr txBox="1"/>
          <p:nvPr/>
        </p:nvSpPr>
        <p:spPr>
          <a:xfrm>
            <a:off x="6516720" y="2708280"/>
            <a:ext cx="10080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hǒu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6" name="WordArt 28"/>
          <p:cNvSpPr txBox="1"/>
          <p:nvPr/>
        </p:nvSpPr>
        <p:spPr>
          <a:xfrm>
            <a:off x="5148360" y="2781360"/>
            <a:ext cx="43164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ì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7" name="页脚占位符 3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577A-CBD2-4021-A0E3-17870550E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Group 2"/>
          <p:cNvGrpSpPr/>
          <p:nvPr/>
        </p:nvGrpSpPr>
        <p:grpSpPr>
          <a:xfrm>
            <a:off x="6372360" y="4626000"/>
            <a:ext cx="2016000" cy="2232000"/>
            <a:chOff x="6372360" y="4626000"/>
            <a:chExt cx="2016000" cy="2232000"/>
          </a:xfrm>
        </p:grpSpPr>
        <p:sp>
          <p:nvSpPr>
            <p:cNvPr id="800" name="AutoShape 3"/>
            <p:cNvSpPr/>
            <p:nvPr/>
          </p:nvSpPr>
          <p:spPr>
            <a:xfrm>
              <a:off x="637236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WordArt 4"/>
            <p:cNvSpPr txBox="1"/>
            <p:nvPr/>
          </p:nvSpPr>
          <p:spPr>
            <a:xfrm>
              <a:off x="7078680" y="5506920"/>
              <a:ext cx="610920" cy="50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明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02" name="Group 5"/>
          <p:cNvGrpSpPr/>
          <p:nvPr/>
        </p:nvGrpSpPr>
        <p:grpSpPr>
          <a:xfrm>
            <a:off x="1403280" y="4678200"/>
            <a:ext cx="2016360" cy="2232360"/>
            <a:chOff x="1403280" y="4678200"/>
            <a:chExt cx="2016360" cy="2232360"/>
          </a:xfrm>
        </p:grpSpPr>
        <p:sp>
          <p:nvSpPr>
            <p:cNvPr id="803" name="AutoShape 6"/>
            <p:cNvSpPr/>
            <p:nvPr/>
          </p:nvSpPr>
          <p:spPr>
            <a:xfrm>
              <a:off x="140328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WordArt 7"/>
            <p:cNvSpPr txBox="1"/>
            <p:nvPr/>
          </p:nvSpPr>
          <p:spPr>
            <a:xfrm>
              <a:off x="212400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众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05" name="Group 8"/>
          <p:cNvGrpSpPr/>
          <p:nvPr/>
        </p:nvGrpSpPr>
        <p:grpSpPr>
          <a:xfrm>
            <a:off x="0" y="4678200"/>
            <a:ext cx="2016000" cy="2232360"/>
            <a:chOff x="0" y="4678200"/>
            <a:chExt cx="2016000" cy="2232360"/>
          </a:xfrm>
        </p:grpSpPr>
        <p:sp>
          <p:nvSpPr>
            <p:cNvPr id="806" name="AutoShape 9"/>
            <p:cNvSpPr/>
            <p:nvPr/>
          </p:nvSpPr>
          <p:spPr>
            <a:xfrm>
              <a:off x="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WordArt 10"/>
            <p:cNvSpPr txBox="1"/>
            <p:nvPr/>
          </p:nvSpPr>
          <p:spPr>
            <a:xfrm>
              <a:off x="72072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鲜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08" name="Group 11"/>
          <p:cNvGrpSpPr/>
          <p:nvPr/>
        </p:nvGrpSpPr>
        <p:grpSpPr>
          <a:xfrm>
            <a:off x="2627280" y="4626000"/>
            <a:ext cx="2016000" cy="2232000"/>
            <a:chOff x="2627280" y="4626000"/>
            <a:chExt cx="2016000" cy="2232000"/>
          </a:xfrm>
        </p:grpSpPr>
        <p:sp>
          <p:nvSpPr>
            <p:cNvPr id="809" name="AutoShape 12"/>
            <p:cNvSpPr/>
            <p:nvPr/>
          </p:nvSpPr>
          <p:spPr>
            <a:xfrm>
              <a:off x="262728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WordArt 13"/>
            <p:cNvSpPr txBox="1"/>
            <p:nvPr/>
          </p:nvSpPr>
          <p:spPr>
            <a:xfrm>
              <a:off x="3348000" y="5516640"/>
              <a:ext cx="6109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手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11" name="Group 14"/>
          <p:cNvGrpSpPr/>
          <p:nvPr/>
        </p:nvGrpSpPr>
        <p:grpSpPr>
          <a:xfrm>
            <a:off x="3851280" y="4678200"/>
            <a:ext cx="2016000" cy="2232360"/>
            <a:chOff x="3851280" y="4678200"/>
            <a:chExt cx="2016000" cy="2232360"/>
          </a:xfrm>
        </p:grpSpPr>
        <p:sp>
          <p:nvSpPr>
            <p:cNvPr id="812" name="AutoShape 15"/>
            <p:cNvSpPr/>
            <p:nvPr/>
          </p:nvSpPr>
          <p:spPr>
            <a:xfrm>
              <a:off x="385128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WordArt 16"/>
            <p:cNvSpPr txBox="1"/>
            <p:nvPr/>
          </p:nvSpPr>
          <p:spPr>
            <a:xfrm>
              <a:off x="457200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从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14" name="Group 17"/>
          <p:cNvGrpSpPr/>
          <p:nvPr/>
        </p:nvGrpSpPr>
        <p:grpSpPr>
          <a:xfrm>
            <a:off x="5219640" y="4678200"/>
            <a:ext cx="2016360" cy="2232360"/>
            <a:chOff x="5219640" y="4678200"/>
            <a:chExt cx="2016360" cy="2232360"/>
          </a:xfrm>
        </p:grpSpPr>
        <p:sp>
          <p:nvSpPr>
            <p:cNvPr id="815" name="AutoShape 18"/>
            <p:cNvSpPr/>
            <p:nvPr/>
          </p:nvSpPr>
          <p:spPr>
            <a:xfrm>
              <a:off x="521964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WordArt 19"/>
            <p:cNvSpPr txBox="1"/>
            <p:nvPr/>
          </p:nvSpPr>
          <p:spPr>
            <a:xfrm>
              <a:off x="594036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森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17" name="Group 20"/>
          <p:cNvGrpSpPr/>
          <p:nvPr/>
        </p:nvGrpSpPr>
        <p:grpSpPr>
          <a:xfrm>
            <a:off x="3132000" y="4678200"/>
            <a:ext cx="2016360" cy="2232360"/>
            <a:chOff x="3132000" y="4678200"/>
            <a:chExt cx="2016360" cy="2232360"/>
          </a:xfrm>
        </p:grpSpPr>
        <p:sp>
          <p:nvSpPr>
            <p:cNvPr id="818" name="AutoShape 21"/>
            <p:cNvSpPr/>
            <p:nvPr/>
          </p:nvSpPr>
          <p:spPr>
            <a:xfrm>
              <a:off x="313200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WordArt 22"/>
            <p:cNvSpPr txBox="1"/>
            <p:nvPr/>
          </p:nvSpPr>
          <p:spPr>
            <a:xfrm>
              <a:off x="385272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尘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0" name="Group 23"/>
          <p:cNvGrpSpPr/>
          <p:nvPr/>
        </p:nvGrpSpPr>
        <p:grpSpPr>
          <a:xfrm>
            <a:off x="684360" y="4678200"/>
            <a:ext cx="2016000" cy="2232360"/>
            <a:chOff x="684360" y="4678200"/>
            <a:chExt cx="2016000" cy="2232360"/>
          </a:xfrm>
        </p:grpSpPr>
        <p:sp>
          <p:nvSpPr>
            <p:cNvPr id="821" name="AutoShape 24"/>
            <p:cNvSpPr/>
            <p:nvPr/>
          </p:nvSpPr>
          <p:spPr>
            <a:xfrm>
              <a:off x="68436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WordArt 25"/>
            <p:cNvSpPr txBox="1"/>
            <p:nvPr/>
          </p:nvSpPr>
          <p:spPr>
            <a:xfrm>
              <a:off x="140508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男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3" name="Group 26"/>
          <p:cNvGrpSpPr/>
          <p:nvPr/>
        </p:nvGrpSpPr>
        <p:grpSpPr>
          <a:xfrm>
            <a:off x="1908000" y="4678200"/>
            <a:ext cx="2016360" cy="2232360"/>
            <a:chOff x="1908000" y="4678200"/>
            <a:chExt cx="2016360" cy="2232360"/>
          </a:xfrm>
        </p:grpSpPr>
        <p:sp>
          <p:nvSpPr>
            <p:cNvPr id="824" name="AutoShape 27"/>
            <p:cNvSpPr/>
            <p:nvPr/>
          </p:nvSpPr>
          <p:spPr>
            <a:xfrm>
              <a:off x="190800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WordArt 28"/>
            <p:cNvSpPr txBox="1"/>
            <p:nvPr/>
          </p:nvSpPr>
          <p:spPr>
            <a:xfrm>
              <a:off x="262908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林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6" name="Group 29"/>
          <p:cNvGrpSpPr/>
          <p:nvPr/>
        </p:nvGrpSpPr>
        <p:grpSpPr>
          <a:xfrm>
            <a:off x="4500720" y="4678200"/>
            <a:ext cx="2016000" cy="2232360"/>
            <a:chOff x="4500720" y="4678200"/>
            <a:chExt cx="2016000" cy="2232360"/>
          </a:xfrm>
        </p:grpSpPr>
        <p:sp>
          <p:nvSpPr>
            <p:cNvPr id="827" name="AutoShape 30"/>
            <p:cNvSpPr/>
            <p:nvPr/>
          </p:nvSpPr>
          <p:spPr>
            <a:xfrm>
              <a:off x="450072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WordArt 31"/>
            <p:cNvSpPr txBox="1"/>
            <p:nvPr/>
          </p:nvSpPr>
          <p:spPr>
            <a:xfrm>
              <a:off x="522144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休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9" name="Group 32"/>
          <p:cNvGrpSpPr/>
          <p:nvPr/>
        </p:nvGrpSpPr>
        <p:grpSpPr>
          <a:xfrm>
            <a:off x="7128000" y="4678200"/>
            <a:ext cx="2016000" cy="2232360"/>
            <a:chOff x="7128000" y="4678200"/>
            <a:chExt cx="2016000" cy="2232360"/>
          </a:xfrm>
        </p:grpSpPr>
        <p:sp>
          <p:nvSpPr>
            <p:cNvPr id="830" name="AutoShape 33"/>
            <p:cNvSpPr/>
            <p:nvPr/>
          </p:nvSpPr>
          <p:spPr>
            <a:xfrm>
              <a:off x="712800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WordArt 34"/>
            <p:cNvSpPr txBox="1"/>
            <p:nvPr/>
          </p:nvSpPr>
          <p:spPr>
            <a:xfrm>
              <a:off x="784836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尖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32" name="Group 35"/>
          <p:cNvGrpSpPr/>
          <p:nvPr/>
        </p:nvGrpSpPr>
        <p:grpSpPr>
          <a:xfrm>
            <a:off x="5867280" y="4626000"/>
            <a:ext cx="2016000" cy="2232000"/>
            <a:chOff x="5867280" y="4626000"/>
            <a:chExt cx="2016000" cy="2232000"/>
          </a:xfrm>
        </p:grpSpPr>
        <p:sp>
          <p:nvSpPr>
            <p:cNvPr id="833" name="AutoShape 36"/>
            <p:cNvSpPr/>
            <p:nvPr/>
          </p:nvSpPr>
          <p:spPr>
            <a:xfrm>
              <a:off x="586728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WordArt 37"/>
            <p:cNvSpPr txBox="1"/>
            <p:nvPr/>
          </p:nvSpPr>
          <p:spPr>
            <a:xfrm>
              <a:off x="6588000" y="5516280"/>
              <a:ext cx="6109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灭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35" name="Group 38"/>
          <p:cNvGrpSpPr/>
          <p:nvPr/>
        </p:nvGrpSpPr>
        <p:grpSpPr>
          <a:xfrm>
            <a:off x="4716360" y="4626000"/>
            <a:ext cx="2016360" cy="2232000"/>
            <a:chOff x="4716360" y="4626000"/>
            <a:chExt cx="2016360" cy="2232000"/>
          </a:xfrm>
        </p:grpSpPr>
        <p:sp>
          <p:nvSpPr>
            <p:cNvPr id="836" name="AutoShape 39"/>
            <p:cNvSpPr/>
            <p:nvPr/>
          </p:nvSpPr>
          <p:spPr>
            <a:xfrm>
              <a:off x="4716360" y="4626000"/>
              <a:ext cx="2016360" cy="223200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WordArt 40"/>
            <p:cNvSpPr txBox="1"/>
            <p:nvPr/>
          </p:nvSpPr>
          <p:spPr>
            <a:xfrm>
              <a:off x="5437080" y="5516280"/>
              <a:ext cx="6112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力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838" name="页脚占位符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6.35838E-007 L -0.41736 -0.64855 E">
                                      <p:cBhvr>
                                        <p:cTn id="239" dur="2000" fill="hold"/>
                                        <p:tgtEl>
                                          <p:spTgt spid="8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6.35838E-007 L -0.13386 -0.44948 E">
                                      <p:cBhvr>
                                        <p:cTn id="249" dur="1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13873E-006 L 0.2283 -0.65017 E">
                                      <p:cBhvr>
                                        <p:cTn id="259" dur="1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35838E-007 L 0.59844 -0.65919 E">
                                      <p:cBhvr>
                                        <p:cTn id="269" dur="1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014 -0.00023 C 0.11962 -0.15561 -0.13021 -0.31121 -0.16285 -0.42451 C -0.19531 -0.5378 0.11666 -0.63769 0.17239 -0.68 E">
                                      <p:cBhvr>
                                        <p:cTn id="279" dur="1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6.35838E-007 L 0.22847 -0.56485 E">
                                      <p:cBhvr>
                                        <p:cTn id="289" dur="1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35838E-007 C 0.21129 -0.07376 0.42257 -0.14775 0.45556 -0.23468 C 0.48855 -0.32185 0.24098 -0.47538 0.19844 -0.52277 E">
                                      <p:cBhvr>
                                        <p:cTn id="299" dur="10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35838E-007 L 0.29931 -0.21873 E">
                                      <p:cBhvr>
                                        <p:cTn id="309" dur="1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08092E-006 L -0.14965 -0.23075 E">
                                      <p:cBhvr>
                                        <p:cTn id="319" dur="10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19653E-006 C 0.02187 0.00694 0.04375 0.01411 0.03993 -0.0326 C 0.03594 -0.0793 0.09878 -0.2511 -0.02344 -0.28 C -0.14531 -0.30867 -0.41875 -0.25734 -0.69219 -0.20601 E">
                                      <p:cBhvr>
                                        <p:cTn id="329" dur="1000" fill="hold"/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36 -0.02266 C -0.05504 -0.16393 -0.03837 -0.30474 -0.05035 -0.36809 C -0.06198 -0.43121 -0.12656 -0.39815 -0.14167 -0.40416 E">
                                      <p:cBhvr>
                                        <p:cTn id="339" dur="1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49 0.03954 C 0.05399 0.0541 0.06597 0.06983 0.06424 -0.02913 C 0.06181 -0.1274 0.09792 -0.48879 0.02865 -0.54959 C -0.03993 -0.60948 -0.1934 -0.50196 -0.34653 -0.39399 E">
                                      <p:cBhvr>
                                        <p:cTn id="349" dur="1000" fill="hold"/>
                                        <p:tgtEl>
                                          <p:spTgt spid="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08092E-006 L 2.5E-006 -0.2726 E">
                                      <p:cBhvr>
                                        <p:cTn id="359" dur="5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D4EE-6B76-43BC-AF6E-DE80B0EC2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Picture 2" descr="card1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41" name="WordArt 3"/>
          <p:cNvSpPr txBox="1"/>
          <p:nvPr/>
        </p:nvSpPr>
        <p:spPr>
          <a:xfrm>
            <a:off x="1438200" y="413856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手心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2" name="WordArt 4"/>
          <p:cNvSpPr txBox="1"/>
          <p:nvPr/>
        </p:nvSpPr>
        <p:spPr>
          <a:xfrm>
            <a:off x="3778200" y="125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鲜花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3" name="WordArt 5"/>
          <p:cNvSpPr txBox="1"/>
          <p:nvPr/>
        </p:nvSpPr>
        <p:spPr>
          <a:xfrm>
            <a:off x="1438200" y="125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笔尖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4" name="WordArt 6"/>
          <p:cNvSpPr txBox="1"/>
          <p:nvPr/>
        </p:nvSpPr>
        <p:spPr>
          <a:xfrm>
            <a:off x="6116760" y="1258920"/>
            <a:ext cx="1439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尘土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5" name="WordArt 7"/>
          <p:cNvSpPr txBox="1"/>
          <p:nvPr/>
        </p:nvSpPr>
        <p:spPr>
          <a:xfrm>
            <a:off x="3778200" y="269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明天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6" name="WordArt 8"/>
          <p:cNvSpPr txBox="1"/>
          <p:nvPr/>
        </p:nvSpPr>
        <p:spPr>
          <a:xfrm>
            <a:off x="1438200" y="269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森林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7" name="WordArt 9"/>
          <p:cNvSpPr txBox="1"/>
          <p:nvPr/>
        </p:nvSpPr>
        <p:spPr>
          <a:xfrm>
            <a:off x="6116760" y="2698920"/>
            <a:ext cx="1439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灭火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8" name="WordArt 10"/>
          <p:cNvSpPr txBox="1"/>
          <p:nvPr/>
        </p:nvSpPr>
        <p:spPr>
          <a:xfrm>
            <a:off x="3778200" y="413856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竹林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9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restart="whenNotActive" nodeType="interactiveSeq" fill="hold">
                <p:stCondLst>
                  <p:cond evt="onClick">
                    <p:tgtEl>
                      <p:spTgt spid="843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6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842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842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7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81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8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92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9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0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7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84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1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2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7254-8FB0-4243-87B0-5DF4EFE7B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3"/>
          <p:cNvSpPr/>
          <p:nvPr/>
        </p:nvSpPr>
        <p:spPr>
          <a:xfrm>
            <a:off x="4572000" y="685800"/>
            <a:ext cx="838080" cy="79704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4"/>
          <p:cNvSpPr/>
          <p:nvPr/>
        </p:nvSpPr>
        <p:spPr>
          <a:xfrm>
            <a:off x="5791320" y="762120"/>
            <a:ext cx="304776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歪歪扭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5"/>
          <p:cNvSpPr/>
          <p:nvPr/>
        </p:nvSpPr>
        <p:spPr>
          <a:xfrm>
            <a:off x="4572000" y="2286000"/>
            <a:ext cx="838080" cy="79704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6"/>
          <p:cNvSpPr/>
          <p:nvPr/>
        </p:nvSpPr>
        <p:spPr>
          <a:xfrm>
            <a:off x="4648320" y="3886200"/>
            <a:ext cx="838080" cy="79704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7"/>
          <p:cNvSpPr/>
          <p:nvPr/>
        </p:nvSpPr>
        <p:spPr>
          <a:xfrm>
            <a:off x="4648320" y="5562720"/>
            <a:ext cx="838080" cy="79668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8"/>
          <p:cNvSpPr/>
          <p:nvPr/>
        </p:nvSpPr>
        <p:spPr>
          <a:xfrm>
            <a:off x="5867280" y="24382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晃眼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9"/>
          <p:cNvSpPr/>
          <p:nvPr/>
        </p:nvSpPr>
        <p:spPr>
          <a:xfrm>
            <a:off x="5943600" y="39625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10"/>
          <p:cNvSpPr/>
          <p:nvPr/>
        </p:nvSpPr>
        <p:spPr>
          <a:xfrm>
            <a:off x="5943600" y="56386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晶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1"/>
          <p:cNvSpPr/>
          <p:nvPr/>
        </p:nvSpPr>
        <p:spPr>
          <a:xfrm>
            <a:off x="2484360" y="0"/>
            <a:ext cx="12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   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2484360" y="1844640"/>
            <a:ext cx="93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   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2484360" y="3500280"/>
            <a:ext cx="922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   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2411280" y="5121360"/>
            <a:ext cx="106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   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WordArt 16"/>
          <p:cNvSpPr txBox="1"/>
          <p:nvPr/>
        </p:nvSpPr>
        <p:spPr>
          <a:xfrm rot="5400000">
            <a:off x="-800280" y="1485720"/>
            <a:ext cx="320040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读读想想</a:t>
            </a:r>
            <a:endParaRPr b="1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64" name="Picture 17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865" name="Line 20"/>
          <p:cNvSpPr/>
          <p:nvPr/>
        </p:nvSpPr>
        <p:spPr>
          <a:xfrm>
            <a:off x="3419640" y="404640"/>
            <a:ext cx="936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21"/>
          <p:cNvSpPr/>
          <p:nvPr/>
        </p:nvSpPr>
        <p:spPr>
          <a:xfrm flipV="1">
            <a:off x="3348000" y="1052640"/>
            <a:ext cx="100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22"/>
          <p:cNvSpPr/>
          <p:nvPr/>
        </p:nvSpPr>
        <p:spPr>
          <a:xfrm>
            <a:off x="3276720" y="227664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23"/>
          <p:cNvSpPr/>
          <p:nvPr/>
        </p:nvSpPr>
        <p:spPr>
          <a:xfrm flipV="1">
            <a:off x="3276720" y="2781360"/>
            <a:ext cx="1079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25"/>
          <p:cNvSpPr/>
          <p:nvPr/>
        </p:nvSpPr>
        <p:spPr>
          <a:xfrm>
            <a:off x="3203640" y="3933720"/>
            <a:ext cx="1152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26"/>
          <p:cNvSpPr/>
          <p:nvPr/>
        </p:nvSpPr>
        <p:spPr>
          <a:xfrm flipV="1">
            <a:off x="3276720" y="436572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27"/>
          <p:cNvSpPr/>
          <p:nvPr/>
        </p:nvSpPr>
        <p:spPr>
          <a:xfrm>
            <a:off x="3348000" y="5661000"/>
            <a:ext cx="1079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28"/>
          <p:cNvSpPr/>
          <p:nvPr/>
        </p:nvSpPr>
        <p:spPr>
          <a:xfrm flipV="1">
            <a:off x="3348000" y="6092640"/>
            <a:ext cx="1079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页脚占位符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F26C-236B-496A-91CD-94BE335FE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762120" y="342900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采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手在树上，采摘东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艳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色彩丰富，鲜艳美丽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 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苗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田间长草，植物幼苗。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              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泪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眼睛流水，泪水汪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功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出工有力，就会成功。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0" y="1413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 Unicode MS"/>
              </a:rPr>
              <a:t>　　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朋友，我们学习的汉字中，有许多字是由两个或几个汉字组成的，有趣的是它的意思就是这几个汉字意思的组合，这样的汉字有个名字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会意字。让我们一起认识 下面几个会意字，看它们是不是很有趣。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           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WordArt 5"/>
          <p:cNvSpPr txBox="1"/>
          <p:nvPr/>
        </p:nvSpPr>
        <p:spPr>
          <a:xfrm>
            <a:off x="304920" y="304920"/>
            <a:ext cx="7848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有趣的会意字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78" name="Picture 7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879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3A68-AAE3-4BA7-84A1-562ADB9D0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2"/>
          <p:cNvSpPr/>
          <p:nvPr/>
        </p:nvSpPr>
        <p:spPr>
          <a:xfrm>
            <a:off x="838080" y="13716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Comic Sans MS"/>
                <a:ea typeface="楷体_GB2312"/>
              </a:rPr>
              <a:t>日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"/>
          <p:cNvSpPr/>
          <p:nvPr/>
        </p:nvSpPr>
        <p:spPr>
          <a:xfrm>
            <a:off x="2971800" y="13716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Comic Sans MS"/>
                <a:ea typeface="楷体_GB2312"/>
              </a:rPr>
              <a:t>月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4"/>
          <p:cNvSpPr/>
          <p:nvPr/>
        </p:nvSpPr>
        <p:spPr>
          <a:xfrm>
            <a:off x="5257800" y="13716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Comic Sans MS"/>
                <a:ea typeface="楷体_GB2312"/>
              </a:rPr>
              <a:t>明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5"/>
          <p:cNvSpPr/>
          <p:nvPr/>
        </p:nvSpPr>
        <p:spPr>
          <a:xfrm>
            <a:off x="5383800" y="304920"/>
            <a:ext cx="29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mínɡ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Picture 6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886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49DD-CF7E-4ED8-B6D7-CDF1BC212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WordArt 2"/>
          <p:cNvSpPr txBox="1"/>
          <p:nvPr/>
        </p:nvSpPr>
        <p:spPr>
          <a:xfrm>
            <a:off x="1258920" y="3933720"/>
            <a:ext cx="1368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日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84" name="WordArt 3"/>
          <p:cNvSpPr txBox="1"/>
          <p:nvPr/>
        </p:nvSpPr>
        <p:spPr>
          <a:xfrm>
            <a:off x="5796000" y="3500280"/>
            <a:ext cx="2232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月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grpSp>
        <p:nvGrpSpPr>
          <p:cNvPr id="585" name="Group 4"/>
          <p:cNvGrpSpPr/>
          <p:nvPr/>
        </p:nvGrpSpPr>
        <p:grpSpPr>
          <a:xfrm>
            <a:off x="468360" y="260280"/>
            <a:ext cx="3239640" cy="3095640"/>
            <a:chOff x="468360" y="260280"/>
            <a:chExt cx="3239640" cy="3095640"/>
          </a:xfrm>
        </p:grpSpPr>
        <p:pic>
          <p:nvPicPr>
            <p:cNvPr id="586" name="Picture 5" descr="1066862330200342265288425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323964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6" descr="复件 v01-1"/>
            <p:cNvPicPr/>
            <p:nvPr/>
          </p:nvPicPr>
          <p:blipFill>
            <a:blip r:embed="rId2"/>
            <a:stretch/>
          </p:blipFill>
          <p:spPr>
            <a:xfrm>
              <a:off x="688680" y="470880"/>
              <a:ext cx="2798640" cy="267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8" name="Group 7"/>
          <p:cNvGrpSpPr/>
          <p:nvPr/>
        </p:nvGrpSpPr>
        <p:grpSpPr>
          <a:xfrm>
            <a:off x="5580000" y="333360"/>
            <a:ext cx="3168720" cy="2970360"/>
            <a:chOff x="5580000" y="333360"/>
            <a:chExt cx="3168720" cy="2970360"/>
          </a:xfrm>
        </p:grpSpPr>
        <p:pic>
          <p:nvPicPr>
            <p:cNvPr id="589" name="Picture 8" descr="1066862330200342265288425"/>
            <p:cNvPicPr/>
            <p:nvPr/>
          </p:nvPicPr>
          <p:blipFill>
            <a:blip r:embed="rId3"/>
            <a:stretch/>
          </p:blipFill>
          <p:spPr>
            <a:xfrm>
              <a:off x="5580000" y="333360"/>
              <a:ext cx="3168720" cy="29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9" descr="复件 lesson1"/>
            <p:cNvPicPr/>
            <p:nvPr/>
          </p:nvPicPr>
          <p:blipFill>
            <a:blip r:embed="rId4"/>
            <a:stretch/>
          </p:blipFill>
          <p:spPr>
            <a:xfrm>
              <a:off x="5796000" y="535680"/>
              <a:ext cx="2736720" cy="25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8.67052E-007 L 0.17726 0.00532 E">
                                      <p:cBhvr>
                                        <p:cTn id="40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19653E-006 L -0.20868 0.00023 E">
                                      <p:cBhvr>
                                        <p:cTn id="42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41F9-F8F4-4C6B-A3B8-2A6FE3946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5715000" y="53352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鱼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5867280" y="312408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羊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13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5" descr="mfriendsheep"/>
          <p:cNvPicPr/>
          <p:nvPr/>
        </p:nvPicPr>
        <p:blipFill>
          <a:blip r:embed="rId4"/>
          <a:stretch/>
        </p:blipFill>
        <p:spPr>
          <a:xfrm>
            <a:off x="2438280" y="3200400"/>
            <a:ext cx="1995480" cy="24782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6" descr="UA0529_gif"/>
          <p:cNvPicPr/>
          <p:nvPr/>
        </p:nvPicPr>
        <p:blipFill>
          <a:blip r:embed="rId5"/>
          <a:stretch/>
        </p:blipFill>
        <p:spPr>
          <a:xfrm>
            <a:off x="2286000" y="45720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598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0DB7-562A-4382-A652-E334C56A9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6095880" y="167652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鲜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6400800" y="857160"/>
            <a:ext cx="2743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i</a:t>
            </a:r>
            <a:r>
              <a:rPr b="0" lang="en-US" sz="8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ā</a:t>
            </a: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1066680" y="220968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鱼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2590920" y="228600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羊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6"/>
          <p:cNvSpPr/>
          <p:nvPr/>
        </p:nvSpPr>
        <p:spPr>
          <a:xfrm>
            <a:off x="4648320" y="3581280"/>
            <a:ext cx="1523880" cy="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7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06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8C5C-57E5-4F4C-BFDA-4C0AF2B0D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"/>
          <p:cNvSpPr/>
          <p:nvPr/>
        </p:nvSpPr>
        <p:spPr>
          <a:xfrm>
            <a:off x="5638680" y="18288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尘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5569560" y="685800"/>
            <a:ext cx="335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h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é</a:t>
            </a: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6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9"/>
          <p:cNvSpPr/>
          <p:nvPr/>
        </p:nvSpPr>
        <p:spPr>
          <a:xfrm>
            <a:off x="990720" y="10666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990720" y="31240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土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1"/>
          <p:cNvSpPr/>
          <p:nvPr/>
        </p:nvSpPr>
        <p:spPr>
          <a:xfrm>
            <a:off x="3124080" y="3505320"/>
            <a:ext cx="2210040" cy="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矩形 19465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9FA7-0CE5-4C78-B5A2-0FCB3A2D8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Picture 2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3"/>
          <p:cNvSpPr/>
          <p:nvPr/>
        </p:nvSpPr>
        <p:spPr>
          <a:xfrm>
            <a:off x="6019920" y="1752480"/>
            <a:ext cx="2590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尖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6151680" y="857160"/>
            <a:ext cx="348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i</a:t>
            </a:r>
            <a:r>
              <a:rPr b="0" lang="en-US" sz="8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ā</a:t>
            </a: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990720" y="10666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990720" y="31240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大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7"/>
          <p:cNvSpPr/>
          <p:nvPr/>
        </p:nvSpPr>
        <p:spPr>
          <a:xfrm>
            <a:off x="3124080" y="3505320"/>
            <a:ext cx="2514600" cy="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6660-7320-4CD2-B72C-CEB7F0560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22" descr="耕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57600" y="1523880"/>
            <a:ext cx="2114640" cy="1800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" descr="pic003"/>
          <p:cNvPicPr/>
          <p:nvPr/>
        </p:nvPicPr>
        <p:blipFill>
          <a:blip r:embed="rId4"/>
          <a:stretch/>
        </p:blipFill>
        <p:spPr>
          <a:xfrm>
            <a:off x="1066680" y="30492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4"/>
          <p:cNvSpPr/>
          <p:nvPr/>
        </p:nvSpPr>
        <p:spPr>
          <a:xfrm>
            <a:off x="4414680" y="45720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小组讨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25"/>
          <p:cNvSpPr/>
          <p:nvPr/>
        </p:nvSpPr>
        <p:spPr>
          <a:xfrm>
            <a:off x="1600200" y="2438280"/>
            <a:ext cx="5414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27" descr="田力男3"/>
          <p:cNvPicPr/>
          <p:nvPr/>
        </p:nvPicPr>
        <p:blipFill>
          <a:blip r:embed="rId5"/>
          <a:stretch/>
        </p:blipFill>
        <p:spPr>
          <a:xfrm>
            <a:off x="4800600" y="2209680"/>
            <a:ext cx="676440" cy="9651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5" descr="树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819520" y="3657600"/>
            <a:ext cx="676080" cy="12574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4" descr="树2"/>
          <p:cNvPicPr/>
          <p:nvPr/>
        </p:nvPicPr>
        <p:blipFill>
          <a:blip r:embed="rId8"/>
          <a:stretch/>
        </p:blipFill>
        <p:spPr>
          <a:xfrm>
            <a:off x="6095880" y="3657600"/>
            <a:ext cx="676440" cy="12574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0" descr="树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486400" y="3657600"/>
            <a:ext cx="676440" cy="12574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9" descr="树2"/>
          <p:cNvPicPr/>
          <p:nvPr/>
        </p:nvPicPr>
        <p:blipFill>
          <a:blip r:embed="rId11"/>
          <a:stretch/>
        </p:blipFill>
        <p:spPr>
          <a:xfrm>
            <a:off x="4876920" y="3657600"/>
            <a:ext cx="676080" cy="12574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8" descr="树2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429000" y="3657600"/>
            <a:ext cx="676440" cy="1257480"/>
          </a:xfrm>
          <a:prstGeom prst="rect">
            <a:avLst/>
          </a:prstGeom>
          <a:ln w="0">
            <a:noFill/>
          </a:ln>
        </p:spPr>
      </p:pic>
      <p:sp>
        <p:nvSpPr>
          <p:cNvPr id="635" name="Line 17"/>
          <p:cNvSpPr/>
          <p:nvPr/>
        </p:nvSpPr>
        <p:spPr>
          <a:xfrm>
            <a:off x="6781680" y="4191120"/>
            <a:ext cx="5414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16" descr="森林1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315200" y="3657600"/>
            <a:ext cx="1514520" cy="1285920"/>
          </a:xfrm>
          <a:prstGeom prst="rect">
            <a:avLst/>
          </a:prstGeom>
          <a:ln w="0">
            <a:noFill/>
          </a:ln>
        </p:spPr>
      </p:pic>
      <p:sp>
        <p:nvSpPr>
          <p:cNvPr id="637" name="Line 10"/>
          <p:cNvSpPr/>
          <p:nvPr/>
        </p:nvSpPr>
        <p:spPr>
          <a:xfrm>
            <a:off x="5715000" y="5867280"/>
            <a:ext cx="5414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11" descr="众人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400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4" descr="火"/>
          <p:cNvPicPr/>
          <p:nvPr/>
        </p:nvPicPr>
        <p:blipFill>
          <a:blip r:embed="rId18"/>
          <a:stretch/>
        </p:blipFill>
        <p:spPr>
          <a:xfrm>
            <a:off x="380880" y="1600200"/>
            <a:ext cx="1152720" cy="14860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3" descr="火灭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209680" y="1676520"/>
            <a:ext cx="542880" cy="119988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31"/>
          <p:cNvSpPr/>
          <p:nvPr/>
        </p:nvSpPr>
        <p:spPr>
          <a:xfrm>
            <a:off x="0" y="15238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21" descr="休息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010280" y="1371600"/>
            <a:ext cx="1409760" cy="20764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2" descr="手2"/>
          <p:cNvPicPr/>
          <p:nvPr/>
        </p:nvPicPr>
        <p:blipFill>
          <a:blip r:embed="rId23"/>
          <a:stretch/>
        </p:blipFill>
        <p:spPr>
          <a:xfrm>
            <a:off x="914400" y="3505320"/>
            <a:ext cx="1219320" cy="9428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9" descr="人1"/>
          <p:cNvPicPr/>
          <p:nvPr/>
        </p:nvPicPr>
        <p:blipFill>
          <a:blip r:embed="rId24"/>
          <a:stretch/>
        </p:blipFill>
        <p:spPr>
          <a:xfrm>
            <a:off x="365760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8" descr="人1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198108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7" descr="人1"/>
          <p:cNvPicPr/>
          <p:nvPr/>
        </p:nvPicPr>
        <p:blipFill>
          <a:blip r:embed="rId27"/>
          <a:stretch/>
        </p:blipFill>
        <p:spPr>
          <a:xfrm>
            <a:off x="502920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" descr="人1"/>
          <p:cNvPicPr/>
          <p:nvPr/>
        </p:nvPicPr>
        <p:blipFill>
          <a:blip r:embed="rId28"/>
          <a:stretch/>
        </p:blipFill>
        <p:spPr>
          <a:xfrm>
            <a:off x="434340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人1"/>
          <p:cNvPicPr/>
          <p:nvPr/>
        </p:nvPicPr>
        <p:blipFill>
          <a:blip r:embed="rId29"/>
          <a:stretch/>
        </p:blipFill>
        <p:spPr>
          <a:xfrm>
            <a:off x="1295280" y="5334120"/>
            <a:ext cx="638280" cy="1228680"/>
          </a:xfrm>
          <a:prstGeom prst="rect">
            <a:avLst/>
          </a:prstGeom>
          <a:ln w="0">
            <a:noFill/>
          </a:ln>
        </p:spPr>
      </p:pic>
      <p:sp>
        <p:nvSpPr>
          <p:cNvPr id="649" name="Line 26"/>
          <p:cNvSpPr/>
          <p:nvPr/>
        </p:nvSpPr>
        <p:spPr>
          <a:xfrm>
            <a:off x="457200" y="1981080"/>
            <a:ext cx="10825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13" descr="眼睛2"/>
          <p:cNvPicPr/>
          <p:nvPr/>
        </p:nvPicPr>
        <p:blipFill>
          <a:blip r:embed="rId30"/>
          <a:stretch/>
        </p:blipFill>
        <p:spPr>
          <a:xfrm>
            <a:off x="838080" y="4267080"/>
            <a:ext cx="1295640" cy="77148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520" y="13716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38"/>
          <p:cNvSpPr/>
          <p:nvPr/>
        </p:nvSpPr>
        <p:spPr>
          <a:xfrm>
            <a:off x="3028320" y="129528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39"/>
          <p:cNvSpPr/>
          <p:nvPr/>
        </p:nvSpPr>
        <p:spPr>
          <a:xfrm>
            <a:off x="6381000" y="129528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40"/>
          <p:cNvSpPr/>
          <p:nvPr/>
        </p:nvSpPr>
        <p:spPr>
          <a:xfrm>
            <a:off x="285120" y="335268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41"/>
          <p:cNvSpPr/>
          <p:nvPr/>
        </p:nvSpPr>
        <p:spPr>
          <a:xfrm>
            <a:off x="2266200" y="327672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42"/>
          <p:cNvSpPr/>
          <p:nvPr/>
        </p:nvSpPr>
        <p:spPr>
          <a:xfrm>
            <a:off x="4399920" y="342900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43"/>
          <p:cNvSpPr/>
          <p:nvPr/>
        </p:nvSpPr>
        <p:spPr>
          <a:xfrm>
            <a:off x="380520" y="530064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44"/>
          <p:cNvSpPr/>
          <p:nvPr/>
        </p:nvSpPr>
        <p:spPr>
          <a:xfrm>
            <a:off x="2952000" y="525780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45">
            <a:hlinkClick r:id="rId31" action="ppaction://hlinksldjump"/>
          </p:cNvPr>
          <p:cNvSpPr/>
          <p:nvPr/>
        </p:nvSpPr>
        <p:spPr>
          <a:xfrm>
            <a:off x="8352000" y="6283440"/>
            <a:ext cx="792000" cy="5745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69" h="21600">
                <a:moveTo>
                  <a:pt x="0" y="0"/>
                </a:moveTo>
                <a:lnTo>
                  <a:pt x="29769" y="0"/>
                </a:lnTo>
                <a:lnTo>
                  <a:pt x="29769" y="21600"/>
                </a:lnTo>
                <a:lnTo>
                  <a:pt x="0" y="21600"/>
                </a:lnTo>
                <a:close/>
              </a:path>
              <a:path fill="lightenLess" w="29769" h="21600">
                <a:moveTo>
                  <a:pt x="0" y="0"/>
                </a:moveTo>
                <a:lnTo>
                  <a:pt x="29769" y="0"/>
                </a:lnTo>
                <a:lnTo>
                  <a:pt x="28369" y="1400"/>
                </a:lnTo>
                <a:lnTo>
                  <a:pt x="1400" y="1400"/>
                </a:lnTo>
                <a:close/>
              </a:path>
              <a:path fill="darken" w="29769" h="21600">
                <a:moveTo>
                  <a:pt x="29769" y="0"/>
                </a:moveTo>
                <a:lnTo>
                  <a:pt x="29769" y="21600"/>
                </a:lnTo>
                <a:lnTo>
                  <a:pt x="28369" y="20200"/>
                </a:lnTo>
                <a:lnTo>
                  <a:pt x="28369" y="1400"/>
                </a:lnTo>
                <a:close/>
              </a:path>
              <a:path fill="darkenLess" w="29769" h="21600">
                <a:moveTo>
                  <a:pt x="2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69" y="20200"/>
                </a:lnTo>
                <a:close/>
              </a:path>
              <a:path fill="lighten" w="2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69" h="21600">
                <a:moveTo>
                  <a:pt x="7878" y="3794"/>
                </a:moveTo>
                <a:lnTo>
                  <a:pt x="21891" y="10800"/>
                </a:lnTo>
                <a:lnTo>
                  <a:pt x="787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一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页脚占位符 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B6B3-B21A-43DB-AC98-36E62DAB2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2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63" name="Line 3"/>
          <p:cNvSpPr/>
          <p:nvPr/>
        </p:nvSpPr>
        <p:spPr>
          <a:xfrm>
            <a:off x="4114800" y="1981080"/>
            <a:ext cx="1271520" cy="32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4" descr="火"/>
          <p:cNvPicPr/>
          <p:nvPr/>
        </p:nvPicPr>
        <p:blipFill>
          <a:blip r:embed="rId4"/>
          <a:stretch/>
        </p:blipFill>
        <p:spPr>
          <a:xfrm>
            <a:off x="2590920" y="990720"/>
            <a:ext cx="1417680" cy="18288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5" descr="火灭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638680" y="1219320"/>
            <a:ext cx="654120" cy="1447560"/>
          </a:xfrm>
          <a:prstGeom prst="rect">
            <a:avLst/>
          </a:prstGeom>
          <a:ln w="0">
            <a:noFill/>
          </a:ln>
        </p:spPr>
      </p:pic>
      <p:sp>
        <p:nvSpPr>
          <p:cNvPr id="666" name="Line 6"/>
          <p:cNvSpPr/>
          <p:nvPr/>
        </p:nvSpPr>
        <p:spPr>
          <a:xfrm>
            <a:off x="2743200" y="1143000"/>
            <a:ext cx="10666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2779200" y="4267080"/>
            <a:ext cx="335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火　灭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8"/>
          <p:cNvSpPr/>
          <p:nvPr/>
        </p:nvSpPr>
        <p:spPr>
          <a:xfrm>
            <a:off x="5639760" y="3429000"/>
            <a:ext cx="155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miè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Picture 9" descr="pic019"/>
          <p:cNvPicPr/>
          <p:nvPr/>
        </p:nvPicPr>
        <p:blipFill>
          <a:blip r:embed="rId7"/>
          <a:stretch/>
        </p:blipFill>
        <p:spPr>
          <a:xfrm>
            <a:off x="228600" y="3049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670" name="AutoShape 11">
            <a:hlinkClick r:id="rId8" action="ppaction://hlinksldjump"/>
          </p:cNvPr>
          <p:cNvSpPr/>
          <p:nvPr/>
        </p:nvSpPr>
        <p:spPr>
          <a:xfrm>
            <a:off x="550872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3:12:57Z</dcterms:created>
  <dc:creator/>
  <dc:description/>
  <dc:language>en-US</dc:language>
  <cp:lastModifiedBy>User</cp:lastModifiedBy>
  <dcterms:modified xsi:type="dcterms:W3CDTF">2016-10-05T14:43:05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