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type.wav" ContentType="audio/x-wav"/>
  <Override PartName="/ppt/media/image18.png" ContentType="image/png"/>
  <Override PartName="/ppt/media/image25.gif" ContentType="image/gif"/>
  <Override PartName="/ppt/media/image26.jpeg" ContentType="image/jpeg"/>
  <Override PartName="/ppt/media/projctor.wav" ContentType="audio/x-wav"/>
  <Override PartName="/ppt/media/image22.png" ContentType="image/png"/>
  <Override PartName="/ppt/media/image24.jpeg" ContentType="image/jpeg"/>
  <Override PartName="/ppt/media/image13.gif" ContentType="image/gif"/>
  <Override PartName="/ppt/media/image16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28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arrow.wav" ContentType="audio/x-wav"/>
  <Override PartName="/ppt/media/image23.png" ContentType="image/png"/>
  <Override PartName="/ppt/media/image32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.gif" ContentType="image/gif"/>
  <Override PartName="/ppt/media/image33.jpeg" ContentType="image/jpeg"/>
  <Override PartName="/ppt/media/image27.png" ContentType="image/png"/>
  <Override PartName="/ppt/media/image14.jpeg" ContentType="image/jpeg"/>
  <Override PartName="/ppt/media/image15.jpeg" ContentType="image/jpeg"/>
  <Override PartName="/ppt/media/image17.jpeg" ContentType="image/jpeg"/>
  <Override PartName="/ppt/media/image19.wmf" ContentType="image/x-wmf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4FBC-15A6-4ACA-B272-6AE1BC172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BD24-64A0-4D7F-B8A9-E08DA43D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B2291-617A-430B-B0F4-AC2A9633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4C5F0-DB5E-4607-997A-7D4195AF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0A118-24A0-4298-AAF2-92058A81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636AB-6158-4288-83F1-C610ACB1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74A29-C6F5-4A7F-B91D-3029EA75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1EF6E-E811-44CA-A085-5DBA8D7D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9D2A9-EFF2-4DE5-A5D3-29280CE7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79D89-48BE-4119-B8A3-9F15D6C5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36F76-4898-44D3-81AD-98DE0D8B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13B4F-E7C7-4236-906B-BC19E08C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823B-A14F-4863-AAC1-6E8002B6A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A09C9-6311-4298-9A87-33BDB354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37B5E-4915-4074-BE27-DE62138E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7403F-D216-40DE-B7FC-4928A32C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518EA-B78B-4E03-90B3-A08F539F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73C0C-8D08-4895-8054-75C69E39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C4C25-40AA-46B6-8C13-522093F5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6BB68-8E90-441F-8835-41D7D015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CE6BF-757B-4F7A-9F91-D61CAF79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28FA4-DCEF-4C18-8D84-C4E90452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4C9CA-6848-4E61-B160-DD75C1EB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49BF-60D7-47B5-AEB4-2DA19A9F6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88078-4C26-436B-AAC1-DF9D353EF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E81CF-7D9C-4D25-BF0D-3B59A2A4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E114F-362F-4CE3-9257-1DD55D88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5984E-C635-4120-A591-CF6E8DE9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9119A-BCA7-4898-A033-AC9141CD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26540-BA2E-426A-83A6-6B1DE29E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880DF-1C77-4253-8E8D-921BC279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91C93-B4C0-4750-A8A9-E70BA230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092FB-6023-4996-8293-3EA8DA20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F3159-0767-4295-901F-007106E0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D0AC-823C-49F1-9DA4-83E6E798F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7995A-3F3B-4B9E-A02B-BE5DC24E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0F1D9-85AF-4CAB-8B2F-63611FF74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90C7C-7203-46AA-822E-AFEFDF161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2BC8D4-FA04-4BCF-AD2A-64EE98882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C3782-6F13-4759-B760-F9CBEC6F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DACAD4-0B26-4191-A478-B6ABE13C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0A703A-681B-4293-AB18-87D9A79C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4B11F1-436B-4490-B488-CB0793B6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E6BF1F-4C07-49BE-B017-B506945D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5B260B-C61C-4AA0-A09F-A4B53DB3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6C8D-7E92-4CB1-91F7-2F97AC0C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AAFA68-AAAC-4594-BC82-4A7B539B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639024-23BB-4883-9ED9-932D4BA7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25AD7F-5FE5-4D40-BAD6-A85068F2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BD765-C35E-4747-B48A-77E5C1EB9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083797-C5A5-489F-9C06-22DA74B8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460059-B4C1-4B59-A6DE-71EB0D15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27F62F-09C4-4C32-AA4C-E8EC550D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4EC8DD-5CC2-4E22-8417-F4871CBF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A1064A-60EE-4F44-9041-59FB530C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D1DEFA-F3ED-44DA-A1F8-A5A8FCFE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C467-A264-44D4-B19F-867850E6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965219-85FB-499B-B782-9E7E7AE2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2495AD-2B10-402E-81C3-28F91722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9427A5-5753-40E9-AD94-0F4E40D1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4E05F8-7763-4BF9-91F9-53D8A5D4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5B1793-F352-4228-AE2B-1C68DC15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FAEDFA-B0A6-495D-8238-E709CC6B0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F8D22D-D5A9-45B4-815B-14027F13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D19E-8B98-4FEF-9C29-6EA9EA67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0B6B-DB56-43DA-9FFD-DA03CF75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2E6D-3EA1-4F80-836C-57E0A005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ACB5-A477-4B3F-9096-4F71C78D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9407-9FDA-4AB1-8120-85E646C3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1F3F-1447-491D-BE3E-6CD0E58B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1AF2-7854-4E36-B7B3-3915437F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35C9-473E-4588-939C-6759DC2F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D855-310B-44F7-B697-D0610C894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542B-C548-46E7-BCF6-786155DD9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95079-26C9-4FC7-8CE6-945AD3198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62638-ECED-497E-B71D-CC2C5B8B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46700-EA95-4DFD-81D5-5E7EF5E7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CDE6C-2A9E-4596-8C8C-F9CF481A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F5D48-F9C9-45B7-962A-AB88FC92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434D-7A85-40DF-B5DA-3B407BEE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A9EC9-79CA-4F17-AC8E-BB8613D7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89619-0AD5-4EFD-8F6D-DE000F1F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F1F14-D2A6-40F0-9E90-7F5619FE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4CCBD-D708-4EC2-A0AB-452822A8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83004-377D-41FE-85CD-C4F0A8D1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EDD0A-C9C3-417B-B8FB-A4B519363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C36E5-B3DF-4C40-92CB-3DCBC60D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D814A-887C-4A56-A06A-A2C57E105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B5F71-B8A9-40B8-83F4-62D2992E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E0095-F2C7-4D48-81EF-FFD8C71B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1912-4A03-4543-8D53-C9DAD0EF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0E472-A9E8-41C8-A1FD-85DA905D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2F5A9-B0A3-4611-BB60-FF67EB8A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94C01-BF23-4622-AA8B-13F905E4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6BB6B-E4E9-4311-BFDB-B9776469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99B9C-967E-466F-A572-88E3B8DF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36F0A-C6AD-4EB7-A23F-806B5382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3693A-DA17-4AA4-B831-BA69CFB1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334B8-279B-451D-95A8-D92E66B0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E35E5-CAAD-465C-9679-99E275AC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93881-73F8-4791-A661-F4C6C0B5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3F06-8AAE-4688-A740-3B8BF014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EA0AE-4EFE-446C-A513-04DE184B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1BD5D-D7D6-47A7-A4CE-A93C5998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E1FAF-FD4C-4939-B3C8-42814653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590F7-77EE-4274-AFBC-40BFA015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D424E-1D2B-4DC4-A201-44B5B73A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EECC2-401A-4BEB-9384-6E0C23BE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B8B02-E9D7-4FBA-9133-FB50B381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6F224-7C07-46EF-9177-86FA95D3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74935-263A-4906-8AC1-5C0DE9E3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95CEB-F40D-42EF-BE5B-CE5EB1201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DC4D-6BE7-414A-900D-33E1190F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4EC6D-10EE-42D1-8136-A0FCE9AE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8F0C3-61B8-42F4-B0BC-E39FD3DBA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1306F-0A6D-4395-A33A-9849DC79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7537C-BD22-4E1D-9D71-D3134C9F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B8860-A795-4692-A385-55DD02F7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4839E-D27C-497A-B2A2-CC5AB744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FBF75-7BD9-4B52-98E0-7043660E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BB9E6-AD24-48CC-ADD9-C350D79B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7C04D-C10B-4D98-BD3F-D91B0964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3B99C-E932-4314-B7CF-C0EC82D4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1EF6-AC06-4BF3-912E-99AB2712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41B70-EFDD-46D2-AE6D-4C574010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F4DA2-054B-472C-B9BF-BC343C939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48E58-136B-42B9-B030-E0DB365E5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83F9C-9180-4631-AD49-3944A4C25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86C9B-54A7-4109-B7F0-B1D78D12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2F9CA-04B8-402E-80DE-5E33057D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C3BF2-6127-4073-91E0-81ACDAC9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58762-A525-4198-9BA7-1E16E806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9E066-2844-4B9C-A33B-57D91120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23672-B3B0-44D1-AADD-CCC119E9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9A43-40DD-47EA-89D4-17B8330C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A9E5E-F640-4FBA-B4AF-BF28F86E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C3770-6B81-423D-B3C6-5085F1D6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88101-B513-46CF-A956-5D5F1161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1FC28-BA94-427B-BD2A-A41EFB9C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87D01-5E8B-489C-AF76-A48C420D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C2990-00F7-4EF5-A96F-EC7642920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731F5-D652-4298-BB8A-93E5ABC7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24D20-384B-4FEC-BFD7-AD4F7556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17E3D-5657-49C3-81D8-36A24AED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74524-81A3-41F2-A2D8-DF62BD73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0E21-83C2-487F-B229-3955BF64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DE697-C823-4E75-9DA4-9309AB72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71C9A-61BC-4435-BA68-E22F2004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6178A-C5E9-49D0-B3C4-7718E61E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DD76E-276C-4D5E-BED9-A8951F9C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377FF-7453-4B63-82FF-BC45BC3C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4A517-0103-407C-A401-B9709C05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AFC68-CB8B-43FE-8AE9-55F5055A9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C2983-2DD6-42E7-B53F-B6F92B0B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1B8F4-1FE5-4838-AE1A-D438E1D0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838FD-16D2-4727-ADB8-A4D7B1C0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399E-DCB2-4766-A798-1AFEBABC37E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EAC4-4555-42BD-9EEB-FA781CC7E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27D1-CB6A-4F52-AC6E-998CE994B55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4B5C-CAB3-4A06-883F-FC0131B25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658A-23BD-4119-A552-316133C456F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8ACE-020C-4F04-AA07-968DC7A29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D92A-C956-49B1-828B-835CE2B345F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1C73-88EB-45CD-9262-592C8C994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1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1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2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F27D-0367-4C65-A812-FE695399ACF7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A40B-170C-48B1-9912-AD9C5C31BD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|http://www.lspj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9923-8E39-4971-A911-BA4ECF90BCB8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|http://www.lspj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F578-0774-4984-AC60-D3898DB6A1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FC29-763E-45DF-8302-4E4E3C4DACB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000A-FD97-4F0C-B83A-4E30FA068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4178-834E-4EBB-B1A9-640269F31A6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8BB8-521D-4A4B-8AFC-5875B5C16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67D5-9BD2-479B-8B10-8A9CE7EF575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E695-2962-49A4-9DD1-C5E532150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233C-2ABB-494F-A1A7-EE857D93281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11BF-037E-45BE-A867-E75729C4D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17B5-D5FA-48CE-A279-3B395DC4800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825E-B889-417B-BDB9-37B47B8DD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81FD-5F62-49F7-8390-8DA1D0A3E72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EF59-0291-42A5-8B30-6AA1F2CD5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4D74-988B-4056-B5FA-98833EBA433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2B6A-9427-4865-BBDD-A8DFE4382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0.xml"/><Relationship Id="rId3" Type="http://schemas.openxmlformats.org/officeDocument/2006/relationships/image" Target="../media/image12.jpeg"/><Relationship Id="rId4" Type="http://schemas.openxmlformats.org/officeDocument/2006/relationships/image" Target="../media/image26.jpe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audio" Target="../media/arrow.wav"/><Relationship Id="rId10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6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7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8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10.xml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image" Target="../media/image14.jpeg"/><Relationship Id="rId6" Type="http://schemas.openxmlformats.org/officeDocument/2006/relationships/slide" Target="slide12.xml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slide" Target="slide13.xml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slide" Target="slide12.xml"/><Relationship Id="rId13" Type="http://schemas.openxmlformats.org/officeDocument/2006/relationships/image" Target="../media/image15.jpeg"/><Relationship Id="rId14" Type="http://schemas.openxmlformats.org/officeDocument/2006/relationships/slide" Target="slide13.xml"/><Relationship Id="rId15" Type="http://schemas.openxmlformats.org/officeDocument/2006/relationships/image" Target="../media/image16.jpeg"/><Relationship Id="rId16" Type="http://schemas.openxmlformats.org/officeDocument/2006/relationships/slide" Target="slide15.xml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slide" Target="slide9.xml"/><Relationship Id="rId20" Type="http://schemas.openxmlformats.org/officeDocument/2006/relationships/image" Target="../media/image19.wmf"/><Relationship Id="rId21" Type="http://schemas.openxmlformats.org/officeDocument/2006/relationships/slide" Target="slide11.xml"/><Relationship Id="rId22" Type="http://schemas.openxmlformats.org/officeDocument/2006/relationships/image" Target="../media/image20.jpeg"/><Relationship Id="rId23" Type="http://schemas.openxmlformats.org/officeDocument/2006/relationships/image" Target="../media/image21.jpeg"/><Relationship Id="rId24" Type="http://schemas.openxmlformats.org/officeDocument/2006/relationships/image" Target="../media/image22.png"/><Relationship Id="rId25" Type="http://schemas.openxmlformats.org/officeDocument/2006/relationships/slide" Target="slide14.xml"/><Relationship Id="rId26" Type="http://schemas.openxmlformats.org/officeDocument/2006/relationships/image" Target="../media/image22.png"/><Relationship Id="rId27" Type="http://schemas.openxmlformats.org/officeDocument/2006/relationships/image" Target="../media/image22.png"/><Relationship Id="rId28" Type="http://schemas.openxmlformats.org/officeDocument/2006/relationships/image" Target="../media/image22.png"/><Relationship Id="rId29" Type="http://schemas.openxmlformats.org/officeDocument/2006/relationships/image" Target="../media/image22.png"/><Relationship Id="rId30" Type="http://schemas.openxmlformats.org/officeDocument/2006/relationships/image" Target="../media/image23.png"/><Relationship Id="rId31" Type="http://schemas.openxmlformats.org/officeDocument/2006/relationships/slide" Target="slide16.xml"/><Relationship Id="rId3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8.xml"/><Relationship Id="rId3" Type="http://schemas.openxmlformats.org/officeDocument/2006/relationships/image" Target="../media/image6.png"/><Relationship Id="rId4" Type="http://schemas.openxmlformats.org/officeDocument/2006/relationships/image" Target="../media/image18.png"/><Relationship Id="rId5" Type="http://schemas.openxmlformats.org/officeDocument/2006/relationships/slide" Target="slide9.xml"/><Relationship Id="rId6" Type="http://schemas.openxmlformats.org/officeDocument/2006/relationships/image" Target="../media/image19.wmf"/><Relationship Id="rId7" Type="http://schemas.openxmlformats.org/officeDocument/2006/relationships/image" Target="../media/image25.gif"/><Relationship Id="rId8" Type="http://schemas.openxmlformats.org/officeDocument/2006/relationships/slide" Target="slide8.xml"/><Relationship Id="rId9" Type="http://schemas.openxmlformats.org/officeDocument/2006/relationships/audio" Target="../media/projctor.wav"/><Relationship Id="rId10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F42A-5CF7-4208-BBF5-548520E15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Picture 2" descr="huangtaiyang"/>
          <p:cNvPicPr/>
          <p:nvPr/>
        </p:nvPicPr>
        <p:blipFill>
          <a:blip r:embed="rId1"/>
          <a:stretch/>
        </p:blipFill>
        <p:spPr>
          <a:xfrm>
            <a:off x="0" y="3124080"/>
            <a:ext cx="4343400" cy="3733920"/>
          </a:xfrm>
          <a:prstGeom prst="rect">
            <a:avLst/>
          </a:prstGeom>
          <a:ln w="0">
            <a:noFill/>
          </a:ln>
        </p:spPr>
      </p:pic>
      <p:sp>
        <p:nvSpPr>
          <p:cNvPr id="575" name="WordArt 3"/>
          <p:cNvSpPr txBox="1"/>
          <p:nvPr/>
        </p:nvSpPr>
        <p:spPr>
          <a:xfrm>
            <a:off x="2050920" y="3500280"/>
            <a:ext cx="2232000" cy="25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日</a:t>
            </a:r>
            <a:endParaRPr b="0" lang="en-US" sz="96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576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矩形 14343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49584E-006 C 0.00712 -0.06337 0.01424 -0.12673 0.03525 -0.17206 C 0.05625 -0.21739 0.09375 -0.2426 0.12605 -0.27243 C 0.15834 -0.3025 0.1915 -0.32678 0.22917 -0.35245 C 0.26684 -0.37812 0.33004 -0.41235 0.35226 -0.42623 C 0.37448 -0.4401 0.36875 -0.43825 0.36302 -0.4364 E">
                                      <p:cBhvr>
                                        <p:cTn id="6" dur="50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AF06-1CD1-4BA4-9D35-A984EDCCC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3" name="Picture 3" descr="耕地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600200" y="380880"/>
            <a:ext cx="4419720" cy="59436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" descr="田力男3"/>
          <p:cNvPicPr/>
          <p:nvPr/>
        </p:nvPicPr>
        <p:blipFill>
          <a:blip r:embed="rId4"/>
          <a:stretch/>
        </p:blipFill>
        <p:spPr>
          <a:xfrm>
            <a:off x="3581280" y="3429000"/>
            <a:ext cx="2030400" cy="2895480"/>
          </a:xfrm>
          <a:prstGeom prst="rect">
            <a:avLst/>
          </a:prstGeom>
          <a:ln w="0">
            <a:noFill/>
          </a:ln>
        </p:spPr>
      </p:pic>
      <p:sp>
        <p:nvSpPr>
          <p:cNvPr id="675" name="Text Box 5"/>
          <p:cNvSpPr/>
          <p:nvPr/>
        </p:nvSpPr>
        <p:spPr>
          <a:xfrm>
            <a:off x="6781680" y="304920"/>
            <a:ext cx="1676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力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男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6"/>
          <p:cNvSpPr/>
          <p:nvPr/>
        </p:nvSpPr>
        <p:spPr>
          <a:xfrm>
            <a:off x="6716520" y="4005360"/>
            <a:ext cx="167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á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9"/>
          <p:cNvSpPr/>
          <p:nvPr/>
        </p:nvSpPr>
        <p:spPr>
          <a:xfrm>
            <a:off x="8352000" y="6381720"/>
            <a:ext cx="792000" cy="476280"/>
          </a:xfrm>
          <a:custGeom>
            <a:avLst/>
            <a:gdLst>
              <a:gd name="textAreaLeft" fmla="*/ 30600 w 792000"/>
              <a:gd name="textAreaRight" fmla="*/ 761400 w 792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5908" h="21600">
                <a:moveTo>
                  <a:pt x="0" y="0"/>
                </a:moveTo>
                <a:lnTo>
                  <a:pt x="35908" y="0"/>
                </a:lnTo>
                <a:lnTo>
                  <a:pt x="35908" y="21600"/>
                </a:lnTo>
                <a:lnTo>
                  <a:pt x="0" y="21600"/>
                </a:lnTo>
                <a:close/>
              </a:path>
              <a:path fill="lightenLess" w="35908" h="21600">
                <a:moveTo>
                  <a:pt x="0" y="0"/>
                </a:moveTo>
                <a:lnTo>
                  <a:pt x="35908" y="0"/>
                </a:lnTo>
                <a:lnTo>
                  <a:pt x="34508" y="1400"/>
                </a:lnTo>
                <a:lnTo>
                  <a:pt x="1400" y="1400"/>
                </a:lnTo>
                <a:close/>
              </a:path>
              <a:path fill="darken" w="35908" h="21600">
                <a:moveTo>
                  <a:pt x="35908" y="0"/>
                </a:moveTo>
                <a:lnTo>
                  <a:pt x="35908" y="21600"/>
                </a:lnTo>
                <a:lnTo>
                  <a:pt x="34508" y="20200"/>
                </a:lnTo>
                <a:lnTo>
                  <a:pt x="34508" y="1400"/>
                </a:lnTo>
                <a:close/>
              </a:path>
              <a:path fill="darkenLess" w="35908" h="21600">
                <a:moveTo>
                  <a:pt x="35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8" y="20200"/>
                </a:lnTo>
                <a:close/>
              </a:path>
              <a:path fill="lighten" w="35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08" h="21600">
                <a:moveTo>
                  <a:pt x="10947" y="10800"/>
                </a:moveTo>
                <a:lnTo>
                  <a:pt x="24960" y="3794"/>
                </a:lnTo>
                <a:lnTo>
                  <a:pt x="24960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F023-3F39-4CD9-84D2-FB8943795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Picture 4" descr="休息"/>
          <p:cNvPicPr/>
          <p:nvPr/>
        </p:nvPicPr>
        <p:blipFill>
          <a:blip r:embed="rId1"/>
          <a:stretch/>
        </p:blipFill>
        <p:spPr>
          <a:xfrm>
            <a:off x="304920" y="304920"/>
            <a:ext cx="4140000" cy="609588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5"/>
          <p:cNvSpPr/>
          <p:nvPr/>
        </p:nvSpPr>
        <p:spPr>
          <a:xfrm>
            <a:off x="4495680" y="457200"/>
            <a:ext cx="464832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 木</a:t>
            </a:r>
            <a:r>
              <a:rPr b="1" lang="zh-CN" sz="15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6"/>
          <p:cNvSpPr/>
          <p:nvPr/>
        </p:nvSpPr>
        <p:spPr>
          <a:xfrm>
            <a:off x="6443640" y="3500280"/>
            <a:ext cx="213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休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6559560" y="29242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iū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AutoShape 9"/>
          <p:cNvSpPr/>
          <p:nvPr/>
        </p:nvSpPr>
        <p:spPr>
          <a:xfrm>
            <a:off x="8352000" y="6308640"/>
            <a:ext cx="792000" cy="5493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34" y="1400"/>
                </a:lnTo>
                <a:lnTo>
                  <a:pt x="1400" y="140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34" y="20200"/>
                </a:lnTo>
                <a:lnTo>
                  <a:pt x="29734" y="140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4" y="2020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4" h="21600">
                <a:moveTo>
                  <a:pt x="8561" y="10800"/>
                </a:moveTo>
                <a:lnTo>
                  <a:pt x="22573" y="3794"/>
                </a:lnTo>
                <a:lnTo>
                  <a:pt x="2257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2936-1077-4641-8BDD-BDC040FAA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Picture 1027" descr="树2"/>
          <p:cNvPicPr/>
          <p:nvPr/>
        </p:nvPicPr>
        <p:blipFill>
          <a:blip r:embed="rId1"/>
          <a:stretch/>
        </p:blipFill>
        <p:spPr>
          <a:xfrm>
            <a:off x="990720" y="380880"/>
            <a:ext cx="1761840" cy="327672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1029" descr="树2"/>
          <p:cNvPicPr/>
          <p:nvPr/>
        </p:nvPicPr>
        <p:blipFill>
          <a:blip r:embed="rId2"/>
          <a:stretch/>
        </p:blipFill>
        <p:spPr>
          <a:xfrm>
            <a:off x="2743200" y="380880"/>
            <a:ext cx="1762200" cy="3276720"/>
          </a:xfrm>
          <a:prstGeom prst="rect">
            <a:avLst/>
          </a:prstGeom>
          <a:ln w="0">
            <a:noFill/>
          </a:ln>
        </p:spPr>
      </p:pic>
      <p:grpSp>
        <p:nvGrpSpPr>
          <p:cNvPr id="689" name="Group 1037"/>
          <p:cNvGrpSpPr/>
          <p:nvPr/>
        </p:nvGrpSpPr>
        <p:grpSpPr>
          <a:xfrm>
            <a:off x="533520" y="3581280"/>
            <a:ext cx="4343400" cy="2379960"/>
            <a:chOff x="533520" y="3581280"/>
            <a:chExt cx="4343400" cy="2379960"/>
          </a:xfrm>
        </p:grpSpPr>
        <p:sp>
          <p:nvSpPr>
            <p:cNvPr id="690" name="Rectangle 1032"/>
            <p:cNvSpPr/>
            <p:nvPr/>
          </p:nvSpPr>
          <p:spPr>
            <a:xfrm>
              <a:off x="533520" y="3581280"/>
              <a:ext cx="220968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木</a:t>
              </a:r>
              <a:endParaRPr b="0" lang="en-US" sz="1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Rectangle 1033"/>
            <p:cNvSpPr/>
            <p:nvPr/>
          </p:nvSpPr>
          <p:spPr>
            <a:xfrm>
              <a:off x="2666880" y="3581280"/>
              <a:ext cx="221004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木</a:t>
              </a:r>
              <a:endParaRPr b="0" lang="en-US" sz="1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Rectangle 1034"/>
          <p:cNvSpPr/>
          <p:nvPr/>
        </p:nvSpPr>
        <p:spPr>
          <a:xfrm>
            <a:off x="5943600" y="2590920"/>
            <a:ext cx="2895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林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036"/>
          <p:cNvSpPr/>
          <p:nvPr/>
        </p:nvSpPr>
        <p:spPr>
          <a:xfrm>
            <a:off x="6477120" y="129528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lín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AutoShape 1038"/>
          <p:cNvSpPr/>
          <p:nvPr/>
        </p:nvSpPr>
        <p:spPr>
          <a:xfrm>
            <a:off x="8352000" y="6308640"/>
            <a:ext cx="792000" cy="5493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34" y="1400"/>
                </a:lnTo>
                <a:lnTo>
                  <a:pt x="1400" y="140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34" y="20200"/>
                </a:lnTo>
                <a:lnTo>
                  <a:pt x="29734" y="140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4" y="2020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4" h="21600">
                <a:moveTo>
                  <a:pt x="8561" y="10800"/>
                </a:moveTo>
                <a:lnTo>
                  <a:pt x="22573" y="3794"/>
                </a:lnTo>
                <a:lnTo>
                  <a:pt x="2257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页脚占位符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84EF-5238-430B-A8C0-23355C724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7" name="Picture 3" descr="树2"/>
          <p:cNvPicPr/>
          <p:nvPr/>
        </p:nvPicPr>
        <p:blipFill>
          <a:blip r:embed="rId1"/>
          <a:stretch/>
        </p:blipFill>
        <p:spPr>
          <a:xfrm>
            <a:off x="3352680" y="533520"/>
            <a:ext cx="1311480" cy="24382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" descr="树2"/>
          <p:cNvPicPr/>
          <p:nvPr/>
        </p:nvPicPr>
        <p:blipFill>
          <a:blip r:embed="rId2"/>
          <a:stretch/>
        </p:blipFill>
        <p:spPr>
          <a:xfrm>
            <a:off x="2057400" y="533520"/>
            <a:ext cx="1311120" cy="24382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5" descr="树2"/>
          <p:cNvPicPr/>
          <p:nvPr/>
        </p:nvPicPr>
        <p:blipFill>
          <a:blip r:embed="rId3"/>
          <a:stretch/>
        </p:blipFill>
        <p:spPr>
          <a:xfrm>
            <a:off x="762120" y="533520"/>
            <a:ext cx="1311120" cy="2438280"/>
          </a:xfrm>
          <a:prstGeom prst="rect">
            <a:avLst/>
          </a:prstGeom>
          <a:ln w="0">
            <a:noFill/>
          </a:ln>
        </p:spPr>
      </p:pic>
      <p:sp>
        <p:nvSpPr>
          <p:cNvPr id="700" name="Line 6"/>
          <p:cNvSpPr/>
          <p:nvPr/>
        </p:nvSpPr>
        <p:spPr>
          <a:xfrm>
            <a:off x="4648320" y="1752480"/>
            <a:ext cx="1334880" cy="32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Picture 7" descr="森林1"/>
          <p:cNvPicPr/>
          <p:nvPr/>
        </p:nvPicPr>
        <p:blipFill>
          <a:blip r:embed="rId4"/>
          <a:stretch/>
        </p:blipFill>
        <p:spPr>
          <a:xfrm>
            <a:off x="6019920" y="533520"/>
            <a:ext cx="2895480" cy="2458800"/>
          </a:xfrm>
          <a:prstGeom prst="rect">
            <a:avLst/>
          </a:prstGeom>
          <a:ln w="0">
            <a:noFill/>
          </a:ln>
        </p:spPr>
      </p:pic>
      <p:grpSp>
        <p:nvGrpSpPr>
          <p:cNvPr id="702" name="Group 14"/>
          <p:cNvGrpSpPr/>
          <p:nvPr/>
        </p:nvGrpSpPr>
        <p:grpSpPr>
          <a:xfrm>
            <a:off x="762120" y="4419720"/>
            <a:ext cx="3733560" cy="1434600"/>
            <a:chOff x="762120" y="4419720"/>
            <a:chExt cx="3733560" cy="1434600"/>
          </a:xfrm>
        </p:grpSpPr>
        <p:sp>
          <p:nvSpPr>
            <p:cNvPr id="703" name="Rectangle 8"/>
            <p:cNvSpPr/>
            <p:nvPr/>
          </p:nvSpPr>
          <p:spPr>
            <a:xfrm>
              <a:off x="762120" y="4419720"/>
              <a:ext cx="1143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木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Rectangle 10"/>
            <p:cNvSpPr/>
            <p:nvPr/>
          </p:nvSpPr>
          <p:spPr>
            <a:xfrm>
              <a:off x="3352680" y="4419720"/>
              <a:ext cx="1143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木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Rectangle 11"/>
            <p:cNvSpPr/>
            <p:nvPr/>
          </p:nvSpPr>
          <p:spPr>
            <a:xfrm>
              <a:off x="2057400" y="4419720"/>
              <a:ext cx="1143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木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Rectangle 12"/>
          <p:cNvSpPr/>
          <p:nvPr/>
        </p:nvSpPr>
        <p:spPr>
          <a:xfrm>
            <a:off x="6019920" y="4191120"/>
            <a:ext cx="1828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森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13"/>
          <p:cNvSpPr/>
          <p:nvPr/>
        </p:nvSpPr>
        <p:spPr>
          <a:xfrm>
            <a:off x="5943600" y="312408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sēn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AutoShape 15"/>
          <p:cNvSpPr/>
          <p:nvPr/>
        </p:nvSpPr>
        <p:spPr>
          <a:xfrm>
            <a:off x="8352000" y="6308640"/>
            <a:ext cx="792000" cy="5493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34" y="1400"/>
                </a:lnTo>
                <a:lnTo>
                  <a:pt x="1400" y="140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34" y="20200"/>
                </a:lnTo>
                <a:lnTo>
                  <a:pt x="29734" y="140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4" y="2020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4" h="21600">
                <a:moveTo>
                  <a:pt x="8561" y="10800"/>
                </a:moveTo>
                <a:lnTo>
                  <a:pt x="22573" y="3794"/>
                </a:lnTo>
                <a:lnTo>
                  <a:pt x="2257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页脚占位符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1B32-04C0-45C8-B666-46E85DD5F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Picture 4" descr="人1"/>
          <p:cNvPicPr/>
          <p:nvPr/>
        </p:nvPicPr>
        <p:blipFill>
          <a:blip r:embed="rId1"/>
          <a:stretch/>
        </p:blipFill>
        <p:spPr>
          <a:xfrm>
            <a:off x="3348000" y="333360"/>
            <a:ext cx="2073240" cy="399564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5" descr="人1"/>
          <p:cNvPicPr/>
          <p:nvPr/>
        </p:nvPicPr>
        <p:blipFill>
          <a:blip r:embed="rId2"/>
          <a:stretch/>
        </p:blipFill>
        <p:spPr>
          <a:xfrm>
            <a:off x="1187280" y="476280"/>
            <a:ext cx="2038680" cy="392436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6"/>
          <p:cNvSpPr/>
          <p:nvPr/>
        </p:nvSpPr>
        <p:spPr>
          <a:xfrm>
            <a:off x="1476360" y="4869000"/>
            <a:ext cx="11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7"/>
          <p:cNvSpPr/>
          <p:nvPr/>
        </p:nvSpPr>
        <p:spPr>
          <a:xfrm>
            <a:off x="3635280" y="4869000"/>
            <a:ext cx="11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8"/>
          <p:cNvSpPr/>
          <p:nvPr/>
        </p:nvSpPr>
        <p:spPr>
          <a:xfrm>
            <a:off x="6084720" y="2924280"/>
            <a:ext cx="25196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ó</a:t>
            </a:r>
            <a:r>
              <a:rPr b="0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AutoShape 9"/>
          <p:cNvSpPr/>
          <p:nvPr/>
        </p:nvSpPr>
        <p:spPr>
          <a:xfrm>
            <a:off x="8352000" y="6308640"/>
            <a:ext cx="792000" cy="5493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34" y="1400"/>
                </a:lnTo>
                <a:lnTo>
                  <a:pt x="1400" y="140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34" y="20200"/>
                </a:lnTo>
                <a:lnTo>
                  <a:pt x="29734" y="140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4" y="2020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4" h="21600">
                <a:moveTo>
                  <a:pt x="8561" y="10800"/>
                </a:moveTo>
                <a:lnTo>
                  <a:pt x="22573" y="3794"/>
                </a:lnTo>
                <a:lnTo>
                  <a:pt x="2257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721C-EE23-483A-AC49-A42A8756B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4"/>
          <p:cNvSpPr/>
          <p:nvPr/>
        </p:nvSpPr>
        <p:spPr>
          <a:xfrm>
            <a:off x="3708360" y="2276640"/>
            <a:ext cx="1593720" cy="93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0" name="Picture 5" descr="众人"/>
          <p:cNvPicPr/>
          <p:nvPr/>
        </p:nvPicPr>
        <p:blipFill>
          <a:blip r:embed="rId1"/>
          <a:stretch/>
        </p:blipFill>
        <p:spPr>
          <a:xfrm>
            <a:off x="5867280" y="981000"/>
            <a:ext cx="2376720" cy="237672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6" descr="人1"/>
          <p:cNvPicPr/>
          <p:nvPr/>
        </p:nvPicPr>
        <p:blipFill>
          <a:blip r:embed="rId2"/>
          <a:stretch/>
        </p:blipFill>
        <p:spPr>
          <a:xfrm>
            <a:off x="611280" y="1341360"/>
            <a:ext cx="1104840" cy="21272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7" descr="人1"/>
          <p:cNvPicPr/>
          <p:nvPr/>
        </p:nvPicPr>
        <p:blipFill>
          <a:blip r:embed="rId3"/>
          <a:stretch/>
        </p:blipFill>
        <p:spPr>
          <a:xfrm>
            <a:off x="2411280" y="1557360"/>
            <a:ext cx="1009800" cy="194292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8" descr="人1"/>
          <p:cNvPicPr/>
          <p:nvPr/>
        </p:nvPicPr>
        <p:blipFill>
          <a:blip r:embed="rId4"/>
          <a:stretch/>
        </p:blipFill>
        <p:spPr>
          <a:xfrm>
            <a:off x="1619280" y="333360"/>
            <a:ext cx="1066680" cy="2054160"/>
          </a:xfrm>
          <a:prstGeom prst="rect">
            <a:avLst/>
          </a:prstGeom>
          <a:ln w="0">
            <a:noFill/>
          </a:ln>
        </p:spPr>
      </p:pic>
      <p:sp>
        <p:nvSpPr>
          <p:cNvPr id="724" name="Text Box 9"/>
          <p:cNvSpPr/>
          <p:nvPr/>
        </p:nvSpPr>
        <p:spPr>
          <a:xfrm>
            <a:off x="684360" y="3789360"/>
            <a:ext cx="39589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     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10"/>
          <p:cNvSpPr/>
          <p:nvPr/>
        </p:nvSpPr>
        <p:spPr>
          <a:xfrm>
            <a:off x="5580000" y="3357720"/>
            <a:ext cx="32036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òn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众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AutoShape 11"/>
          <p:cNvSpPr/>
          <p:nvPr/>
        </p:nvSpPr>
        <p:spPr>
          <a:xfrm>
            <a:off x="8352000" y="6308640"/>
            <a:ext cx="792000" cy="5493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34" y="1400"/>
                </a:lnTo>
                <a:lnTo>
                  <a:pt x="1400" y="140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34" y="20200"/>
                </a:lnTo>
                <a:lnTo>
                  <a:pt x="29734" y="140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4" y="2020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4" h="21600">
                <a:moveTo>
                  <a:pt x="8561" y="10800"/>
                </a:moveTo>
                <a:lnTo>
                  <a:pt x="22573" y="3794"/>
                </a:lnTo>
                <a:lnTo>
                  <a:pt x="2257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页脚占位符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52C2-16B9-4392-A3F8-D8094B429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2"/>
          <p:cNvSpPr/>
          <p:nvPr/>
        </p:nvSpPr>
        <p:spPr>
          <a:xfrm>
            <a:off x="1880280" y="1447920"/>
            <a:ext cx="56685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明　鲜　尘　尖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灭　力　男　休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手　林　森　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众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3"/>
          <p:cNvSpPr/>
          <p:nvPr/>
        </p:nvSpPr>
        <p:spPr>
          <a:xfrm>
            <a:off x="1206360" y="304920"/>
            <a:ext cx="101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cc0099"/>
                </a:solidFill>
                <a:latin typeface="Times New Roman"/>
              </a:rPr>
              <a:t>读一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4" descr="BD14565_"/>
          <p:cNvPicPr/>
          <p:nvPr/>
        </p:nvPicPr>
        <p:blipFill>
          <a:blip r:embed="rId2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732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77C4-F6FB-4DC9-8C28-A70E5EA5C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3"/>
          <p:cNvSpPr/>
          <p:nvPr/>
        </p:nvSpPr>
        <p:spPr>
          <a:xfrm>
            <a:off x="971640" y="1052640"/>
            <a:ext cx="705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日  月  鱼  羊  小  土  大  一  火  田  力  人  木  手  目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4"/>
          <p:cNvSpPr/>
          <p:nvPr/>
        </p:nvSpPr>
        <p:spPr>
          <a:xfrm>
            <a:off x="977760" y="3178080"/>
            <a:ext cx="11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力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5"/>
          <p:cNvSpPr/>
          <p:nvPr/>
        </p:nvSpPr>
        <p:spPr>
          <a:xfrm>
            <a:off x="5261040" y="3195720"/>
            <a:ext cx="115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WordArt 6"/>
          <p:cNvSpPr txBox="1"/>
          <p:nvPr/>
        </p:nvSpPr>
        <p:spPr>
          <a:xfrm>
            <a:off x="3059280" y="4365720"/>
            <a:ext cx="288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lì</a:t>
            </a:r>
            <a:endParaRPr b="0" lang="en-US" sz="3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39" name="WordArt 7"/>
          <p:cNvSpPr txBox="1"/>
          <p:nvPr/>
        </p:nvSpPr>
        <p:spPr>
          <a:xfrm>
            <a:off x="4859280" y="4365720"/>
            <a:ext cx="1009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shǒu</a:t>
            </a:r>
            <a:endParaRPr b="0" lang="en-US" sz="3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740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0.18038 0.2544 E">
                                      <p:cBhvr>
                                        <p:cTn id="169" dur="20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737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7037E-006 L -0.05174 0.24143 E">
                                      <p:cBhvr>
                                        <p:cTn id="179" dur="20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1D2A-CC53-4096-9CCE-04FAA98E0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Picture 2" descr="复件 PM_0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3" name="WordArt 3"/>
          <p:cNvSpPr txBox="1"/>
          <p:nvPr/>
        </p:nvSpPr>
        <p:spPr>
          <a:xfrm>
            <a:off x="6804000" y="119700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xiā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44" name="WordArt 4"/>
          <p:cNvSpPr txBox="1"/>
          <p:nvPr/>
        </p:nvSpPr>
        <p:spPr>
          <a:xfrm>
            <a:off x="3132000" y="1268280"/>
            <a:ext cx="90036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339966"/>
                </a:solidFill>
                <a:latin typeface="宋体"/>
              </a:rPr>
              <a:t>mínɡ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339966"/>
              </a:solidFill>
              <a:latin typeface="宋体"/>
              <a:ea typeface="宋体"/>
            </a:endParaRPr>
          </a:p>
        </p:txBody>
      </p:sp>
      <p:sp>
        <p:nvSpPr>
          <p:cNvPr id="745" name="WordArt 5"/>
          <p:cNvSpPr txBox="1"/>
          <p:nvPr/>
        </p:nvSpPr>
        <p:spPr>
          <a:xfrm>
            <a:off x="3059280" y="342900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ché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46" name="WordArt 6"/>
          <p:cNvSpPr txBox="1"/>
          <p:nvPr/>
        </p:nvSpPr>
        <p:spPr>
          <a:xfrm>
            <a:off x="6659640" y="342900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jiā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47" name="WordArt 7"/>
          <p:cNvSpPr txBox="1"/>
          <p:nvPr/>
        </p:nvSpPr>
        <p:spPr>
          <a:xfrm>
            <a:off x="1476360" y="1773360"/>
            <a:ext cx="64785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日月明，鱼羊鲜，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48" name="WordArt 8"/>
          <p:cNvSpPr txBox="1"/>
          <p:nvPr/>
        </p:nvSpPr>
        <p:spPr>
          <a:xfrm>
            <a:off x="1403280" y="4005360"/>
            <a:ext cx="64785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小土尘，小大尖。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49" name="页脚占位符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FDE3-BB4E-454D-87BE-CD82C3817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Picture 2" descr="复件 PM_0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2" name="WordArt 3"/>
          <p:cNvSpPr txBox="1"/>
          <p:nvPr/>
        </p:nvSpPr>
        <p:spPr>
          <a:xfrm>
            <a:off x="1476360" y="1916280"/>
            <a:ext cx="64785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火灭，田力男，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3" name="WordArt 4"/>
          <p:cNvSpPr txBox="1"/>
          <p:nvPr/>
        </p:nvSpPr>
        <p:spPr>
          <a:xfrm>
            <a:off x="1403280" y="4005360"/>
            <a:ext cx="64785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人木休，手目看。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4" name="WordArt 5"/>
          <p:cNvSpPr txBox="1"/>
          <p:nvPr/>
        </p:nvSpPr>
        <p:spPr>
          <a:xfrm>
            <a:off x="3203640" y="3357720"/>
            <a:ext cx="71892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xiū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5" name="WordArt 6"/>
          <p:cNvSpPr txBox="1"/>
          <p:nvPr/>
        </p:nvSpPr>
        <p:spPr>
          <a:xfrm>
            <a:off x="3276720" y="1268280"/>
            <a:ext cx="71892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miè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6" name="WordArt 7"/>
          <p:cNvSpPr txBox="1"/>
          <p:nvPr/>
        </p:nvSpPr>
        <p:spPr>
          <a:xfrm>
            <a:off x="6877080" y="1268280"/>
            <a:ext cx="71928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ná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7" name="WordArt 8"/>
          <p:cNvSpPr txBox="1"/>
          <p:nvPr/>
        </p:nvSpPr>
        <p:spPr>
          <a:xfrm>
            <a:off x="6804000" y="3429000"/>
            <a:ext cx="71928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kà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8" name="页脚占位符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98AC-D9B1-4AEE-9DA4-BDC860F55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2"/>
          <p:cNvSpPr/>
          <p:nvPr/>
        </p:nvSpPr>
        <p:spPr>
          <a:xfrm>
            <a:off x="179280" y="3068640"/>
            <a:ext cx="2160720" cy="338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WordArt 3"/>
          <p:cNvSpPr txBox="1"/>
          <p:nvPr/>
        </p:nvSpPr>
        <p:spPr>
          <a:xfrm>
            <a:off x="2050920" y="3500280"/>
            <a:ext cx="2232000" cy="25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月</a:t>
            </a:r>
            <a:endParaRPr b="0" lang="en-US" sz="96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581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75723E-006 C 0.04409 -0.05318 0.08819 -0.10612 0.12291 -0.14034 C 0.15746 -0.17456 0.16666 -0.17826 0.20885 -0.20462 C 0.25121 -0.23075 0.30416 -0.26844 0.37621 -0.29803 C 0.44826 -0.32786 0.59739 -0.36878 0.64184 -0.38266 E">
                                      <p:cBhvr>
                                        <p:cTn id="18" dur="50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C44A-8D42-4F5C-9075-C01826E00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2" descr="复件 PM_030"/>
          <p:cNvPicPr/>
          <p:nvPr/>
        </p:nvPicPr>
        <p:blipFill>
          <a:blip r:embed="rId1"/>
          <a:stretch/>
        </p:blipFill>
        <p:spPr>
          <a:xfrm>
            <a:off x="-28440" y="-196920"/>
            <a:ext cx="9172440" cy="705492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 txBox="1"/>
          <p:nvPr/>
        </p:nvSpPr>
        <p:spPr>
          <a:xfrm>
            <a:off x="2055600" y="2662200"/>
            <a:ext cx="4964040" cy="31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WordArt 4"/>
          <p:cNvSpPr txBox="1"/>
          <p:nvPr/>
        </p:nvSpPr>
        <p:spPr>
          <a:xfrm>
            <a:off x="6877080" y="1341360"/>
            <a:ext cx="900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sē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3" name="WordArt 5"/>
          <p:cNvSpPr txBox="1"/>
          <p:nvPr/>
        </p:nvSpPr>
        <p:spPr>
          <a:xfrm>
            <a:off x="3276720" y="1268280"/>
            <a:ext cx="900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lí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4" name="WordArt 6"/>
          <p:cNvSpPr txBox="1"/>
          <p:nvPr/>
        </p:nvSpPr>
        <p:spPr>
          <a:xfrm>
            <a:off x="3276720" y="328464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cónɡ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5" name="WordArt 7"/>
          <p:cNvSpPr txBox="1"/>
          <p:nvPr/>
        </p:nvSpPr>
        <p:spPr>
          <a:xfrm>
            <a:off x="6804000" y="3141720"/>
            <a:ext cx="1081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zhònɡ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6" name="WordArt 8"/>
          <p:cNvSpPr txBox="1"/>
          <p:nvPr/>
        </p:nvSpPr>
        <p:spPr>
          <a:xfrm>
            <a:off x="1476360" y="1773360"/>
            <a:ext cx="64785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二木林，三木森，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7" name="WordArt 9"/>
          <p:cNvSpPr txBox="1"/>
          <p:nvPr/>
        </p:nvSpPr>
        <p:spPr>
          <a:xfrm>
            <a:off x="1547640" y="3716280"/>
            <a:ext cx="64789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二人从，三人众。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8" name="页脚占位符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7D31-7427-4F96-9A57-9E3E46D7C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Picture 2" descr="4"/>
          <p:cNvPicPr/>
          <p:nvPr/>
        </p:nvPicPr>
        <p:blipFill>
          <a:blip r:embed="rId1"/>
          <a:stretch/>
        </p:blipFill>
        <p:spPr>
          <a:xfrm>
            <a:off x="-181080" y="-387360"/>
            <a:ext cx="9541080" cy="7553160"/>
          </a:xfrm>
          <a:prstGeom prst="rect">
            <a:avLst/>
          </a:prstGeom>
          <a:ln w="0">
            <a:noFill/>
          </a:ln>
        </p:spPr>
      </p:pic>
      <p:sp>
        <p:nvSpPr>
          <p:cNvPr id="771" name="WordArt 3"/>
          <p:cNvSpPr txBox="1"/>
          <p:nvPr/>
        </p:nvSpPr>
        <p:spPr>
          <a:xfrm>
            <a:off x="1619280" y="1989000"/>
            <a:ext cx="5763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鲜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2" name="WordArt 4"/>
          <p:cNvSpPr txBox="1"/>
          <p:nvPr/>
        </p:nvSpPr>
        <p:spPr>
          <a:xfrm>
            <a:off x="3348000" y="1989000"/>
            <a:ext cx="504720" cy="5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明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3" name="WordArt 5"/>
          <p:cNvSpPr txBox="1"/>
          <p:nvPr/>
        </p:nvSpPr>
        <p:spPr>
          <a:xfrm>
            <a:off x="5508720" y="4797360"/>
            <a:ext cx="50328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灭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4" name="WordArt 6"/>
          <p:cNvSpPr txBox="1"/>
          <p:nvPr/>
        </p:nvSpPr>
        <p:spPr>
          <a:xfrm>
            <a:off x="6877080" y="4797360"/>
            <a:ext cx="50472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尘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5" name="WordArt 7"/>
          <p:cNvSpPr txBox="1"/>
          <p:nvPr/>
        </p:nvSpPr>
        <p:spPr>
          <a:xfrm>
            <a:off x="5076720" y="1989000"/>
            <a:ext cx="5763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休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6" name="WordArt 8"/>
          <p:cNvSpPr txBox="1"/>
          <p:nvPr/>
        </p:nvSpPr>
        <p:spPr>
          <a:xfrm>
            <a:off x="2916360" y="4870440"/>
            <a:ext cx="504720" cy="5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男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7" name="WordArt 9"/>
          <p:cNvSpPr txBox="1"/>
          <p:nvPr/>
        </p:nvSpPr>
        <p:spPr>
          <a:xfrm>
            <a:off x="3348000" y="3357720"/>
            <a:ext cx="57636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林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8" name="WordArt 10"/>
          <p:cNvSpPr txBox="1"/>
          <p:nvPr/>
        </p:nvSpPr>
        <p:spPr>
          <a:xfrm>
            <a:off x="6732720" y="1989000"/>
            <a:ext cx="5745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森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9" name="WordArt 11"/>
          <p:cNvSpPr txBox="1"/>
          <p:nvPr/>
        </p:nvSpPr>
        <p:spPr>
          <a:xfrm>
            <a:off x="1619280" y="3284640"/>
            <a:ext cx="504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从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0" name="WordArt 12"/>
          <p:cNvSpPr txBox="1"/>
          <p:nvPr/>
        </p:nvSpPr>
        <p:spPr>
          <a:xfrm>
            <a:off x="4211640" y="4797360"/>
            <a:ext cx="57636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尖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1" name="WordArt 13"/>
          <p:cNvSpPr txBox="1"/>
          <p:nvPr/>
        </p:nvSpPr>
        <p:spPr>
          <a:xfrm>
            <a:off x="1547640" y="4797360"/>
            <a:ext cx="503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众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2" name="WordArt 14"/>
          <p:cNvSpPr txBox="1"/>
          <p:nvPr/>
        </p:nvSpPr>
        <p:spPr>
          <a:xfrm>
            <a:off x="3203640" y="1197000"/>
            <a:ext cx="93672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mínɡ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3" name="WordArt 15"/>
          <p:cNvSpPr txBox="1"/>
          <p:nvPr/>
        </p:nvSpPr>
        <p:spPr>
          <a:xfrm>
            <a:off x="1403280" y="1197000"/>
            <a:ext cx="93672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xiā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4" name="WordArt 16"/>
          <p:cNvSpPr txBox="1"/>
          <p:nvPr/>
        </p:nvSpPr>
        <p:spPr>
          <a:xfrm>
            <a:off x="6659640" y="4076640"/>
            <a:ext cx="93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ché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5" name="WordArt 17"/>
          <p:cNvSpPr txBox="1"/>
          <p:nvPr/>
        </p:nvSpPr>
        <p:spPr>
          <a:xfrm>
            <a:off x="4068720" y="4221000"/>
            <a:ext cx="865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jiā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6" name="WordArt 18"/>
          <p:cNvSpPr txBox="1"/>
          <p:nvPr/>
        </p:nvSpPr>
        <p:spPr>
          <a:xfrm>
            <a:off x="5435640" y="4149720"/>
            <a:ext cx="79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miè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7" name="WordArt 19"/>
          <p:cNvSpPr txBox="1"/>
          <p:nvPr/>
        </p:nvSpPr>
        <p:spPr>
          <a:xfrm>
            <a:off x="2771640" y="4149720"/>
            <a:ext cx="720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ná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8" name="WordArt 20"/>
          <p:cNvSpPr txBox="1"/>
          <p:nvPr/>
        </p:nvSpPr>
        <p:spPr>
          <a:xfrm>
            <a:off x="5076720" y="1197000"/>
            <a:ext cx="64944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xiū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9" name="WordArt 21"/>
          <p:cNvSpPr txBox="1"/>
          <p:nvPr/>
        </p:nvSpPr>
        <p:spPr>
          <a:xfrm>
            <a:off x="3276720" y="2708280"/>
            <a:ext cx="72072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lí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0" name="WordArt 22"/>
          <p:cNvSpPr txBox="1"/>
          <p:nvPr/>
        </p:nvSpPr>
        <p:spPr>
          <a:xfrm>
            <a:off x="6661080" y="1197000"/>
            <a:ext cx="64764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sē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1" name="WordArt 23"/>
          <p:cNvSpPr txBox="1"/>
          <p:nvPr/>
        </p:nvSpPr>
        <p:spPr>
          <a:xfrm>
            <a:off x="1476360" y="2781360"/>
            <a:ext cx="86508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cónɡ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2" name="WordArt 24"/>
          <p:cNvSpPr txBox="1"/>
          <p:nvPr/>
        </p:nvSpPr>
        <p:spPr>
          <a:xfrm>
            <a:off x="1260360" y="4149720"/>
            <a:ext cx="107964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zhònɡ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3" name="WordArt 25"/>
          <p:cNvSpPr txBox="1"/>
          <p:nvPr/>
        </p:nvSpPr>
        <p:spPr>
          <a:xfrm>
            <a:off x="5076720" y="3357720"/>
            <a:ext cx="503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力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4" name="WordArt 26"/>
          <p:cNvSpPr txBox="1"/>
          <p:nvPr/>
        </p:nvSpPr>
        <p:spPr>
          <a:xfrm>
            <a:off x="6732720" y="3357720"/>
            <a:ext cx="57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手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5" name="WordArt 27"/>
          <p:cNvSpPr txBox="1"/>
          <p:nvPr/>
        </p:nvSpPr>
        <p:spPr>
          <a:xfrm>
            <a:off x="6516720" y="2708280"/>
            <a:ext cx="100800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shǒu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6" name="WordArt 28"/>
          <p:cNvSpPr txBox="1"/>
          <p:nvPr/>
        </p:nvSpPr>
        <p:spPr>
          <a:xfrm>
            <a:off x="5148360" y="2781360"/>
            <a:ext cx="43164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lì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7" name="页脚占位符 3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3613-F97F-445E-BCE0-84C190D08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9" name="Group 2"/>
          <p:cNvGrpSpPr/>
          <p:nvPr/>
        </p:nvGrpSpPr>
        <p:grpSpPr>
          <a:xfrm>
            <a:off x="6372360" y="4626000"/>
            <a:ext cx="2016000" cy="2232000"/>
            <a:chOff x="6372360" y="4626000"/>
            <a:chExt cx="2016000" cy="2232000"/>
          </a:xfrm>
        </p:grpSpPr>
        <p:sp>
          <p:nvSpPr>
            <p:cNvPr id="800" name="AutoShape 3"/>
            <p:cNvSpPr/>
            <p:nvPr/>
          </p:nvSpPr>
          <p:spPr>
            <a:xfrm>
              <a:off x="6372360" y="4626000"/>
              <a:ext cx="2016000" cy="223200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000"/>
                <a:gd name="textAreaBottom" fmla="*/ 1402920 h 22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WordArt 4"/>
            <p:cNvSpPr txBox="1"/>
            <p:nvPr/>
          </p:nvSpPr>
          <p:spPr>
            <a:xfrm>
              <a:off x="7078680" y="5506920"/>
              <a:ext cx="610920" cy="50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明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02" name="Group 5"/>
          <p:cNvGrpSpPr/>
          <p:nvPr/>
        </p:nvGrpSpPr>
        <p:grpSpPr>
          <a:xfrm>
            <a:off x="1403280" y="4678200"/>
            <a:ext cx="2016360" cy="2232360"/>
            <a:chOff x="1403280" y="4678200"/>
            <a:chExt cx="2016360" cy="2232360"/>
          </a:xfrm>
        </p:grpSpPr>
        <p:sp>
          <p:nvSpPr>
            <p:cNvPr id="803" name="AutoShape 6"/>
            <p:cNvSpPr/>
            <p:nvPr/>
          </p:nvSpPr>
          <p:spPr>
            <a:xfrm>
              <a:off x="1403280" y="4678200"/>
              <a:ext cx="2016360" cy="2232360"/>
            </a:xfrm>
            <a:custGeom>
              <a:avLst/>
              <a:gdLst>
                <a:gd name="textAreaLeft" fmla="*/ 748800 w 2016360"/>
                <a:gd name="textAreaRight" fmla="*/ 1267560 w 201636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WordArt 7"/>
            <p:cNvSpPr txBox="1"/>
            <p:nvPr/>
          </p:nvSpPr>
          <p:spPr>
            <a:xfrm>
              <a:off x="2124000" y="5568840"/>
              <a:ext cx="61128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众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05" name="Group 8"/>
          <p:cNvGrpSpPr/>
          <p:nvPr/>
        </p:nvGrpSpPr>
        <p:grpSpPr>
          <a:xfrm>
            <a:off x="0" y="4678200"/>
            <a:ext cx="2016000" cy="2232360"/>
            <a:chOff x="0" y="4678200"/>
            <a:chExt cx="2016000" cy="2232360"/>
          </a:xfrm>
        </p:grpSpPr>
        <p:sp>
          <p:nvSpPr>
            <p:cNvPr id="806" name="AutoShape 9"/>
            <p:cNvSpPr/>
            <p:nvPr/>
          </p:nvSpPr>
          <p:spPr>
            <a:xfrm>
              <a:off x="0" y="4678200"/>
              <a:ext cx="2016000" cy="223236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WordArt 10"/>
            <p:cNvSpPr txBox="1"/>
            <p:nvPr/>
          </p:nvSpPr>
          <p:spPr>
            <a:xfrm>
              <a:off x="720720" y="5568840"/>
              <a:ext cx="61128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鲜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08" name="Group 11"/>
          <p:cNvGrpSpPr/>
          <p:nvPr/>
        </p:nvGrpSpPr>
        <p:grpSpPr>
          <a:xfrm>
            <a:off x="2627280" y="4626000"/>
            <a:ext cx="2016000" cy="2232000"/>
            <a:chOff x="2627280" y="4626000"/>
            <a:chExt cx="2016000" cy="2232000"/>
          </a:xfrm>
        </p:grpSpPr>
        <p:sp>
          <p:nvSpPr>
            <p:cNvPr id="809" name="AutoShape 12"/>
            <p:cNvSpPr/>
            <p:nvPr/>
          </p:nvSpPr>
          <p:spPr>
            <a:xfrm>
              <a:off x="2627280" y="4626000"/>
              <a:ext cx="2016000" cy="223200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000"/>
                <a:gd name="textAreaBottom" fmla="*/ 1402920 h 22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WordArt 13"/>
            <p:cNvSpPr txBox="1"/>
            <p:nvPr/>
          </p:nvSpPr>
          <p:spPr>
            <a:xfrm>
              <a:off x="3348000" y="5516640"/>
              <a:ext cx="6109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手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11" name="Group 14"/>
          <p:cNvGrpSpPr/>
          <p:nvPr/>
        </p:nvGrpSpPr>
        <p:grpSpPr>
          <a:xfrm>
            <a:off x="3851280" y="4678200"/>
            <a:ext cx="2016000" cy="2232360"/>
            <a:chOff x="3851280" y="4678200"/>
            <a:chExt cx="2016000" cy="2232360"/>
          </a:xfrm>
        </p:grpSpPr>
        <p:sp>
          <p:nvSpPr>
            <p:cNvPr id="812" name="AutoShape 15"/>
            <p:cNvSpPr/>
            <p:nvPr/>
          </p:nvSpPr>
          <p:spPr>
            <a:xfrm>
              <a:off x="3851280" y="4678200"/>
              <a:ext cx="2016000" cy="223236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WordArt 16"/>
            <p:cNvSpPr txBox="1"/>
            <p:nvPr/>
          </p:nvSpPr>
          <p:spPr>
            <a:xfrm>
              <a:off x="4572000" y="5568840"/>
              <a:ext cx="61128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从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14" name="Group 17"/>
          <p:cNvGrpSpPr/>
          <p:nvPr/>
        </p:nvGrpSpPr>
        <p:grpSpPr>
          <a:xfrm>
            <a:off x="5219640" y="4678200"/>
            <a:ext cx="2016360" cy="2232360"/>
            <a:chOff x="5219640" y="4678200"/>
            <a:chExt cx="2016360" cy="2232360"/>
          </a:xfrm>
        </p:grpSpPr>
        <p:sp>
          <p:nvSpPr>
            <p:cNvPr id="815" name="AutoShape 18"/>
            <p:cNvSpPr/>
            <p:nvPr/>
          </p:nvSpPr>
          <p:spPr>
            <a:xfrm>
              <a:off x="5219640" y="4678200"/>
              <a:ext cx="2016360" cy="2232360"/>
            </a:xfrm>
            <a:custGeom>
              <a:avLst/>
              <a:gdLst>
                <a:gd name="textAreaLeft" fmla="*/ 748800 w 2016360"/>
                <a:gd name="textAreaRight" fmla="*/ 1267560 w 201636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WordArt 19"/>
            <p:cNvSpPr txBox="1"/>
            <p:nvPr/>
          </p:nvSpPr>
          <p:spPr>
            <a:xfrm>
              <a:off x="5940360" y="5568840"/>
              <a:ext cx="61128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森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17" name="Group 20"/>
          <p:cNvGrpSpPr/>
          <p:nvPr/>
        </p:nvGrpSpPr>
        <p:grpSpPr>
          <a:xfrm>
            <a:off x="3132000" y="4678200"/>
            <a:ext cx="2016360" cy="2232360"/>
            <a:chOff x="3132000" y="4678200"/>
            <a:chExt cx="2016360" cy="2232360"/>
          </a:xfrm>
        </p:grpSpPr>
        <p:sp>
          <p:nvSpPr>
            <p:cNvPr id="818" name="AutoShape 21"/>
            <p:cNvSpPr/>
            <p:nvPr/>
          </p:nvSpPr>
          <p:spPr>
            <a:xfrm>
              <a:off x="3132000" y="4678200"/>
              <a:ext cx="2016360" cy="2232360"/>
            </a:xfrm>
            <a:custGeom>
              <a:avLst/>
              <a:gdLst>
                <a:gd name="textAreaLeft" fmla="*/ 748800 w 2016360"/>
                <a:gd name="textAreaRight" fmla="*/ 1267560 w 201636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WordArt 22"/>
            <p:cNvSpPr txBox="1"/>
            <p:nvPr/>
          </p:nvSpPr>
          <p:spPr>
            <a:xfrm>
              <a:off x="3852720" y="5568840"/>
              <a:ext cx="61128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尘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20" name="Group 23"/>
          <p:cNvGrpSpPr/>
          <p:nvPr/>
        </p:nvGrpSpPr>
        <p:grpSpPr>
          <a:xfrm>
            <a:off x="684360" y="4678200"/>
            <a:ext cx="2016000" cy="2232360"/>
            <a:chOff x="684360" y="4678200"/>
            <a:chExt cx="2016000" cy="2232360"/>
          </a:xfrm>
        </p:grpSpPr>
        <p:sp>
          <p:nvSpPr>
            <p:cNvPr id="821" name="AutoShape 24"/>
            <p:cNvSpPr/>
            <p:nvPr/>
          </p:nvSpPr>
          <p:spPr>
            <a:xfrm>
              <a:off x="684360" y="4678200"/>
              <a:ext cx="2016000" cy="223236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WordArt 25"/>
            <p:cNvSpPr txBox="1"/>
            <p:nvPr/>
          </p:nvSpPr>
          <p:spPr>
            <a:xfrm>
              <a:off x="1405080" y="5568840"/>
              <a:ext cx="61092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男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23" name="Group 26"/>
          <p:cNvGrpSpPr/>
          <p:nvPr/>
        </p:nvGrpSpPr>
        <p:grpSpPr>
          <a:xfrm>
            <a:off x="1908000" y="4678200"/>
            <a:ext cx="2016360" cy="2232360"/>
            <a:chOff x="1908000" y="4678200"/>
            <a:chExt cx="2016360" cy="2232360"/>
          </a:xfrm>
        </p:grpSpPr>
        <p:sp>
          <p:nvSpPr>
            <p:cNvPr id="824" name="AutoShape 27"/>
            <p:cNvSpPr/>
            <p:nvPr/>
          </p:nvSpPr>
          <p:spPr>
            <a:xfrm>
              <a:off x="1908000" y="4678200"/>
              <a:ext cx="2016360" cy="2232360"/>
            </a:xfrm>
            <a:custGeom>
              <a:avLst/>
              <a:gdLst>
                <a:gd name="textAreaLeft" fmla="*/ 748800 w 2016360"/>
                <a:gd name="textAreaRight" fmla="*/ 1267560 w 201636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WordArt 28"/>
            <p:cNvSpPr txBox="1"/>
            <p:nvPr/>
          </p:nvSpPr>
          <p:spPr>
            <a:xfrm>
              <a:off x="2629080" y="5568840"/>
              <a:ext cx="61092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林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26" name="Group 29"/>
          <p:cNvGrpSpPr/>
          <p:nvPr/>
        </p:nvGrpSpPr>
        <p:grpSpPr>
          <a:xfrm>
            <a:off x="4500720" y="4678200"/>
            <a:ext cx="2016000" cy="2232360"/>
            <a:chOff x="4500720" y="4678200"/>
            <a:chExt cx="2016000" cy="2232360"/>
          </a:xfrm>
        </p:grpSpPr>
        <p:sp>
          <p:nvSpPr>
            <p:cNvPr id="827" name="AutoShape 30"/>
            <p:cNvSpPr/>
            <p:nvPr/>
          </p:nvSpPr>
          <p:spPr>
            <a:xfrm>
              <a:off x="4500720" y="4678200"/>
              <a:ext cx="2016000" cy="223236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WordArt 31"/>
            <p:cNvSpPr txBox="1"/>
            <p:nvPr/>
          </p:nvSpPr>
          <p:spPr>
            <a:xfrm>
              <a:off x="5221440" y="5568840"/>
              <a:ext cx="61092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休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29" name="Group 32"/>
          <p:cNvGrpSpPr/>
          <p:nvPr/>
        </p:nvGrpSpPr>
        <p:grpSpPr>
          <a:xfrm>
            <a:off x="7128000" y="4678200"/>
            <a:ext cx="2016000" cy="2232360"/>
            <a:chOff x="7128000" y="4678200"/>
            <a:chExt cx="2016000" cy="2232360"/>
          </a:xfrm>
        </p:grpSpPr>
        <p:sp>
          <p:nvSpPr>
            <p:cNvPr id="830" name="AutoShape 33"/>
            <p:cNvSpPr/>
            <p:nvPr/>
          </p:nvSpPr>
          <p:spPr>
            <a:xfrm>
              <a:off x="7128000" y="4678200"/>
              <a:ext cx="2016000" cy="223236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WordArt 34"/>
            <p:cNvSpPr txBox="1"/>
            <p:nvPr/>
          </p:nvSpPr>
          <p:spPr>
            <a:xfrm>
              <a:off x="7848360" y="5568840"/>
              <a:ext cx="61092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尖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32" name="Group 35"/>
          <p:cNvGrpSpPr/>
          <p:nvPr/>
        </p:nvGrpSpPr>
        <p:grpSpPr>
          <a:xfrm>
            <a:off x="5867280" y="4626000"/>
            <a:ext cx="2016000" cy="2232000"/>
            <a:chOff x="5867280" y="4626000"/>
            <a:chExt cx="2016000" cy="2232000"/>
          </a:xfrm>
        </p:grpSpPr>
        <p:sp>
          <p:nvSpPr>
            <p:cNvPr id="833" name="AutoShape 36"/>
            <p:cNvSpPr/>
            <p:nvPr/>
          </p:nvSpPr>
          <p:spPr>
            <a:xfrm>
              <a:off x="5867280" y="4626000"/>
              <a:ext cx="2016000" cy="223200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000"/>
                <a:gd name="textAreaBottom" fmla="*/ 1402920 h 22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WordArt 37"/>
            <p:cNvSpPr txBox="1"/>
            <p:nvPr/>
          </p:nvSpPr>
          <p:spPr>
            <a:xfrm>
              <a:off x="6588000" y="5516280"/>
              <a:ext cx="6109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灭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35" name="Group 38"/>
          <p:cNvGrpSpPr/>
          <p:nvPr/>
        </p:nvGrpSpPr>
        <p:grpSpPr>
          <a:xfrm>
            <a:off x="4716360" y="4626000"/>
            <a:ext cx="2016360" cy="2232000"/>
            <a:chOff x="4716360" y="4626000"/>
            <a:chExt cx="2016360" cy="2232000"/>
          </a:xfrm>
        </p:grpSpPr>
        <p:sp>
          <p:nvSpPr>
            <p:cNvPr id="836" name="AutoShape 39"/>
            <p:cNvSpPr/>
            <p:nvPr/>
          </p:nvSpPr>
          <p:spPr>
            <a:xfrm>
              <a:off x="4716360" y="4626000"/>
              <a:ext cx="2016360" cy="2232000"/>
            </a:xfrm>
            <a:custGeom>
              <a:avLst/>
              <a:gdLst>
                <a:gd name="textAreaLeft" fmla="*/ 748800 w 2016360"/>
                <a:gd name="textAreaRight" fmla="*/ 1267560 w 2016360"/>
                <a:gd name="textAreaTop" fmla="*/ 829080 h 2232000"/>
                <a:gd name="textAreaBottom" fmla="*/ 1402920 h 22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WordArt 40"/>
            <p:cNvSpPr txBox="1"/>
            <p:nvPr/>
          </p:nvSpPr>
          <p:spPr>
            <a:xfrm>
              <a:off x="5437080" y="5516280"/>
              <a:ext cx="61128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力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838" name="页脚占位符 4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6.35838E-007 L -0.41736 -0.64855 E">
                                      <p:cBhvr>
                                        <p:cTn id="239" dur="2000" fill="hold"/>
                                        <p:tgtEl>
                                          <p:spTgt spid="8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6.35838E-007 L -0.13386 -0.44948 E">
                                      <p:cBhvr>
                                        <p:cTn id="249" dur="1000" fill="hold"/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13873E-006 L 0.2283 -0.65017 E">
                                      <p:cBhvr>
                                        <p:cTn id="259" dur="10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6.35838E-007 L 0.59844 -0.65919 E">
                                      <p:cBhvr>
                                        <p:cTn id="269" dur="10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014 -0.00023 C 0.11962 -0.15561 -0.13021 -0.31121 -0.16285 -0.42451 C -0.19531 -0.5378 0.11666 -0.63769 0.17239 -0.68 E">
                                      <p:cBhvr>
                                        <p:cTn id="279" dur="1000" fill="hold"/>
                                        <p:tgtEl>
                                          <p:spTgt spid="8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6.35838E-007 L 0.22847 -0.56485 E">
                                      <p:cBhvr>
                                        <p:cTn id="289" dur="1000" fill="hold"/>
                                        <p:tgtEl>
                                          <p:spTgt spid="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6.35838E-007 C 0.21129 -0.07376 0.42257 -0.14775 0.45556 -0.23468 C 0.48855 -0.32185 0.24098 -0.47538 0.19844 -0.52277 E">
                                      <p:cBhvr>
                                        <p:cTn id="299" dur="1000" fill="hold"/>
                                        <p:tgtEl>
                                          <p:spTgt spid="8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6.35838E-007 L 0.29931 -0.21873 E">
                                      <p:cBhvr>
                                        <p:cTn id="309" dur="1000" fill="hold"/>
                                        <p:tgtEl>
                                          <p:spTgt spid="8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08092E-006 L -0.14965 -0.23075 E">
                                      <p:cBhvr>
                                        <p:cTn id="319" dur="1000" fill="hold"/>
                                        <p:tgtEl>
                                          <p:spTgt spid="8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19653E-006 C 0.02187 0.00694 0.04375 0.01411 0.03993 -0.0326 C 0.03594 -0.0793 0.09878 -0.2511 -0.02344 -0.28 C -0.14531 -0.30867 -0.41875 -0.25734 -0.69219 -0.20601 E">
                                      <p:cBhvr>
                                        <p:cTn id="329" dur="1000" fill="hold"/>
                                        <p:tgtEl>
                                          <p:spTgt spid="8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36 -0.02266 C -0.05504 -0.16393 -0.03837 -0.30474 -0.05035 -0.36809 C -0.06198 -0.43121 -0.12656 -0.39815 -0.14167 -0.40416 E">
                                      <p:cBhvr>
                                        <p:cTn id="339" dur="1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49 0.03954 C 0.05399 0.0541 0.06597 0.06983 0.06424 -0.02913 C 0.06181 -0.1274 0.09792 -0.48879 0.02865 -0.54959 C -0.03993 -0.60948 -0.1934 -0.50196 -0.34653 -0.39399 E">
                                      <p:cBhvr>
                                        <p:cTn id="349" dur="1000" fill="hold"/>
                                        <p:tgtEl>
                                          <p:spTgt spid="8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08092E-006 L 2.5E-006 -0.2726 E">
                                      <p:cBhvr>
                                        <p:cTn id="359" dur="500" fill="hold"/>
                                        <p:tgtEl>
                                          <p:spTgt spid="8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B1C2-7E6E-49C8-A088-70490C1B1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0" name="Picture 2" descr="card1327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841" name="WordArt 3"/>
          <p:cNvSpPr txBox="1"/>
          <p:nvPr/>
        </p:nvSpPr>
        <p:spPr>
          <a:xfrm>
            <a:off x="1438200" y="413856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手心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2" name="WordArt 4"/>
          <p:cNvSpPr txBox="1"/>
          <p:nvPr/>
        </p:nvSpPr>
        <p:spPr>
          <a:xfrm>
            <a:off x="3778200" y="125892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鲜花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3" name="WordArt 5"/>
          <p:cNvSpPr txBox="1"/>
          <p:nvPr/>
        </p:nvSpPr>
        <p:spPr>
          <a:xfrm>
            <a:off x="1438200" y="125892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笔尖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4" name="WordArt 6"/>
          <p:cNvSpPr txBox="1"/>
          <p:nvPr/>
        </p:nvSpPr>
        <p:spPr>
          <a:xfrm>
            <a:off x="6116760" y="1258920"/>
            <a:ext cx="143964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尘土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5" name="WordArt 7"/>
          <p:cNvSpPr txBox="1"/>
          <p:nvPr/>
        </p:nvSpPr>
        <p:spPr>
          <a:xfrm>
            <a:off x="3778200" y="269892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明天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6" name="WordArt 8"/>
          <p:cNvSpPr txBox="1"/>
          <p:nvPr/>
        </p:nvSpPr>
        <p:spPr>
          <a:xfrm>
            <a:off x="1438200" y="269892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森林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7" name="WordArt 9"/>
          <p:cNvSpPr txBox="1"/>
          <p:nvPr/>
        </p:nvSpPr>
        <p:spPr>
          <a:xfrm>
            <a:off x="6116760" y="2698920"/>
            <a:ext cx="143964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灭火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8" name="WordArt 10"/>
          <p:cNvSpPr txBox="1"/>
          <p:nvPr/>
        </p:nvSpPr>
        <p:spPr>
          <a:xfrm>
            <a:off x="3778200" y="413856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竹林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9" name="页脚占位符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restart="whenNotActive" nodeType="interactiveSeq" fill="hold">
                <p:stCondLst>
                  <p:cond evt="onClick">
                    <p:tgtEl>
                      <p:spTgt spid="843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843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6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6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68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842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842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7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5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848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848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81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2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8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847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847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8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0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1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92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841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841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97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0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844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844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05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6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7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08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845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845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13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4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1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846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846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21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2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3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24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BA68-77E4-4D16-B8E5-3D5D250E0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AutoShape 3"/>
          <p:cNvSpPr/>
          <p:nvPr/>
        </p:nvSpPr>
        <p:spPr>
          <a:xfrm>
            <a:off x="4572000" y="685800"/>
            <a:ext cx="838080" cy="797040"/>
          </a:xfrm>
          <a:prstGeom prst="pentagon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AutoShape 4"/>
          <p:cNvSpPr/>
          <p:nvPr/>
        </p:nvSpPr>
        <p:spPr>
          <a:xfrm>
            <a:off x="5791320" y="762120"/>
            <a:ext cx="3047760" cy="68580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歪歪扭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5"/>
          <p:cNvSpPr/>
          <p:nvPr/>
        </p:nvSpPr>
        <p:spPr>
          <a:xfrm>
            <a:off x="4572000" y="2286000"/>
            <a:ext cx="838080" cy="797040"/>
          </a:xfrm>
          <a:prstGeom prst="pentagon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6"/>
          <p:cNvSpPr/>
          <p:nvPr/>
        </p:nvSpPr>
        <p:spPr>
          <a:xfrm>
            <a:off x="4648320" y="3886200"/>
            <a:ext cx="838080" cy="797040"/>
          </a:xfrm>
          <a:prstGeom prst="pentagon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7"/>
          <p:cNvSpPr/>
          <p:nvPr/>
        </p:nvSpPr>
        <p:spPr>
          <a:xfrm>
            <a:off x="4648320" y="5562720"/>
            <a:ext cx="838080" cy="796680"/>
          </a:xfrm>
          <a:prstGeom prst="pentagon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utoShape 8"/>
          <p:cNvSpPr/>
          <p:nvPr/>
        </p:nvSpPr>
        <p:spPr>
          <a:xfrm>
            <a:off x="5867280" y="2438280"/>
            <a:ext cx="2133720" cy="68580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晃眼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AutoShape 9"/>
          <p:cNvSpPr/>
          <p:nvPr/>
        </p:nvSpPr>
        <p:spPr>
          <a:xfrm>
            <a:off x="5943600" y="39625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品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AutoShape 10"/>
          <p:cNvSpPr/>
          <p:nvPr/>
        </p:nvSpPr>
        <p:spPr>
          <a:xfrm>
            <a:off x="5943600" y="5638680"/>
            <a:ext cx="2133720" cy="68580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亮晶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11"/>
          <p:cNvSpPr/>
          <p:nvPr/>
        </p:nvSpPr>
        <p:spPr>
          <a:xfrm>
            <a:off x="2484360" y="0"/>
            <a:ext cx="129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   正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12"/>
          <p:cNvSpPr/>
          <p:nvPr/>
        </p:nvSpPr>
        <p:spPr>
          <a:xfrm>
            <a:off x="2484360" y="1844640"/>
            <a:ext cx="930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   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3"/>
          <p:cNvSpPr/>
          <p:nvPr/>
        </p:nvSpPr>
        <p:spPr>
          <a:xfrm>
            <a:off x="2484360" y="3500280"/>
            <a:ext cx="922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   口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2411280" y="5121360"/>
            <a:ext cx="1067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   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WordArt 16"/>
          <p:cNvSpPr txBox="1"/>
          <p:nvPr/>
        </p:nvSpPr>
        <p:spPr>
          <a:xfrm rot="5400000">
            <a:off x="-800280" y="1485720"/>
            <a:ext cx="3200400" cy="838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读读想想</a:t>
            </a:r>
            <a:endParaRPr b="1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64" name="Picture 17" descr="BD14565_"/>
          <p:cNvPicPr/>
          <p:nvPr/>
        </p:nvPicPr>
        <p:blipFill>
          <a:blip r:embed="rId2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865" name="Line 20"/>
          <p:cNvSpPr/>
          <p:nvPr/>
        </p:nvSpPr>
        <p:spPr>
          <a:xfrm>
            <a:off x="3419640" y="404640"/>
            <a:ext cx="936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Line 21"/>
          <p:cNvSpPr/>
          <p:nvPr/>
        </p:nvSpPr>
        <p:spPr>
          <a:xfrm flipV="1">
            <a:off x="3348000" y="1052640"/>
            <a:ext cx="1008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Line 22"/>
          <p:cNvSpPr/>
          <p:nvPr/>
        </p:nvSpPr>
        <p:spPr>
          <a:xfrm>
            <a:off x="3276720" y="2276640"/>
            <a:ext cx="1150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Line 23"/>
          <p:cNvSpPr/>
          <p:nvPr/>
        </p:nvSpPr>
        <p:spPr>
          <a:xfrm flipV="1">
            <a:off x="3276720" y="2781360"/>
            <a:ext cx="1079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Line 25"/>
          <p:cNvSpPr/>
          <p:nvPr/>
        </p:nvSpPr>
        <p:spPr>
          <a:xfrm>
            <a:off x="3203640" y="3933720"/>
            <a:ext cx="1152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Line 26"/>
          <p:cNvSpPr/>
          <p:nvPr/>
        </p:nvSpPr>
        <p:spPr>
          <a:xfrm flipV="1">
            <a:off x="3276720" y="4365720"/>
            <a:ext cx="1008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Line 27"/>
          <p:cNvSpPr/>
          <p:nvPr/>
        </p:nvSpPr>
        <p:spPr>
          <a:xfrm>
            <a:off x="3348000" y="5661000"/>
            <a:ext cx="1079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Line 28"/>
          <p:cNvSpPr/>
          <p:nvPr/>
        </p:nvSpPr>
        <p:spPr>
          <a:xfrm flipV="1">
            <a:off x="3348000" y="6092640"/>
            <a:ext cx="1079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页脚占位符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7311-E4B1-41DC-A558-AEC75F154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762120" y="3429000"/>
            <a:ext cx="861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采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手在树上，采摘东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艳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色彩丰富，鲜艳美丽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     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苗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田间长草，植物幼苗。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                  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泪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眼睛流水，泪水汪汪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功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出工有力，就会成功。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 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  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0" y="1413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 Unicode MS"/>
              </a:rPr>
              <a:t>　　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小朋友，我们学习的汉字中，有许多字是由两个或几个汉字组成的，有趣的是它的意思就是这几个汉字意思的组合，这样的汉字有个名字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会意字。让我们一起认识 下面几个会意字，看它们是不是很有趣。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            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WordArt 5"/>
          <p:cNvSpPr txBox="1"/>
          <p:nvPr/>
        </p:nvSpPr>
        <p:spPr>
          <a:xfrm>
            <a:off x="304920" y="304920"/>
            <a:ext cx="78483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有趣的会意字</a:t>
            </a:r>
            <a:endParaRPr b="0" lang="en-US" sz="3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78" name="Picture 7" descr="BD14565_"/>
          <p:cNvPicPr/>
          <p:nvPr/>
        </p:nvPicPr>
        <p:blipFill>
          <a:blip r:embed="rId2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879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4291-046B-4E0A-8C85-CFE99DC0A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2"/>
          <p:cNvSpPr/>
          <p:nvPr/>
        </p:nvSpPr>
        <p:spPr>
          <a:xfrm>
            <a:off x="838080" y="1371600"/>
            <a:ext cx="2590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99"/>
                </a:solidFill>
                <a:latin typeface="Comic Sans MS"/>
                <a:ea typeface="楷体_GB2312"/>
              </a:rPr>
              <a:t>日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3"/>
          <p:cNvSpPr/>
          <p:nvPr/>
        </p:nvSpPr>
        <p:spPr>
          <a:xfrm>
            <a:off x="2971800" y="1371600"/>
            <a:ext cx="2590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99"/>
                </a:solidFill>
                <a:latin typeface="Comic Sans MS"/>
                <a:ea typeface="楷体_GB2312"/>
              </a:rPr>
              <a:t>月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4"/>
          <p:cNvSpPr/>
          <p:nvPr/>
        </p:nvSpPr>
        <p:spPr>
          <a:xfrm>
            <a:off x="5257800" y="1371600"/>
            <a:ext cx="2590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99"/>
                </a:solidFill>
                <a:latin typeface="Comic Sans MS"/>
                <a:ea typeface="楷体_GB2312"/>
              </a:rPr>
              <a:t>明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5"/>
          <p:cNvSpPr/>
          <p:nvPr/>
        </p:nvSpPr>
        <p:spPr>
          <a:xfrm>
            <a:off x="5383800" y="304920"/>
            <a:ext cx="2939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mínɡ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5" name="Picture 6" descr="BD14565_"/>
          <p:cNvPicPr/>
          <p:nvPr/>
        </p:nvPicPr>
        <p:blipFill>
          <a:blip r:embed="rId2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886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DFE3-2061-447B-9786-7CFD2C53B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WordArt 2"/>
          <p:cNvSpPr txBox="1"/>
          <p:nvPr/>
        </p:nvSpPr>
        <p:spPr>
          <a:xfrm>
            <a:off x="1258920" y="3933720"/>
            <a:ext cx="13683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日</a:t>
            </a:r>
            <a:endParaRPr b="0" lang="en-US" sz="96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584" name="WordArt 3"/>
          <p:cNvSpPr txBox="1"/>
          <p:nvPr/>
        </p:nvSpPr>
        <p:spPr>
          <a:xfrm>
            <a:off x="5796000" y="3500280"/>
            <a:ext cx="22320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月</a:t>
            </a:r>
            <a:endParaRPr b="0" lang="en-US" sz="96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grpSp>
        <p:nvGrpSpPr>
          <p:cNvPr id="585" name="Group 4"/>
          <p:cNvGrpSpPr/>
          <p:nvPr/>
        </p:nvGrpSpPr>
        <p:grpSpPr>
          <a:xfrm>
            <a:off x="468360" y="260280"/>
            <a:ext cx="3239640" cy="3095640"/>
            <a:chOff x="468360" y="260280"/>
            <a:chExt cx="3239640" cy="3095640"/>
          </a:xfrm>
        </p:grpSpPr>
        <p:pic>
          <p:nvPicPr>
            <p:cNvPr id="586" name="Picture 5" descr="1066862330200342265288425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3239640" cy="30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6" descr="复件 v01-1"/>
            <p:cNvPicPr/>
            <p:nvPr/>
          </p:nvPicPr>
          <p:blipFill>
            <a:blip r:embed="rId2"/>
            <a:stretch/>
          </p:blipFill>
          <p:spPr>
            <a:xfrm>
              <a:off x="688680" y="470880"/>
              <a:ext cx="2798640" cy="267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8" name="Group 7"/>
          <p:cNvGrpSpPr/>
          <p:nvPr/>
        </p:nvGrpSpPr>
        <p:grpSpPr>
          <a:xfrm>
            <a:off x="5580000" y="333360"/>
            <a:ext cx="3168720" cy="2970360"/>
            <a:chOff x="5580000" y="333360"/>
            <a:chExt cx="3168720" cy="2970360"/>
          </a:xfrm>
        </p:grpSpPr>
        <p:pic>
          <p:nvPicPr>
            <p:cNvPr id="589" name="Picture 8" descr="1066862330200342265288425"/>
            <p:cNvPicPr/>
            <p:nvPr/>
          </p:nvPicPr>
          <p:blipFill>
            <a:blip r:embed="rId3"/>
            <a:stretch/>
          </p:blipFill>
          <p:spPr>
            <a:xfrm>
              <a:off x="5580000" y="333360"/>
              <a:ext cx="3168720" cy="297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9" descr="复件 lesson1"/>
            <p:cNvPicPr/>
            <p:nvPr/>
          </p:nvPicPr>
          <p:blipFill>
            <a:blip r:embed="rId4"/>
            <a:stretch/>
          </p:blipFill>
          <p:spPr>
            <a:xfrm>
              <a:off x="5796000" y="535680"/>
              <a:ext cx="2736720" cy="256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页脚占位符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8.67052E-007 L 0.17726 0.00532 E">
                                      <p:cBhvr>
                                        <p:cTn id="40" dur="2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19653E-006 L -0.20868 0.00023 E">
                                      <p:cBhvr>
                                        <p:cTn id="42" dur="2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05B8-B762-4001-B85B-3ED1935F5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5715000" y="533520"/>
            <a:ext cx="259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鱼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0"/>
          <p:cNvSpPr/>
          <p:nvPr/>
        </p:nvSpPr>
        <p:spPr>
          <a:xfrm>
            <a:off x="5867280" y="3124080"/>
            <a:ext cx="259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羊 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Picture 13" descr="BD14565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5" descr="mfriendsheep"/>
          <p:cNvPicPr/>
          <p:nvPr/>
        </p:nvPicPr>
        <p:blipFill>
          <a:blip r:embed="rId4"/>
          <a:stretch/>
        </p:blipFill>
        <p:spPr>
          <a:xfrm>
            <a:off x="2438280" y="3200400"/>
            <a:ext cx="1995480" cy="24782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6" descr="UA0529_gif"/>
          <p:cNvPicPr/>
          <p:nvPr/>
        </p:nvPicPr>
        <p:blipFill>
          <a:blip r:embed="rId5"/>
          <a:stretch/>
        </p:blipFill>
        <p:spPr>
          <a:xfrm>
            <a:off x="2286000" y="45720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598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8E17-DA5D-4402-A4D4-03484D087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2"/>
          <p:cNvSpPr/>
          <p:nvPr/>
        </p:nvSpPr>
        <p:spPr>
          <a:xfrm>
            <a:off x="6095880" y="1676520"/>
            <a:ext cx="2590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鲜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6400800" y="857160"/>
            <a:ext cx="2743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i</a:t>
            </a:r>
            <a:r>
              <a:rPr b="0" lang="en-US" sz="8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ā</a:t>
            </a:r>
            <a:r>
              <a:rPr b="0" lang="en-US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1066680" y="2209680"/>
            <a:ext cx="259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鱼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2590920" y="2286000"/>
            <a:ext cx="2590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羊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6"/>
          <p:cNvSpPr/>
          <p:nvPr/>
        </p:nvSpPr>
        <p:spPr>
          <a:xfrm>
            <a:off x="4648320" y="3581280"/>
            <a:ext cx="1523880" cy="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7" descr="BD14565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606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D701-FDE7-4838-BEF7-DD6070FED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"/>
          <p:cNvSpPr/>
          <p:nvPr/>
        </p:nvSpPr>
        <p:spPr>
          <a:xfrm>
            <a:off x="5638680" y="1828800"/>
            <a:ext cx="2590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尘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4"/>
          <p:cNvSpPr/>
          <p:nvPr/>
        </p:nvSpPr>
        <p:spPr>
          <a:xfrm>
            <a:off x="5569560" y="685800"/>
            <a:ext cx="3358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h</a:t>
            </a:r>
            <a:r>
              <a:rPr b="0" lang="en-US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é</a:t>
            </a:r>
            <a:r>
              <a:rPr b="0" lang="en-US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6" descr="BD14565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9"/>
          <p:cNvSpPr/>
          <p:nvPr/>
        </p:nvSpPr>
        <p:spPr>
          <a:xfrm>
            <a:off x="990720" y="1066680"/>
            <a:ext cx="2590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小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0"/>
          <p:cNvSpPr/>
          <p:nvPr/>
        </p:nvSpPr>
        <p:spPr>
          <a:xfrm>
            <a:off x="990720" y="3124080"/>
            <a:ext cx="2590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土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1"/>
          <p:cNvSpPr/>
          <p:nvPr/>
        </p:nvSpPr>
        <p:spPr>
          <a:xfrm>
            <a:off x="3124080" y="3505320"/>
            <a:ext cx="2210040" cy="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矩形 19465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A81F-3D9E-4703-AD3C-0DFE24478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Picture 2" descr="BD14565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3"/>
          <p:cNvSpPr/>
          <p:nvPr/>
        </p:nvSpPr>
        <p:spPr>
          <a:xfrm>
            <a:off x="6019920" y="1752480"/>
            <a:ext cx="25905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尖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4"/>
          <p:cNvSpPr/>
          <p:nvPr/>
        </p:nvSpPr>
        <p:spPr>
          <a:xfrm>
            <a:off x="6151680" y="857160"/>
            <a:ext cx="3489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ji</a:t>
            </a:r>
            <a:r>
              <a:rPr b="0" lang="en-US" sz="8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ā</a:t>
            </a:r>
            <a:r>
              <a:rPr b="0" lang="en-US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5"/>
          <p:cNvSpPr/>
          <p:nvPr/>
        </p:nvSpPr>
        <p:spPr>
          <a:xfrm>
            <a:off x="990720" y="1066680"/>
            <a:ext cx="2590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小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6"/>
          <p:cNvSpPr/>
          <p:nvPr/>
        </p:nvSpPr>
        <p:spPr>
          <a:xfrm>
            <a:off x="990720" y="3124080"/>
            <a:ext cx="2590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大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7"/>
          <p:cNvSpPr/>
          <p:nvPr/>
        </p:nvSpPr>
        <p:spPr>
          <a:xfrm>
            <a:off x="3124080" y="3505320"/>
            <a:ext cx="2514600" cy="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3E04-5325-46A0-84F7-7FADECE12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22" descr="耕地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657600" y="1523880"/>
            <a:ext cx="2114640" cy="18003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3" descr="pic003"/>
          <p:cNvPicPr/>
          <p:nvPr/>
        </p:nvPicPr>
        <p:blipFill>
          <a:blip r:embed="rId4"/>
          <a:stretch/>
        </p:blipFill>
        <p:spPr>
          <a:xfrm>
            <a:off x="1066680" y="304920"/>
            <a:ext cx="1028880" cy="102852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4"/>
          <p:cNvSpPr/>
          <p:nvPr/>
        </p:nvSpPr>
        <p:spPr>
          <a:xfrm>
            <a:off x="4414680" y="45720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小组讨论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25"/>
          <p:cNvSpPr/>
          <p:nvPr/>
        </p:nvSpPr>
        <p:spPr>
          <a:xfrm>
            <a:off x="1600200" y="2438280"/>
            <a:ext cx="54144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Picture 27" descr="田力男3"/>
          <p:cNvPicPr/>
          <p:nvPr/>
        </p:nvPicPr>
        <p:blipFill>
          <a:blip r:embed="rId5"/>
          <a:stretch/>
        </p:blipFill>
        <p:spPr>
          <a:xfrm>
            <a:off x="4800600" y="2209680"/>
            <a:ext cx="676440" cy="96516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5" descr="树2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819520" y="3657600"/>
            <a:ext cx="676080" cy="125748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4" descr="树2"/>
          <p:cNvPicPr/>
          <p:nvPr/>
        </p:nvPicPr>
        <p:blipFill>
          <a:blip r:embed="rId8"/>
          <a:stretch/>
        </p:blipFill>
        <p:spPr>
          <a:xfrm>
            <a:off x="6095880" y="3657600"/>
            <a:ext cx="676440" cy="12574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20" descr="树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486400" y="3657600"/>
            <a:ext cx="676440" cy="12574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19" descr="树2"/>
          <p:cNvPicPr/>
          <p:nvPr/>
        </p:nvPicPr>
        <p:blipFill>
          <a:blip r:embed="rId11"/>
          <a:stretch/>
        </p:blipFill>
        <p:spPr>
          <a:xfrm>
            <a:off x="4876920" y="3657600"/>
            <a:ext cx="676080" cy="12574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8" descr="树2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429000" y="3657600"/>
            <a:ext cx="676440" cy="1257480"/>
          </a:xfrm>
          <a:prstGeom prst="rect">
            <a:avLst/>
          </a:prstGeom>
          <a:ln w="0">
            <a:noFill/>
          </a:ln>
        </p:spPr>
      </p:pic>
      <p:sp>
        <p:nvSpPr>
          <p:cNvPr id="635" name="Line 17"/>
          <p:cNvSpPr/>
          <p:nvPr/>
        </p:nvSpPr>
        <p:spPr>
          <a:xfrm>
            <a:off x="6781680" y="4191120"/>
            <a:ext cx="54144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Picture 16" descr="森林1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7315200" y="3657600"/>
            <a:ext cx="1514520" cy="1285920"/>
          </a:xfrm>
          <a:prstGeom prst="rect">
            <a:avLst/>
          </a:prstGeom>
          <a:ln w="0">
            <a:noFill/>
          </a:ln>
        </p:spPr>
      </p:pic>
      <p:sp>
        <p:nvSpPr>
          <p:cNvPr id="637" name="Line 10"/>
          <p:cNvSpPr/>
          <p:nvPr/>
        </p:nvSpPr>
        <p:spPr>
          <a:xfrm>
            <a:off x="5715000" y="5867280"/>
            <a:ext cx="54144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Picture 11" descr="众人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6400800" y="5181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24" descr="火"/>
          <p:cNvPicPr/>
          <p:nvPr/>
        </p:nvPicPr>
        <p:blipFill>
          <a:blip r:embed="rId18"/>
          <a:stretch/>
        </p:blipFill>
        <p:spPr>
          <a:xfrm>
            <a:off x="380880" y="1600200"/>
            <a:ext cx="1152720" cy="14860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3" descr="火灭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2209680" y="1676520"/>
            <a:ext cx="542880" cy="1199880"/>
          </a:xfrm>
          <a:prstGeom prst="rect">
            <a:avLst/>
          </a:prstGeom>
          <a:ln w="0">
            <a:noFill/>
          </a:ln>
        </p:spPr>
      </p:pic>
      <p:sp>
        <p:nvSpPr>
          <p:cNvPr id="641" name="Rectangle 31"/>
          <p:cNvSpPr/>
          <p:nvPr/>
        </p:nvSpPr>
        <p:spPr>
          <a:xfrm>
            <a:off x="0" y="15238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Picture 21" descr="休息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7010280" y="1371600"/>
            <a:ext cx="1409760" cy="20764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2" descr="手2"/>
          <p:cNvPicPr/>
          <p:nvPr/>
        </p:nvPicPr>
        <p:blipFill>
          <a:blip r:embed="rId23"/>
          <a:stretch/>
        </p:blipFill>
        <p:spPr>
          <a:xfrm>
            <a:off x="914400" y="3505320"/>
            <a:ext cx="1219320" cy="94284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9" descr="人1"/>
          <p:cNvPicPr/>
          <p:nvPr/>
        </p:nvPicPr>
        <p:blipFill>
          <a:blip r:embed="rId24"/>
          <a:stretch/>
        </p:blipFill>
        <p:spPr>
          <a:xfrm>
            <a:off x="3657600" y="5334120"/>
            <a:ext cx="638280" cy="12286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8" descr="人1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1981080" y="5334120"/>
            <a:ext cx="638280" cy="12286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7" descr="人1"/>
          <p:cNvPicPr/>
          <p:nvPr/>
        </p:nvPicPr>
        <p:blipFill>
          <a:blip r:embed="rId27"/>
          <a:stretch/>
        </p:blipFill>
        <p:spPr>
          <a:xfrm>
            <a:off x="5029200" y="5334120"/>
            <a:ext cx="638280" cy="12286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6" descr="人1"/>
          <p:cNvPicPr/>
          <p:nvPr/>
        </p:nvPicPr>
        <p:blipFill>
          <a:blip r:embed="rId28"/>
          <a:stretch/>
        </p:blipFill>
        <p:spPr>
          <a:xfrm>
            <a:off x="4343400" y="5334120"/>
            <a:ext cx="638280" cy="12286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人1"/>
          <p:cNvPicPr/>
          <p:nvPr/>
        </p:nvPicPr>
        <p:blipFill>
          <a:blip r:embed="rId29"/>
          <a:stretch/>
        </p:blipFill>
        <p:spPr>
          <a:xfrm>
            <a:off x="1295280" y="5334120"/>
            <a:ext cx="638280" cy="1228680"/>
          </a:xfrm>
          <a:prstGeom prst="rect">
            <a:avLst/>
          </a:prstGeom>
          <a:ln w="0">
            <a:noFill/>
          </a:ln>
        </p:spPr>
      </p:pic>
      <p:sp>
        <p:nvSpPr>
          <p:cNvPr id="649" name="Line 26"/>
          <p:cNvSpPr/>
          <p:nvPr/>
        </p:nvSpPr>
        <p:spPr>
          <a:xfrm>
            <a:off x="457200" y="1981080"/>
            <a:ext cx="10825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13" descr="眼睛2"/>
          <p:cNvPicPr/>
          <p:nvPr/>
        </p:nvPicPr>
        <p:blipFill>
          <a:blip r:embed="rId30"/>
          <a:stretch/>
        </p:blipFill>
        <p:spPr>
          <a:xfrm>
            <a:off x="838080" y="4267080"/>
            <a:ext cx="1295640" cy="77148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80520" y="137160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38"/>
          <p:cNvSpPr/>
          <p:nvPr/>
        </p:nvSpPr>
        <p:spPr>
          <a:xfrm>
            <a:off x="3028320" y="129528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39"/>
          <p:cNvSpPr/>
          <p:nvPr/>
        </p:nvSpPr>
        <p:spPr>
          <a:xfrm>
            <a:off x="6381000" y="129528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40"/>
          <p:cNvSpPr/>
          <p:nvPr/>
        </p:nvSpPr>
        <p:spPr>
          <a:xfrm>
            <a:off x="285120" y="335268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41"/>
          <p:cNvSpPr/>
          <p:nvPr/>
        </p:nvSpPr>
        <p:spPr>
          <a:xfrm>
            <a:off x="2266200" y="327672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42"/>
          <p:cNvSpPr/>
          <p:nvPr/>
        </p:nvSpPr>
        <p:spPr>
          <a:xfrm>
            <a:off x="4399920" y="342900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43"/>
          <p:cNvSpPr/>
          <p:nvPr/>
        </p:nvSpPr>
        <p:spPr>
          <a:xfrm>
            <a:off x="380520" y="530064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44"/>
          <p:cNvSpPr/>
          <p:nvPr/>
        </p:nvSpPr>
        <p:spPr>
          <a:xfrm>
            <a:off x="2952000" y="525780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AutoShape 45">
            <a:hlinkClick r:id="rId31" action="ppaction://hlinksldjump"/>
          </p:cNvPr>
          <p:cNvSpPr/>
          <p:nvPr/>
        </p:nvSpPr>
        <p:spPr>
          <a:xfrm>
            <a:off x="8352000" y="6283440"/>
            <a:ext cx="792000" cy="5745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9769" h="21600">
                <a:moveTo>
                  <a:pt x="0" y="0"/>
                </a:moveTo>
                <a:lnTo>
                  <a:pt x="29769" y="0"/>
                </a:lnTo>
                <a:lnTo>
                  <a:pt x="29769" y="21600"/>
                </a:lnTo>
                <a:lnTo>
                  <a:pt x="0" y="21600"/>
                </a:lnTo>
                <a:close/>
              </a:path>
              <a:path fill="lightenLess" w="29769" h="21600">
                <a:moveTo>
                  <a:pt x="0" y="0"/>
                </a:moveTo>
                <a:lnTo>
                  <a:pt x="29769" y="0"/>
                </a:lnTo>
                <a:lnTo>
                  <a:pt x="28369" y="1400"/>
                </a:lnTo>
                <a:lnTo>
                  <a:pt x="1400" y="1400"/>
                </a:lnTo>
                <a:close/>
              </a:path>
              <a:path fill="darken" w="29769" h="21600">
                <a:moveTo>
                  <a:pt x="29769" y="0"/>
                </a:moveTo>
                <a:lnTo>
                  <a:pt x="29769" y="21600"/>
                </a:lnTo>
                <a:lnTo>
                  <a:pt x="28369" y="20200"/>
                </a:lnTo>
                <a:lnTo>
                  <a:pt x="28369" y="1400"/>
                </a:lnTo>
                <a:close/>
              </a:path>
              <a:path fill="darkenLess" w="29769" h="21600">
                <a:moveTo>
                  <a:pt x="2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69" y="20200"/>
                </a:lnTo>
                <a:close/>
              </a:path>
              <a:path fill="lighten" w="2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69" h="21600">
                <a:moveTo>
                  <a:pt x="7878" y="3794"/>
                </a:moveTo>
                <a:lnTo>
                  <a:pt x="21891" y="10800"/>
                </a:lnTo>
                <a:lnTo>
                  <a:pt x="7878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读一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页脚占位符 3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DF3D-3254-4003-A380-F815B4B87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Picture 2" descr="BD14565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663" name="Line 3"/>
          <p:cNvSpPr/>
          <p:nvPr/>
        </p:nvSpPr>
        <p:spPr>
          <a:xfrm>
            <a:off x="4114800" y="1981080"/>
            <a:ext cx="1271520" cy="32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Picture 4" descr="火"/>
          <p:cNvPicPr/>
          <p:nvPr/>
        </p:nvPicPr>
        <p:blipFill>
          <a:blip r:embed="rId4"/>
          <a:stretch/>
        </p:blipFill>
        <p:spPr>
          <a:xfrm>
            <a:off x="2590920" y="990720"/>
            <a:ext cx="1417680" cy="182880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5" descr="火灭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638680" y="1219320"/>
            <a:ext cx="654120" cy="1447560"/>
          </a:xfrm>
          <a:prstGeom prst="rect">
            <a:avLst/>
          </a:prstGeom>
          <a:ln w="0">
            <a:noFill/>
          </a:ln>
        </p:spPr>
      </p:pic>
      <p:sp>
        <p:nvSpPr>
          <p:cNvPr id="666" name="Line 6"/>
          <p:cNvSpPr/>
          <p:nvPr/>
        </p:nvSpPr>
        <p:spPr>
          <a:xfrm>
            <a:off x="2743200" y="1143000"/>
            <a:ext cx="10666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7"/>
          <p:cNvSpPr/>
          <p:nvPr/>
        </p:nvSpPr>
        <p:spPr>
          <a:xfrm>
            <a:off x="2779200" y="4267080"/>
            <a:ext cx="3350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火　灭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8"/>
          <p:cNvSpPr/>
          <p:nvPr/>
        </p:nvSpPr>
        <p:spPr>
          <a:xfrm>
            <a:off x="5639760" y="3429000"/>
            <a:ext cx="1557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miè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" name="Picture 9" descr="pic019"/>
          <p:cNvPicPr/>
          <p:nvPr/>
        </p:nvPicPr>
        <p:blipFill>
          <a:blip r:embed="rId7"/>
          <a:stretch/>
        </p:blipFill>
        <p:spPr>
          <a:xfrm>
            <a:off x="228600" y="3049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670" name="AutoShape 11">
            <a:hlinkClick r:id="rId8" action="ppaction://hlinksldjump"/>
          </p:cNvPr>
          <p:cNvSpPr/>
          <p:nvPr/>
        </p:nvSpPr>
        <p:spPr>
          <a:xfrm>
            <a:off x="5508720" y="6308640"/>
            <a:ext cx="792000" cy="5493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34" y="1400"/>
                </a:lnTo>
                <a:lnTo>
                  <a:pt x="1400" y="140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34" y="20200"/>
                </a:lnTo>
                <a:lnTo>
                  <a:pt x="29734" y="140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4" y="2020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4" h="21600">
                <a:moveTo>
                  <a:pt x="8561" y="10800"/>
                </a:moveTo>
                <a:lnTo>
                  <a:pt x="22573" y="3794"/>
                </a:lnTo>
                <a:lnTo>
                  <a:pt x="2257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页脚占位符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3:12:57Z</dcterms:created>
  <dc:creator/>
  <dc:description/>
  <dc:language>en-US</dc:language>
  <cp:lastModifiedBy>User</cp:lastModifiedBy>
  <dcterms:modified xsi:type="dcterms:W3CDTF">2016-10-05T14:43:05Z</dcterms:modified>
  <cp:revision>7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</Properties>
</file>