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jpeg" ContentType="image/jpeg"/>
  <Override PartName="/ppt/media/image5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4.jpeg" ContentType="image/jpeg"/>
  <Override PartName="/ppt/media/image3.jpeg" ContentType="image/jpeg"/>
  <Override PartName="/ppt/media/image24.jpeg" ContentType="image/jpeg"/>
  <Override PartName="/ppt/media/image6.jpeg" ContentType="image/jpeg"/>
  <Override PartName="/ppt/media/image10.png" ContentType="image/png"/>
  <Override PartName="/ppt/media/image23.png" ContentType="image/png"/>
  <Override PartName="/ppt/media/image19.jpeg" ContentType="image/jpeg"/>
  <Override PartName="/ppt/media/image22.png" ContentType="image/png"/>
  <Override PartName="/ppt/media/image21.jpeg" ContentType="image/jpeg"/>
  <Override PartName="/ppt/media/image2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4.png" ContentType="image/png"/>
  <Override PartName="/ppt/media/image13.png" ContentType="image/png"/>
  <Override PartName="/ppt/media/image16.jpeg" ContentType="image/jpeg"/>
  <Override PartName="/ppt/media/chimes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图片 1028" descr="logo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你有，我有，他也有。黑身黑腿黑黑头，灯前月下跟你走，就是从来不开口。我走它也走，我停它也停，光弱它不在，光强它显形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776160" y="685800"/>
            <a:ext cx="7772400" cy="39751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文本框 2"/>
          <p:cNvSpPr/>
          <p:nvPr/>
        </p:nvSpPr>
        <p:spPr>
          <a:xfrm>
            <a:off x="1231920" y="4994280"/>
            <a:ext cx="348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前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3"/>
          <p:cNvSpPr/>
          <p:nvPr/>
        </p:nvSpPr>
        <p:spPr>
          <a:xfrm>
            <a:off x="4981680" y="4994280"/>
            <a:ext cx="370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后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24000" y="907920"/>
            <a:ext cx="8458200" cy="3429000"/>
          </a:xfrm>
          <a:prstGeom prst="rect">
            <a:avLst/>
          </a:prstGeom>
          <a:ln w="0">
            <a:noFill/>
          </a:ln>
        </p:spPr>
      </p:pic>
      <p:sp>
        <p:nvSpPr>
          <p:cNvPr id="112" name="文本框 2"/>
          <p:cNvSpPr/>
          <p:nvPr/>
        </p:nvSpPr>
        <p:spPr>
          <a:xfrm>
            <a:off x="716040" y="4336920"/>
            <a:ext cx="3417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左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文本框 1"/>
          <p:cNvSpPr/>
          <p:nvPr/>
        </p:nvSpPr>
        <p:spPr>
          <a:xfrm>
            <a:off x="4743360" y="4336920"/>
            <a:ext cx="344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右边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等腰三角形 3"/>
          <p:cNvSpPr/>
          <p:nvPr/>
        </p:nvSpPr>
        <p:spPr>
          <a:xfrm>
            <a:off x="3821040" y="2928960"/>
            <a:ext cx="1295640" cy="1440000"/>
          </a:xfrm>
          <a:prstGeom prst="triangle">
            <a:avLst>
              <a:gd name="adj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笑脸 4"/>
          <p:cNvSpPr/>
          <p:nvPr/>
        </p:nvSpPr>
        <p:spPr>
          <a:xfrm>
            <a:off x="3821040" y="2146320"/>
            <a:ext cx="1295640" cy="1368360"/>
          </a:xfrm>
          <a:prstGeom prst="smileyFace">
            <a:avLst>
              <a:gd name="adj" fmla="val 4653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2832120" y="4819680"/>
            <a:ext cx="3479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前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6"/>
          <p:cNvSpPr/>
          <p:nvPr/>
        </p:nvSpPr>
        <p:spPr>
          <a:xfrm>
            <a:off x="2727360" y="503280"/>
            <a:ext cx="348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后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63400" y="2490840"/>
            <a:ext cx="3481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左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8"/>
          <p:cNvSpPr/>
          <p:nvPr/>
        </p:nvSpPr>
        <p:spPr>
          <a:xfrm>
            <a:off x="5734080" y="2490840"/>
            <a:ext cx="3481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楷体"/>
                <a:ea typeface="华文楷体"/>
              </a:rPr>
              <a:t>右面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2209680" y="609480"/>
            <a:ext cx="556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在前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在后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常常跟着我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就像一条小黑狗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4000320" y="6094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3999600" y="12952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Text Box 11"/>
          <p:cNvSpPr/>
          <p:nvPr/>
        </p:nvSpPr>
        <p:spPr>
          <a:xfrm>
            <a:off x="4459320" y="2590920"/>
            <a:ext cx="2703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小黑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ctangle 13"/>
          <p:cNvSpPr/>
          <p:nvPr/>
        </p:nvSpPr>
        <p:spPr>
          <a:xfrm>
            <a:off x="4419720" y="198108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跟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1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矩形 3" descr=""/>
          <p:cNvPicPr/>
          <p:nvPr/>
        </p:nvPicPr>
        <p:blipFill>
          <a:blip r:embed="rId1"/>
          <a:stretch/>
        </p:blipFill>
        <p:spPr>
          <a:xfrm>
            <a:off x="2581200" y="1852560"/>
            <a:ext cx="5410440" cy="450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矩形 3" descr=""/>
          <p:cNvPicPr/>
          <p:nvPr/>
        </p:nvPicPr>
        <p:blipFill>
          <a:blip r:embed="rId1"/>
          <a:stretch/>
        </p:blipFill>
        <p:spPr>
          <a:xfrm>
            <a:off x="2568600" y="1600200"/>
            <a:ext cx="5408640" cy="450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5"/>
          <p:cNvSpPr/>
          <p:nvPr/>
        </p:nvSpPr>
        <p:spPr>
          <a:xfrm>
            <a:off x="2023920" y="1612800"/>
            <a:ext cx="5943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左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右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常常陪着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我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它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是我的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楷体_GB2312"/>
              </a:rPr>
              <a:t>好朋友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3"/>
          <p:cNvSpPr/>
          <p:nvPr/>
        </p:nvSpPr>
        <p:spPr>
          <a:xfrm>
            <a:off x="741240" y="104292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他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Text Box 4"/>
          <p:cNvSpPr/>
          <p:nvPr/>
        </p:nvSpPr>
        <p:spPr>
          <a:xfrm>
            <a:off x="814320" y="2595600"/>
            <a:ext cx="637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她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3372480" y="1042920"/>
            <a:ext cx="1697040" cy="31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它</a:t>
            </a:r>
            <a:endParaRPr b="0" lang="en-US" sz="19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文本框 1"/>
          <p:cNvSpPr/>
          <p:nvPr/>
        </p:nvSpPr>
        <p:spPr>
          <a:xfrm>
            <a:off x="2784600" y="4397400"/>
            <a:ext cx="3574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Calibri"/>
              </a:rPr>
              <a:t>宝盖头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3571560" y="1600200"/>
            <a:ext cx="20019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好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WordArt 4"/>
          <p:cNvSpPr txBox="1"/>
          <p:nvPr/>
        </p:nvSpPr>
        <p:spPr>
          <a:xfrm>
            <a:off x="2544840" y="4075200"/>
            <a:ext cx="341928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solidFill>
                  <a:srgbClr val="ff0000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月字旁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solidFill>
                <a:srgbClr val="ff0000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42" name="WordArt 4"/>
          <p:cNvSpPr txBox="1"/>
          <p:nvPr/>
        </p:nvSpPr>
        <p:spPr>
          <a:xfrm>
            <a:off x="2444760" y="1789200"/>
            <a:ext cx="3419640" cy="1542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好朋友</a:t>
            </a:r>
            <a:endParaRPr b="1" lang="en-US" sz="5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图片1"/>
          <p:cNvPicPr/>
          <p:nvPr/>
        </p:nvPicPr>
        <p:blipFill>
          <a:blip r:embed="rId1"/>
          <a:srcRect l="4188" t="430" r="0" b="0"/>
          <a:stretch/>
        </p:blipFill>
        <p:spPr>
          <a:xfrm>
            <a:off x="324000" y="907920"/>
            <a:ext cx="8820000" cy="4724640"/>
          </a:xfrm>
          <a:prstGeom prst="rect">
            <a:avLst/>
          </a:prstGeom>
          <a:ln w="0">
            <a:noFill/>
          </a:ln>
        </p:spPr>
      </p:pic>
      <p:sp>
        <p:nvSpPr>
          <p:cNvPr id="42" name="Freeform 3"/>
          <p:cNvSpPr/>
          <p:nvPr/>
        </p:nvSpPr>
        <p:spPr>
          <a:xfrm>
            <a:off x="1692360" y="4076640"/>
            <a:ext cx="3841560" cy="1919520"/>
          </a:xfrm>
          <a:custGeom>
            <a:avLst/>
            <a:gdLst/>
            <a:ahLst/>
            <a:rect l="l" t="t" r="r" b="b"/>
            <a:pathLst>
              <a:path w="2420" h="1209">
                <a:moveTo>
                  <a:pt x="144" y="778"/>
                </a:moveTo>
                <a:cubicBezTo>
                  <a:pt x="212" y="740"/>
                  <a:pt x="334" y="710"/>
                  <a:pt x="417" y="687"/>
                </a:cubicBezTo>
                <a:cubicBezTo>
                  <a:pt x="500" y="664"/>
                  <a:pt x="605" y="672"/>
                  <a:pt x="643" y="642"/>
                </a:cubicBezTo>
                <a:cubicBezTo>
                  <a:pt x="681" y="612"/>
                  <a:pt x="635" y="536"/>
                  <a:pt x="643" y="506"/>
                </a:cubicBezTo>
                <a:cubicBezTo>
                  <a:pt x="651" y="476"/>
                  <a:pt x="613" y="468"/>
                  <a:pt x="689" y="460"/>
                </a:cubicBezTo>
                <a:cubicBezTo>
                  <a:pt x="765" y="452"/>
                  <a:pt x="1022" y="467"/>
                  <a:pt x="1097" y="460"/>
                </a:cubicBezTo>
                <a:cubicBezTo>
                  <a:pt x="1172" y="453"/>
                  <a:pt x="1112" y="438"/>
                  <a:pt x="1142" y="415"/>
                </a:cubicBezTo>
                <a:cubicBezTo>
                  <a:pt x="1172" y="392"/>
                  <a:pt x="1195" y="362"/>
                  <a:pt x="1278" y="324"/>
                </a:cubicBezTo>
                <a:cubicBezTo>
                  <a:pt x="1361" y="286"/>
                  <a:pt x="1513" y="233"/>
                  <a:pt x="1641" y="188"/>
                </a:cubicBezTo>
                <a:cubicBezTo>
                  <a:pt x="1769" y="143"/>
                  <a:pt x="1936" y="82"/>
                  <a:pt x="2049" y="52"/>
                </a:cubicBezTo>
                <a:cubicBezTo>
                  <a:pt x="2162" y="22"/>
                  <a:pt x="2269" y="0"/>
                  <a:pt x="2322" y="7"/>
                </a:cubicBezTo>
                <a:cubicBezTo>
                  <a:pt x="2375" y="14"/>
                  <a:pt x="2420" y="44"/>
                  <a:pt x="2367" y="97"/>
                </a:cubicBezTo>
                <a:cubicBezTo>
                  <a:pt x="2314" y="150"/>
                  <a:pt x="2095" y="264"/>
                  <a:pt x="2004" y="324"/>
                </a:cubicBezTo>
                <a:cubicBezTo>
                  <a:pt x="1913" y="384"/>
                  <a:pt x="1853" y="422"/>
                  <a:pt x="1823" y="460"/>
                </a:cubicBezTo>
                <a:cubicBezTo>
                  <a:pt x="1793" y="498"/>
                  <a:pt x="1778" y="551"/>
                  <a:pt x="1823" y="551"/>
                </a:cubicBezTo>
                <a:cubicBezTo>
                  <a:pt x="1868" y="551"/>
                  <a:pt x="2042" y="430"/>
                  <a:pt x="2095" y="460"/>
                </a:cubicBezTo>
                <a:cubicBezTo>
                  <a:pt x="2148" y="490"/>
                  <a:pt x="2155" y="679"/>
                  <a:pt x="2140" y="732"/>
                </a:cubicBezTo>
                <a:cubicBezTo>
                  <a:pt x="2125" y="785"/>
                  <a:pt x="2034" y="763"/>
                  <a:pt x="2004" y="778"/>
                </a:cubicBezTo>
                <a:cubicBezTo>
                  <a:pt x="1974" y="793"/>
                  <a:pt x="1982" y="823"/>
                  <a:pt x="1959" y="823"/>
                </a:cubicBezTo>
                <a:cubicBezTo>
                  <a:pt x="1936" y="823"/>
                  <a:pt x="1936" y="763"/>
                  <a:pt x="1868" y="778"/>
                </a:cubicBezTo>
                <a:cubicBezTo>
                  <a:pt x="1800" y="793"/>
                  <a:pt x="1671" y="899"/>
                  <a:pt x="1550" y="914"/>
                </a:cubicBezTo>
                <a:cubicBezTo>
                  <a:pt x="1429" y="929"/>
                  <a:pt x="1217" y="845"/>
                  <a:pt x="1142" y="868"/>
                </a:cubicBezTo>
                <a:cubicBezTo>
                  <a:pt x="1067" y="891"/>
                  <a:pt x="1157" y="997"/>
                  <a:pt x="1097" y="1050"/>
                </a:cubicBezTo>
                <a:cubicBezTo>
                  <a:pt x="1037" y="1103"/>
                  <a:pt x="907" y="1163"/>
                  <a:pt x="779" y="1186"/>
                </a:cubicBezTo>
                <a:cubicBezTo>
                  <a:pt x="651" y="1209"/>
                  <a:pt x="439" y="1193"/>
                  <a:pt x="326" y="1186"/>
                </a:cubicBezTo>
                <a:cubicBezTo>
                  <a:pt x="213" y="1179"/>
                  <a:pt x="152" y="1186"/>
                  <a:pt x="99" y="1141"/>
                </a:cubicBezTo>
                <a:cubicBezTo>
                  <a:pt x="46" y="1096"/>
                  <a:pt x="0" y="974"/>
                  <a:pt x="8" y="914"/>
                </a:cubicBezTo>
                <a:cubicBezTo>
                  <a:pt x="16" y="854"/>
                  <a:pt x="76" y="816"/>
                  <a:pt x="144" y="778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3" name="Group 4"/>
          <p:cNvGrpSpPr/>
          <p:nvPr/>
        </p:nvGrpSpPr>
        <p:grpSpPr>
          <a:xfrm>
            <a:off x="5724360" y="3357720"/>
            <a:ext cx="3024000" cy="1368360"/>
            <a:chOff x="5724360" y="3357720"/>
            <a:chExt cx="3024000" cy="1368360"/>
          </a:xfrm>
        </p:grpSpPr>
        <p:sp>
          <p:nvSpPr>
            <p:cNvPr id="44" name="AutoShape 5"/>
            <p:cNvSpPr/>
            <p:nvPr/>
          </p:nvSpPr>
          <p:spPr>
            <a:xfrm>
              <a:off x="5724360" y="3357720"/>
              <a:ext cx="3024000" cy="1368360"/>
            </a:xfrm>
            <a:prstGeom prst="wedgeRectCallout">
              <a:avLst>
                <a:gd name="adj1" fmla="val -122074"/>
                <a:gd name="adj2" fmla="val 981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" name="Text Box 6"/>
            <p:cNvSpPr/>
            <p:nvPr/>
          </p:nvSpPr>
          <p:spPr>
            <a:xfrm>
              <a:off x="5795640" y="3463920"/>
              <a:ext cx="295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6561f"/>
                  </a:solidFill>
                  <a:latin typeface="Arial"/>
                  <a:ea typeface="楷体_GB2312"/>
                </a:rPr>
                <a:t>       </a:t>
              </a:r>
              <a:r>
                <a:rPr b="1" lang="zh-CN" sz="3600" spc="-1" strike="noStrike">
                  <a:solidFill>
                    <a:srgbClr val="06561f"/>
                  </a:solidFill>
                  <a:latin typeface="Arial"/>
                  <a:ea typeface="楷体_GB2312"/>
                </a:rPr>
                <a:t>知道这是什么吗？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6" name="Text Box 7"/>
          <p:cNvSpPr/>
          <p:nvPr/>
        </p:nvSpPr>
        <p:spPr>
          <a:xfrm>
            <a:off x="7926840" y="1125360"/>
            <a:ext cx="7293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8722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楷体_GB2312"/>
              </a:rPr>
              <a:t>影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 Box 8"/>
          <p:cNvSpPr/>
          <p:nvPr/>
        </p:nvSpPr>
        <p:spPr>
          <a:xfrm>
            <a:off x="6948360" y="5516640"/>
            <a:ext cx="107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 Box 9"/>
          <p:cNvSpPr/>
          <p:nvPr/>
        </p:nvSpPr>
        <p:spPr>
          <a:xfrm>
            <a:off x="7596360" y="5516640"/>
            <a:ext cx="71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子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wheel spokes="8"/>
    <p:sndAc>
      <p:stSnd>
        <p:snd r:embed="rId2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dur="indefinite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3571560" y="1600200"/>
            <a:ext cx="2001960" cy="37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900" spc="-1" strike="noStrike">
                <a:solidFill>
                  <a:srgbClr val="cc0000"/>
                </a:solidFill>
                <a:latin typeface="楷体_GB2312"/>
                <a:ea typeface="楷体_GB2312"/>
              </a:rPr>
              <a:t>友</a:t>
            </a:r>
            <a:endParaRPr b="0" lang="en-US" sz="23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9995"/>
          <p:cNvPicPr/>
          <p:nvPr/>
        </p:nvPicPr>
        <p:blipFill>
          <a:blip r:embed="rId1"/>
          <a:stretch/>
        </p:blipFill>
        <p:spPr>
          <a:xfrm>
            <a:off x="-612720" y="-290520"/>
            <a:ext cx="10439280" cy="723888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3"/>
          <p:cNvSpPr/>
          <p:nvPr/>
        </p:nvSpPr>
        <p:spPr>
          <a:xfrm>
            <a:off x="838080" y="1066680"/>
            <a:ext cx="129564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好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它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朋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2"/>
          <a:stretch/>
        </p:blipFill>
        <p:spPr>
          <a:xfrm>
            <a:off x="2819520" y="3048120"/>
            <a:ext cx="1447560" cy="618840"/>
          </a:xfrm>
          <a:prstGeom prst="rect">
            <a:avLst/>
          </a:prstGeom>
          <a:ln w="0">
            <a:noFill/>
          </a:ln>
        </p:spPr>
      </p:pic>
      <p:grpSp>
        <p:nvGrpSpPr>
          <p:cNvPr id="149" name=""/>
          <p:cNvGrpSpPr/>
          <p:nvPr/>
        </p:nvGrpSpPr>
        <p:grpSpPr>
          <a:xfrm>
            <a:off x="2057400" y="1752480"/>
            <a:ext cx="762120" cy="368280"/>
            <a:chOff x="2057400" y="1752480"/>
            <a:chExt cx="762120" cy="368280"/>
          </a:xfrm>
        </p:grpSpPr>
        <p:sp>
          <p:nvSpPr>
            <p:cNvPr id="150" name="Line 6"/>
            <p:cNvSpPr/>
            <p:nvPr/>
          </p:nvSpPr>
          <p:spPr>
            <a:xfrm>
              <a:off x="2057400" y="1752480"/>
              <a:ext cx="762120" cy="0"/>
            </a:xfrm>
            <a:prstGeom prst="line">
              <a:avLst/>
            </a:prstGeom>
            <a:ln cap="sq" w="76320">
              <a:solidFill>
                <a:srgbClr val="000099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"/>
            <p:cNvSpPr txBox="1"/>
            <p:nvPr/>
          </p:nvSpPr>
          <p:spPr>
            <a:xfrm>
              <a:off x="2057400" y="17524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2057400" y="3429000"/>
            <a:ext cx="762120" cy="368280"/>
            <a:chOff x="2057400" y="3429000"/>
            <a:chExt cx="762120" cy="368280"/>
          </a:xfrm>
        </p:grpSpPr>
        <p:sp>
          <p:nvSpPr>
            <p:cNvPr id="153" name="Line 7"/>
            <p:cNvSpPr/>
            <p:nvPr/>
          </p:nvSpPr>
          <p:spPr>
            <a:xfrm>
              <a:off x="2057400" y="3429000"/>
              <a:ext cx="762120" cy="0"/>
            </a:xfrm>
            <a:prstGeom prst="line">
              <a:avLst/>
            </a:prstGeom>
            <a:ln cap="sq" w="76320">
              <a:solidFill>
                <a:srgbClr val="000099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2057400" y="342900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55" name="Text Box 8"/>
          <p:cNvSpPr/>
          <p:nvPr/>
        </p:nvSpPr>
        <p:spPr>
          <a:xfrm>
            <a:off x="3962520" y="1447920"/>
            <a:ext cx="2666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女字旁）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 Box 9"/>
          <p:cNvSpPr/>
          <p:nvPr/>
        </p:nvSpPr>
        <p:spPr>
          <a:xfrm>
            <a:off x="3962520" y="3200400"/>
            <a:ext cx="291456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宝盖头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（月字旁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7" name="Picture 2" descr=""/>
          <p:cNvPicPr/>
          <p:nvPr/>
        </p:nvPicPr>
        <p:blipFill>
          <a:blip r:embed="rId3"/>
          <a:stretch/>
        </p:blipFill>
        <p:spPr>
          <a:xfrm>
            <a:off x="2909880" y="1263600"/>
            <a:ext cx="1019160" cy="1009800"/>
          </a:xfrm>
          <a:prstGeom prst="rect">
            <a:avLst/>
          </a:prstGeom>
          <a:ln w="0">
            <a:noFill/>
          </a:ln>
        </p:spPr>
      </p:pic>
      <p:grpSp>
        <p:nvGrpSpPr>
          <p:cNvPr id="158" name=""/>
          <p:cNvGrpSpPr/>
          <p:nvPr/>
        </p:nvGrpSpPr>
        <p:grpSpPr>
          <a:xfrm>
            <a:off x="2057400" y="4941720"/>
            <a:ext cx="762120" cy="368280"/>
            <a:chOff x="2057400" y="4941720"/>
            <a:chExt cx="762120" cy="368280"/>
          </a:xfrm>
        </p:grpSpPr>
        <p:sp>
          <p:nvSpPr>
            <p:cNvPr id="159" name="Line 7"/>
            <p:cNvSpPr/>
            <p:nvPr/>
          </p:nvSpPr>
          <p:spPr>
            <a:xfrm>
              <a:off x="2057400" y="4941720"/>
              <a:ext cx="762120" cy="0"/>
            </a:xfrm>
            <a:prstGeom prst="line">
              <a:avLst/>
            </a:prstGeom>
            <a:ln cap="sq" w="76320">
              <a:solidFill>
                <a:srgbClr val="000099"/>
              </a:solidFill>
              <a:round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"/>
            <p:cNvSpPr txBox="1"/>
            <p:nvPr/>
          </p:nvSpPr>
          <p:spPr>
            <a:xfrm>
              <a:off x="2057400" y="494172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1" name="TextBox 1"/>
          <p:cNvSpPr/>
          <p:nvPr/>
        </p:nvSpPr>
        <p:spPr>
          <a:xfrm>
            <a:off x="2909880" y="4292640"/>
            <a:ext cx="1357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0000"/>
                </a:solidFill>
                <a:latin typeface="华文楷体"/>
                <a:ea typeface="华文楷体"/>
              </a:rPr>
              <a:t>月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4"/>
          <p:cNvSpPr/>
          <p:nvPr/>
        </p:nvSpPr>
        <p:spPr>
          <a:xfrm>
            <a:off x="569880" y="795240"/>
            <a:ext cx="5562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在（  ）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在（  ）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常常（  ）我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就像一条（   ）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Text Box 5"/>
          <p:cNvSpPr/>
          <p:nvPr/>
        </p:nvSpPr>
        <p:spPr>
          <a:xfrm>
            <a:off x="569880" y="3567240"/>
            <a:ext cx="5943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在（    ）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在（   ）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常常（    ）我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它是我的（     ）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Text Box 6"/>
          <p:cNvSpPr/>
          <p:nvPr/>
        </p:nvSpPr>
        <p:spPr>
          <a:xfrm>
            <a:off x="8204040" y="19810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前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7761960" y="328284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5145840" y="121932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左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5685480" y="1981080"/>
            <a:ext cx="51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右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 Box 10"/>
          <p:cNvSpPr/>
          <p:nvPr/>
        </p:nvSpPr>
        <p:spPr>
          <a:xfrm>
            <a:off x="6513480" y="2521080"/>
            <a:ext cx="3048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陪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 Box 11"/>
          <p:cNvSpPr/>
          <p:nvPr/>
        </p:nvSpPr>
        <p:spPr>
          <a:xfrm>
            <a:off x="6643800" y="4378320"/>
            <a:ext cx="270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小黑狗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2"/>
          <p:cNvSpPr/>
          <p:nvPr/>
        </p:nvSpPr>
        <p:spPr>
          <a:xfrm>
            <a:off x="5307120" y="3749760"/>
            <a:ext cx="308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好朋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3"/>
          <p:cNvSpPr/>
          <p:nvPr/>
        </p:nvSpPr>
        <p:spPr>
          <a:xfrm>
            <a:off x="6643800" y="1371600"/>
            <a:ext cx="2438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跟着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008264 0 L -0.019306 0 L -0.028958 0 L -0.045417 -0.001852 L -0.056458 -0.003611 L -0.074375 -0.009167 L -0.085347 -0.011019 L -0.104583 -0.01463 L -0.114236 -0.018333 L -0.126667 -0.020185 L -0.140417 -0.025648 L -0.151389 -0.029352 L -0.159653 -0.032963 L -0.177569 -0.04037 L -0.187153 -0.043981 L -0.203681 -0.053148 L -0.217431 -0.058704 L -0.236736 -0.069722 L -0.249097 -0.075185 L -0.261528 -0.0825 L -0.269722 -0.086204 L -0.283542 -0.09537 L -0.294514 -0.102685 L -0.311042 -0.108241 L -0.319306 -0.113704 L -0.334444 -0.12287 L -0.344097 -0.128426 L -0.356458 -0.135741 L -0.364722 -0.143056 L -0.372986 -0.148611 L -0.386736 -0.157778 L -0.396389 -0.165093 L -0.40875 -0.174259 L -0.419722 -0.183426 L -0.433542 -0.190833 L -0.444514 -0.196296 L -0.458264 -0.205463 L -0.474792 -0.21463 L -0.483056 -0.218333 L -0.492708 -0.222037 L -0.503681 -0.222037 L -0.513333 -0.225648 L -0.521597 -0.225648 L -0.533958 -0.225648 L -0.542222 -0.225648 L -0.550486 -0.218333 L -0.554583 -0.207315 E">
                                      <p:cBhvr>
                                        <p:cTn id="236" dur="2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264 0.005093 L -0.051528 -0.000463 L -0.061111 -0.005926 L -0.070764 -0.00963 L -0.084514 -0.018796 L -0.092778 -0.020648 L -0.101042 -0.026111 L -0.110694 -0.031667 L -0.120278 -0.03713 L -0.131319 -0.042685 L -0.150556 -0.05 L -0.168472 -0.061019 L -0.183611 -0.070185 L -0.200139 -0.079352 L -0.211111 -0.086667 L -0.222153 -0.093981 L -0.230417 -0.099537 L -0.241389 -0.106852 L -0.251042 -0.114167 L -0.259306 -0.121574 L -0.270278 -0.128889 L -0.278542 -0.134352 L -0.288194 -0.141759 L -0.299167 -0.149074 L -0.308819 -0.160093 L -0.317083 -0.167407 L -0.328125 -0.174722 L -0.336389 -0.18213 L -0.347361 -0.191296 L -0.355625 -0.198611 L -0.366667 -0.205926 L -0.374861 -0.211481 L -0.383125 -0.218796 L -0.391389 -0.224259 L -0.399653 -0.229815 L -0.414792 -0.23713 L -0.424444 -0.240833 L -0.434097 -0.244444 L -0.442292 -0.25 L -0.450556 -0.251852 L -0.461597 -0.257315 L -0.47125 -0.261019 L -0.482222 -0.26287 L -0.490486 -0.266481 L -0.49875 -0.268333 L -0.508403 -0.270185 L -0.516667 -0.273796 L -0.524861 -0.273796 E">
                                      <p:cBhvr>
                                        <p:cTn id="240" dur="2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5E-005 -3.9E-005 L -0.017497 -3.9E-005 L -0.027976 -3.9E-005 L -0.045411 0.004374 L -0.064608 0.008677 L -0.087238 0.010883 L -0.097716 0.01309 L -0.108195 0.015296 L -0.123869 0.017393 L -0.148349 0.019598 L -0.176263 0.024011 L -0.188503 0.026218 L -0.207698 0.028425 L -0.230329 0.030521 L -0.246091 0.032727 L -0.256569 0.037141 L -0.268721 0.039347 L -0.280961 0.045857 L -0.291439 0.045857 L -0.301918 0.048062 L -0.312397 0.054571 L -0.322876 0.056778 L -0.335027 0.058985 L -0.345506 0.065494 L -0.355985 0.072114 L -0.366463 0.07432 L -0.376942 0.078623 L -0.387421 0.083035 L -0.397898 0.089545 L -0.408377 0.096165 E">
                                      <p:cBhvr>
                                        <p:cTn id="244" dur="2000" fill="hold"/>
                                        <p:tgtEl>
                                          <p:spTgt spid="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03403 0.017963 L -0.111667 0.021667 L -0.119931 0.02713 L -0.129583 0.02713 L -0.137847 0.02713 L -0.146042 0.02713 L -0.154306 0.02713 L -0.162569 0.02713 L -0.170833 0.02713 L -0.179097 0.02713 L -0.18875 0.02537 L -0.201111 0.023519 L -0.210764 0.017963 L -0.219028 0.014352 L -0.228611 0.008796 L -0.238264 0.005185 L -0.246528 0.003333 L -0.254792 -0.002222 L -0.264444 -0.007685 L -0.272708 -0.011389 L -0.280903 -0.016852 L -0.289167 -0.022407 L -0.300208 -0.031574 L -0.312569 -0.040741 L -0.320833 -0.048056 L -0.327708 -0.060926 L -0.335972 -0.073704 L -0.344236 -0.084722 L -0.348333 -0.095741 L -0.356597 -0.106759 L -0.360764 -0.117778 L -0.369028 -0.128796 L -0.373125 -0.139815 L -0.378611 -0.150833 L -0.385556 -0.161852 L -0.391042 -0.17287 L -0.400625 -0.183796 L -0.410278 -0.194815 L -0.418542 -0.205833 L -0.424028 -0.218704 E">
                                      <p:cBhvr>
                                        <p:cTn id="248" dur="2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E-005 -2.1E-005 L -0.013759 0.018814 L -0.023361 0.031317 L -0.028928 0.040734 L -0.037209 0.053317 L -0.042706 0.064238 L -0.050987 0.078403 L -0.06059 0.094073 L -0.06887 0.108159 L -0.074438 0.120741 L -0.081327 0.133245 L -0.08404 0.142662 L -0.089606 0.153662 L -0.093713 0.163079 L -0.096495 0.172497 L -0.101993 0.185 L -0.106099 0.194417 L -0.108882 0.203835 L -0.111665 0.213252 L -0.11438 0.222669 L -0.118554 0.23359 L -0.124051 0.24459 L -0.128157 0.25559 L -0.132332 0.265007 L -0.137829 0.275927 L -0.143327 0.285345 L -0.150285 0.296345 L -0.158496 0.304179 L -0.166777 0.312014 L -0.175058 0.316762 L -0.183338 0.321431 L -0.193011 0.324597 L -0.202683 0.329266 L -0.210894 0.330849 L -0.219175 0.334014 L -0.228848 0.335596 L -0.239911 0.338683 E">
                                      <p:cBhvr>
                                        <p:cTn id="252" dur="2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43194 0.00963 L -0.047361 0.020648 L -0.051458 0.033519 L -0.055625 0.044537 L -0.058333 0.059167 L -0.061111 0.070185 L -0.066597 0.083056 L -0.073472 0.097685 L -0.079028 0.108704 L -0.088611 0.123426 L -0.095486 0.136204 L -0.101042 0.147222 L -0.107917 0.158241 L -0.114792 0.169259 L -0.124444 0.180278 L -0.134028 0.191296 L -0.142292 0.202315 L -0.151944 0.20963 L -0.160208 0.218796 L -0.168472 0.2225 L -0.178056 0.231667 L -0.187708 0.23713 L -0.195972 0.242685 L -0.207014 0.25 L -0.217986 0.255556 L -0.227639 0.261019 L -0.235903 0.266481 L -0.244167 0.272037 L -0.252361 0.2775 L -0.260625 0.284907 L -0.268889 0.295926 L -0.277153 0.303241 L -0.285417 0.314259 E">
                                      <p:cBhvr>
                                        <p:cTn id="256" dur="2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72222 0.004259 L -0.079097 0.01713 L -0.084653 0.029907 L -0.08875 0.040926 L -0.094236 0.051944 L -0.098403 0.062963 L -0.103889 0.073981 L -0.109375 0.085 L -0.117639 0.101481 L -0.124514 0.114352 L -0.131389 0.12537 L -0.139653 0.138148 L -0.150694 0.151019 L -0.160347 0.162037 L -0.169931 0.173056 L -0.178194 0.184074 L -0.187847 0.198704 L -0.1975 0.20787 L -0.204375 0.220741 L -0.212639 0.231759 L -0.220833 0.242778 L -0.230486 0.253796 L -0.23875 0.262963 L -0.248403 0.270278 L -0.256667 0.277593 L -0.264931 0.281296 L -0.274514 0.286852 L -0.282778 0.292315 L -0.296528 0.297778 L -0.304792 0.29963 L -0.313056 0.303333 L -0.322708 0.305185 L -0.330972 0.308796 L -0.339236 0.3125 L -0.348819 0.317963 L -0.357083 0.321667 L -0.365347 0.328981 L -0.373611 0.338148 E">
                                      <p:cBhvr>
                                        <p:cTn id="260" dur="2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7.3E-005 4.6E-005 L -0.004455 0.010298 L -0.006604 0.02055 L -0.011132 0.030802 L -0.01566 0.041054 L -0.022338 0.051306 L -0.02913 0.063194 L -0.040336 0.073447 L -0.047014 0.083698 L -0.053806 0.09395 L -0.060484 0.104202 L -0.07169 0.116177 L -0.07848 0.126429 L -0.09195 0.140041 L -0.100892 0.150292 L -0.114361 0.162268 L -0.125567 0.172519 L -0.141189 0.181049 L -0.154658 0.189578 L -0.168127 0.198106 L -0.181596 0.206635 L -0.19733 0.216888 L -0.208536 0.227139 L -0.219742 0.237392 L -0.230948 0.247643 L -0.242154 0.257895 L -0.251096 0.268061 L -0.260151 0.278313 L -0.269093 0.288565 E">
                                      <p:cBhvr>
                                        <p:cTn id="264" dur="2000" fill="hold"/>
                                        <p:tgtEl>
                                          <p:spTgt spid="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569880" y="795240"/>
            <a:ext cx="556272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在（  ）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在（  ）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常常（  ）我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就像一条（   ）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569880" y="3567240"/>
            <a:ext cx="59436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在（    ）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在（   ）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影子常常（    ）我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它是我的（     ）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177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178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0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81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82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83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84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85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Text Box 16"/>
          <p:cNvSpPr/>
          <p:nvPr/>
        </p:nvSpPr>
        <p:spPr>
          <a:xfrm>
            <a:off x="3276720" y="765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z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à</a:t>
            </a: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i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17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在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190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191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93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194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195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196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197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198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 Box 16"/>
          <p:cNvSpPr/>
          <p:nvPr/>
        </p:nvSpPr>
        <p:spPr>
          <a:xfrm>
            <a:off x="3276720" y="765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h</a:t>
            </a:r>
            <a:r>
              <a:rPr b="1" lang="en-US" sz="9600" spc="-1" strike="noStrike">
                <a:solidFill>
                  <a:srgbClr val="0000ff"/>
                </a:solidFill>
                <a:latin typeface="Calibri"/>
              </a:rPr>
              <a:t>ò</a:t>
            </a: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后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2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203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204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06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207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08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209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10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11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Text Box 16"/>
          <p:cNvSpPr/>
          <p:nvPr/>
        </p:nvSpPr>
        <p:spPr>
          <a:xfrm>
            <a:off x="3276720" y="765000"/>
            <a:ext cx="2879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wǒ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Text Box 10"/>
          <p:cNvSpPr/>
          <p:nvPr/>
        </p:nvSpPr>
        <p:spPr>
          <a:xfrm>
            <a:off x="2843280" y="2060640"/>
            <a:ext cx="3313080" cy="42087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2f4d7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我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5" name="Group 2"/>
          <p:cNvGrpSpPr/>
          <p:nvPr/>
        </p:nvGrpSpPr>
        <p:grpSpPr>
          <a:xfrm>
            <a:off x="2514600" y="2057400"/>
            <a:ext cx="4114800" cy="4114800"/>
            <a:chOff x="2514600" y="2057400"/>
            <a:chExt cx="4114800" cy="4114800"/>
          </a:xfrm>
        </p:grpSpPr>
        <p:grpSp>
          <p:nvGrpSpPr>
            <p:cNvPr id="216" name=""/>
            <p:cNvGrpSpPr/>
            <p:nvPr/>
          </p:nvGrpSpPr>
          <p:grpSpPr>
            <a:xfrm>
              <a:off x="2514600" y="4114800"/>
              <a:ext cx="4114800" cy="360"/>
              <a:chOff x="2514600" y="4114800"/>
              <a:chExt cx="4114800" cy="360"/>
            </a:xfrm>
          </p:grpSpPr>
          <p:sp>
            <p:nvSpPr>
              <p:cNvPr id="217" name="Line 3"/>
              <p:cNvSpPr/>
              <p:nvPr/>
            </p:nvSpPr>
            <p:spPr>
              <a:xfrm>
                <a:off x="2514600" y="4114800"/>
                <a:ext cx="4114800" cy="0"/>
              </a:xfrm>
              <a:prstGeom prst="line">
                <a:avLst/>
              </a:prstGeom>
              <a:ln cap="rnd" w="1908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"/>
              <p:cNvSpPr txBox="1"/>
              <p:nvPr/>
            </p:nvSpPr>
            <p:spPr>
              <a:xfrm>
                <a:off x="2514600" y="4114800"/>
                <a:ext cx="4114800" cy="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19" name="Group 4"/>
            <p:cNvGrpSpPr/>
            <p:nvPr/>
          </p:nvGrpSpPr>
          <p:grpSpPr>
            <a:xfrm>
              <a:off x="2514600" y="2057400"/>
              <a:ext cx="4114800" cy="4114800"/>
              <a:chOff x="2514600" y="2057400"/>
              <a:chExt cx="4114800" cy="4114800"/>
            </a:xfrm>
          </p:grpSpPr>
          <p:sp>
            <p:nvSpPr>
              <p:cNvPr id="220" name="Rectangle 5"/>
              <p:cNvSpPr/>
              <p:nvPr/>
            </p:nvSpPr>
            <p:spPr>
              <a:xfrm>
                <a:off x="2514600" y="2057400"/>
                <a:ext cx="4114800" cy="4114800"/>
              </a:xfrm>
              <a:prstGeom prst="rect">
                <a:avLst/>
              </a:prstGeom>
              <a:noFill/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221" name=""/>
              <p:cNvGrpSpPr/>
              <p:nvPr/>
            </p:nvGrpSpPr>
            <p:grpSpPr>
              <a:xfrm>
                <a:off x="4572000" y="2057400"/>
                <a:ext cx="360" cy="4114800"/>
                <a:chOff x="4572000" y="2057400"/>
                <a:chExt cx="360" cy="4114800"/>
              </a:xfrm>
            </p:grpSpPr>
            <p:sp>
              <p:nvSpPr>
                <p:cNvPr id="222" name="Line 6"/>
                <p:cNvSpPr/>
                <p:nvPr/>
              </p:nvSpPr>
              <p:spPr>
                <a:xfrm>
                  <a:off x="4572000" y="2057400"/>
                  <a:ext cx="0" cy="4114800"/>
                </a:xfrm>
                <a:prstGeom prst="line">
                  <a:avLst/>
                </a:prstGeom>
                <a:ln cap="rnd" w="19080">
                  <a:solidFill>
                    <a:srgbClr val="000000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223" name=""/>
                <p:cNvSpPr txBox="1"/>
                <p:nvPr/>
              </p:nvSpPr>
              <p:spPr>
                <a:xfrm>
                  <a:off x="4572000" y="2057400"/>
                  <a:ext cx="360" cy="4114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sp>
        <p:nvSpPr>
          <p:cNvPr id="224" name="Rectangle 7"/>
          <p:cNvSpPr/>
          <p:nvPr/>
        </p:nvSpPr>
        <p:spPr>
          <a:xfrm>
            <a:off x="3352320" y="26589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Rectangle 8"/>
          <p:cNvSpPr/>
          <p:nvPr/>
        </p:nvSpPr>
        <p:spPr>
          <a:xfrm>
            <a:off x="3123000" y="2727360"/>
            <a:ext cx="3564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Text Box 16"/>
          <p:cNvSpPr/>
          <p:nvPr/>
        </p:nvSpPr>
        <p:spPr>
          <a:xfrm>
            <a:off x="2771640" y="692280"/>
            <a:ext cx="3672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00ff"/>
                </a:solidFill>
                <a:latin typeface="Arial"/>
                <a:ea typeface="楷体_GB2312"/>
              </a:rPr>
              <a:t>hǎo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TextBox 1"/>
          <p:cNvSpPr/>
          <p:nvPr/>
        </p:nvSpPr>
        <p:spPr>
          <a:xfrm>
            <a:off x="2916360" y="2079720"/>
            <a:ext cx="41148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8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0" spc="-1" strike="noStrike">
                <a:solidFill>
                  <a:srgbClr val="000000"/>
                </a:solidFill>
                <a:latin typeface="Calibri"/>
              </a:rPr>
              <a:t>好</a:t>
            </a:r>
            <a:endParaRPr b="0" lang="en-US" sz="27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466560" y="1844640"/>
            <a:ext cx="2073600" cy="6480"/>
            <a:chOff x="466560" y="1844640"/>
            <a:chExt cx="2073600" cy="6480"/>
          </a:xfrm>
        </p:grpSpPr>
        <p:sp>
          <p:nvSpPr>
            <p:cNvPr id="230" name="直线连接符 21"/>
            <p:cNvSpPr/>
            <p:nvPr/>
          </p:nvSpPr>
          <p:spPr>
            <a:xfrm flipV="1">
              <a:off x="466560" y="1844640"/>
              <a:ext cx="2073600" cy="648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"/>
            <p:cNvSpPr txBox="1"/>
            <p:nvPr/>
          </p:nvSpPr>
          <p:spPr>
            <a:xfrm rot="10800000">
              <a:off x="466560" y="1844640"/>
              <a:ext cx="2073600" cy="64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0320" bIns="-403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32" name="Picture 25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233" name="TextBox 2"/>
          <p:cNvSpPr/>
          <p:nvPr/>
        </p:nvSpPr>
        <p:spPr>
          <a:xfrm>
            <a:off x="539640" y="2349360"/>
            <a:ext cx="79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影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TextBox 4"/>
          <p:cNvSpPr/>
          <p:nvPr/>
        </p:nvSpPr>
        <p:spPr>
          <a:xfrm>
            <a:off x="1619280" y="3357720"/>
            <a:ext cx="468144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小黑狗</a:t>
            </a: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—   —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好朋友</a:t>
            </a:r>
            <a:br>
              <a:rPr sz="4000"/>
            </a:b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　 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WordArt 6" descr=""/>
          <p:cNvPicPr/>
          <p:nvPr/>
        </p:nvPicPr>
        <p:blipFill>
          <a:blip r:embed="rId1"/>
          <a:stretch/>
        </p:blipFill>
        <p:spPr>
          <a:xfrm>
            <a:off x="1752480" y="1746360"/>
            <a:ext cx="6015240" cy="2073240"/>
          </a:xfrm>
          <a:prstGeom prst="rect">
            <a:avLst/>
          </a:prstGeom>
          <a:ln w="0">
            <a:noFill/>
          </a:ln>
        </p:spPr>
      </p:pic>
      <p:pic>
        <p:nvPicPr>
          <p:cNvPr id="237" name="Picture 4" descr="F:\七彩课堂插图板式封面\排版用图标、页眉页脚\标题jpg\读读背背.jpg"/>
          <p:cNvPicPr/>
          <p:nvPr/>
        </p:nvPicPr>
        <p:blipFill>
          <a:blip r:embed="rId2"/>
          <a:stretch/>
        </p:blipFill>
        <p:spPr>
          <a:xfrm>
            <a:off x="468360" y="3213000"/>
            <a:ext cx="329400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2022480" y="666720"/>
            <a:ext cx="605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en-US" sz="8000" spc="-1" strike="noStrike">
                <a:solidFill>
                  <a:srgbClr val="000000"/>
                </a:solidFill>
                <a:latin typeface="黑体"/>
                <a:ea typeface="黑体"/>
              </a:rPr>
              <a:t>5  </a:t>
            </a:r>
            <a:r>
              <a:rPr b="1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影</a:t>
            </a:r>
            <a:r>
              <a:rPr b="1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子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2700360" y="1989000"/>
            <a:ext cx="3816360" cy="360"/>
            <a:chOff x="2700360" y="1989000"/>
            <a:chExt cx="3816360" cy="360"/>
          </a:xfrm>
        </p:grpSpPr>
        <p:sp>
          <p:nvSpPr>
            <p:cNvPr id="51" name="直线连接符 21"/>
            <p:cNvSpPr/>
            <p:nvPr/>
          </p:nvSpPr>
          <p:spPr>
            <a:xfrm>
              <a:off x="2700360" y="1989000"/>
              <a:ext cx="3816360" cy="0"/>
            </a:xfrm>
            <a:prstGeom prst="line">
              <a:avLst/>
            </a:prstGeom>
            <a:ln w="38160">
              <a:solidFill>
                <a:srgbClr val="93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"/>
            <p:cNvSpPr txBox="1"/>
            <p:nvPr/>
          </p:nvSpPr>
          <p:spPr>
            <a:xfrm>
              <a:off x="2700360" y="1989000"/>
              <a:ext cx="381636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3" name="Picture 6" descr="图片1"/>
          <p:cNvPicPr/>
          <p:nvPr/>
        </p:nvPicPr>
        <p:blipFill>
          <a:blip r:embed="rId1"/>
          <a:srcRect l="4188" t="430" r="0" b="0"/>
          <a:stretch/>
        </p:blipFill>
        <p:spPr>
          <a:xfrm>
            <a:off x="826920" y="2133720"/>
            <a:ext cx="7883640" cy="3789360"/>
          </a:xfrm>
          <a:prstGeom prst="rect">
            <a:avLst/>
          </a:prstGeom>
          <a:ln w="0">
            <a:noFill/>
          </a:ln>
        </p:spPr>
      </p:pic>
      <p:sp>
        <p:nvSpPr>
          <p:cNvPr id="54" name="矩形 14343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Text Box 3"/>
          <p:cNvSpPr/>
          <p:nvPr/>
        </p:nvSpPr>
        <p:spPr>
          <a:xfrm>
            <a:off x="304920" y="4495680"/>
            <a:ext cx="8154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影子常常陪着我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Times New Roman"/>
                <a:ea typeface="黑体"/>
              </a:rPr>
              <a:t>它是我的好朋友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Text Box 4"/>
          <p:cNvSpPr/>
          <p:nvPr/>
        </p:nvSpPr>
        <p:spPr>
          <a:xfrm>
            <a:off x="531720" y="1803240"/>
            <a:ext cx="56390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影子常常跟着我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99"/>
                </a:solidFill>
                <a:latin typeface="Times New Roman"/>
                <a:ea typeface="黑体"/>
              </a:rPr>
              <a:t>就像一条小黑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影子1"/>
          <p:cNvPicPr/>
          <p:nvPr/>
        </p:nvPicPr>
        <p:blipFill>
          <a:blip r:embed="rId1"/>
          <a:stretch/>
        </p:blipFill>
        <p:spPr>
          <a:xfrm>
            <a:off x="279360" y="200160"/>
            <a:ext cx="7020000" cy="514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17411"/>
          <p:cNvSpPr/>
          <p:nvPr/>
        </p:nvSpPr>
        <p:spPr>
          <a:xfrm>
            <a:off x="441360" y="6453360"/>
            <a:ext cx="523440" cy="1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小学教育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www.lspjy.com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绿色圃中学资源网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http://cz.lspjy.com</a:t>
            </a:r>
            <a:endParaRPr b="0" lang="en-US" sz="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文本框 1"/>
          <p:cNvSpPr/>
          <p:nvPr/>
        </p:nvSpPr>
        <p:spPr>
          <a:xfrm>
            <a:off x="5045040" y="1762200"/>
            <a:ext cx="3638520" cy="1312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人</a:t>
            </a:r>
            <a:r>
              <a:rPr b="0" lang="zh-CN" sz="8000" spc="-1" strike="noStrike">
                <a:solidFill>
                  <a:srgbClr val="ff0000"/>
                </a:solidFill>
                <a:latin typeface="华文楷体"/>
                <a:ea typeface="华文楷体"/>
              </a:rPr>
              <a:t>影  身影</a:t>
            </a:r>
            <a:endParaRPr b="0" lang="en-US" sz="8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影子2"/>
          <p:cNvPicPr/>
          <p:nvPr/>
        </p:nvPicPr>
        <p:blipFill>
          <a:blip r:embed="rId1"/>
          <a:stretch/>
        </p:blipFill>
        <p:spPr>
          <a:xfrm>
            <a:off x="684360" y="907920"/>
            <a:ext cx="7561080" cy="5413680"/>
          </a:xfrm>
          <a:prstGeom prst="rect">
            <a:avLst/>
          </a:prstGeom>
          <a:ln w="0">
            <a:noFill/>
          </a:ln>
        </p:spPr>
      </p:pic>
      <p:pic>
        <p:nvPicPr>
          <p:cNvPr id="59" name="文本框 1" descr=""/>
          <p:cNvPicPr/>
          <p:nvPr/>
        </p:nvPicPr>
        <p:blipFill>
          <a:blip r:embed="rId2"/>
          <a:stretch/>
        </p:blipFill>
        <p:spPr>
          <a:xfrm>
            <a:off x="2739960" y="212760"/>
            <a:ext cx="366408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影子3"/>
          <p:cNvPicPr/>
          <p:nvPr/>
        </p:nvPicPr>
        <p:blipFill>
          <a:blip r:embed="rId1"/>
          <a:stretch/>
        </p:blipFill>
        <p:spPr>
          <a:xfrm>
            <a:off x="309600" y="2638440"/>
            <a:ext cx="3913200" cy="3719520"/>
          </a:xfrm>
          <a:prstGeom prst="rect">
            <a:avLst/>
          </a:prstGeom>
          <a:ln w="0">
            <a:noFill/>
          </a:ln>
        </p:spPr>
      </p:pic>
      <p:pic>
        <p:nvPicPr>
          <p:cNvPr id="61" name="文本框 1" descr=""/>
          <p:cNvPicPr/>
          <p:nvPr/>
        </p:nvPicPr>
        <p:blipFill>
          <a:blip r:embed="rId2"/>
          <a:stretch/>
        </p:blipFill>
        <p:spPr>
          <a:xfrm>
            <a:off x="2739960" y="212760"/>
            <a:ext cx="3664080" cy="13478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2" descr="影子4"/>
          <p:cNvPicPr/>
          <p:nvPr/>
        </p:nvPicPr>
        <p:blipFill>
          <a:blip r:embed="rId3"/>
          <a:stretch/>
        </p:blipFill>
        <p:spPr>
          <a:xfrm>
            <a:off x="4222800" y="1695600"/>
            <a:ext cx="4938840" cy="298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影子6"/>
          <p:cNvPicPr/>
          <p:nvPr/>
        </p:nvPicPr>
        <p:blipFill>
          <a:blip r:embed="rId1"/>
          <a:stretch/>
        </p:blipFill>
        <p:spPr>
          <a:xfrm>
            <a:off x="179280" y="981000"/>
            <a:ext cx="8496360" cy="4724640"/>
          </a:xfrm>
          <a:prstGeom prst="rect">
            <a:avLst/>
          </a:prstGeom>
          <a:ln w="0">
            <a:noFill/>
          </a:ln>
        </p:spPr>
      </p:pic>
      <p:pic>
        <p:nvPicPr>
          <p:cNvPr id="64" name="文本框 1" descr=""/>
          <p:cNvPicPr/>
          <p:nvPr/>
        </p:nvPicPr>
        <p:blipFill>
          <a:blip r:embed="rId2"/>
          <a:stretch/>
        </p:blipFill>
        <p:spPr>
          <a:xfrm>
            <a:off x="2739960" y="212760"/>
            <a:ext cx="3664080" cy="13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Box 6"/>
          <p:cNvSpPr/>
          <p:nvPr/>
        </p:nvSpPr>
        <p:spPr>
          <a:xfrm>
            <a:off x="7429680" y="357120"/>
            <a:ext cx="121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b0f0"/>
                </a:solidFill>
                <a:latin typeface="华文楷体"/>
                <a:ea typeface="华文楷体"/>
              </a:rPr>
              <a:t>课件</a:t>
            </a:r>
            <a:r>
              <a:rPr b="0" lang="zh-CN" sz="2000" spc="-1" strike="noStrike">
                <a:solidFill>
                  <a:srgbClr val="00b0f0"/>
                </a:solidFill>
                <a:latin typeface="Candara"/>
                <a:ea typeface="华文楷体"/>
              </a:rPr>
              <a:t>PP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6" name="组合 5"/>
          <p:cNvGrpSpPr/>
          <p:nvPr/>
        </p:nvGrpSpPr>
        <p:grpSpPr>
          <a:xfrm>
            <a:off x="466560" y="1267920"/>
            <a:ext cx="2073600" cy="662040"/>
            <a:chOff x="466560" y="1267920"/>
            <a:chExt cx="2073600" cy="662040"/>
          </a:xfrm>
        </p:grpSpPr>
        <p:grpSp>
          <p:nvGrpSpPr>
            <p:cNvPr id="67" name=""/>
            <p:cNvGrpSpPr/>
            <p:nvPr/>
          </p:nvGrpSpPr>
          <p:grpSpPr>
            <a:xfrm>
              <a:off x="466560" y="1267920"/>
              <a:ext cx="2073600" cy="662040"/>
              <a:chOff x="466560" y="1267920"/>
              <a:chExt cx="2073600" cy="662040"/>
            </a:xfrm>
          </p:grpSpPr>
          <p:sp>
            <p:nvSpPr>
              <p:cNvPr id="68" name="直线连接符 21"/>
              <p:cNvSpPr/>
              <p:nvPr/>
            </p:nvSpPr>
            <p:spPr>
              <a:xfrm flipV="1">
                <a:off x="466560" y="1267920"/>
                <a:ext cx="2073600" cy="662040"/>
              </a:xfrm>
              <a:prstGeom prst="line">
                <a:avLst/>
              </a:prstGeom>
              <a:ln w="38160">
                <a:solidFill>
                  <a:srgbClr val="93b3d7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" name=""/>
              <p:cNvSpPr txBox="1"/>
              <p:nvPr/>
            </p:nvSpPr>
            <p:spPr>
              <a:xfrm rot="10800000">
                <a:off x="466560" y="1267560"/>
                <a:ext cx="2073600" cy="662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pic>
        <p:nvPicPr>
          <p:cNvPr id="70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012000" y="905040"/>
            <a:ext cx="2520720" cy="176184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1" descr=""/>
          <p:cNvPicPr/>
          <p:nvPr/>
        </p:nvPicPr>
        <p:blipFill>
          <a:blip r:embed="rId2"/>
          <a:stretch/>
        </p:blipFill>
        <p:spPr>
          <a:xfrm>
            <a:off x="468360" y="1268280"/>
            <a:ext cx="2019240" cy="533520"/>
          </a:xfrm>
          <a:prstGeom prst="rect">
            <a:avLst/>
          </a:prstGeom>
          <a:ln w="0">
            <a:noFill/>
          </a:ln>
        </p:spPr>
      </p:pic>
      <p:sp>
        <p:nvSpPr>
          <p:cNvPr id="72" name="WordArt 21"/>
          <p:cNvSpPr txBox="1"/>
          <p:nvPr/>
        </p:nvSpPr>
        <p:spPr>
          <a:xfrm>
            <a:off x="2124000" y="2565360"/>
            <a:ext cx="434340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top">
              <a:avLst>
                <a:gd name="adj" fmla="val 2222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solidFill>
                  <a:srgbClr val="800080"/>
                </a:solidFill>
                <a:effectLst>
                  <a:outerShdw dist="153753" dir="2700000" blurRad="0" rotWithShape="0">
                    <a:srgbClr val="4d004d"/>
                  </a:outerShdw>
                </a:effectLst>
                <a:latin typeface="宋体"/>
              </a:rPr>
              <a:t>认一认</a:t>
            </a:r>
            <a:endParaRPr b="0" lang="en-US" sz="1800" spc="-1" strike="noStrike">
              <a:ln w="0">
                <a:noFill/>
              </a:ln>
              <a:solidFill>
                <a:srgbClr val="800080"/>
              </a:solidFill>
              <a:effectLst>
                <a:outerShdw dist="153753" dir="2700000" blurRad="0" rotWithShape="0">
                  <a:srgbClr val="4d004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 Box 7"/>
          <p:cNvSpPr/>
          <p:nvPr/>
        </p:nvSpPr>
        <p:spPr>
          <a:xfrm>
            <a:off x="3564000" y="981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后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771640" y="94932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前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2919240" y="3146400"/>
            <a:ext cx="158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左右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18"/>
          <p:cNvSpPr/>
          <p:nvPr/>
        </p:nvSpPr>
        <p:spPr>
          <a:xfrm>
            <a:off x="6372360" y="112536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黑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 Box 19"/>
          <p:cNvSpPr/>
          <p:nvPr/>
        </p:nvSpPr>
        <p:spPr>
          <a:xfrm>
            <a:off x="7164360" y="11253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狗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21"/>
          <p:cNvSpPr/>
          <p:nvPr/>
        </p:nvSpPr>
        <p:spPr>
          <a:xfrm>
            <a:off x="4873680" y="3208320"/>
            <a:ext cx="647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它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 Box 25"/>
          <p:cNvSpPr/>
          <p:nvPr/>
        </p:nvSpPr>
        <p:spPr>
          <a:xfrm>
            <a:off x="684360" y="981000"/>
            <a:ext cx="72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影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1303200" y="94608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楷体_GB2312"/>
              </a:rPr>
              <a:t>子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Text Box 27"/>
          <p:cNvSpPr/>
          <p:nvPr/>
        </p:nvSpPr>
        <p:spPr>
          <a:xfrm>
            <a:off x="5521320" y="3208320"/>
            <a:ext cx="79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0504d"/>
                </a:solidFill>
                <a:latin typeface="Arial"/>
                <a:ea typeface="楷体_GB2312"/>
              </a:rPr>
              <a:t>们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15"/>
          <p:cNvGrpSpPr/>
          <p:nvPr/>
        </p:nvGrpSpPr>
        <p:grpSpPr>
          <a:xfrm>
            <a:off x="2774880" y="2433600"/>
            <a:ext cx="3362400" cy="770040"/>
            <a:chOff x="2774880" y="2433600"/>
            <a:chExt cx="3362400" cy="770040"/>
          </a:xfrm>
        </p:grpSpPr>
        <p:sp>
          <p:nvSpPr>
            <p:cNvPr id="83" name="Text Box 8"/>
            <p:cNvSpPr/>
            <p:nvPr/>
          </p:nvSpPr>
          <p:spPr>
            <a:xfrm>
              <a:off x="5004000" y="2433600"/>
              <a:ext cx="11332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400" spc="-1" strike="noStrike">
                  <a:solidFill>
                    <a:srgbClr val="1f497d"/>
                  </a:solidFill>
                  <a:latin typeface="Arial Narrow"/>
                </a:rPr>
                <a:t>tā</a:t>
              </a:r>
              <a:endParaRPr b="0" lang="en-US" sz="4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84" name="组合 5"/>
            <p:cNvGrpSpPr/>
            <p:nvPr/>
          </p:nvGrpSpPr>
          <p:grpSpPr>
            <a:xfrm>
              <a:off x="2774880" y="2500200"/>
              <a:ext cx="2013120" cy="703440"/>
              <a:chOff x="2774880" y="2500200"/>
              <a:chExt cx="2013120" cy="703440"/>
            </a:xfrm>
          </p:grpSpPr>
          <p:sp>
            <p:nvSpPr>
              <p:cNvPr id="85" name="Text Box 12"/>
              <p:cNvSpPr/>
              <p:nvPr/>
            </p:nvSpPr>
            <p:spPr>
              <a:xfrm>
                <a:off x="2774880" y="2500200"/>
                <a:ext cx="122328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000000"/>
                    </a:solidFill>
                    <a:latin typeface="Arial Narrow"/>
                  </a:rPr>
                  <a:t>zu</a:t>
                </a:r>
                <a:r>
                  <a:rPr b="1" lang="en-US" sz="4000" spc="-1" strike="noStrike">
                    <a:solidFill>
                      <a:srgbClr val="000000"/>
                    </a:solidFill>
                    <a:latin typeface="Calibri"/>
                  </a:rPr>
                  <a:t>ǒ</a:t>
                </a:r>
                <a:endParaRPr b="0" lang="en-US" sz="40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Text Box 6"/>
              <p:cNvSpPr/>
              <p:nvPr/>
            </p:nvSpPr>
            <p:spPr>
              <a:xfrm>
                <a:off x="3635640" y="2560320"/>
                <a:ext cx="115236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1f497d"/>
                    </a:solidFill>
                    <a:latin typeface="Arial Narrow"/>
                  </a:rPr>
                  <a:t>y</a:t>
                </a:r>
                <a:r>
                  <a:rPr b="1" lang="en-US" sz="3600" spc="-1" strike="noStrike">
                    <a:solidFill>
                      <a:srgbClr val="1f497d"/>
                    </a:solidFill>
                    <a:latin typeface="Calibri"/>
                  </a:rPr>
                  <a:t>ò</a:t>
                </a:r>
                <a:r>
                  <a:rPr b="1" lang="en-US" sz="3600" spc="-1" strike="noStrike">
                    <a:solidFill>
                      <a:srgbClr val="1f497d"/>
                    </a:solidFill>
                    <a:latin typeface="Arial Narrow"/>
                  </a:rPr>
                  <a:t>u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87" name="组合 2"/>
          <p:cNvGrpSpPr/>
          <p:nvPr/>
        </p:nvGrpSpPr>
        <p:grpSpPr>
          <a:xfrm>
            <a:off x="925200" y="4362480"/>
            <a:ext cx="2638440" cy="673560"/>
            <a:chOff x="925200" y="4362480"/>
            <a:chExt cx="2638440" cy="673560"/>
          </a:xfrm>
        </p:grpSpPr>
        <p:grpSp>
          <p:nvGrpSpPr>
            <p:cNvPr id="88" name="组合 1"/>
            <p:cNvGrpSpPr/>
            <p:nvPr/>
          </p:nvGrpSpPr>
          <p:grpSpPr>
            <a:xfrm>
              <a:off x="1693080" y="4393440"/>
              <a:ext cx="1870560" cy="642600"/>
              <a:chOff x="1693080" y="4393440"/>
              <a:chExt cx="1870560" cy="642600"/>
            </a:xfrm>
          </p:grpSpPr>
          <p:sp>
            <p:nvSpPr>
              <p:cNvPr id="89" name="Text Box 5"/>
              <p:cNvSpPr/>
              <p:nvPr/>
            </p:nvSpPr>
            <p:spPr>
              <a:xfrm>
                <a:off x="1693080" y="4424400"/>
                <a:ext cx="10807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000000"/>
                    </a:solidFill>
                    <a:latin typeface="Arial Narrow"/>
                  </a:rPr>
                  <a:t>péng </a:t>
                </a:r>
                <a:endParaRPr b="0" lang="en-US" sz="3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90" name="Text Box 6"/>
              <p:cNvSpPr/>
              <p:nvPr/>
            </p:nvSpPr>
            <p:spPr>
              <a:xfrm>
                <a:off x="2591640" y="4393440"/>
                <a:ext cx="9720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22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600" spc="-1" strike="noStrike">
                    <a:solidFill>
                      <a:srgbClr val="1f497d"/>
                    </a:solidFill>
                    <a:latin typeface="Arial Narrow"/>
                  </a:rPr>
                  <a:t>yǒu</a:t>
                </a:r>
                <a:endParaRPr b="0" lang="en-US" sz="36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91" name="Rectangle 33"/>
            <p:cNvSpPr/>
            <p:nvPr/>
          </p:nvSpPr>
          <p:spPr>
            <a:xfrm>
              <a:off x="925200" y="4362480"/>
              <a:ext cx="89712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2f4d71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Calibri"/>
                </a:rPr>
                <a:t>hǎo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2" name="组合 6"/>
          <p:cNvGrpSpPr/>
          <p:nvPr/>
        </p:nvGrpSpPr>
        <p:grpSpPr>
          <a:xfrm>
            <a:off x="1047600" y="5146560"/>
            <a:ext cx="2124360" cy="825120"/>
            <a:chOff x="1047600" y="5146560"/>
            <a:chExt cx="2124360" cy="825120"/>
          </a:xfrm>
        </p:grpSpPr>
        <p:sp>
          <p:nvSpPr>
            <p:cNvPr id="93" name="Text Box 3"/>
            <p:cNvSpPr/>
            <p:nvPr/>
          </p:nvSpPr>
          <p:spPr>
            <a:xfrm>
              <a:off x="1803600" y="5146560"/>
              <a:ext cx="7203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朋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Text Box 4"/>
            <p:cNvSpPr/>
            <p:nvPr/>
          </p:nvSpPr>
          <p:spPr>
            <a:xfrm>
              <a:off x="2524320" y="5146560"/>
              <a:ext cx="64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c0504d"/>
                  </a:solidFill>
                  <a:latin typeface="Arial"/>
                  <a:ea typeface="楷体_GB2312"/>
                </a:rPr>
                <a:t>友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Text Box 21"/>
            <p:cNvSpPr/>
            <p:nvPr/>
          </p:nvSpPr>
          <p:spPr>
            <a:xfrm>
              <a:off x="1047600" y="5146560"/>
              <a:ext cx="6476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9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  <a:ea typeface="楷体_GB2312"/>
                </a:rPr>
                <a:t>好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6" name="Text Box 10" descr=""/>
          <p:cNvPicPr/>
          <p:nvPr/>
        </p:nvPicPr>
        <p:blipFill>
          <a:blip r:embed="rId1"/>
          <a:stretch/>
        </p:blipFill>
        <p:spPr>
          <a:xfrm>
            <a:off x="581040" y="3146400"/>
            <a:ext cx="1585800" cy="830160"/>
          </a:xfrm>
          <a:prstGeom prst="rect">
            <a:avLst/>
          </a:prstGeom>
          <a:ln w="0">
            <a:noFill/>
          </a:ln>
        </p:spPr>
      </p:pic>
      <p:grpSp>
        <p:nvGrpSpPr>
          <p:cNvPr id="97" name="组合 11"/>
          <p:cNvGrpSpPr/>
          <p:nvPr/>
        </p:nvGrpSpPr>
        <p:grpSpPr>
          <a:xfrm>
            <a:off x="684360" y="539640"/>
            <a:ext cx="7486200" cy="665280"/>
            <a:chOff x="684360" y="539640"/>
            <a:chExt cx="7486200" cy="665280"/>
          </a:xfrm>
        </p:grpSpPr>
        <p:sp>
          <p:nvSpPr>
            <p:cNvPr id="98" name="Text Box 20"/>
            <p:cNvSpPr/>
            <p:nvPr/>
          </p:nvSpPr>
          <p:spPr>
            <a:xfrm>
              <a:off x="7234200" y="683640"/>
              <a:ext cx="936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gǒu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Text Box 11"/>
            <p:cNvSpPr/>
            <p:nvPr/>
          </p:nvSpPr>
          <p:spPr>
            <a:xfrm>
              <a:off x="684360" y="605160"/>
              <a:ext cx="108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 Narrow"/>
                </a:rPr>
                <a:t>yǐ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Text Box 17"/>
            <p:cNvSpPr/>
            <p:nvPr/>
          </p:nvSpPr>
          <p:spPr>
            <a:xfrm>
              <a:off x="6441840" y="684360"/>
              <a:ext cx="1152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hē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Text Box 28"/>
            <p:cNvSpPr/>
            <p:nvPr/>
          </p:nvSpPr>
          <p:spPr>
            <a:xfrm>
              <a:off x="3707280" y="539640"/>
              <a:ext cx="934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 Narrow"/>
                </a:rPr>
                <a:t>hòu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Text Box 29"/>
            <p:cNvSpPr/>
            <p:nvPr/>
          </p:nvSpPr>
          <p:spPr>
            <a:xfrm>
              <a:off x="2772000" y="539640"/>
              <a:ext cx="115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1f497d"/>
                  </a:solidFill>
                  <a:latin typeface="Arial Narrow"/>
                </a:rPr>
                <a:t>qi</a:t>
              </a:r>
              <a:r>
                <a:rPr b="1" lang="en-US" sz="2800" spc="-1" strike="noStrike">
                  <a:solidFill>
                    <a:srgbClr val="1f497d"/>
                  </a:solidFill>
                  <a:latin typeface="宋体"/>
                </a:rPr>
                <a:t>án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3" name="组合 14"/>
          <p:cNvGrpSpPr/>
          <p:nvPr/>
        </p:nvGrpSpPr>
        <p:grpSpPr>
          <a:xfrm>
            <a:off x="19080" y="2563920"/>
            <a:ext cx="9010440" cy="642600"/>
            <a:chOff x="19080" y="2563920"/>
            <a:chExt cx="9010440" cy="642600"/>
          </a:xfrm>
        </p:grpSpPr>
        <p:sp>
          <p:nvSpPr>
            <p:cNvPr id="104" name="Text Box 12"/>
            <p:cNvSpPr/>
            <p:nvPr/>
          </p:nvSpPr>
          <p:spPr>
            <a:xfrm>
              <a:off x="19080" y="2563920"/>
              <a:ext cx="315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chángcháng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Text Box 12"/>
            <p:cNvSpPr/>
            <p:nvPr/>
          </p:nvSpPr>
          <p:spPr>
            <a:xfrm>
              <a:off x="5875920" y="2563920"/>
              <a:ext cx="3153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péi bà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6" name="Text Box 27" descr=""/>
          <p:cNvPicPr/>
          <p:nvPr/>
        </p:nvPicPr>
        <p:blipFill>
          <a:blip r:embed="rId2"/>
          <a:stretch/>
        </p:blipFill>
        <p:spPr>
          <a:xfrm>
            <a:off x="6635880" y="3201840"/>
            <a:ext cx="1812960" cy="8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1-18T14:54:00Z</dcterms:created>
  <dc:creator/>
  <dc:description/>
  <dc:language>en-US</dc:language>
  <cp:lastModifiedBy>noodee</cp:lastModifiedBy>
  <dcterms:modified xsi:type="dcterms:W3CDTF">2017-12-13T13:32:00Z</dcterms:modified>
  <cp:revision>25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3</vt:lpwstr>
  </property>
</Properties>
</file>