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chimes.wav" ContentType="audio/x-wav"/>
  <Override PartName="/ppt/media/image16.png" ContentType="image/png"/>
  <Override PartName="/ppt/media/image23.gif" ContentType="image/gif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cashreg.wav" ContentType="audio/x-wav"/>
  <Override PartName="/ppt/media/image22.jpeg" ContentType="image/jpeg"/>
  <Override PartName="/ppt/media/image39.png" ContentType="image/png"/>
  <Override PartName="/ppt/media/image13.png" ContentType="image/pn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29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7.jpeg" ContentType="image/jpeg"/>
  <Override PartName="/ppt/media/image40.jpeg" ContentType="image/jpeg"/>
  <Override PartName="/ppt/media/image44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46.jpeg" ContentType="image/jpeg"/>
  <Override PartName="/ppt/media/image42.png" ContentType="image/png"/>
  <Override PartName="/ppt/media/image26.jpeg" ContentType="image/jpeg"/>
  <Override PartName="/ppt/media/image5.jpeg" ContentType="image/jpeg"/>
  <Override PartName="/ppt/media/image12.png" ContentType="image/png"/>
  <Override PartName="/ppt/media/image8.jpeg" ContentType="image/jpeg"/>
  <Override PartName="/ppt/media/image38.png" ContentType="image/png"/>
  <Override PartName="/ppt/media/image20.png" ContentType="image/png"/>
  <Override PartName="/ppt/media/image36.jpeg" ContentType="image/jpeg"/>
  <Override PartName="/ppt/media/camera.wav" ContentType="audio/x-wav"/>
  <Override PartName="/ppt/media/image3.png" ContentType="image/png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41128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尾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img1.ph.126.net/-78dcE9r1eYfbci5m94VRg==/1475773302994191817.png"/>
          <p:cNvPicPr/>
          <p:nvPr/>
        </p:nvPicPr>
        <p:blipFill>
          <a:blip r:embed="rId1"/>
          <a:stretch/>
        </p:blipFill>
        <p:spPr>
          <a:xfrm>
            <a:off x="2124000" y="2565360"/>
            <a:ext cx="4762440" cy="3524400"/>
          </a:xfrm>
          <a:prstGeom prst="rect">
            <a:avLst/>
          </a:prstGeom>
          <a:ln w="0">
            <a:noFill/>
          </a:ln>
        </p:spPr>
      </p:pic>
      <p:sp>
        <p:nvSpPr>
          <p:cNvPr id="43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3203640" y="270828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矩形 23556"/>
          <p:cNvSpPr/>
          <p:nvPr/>
        </p:nvSpPr>
        <p:spPr>
          <a:xfrm>
            <a:off x="1692360" y="587700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97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99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1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c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án</a:t>
            </a:r>
            <a:r>
              <a:rPr b="1" lang="en-US" sz="9600" spc="-1" strike="noStrike">
                <a:solidFill>
                  <a:srgbClr val="0000ff"/>
                </a:solidFill>
                <a:latin typeface="Dotum"/>
                <a:ea typeface="Dotum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长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106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08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b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ǐ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比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115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17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b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巴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124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26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8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b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把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线连接符 21"/>
          <p:cNvSpPr/>
          <p:nvPr/>
        </p:nvSpPr>
        <p:spPr>
          <a:xfrm flipV="1">
            <a:off x="395280" y="17730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594720" y="1844640"/>
            <a:ext cx="6544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组合作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读一读（把课文读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说一说（你发现了什么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8920" y="5805360"/>
            <a:ext cx="2667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参赛选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0" y="765000"/>
            <a:ext cx="3657600" cy="2900520"/>
            <a:chOff x="0" y="765000"/>
            <a:chExt cx="3657600" cy="2900520"/>
          </a:xfrm>
        </p:grpSpPr>
        <p:pic>
          <p:nvPicPr>
            <p:cNvPr id="137" name="Picture 4" descr="Images1"/>
            <p:cNvPicPr/>
            <p:nvPr/>
          </p:nvPicPr>
          <p:blipFill>
            <a:blip r:embed="rId1"/>
            <a:srcRect l="4444" t="4650" r="4444" b="2370"/>
            <a:stretch/>
          </p:blipFill>
          <p:spPr>
            <a:xfrm>
              <a:off x="0" y="765000"/>
              <a:ext cx="2971800" cy="290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5"/>
            <p:cNvSpPr/>
            <p:nvPr/>
          </p:nvSpPr>
          <p:spPr>
            <a:xfrm>
              <a:off x="1371600" y="2898720"/>
              <a:ext cx="2286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2916360" y="836640"/>
            <a:ext cx="3123720" cy="2895480"/>
            <a:chOff x="2916360" y="836640"/>
            <a:chExt cx="3123720" cy="2895480"/>
          </a:xfrm>
        </p:grpSpPr>
        <p:pic>
          <p:nvPicPr>
            <p:cNvPr id="140" name="Picture 7" descr="Images2"/>
            <p:cNvPicPr/>
            <p:nvPr/>
          </p:nvPicPr>
          <p:blipFill>
            <a:blip r:embed="rId2"/>
            <a:stretch/>
          </p:blipFill>
          <p:spPr>
            <a:xfrm>
              <a:off x="3125880" y="836640"/>
              <a:ext cx="29142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8"/>
            <p:cNvSpPr/>
            <p:nvPr/>
          </p:nvSpPr>
          <p:spPr>
            <a:xfrm>
              <a:off x="2916360" y="965160"/>
              <a:ext cx="180504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6084720" y="907920"/>
            <a:ext cx="2819520" cy="3238200"/>
            <a:chOff x="6084720" y="907920"/>
            <a:chExt cx="2819520" cy="3238200"/>
          </a:xfrm>
        </p:grpSpPr>
        <p:pic>
          <p:nvPicPr>
            <p:cNvPr id="143" name="Picture 10" descr="Images3"/>
            <p:cNvPicPr/>
            <p:nvPr/>
          </p:nvPicPr>
          <p:blipFill>
            <a:blip r:embed="rId3"/>
            <a:stretch/>
          </p:blipFill>
          <p:spPr>
            <a:xfrm>
              <a:off x="6084720" y="907920"/>
              <a:ext cx="2819520" cy="28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1"/>
            <p:cNvSpPr/>
            <p:nvPr/>
          </p:nvSpPr>
          <p:spPr>
            <a:xfrm>
              <a:off x="6237360" y="3613320"/>
              <a:ext cx="21492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"/>
          <p:cNvGrpSpPr/>
          <p:nvPr/>
        </p:nvGrpSpPr>
        <p:grpSpPr>
          <a:xfrm>
            <a:off x="0" y="3500280"/>
            <a:ext cx="3199680" cy="2139840"/>
            <a:chOff x="0" y="3500280"/>
            <a:chExt cx="3199680" cy="2139840"/>
          </a:xfrm>
        </p:grpSpPr>
        <p:pic>
          <p:nvPicPr>
            <p:cNvPr id="146" name="Picture 13" descr="Images4"/>
            <p:cNvPicPr/>
            <p:nvPr/>
          </p:nvPicPr>
          <p:blipFill>
            <a:blip r:embed="rId4"/>
            <a:stretch/>
          </p:blipFill>
          <p:spPr>
            <a:xfrm>
              <a:off x="0" y="3500280"/>
              <a:ext cx="2935080" cy="21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14"/>
            <p:cNvSpPr/>
            <p:nvPr/>
          </p:nvSpPr>
          <p:spPr>
            <a:xfrm>
              <a:off x="1067040" y="5181480"/>
              <a:ext cx="21326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Group 15"/>
          <p:cNvGrpSpPr/>
          <p:nvPr/>
        </p:nvGrpSpPr>
        <p:grpSpPr>
          <a:xfrm>
            <a:off x="2916360" y="2205000"/>
            <a:ext cx="3836880" cy="3614760"/>
            <a:chOff x="2916360" y="2205000"/>
            <a:chExt cx="3836880" cy="3614760"/>
          </a:xfrm>
        </p:grpSpPr>
        <p:pic>
          <p:nvPicPr>
            <p:cNvPr id="149" name="Picture 16" descr="Images5"/>
            <p:cNvPicPr/>
            <p:nvPr/>
          </p:nvPicPr>
          <p:blipFill>
            <a:blip r:embed="rId5"/>
            <a:srcRect l="7999" t="6389" r="10003" b="11704"/>
            <a:stretch/>
          </p:blipFill>
          <p:spPr>
            <a:xfrm>
              <a:off x="2916360" y="3152880"/>
              <a:ext cx="3124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7"/>
            <p:cNvSpPr/>
            <p:nvPr/>
          </p:nvSpPr>
          <p:spPr>
            <a:xfrm>
              <a:off x="4592520" y="2205000"/>
              <a:ext cx="2160720" cy="21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18"/>
          <p:cNvGrpSpPr/>
          <p:nvPr/>
        </p:nvGrpSpPr>
        <p:grpSpPr>
          <a:xfrm>
            <a:off x="6084720" y="1844640"/>
            <a:ext cx="3498480" cy="4343040"/>
            <a:chOff x="6084720" y="1844640"/>
            <a:chExt cx="3498480" cy="4343040"/>
          </a:xfrm>
        </p:grpSpPr>
        <p:pic>
          <p:nvPicPr>
            <p:cNvPr id="152" name="Picture 19" descr="Images6"/>
            <p:cNvPicPr/>
            <p:nvPr/>
          </p:nvPicPr>
          <p:blipFill>
            <a:blip r:embed="rId6"/>
            <a:stretch/>
          </p:blipFill>
          <p:spPr>
            <a:xfrm>
              <a:off x="6084720" y="3584520"/>
              <a:ext cx="2881080" cy="26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0"/>
            <p:cNvSpPr/>
            <p:nvPr/>
          </p:nvSpPr>
          <p:spPr>
            <a:xfrm>
              <a:off x="7311600" y="1844640"/>
              <a:ext cx="2271600" cy="11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539640" y="69228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1f497d"/>
                </a:solidFill>
                <a:latin typeface="Times New Roman"/>
              </a:rPr>
              <a:t>猴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22"/>
          <p:cNvSpPr/>
          <p:nvPr/>
        </p:nvSpPr>
        <p:spPr>
          <a:xfrm>
            <a:off x="3348000" y="7650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兔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6858000" y="335268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imes New Roman"/>
              </a:rPr>
              <a:t>鸭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6443640" y="620640"/>
            <a:ext cx="214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1f497d"/>
                </a:solidFill>
                <a:latin typeface="Times New Roman"/>
              </a:rPr>
              <a:t>松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1600200" y="42670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imes New Roman"/>
              </a:rPr>
              <a:t>公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3657600" y="335268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Times New Roman"/>
              </a:rPr>
              <a:t>孔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sh dir="l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3"/>
          <p:cNvGrpSpPr/>
          <p:nvPr/>
        </p:nvGrpSpPr>
        <p:grpSpPr>
          <a:xfrm>
            <a:off x="1039680" y="333360"/>
            <a:ext cx="9074160" cy="5617800"/>
            <a:chOff x="1039680" y="333360"/>
            <a:chExt cx="9074160" cy="5617800"/>
          </a:xfrm>
        </p:grpSpPr>
        <p:pic>
          <p:nvPicPr>
            <p:cNvPr id="161" name="Picture 4" descr="AN04_114"/>
            <p:cNvPicPr/>
            <p:nvPr/>
          </p:nvPicPr>
          <p:blipFill>
            <a:blip r:embed="rId1"/>
            <a:stretch/>
          </p:blipFill>
          <p:spPr>
            <a:xfrm>
              <a:off x="1236960" y="3972600"/>
              <a:ext cx="1657440" cy="197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5" descr="An01_127"/>
            <p:cNvPicPr/>
            <p:nvPr/>
          </p:nvPicPr>
          <p:blipFill>
            <a:blip r:embed="rId2"/>
            <a:stretch/>
          </p:blipFill>
          <p:spPr>
            <a:xfrm>
              <a:off x="1039680" y="2313000"/>
              <a:ext cx="1908360" cy="146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" descr="AN03_006"/>
            <p:cNvPicPr/>
            <p:nvPr/>
          </p:nvPicPr>
          <p:blipFill>
            <a:blip r:embed="rId3"/>
            <a:stretch/>
          </p:blipFill>
          <p:spPr>
            <a:xfrm>
              <a:off x="1236960" y="333360"/>
              <a:ext cx="1485720" cy="17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7"/>
            <p:cNvSpPr/>
            <p:nvPr/>
          </p:nvSpPr>
          <p:spPr>
            <a:xfrm>
              <a:off x="2248200" y="844200"/>
              <a:ext cx="7865640" cy="43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谁的</a:t>
              </a:r>
              <a:r>
                <a:rPr b="1" lang="zh-CN" sz="4000" spc="-1" strike="noStrike">
                  <a:solidFill>
                    <a:srgbClr val="e02410"/>
                  </a:solidFill>
                  <a:latin typeface="Arial"/>
                  <a:ea typeface="楷体_GB2312"/>
                </a:rPr>
                <a:t>尾巴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长</a:t>
              </a:r>
              <a:r>
                <a:rPr b="1" lang="zh-CN" sz="40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谁的尾巴</a:t>
              </a:r>
              <a:r>
                <a:rPr b="1" lang="zh-CN" sz="4000" spc="-1" strike="noStrike">
                  <a:solidFill>
                    <a:srgbClr val="e02410"/>
                  </a:solidFill>
                  <a:latin typeface="Arial"/>
                  <a:ea typeface="楷体_GB2312"/>
                </a:rPr>
                <a:t>短</a:t>
              </a:r>
              <a:r>
                <a:rPr b="1" lang="zh-CN" sz="40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谁的尾巴好像一</a:t>
              </a:r>
              <a:r>
                <a:rPr b="1" lang="zh-CN" sz="4000" spc="-1" strike="noStrike">
                  <a:solidFill>
                    <a:srgbClr val="e02410"/>
                  </a:solidFill>
                  <a:latin typeface="Arial"/>
                  <a:ea typeface="楷体_GB2312"/>
                </a:rPr>
                <a:t>把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伞</a:t>
              </a:r>
              <a:r>
                <a:rPr b="1" lang="zh-CN" sz="40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？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尾巴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尾巴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，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尾巴好像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3653640" y="3284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2410"/>
                </a:solidFill>
                <a:latin typeface="楷体_GB2312"/>
                <a:ea typeface="楷体_GB2312"/>
              </a:rPr>
              <a:t>猴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   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653640" y="3933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子      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963600" y="450864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02410"/>
                </a:solidFill>
                <a:latin typeface="楷体_GB2312"/>
                <a:ea typeface="楷体_GB2312"/>
              </a:rPr>
              <a:t>松鼠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一把伞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1"/>
          <p:cNvSpPr/>
          <p:nvPr/>
        </p:nvSpPr>
        <p:spPr>
          <a:xfrm flipV="1">
            <a:off x="6477120" y="1066320"/>
            <a:ext cx="431640" cy="43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2"/>
          <p:cNvSpPr/>
          <p:nvPr/>
        </p:nvSpPr>
        <p:spPr>
          <a:xfrm flipV="1">
            <a:off x="6477120" y="1676160"/>
            <a:ext cx="431640" cy="43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3"/>
          <p:cNvSpPr/>
          <p:nvPr/>
        </p:nvSpPr>
        <p:spPr>
          <a:xfrm flipV="1">
            <a:off x="8381880" y="2285640"/>
            <a:ext cx="432000" cy="43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5651640" y="5661000"/>
            <a:ext cx="2819160" cy="533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比赛项目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5" descr="伞"/>
          <p:cNvPicPr/>
          <p:nvPr/>
        </p:nvPicPr>
        <p:blipFill>
          <a:blip r:embed="rId4"/>
          <a:stretch/>
        </p:blipFill>
        <p:spPr>
          <a:xfrm>
            <a:off x="3564000" y="5084640"/>
            <a:ext cx="15238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3"/>
          <p:cNvGrpSpPr/>
          <p:nvPr/>
        </p:nvGrpSpPr>
        <p:grpSpPr>
          <a:xfrm>
            <a:off x="250920" y="812880"/>
            <a:ext cx="10474920" cy="4779720"/>
            <a:chOff x="250920" y="812880"/>
            <a:chExt cx="10474920" cy="4779720"/>
          </a:xfrm>
        </p:grpSpPr>
        <p:pic>
          <p:nvPicPr>
            <p:cNvPr id="174" name="Picture 4" descr="chicken2"/>
            <p:cNvPicPr/>
            <p:nvPr/>
          </p:nvPicPr>
          <p:blipFill>
            <a:blip r:embed="rId1"/>
            <a:stretch/>
          </p:blipFill>
          <p:spPr>
            <a:xfrm>
              <a:off x="468360" y="962280"/>
              <a:ext cx="2233800" cy="17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b62"/>
            <p:cNvPicPr/>
            <p:nvPr/>
          </p:nvPicPr>
          <p:blipFill>
            <a:blip r:embed="rId2"/>
            <a:stretch/>
          </p:blipFill>
          <p:spPr>
            <a:xfrm>
              <a:off x="6372360" y="812880"/>
              <a:ext cx="23050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未命名"/>
            <p:cNvPicPr/>
            <p:nvPr/>
          </p:nvPicPr>
          <p:blipFill>
            <a:blip r:embed="rId3"/>
            <a:stretch/>
          </p:blipFill>
          <p:spPr>
            <a:xfrm>
              <a:off x="3348000" y="901800"/>
              <a:ext cx="2160720" cy="180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7"/>
            <p:cNvSpPr/>
            <p:nvPr/>
          </p:nvSpPr>
          <p:spPr>
            <a:xfrm>
              <a:off x="250920" y="3578400"/>
              <a:ext cx="45356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谁的尾巴弯</a:t>
              </a:r>
              <a:r>
                <a:rPr b="1" lang="zh-CN" sz="42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？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谁的尾巴</a:t>
              </a:r>
              <a:r>
                <a:rPr b="1" lang="zh-CN" sz="4200" spc="-1" strike="noStrike">
                  <a:solidFill>
                    <a:srgbClr val="e02410"/>
                  </a:solidFill>
                  <a:latin typeface="Arial"/>
                  <a:ea typeface="楷体_GB2312"/>
                </a:rPr>
                <a:t>扁</a:t>
              </a:r>
              <a:r>
                <a:rPr b="1" lang="zh-CN" sz="42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？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谁的尾巴</a:t>
              </a:r>
              <a:r>
                <a:rPr b="1" lang="zh-CN" sz="4200" spc="-1" strike="noStrike">
                  <a:solidFill>
                    <a:srgbClr val="e02410"/>
                  </a:solidFill>
                  <a:latin typeface="Arial"/>
                  <a:ea typeface="楷体_GB2312"/>
                </a:rPr>
                <a:t>最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好看</a:t>
              </a:r>
              <a:r>
                <a:rPr b="1" lang="zh-CN" sz="4200" spc="-1" strike="noStrike">
                  <a:solidFill>
                    <a:srgbClr val="00ffff"/>
                  </a:solidFill>
                  <a:latin typeface="Arial"/>
                  <a:ea typeface="楷体_GB2312"/>
                </a:rPr>
                <a:t>？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3115800" y="3573720"/>
              <a:ext cx="76100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尾巴</a:t>
              </a: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尾巴</a:t>
              </a: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的尾巴</a:t>
              </a:r>
              <a:r>
                <a:rPr b="1" lang="zh-CN" sz="42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      </a:t>
              </a:r>
              <a:r>
                <a:rPr b="1" lang="zh-CN" sz="4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。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Text Box 9"/>
          <p:cNvSpPr/>
          <p:nvPr/>
        </p:nvSpPr>
        <p:spPr>
          <a:xfrm>
            <a:off x="4554720" y="3535200"/>
            <a:ext cx="338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e02410"/>
                </a:solidFill>
                <a:latin typeface="楷体_GB2312"/>
                <a:ea typeface="楷体_GB2312"/>
              </a:rPr>
              <a:t>公</a:t>
            </a:r>
            <a:r>
              <a:rPr b="1" lang="zh-CN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       弯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570560" y="4149720"/>
            <a:ext cx="338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e02410"/>
                </a:solidFill>
                <a:latin typeface="楷体_GB2312"/>
                <a:ea typeface="楷体_GB2312"/>
              </a:rPr>
              <a:t>鸭</a:t>
            </a:r>
            <a:r>
              <a:rPr b="1" lang="zh-CN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     </a:t>
            </a:r>
            <a:r>
              <a:rPr b="1" lang="zh-CN" sz="4200" spc="-1" strike="noStrike">
                <a:solidFill>
                  <a:srgbClr val="e02410"/>
                </a:solidFill>
                <a:latin typeface="楷体_GB2312"/>
                <a:ea typeface="楷体_GB2312"/>
              </a:rPr>
              <a:t>扁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4811400" y="4797360"/>
            <a:ext cx="370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雀      最好看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Line 12"/>
          <p:cNvSpPr/>
          <p:nvPr/>
        </p:nvSpPr>
        <p:spPr>
          <a:xfrm flipV="1">
            <a:off x="3429000" y="3733560"/>
            <a:ext cx="431640" cy="43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3429000" y="4419360"/>
            <a:ext cx="431640" cy="43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4191120" y="5257440"/>
            <a:ext cx="431640" cy="43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640" y="3933360"/>
            <a:ext cx="792504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孔雀尾巴的颜色真多啊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有 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有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还有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7" descr="孔雀图片"/>
          <p:cNvPicPr/>
          <p:nvPr/>
        </p:nvPicPr>
        <p:blipFill>
          <a:blip r:embed="rId1"/>
          <a:stretch/>
        </p:blipFill>
        <p:spPr>
          <a:xfrm>
            <a:off x="468360" y="692280"/>
            <a:ext cx="48006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0"/>
          <p:cNvSpPr/>
          <p:nvPr/>
        </p:nvSpPr>
        <p:spPr>
          <a:xfrm>
            <a:off x="5638680" y="60948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孔雀的尾巴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好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68360" y="170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alibri"/>
                <a:ea typeface="幼圆"/>
              </a:rPr>
              <a:t>动物尾巴的妙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47640" y="2852640"/>
            <a:ext cx="766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世界上大约生活着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50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余万种动物。动物身上大都长有一条尾巴，动物的尾巴形状各异，妙用多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1536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公鸡"/>
          <p:cNvPicPr/>
          <p:nvPr/>
        </p:nvPicPr>
        <p:blipFill>
          <a:blip r:embed="rId1"/>
          <a:stretch/>
        </p:blipFill>
        <p:spPr>
          <a:xfrm>
            <a:off x="395280" y="4365720"/>
            <a:ext cx="1847880" cy="1463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猴子"/>
          <p:cNvPicPr/>
          <p:nvPr/>
        </p:nvPicPr>
        <p:blipFill>
          <a:blip r:embed="rId2"/>
          <a:stretch/>
        </p:blipFill>
        <p:spPr>
          <a:xfrm>
            <a:off x="468360" y="2276640"/>
            <a:ext cx="1682640" cy="14634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松鼠"/>
          <p:cNvPicPr/>
          <p:nvPr/>
        </p:nvPicPr>
        <p:blipFill>
          <a:blip r:embed="rId3"/>
          <a:stretch/>
        </p:blipFill>
        <p:spPr>
          <a:xfrm>
            <a:off x="5508720" y="2276640"/>
            <a:ext cx="1655640" cy="1463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539640" y="981000"/>
            <a:ext cx="777744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9900"/>
                </a:solidFill>
                <a:latin typeface="Arial"/>
              </a:rPr>
              <a:t>这些小动物都比了尾巴的什么？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9900"/>
                </a:solidFill>
                <a:latin typeface="Arial"/>
              </a:rPr>
              <a:t>谁得到了什么冠军？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6" descr="孔雀"/>
          <p:cNvPicPr/>
          <p:nvPr/>
        </p:nvPicPr>
        <p:blipFill>
          <a:blip r:embed="rId4"/>
          <a:stretch/>
        </p:blipFill>
        <p:spPr>
          <a:xfrm>
            <a:off x="5508720" y="4365720"/>
            <a:ext cx="1868400" cy="14637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2126160" y="2852640"/>
            <a:ext cx="66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4504320" y="2852640"/>
            <a:ext cx="66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7023600" y="3139920"/>
            <a:ext cx="667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054880" y="4797360"/>
            <a:ext cx="66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4504320" y="4797360"/>
            <a:ext cx="66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696360" y="4956120"/>
            <a:ext cx="11552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3" descr="兔子"/>
          <p:cNvPicPr/>
          <p:nvPr/>
        </p:nvPicPr>
        <p:blipFill>
          <a:blip r:embed="rId5"/>
          <a:stretch/>
        </p:blipFill>
        <p:spPr>
          <a:xfrm>
            <a:off x="2771640" y="2276640"/>
            <a:ext cx="1727280" cy="1463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鸭子"/>
          <p:cNvPicPr/>
          <p:nvPr/>
        </p:nvPicPr>
        <p:blipFill>
          <a:blip r:embed="rId6"/>
          <a:stretch/>
        </p:blipFill>
        <p:spPr>
          <a:xfrm>
            <a:off x="2700360" y="4365720"/>
            <a:ext cx="1847880" cy="1463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4284720" y="227664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duǎ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4284720" y="4221000"/>
            <a:ext cx="115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iǎ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7740720" y="2637000"/>
            <a:ext cx="64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b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7190280" y="4476600"/>
            <a:ext cx="6678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7023600" y="2205000"/>
            <a:ext cx="66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7023600" y="2708280"/>
            <a:ext cx="66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812000" y="4365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u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4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684360" y="4114800"/>
            <a:ext cx="748800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森林王国“比尾巴”大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  <a:ea typeface="黑体"/>
              </a:rPr>
              <a:t>颁奖典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C:\Documents and Settings\Administrator\桌面\u=4076882345,1858126890&amp;fm=21&amp;gp=0.jpg"/>
          <p:cNvPicPr/>
          <p:nvPr/>
        </p:nvPicPr>
        <p:blipFill>
          <a:blip r:embed="rId1"/>
          <a:stretch/>
        </p:blipFill>
        <p:spPr>
          <a:xfrm>
            <a:off x="304920" y="1219320"/>
            <a:ext cx="1238040" cy="2095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Documents and Settings\Administrator\桌面\u=2932252883,881953612&amp;fm=23&amp;gp=0.jpg"/>
          <p:cNvPicPr/>
          <p:nvPr/>
        </p:nvPicPr>
        <p:blipFill>
          <a:blip r:embed="rId2"/>
          <a:stretch/>
        </p:blipFill>
        <p:spPr>
          <a:xfrm>
            <a:off x="1905120" y="762120"/>
            <a:ext cx="61722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31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33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4"/>
          <p:cNvSpPr/>
          <p:nvPr/>
        </p:nvSpPr>
        <p:spPr>
          <a:xfrm>
            <a:off x="2286000" y="2362320"/>
            <a:ext cx="4952880" cy="1904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朗读比比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6"/>
          <p:cNvSpPr/>
          <p:nvPr/>
        </p:nvSpPr>
        <p:spPr>
          <a:xfrm>
            <a:off x="0" y="1066680"/>
            <a:ext cx="4495680" cy="25783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的尾巴长？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的尾巴短？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的尾巴好像一把伞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4648320" y="1066680"/>
            <a:ext cx="4495680" cy="264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子的尾巴长。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子的尾巴短。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松鼠的尾巴好像一把伞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22"/>
          <p:cNvSpPr/>
          <p:nvPr/>
        </p:nvSpPr>
        <p:spPr>
          <a:xfrm>
            <a:off x="0" y="4038480"/>
            <a:ext cx="4495680" cy="2054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的尾巴弯？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的尾巴扁？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的尾巴最好看？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AutoShape 23"/>
          <p:cNvSpPr/>
          <p:nvPr/>
        </p:nvSpPr>
        <p:spPr>
          <a:xfrm>
            <a:off x="4648320" y="4038480"/>
            <a:ext cx="4495680" cy="2127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鸡的尾巴弯。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鸭子的尾巴扁。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雀的尾巴最好看。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24"/>
          <p:cNvSpPr/>
          <p:nvPr/>
        </p:nvSpPr>
        <p:spPr>
          <a:xfrm>
            <a:off x="3132000" y="476280"/>
            <a:ext cx="2590920" cy="990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比尾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4"/>
          <p:cNvSpPr/>
          <p:nvPr/>
        </p:nvSpPr>
        <p:spPr>
          <a:xfrm>
            <a:off x="2590920" y="2590920"/>
            <a:ext cx="45720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说话比比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燕子尾巴"/>
          <p:cNvPicPr/>
          <p:nvPr/>
        </p:nvPicPr>
        <p:blipFill>
          <a:blip r:embed="rId1"/>
          <a:stretch/>
        </p:blipFill>
        <p:spPr>
          <a:xfrm>
            <a:off x="457200" y="762120"/>
            <a:ext cx="7283520" cy="54864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685800" y="4952880"/>
            <a:ext cx="4876920" cy="990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燕子的尾巴像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大象耳朵2"/>
          <p:cNvPicPr/>
          <p:nvPr/>
        </p:nvPicPr>
        <p:blipFill>
          <a:blip r:embed="rId1"/>
          <a:stretch/>
        </p:blipFill>
        <p:spPr>
          <a:xfrm>
            <a:off x="3276720" y="1341360"/>
            <a:ext cx="5333760" cy="31165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5"/>
          <p:cNvSpPr/>
          <p:nvPr/>
        </p:nvSpPr>
        <p:spPr>
          <a:xfrm>
            <a:off x="1219320" y="5029200"/>
            <a:ext cx="5410080" cy="1295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象的耳朵像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兔子"/>
          <p:cNvPicPr/>
          <p:nvPr/>
        </p:nvPicPr>
        <p:blipFill>
          <a:blip r:embed="rId1"/>
          <a:stretch/>
        </p:blipFill>
        <p:spPr>
          <a:xfrm>
            <a:off x="395280" y="1197000"/>
            <a:ext cx="7086600" cy="279864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900000" y="4508640"/>
            <a:ext cx="5105520" cy="12189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兔子的眼睛像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比尾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猴子                    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兔子                     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松鼠                   一把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公鸡                         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鸭子                          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孔雀                         最好看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539640" y="234936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《比尾巴》这首儿歌，共有四 个小节，一、二节和三、四节在结构形式上是一样的，课文采用“三问三答”的形式介绍了六 种动物尾巴的特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195640" y="765000"/>
            <a:ext cx="69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鸟把尾巴当作飞行器。鸟的尾巴上，长着又长又宽的羽毛，这些羽毛展开时好像扇子，能够灵活转动，便于掌握飞行方向。鸟尾在飞行时起着舵的作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燕"/>
          <p:cNvPicPr/>
          <p:nvPr/>
        </p:nvPicPr>
        <p:blipFill>
          <a:blip r:embed="rId1"/>
          <a:stretch/>
        </p:blipFill>
        <p:spPr>
          <a:xfrm>
            <a:off x="0" y="765000"/>
            <a:ext cx="2232000" cy="2376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0" y="3429000"/>
            <a:ext cx="57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鱼把尾巴当作游泳器。鱼在水里靠尾巴的左右摆动，促使身体向前推进。鱼的尾巴还能控制方向，并随不同的摆动方向而转向游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tu11"/>
          <p:cNvPicPr/>
          <p:nvPr/>
        </p:nvPicPr>
        <p:blipFill>
          <a:blip r:embed="rId2"/>
          <a:stretch/>
        </p:blipFill>
        <p:spPr>
          <a:xfrm>
            <a:off x="5724360" y="3284640"/>
            <a:ext cx="31672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60520" y="2060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 儿歌抓住各种小动物尾巴的特点，以“比”的形式为主线，同时儿歌形式活泼，读起来朗朗上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2050920" y="367272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这次比尾巴大赛不仅吸引了这些小动物，还有很多动物看到这些小动物比尾巴比得这么起劲也想来比比。那同学们能不能也为它们编首儿歌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6"/>
          <p:cNvSpPr/>
          <p:nvPr/>
        </p:nvSpPr>
        <p:spPr>
          <a:xfrm>
            <a:off x="108000" y="191124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小朋友，今天我们很高兴认识了六种小动物，以及它们尾巴的特点。其实，有许许多多的动物，它们的尾巴都有各自的特点。请小朋友在课下收集有关动物尾巴的图片、知识等，让我们了解更多小动物的奥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755640" y="191628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有几只小动物太淘气了，把尾巴不小心弄丢了，我们帮它们找回自己的尾巴好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大自然中还有许许多多的动物，它们的尾巴各式各样，各有各的特点。说一说生活中你还知道哪些动物的尾巴，有什么作用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324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765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牛把尾巴当作平衡器。牛有长长的尾巴，末端长着丛生的毛。当它奔跑时，尾巴竖起，起着平衡身体的作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ow2"/>
          <p:cNvPicPr/>
          <p:nvPr/>
        </p:nvPicPr>
        <p:blipFill>
          <a:blip r:embed="rId1"/>
          <a:stretch/>
        </p:blipFill>
        <p:spPr>
          <a:xfrm>
            <a:off x="5940360" y="981000"/>
            <a:ext cx="2881440" cy="22338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348000" y="2852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狐猴把尾巴当作仓库。在食物丰富的雨季，狐猴就在尾巴里储存起大量营养品；在食源缺乏的旱季，狐猴靠消耗尾巴里储备的营养来度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ou"/>
          <p:cNvPicPr/>
          <p:nvPr/>
        </p:nvPicPr>
        <p:blipFill>
          <a:blip r:embed="rId2"/>
          <a:stretch/>
        </p:blipFill>
        <p:spPr>
          <a:xfrm>
            <a:off x="468360" y="3357720"/>
            <a:ext cx="2663640" cy="2582640"/>
          </a:xfrm>
          <a:prstGeom prst="rect">
            <a:avLst/>
          </a:prstGeom>
          <a:ln w="0">
            <a:noFill/>
          </a:ln>
        </p:spPr>
      </p:pic>
      <p:sp>
        <p:nvSpPr>
          <p:cNvPr id="58" name="矩形 1741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492360" y="836640"/>
            <a:ext cx="56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草原上奔跑的骏马，尾巴向后飘逸，神气极了。在奔跑时，马的尾巴起了很好的平衡作用。平时马儿又将尾巴当作“苍蝇拍”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ma"/>
          <p:cNvPicPr/>
          <p:nvPr/>
        </p:nvPicPr>
        <p:blipFill>
          <a:blip r:embed="rId1"/>
          <a:stretch/>
        </p:blipFill>
        <p:spPr>
          <a:xfrm>
            <a:off x="324000" y="836640"/>
            <a:ext cx="2950920" cy="2494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79280" y="350028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松鼠把尾巴当作交际工具，用尾巴来传递信息，它们还用尾巴的不同摆动状态，来表示敌人的种类、大小、距离和运动方向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松鼠2"/>
          <p:cNvPicPr/>
          <p:nvPr/>
        </p:nvPicPr>
        <p:blipFill>
          <a:blip r:embed="rId2"/>
          <a:stretch/>
        </p:blipFill>
        <p:spPr>
          <a:xfrm>
            <a:off x="5796000" y="3068640"/>
            <a:ext cx="28796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65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8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971640" y="981000"/>
            <a:ext cx="59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7120" y="1562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0" y="503280"/>
            <a:ext cx="9144000" cy="50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bǐwěi bā  </a:t>
            </a: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shu</a:t>
            </a:r>
            <a:r>
              <a:rPr b="0" lang="en-US" sz="5400" spc="-1" strike="noStrike">
                <a:solidFill>
                  <a:srgbClr val="ff7c80"/>
                </a:solidFill>
                <a:latin typeface="Calibri"/>
              </a:rPr>
              <a:t>í</a:t>
            </a: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  ch</a:t>
            </a:r>
            <a:r>
              <a:rPr b="0" lang="en-US" sz="5400" spc="-1" strike="noStrike">
                <a:solidFill>
                  <a:srgbClr val="ff7c80"/>
                </a:solidFill>
                <a:latin typeface="Calibri"/>
              </a:rPr>
              <a:t>á</a:t>
            </a:r>
            <a:r>
              <a:rPr b="0" lang="en-US" sz="5400" spc="-1" strike="noStrike">
                <a:solidFill>
                  <a:srgbClr val="ff7c80"/>
                </a:solidFill>
                <a:latin typeface="Times New Roman"/>
              </a:rPr>
              <a:t>ng </a:t>
            </a:r>
            <a:r>
              <a:rPr b="0" lang="en-US" sz="5400" spc="-1" strike="noStrike">
                <a:solidFill>
                  <a:srgbClr val="ff0066"/>
                </a:solidFill>
                <a:latin typeface="Times New Roman"/>
              </a:rPr>
              <a:t>duǎn b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比 尾  巴  谁   长    短     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7c80"/>
                </a:solidFill>
                <a:latin typeface="Times New Roman"/>
              </a:rPr>
              <a:t>sǎn   t</a:t>
            </a:r>
            <a:r>
              <a:rPr b="0" lang="en-US" sz="6000" spc="-1" strike="noStrike">
                <a:solidFill>
                  <a:srgbClr val="ff7c80"/>
                </a:solidFill>
                <a:latin typeface="Calibri"/>
              </a:rPr>
              <a:t>ù   zuì </a:t>
            </a:r>
            <a:r>
              <a:rPr b="0" lang="en-US" sz="6000" spc="-1" strike="noStrike">
                <a:solidFill>
                  <a:srgbClr val="ff7c80"/>
                </a:solidFill>
                <a:latin typeface="Times New Roman"/>
              </a:rPr>
              <a:t>gōng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伞    兔  最  公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219320" y="8380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4572000" y="24796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6324480" y="838080"/>
            <a:ext cx="168300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143000" y="4343400"/>
            <a:ext cx="1682640" cy="1406520"/>
          </a:xfrm>
          <a:prstGeom prst="sun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2895480" y="4343400"/>
            <a:ext cx="1683000" cy="1406520"/>
          </a:xfrm>
          <a:prstGeom prst="sun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219320" y="24382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6324480" y="2438280"/>
            <a:ext cx="1683000" cy="140652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4572000" y="4343400"/>
            <a:ext cx="1682640" cy="1406520"/>
          </a:xfrm>
          <a:prstGeom prst="sun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6324480" y="4267080"/>
            <a:ext cx="1683000" cy="1540080"/>
          </a:xfrm>
          <a:prstGeom prst="sun">
            <a:avLst>
              <a:gd name="adj" fmla="val 25000"/>
            </a:avLst>
          </a:prstGeom>
          <a:solidFill>
            <a:srgbClr val="66ff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2889360" y="2479680"/>
            <a:ext cx="1682640" cy="1406520"/>
          </a:xfrm>
          <a:prstGeom prst="sun">
            <a:avLst>
              <a:gd name="adj" fmla="val 25000"/>
            </a:avLst>
          </a:prstGeom>
          <a:solidFill>
            <a:srgbClr val="ff33cc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4724280" y="838080"/>
            <a:ext cx="168300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3"/>
          <p:cNvSpPr/>
          <p:nvPr/>
        </p:nvSpPr>
        <p:spPr>
          <a:xfrm>
            <a:off x="2962440" y="803160"/>
            <a:ext cx="1682640" cy="140652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04920" y="1371600"/>
            <a:ext cx="7588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我会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15"/>
          <p:cNvSpPr/>
          <p:nvPr/>
        </p:nvSpPr>
        <p:spPr>
          <a:xfrm>
            <a:off x="7257960" y="4789440"/>
            <a:ext cx="18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0" y="586728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八字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066680" y="36576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楷体_GB2312"/>
              </a:rPr>
              <a:t>鸟字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174312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219320" y="2209680"/>
            <a:ext cx="19810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个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33520" y="68580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Calibri"/>
                <a:ea typeface="黑体"/>
              </a:rPr>
              <a:t>比一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343400" y="2209680"/>
            <a:ext cx="19810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公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267080" y="43434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八字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95280" y="4343400"/>
            <a:ext cx="221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人字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User</cp:lastModifiedBy>
  <dcterms:modified xsi:type="dcterms:W3CDTF">2016-10-06T12:40:22Z</dcterms:modified>
  <cp:revision>2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