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0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aike.sogou.com/lemma/ShowInnerLink.htm?lemmaId=4234900&amp;ss_c=ssc.citiao.link" TargetMode="External"/><Relationship Id="rId3" Type="http://schemas.openxmlformats.org/officeDocument/2006/relationships/hyperlink" Target="http://baike.sogou.com/lemma/ShowInnerLink.htm?lemmaId=12479" TargetMode="External"/><Relationship Id="rId4" Type="http://schemas.openxmlformats.org/officeDocument/2006/relationships/hyperlink" Target="http://baike.sogou.com/lemma/ShowInnerLink.htm?lemmaId=8683" TargetMode="External"/><Relationship Id="rId5" Type="http://schemas.openxmlformats.org/officeDocument/2006/relationships/hyperlink" Target="http://baike.sogou.com/lemma/ShowInnerLink.htm?lemmaId=22038" TargetMode="External"/><Relationship Id="rId6" Type="http://schemas.openxmlformats.org/officeDocument/2006/relationships/hyperlink" Target="http://baike.sogou.com/lemma/ShowInnerLink.htm?lemmaId=26383&amp;ss_c=ssc.citiao.link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2411280" y="1268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青蛙写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1165591_12964018137777"/>
          <p:cNvPicPr/>
          <p:nvPr/>
        </p:nvPicPr>
        <p:blipFill>
          <a:blip r:embed="rId1"/>
          <a:stretch/>
        </p:blipFill>
        <p:spPr>
          <a:xfrm>
            <a:off x="1619280" y="2421000"/>
            <a:ext cx="6912000" cy="3573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直线连接符 21"/>
          <p:cNvSpPr/>
          <p:nvPr/>
        </p:nvSpPr>
        <p:spPr>
          <a:xfrm flipV="1">
            <a:off x="395280" y="177300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94720" y="1844640"/>
            <a:ext cx="6544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组合作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读一读（把课文读熟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说一说（你发现了什么？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70880" y="83556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初读全文，理顺文络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516320" y="119304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生读课文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3585960" y="40759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提问：都有谁来帮忙青蛙要作诗了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6154560" y="4559400"/>
            <a:ext cx="2881440" cy="1749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3132000" y="4559400"/>
            <a:ext cx="2880000" cy="1749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2010-06-22_10-39-33_5"/>
          <p:cNvPicPr/>
          <p:nvPr/>
        </p:nvPicPr>
        <p:blipFill>
          <a:blip r:embed="rId3"/>
          <a:stretch/>
        </p:blipFill>
        <p:spPr>
          <a:xfrm>
            <a:off x="108000" y="4559400"/>
            <a:ext cx="2909880" cy="1677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0"/>
          <p:cNvSpPr/>
          <p:nvPr/>
        </p:nvSpPr>
        <p:spPr>
          <a:xfrm>
            <a:off x="1763640" y="5589720"/>
            <a:ext cx="12240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蝌 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4500720" y="5589720"/>
            <a:ext cx="14396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水泡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7812000" y="5732640"/>
            <a:ext cx="11527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水 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50920" y="1722600"/>
            <a:ext cx="8529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阅读小提示：      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1)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读课文时要读准音，看准字，遇到不认识的字借助拼音多读几遍。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圈画出课文生字，再多读几遍。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边读边用笔标出自然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1735920" y="907560"/>
            <a:ext cx="27684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再读课文，随文识字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372760" y="1773360"/>
            <a:ext cx="319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雨了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雨点儿淅沥沥，沙啦啦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青蛙说：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我要写诗啦！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105640" y="2852640"/>
            <a:ext cx="333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蝌蚪游过来说：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我要给你当个小逗号！”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735920" y="1125000"/>
            <a:ext cx="27684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再读课文，随文识字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00000" y="285264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蝌蚪游过来说：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我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当个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逗号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！”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2479320" y="2563920"/>
            <a:ext cx="278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池塘里的水泡泡说：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我能当个小句号。”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15200" y="1125000"/>
            <a:ext cx="27684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再读课文，随文识字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530440" y="256536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池塘里的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泡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泡说：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我能当个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句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号。”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2404440" y="2779560"/>
            <a:ext cx="30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荷叶上的一串水珠说：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我们可以当省略号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159920" y="1125000"/>
            <a:ext cx="27684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再读课文，随文识字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567880" y="2781000"/>
            <a:ext cx="273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荷叶上的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串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说：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我们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省略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号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258920" y="4460760"/>
            <a:ext cx="33606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622240" y="2491200"/>
            <a:ext cx="23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青蛙的诗写成了：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呱呱，呱呱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呱呱呱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呱呱，呱呱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呱呱呱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......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4"/>
          <p:cNvSpPr/>
          <p:nvPr/>
        </p:nvSpPr>
        <p:spPr>
          <a:xfrm>
            <a:off x="8029440" y="5950080"/>
            <a:ext cx="287640" cy="288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15920" y="907560"/>
            <a:ext cx="27684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再读课文，随文识字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609640" y="2493000"/>
            <a:ext cx="23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青蛙的诗写成了：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呱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呱，呱呱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呱呱呱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呱呱，呱呱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呱呱呱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......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571680" y="3114720"/>
            <a:ext cx="79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青蛙写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左大括号 3"/>
          <p:cNvSpPr/>
          <p:nvPr/>
        </p:nvSpPr>
        <p:spPr>
          <a:xfrm>
            <a:off x="1549440" y="2565360"/>
            <a:ext cx="358560" cy="33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3384720"/>
              <a:gd name="textAreaBottom" fmla="*/ 33757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908000" y="299736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蝌蚪——小逗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1908000" y="4149720"/>
            <a:ext cx="42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水泡泡——小句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1763640" y="501336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水珠——省略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左大括号 17"/>
          <p:cNvSpPr/>
          <p:nvPr/>
        </p:nvSpPr>
        <p:spPr>
          <a:xfrm flipH="1">
            <a:off x="5709600" y="2568600"/>
            <a:ext cx="431640" cy="3382920"/>
          </a:xfrm>
          <a:custGeom>
            <a:avLst/>
            <a:gdLst>
              <a:gd name="textAreaLeft" fmla="*/ 275400 w 431640"/>
              <a:gd name="textAreaRight" fmla="*/ 431640 w 431640"/>
              <a:gd name="textAreaTop" fmla="*/ 11160 h 3382920"/>
              <a:gd name="textAreaBottom" fmla="*/ 3371760 h 33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"/>
                  <a:pt x="10800" y="229"/>
                </a:cubicBezTo>
                <a:lnTo>
                  <a:pt x="10800" y="10571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5"/>
                  <a:pt x="10800" y="11029"/>
                </a:cubicBezTo>
                <a:lnTo>
                  <a:pt x="10800" y="21371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6647040" y="2830680"/>
            <a:ext cx="52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成了一首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468360" y="206064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作者生动地描绘了青蛙在下雨天“呱呱”地如作诗一样鸣叫的情景，形象地将小蝌蚪、水泡泡和一串水珠比作了诗歌中的逗号、句号、省略号，读来让人浮想联翩。体会大自然给我们创造的美。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560520" y="206064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Calibri"/>
              </a:rPr>
              <a:t>作者生动地描绘了青蛙在下雨        天“呱呱”地如作诗一样鸣叫的情景，形象地 将小蝌蚪、水泡泡和一串水珠比作了诗歌中的逗号、句号、省略号，读来让人浮想联翩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6836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alibri"/>
                <a:ea typeface="幼圆"/>
              </a:rPr>
              <a:t>张秋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285264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Calibri"/>
              </a:rPr>
              <a:t>   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张秋生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，男，汉族，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968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年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月出生， 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福建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 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泉州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人，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993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年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月加入中国共产党，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992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年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月参加工作， 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北方交通大学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运输经济学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专业毕业，博士研究生学历，经济学博士，教授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blog_92a21e7c0101ibva"/>
          <p:cNvPicPr/>
          <p:nvPr/>
        </p:nvPicPr>
        <p:blipFill>
          <a:blip r:embed="rId7"/>
          <a:stretch/>
        </p:blipFill>
        <p:spPr>
          <a:xfrm>
            <a:off x="6588000" y="1052640"/>
            <a:ext cx="1791000" cy="1609560"/>
          </a:xfrm>
          <a:prstGeom prst="rect">
            <a:avLst/>
          </a:prstGeom>
          <a:ln w="0">
            <a:noFill/>
          </a:ln>
        </p:spPr>
      </p:pic>
      <p:sp>
        <p:nvSpPr>
          <p:cNvPr id="50" name="矩形 15368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898560" y="266076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池塘边的风景这么美好，小伙伴们这么热心，青蛙的诗终于写成了。它高兴极了！我们也为它感到高兴，是吧？分角色读课文。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395280" y="141264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"/>
          <p:cNvSpPr/>
          <p:nvPr/>
        </p:nvSpPr>
        <p:spPr>
          <a:xfrm>
            <a:off x="252360" y="2349360"/>
            <a:ext cx="85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青蛙写诗时小蝌蚪来当逗号了，水珠来当句号，一串水泡泡当省略号，那这些小动物在作诗时，谁还能帮它们当标点符号呢？ 你也试着写一首诗吧，展开你丰富的想象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182400" y="2924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试着背诵课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324000" y="1484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53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6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395280" y="23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写     诗   点     要   过     给      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68360" y="16286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ě     shī    diǎn   yào   </a:t>
            </a:r>
            <a:r>
              <a:rPr b="1" lang="en-US" sz="3200" spc="-1" strike="noStrike">
                <a:solidFill>
                  <a:srgbClr val="0000ff"/>
                </a:solidFill>
                <a:latin typeface="DotumChe"/>
                <a:ea typeface="DotumChe"/>
              </a:rPr>
              <a:t>g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uò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ěi    d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11280" y="321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huàn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  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52400" y="4083120"/>
            <a:ext cx="69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Calibri"/>
              </a:rPr>
              <a:t>串      们   以         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4123800" y="316692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hé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1741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3203640" y="2708280"/>
            <a:ext cx="34192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03280" y="907920"/>
            <a:ext cx="6437520" cy="5256360"/>
          </a:xfrm>
          <a:prstGeom prst="rect">
            <a:avLst/>
          </a:prstGeom>
          <a:ln w="0">
            <a:noFill/>
          </a:ln>
        </p:spPr>
      </p:pic>
      <p:sp>
        <p:nvSpPr>
          <p:cNvPr id="65" name="WordArt 3"/>
          <p:cNvSpPr txBox="1"/>
          <p:nvPr/>
        </p:nvSpPr>
        <p:spPr>
          <a:xfrm>
            <a:off x="2971800" y="1981080"/>
            <a:ext cx="34290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66" name="矩形 19459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87280" y="836640"/>
            <a:ext cx="6293160" cy="540072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2895480" y="1981080"/>
            <a:ext cx="35053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个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8000" y="620640"/>
            <a:ext cx="6142320" cy="540072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3851280" y="1916280"/>
            <a:ext cx="31240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cp:keywords/>
  <dc:language>en-US</dc:language>
  <cp:lastModifiedBy>User</cp:lastModifiedBy>
  <dcterms:modified xsi:type="dcterms:W3CDTF">2016-10-06T12:41:00Z</dcterms:modified>
  <cp:revision>2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