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760" y="714240"/>
            <a:ext cx="8286480" cy="1800"/>
            <a:chOff x="428760" y="714240"/>
            <a:chExt cx="8286480" cy="1800"/>
          </a:xfrm>
        </p:grpSpPr>
        <p:sp>
          <p:nvSpPr>
            <p:cNvPr id="1" name="直接连接符 3"/>
            <p:cNvSpPr/>
            <p:nvPr/>
          </p:nvSpPr>
          <p:spPr>
            <a:xfrm>
              <a:off x="428760" y="714240"/>
              <a:ext cx="8286480" cy="1800"/>
            </a:xfrm>
            <a:prstGeom prst="line">
              <a:avLst/>
            </a:prstGeom>
            <a:ln w="31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428760" y="714240"/>
              <a:ext cx="8286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28760" y="6356520"/>
            <a:ext cx="8286480" cy="1440"/>
            <a:chOff x="428760" y="6356520"/>
            <a:chExt cx="8286480" cy="1440"/>
          </a:xfrm>
        </p:grpSpPr>
        <p:sp>
          <p:nvSpPr>
            <p:cNvPr id="4" name="直接连接符 11"/>
            <p:cNvSpPr/>
            <p:nvPr/>
          </p:nvSpPr>
          <p:spPr>
            <a:xfrm>
              <a:off x="428760" y="6356520"/>
              <a:ext cx="8286480" cy="1440"/>
            </a:xfrm>
            <a:prstGeom prst="line">
              <a:avLst/>
            </a:prstGeom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428760" y="6356520"/>
              <a:ext cx="8286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" name="图片 102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雨点"/>
          <p:cNvPicPr/>
          <p:nvPr/>
        </p:nvPicPr>
        <p:blipFill>
          <a:blip r:embed="rId1"/>
          <a:stretch/>
        </p:blipFill>
        <p:spPr>
          <a:xfrm>
            <a:off x="181080" y="368280"/>
            <a:ext cx="8669160" cy="619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1011240" y="3270240"/>
            <a:ext cx="662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雨点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7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3078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538280" y="509760"/>
            <a:ext cx="66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想一想，猜一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千条线，万条线，落到水里看不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366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1" name="小雨沙沙.mp3" descr=""/>
          <p:cNvPicPr/>
          <p:nvPr/>
        </p:nvPicPr>
        <p:blipFill>
          <a:blip r:embed="rId2"/>
          <a:stretch/>
        </p:blipFill>
        <p:spPr>
          <a:xfrm>
            <a:off x="7885080" y="517536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636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0200707233553327108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86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041480" y="3021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数不清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雨点儿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52400" y="4265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里飘落下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W020070723355332710823"/>
          <p:cNvPicPr/>
          <p:nvPr/>
        </p:nvPicPr>
        <p:blipFill>
          <a:blip r:embed="rId1"/>
          <a:stretch/>
        </p:blipFill>
        <p:spPr>
          <a:xfrm>
            <a:off x="826920" y="824040"/>
            <a:ext cx="7920360" cy="537372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" descr=""/>
          <p:cNvPicPr/>
          <p:nvPr/>
        </p:nvPicPr>
        <p:blipFill>
          <a:blip r:embed="rId2"/>
          <a:stretch/>
        </p:blipFill>
        <p:spPr>
          <a:xfrm>
            <a:off x="2584440" y="1633680"/>
            <a:ext cx="5280120" cy="264636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"/>
          <p:cNvSpPr/>
          <p:nvPr/>
        </p:nvSpPr>
        <p:spPr>
          <a:xfrm>
            <a:off x="11937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3629160" y="4068720"/>
            <a:ext cx="23176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月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6208560" y="4068720"/>
            <a:ext cx="23180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5"/>
          <p:cNvSpPr/>
          <p:nvPr/>
        </p:nvSpPr>
        <p:spPr>
          <a:xfrm>
            <a:off x="4527720" y="1633680"/>
            <a:ext cx="283680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836640"/>
            <a:ext cx="824364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空中，大雨点儿问小雨点儿：“你要到哪里去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雨点儿回答：“我要去有花有草的地方。你呢？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未命名1"/>
          <p:cNvPicPr/>
          <p:nvPr/>
        </p:nvPicPr>
        <p:blipFill>
          <a:blip r:embed="rId1"/>
          <a:stretch/>
        </p:blipFill>
        <p:spPr>
          <a:xfrm>
            <a:off x="468360" y="765000"/>
            <a:ext cx="867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W020070723355332710823"/>
          <p:cNvPicPr/>
          <p:nvPr/>
        </p:nvPicPr>
        <p:blipFill>
          <a:blip r:embed="rId1"/>
          <a:stretch/>
        </p:blipFill>
        <p:spPr>
          <a:xfrm>
            <a:off x="12600" y="849240"/>
            <a:ext cx="8891640" cy="5373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1649520" y="49320"/>
            <a:ext cx="4174920" cy="1295280"/>
          </a:xfrm>
          <a:prstGeom prst="wedgeRoundRectCallout">
            <a:avLst>
              <a:gd name="adj1" fmla="val 50379"/>
              <a:gd name="adj2" fmla="val -38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有花有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52360" y="3933720"/>
            <a:ext cx="4319640" cy="863640"/>
          </a:xfrm>
          <a:prstGeom prst="wedgeRoundRectCallout">
            <a:avLst>
              <a:gd name="adj1" fmla="val 65694"/>
              <a:gd name="adj2" fmla="val -18639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里去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56240" y="3718080"/>
            <a:ext cx="4248000" cy="1304640"/>
          </a:xfrm>
          <a:prstGeom prst="wedgeRoundRectCallout">
            <a:avLst>
              <a:gd name="adj1" fmla="val -14796"/>
              <a:gd name="adj2" fmla="val -15529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要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没有草的地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3"/>
          <p:cNvPicPr/>
          <p:nvPr/>
        </p:nvPicPr>
        <p:blipFill>
          <a:blip r:embed="rId1"/>
          <a:stretch/>
        </p:blipFill>
        <p:spPr>
          <a:xfrm>
            <a:off x="0" y="836640"/>
            <a:ext cx="8891640" cy="537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68360" y="1268280"/>
            <a:ext cx="7991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久，有花有草的地方，花更红了，草更绿了。没有花没有草的地方，开出了红的花，长出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雨点儿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306440" y="1341360"/>
            <a:ext cx="692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红了，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更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552760" y="2887560"/>
            <a:ext cx="568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_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更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_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7960" y="3859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花有草的地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雨点3"/>
          <p:cNvPicPr/>
          <p:nvPr/>
        </p:nvPicPr>
        <p:blipFill>
          <a:blip r:embed="rId1"/>
          <a:stretch/>
        </p:blipFill>
        <p:spPr>
          <a:xfrm>
            <a:off x="403200" y="922320"/>
            <a:ext cx="8207280" cy="501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403200" y="2048040"/>
            <a:ext cx="2595600" cy="388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4216320" y="3192480"/>
            <a:ext cx="4394160" cy="2743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95440" y="922320"/>
            <a:ext cx="65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没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花没有草的地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23880" y="2048040"/>
            <a:ext cx="6272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开出了红的花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长出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了绿的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HOUZHIBAN"/>
          <p:cNvPicPr/>
          <p:nvPr/>
        </p:nvPicPr>
        <p:blipFill>
          <a:blip r:embed="rId1"/>
          <a:stretch/>
        </p:blipFill>
        <p:spPr>
          <a:xfrm>
            <a:off x="4343400" y="9144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SHOUZHIBAN"/>
          <p:cNvPicPr/>
          <p:nvPr/>
        </p:nvPicPr>
        <p:blipFill>
          <a:blip r:embed="rId2"/>
          <a:stretch/>
        </p:blipFill>
        <p:spPr>
          <a:xfrm>
            <a:off x="3581280" y="167652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HOUZHIBAN"/>
          <p:cNvPicPr/>
          <p:nvPr/>
        </p:nvPicPr>
        <p:blipFill>
          <a:blip r:embed="rId3"/>
          <a:stretch/>
        </p:blipFill>
        <p:spPr>
          <a:xfrm>
            <a:off x="2819520" y="23623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HOUZHIBAN"/>
          <p:cNvPicPr/>
          <p:nvPr/>
        </p:nvPicPr>
        <p:blipFill>
          <a:blip r:embed="rId4"/>
          <a:stretch/>
        </p:blipFill>
        <p:spPr>
          <a:xfrm>
            <a:off x="2057400" y="31240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HOUZHIBAN"/>
          <p:cNvPicPr/>
          <p:nvPr/>
        </p:nvPicPr>
        <p:blipFill>
          <a:blip r:embed="rId5"/>
          <a:stretch/>
        </p:blipFill>
        <p:spPr>
          <a:xfrm>
            <a:off x="1116000" y="3429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HOUZHIBAN"/>
          <p:cNvPicPr/>
          <p:nvPr/>
        </p:nvPicPr>
        <p:blipFill>
          <a:blip r:embed="rId6"/>
          <a:stretch/>
        </p:blipFill>
        <p:spPr>
          <a:xfrm>
            <a:off x="1187280" y="458136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HOUZHIBAN"/>
          <p:cNvPicPr/>
          <p:nvPr/>
        </p:nvPicPr>
        <p:blipFill>
          <a:blip r:embed="rId7"/>
          <a:stretch/>
        </p:blipFill>
        <p:spPr>
          <a:xfrm>
            <a:off x="0" y="4724280"/>
            <a:ext cx="1314360" cy="13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HOUZHIBAN"/>
          <p:cNvPicPr/>
          <p:nvPr/>
        </p:nvPicPr>
        <p:blipFill>
          <a:blip r:embed="rId8"/>
          <a:stretch/>
        </p:blipFill>
        <p:spPr>
          <a:xfrm>
            <a:off x="3924360" y="3213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"/>
          <p:cNvPicPr/>
          <p:nvPr/>
        </p:nvPicPr>
        <p:blipFill>
          <a:blip r:embed="rId9"/>
          <a:stretch/>
        </p:blipFill>
        <p:spPr>
          <a:xfrm>
            <a:off x="7164360" y="2924280"/>
            <a:ext cx="1655640" cy="327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7584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32000" y="46530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48320" y="990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733920" y="17524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38384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286000" y="3124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161520" y="2514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8" descr="SHOUZHIBAN"/>
          <p:cNvPicPr/>
          <p:nvPr/>
        </p:nvPicPr>
        <p:blipFill>
          <a:blip r:embed="rId10"/>
          <a:stretch/>
        </p:blipFill>
        <p:spPr>
          <a:xfrm>
            <a:off x="5257800" y="6858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SHOUZHIBAN"/>
          <p:cNvPicPr/>
          <p:nvPr/>
        </p:nvPicPr>
        <p:blipFill>
          <a:blip r:embed="rId11"/>
          <a:stretch/>
        </p:blipFill>
        <p:spPr>
          <a:xfrm>
            <a:off x="6156360" y="69228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SHOUZHIBAN"/>
          <p:cNvPicPr/>
          <p:nvPr/>
        </p:nvPicPr>
        <p:blipFill>
          <a:blip r:embed="rId12"/>
          <a:stretch/>
        </p:blipFill>
        <p:spPr>
          <a:xfrm>
            <a:off x="7308720" y="69228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5562720" y="838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89720" y="838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47532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76280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4651920" y="386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真棒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会儿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0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门儿</a:t>
            </a:r>
            <a:r>
              <a:rPr b="0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开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karts054"/>
          <p:cNvPicPr/>
          <p:nvPr/>
        </p:nvPicPr>
        <p:blipFill>
          <a:blip r:embed="rId1"/>
          <a:stretch/>
        </p:blipFill>
        <p:spPr>
          <a:xfrm>
            <a:off x="0" y="1052640"/>
            <a:ext cx="8532720" cy="511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2417760" y="1052640"/>
            <a:ext cx="430704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如你是雨点儿，你想做大雨点，还是做小雨点呢？为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假果你是小花小草你会对雨点儿说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004"/>
          <p:cNvPicPr/>
          <p:nvPr/>
        </p:nvPicPr>
        <p:blipFill>
          <a:blip r:embed="rId2"/>
          <a:stretch/>
        </p:blipFill>
        <p:spPr>
          <a:xfrm>
            <a:off x="395280" y="765000"/>
            <a:ext cx="15541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3"/>
          <p:cNvPicPr/>
          <p:nvPr/>
        </p:nvPicPr>
        <p:blipFill>
          <a:blip r:embed="rId3"/>
          <a:stretch/>
        </p:blipFill>
        <p:spPr>
          <a:xfrm>
            <a:off x="716292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问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半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981000"/>
            <a:ext cx="7078680" cy="504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2743200" y="2133720"/>
            <a:ext cx="358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你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雨点儿               大雨点儿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有花有草               无花无草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花更红草更绿       长出红花绿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文是一篇科学童话。课文用拟人化的手法，通过大雨点儿和小雨点儿的对话，告诉学生雨点儿是从云彩里飘落下来的，有了雨水的滋润，花更红了，草更绿了；有了雨点儿的滋润，才有草长花开的美丽景象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本课语言优美，内容浅显生动，情节性强，富有童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989440" y="1557360"/>
            <a:ext cx="6154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金波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35.7—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全名王金波；北京人，祖籍河北冀县（现冀州市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毕业于北京师范学院中文系。历任北京师范学院教授，中国作家协会儿童文学委员会委员，北京市作家协会理事，儿童文学创作委员会主任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始发表作品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v52969571"/>
          <p:cNvPicPr/>
          <p:nvPr/>
        </p:nvPicPr>
        <p:blipFill>
          <a:blip r:embed="rId2"/>
          <a:stretch/>
        </p:blipFill>
        <p:spPr>
          <a:xfrm>
            <a:off x="468360" y="1844640"/>
            <a:ext cx="280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251080" y="3447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余时间，请学生在家里的小花盆里栽花种草，继续引导学生观察，下雨或浇水后，花草有什么变化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324000" y="17305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Calibri"/>
              </a:rPr>
              <a:t>　小雨点儿去了有花有草的地方，花更红了，草更绿了；大雨点儿去了没有花没有草的地方，那儿就开出了红的花，长出了绿的草。雨点儿真是可爱极了，它给大地穿上了漂亮的衣裳；但在老师的眼里，你们才是最可爱的，因为有了你们，有了你们那美好的向往和心愿，世界将变的更美，人间将变的更美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66560" y="1923840"/>
            <a:ext cx="2073600" cy="6120"/>
            <a:chOff x="466560" y="1923840"/>
            <a:chExt cx="2073600" cy="61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466560" y="1923840"/>
              <a:ext cx="207360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10800000">
              <a:off x="466560" y="1923840"/>
              <a:ext cx="20736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0" y="2060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ǐngtóngxuémenjièzhùpīnyīnzìyóud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 借助拼音自由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ènwén,dúbùtōngshùndedìfāngduōdúj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，读不通顺的地方多读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à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512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7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714240"/>
            <a:ext cx="9144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ǎi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 bàn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Dotum"/>
                <a:ea typeface="Dotum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彩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问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 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dào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f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    piāoluò</a:t>
            </a: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    没有    飘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lǜ       z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ng chū            sh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4f81bd"/>
                </a:solidFill>
                <a:latin typeface="楷体_GB2312"/>
                <a:ea typeface="楷体_GB2312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539640" y="620640"/>
            <a:ext cx="1814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1844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ǔ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hǎ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数学                        长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ù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  ）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á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AutoShape 7"/>
          <p:cNvSpPr/>
          <p:nvPr/>
        </p:nvSpPr>
        <p:spPr>
          <a:xfrm>
            <a:off x="1798560" y="2852640"/>
            <a:ext cx="217440" cy="1225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5319720" y="267192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7215120" y="2260440"/>
            <a:ext cx="8971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395520" y="3490920"/>
            <a:ext cx="144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1"/>
          <a:stretch/>
        </p:blipFill>
        <p:spPr>
          <a:xfrm>
            <a:off x="271440" y="490680"/>
            <a:ext cx="327204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567520" y="2205000"/>
            <a:ext cx="301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874600" y="2276640"/>
            <a:ext cx="21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72880" y="2421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369960" y="23493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飘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24880" y="227664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08052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29688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答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721600" y="2205000"/>
            <a:ext cx="152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314240" y="22050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963720" y="1844640"/>
            <a:ext cx="654480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把课文读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你发现了什么？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9T14:27:16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