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6D4-A814-4CBF-8956-10D068AA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4C0-9B83-4378-91B7-C82C50B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22C-19E1-4FEB-B170-7486C3B1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288-78DF-40A0-9F89-4C7FE1F9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34C-639C-4975-B99D-30B12CC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57E-A2A5-4CE9-91D6-4C6B11CC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6E1-00A5-413A-8088-EB476416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286-2B91-4CCD-A453-77041E71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F5B-2F7E-483F-BF18-B00B09F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326-4FE5-4FFF-8149-5073490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E79-6D2D-43C2-8CB9-3C55E9B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F40-6076-4847-AC3F-5BB7590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22D7-7FBA-43FF-8DA8-094A3D6E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80"/>
          <p:cNvSpPr/>
          <p:nvPr/>
        </p:nvSpPr>
        <p:spPr>
          <a:xfrm>
            <a:off x="8573760" y="680400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9692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七角星 8"/>
          <p:cNvSpPr/>
          <p:nvPr/>
        </p:nvSpPr>
        <p:spPr>
          <a:xfrm>
            <a:off x="2287440" y="15019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9"/>
          <p:cNvSpPr/>
          <p:nvPr/>
        </p:nvSpPr>
        <p:spPr>
          <a:xfrm>
            <a:off x="3727440" y="1424160"/>
            <a:ext cx="1170000" cy="954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11"/>
          <p:cNvSpPr/>
          <p:nvPr/>
        </p:nvSpPr>
        <p:spPr>
          <a:xfrm>
            <a:off x="5181480" y="139716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七角星 12"/>
          <p:cNvSpPr/>
          <p:nvPr/>
        </p:nvSpPr>
        <p:spPr>
          <a:xfrm>
            <a:off x="6781680" y="1455840"/>
            <a:ext cx="107640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七角星 16"/>
          <p:cNvSpPr/>
          <p:nvPr/>
        </p:nvSpPr>
        <p:spPr>
          <a:xfrm>
            <a:off x="3787920" y="2965320"/>
            <a:ext cx="1109520" cy="933480"/>
          </a:xfrm>
          <a:prstGeom prst="pie">
            <a:avLst/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七角星 17"/>
          <p:cNvSpPr/>
          <p:nvPr/>
        </p:nvSpPr>
        <p:spPr>
          <a:xfrm>
            <a:off x="2244600" y="4307040"/>
            <a:ext cx="11098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8"/>
          <p:cNvSpPr/>
          <p:nvPr/>
        </p:nvSpPr>
        <p:spPr>
          <a:xfrm>
            <a:off x="5764320" y="2948040"/>
            <a:ext cx="1154160" cy="10270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9"/>
          <p:cNvSpPr/>
          <p:nvPr/>
        </p:nvSpPr>
        <p:spPr>
          <a:xfrm>
            <a:off x="3727440" y="431784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20"/>
          <p:cNvSpPr/>
          <p:nvPr/>
        </p:nvSpPr>
        <p:spPr>
          <a:xfrm>
            <a:off x="5383080" y="43178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21"/>
          <p:cNvSpPr/>
          <p:nvPr/>
        </p:nvSpPr>
        <p:spPr>
          <a:xfrm>
            <a:off x="6821640" y="4302000"/>
            <a:ext cx="1108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"/>
          <p:cNvSpPr/>
          <p:nvPr/>
        </p:nvSpPr>
        <p:spPr>
          <a:xfrm>
            <a:off x="3201840" y="2241720"/>
            <a:ext cx="938520" cy="8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6719760" y="3733920"/>
            <a:ext cx="600120" cy="753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3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90656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9400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一读，背一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619160" y="1557360"/>
            <a:ext cx="45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起来，面向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面是东，后面是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面是北，右面是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会了这些方位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0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72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77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78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83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84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95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96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97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02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03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东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08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09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西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14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15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792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06948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220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2970360" y="297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会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res1.age06.com/FileStore/PortalIPSForQX/User/%CB%EF%D1%A9%D3%A8/e136e817-8de7-4629-84c8-dd789071543b/%D1%DD%CA%BE%CE%C4%B8%E52.jpg"/>
          <p:cNvPicPr/>
          <p:nvPr/>
        </p:nvPicPr>
        <p:blipFill>
          <a:blip r:embed="rId2"/>
          <a:stretch/>
        </p:blipFill>
        <p:spPr>
          <a:xfrm>
            <a:off x="0" y="1905120"/>
            <a:ext cx="9036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矩形 1126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12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