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TextBox 1"/>
          <p:cNvSpPr/>
          <p:nvPr/>
        </p:nvSpPr>
        <p:spPr>
          <a:xfrm>
            <a:off x="1476360" y="134136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天要远足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42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4" name="Picture 2" descr="http://p4.so.qhimg.com/t0189899f028f22cbde.jpg"/>
          <p:cNvPicPr/>
          <p:nvPr/>
        </p:nvPicPr>
        <p:blipFill>
          <a:blip r:embed="rId1"/>
          <a:stretch/>
        </p:blipFill>
        <p:spPr>
          <a:xfrm>
            <a:off x="2162160" y="2565360"/>
            <a:ext cx="4892760" cy="3057480"/>
          </a:xfrm>
          <a:prstGeom prst="rect">
            <a:avLst/>
          </a:prstGeom>
          <a:ln w="0">
            <a:noFill/>
          </a:ln>
        </p:spPr>
      </p:pic>
      <p:sp>
        <p:nvSpPr>
          <p:cNvPr id="45" name="矩形 15367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文本框 99"/>
          <p:cNvSpPr/>
          <p:nvPr/>
        </p:nvSpPr>
        <p:spPr>
          <a:xfrm>
            <a:off x="2946240" y="33660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信公众平台：小学教师联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真的   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老师   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同学   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天亮   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洁白柔软    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4"/>
          <p:cNvSpPr txBox="1"/>
          <p:nvPr/>
        </p:nvSpPr>
        <p:spPr>
          <a:xfrm>
            <a:off x="2484360" y="2133720"/>
            <a:ext cx="4248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听老师范读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85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7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4000" y="1514520"/>
            <a:ext cx="8820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认真自读课文，用心思考下面问题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、为什么“我”睡不着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c0504d"/>
                </a:solidFill>
                <a:latin typeface="Times New Roman"/>
              </a:rPr>
              <a:t>、你有这样的心情吗？和大家说一说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多种颜色的海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link?url=http%3A%2F%2Fimg02"/>
          <p:cNvPicPr/>
          <p:nvPr/>
        </p:nvPicPr>
        <p:blipFill>
          <a:blip r:embed="rId1"/>
          <a:stretch/>
        </p:blipFill>
        <p:spPr>
          <a:xfrm>
            <a:off x="1547640" y="2565360"/>
            <a:ext cx="554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洁白柔软的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67df191017ec9192"/>
          <p:cNvPicPr/>
          <p:nvPr/>
        </p:nvPicPr>
        <p:blipFill>
          <a:blip r:embed="rId1"/>
          <a:stretch/>
        </p:blipFill>
        <p:spPr>
          <a:xfrm>
            <a:off x="2124000" y="1989000"/>
            <a:ext cx="5184720" cy="33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836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明天要远足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翻过来，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——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睡不着。 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那地方的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</a:rPr>
              <a:t>海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真的像老师说的那么多种颜色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小组讨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知道远足是什么意思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和爸爸妈妈都去过哪里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远足的前一夜在想些什么呢？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明天要远足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翻过来，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唉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——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睡不着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那地方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海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真的像老师说的那么多种颜色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明天要远足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翻过来，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睡不着。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那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地方的海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真的像老师说的那么多种颜色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明天要远足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翻过来，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——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睡不着。 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那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地方的云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真的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像同学说的</a:t>
            </a:r>
            <a:r>
              <a:rPr b="1" lang="zh-CN" sz="3200" spc="-1" strike="noStrike">
                <a:solidFill>
                  <a:srgbClr val="cc00cc"/>
                </a:solidFill>
                <a:latin typeface="Calibri"/>
              </a:rPr>
              <a:t>那么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洁白柔软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讨    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睡不着的时候你在做什么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标题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Calibri"/>
              </a:rPr>
              <a:t>那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地方的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______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00cc"/>
                </a:solidFill>
                <a:latin typeface="Calibri"/>
              </a:rPr>
              <a:t>真的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像</a:t>
            </a:r>
            <a:r>
              <a:rPr b="1" lang="en-US" sz="7200" spc="-1" strike="noStrike">
                <a:solidFill>
                  <a:srgbClr val="ff0000"/>
                </a:solidFill>
                <a:latin typeface="Calibri"/>
              </a:rPr>
              <a:t>______</a:t>
            </a:r>
            <a:r>
              <a:rPr b="1" lang="zh-CN" sz="7200" spc="-1" strike="noStrike">
                <a:solidFill>
                  <a:srgbClr val="ff0000"/>
                </a:solidFill>
                <a:latin typeface="Calibri"/>
              </a:rPr>
              <a:t>说的</a:t>
            </a:r>
            <a:r>
              <a:rPr b="1" lang="zh-CN" sz="7200" spc="-1" strike="noStrike">
                <a:solidFill>
                  <a:srgbClr val="cc00cc"/>
                </a:solidFill>
                <a:latin typeface="Calibri"/>
              </a:rPr>
              <a:t>那么</a:t>
            </a:r>
            <a:r>
              <a:rPr b="1" lang="en-US" sz="7200" spc="-1" strike="noStrike">
                <a:solidFill>
                  <a:srgbClr val="cc00cc"/>
                </a:solidFill>
                <a:latin typeface="Calibri"/>
              </a:rPr>
              <a:t>________</a:t>
            </a:r>
            <a:r>
              <a:rPr b="1" lang="zh-CN" sz="8000" spc="-1" strike="noStrike">
                <a:solidFill>
                  <a:srgbClr val="ff0000"/>
                </a:solidFill>
                <a:latin typeface="Calibri"/>
              </a:rPr>
              <a:t>吗？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765000"/>
            <a:ext cx="8229600" cy="57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翻过来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翻过去 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唉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——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到底什么时候 ，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才天亮呢？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1476360" y="2060640"/>
            <a:ext cx="51102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着背过它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68360" y="765000"/>
            <a:ext cx="8229600" cy="578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明天要远足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翻过来，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—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睡不着。 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                     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翻过去 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—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睡不着 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00"/>
                </a:solidFill>
                <a:uFillTx/>
                <a:latin typeface="Calibri"/>
              </a:rPr>
              <a:t>                                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翻过来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翻过去 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——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到底什么时候 ，才天亮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8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109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110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12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写一写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16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17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9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21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22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23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24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c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á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才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6"/>
          <p:cNvSpPr/>
          <p:nvPr/>
        </p:nvSpPr>
        <p:spPr>
          <a:xfrm>
            <a:off x="3348000" y="3242520"/>
            <a:ext cx="5543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方素珍，中国台湾资深儿童文学作家，长期从事童诗、童话及绘本故事的创作、翻译以及语文教科书的编写。历任海峡两岸儿童文学研究会理事长、康轩教科书编委、香港教育出版社语文科顾问、首都师范大学学前教育学院绘本阅读中心顾问。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8" descr="60"/>
          <p:cNvPicPr/>
          <p:nvPr/>
        </p:nvPicPr>
        <p:blipFill>
          <a:blip r:embed="rId2"/>
          <a:stretch/>
        </p:blipFill>
        <p:spPr>
          <a:xfrm>
            <a:off x="324000" y="1844640"/>
            <a:ext cx="309564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29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30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2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33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35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6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37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627280" y="5493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m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í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明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42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43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45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46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48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49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50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tó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同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55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56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8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59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60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61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62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63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xué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学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4"/>
          <p:cNvSpPr txBox="1"/>
          <p:nvPr/>
        </p:nvSpPr>
        <p:spPr>
          <a:xfrm>
            <a:off x="2195640" y="1989000"/>
            <a:ext cx="377640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你来读一读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468360" y="633600"/>
            <a:ext cx="8351640" cy="57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收    获     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方素珍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了  动了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鱼儿上当了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哈 和我的手掌一样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爸爸说 放了他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鱼小弟年纪太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了  动了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鱼儿被骗了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哇 比爸爸的手掌还要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也说 放了他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鱼爸爸年纪太大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170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835280" y="1483920"/>
            <a:ext cx="475272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黄昏时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我们两手空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轻轻松松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心里却装满了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鱼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满满在心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6"/>
          <p:cNvSpPr/>
          <p:nvPr/>
        </p:nvSpPr>
        <p:spPr>
          <a:xfrm>
            <a:off x="1332000" y="2641680"/>
            <a:ext cx="68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　　同学们喜欢外边的世界吗？可以在爸爸妈妈的陪同下多出去走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177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9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6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7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9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1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矩形 17416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95280" y="68040"/>
            <a:ext cx="8686800" cy="67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míng                  fā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明天     远足    翻过来翻过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nà         zhēn           shī    tó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那么    真的     老师     同学</a:t>
            </a: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shén            liàng   yán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什么    天亮        颜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jié    róu</a:t>
            </a: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  </a:t>
            </a: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ruǎ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洁白柔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1843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5280" y="783720"/>
            <a:ext cx="8686800" cy="60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cc"/>
                </a:solidFill>
                <a:latin typeface="Calibri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明天     远足     翻过来翻过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那么    真的     老师     同学</a:t>
            </a: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Calibri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什么      天亮        颜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alibri"/>
              </a:rPr>
              <a:t>洁白柔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8434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000000"/>
                </a:solidFill>
                <a:latin typeface="Calibri"/>
              </a:rPr>
              <a:t>远足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alibri"/>
              </a:rPr>
              <a:t>翻过来翻过去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13800" spc="-1" strike="noStrike">
                <a:solidFill>
                  <a:srgbClr val="000000"/>
                </a:solidFill>
                <a:latin typeface="Calibri"/>
              </a:rPr>
              <a:t>那么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2-25T13:56:45Z</dcterms:modified>
  <cp:revision>25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