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2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TextBox 1"/>
          <p:cNvSpPr/>
          <p:nvPr/>
        </p:nvSpPr>
        <p:spPr>
          <a:xfrm>
            <a:off x="1476360" y="134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大还是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www.taopic.com/uploads/allimg/110310/341-11031012591039.jpg"/>
          <p:cNvPicPr/>
          <p:nvPr/>
        </p:nvPicPr>
        <p:blipFill>
          <a:blip r:embed="rId1"/>
          <a:stretch/>
        </p:blipFill>
        <p:spPr>
          <a:xfrm>
            <a:off x="1965240" y="2565360"/>
            <a:ext cx="6072120" cy="3417840"/>
          </a:xfrm>
          <a:prstGeom prst="rect">
            <a:avLst/>
          </a:prstGeom>
          <a:ln w="0">
            <a:noFill/>
          </a:ln>
        </p:spPr>
      </p:pic>
      <p:sp>
        <p:nvSpPr>
          <p:cNvPr id="43" name="矩形 14342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434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自己系鞋带的时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9cc6bd964c8e92af"/>
          <p:cNvPicPr/>
          <p:nvPr/>
        </p:nvPicPr>
        <p:blipFill>
          <a:blip r:embed="rId1"/>
          <a:stretch/>
        </p:blipFill>
        <p:spPr>
          <a:xfrm>
            <a:off x="2627280" y="2349360"/>
            <a:ext cx="4248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照顾小妹妹的时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7d969522b1cea0df"/>
          <p:cNvPicPr/>
          <p:nvPr/>
        </p:nvPicPr>
        <p:blipFill>
          <a:blip r:embed="rId1"/>
          <a:stretch/>
        </p:blipFill>
        <p:spPr>
          <a:xfrm>
            <a:off x="1692360" y="2852640"/>
            <a:ext cx="2409840" cy="1809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f9a6ca9611273e90"/>
          <p:cNvPicPr/>
          <p:nvPr/>
        </p:nvPicPr>
        <p:blipFill>
          <a:blip r:embed="rId2"/>
          <a:stretch/>
        </p:blipFill>
        <p:spPr>
          <a:xfrm>
            <a:off x="4500720" y="2276640"/>
            <a:ext cx="296208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够不着按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c163b4b1dd9e569b"/>
          <p:cNvPicPr/>
          <p:nvPr/>
        </p:nvPicPr>
        <p:blipFill>
          <a:blip r:embed="rId1"/>
          <a:stretch/>
        </p:blipFill>
        <p:spPr>
          <a:xfrm>
            <a:off x="2411280" y="2565360"/>
            <a:ext cx="446436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听到雷声喊妈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865ba412620f3c22"/>
          <p:cNvPicPr/>
          <p:nvPr/>
        </p:nvPicPr>
        <p:blipFill>
          <a:blip r:embed="rId1"/>
          <a:stretch/>
        </p:blipFill>
        <p:spPr>
          <a:xfrm>
            <a:off x="1763640" y="2565360"/>
            <a:ext cx="53294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玩具小熊陪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c68db0215bdd7b87"/>
          <p:cNvPicPr/>
          <p:nvPr/>
        </p:nvPicPr>
        <p:blipFill>
          <a:blip r:embed="rId1"/>
          <a:stretch/>
        </p:blipFill>
        <p:spPr>
          <a:xfrm>
            <a:off x="3132000" y="3213000"/>
            <a:ext cx="22194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1979640" y="2565360"/>
            <a:ext cx="374472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听老师范读课文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5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571680" y="3114720"/>
            <a:ext cx="79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大还是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左大括号 3"/>
          <p:cNvSpPr/>
          <p:nvPr/>
        </p:nvSpPr>
        <p:spPr>
          <a:xfrm>
            <a:off x="1549440" y="2565360"/>
            <a:ext cx="358560" cy="3384720"/>
          </a:xfrm>
          <a:custGeom>
            <a:avLst/>
            <a:gdLst>
              <a:gd name="textAreaLeft" fmla="*/ 228960 w 358560"/>
              <a:gd name="textAreaRight" fmla="*/ 358560 w 358560"/>
              <a:gd name="textAreaTop" fmla="*/ 9000 h 3384720"/>
              <a:gd name="textAreaBottom" fmla="*/ 33757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90"/>
                </a:cubicBezTo>
                <a:lnTo>
                  <a:pt x="10800" y="10610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90"/>
                </a:cubicBezTo>
                <a:lnTo>
                  <a:pt x="10800" y="21410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1908000" y="2568600"/>
            <a:ext cx="38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自己系鞋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1906560" y="3301920"/>
            <a:ext cx="42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照顾小妹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1906560" y="4006800"/>
            <a:ext cx="42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够不着按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6"/>
          <p:cNvSpPr/>
          <p:nvPr/>
        </p:nvSpPr>
        <p:spPr>
          <a:xfrm>
            <a:off x="1893960" y="4687920"/>
            <a:ext cx="42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听到雷声喊妈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1906560" y="5364000"/>
            <a:ext cx="42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玩具小熊陪着睡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260360" y="242424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华文楷体"/>
                <a:ea typeface="华文楷体"/>
              </a:rPr>
              <a:t>　　写了很多自己能做到和不能做到的事情，期待自己快快长大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560520" y="2060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全文有六个自然段，写了自己能做到和不能做到的事情，很有层次，我们也要学习这样写作。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2908080" y="1147680"/>
            <a:ext cx="3594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我想快快长大（原创儿童歌曲歌词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作者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 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：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 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张子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爸爸妈妈一个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爷爷奶奶一个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爸爸妈妈住城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爷爷奶奶住乡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我和爷爷奶奶住惯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走到哪里都割舍不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我爱吃奶奶熬的小米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还爱吃爷爷烤的热地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直线连接符 21"/>
          <p:cNvSpPr/>
          <p:nvPr/>
        </p:nvSpPr>
        <p:spPr>
          <a:xfrm flipV="1">
            <a:off x="395280" y="1412640"/>
            <a:ext cx="207324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468360" y="170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99"/>
                </a:solidFill>
                <a:latin typeface="Calibri"/>
                <a:ea typeface="幼圆"/>
              </a:rPr>
              <a:t>怎样系鞋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0a52e3f47a8228bf62ed72e6"/>
          <p:cNvPicPr/>
          <p:nvPr/>
        </p:nvPicPr>
        <p:blipFill>
          <a:blip r:embed="rId2"/>
          <a:stretch/>
        </p:blipFill>
        <p:spPr>
          <a:xfrm>
            <a:off x="498600" y="3141720"/>
            <a:ext cx="3255840" cy="257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0a52e3f47a8228bf62ed72e6"/>
          <p:cNvPicPr/>
          <p:nvPr/>
        </p:nvPicPr>
        <p:blipFill>
          <a:blip r:embed="rId3"/>
          <a:stretch/>
        </p:blipFill>
        <p:spPr>
          <a:xfrm>
            <a:off x="4416480" y="3279600"/>
            <a:ext cx="36496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6"/>
          <p:cNvSpPr/>
          <p:nvPr/>
        </p:nvSpPr>
        <p:spPr>
          <a:xfrm>
            <a:off x="971640" y="2227320"/>
            <a:ext cx="745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　　你觉得自己大还是小呢？让我们都不挑食锻炼身体团结同学，做一个快快长大的人吧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2413440"/>
            <a:ext cx="93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211920" y="2924280"/>
            <a:ext cx="10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课文朗读给你的同桌听   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直线连接符 21"/>
          <p:cNvSpPr/>
          <p:nvPr/>
        </p:nvSpPr>
        <p:spPr>
          <a:xfrm flipV="1">
            <a:off x="324000" y="148428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WordArt 6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6015240" cy="2073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sp>
          <p:nvSpPr>
            <p:cNvPr id="53" name="直线连接符 21"/>
            <p:cNvSpPr/>
            <p:nvPr/>
          </p:nvSpPr>
          <p:spPr>
            <a:xfrm flipV="1">
              <a:off x="466560" y="1267920"/>
              <a:ext cx="207360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56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latin typeface="宋体"/>
              </a:rPr>
              <a:t>认一认</a:t>
            </a:r>
            <a:endParaRPr b="0" lang="en-US" sz="1800" spc="-1" strike="noStrike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矩形 16391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Calibri"/>
              </a:rPr>
              <a:t>时候   觉得    已经    很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Calibri"/>
              </a:rPr>
              <a:t>穿衣服   照镜子  玩具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Calibri"/>
              </a:rPr>
              <a:t>  </a:t>
            </a:r>
            <a:r>
              <a:rPr b="1" lang="zh-CN" sz="5400" spc="-1" strike="noStrike">
                <a:solidFill>
                  <a:srgbClr val="cc00cc"/>
                </a:solidFill>
                <a:latin typeface="Calibri"/>
              </a:rPr>
              <a:t>快点    自己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17411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1403280" y="2919240"/>
            <a:ext cx="5472360" cy="144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写一写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sp>
          <p:nvSpPr>
            <p:cNvPr id="62" name="Line 3"/>
            <p:cNvSpPr/>
            <p:nvPr/>
          </p:nvSpPr>
          <p:spPr>
            <a:xfrm>
              <a:off x="2514600" y="4114800"/>
              <a:ext cx="411480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64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Line 6"/>
              <p:cNvSpPr/>
              <p:nvPr/>
            </p:nvSpPr>
            <p:spPr>
              <a:xfrm>
                <a:off x="4572000" y="2057400"/>
                <a:ext cx="0" cy="411480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3276720" y="76500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z</a:t>
            </a: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ì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自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sp>
          <p:nvSpPr>
            <p:cNvPr id="71" name="Line 3"/>
            <p:cNvSpPr/>
            <p:nvPr/>
          </p:nvSpPr>
          <p:spPr>
            <a:xfrm>
              <a:off x="2514600" y="4114800"/>
              <a:ext cx="411480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73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Line 6"/>
              <p:cNvSpPr/>
              <p:nvPr/>
            </p:nvSpPr>
            <p:spPr>
              <a:xfrm>
                <a:off x="4572000" y="2057400"/>
                <a:ext cx="0" cy="411480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5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3276720" y="62064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j</a:t>
            </a: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ǐ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己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sp>
          <p:nvSpPr>
            <p:cNvPr id="80" name="Line 3"/>
            <p:cNvSpPr/>
            <p:nvPr/>
          </p:nvSpPr>
          <p:spPr>
            <a:xfrm>
              <a:off x="2514600" y="4114800"/>
              <a:ext cx="411480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82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Line 6"/>
              <p:cNvSpPr/>
              <p:nvPr/>
            </p:nvSpPr>
            <p:spPr>
              <a:xfrm>
                <a:off x="4572000" y="2057400"/>
                <a:ext cx="0" cy="411480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4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2195640" y="404640"/>
            <a:ext cx="48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chuá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床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直线连接符 21"/>
          <p:cNvSpPr/>
          <p:nvPr/>
        </p:nvSpPr>
        <p:spPr>
          <a:xfrm flipV="1">
            <a:off x="395280" y="1773000"/>
            <a:ext cx="207324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24000" y="1413000"/>
            <a:ext cx="8820000" cy="33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504d"/>
                </a:solidFill>
                <a:latin typeface="Times New Roman"/>
              </a:rPr>
              <a:t>           </a:t>
            </a:r>
            <a:r>
              <a:rPr b="1" lang="zh-CN" sz="4800" spc="-1" strike="noStrike">
                <a:solidFill>
                  <a:srgbClr val="c0504d"/>
                </a:solidFill>
                <a:latin typeface="Times New Roman"/>
              </a:rPr>
              <a:t>认真自读课文，用心          思考下面问题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、你觉得自己大还是小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、什么情况下小主人公觉得自己大，什么情况下觉得自己小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/>
  <dc:description/>
  <dc:language>en-US</dc:language>
  <cp:lastModifiedBy>User</cp:lastModifiedBy>
  <dcterms:modified xsi:type="dcterms:W3CDTF">2016-10-06T12:50:03Z</dcterms:modified>
  <cp:revision>2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