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1476360" y="134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1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项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img1.cache.netease.com/lady/2012/10/31/20121031150929612f9.jpg"/>
          <p:cNvPicPr/>
          <p:nvPr/>
        </p:nvPicPr>
        <p:blipFill>
          <a:blip r:embed="rId1"/>
          <a:stretch/>
        </p:blipFill>
        <p:spPr>
          <a:xfrm>
            <a:off x="2090880" y="2421000"/>
            <a:ext cx="4748040" cy="3992400"/>
          </a:xfrm>
          <a:prstGeom prst="rect">
            <a:avLst/>
          </a:prstGeom>
          <a:ln w="0">
            <a:noFill/>
          </a:ln>
        </p:spPr>
      </p:pic>
      <p:sp>
        <p:nvSpPr>
          <p:cNvPr id="43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sp>
          <p:nvSpPr>
            <p:cNvPr id="82" name="Line 3"/>
            <p:cNvSpPr/>
            <p:nvPr/>
          </p:nvSpPr>
          <p:spPr>
            <a:xfrm>
              <a:off x="2514600" y="411480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84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Line 6"/>
              <p:cNvSpPr/>
              <p:nvPr/>
            </p:nvSpPr>
            <p:spPr>
              <a:xfrm>
                <a:off x="4572000" y="205740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6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d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的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sp>
          <p:nvSpPr>
            <p:cNvPr id="91" name="Line 3"/>
            <p:cNvSpPr/>
            <p:nvPr/>
          </p:nvSpPr>
          <p:spPr>
            <a:xfrm>
              <a:off x="2514600" y="411480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2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93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6"/>
              <p:cNvSpPr/>
              <p:nvPr/>
            </p:nvSpPr>
            <p:spPr>
              <a:xfrm>
                <a:off x="4572000" y="205740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95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2627280" y="54936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y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ò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又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sp>
          <p:nvSpPr>
            <p:cNvPr id="100" name="Line 3"/>
            <p:cNvSpPr/>
            <p:nvPr/>
          </p:nvSpPr>
          <p:spPr>
            <a:xfrm>
              <a:off x="2514600" y="411480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1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02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6"/>
              <p:cNvSpPr/>
              <p:nvPr/>
            </p:nvSpPr>
            <p:spPr>
              <a:xfrm>
                <a:off x="4572000" y="205740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4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h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和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线连接符 21"/>
          <p:cNvSpPr/>
          <p:nvPr/>
        </p:nvSpPr>
        <p:spPr>
          <a:xfrm flipV="1">
            <a:off x="395280" y="177300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324000" y="549360"/>
            <a:ext cx="88200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504d"/>
                </a:solidFill>
                <a:latin typeface="Times New Roman"/>
              </a:rPr>
              <a:t>认真自读课文，用心思考下面问题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、是谁穿了项链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、用什么穿了项链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大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ac75323d6b6de243-7728d900ea0dce1d-5cb9107f60ef116e868b447f503941bb"/>
          <p:cNvPicPr/>
          <p:nvPr/>
        </p:nvPicPr>
        <p:blipFill>
          <a:blip r:embed="rId1"/>
          <a:stretch/>
        </p:blipFill>
        <p:spPr>
          <a:xfrm>
            <a:off x="1763640" y="1773360"/>
            <a:ext cx="547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916360" y="1125360"/>
            <a:ext cx="307800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老师范读课文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Picture 6" descr="ac75323d6b6de243-959a0261b4ff28a1-486e52e37c7f92f9b5cf4ac71f40ca5f"/>
          <p:cNvPicPr/>
          <p:nvPr/>
        </p:nvPicPr>
        <p:blipFill>
          <a:blip r:embed="rId3"/>
          <a:stretch/>
        </p:blipFill>
        <p:spPr>
          <a:xfrm>
            <a:off x="1332000" y="3357720"/>
            <a:ext cx="2943000" cy="2095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c75323d6b6de243-7728d900ea0dce1d-5cb9107f60ef116e868b447f503941bb"/>
          <p:cNvPicPr/>
          <p:nvPr/>
        </p:nvPicPr>
        <p:blipFill>
          <a:blip r:embed="rId4"/>
          <a:stretch/>
        </p:blipFill>
        <p:spPr>
          <a:xfrm>
            <a:off x="4427640" y="3357720"/>
            <a:ext cx="3313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571680" y="3114720"/>
            <a:ext cx="7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项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左大括号 3"/>
          <p:cNvSpPr/>
          <p:nvPr/>
        </p:nvSpPr>
        <p:spPr>
          <a:xfrm>
            <a:off x="1549440" y="2565360"/>
            <a:ext cx="358560" cy="33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3384720"/>
              <a:gd name="textAreaBottom" fmla="*/ 33757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1908000" y="256860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田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1979640" y="494172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贝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11280" y="2276640"/>
            <a:ext cx="79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   本文写了小娃娃来到海边捡拾起田螺和贝壳，串成了一串漂亮的项链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539640" y="24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全文有两个自然段，叙述详细，层次清晰。尤其是结尾非常耐人寻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线连接符 21"/>
          <p:cNvSpPr/>
          <p:nvPr/>
        </p:nvSpPr>
        <p:spPr>
          <a:xfrm flipV="1">
            <a:off x="395280" y="1412640"/>
            <a:ext cx="207324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WordArt 6"/>
          <p:cNvSpPr txBox="1"/>
          <p:nvPr/>
        </p:nvSpPr>
        <p:spPr>
          <a:xfrm>
            <a:off x="755640" y="2421000"/>
            <a:ext cx="678816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把课文有感情地读给大家听。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91440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Calibri"/>
                <a:ea typeface="幼圆"/>
              </a:rPr>
              <a:t>什么是海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285264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39640" y="3859200"/>
            <a:ext cx="7926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海螺，古称贝、蠡。是藏、蒙古、满、纳西、傣、京、汉等族唇振气鸣乐器。藏语称董、措 董、董嘎尔。蒙古族称冻思。傣语称海三。汉语称梵贝、法螺、螺号、玉螺、玉蠡等。流行 于佛教寺院和全国各地，尤以西藏、内蒙古、青海、四川、云南、甘肃、广东、广西、福建 、辽宁、吉林等省区最为盛行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6"/>
          <p:cNvSpPr/>
          <p:nvPr/>
        </p:nvSpPr>
        <p:spPr>
          <a:xfrm>
            <a:off x="395280" y="2421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大海给我们带来了无尽的宝藏，还给孩子们带来了快乐。我们要保护我们的环境，保护我们的大海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2413440"/>
            <a:ext cx="93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照样子说一说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324000" y="1484280"/>
            <a:ext cx="207324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2340000" y="3645000"/>
            <a:ext cx="374472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蓝蓝的      黄黄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海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8d83591ecb985305-00c56af73b4ed1ca-6378f0db5f1c719596d6efe5be4327a4"/>
          <p:cNvPicPr/>
          <p:nvPr/>
        </p:nvPicPr>
        <p:blipFill>
          <a:blip r:embed="rId1"/>
          <a:stretch/>
        </p:blipFill>
        <p:spPr>
          <a:xfrm>
            <a:off x="971640" y="3029040"/>
            <a:ext cx="3143160" cy="2095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f13ca4be157d8983-f23c8fc409ab8e0f-8c348ac9746c638dfd93a8e12df67586"/>
          <p:cNvPicPr/>
          <p:nvPr/>
        </p:nvPicPr>
        <p:blipFill>
          <a:blip r:embed="rId2"/>
          <a:stretch/>
        </p:blipFill>
        <p:spPr>
          <a:xfrm>
            <a:off x="4572000" y="2997360"/>
            <a:ext cx="3352680" cy="2095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6388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53964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Calibri"/>
                <a:ea typeface="幼圆"/>
              </a:rPr>
              <a:t>什么是贝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285264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042920" y="3859200"/>
            <a:ext cx="7237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多种多样的贝壳螺壳，形状奇特，色彩斑谰。其中虎斑贝、白玉贝、夜光贝、五爪螺、猪母螺、珍珠贝、贞洁螺、唐冠螺、七角贝、猪耳壳，以及可作烟灰缸的马蹄螺、渔民作用号角的大角螺等等，都是惹人喜爱的天然工艺品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1741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08a4a7e437a76bd9"/>
          <p:cNvPicPr/>
          <p:nvPr/>
        </p:nvPicPr>
        <p:blipFill>
          <a:blip r:embed="rId1"/>
          <a:stretch/>
        </p:blipFill>
        <p:spPr>
          <a:xfrm>
            <a:off x="539640" y="1773360"/>
            <a:ext cx="3638520" cy="2400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ac75323d6b6de243-88c2ddd55cb8bca2-69c62c475e21e703514b817289b09ba7"/>
          <p:cNvPicPr/>
          <p:nvPr/>
        </p:nvPicPr>
        <p:blipFill>
          <a:blip r:embed="rId2"/>
          <a:stretch/>
        </p:blipFill>
        <p:spPr>
          <a:xfrm>
            <a:off x="5148360" y="2997360"/>
            <a:ext cx="232416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65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8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" name="矩形 19463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042920" y="170028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又长又软    笑着   向前   贝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悄悄   和你   娃娃      彩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挂着   生活   蓝蓝的     金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692360" y="2919240"/>
            <a:ext cx="51116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写一写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sp>
          <p:nvSpPr>
            <p:cNvPr id="73" name="Line 3"/>
            <p:cNvSpPr/>
            <p:nvPr/>
          </p:nvSpPr>
          <p:spPr>
            <a:xfrm>
              <a:off x="2514600" y="4114800"/>
              <a:ext cx="41148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75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" name="Line 6"/>
              <p:cNvSpPr/>
              <p:nvPr/>
            </p:nvSpPr>
            <p:spPr>
              <a:xfrm>
                <a:off x="4572000" y="2057400"/>
                <a:ext cx="0" cy="411480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7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bá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白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User</cp:lastModifiedBy>
  <dcterms:modified xsi:type="dcterms:W3CDTF">2016-10-06T12:50:39Z</dcterms:modified>
  <cp:revision>25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