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comments/comment2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26.xml><?xml version="1.0" encoding="utf-8"?>
<p:cmLst xmlns:p="http://schemas.openxmlformats.org/presentationml/2006/main">
  <p:cm authorId="0" dt="2016-08-29T15:39:58.484000000" idx="1">
    <p:pos x="5345" y="514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1476360" y="1197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3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乌鸦喝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42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Picture 6" descr="喝水图"/>
          <p:cNvPicPr/>
          <p:nvPr/>
        </p:nvPicPr>
        <p:blipFill>
          <a:blip r:embed="rId1"/>
          <a:stretch/>
        </p:blipFill>
        <p:spPr>
          <a:xfrm>
            <a:off x="755640" y="2060640"/>
            <a:ext cx="8028000" cy="4120920"/>
          </a:xfrm>
          <a:prstGeom prst="rect">
            <a:avLst/>
          </a:prstGeom>
          <a:ln w="0">
            <a:noFill/>
          </a:ln>
        </p:spPr>
      </p:pic>
      <p:sp>
        <p:nvSpPr>
          <p:cNvPr id="45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旁边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办法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办 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1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放进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升</a:t>
            </a:r>
            <a:r>
              <a:rPr b="0" lang="zh-CN" sz="1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高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200240" y="2903400"/>
            <a:ext cx="100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2327400" y="2201760"/>
            <a:ext cx="4897440" cy="2653560"/>
            <a:chOff x="2327400" y="2201760"/>
            <a:chExt cx="4897440" cy="2653560"/>
          </a:xfrm>
        </p:grpSpPr>
        <p:sp>
          <p:nvSpPr>
            <p:cNvPr id="89" name="AutoShape 8"/>
            <p:cNvSpPr/>
            <p:nvPr/>
          </p:nvSpPr>
          <p:spPr>
            <a:xfrm>
              <a:off x="2327400" y="2662200"/>
              <a:ext cx="216000" cy="2016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52200 h 2016000"/>
                <a:gd name="textAreaBottom" fmla="*/ 1963800 h 20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8849"/>
                  </a:lnTo>
                  <a:cubicBezTo>
                    <a:pt x="10800" y="9748"/>
                    <a:pt x="5400" y="10647"/>
                    <a:pt x="0" y="10647"/>
                  </a:cubicBezTo>
                  <a:cubicBezTo>
                    <a:pt x="5400" y="10647"/>
                    <a:pt x="10800" y="11546"/>
                    <a:pt x="10800" y="12445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2543400" y="4030200"/>
              <a:ext cx="4522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宋体"/>
                </a:rPr>
                <a:t>zhe</a:t>
              </a: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（     ）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2616480" y="2201760"/>
              <a:ext cx="4608360" cy="1341000"/>
              <a:chOff x="2616480" y="2201760"/>
              <a:chExt cx="4608360" cy="1341000"/>
            </a:xfrm>
          </p:grpSpPr>
          <p:sp>
            <p:nvSpPr>
              <p:cNvPr id="92" name="Text Box 9"/>
              <p:cNvSpPr/>
              <p:nvPr/>
            </p:nvSpPr>
            <p:spPr>
              <a:xfrm>
                <a:off x="2616480" y="2230200"/>
                <a:ext cx="4608360" cy="13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zh o(      )</a:t>
                </a: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Rectangle 8"/>
              <p:cNvSpPr/>
              <p:nvPr/>
            </p:nvSpPr>
            <p:spPr>
              <a:xfrm>
                <a:off x="3235680" y="2201760"/>
                <a:ext cx="718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á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4" name="Text Box 9"/>
          <p:cNvSpPr/>
          <p:nvPr/>
        </p:nvSpPr>
        <p:spPr>
          <a:xfrm>
            <a:off x="4167360" y="221760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喝不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249800" y="40068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笑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6" descr="边框1"/>
          <p:cNvPicPr/>
          <p:nvPr/>
        </p:nvPicPr>
        <p:blipFill>
          <a:blip r:embed="rId1"/>
          <a:stretch/>
        </p:blipFill>
        <p:spPr>
          <a:xfrm>
            <a:off x="826920" y="981000"/>
            <a:ext cx="2895840" cy="901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 flipV="1">
            <a:off x="971640" y="11235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我  会  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268360" y="907920"/>
            <a:ext cx="388620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眼睛最亮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50920" y="24922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渴　　喝　　　为　　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右　　石　　　鸟　　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　　法　　　鸦　　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32000" y="3068640"/>
            <a:ext cx="990360" cy="360"/>
            <a:chOff x="1332000" y="3068640"/>
            <a:chExt cx="990360" cy="360"/>
          </a:xfrm>
        </p:grpSpPr>
        <p:sp>
          <p:nvSpPr>
            <p:cNvPr id="101" name="Line 4"/>
            <p:cNvSpPr/>
            <p:nvPr/>
          </p:nvSpPr>
          <p:spPr>
            <a:xfrm>
              <a:off x="1332000" y="306864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1332000" y="306864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332000" y="4437000"/>
            <a:ext cx="990360" cy="360"/>
            <a:chOff x="1332000" y="4437000"/>
            <a:chExt cx="990360" cy="360"/>
          </a:xfrm>
        </p:grpSpPr>
        <p:sp>
          <p:nvSpPr>
            <p:cNvPr id="104" name="Line 5"/>
            <p:cNvSpPr/>
            <p:nvPr/>
          </p:nvSpPr>
          <p:spPr>
            <a:xfrm>
              <a:off x="1332000" y="443700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332000" y="443700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332000" y="5805360"/>
            <a:ext cx="990360" cy="360"/>
            <a:chOff x="1332000" y="5805360"/>
            <a:chExt cx="990360" cy="360"/>
          </a:xfrm>
        </p:grpSpPr>
        <p:sp>
          <p:nvSpPr>
            <p:cNvPr id="107" name="Line 6"/>
            <p:cNvSpPr/>
            <p:nvPr/>
          </p:nvSpPr>
          <p:spPr>
            <a:xfrm>
              <a:off x="1332000" y="580536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1332000" y="580536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659640" y="3068640"/>
            <a:ext cx="990360" cy="360"/>
            <a:chOff x="6659640" y="3068640"/>
            <a:chExt cx="990360" cy="360"/>
          </a:xfrm>
        </p:grpSpPr>
        <p:sp>
          <p:nvSpPr>
            <p:cNvPr id="110" name="Line 7"/>
            <p:cNvSpPr/>
            <p:nvPr/>
          </p:nvSpPr>
          <p:spPr>
            <a:xfrm>
              <a:off x="6659640" y="306864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6659640" y="306864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732720" y="4437000"/>
            <a:ext cx="990360" cy="360"/>
            <a:chOff x="6732720" y="4437000"/>
            <a:chExt cx="990360" cy="360"/>
          </a:xfrm>
        </p:grpSpPr>
        <p:sp>
          <p:nvSpPr>
            <p:cNvPr id="113" name="Line 8"/>
            <p:cNvSpPr/>
            <p:nvPr/>
          </p:nvSpPr>
          <p:spPr>
            <a:xfrm>
              <a:off x="6732720" y="443700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732720" y="443700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32720" y="5805360"/>
            <a:ext cx="990360" cy="360"/>
            <a:chOff x="6732720" y="5805360"/>
            <a:chExt cx="990360" cy="360"/>
          </a:xfrm>
        </p:grpSpPr>
        <p:sp>
          <p:nvSpPr>
            <p:cNvPr id="116" name="Line 9"/>
            <p:cNvSpPr/>
            <p:nvPr/>
          </p:nvSpPr>
          <p:spPr>
            <a:xfrm>
              <a:off x="6732720" y="580536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6732720" y="580536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3203640" y="2708280"/>
            <a:ext cx="34192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20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21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24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26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28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26556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zh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291636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只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33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34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6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37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39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41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627280" y="54936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sh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石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76320" y="519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Calibri"/>
                <a:ea typeface="幼圆"/>
              </a:rPr>
              <a:t>什么是乌鸦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24000" y="2130480"/>
            <a:ext cx="4113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乌鸦是俗称是胖头鸟，通体黑色，形体接近，但它们并非一个物种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bki-20110316102959-804236393"/>
          <p:cNvPicPr/>
          <p:nvPr/>
        </p:nvPicPr>
        <p:blipFill>
          <a:blip r:embed="rId2"/>
          <a:stretch/>
        </p:blipFill>
        <p:spPr>
          <a:xfrm>
            <a:off x="4524480" y="2028960"/>
            <a:ext cx="423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46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47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9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50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52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4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du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ō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多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59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60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2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63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65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6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67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ch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出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72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73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76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78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80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ji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à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见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185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71640" y="18446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只乌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口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，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处找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6" descr="003"/>
          <p:cNvPicPr/>
          <p:nvPr/>
        </p:nvPicPr>
        <p:blipFill>
          <a:blip r:embed="rId2"/>
          <a:stretch/>
        </p:blipFill>
        <p:spPr>
          <a:xfrm>
            <a:off x="684360" y="2565360"/>
            <a:ext cx="81007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52360" y="476280"/>
            <a:ext cx="863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看见一个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瓶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瓶子里有水。但是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瓶子里水不多，瓶口又小，乌鸦喝不着水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办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004"/>
          <p:cNvPicPr/>
          <p:nvPr/>
        </p:nvPicPr>
        <p:blipFill>
          <a:blip r:embed="rId1"/>
          <a:stretch/>
        </p:blipFill>
        <p:spPr>
          <a:xfrm>
            <a:off x="358920" y="2565360"/>
            <a:ext cx="8532720" cy="3600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>
                <a:alpha val="50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914400" y="685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乌鸦看见旁边有许多小石子，想出办法来了。</a:t>
            </a:r>
            <a:r>
              <a:rPr b="1" lang="zh-CN" sz="4000" spc="-1" strike="noStrike" u="sng">
                <a:solidFill>
                  <a:srgbClr val="1f497d"/>
                </a:solidFill>
                <a:uFillTx/>
                <a:latin typeface="Times New Roman"/>
              </a:rPr>
              <a:t>乌鸦</a:t>
            </a:r>
            <a:r>
              <a:rPr b="1" lang="zh-CN" sz="4000" spc="-1" strike="noStrike" u="sng">
                <a:solidFill>
                  <a:srgbClr val="1f497d"/>
                </a:solidFill>
                <a:uFillTx/>
                <a:latin typeface="Times New Roman"/>
                <a:ea typeface="楷体_GB2312"/>
              </a:rPr>
              <a:t>把小石子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一个一个</a:t>
            </a:r>
            <a:r>
              <a:rPr b="1" lang="zh-CN" sz="4000" spc="-1" strike="noStrike" u="sng">
                <a:solidFill>
                  <a:srgbClr val="1f497d"/>
                </a:solidFill>
                <a:uFillTx/>
                <a:latin typeface="Times New Roman"/>
                <a:ea typeface="楷体_GB2312"/>
              </a:rPr>
              <a:t>地放到瓶子里。瓶子里的水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渐渐</a:t>
            </a:r>
            <a:r>
              <a:rPr b="1" lang="zh-CN" sz="4000" spc="-1" strike="noStrike" u="sng">
                <a:solidFill>
                  <a:srgbClr val="1f497d"/>
                </a:solidFill>
                <a:uFillTx/>
                <a:latin typeface="Times New Roman"/>
                <a:ea typeface="楷体_GB2312"/>
              </a:rPr>
              <a:t>升高，乌鸦就喝着水了</a:t>
            </a:r>
            <a:r>
              <a:rPr b="1" lang="zh-CN" sz="40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006"/>
          <p:cNvPicPr/>
          <p:nvPr/>
        </p:nvPicPr>
        <p:blipFill>
          <a:blip r:embed="rId1"/>
          <a:stretch/>
        </p:blipFill>
        <p:spPr>
          <a:xfrm>
            <a:off x="458640" y="3238560"/>
            <a:ext cx="8075880" cy="3471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照样子，说一说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640" y="2060640"/>
            <a:ext cx="82296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乌鸦把小石子放到瓶子里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﹍﹍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把 </a:t>
            </a:r>
            <a:r>
              <a:rPr b="0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﹍﹍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放到</a:t>
            </a:r>
            <a:r>
              <a:rPr b="0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﹍﹍﹍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﹍﹍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把 </a:t>
            </a:r>
            <a:r>
              <a:rPr b="0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﹍﹍﹍﹍﹍﹍</a:t>
            </a:r>
            <a:r>
              <a:rPr b="0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 flipV="1">
            <a:off x="252360" y="6897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  会  比 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3962520"/>
            <a:ext cx="8229600" cy="100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瓶子里的水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升高，乌鸦就喝到水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484360" y="522936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95280" y="1773360"/>
            <a:ext cx="8064360" cy="100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瓶子里的水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渐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，乌鸦就喝到水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3"/>
          <p:cNvSpPr/>
          <p:nvPr/>
        </p:nvSpPr>
        <p:spPr>
          <a:xfrm>
            <a:off x="0" y="83664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016640" y="1125360"/>
            <a:ext cx="17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读读说说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470680" y="1700280"/>
            <a:ext cx="372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瓶子里的水</a:t>
            </a:r>
            <a:r>
              <a:rPr b="1" lang="en-US" sz="4000" spc="-1" strike="noStrike">
                <a:solidFill>
                  <a:srgbClr val="c0504d"/>
                </a:solidFill>
                <a:latin typeface="黑体"/>
                <a:ea typeface="黑体"/>
              </a:rPr>
              <a:t>(     )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升高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530440" y="4508640"/>
            <a:ext cx="31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渐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403280" y="5516640"/>
            <a:ext cx="67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渐渐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083680" y="450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4284720" y="450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亮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692360" y="5516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小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4284720" y="551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长高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405320" y="2349360"/>
            <a:ext cx="15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渐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边框1"/>
          <p:cNvPicPr/>
          <p:nvPr/>
        </p:nvPicPr>
        <p:blipFill>
          <a:blip r:embed="rId1"/>
          <a:stretch/>
        </p:blipFill>
        <p:spPr>
          <a:xfrm>
            <a:off x="826920" y="620640"/>
            <a:ext cx="3513240" cy="1094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 flipV="1">
            <a:off x="1258920" y="8506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我  会  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990720" y="1828800"/>
            <a:ext cx="617220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天气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暖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奶奶的病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好了起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高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周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安静下来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484360" y="522936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4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5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7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9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矩形 1639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310680" y="1557360"/>
            <a:ext cx="11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会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" descr="DJ54WZB518YQ%5`WUD~B(2C"/>
          <p:cNvPicPr/>
          <p:nvPr/>
        </p:nvPicPr>
        <p:blipFill>
          <a:blip r:embed="rId1"/>
          <a:stretch/>
        </p:blipFill>
        <p:spPr>
          <a:xfrm>
            <a:off x="0" y="907920"/>
            <a:ext cx="3492360" cy="201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K~JG%@}DWOLVMD{WPW01E17"/>
          <p:cNvPicPr/>
          <p:nvPr/>
        </p:nvPicPr>
        <p:blipFill>
          <a:blip r:embed="rId2"/>
          <a:stretch/>
        </p:blipFill>
        <p:spPr>
          <a:xfrm>
            <a:off x="3492360" y="907920"/>
            <a:ext cx="3132360" cy="201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}JQQLLADPU75LSG{54FCR8W"/>
          <p:cNvPicPr/>
          <p:nvPr/>
        </p:nvPicPr>
        <p:blipFill>
          <a:blip r:embed="rId3"/>
          <a:stretch/>
        </p:blipFill>
        <p:spPr>
          <a:xfrm>
            <a:off x="0" y="3789360"/>
            <a:ext cx="3097080" cy="2160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W`LIIZ0K$WDZUH})KGW_90B"/>
          <p:cNvPicPr/>
          <p:nvPr/>
        </p:nvPicPr>
        <p:blipFill>
          <a:blip r:embed="rId4"/>
          <a:stretch/>
        </p:blipFill>
        <p:spPr>
          <a:xfrm>
            <a:off x="3132000" y="3789360"/>
            <a:ext cx="3097440" cy="223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E6KB03[H3AMBYNJ5_Z}K%7V"/>
          <p:cNvPicPr/>
          <p:nvPr/>
        </p:nvPicPr>
        <p:blipFill>
          <a:blip r:embed="rId5"/>
          <a:stretch/>
        </p:blipFill>
        <p:spPr>
          <a:xfrm>
            <a:off x="6156360" y="3789360"/>
            <a:ext cx="2987640" cy="2187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E~1P@4XX)@[)FGQS6Z(URAX"/>
          <p:cNvPicPr/>
          <p:nvPr/>
        </p:nvPicPr>
        <p:blipFill>
          <a:blip r:embed="rId6"/>
          <a:stretch/>
        </p:blipFill>
        <p:spPr>
          <a:xfrm>
            <a:off x="6012000" y="907920"/>
            <a:ext cx="3132000" cy="1917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9"/>
          <p:cNvSpPr/>
          <p:nvPr/>
        </p:nvSpPr>
        <p:spPr>
          <a:xfrm>
            <a:off x="524520" y="2824200"/>
            <a:ext cx="229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一只乌鸦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了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到处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。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3059280" y="551664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乌鸦把小石子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地放进瓶子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339480" y="5516640"/>
            <a:ext cx="25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乌鸦看见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，想出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来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156360" y="249228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可是，瓶子里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，瓶口又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乌鸦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。怎么办呢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3572280" y="2897280"/>
            <a:ext cx="26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乌鸦看见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瓶子里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。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6573600" y="5445000"/>
            <a:ext cx="22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瓶子里的水</a:t>
            </a:r>
            <a:r>
              <a:rPr b="1" lang="en-US" sz="1800" spc="-1" strike="noStrike">
                <a:solidFill>
                  <a:srgbClr val="3333cc"/>
                </a:solidFill>
                <a:latin typeface="宋体"/>
              </a:rPr>
              <a:t>___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宋体"/>
              </a:rPr>
              <a:t>______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乌鸦就</a:t>
            </a:r>
            <a:r>
              <a:rPr b="1" lang="en-US" sz="1800" spc="-1" strike="noStrike">
                <a:solidFill>
                  <a:srgbClr val="3333cc"/>
                </a:solidFill>
                <a:latin typeface="宋体"/>
              </a:rPr>
              <a:t>______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3"/>
          <p:cNvSpPr/>
          <p:nvPr/>
        </p:nvSpPr>
        <p:spPr>
          <a:xfrm>
            <a:off x="0" y="765000"/>
            <a:ext cx="3529080" cy="1297080"/>
          </a:xfrm>
          <a:prstGeom prst="cloudCallout">
            <a:avLst>
              <a:gd name="adj1" fmla="val -43745"/>
              <a:gd name="adj2" fmla="val 37759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95040" y="765000"/>
            <a:ext cx="11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会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50920" y="1844640"/>
            <a:ext cx="8893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只乌鸦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了，到处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乌鸦看见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___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瓶子里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可是，瓶子里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_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瓶口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乌鸦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怎么办呢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乌鸦看见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________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想出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_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来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乌鸦把小石子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_____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地放进瓶子里。瓶子里的水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______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乌鸦就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6" descr="乌鸦"/>
          <p:cNvPicPr/>
          <p:nvPr/>
        </p:nvPicPr>
        <p:blipFill>
          <a:blip r:embed="rId1"/>
          <a:stretch/>
        </p:blipFill>
        <p:spPr>
          <a:xfrm rot="20135400">
            <a:off x="6713640" y="-387000"/>
            <a:ext cx="243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3"/>
          <p:cNvSpPr/>
          <p:nvPr/>
        </p:nvSpPr>
        <p:spPr>
          <a:xfrm>
            <a:off x="0" y="69228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95280" y="1989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你喜欢这只小乌鸦吗？请你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句话来夸夸小乌鸦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24000" y="765000"/>
            <a:ext cx="32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黑体"/>
              </a:rPr>
              <a:t>乌鸦喝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050920" y="3141720"/>
            <a:ext cx="525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乌鸦乌鸦本事大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肯动脑筋想办法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一个一个石子放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困难再大也不怕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PMingLiU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7" descr="乌鸦"/>
          <p:cNvPicPr/>
          <p:nvPr/>
        </p:nvPicPr>
        <p:blipFill>
          <a:blip r:embed="rId1"/>
          <a:stretch/>
        </p:blipFill>
        <p:spPr>
          <a:xfrm rot="21432600">
            <a:off x="6346440" y="2781000"/>
            <a:ext cx="27972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3"/>
          <p:cNvSpPr/>
          <p:nvPr/>
        </p:nvSpPr>
        <p:spPr>
          <a:xfrm>
            <a:off x="0" y="54936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95280" y="836640"/>
            <a:ext cx="32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黑体"/>
              </a:rPr>
              <a:t>乌鸦喝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55640" y="1844640"/>
            <a:ext cx="8137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小乌鸦真聪明！但是，瓶子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边要是没有小石子，乌鸦该怎么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呢？假如你是这只乌鸦，你还能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出别的办法喝到水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6" descr="乌鸦"/>
          <p:cNvPicPr/>
          <p:nvPr/>
        </p:nvPicPr>
        <p:blipFill>
          <a:blip r:embed="rId1"/>
          <a:stretch/>
        </p:blipFill>
        <p:spPr>
          <a:xfrm rot="21432600">
            <a:off x="5610240" y="3443400"/>
            <a:ext cx="364824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3"/>
          <p:cNvSpPr/>
          <p:nvPr/>
        </p:nvSpPr>
        <p:spPr>
          <a:xfrm>
            <a:off x="0" y="47628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836640"/>
            <a:ext cx="32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黑体"/>
              </a:rPr>
              <a:t>乌鸦喝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1763640" y="907920"/>
            <a:ext cx="6983640" cy="3743280"/>
          </a:xfrm>
          <a:prstGeom prst="cloudCallout">
            <a:avLst>
              <a:gd name="adj1" fmla="val -45500"/>
              <a:gd name="adj2" fmla="val 6301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692360" y="170028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我希望小朋友们能像我一样遇到困难仔细观察、认真思考，做一个聪明的好学生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7" descr="乌鸦"/>
          <p:cNvPicPr/>
          <p:nvPr/>
        </p:nvPicPr>
        <p:blipFill>
          <a:blip r:embed="rId1"/>
          <a:stretch/>
        </p:blipFill>
        <p:spPr>
          <a:xfrm flipH="1" rot="21433200">
            <a:off x="-1189080" y="3860280"/>
            <a:ext cx="398772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3"/>
          <p:cNvSpPr/>
          <p:nvPr/>
        </p:nvSpPr>
        <p:spPr>
          <a:xfrm>
            <a:off x="0" y="69228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24000" y="1052640"/>
            <a:ext cx="32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黑体"/>
              </a:rPr>
              <a:t>乌鸦喝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10348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476360" y="907920"/>
            <a:ext cx="7667640" cy="3600720"/>
          </a:xfrm>
          <a:prstGeom prst="cloudCallout">
            <a:avLst>
              <a:gd name="adj1" fmla="val -46768"/>
              <a:gd name="adj2" fmla="val 5630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692360" y="1700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聪明的小朋友，请你仿照课文，编一个在没有石子的情况下我也能喝到水的小故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52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Picture 2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539640" y="2708280"/>
            <a:ext cx="79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乌鸦喝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左大括号 3"/>
          <p:cNvSpPr/>
          <p:nvPr/>
        </p:nvSpPr>
        <p:spPr>
          <a:xfrm>
            <a:off x="1549440" y="2565360"/>
            <a:ext cx="358560" cy="33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3384720"/>
              <a:gd name="textAreaBottom" fmla="*/ 33757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908000" y="256860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喝不着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左大括号 17"/>
          <p:cNvSpPr/>
          <p:nvPr/>
        </p:nvSpPr>
        <p:spPr>
          <a:xfrm flipH="1">
            <a:off x="3995640" y="2421000"/>
            <a:ext cx="432000" cy="3382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3382920"/>
              <a:gd name="textAreaBottom" fmla="*/ 3371760 h 33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"/>
                  <a:pt x="10800" y="229"/>
                </a:cubicBezTo>
                <a:lnTo>
                  <a:pt x="10800" y="10571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5"/>
                  <a:pt x="10800" y="11029"/>
                </a:cubicBezTo>
                <a:lnTo>
                  <a:pt x="10800" y="21371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4643280" y="2565360"/>
            <a:ext cx="52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聪明，爱动脑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1906560" y="5364000"/>
            <a:ext cx="42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喝着水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6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5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720720" y="185112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乌鸦喝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选自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伊索寓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它用形象、生动的语言描述了一只乌鸦通过动“脑”、动“手”喝到水的经过，向我们展示了一只可爱的乌鸦。这个故事虽然简单，却能给人以启迪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课文讲的是乌鸦想办法喝到瓶子里的水的故事。全文共有三个自然段，第一自然段讲乌鸦想喝瓶子里的水却喝不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第二自然段讲乌鸦想出了办法，第三自然段讲乌鸦利用小石子喝到了瓶子里的水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71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3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324000" y="2074320"/>
            <a:ext cx="85690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以“我帮乌鸦想办法”为题想一想，除了放石子还有哪些办法让乌鸦能喝到水？学生想好后还要动手做一做看效果怎样，然后把这个办法告诉你周围的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把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乌鸦喝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这个故事讲给爸爸妈妈或周围其他的人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276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8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95080" y="260280"/>
            <a:ext cx="534492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ū  yā      ch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ù               ch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ù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60360" y="2349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495440" y="1060560"/>
            <a:ext cx="6913440" cy="89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乌  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口渴   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hǎo bàn f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ē    pí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办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法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喝水  瓶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旁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边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许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放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渐渐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55640" y="3573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g     x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f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gjìn  jià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741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6"/>
          <p:cNvSpPr/>
          <p:nvPr/>
        </p:nvSpPr>
        <p:spPr>
          <a:xfrm>
            <a:off x="826920" y="2133720"/>
            <a:ext cx="756144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这是一只爱动脑筋、聪明的小乌鸦，通过自己的努力，终于喝到了瓶子里的水，我们也要向这只乌鸦学习，遇到困难多动脑筋，解决困难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82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我最聪明（补充音节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    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  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g       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      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鸦         终          瓶         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我会写词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ōng yú        bàn fǎ         kàn jiàn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      ）     （      ）     （      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ǒu kě          qǐ lái        jiàn ji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      ）      （      ）     （      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68000" y="1268280"/>
            <a:ext cx="2073600" cy="6480"/>
            <a:chOff x="468000" y="1268280"/>
            <a:chExt cx="2073600" cy="6480"/>
          </a:xfrm>
        </p:grpSpPr>
        <p:sp>
          <p:nvSpPr>
            <p:cNvPr id="288" name="直线连接符 21"/>
            <p:cNvSpPr/>
            <p:nvPr/>
          </p:nvSpPr>
          <p:spPr>
            <a:xfrm flipV="1">
              <a:off x="468360" y="1268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 rot="10800000">
              <a:off x="468000" y="126792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Text Box 6"/>
          <p:cNvSpPr/>
          <p:nvPr/>
        </p:nvSpPr>
        <p:spPr>
          <a:xfrm>
            <a:off x="6443640" y="3789360"/>
            <a:ext cx="172728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终于  办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看见  口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起来  渐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写出带有下面偏旁的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手（   ）（    ）    走（   ）（    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我的收获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——————————————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255680" y="1417680"/>
            <a:ext cx="6913440" cy="79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乌  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口渴   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办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法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喝水  瓶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旁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边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许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放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渐渐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乌鸦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口</a:t>
            </a:r>
            <a:r>
              <a:rPr b="0" lang="zh-CN" sz="1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渴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喝 渴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</a:t>
            </a:r>
            <a:r>
              <a:rPr b="0" lang="zh-CN" sz="1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办事处   别处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找</a:t>
            </a:r>
            <a:r>
              <a:rPr b="0" lang="zh-CN" sz="1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5:22:07Z</dcterms:created>
  <dc:creator/>
  <dc:description/>
  <dc:language>en-US</dc:language>
  <cp:lastModifiedBy>noodee</cp:lastModifiedBy>
  <dcterms:modified xsi:type="dcterms:W3CDTF">2018-01-08T13:01:23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