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s://www.baidu.com/s?wd=&#19968;&#26085;&#38590;&#20877;&#26216;&amp;tn=44039180_cpr&amp;fenlei=mv6quAkxTZn0IZRqIHckPjm4nH00T1dWnjDvPWD4nh7BPvRzuHbv0ZwV5Hcvrjm3rH6sPfKWUMw85HfYnjn4nH6sgvPsT6KdThsqpZwYTjCEQLGCpyw9Uz4Bmy-bIi4WUvYETgN-TLwGUv3EnWfsn163n1b" TargetMode="External"/><Relationship Id="rId2" Type="http://schemas.openxmlformats.org/officeDocument/2006/relationships/hyperlink" Target="https://www.baidu.com/s?wd=&#38518;&#28170;&#26126;&amp;tn=44039180_cpr&amp;fenlei=mv6quAkxTZn0IZRqIHckPjm4nH00T1dWnjDvPWD4nh7BPvRzuHbv0ZwV5Hcvrjm3rH6sPfKWUMw85HfYnjn4nH6sgvPsT6KdThsqpZwYTjCEQLGCpyw9Uz4Bmy-bIi4WUvYETgN-TLwGUv3EnWfsn163n1b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40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17520" y="1658880"/>
            <a:ext cx="88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声朗读课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标注自然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圈画生字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5"/>
          <p:cNvSpPr/>
          <p:nvPr/>
        </p:nvSpPr>
        <p:spPr>
          <a:xfrm>
            <a:off x="154080" y="579600"/>
            <a:ext cx="8837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50"/>
                </a:solidFill>
                <a:latin typeface="Calibri"/>
                <a:ea typeface="宋体"/>
              </a:rPr>
              <a:t>草莓变没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50"/>
                </a:solidFill>
                <a:latin typeface="Calibri"/>
                <a:ea typeface="宋体"/>
              </a:rPr>
              <a:t>蘑菇长出来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50"/>
                </a:solidFill>
                <a:latin typeface="Calibri"/>
                <a:ea typeface="宋体"/>
              </a:rPr>
              <a:t>树叶变黄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46836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Calibri"/>
                <a:ea typeface="幼圆"/>
              </a:rPr>
              <a:t>什么是蜗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285264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01640" y="3806280"/>
            <a:ext cx="7335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蜗牛是一种生活在陆地上的软体动物，属腹足纲，生活范围极广，耐严寒高温。“蜗牛”顾名思义是背着蜗壳的“牛”之义，事实上，它身体虽小，但有“角”，力大，肉味美，确也如牛一般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536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8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9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矩形 1639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   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住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     玩 吧     孩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子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发芽       爬 呀   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好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久   回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来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 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已经      全   变      碧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064200" y="2678040"/>
            <a:ext cx="934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iǔ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009800" y="907920"/>
            <a:ext cx="1655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h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276720" y="903240"/>
            <a:ext cx="143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643720" y="919080"/>
            <a:ext cx="1231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á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392720" y="911160"/>
            <a:ext cx="1116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otumChe"/>
                <a:ea typeface="DotumChe"/>
              </a:rPr>
              <a:t>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39640" y="2622600"/>
            <a:ext cx="158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ā y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916360" y="2637000"/>
            <a:ext cx="934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851280" y="2622600"/>
            <a:ext cx="863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79280" y="4508640"/>
            <a:ext cx="244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ǐ jī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2773440" y="4437000"/>
            <a:ext cx="3093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án bià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203960" y="2606760"/>
            <a:ext cx="12556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742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5643720" y="4411800"/>
            <a:ext cx="30938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73160" y="82080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   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住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     玩 吧     孩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子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发芽       爬 呀      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好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久   回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来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  </a:t>
            </a:r>
            <a:r>
              <a:rPr b="1" lang="zh-CN" sz="5400" spc="-1" strike="noStrike">
                <a:solidFill>
                  <a:srgbClr val="cc00cc"/>
                </a:solidFill>
                <a:latin typeface="Calibri"/>
              </a:rPr>
              <a:t>已经      全   变      碧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玩吧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好</a:t>
            </a: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久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孩</a:t>
            </a:r>
            <a:r>
              <a:rPr b="0" lang="zh-CN" sz="239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芽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头发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内容占位符 3" descr="904649944"/>
          <p:cNvPicPr/>
          <p:nvPr/>
        </p:nvPicPr>
        <p:blipFill>
          <a:blip r:embed="rId1"/>
          <a:srcRect l="-766" t="14" r="0" b="30327"/>
          <a:stretch/>
        </p:blipFill>
        <p:spPr>
          <a:xfrm>
            <a:off x="-85680" y="-101520"/>
            <a:ext cx="9279000" cy="690876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"/>
          <p:cNvSpPr/>
          <p:nvPr/>
        </p:nvSpPr>
        <p:spPr>
          <a:xfrm>
            <a:off x="-85680" y="1685880"/>
            <a:ext cx="28144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蜗牛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内容占位符 3" descr="904649944"/>
          <p:cNvPicPr/>
          <p:nvPr/>
        </p:nvPicPr>
        <p:blipFill>
          <a:blip r:embed="rId2"/>
          <a:srcRect l="-766" t="14" r="0" b="30327"/>
          <a:stretch/>
        </p:blipFill>
        <p:spPr>
          <a:xfrm>
            <a:off x="-85680" y="77760"/>
            <a:ext cx="9279000" cy="690732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6"/>
          <p:cNvSpPr/>
          <p:nvPr/>
        </p:nvSpPr>
        <p:spPr>
          <a:xfrm>
            <a:off x="-85680" y="1865160"/>
            <a:ext cx="28144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蜗牛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904649944"/>
          <p:cNvPicPr/>
          <p:nvPr/>
        </p:nvPicPr>
        <p:blipFill>
          <a:blip r:embed="rId3"/>
          <a:srcRect l="-766" t="14" r="0" b="30327"/>
          <a:stretch/>
        </p:blipFill>
        <p:spPr>
          <a:xfrm>
            <a:off x="-85680" y="-101520"/>
            <a:ext cx="9279000" cy="690876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8"/>
          <p:cNvSpPr/>
          <p:nvPr/>
        </p:nvSpPr>
        <p:spPr>
          <a:xfrm>
            <a:off x="-85680" y="1685880"/>
            <a:ext cx="28144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蜗牛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457200" y="-27000"/>
            <a:ext cx="28144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芽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住在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爬回来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碧绿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几颗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已经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摘草莓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000000"/>
                </a:solidFill>
                <a:latin typeface="华文楷体"/>
                <a:ea typeface="华文楷体"/>
              </a:rPr>
              <a:t>蘑菇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全变</a:t>
            </a:r>
            <a:r>
              <a:rPr b="0" lang="zh-CN" sz="19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了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900" spc="-1" strike="noStrike">
                <a:solidFill>
                  <a:srgbClr val="ff0000"/>
                </a:solidFill>
                <a:latin typeface="华文楷体"/>
                <a:ea typeface="华文楷体"/>
              </a:rPr>
              <a:t>蜗牛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3"/>
          <p:cNvSpPr/>
          <p:nvPr/>
        </p:nvSpPr>
        <p:spPr>
          <a:xfrm>
            <a:off x="2063880" y="22813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157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158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6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写一写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小树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发芽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96ec7b22fe420870"/>
          <p:cNvPicPr/>
          <p:nvPr/>
        </p:nvPicPr>
        <p:blipFill>
          <a:blip r:embed="rId1"/>
          <a:stretch/>
        </p:blipFill>
        <p:spPr>
          <a:xfrm>
            <a:off x="2044800" y="1887480"/>
            <a:ext cx="5327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64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65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7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68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70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2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2627280" y="5493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du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对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9466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78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79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1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82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84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6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m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妈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91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92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97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99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qu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á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全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204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205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7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208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210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12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hu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回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采几个蘑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ac75323d6b6de243-72c7f71f5d8818aa-1af1ca76a1131b053f4b3700619e5386"/>
          <p:cNvPicPr/>
          <p:nvPr/>
        </p:nvPicPr>
        <p:blipFill>
          <a:blip r:embed="rId1"/>
          <a:stretch/>
        </p:blipFill>
        <p:spPr>
          <a:xfrm>
            <a:off x="971640" y="2276640"/>
            <a:ext cx="7129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地上盖着雪，树叶全掉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47e864433d57ba15-4e881d80e0dc05a3-aa6010b66056b791a1b94e5409628551"/>
          <p:cNvPicPr/>
          <p:nvPr/>
        </p:nvPicPr>
        <p:blipFill>
          <a:blip r:embed="rId1"/>
          <a:stretch/>
        </p:blipFill>
        <p:spPr>
          <a:xfrm>
            <a:off x="1187280" y="2997360"/>
            <a:ext cx="67694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22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720720" y="185112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这篇课文说明了要珍惜时间，时间有限制的，生命也一样，我们要在有限的生命中做出无限的好事、工作，要对得起自己，对得起祖国母亲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3217680" y="2838240"/>
            <a:ext cx="27302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盛年不重来，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一日难再晨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及时当勉励，岁月不待人。（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陶渊明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22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904649944"/>
          <p:cNvPicPr/>
          <p:nvPr/>
        </p:nvPicPr>
        <p:blipFill>
          <a:blip r:embed="rId1"/>
          <a:srcRect l="-766" t="14" r="0" b="30327"/>
          <a:stretch/>
        </p:blipFill>
        <p:spPr>
          <a:xfrm>
            <a:off x="-162000" y="-25560"/>
            <a:ext cx="9279000" cy="690912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2"/>
          <p:cNvSpPr/>
          <p:nvPr/>
        </p:nvSpPr>
        <p:spPr>
          <a:xfrm>
            <a:off x="-85680" y="-101520"/>
            <a:ext cx="9101160" cy="362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蜗牛一家住在小树林旁边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天来了，蜗牛妈妈对小蜗牛说：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孩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，到小树林里去</a:t>
            </a:r>
            <a:r>
              <a:rPr b="0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玩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吧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小树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发芽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内容占位符 3" descr="webwxgetmsgimg (2)"/>
          <p:cNvPicPr/>
          <p:nvPr/>
        </p:nvPicPr>
        <p:blipFill>
          <a:blip r:embed="rId1"/>
          <a:stretch/>
        </p:blipFill>
        <p:spPr>
          <a:xfrm rot="16200000">
            <a:off x="1180080" y="-1115280"/>
            <a:ext cx="6785280" cy="908856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5"/>
          <p:cNvSpPr/>
          <p:nvPr/>
        </p:nvSpPr>
        <p:spPr>
          <a:xfrm>
            <a:off x="136440" y="36360"/>
            <a:ext cx="88362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碧绿的</a:t>
            </a:r>
            <a:r>
              <a:rPr b="1" lang="zh-CN" sz="7200" spc="-1" strike="noStrike">
                <a:solidFill>
                  <a:srgbClr val="00b050"/>
                </a:solidFill>
                <a:latin typeface="Calibri"/>
                <a:ea typeface="宋体"/>
              </a:rPr>
              <a:t>叶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一颗颗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草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内容占位符 3" descr="webwxgetmsgimg (2)"/>
          <p:cNvPicPr/>
          <p:nvPr/>
        </p:nvPicPr>
        <p:blipFill>
          <a:blip r:embed="rId1"/>
          <a:stretch/>
        </p:blipFill>
        <p:spPr>
          <a:xfrm rot="16200000">
            <a:off x="1141920" y="-1215000"/>
            <a:ext cx="6858000" cy="928836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5"/>
          <p:cNvSpPr/>
          <p:nvPr/>
        </p:nvSpPr>
        <p:spPr>
          <a:xfrm>
            <a:off x="-73080" y="0"/>
            <a:ext cx="92901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蜗牛爬呀，爬呀，好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久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才爬</a:t>
            </a: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回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。它说：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妈妈，小树长满了叶子，</a:t>
            </a:r>
            <a:r>
              <a:rPr b="0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碧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绿碧绿的，地上还长着许多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草莓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呢。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-73080" y="4495680"/>
            <a:ext cx="92901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蜗牛妈妈说：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哦，</a:t>
            </a:r>
            <a:r>
              <a:rPr b="0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已经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夏天了！快去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摘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几颗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草莓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回来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1" descr="1852870350"/>
          <p:cNvPicPr/>
          <p:nvPr/>
        </p:nvPicPr>
        <p:blipFill>
          <a:blip r:embed="rId1"/>
          <a:stretch/>
        </p:blipFill>
        <p:spPr>
          <a:xfrm>
            <a:off x="-3240" y="-52560"/>
            <a:ext cx="9150480" cy="681516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"/>
          <p:cNvSpPr/>
          <p:nvPr/>
        </p:nvSpPr>
        <p:spPr>
          <a:xfrm>
            <a:off x="120600" y="174600"/>
            <a:ext cx="44830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草莓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宋体"/>
              </a:rPr>
              <a:t>变</a:t>
            </a: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没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3"/>
          <p:cNvSpPr/>
          <p:nvPr/>
        </p:nvSpPr>
        <p:spPr>
          <a:xfrm>
            <a:off x="-3240" y="1309680"/>
            <a:ext cx="4484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宋体"/>
              </a:rPr>
              <a:t>蘑菇</a:t>
            </a: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长出来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4"/>
          <p:cNvSpPr/>
          <p:nvPr/>
        </p:nvSpPr>
        <p:spPr>
          <a:xfrm>
            <a:off x="-3240" y="5530680"/>
            <a:ext cx="82137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树叶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宋体"/>
              </a:rPr>
              <a:t>变</a:t>
            </a: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黄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1" descr="1852870350"/>
          <p:cNvPicPr/>
          <p:nvPr/>
        </p:nvPicPr>
        <p:blipFill>
          <a:blip r:embed="rId1"/>
          <a:stretch/>
        </p:blipFill>
        <p:spPr>
          <a:xfrm>
            <a:off x="-3240" y="-52560"/>
            <a:ext cx="9150480" cy="681516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4"/>
          <p:cNvSpPr/>
          <p:nvPr/>
        </p:nvSpPr>
        <p:spPr>
          <a:xfrm>
            <a:off x="-3240" y="3070080"/>
            <a:ext cx="821376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小蜗牛爬呀，爬呀，好久才爬回来。它说：</a:t>
            </a:r>
            <a:r>
              <a:rPr b="1" lang="en-US" sz="5400" spc="-1" strike="noStrike">
                <a:solidFill>
                  <a:srgbClr val="00b050"/>
                </a:solidFill>
                <a:latin typeface="Calibri"/>
                <a:ea typeface="宋体"/>
              </a:rPr>
              <a:t>“</a:t>
            </a: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妈妈，草莓没有了，地上长着蘑菇，树叶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全变</a:t>
            </a: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黄了。</a:t>
            </a:r>
            <a:r>
              <a:rPr b="1" lang="en-US" sz="5400" spc="-1" strike="noStrike">
                <a:solidFill>
                  <a:srgbClr val="00b050"/>
                </a:solidFill>
                <a:latin typeface="Calibri"/>
                <a:ea typeface="宋体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内容占位符 3" descr="1589015939"/>
          <p:cNvPicPr/>
          <p:nvPr/>
        </p:nvPicPr>
        <p:blipFill>
          <a:blip r:embed="rId1"/>
          <a:stretch/>
        </p:blipFill>
        <p:spPr>
          <a:xfrm rot="16200000">
            <a:off x="1139760" y="-1135080"/>
            <a:ext cx="6864480" cy="91281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4"/>
          <p:cNvSpPr/>
          <p:nvPr/>
        </p:nvSpPr>
        <p:spPr>
          <a:xfrm>
            <a:off x="3240" y="9360"/>
            <a:ext cx="821196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地上盖着雪，树叶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  <a:ea typeface="宋体"/>
              </a:rPr>
              <a:t>全</a:t>
            </a:r>
            <a:r>
              <a:rPr b="1" lang="zh-CN" sz="5400" spc="-1" strike="noStrike">
                <a:solidFill>
                  <a:srgbClr val="00b050"/>
                </a:solidFill>
                <a:latin typeface="Calibri"/>
                <a:ea typeface="宋体"/>
              </a:rPr>
              <a:t>掉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8-01-09T14:37:53Z</dcterms:modified>
  <cp:revision>26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