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: 圆角 1"/>
          <p:cNvSpPr/>
          <p:nvPr/>
        </p:nvSpPr>
        <p:spPr>
          <a:xfrm>
            <a:off x="1692360" y="2197080"/>
            <a:ext cx="6767280" cy="144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6f9fc">
                  <a:alpha val="20000"/>
                </a:srgbClr>
              </a:gs>
              <a:gs pos="100000">
                <a:srgbClr val="ffffff">
                  <a:alpha val="7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副标题 2"/>
          <p:cNvSpPr/>
          <p:nvPr/>
        </p:nvSpPr>
        <p:spPr>
          <a:xfrm>
            <a:off x="3330720" y="3081240"/>
            <a:ext cx="36766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标题 1"/>
          <p:cNvSpPr/>
          <p:nvPr/>
        </p:nvSpPr>
        <p:spPr>
          <a:xfrm>
            <a:off x="2978280" y="2284560"/>
            <a:ext cx="44733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语文园地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接连接符 14"/>
          <p:cNvSpPr/>
          <p:nvPr/>
        </p:nvSpPr>
        <p:spPr>
          <a:xfrm>
            <a:off x="2908440" y="3035160"/>
            <a:ext cx="443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本框 2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1"/>
          <p:cNvSpPr/>
          <p:nvPr/>
        </p:nvSpPr>
        <p:spPr>
          <a:xfrm>
            <a:off x="2556000" y="1203480"/>
            <a:ext cx="468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ànɡ hū hū de xiǎo shǒ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胖  乎 乎 的  小   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组合 1"/>
          <p:cNvGrpSpPr/>
          <p:nvPr/>
        </p:nvGrpSpPr>
        <p:grpSpPr>
          <a:xfrm>
            <a:off x="392040" y="84240"/>
            <a:ext cx="3243240" cy="1003320"/>
            <a:chOff x="392040" y="84240"/>
            <a:chExt cx="3243240" cy="1003320"/>
          </a:xfrm>
        </p:grpSpPr>
        <p:grpSp>
          <p:nvGrpSpPr>
            <p:cNvPr id="118" name="组合 3"/>
            <p:cNvGrpSpPr/>
            <p:nvPr/>
          </p:nvGrpSpPr>
          <p:grpSpPr>
            <a:xfrm>
              <a:off x="798120" y="511200"/>
              <a:ext cx="2837160" cy="545040"/>
              <a:chOff x="798120" y="511200"/>
              <a:chExt cx="2837160" cy="545040"/>
            </a:xfrm>
          </p:grpSpPr>
          <p:pic>
            <p:nvPicPr>
              <p:cNvPr id="119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20960" y="554040"/>
                <a:ext cx="261432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文本框 2"/>
              <p:cNvSpPr/>
              <p:nvPr/>
            </p:nvSpPr>
            <p:spPr>
              <a:xfrm>
                <a:off x="798120" y="511200"/>
                <a:ext cx="260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和大人一起读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21" name="Picture 8" descr="C:\Users\33716\Pictures\头像.png头像"/>
            <p:cNvPicPr/>
            <p:nvPr/>
          </p:nvPicPr>
          <p:blipFill>
            <a:blip r:embed="rId2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图片 9" descr=""/>
          <p:cNvPicPr/>
          <p:nvPr/>
        </p:nvPicPr>
        <p:blipFill>
          <a:blip r:embed="rId3"/>
          <a:stretch/>
        </p:blipFill>
        <p:spPr>
          <a:xfrm>
            <a:off x="2843280" y="2355840"/>
            <a:ext cx="38448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"/>
          <p:cNvSpPr/>
          <p:nvPr/>
        </p:nvSpPr>
        <p:spPr>
          <a:xfrm>
            <a:off x="468360" y="1203480"/>
            <a:ext cx="82072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一读，想一想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兰兰画的是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什么家人都很喜欢这幅画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4" descr=""/>
          <p:cNvPicPr/>
          <p:nvPr/>
        </p:nvPicPr>
        <p:blipFill>
          <a:blip r:embed="rId1"/>
          <a:stretch/>
        </p:blipFill>
        <p:spPr>
          <a:xfrm>
            <a:off x="3433680" y="2955960"/>
            <a:ext cx="173196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3" descr=""/>
          <p:cNvPicPr/>
          <p:nvPr/>
        </p:nvPicPr>
        <p:blipFill>
          <a:blip r:embed="rId1"/>
          <a:stretch/>
        </p:blipFill>
        <p:spPr>
          <a:xfrm>
            <a:off x="2322360" y="1835280"/>
            <a:ext cx="4229280" cy="2527200"/>
          </a:xfrm>
          <a:prstGeom prst="rect">
            <a:avLst/>
          </a:prstGeom>
          <a:ln w="0">
            <a:noFill/>
          </a:ln>
        </p:spPr>
      </p:pic>
      <p:sp>
        <p:nvSpPr>
          <p:cNvPr id="126" name="矩形 4"/>
          <p:cNvSpPr/>
          <p:nvPr/>
        </p:nvSpPr>
        <p:spPr>
          <a:xfrm>
            <a:off x="1763640" y="915840"/>
            <a:ext cx="5607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兰兰画的是自己的小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4"/>
          <p:cNvSpPr/>
          <p:nvPr/>
        </p:nvSpPr>
        <p:spPr>
          <a:xfrm>
            <a:off x="1619280" y="1419120"/>
            <a:ext cx="6121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兰兰的小手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替爸爸拿过拖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兰兰的小手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给妈妈洗过手绢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兰兰的小手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帮姥姥挠过痒痒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1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"/>
          <p:cNvSpPr/>
          <p:nvPr/>
        </p:nvSpPr>
        <p:spPr>
          <a:xfrm>
            <a:off x="539640" y="1058760"/>
            <a:ext cx="8209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了这篇课文后想一想，你受到了什么启发？平时在家有没有帮家人做过力所能及的事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图片 2" descr=""/>
          <p:cNvPicPr/>
          <p:nvPr/>
        </p:nvPicPr>
        <p:blipFill>
          <a:blip r:embed="rId1"/>
          <a:stretch/>
        </p:blipFill>
        <p:spPr>
          <a:xfrm>
            <a:off x="1555920" y="2427120"/>
            <a:ext cx="2462040" cy="23050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5" descr=""/>
          <p:cNvPicPr/>
          <p:nvPr/>
        </p:nvPicPr>
        <p:blipFill>
          <a:blip r:embed="rId2"/>
          <a:stretch/>
        </p:blipFill>
        <p:spPr>
          <a:xfrm>
            <a:off x="4017960" y="2427120"/>
            <a:ext cx="354816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"/>
          <p:cNvSpPr/>
          <p:nvPr/>
        </p:nvSpPr>
        <p:spPr>
          <a:xfrm>
            <a:off x="539640" y="1131840"/>
            <a:ext cx="81360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老师指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篇课文叙述了日常生活中家里发生的小事，充满了家庭温馨的气氛。因此，朗读时应用平缓、亲切的语调。文章对话部分比较多，要把握好不同身份的人的语气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"/>
          <p:cNvSpPr/>
          <p:nvPr/>
        </p:nvSpPr>
        <p:spPr>
          <a:xfrm>
            <a:off x="539640" y="1419120"/>
            <a:ext cx="8209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朗读时，我们可以把自己当成文章中的人物，分角色进行朗读。爸爸、妈妈、姥姥是长辈，语气要和蔼可亲，说话时满怀关爱和夸奖；兰兰是小朋友，说话的语气天真活泼，有礼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组合 1"/>
          <p:cNvGrpSpPr/>
          <p:nvPr/>
        </p:nvGrpSpPr>
        <p:grpSpPr>
          <a:xfrm>
            <a:off x="392040" y="84240"/>
            <a:ext cx="2667240" cy="1003320"/>
            <a:chOff x="392040" y="84240"/>
            <a:chExt cx="2667240" cy="1003320"/>
          </a:xfrm>
        </p:grpSpPr>
        <p:grpSp>
          <p:nvGrpSpPr>
            <p:cNvPr id="78" name="组合 3"/>
            <p:cNvGrpSpPr/>
            <p:nvPr/>
          </p:nvGrpSpPr>
          <p:grpSpPr>
            <a:xfrm>
              <a:off x="990720" y="512280"/>
              <a:ext cx="2068560" cy="543960"/>
              <a:chOff x="990720" y="512280"/>
              <a:chExt cx="2068560" cy="543960"/>
            </a:xfrm>
          </p:grpSpPr>
          <p:pic>
            <p:nvPicPr>
              <p:cNvPr id="79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20960" y="554040"/>
                <a:ext cx="203832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文本框 2"/>
              <p:cNvSpPr/>
              <p:nvPr/>
            </p:nvSpPr>
            <p:spPr>
              <a:xfrm>
                <a:off x="990720" y="51228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查 字 典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1" name="Picture 8" descr="C:\Users\33716\Pictures\头像.png头像"/>
            <p:cNvPicPr/>
            <p:nvPr/>
          </p:nvPicPr>
          <p:blipFill>
            <a:blip r:embed="rId2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组合 6"/>
          <p:cNvGrpSpPr/>
          <p:nvPr/>
        </p:nvGrpSpPr>
        <p:grpSpPr>
          <a:xfrm>
            <a:off x="250920" y="1779480"/>
            <a:ext cx="3816360" cy="1963800"/>
            <a:chOff x="250920" y="1779480"/>
            <a:chExt cx="3816360" cy="1963800"/>
          </a:xfrm>
        </p:grpSpPr>
        <p:sp>
          <p:nvSpPr>
            <p:cNvPr id="83" name="思想气泡: 云 3"/>
            <p:cNvSpPr/>
            <p:nvPr/>
          </p:nvSpPr>
          <p:spPr>
            <a:xfrm>
              <a:off x="250920" y="1779480"/>
              <a:ext cx="3816360" cy="1963800"/>
            </a:xfrm>
            <a:prstGeom prst="cloudCallout">
              <a:avLst>
                <a:gd name="adj1" fmla="val 38972"/>
                <a:gd name="adj2" fmla="val -32999"/>
              </a:avLst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文本框 5"/>
            <p:cNvSpPr/>
            <p:nvPr/>
          </p:nvSpPr>
          <p:spPr>
            <a:xfrm>
              <a:off x="466920" y="2022120"/>
              <a:ext cx="3493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         “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厨”字是什么意思呢？让我们借助拼音来查字典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图片 1" descr=""/>
          <p:cNvPicPr/>
          <p:nvPr/>
        </p:nvPicPr>
        <p:blipFill>
          <a:blip r:embed="rId3"/>
          <a:stretch/>
        </p:blipFill>
        <p:spPr>
          <a:xfrm>
            <a:off x="4356000" y="1679400"/>
            <a:ext cx="4129200" cy="206388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"/>
          <p:cNvSpPr/>
          <p:nvPr/>
        </p:nvSpPr>
        <p:spPr>
          <a:xfrm>
            <a:off x="611280" y="1058760"/>
            <a:ext cx="820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从“汉语拼音索引”里面找到大写字母“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找到音节“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chu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在正文第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XX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页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E:\陈文丽\人一语大课堂（下）\人一语大课堂正文\续183.tif"/>
          <p:cNvPicPr/>
          <p:nvPr/>
        </p:nvPicPr>
        <p:blipFill>
          <a:blip r:embed="rId1"/>
          <a:stretch/>
        </p:blipFill>
        <p:spPr>
          <a:xfrm>
            <a:off x="1665360" y="2611440"/>
            <a:ext cx="47368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"/>
          <p:cNvSpPr/>
          <p:nvPr/>
        </p:nvSpPr>
        <p:spPr>
          <a:xfrm>
            <a:off x="611280" y="1058760"/>
            <a:ext cx="820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翻到正文第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XX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页，找到“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chu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接下来就可以查到“厨”字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2048040" y="2487600"/>
            <a:ext cx="533556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971640" y="268200"/>
            <a:ext cx="705636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yīn xù chā zì fǎ kǒu ju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音 序  查 字 法  口  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yīn xù chá zì yào jì lá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宋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音  序 查  字 要  记 牢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xiān bǎ dà xiě zì mǔ zhǎ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先  把 大  写 字 母  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zì mǔ xià miàn zhǎo yīn ji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字 母 下   面   找   音  节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kàn kɑn tā zài dì jǐ y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看  看 它  在 第 几 页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"/>
          <p:cNvSpPr/>
          <p:nvPr/>
        </p:nvSpPr>
        <p:spPr>
          <a:xfrm>
            <a:off x="539640" y="9158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音序查字法从字典里找到下面的字，并组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1" descr=""/>
          <p:cNvPicPr/>
          <p:nvPr/>
        </p:nvPicPr>
        <p:blipFill>
          <a:blip r:embed="rId1"/>
          <a:srcRect l="1251" t="2631" r="0" b="0"/>
          <a:stretch/>
        </p:blipFill>
        <p:spPr>
          <a:xfrm>
            <a:off x="539640" y="1779480"/>
            <a:ext cx="8209080" cy="26654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4" descr=""/>
          <p:cNvPicPr/>
          <p:nvPr/>
        </p:nvPicPr>
        <p:blipFill>
          <a:blip r:embed="rId2"/>
          <a:stretch/>
        </p:blipFill>
        <p:spPr>
          <a:xfrm>
            <a:off x="3441600" y="2381400"/>
            <a:ext cx="781200" cy="4204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6" descr=""/>
          <p:cNvPicPr/>
          <p:nvPr/>
        </p:nvPicPr>
        <p:blipFill>
          <a:blip r:embed="rId3"/>
          <a:stretch/>
        </p:blipFill>
        <p:spPr>
          <a:xfrm>
            <a:off x="5076720" y="2390760"/>
            <a:ext cx="779400" cy="4190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7" descr=""/>
          <p:cNvPicPr/>
          <p:nvPr/>
        </p:nvPicPr>
        <p:blipFill>
          <a:blip r:embed="rId4"/>
          <a:stretch/>
        </p:blipFill>
        <p:spPr>
          <a:xfrm>
            <a:off x="6319800" y="2392200"/>
            <a:ext cx="781200" cy="4194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9" descr=""/>
          <p:cNvPicPr/>
          <p:nvPr/>
        </p:nvPicPr>
        <p:blipFill>
          <a:blip r:embed="rId5"/>
          <a:stretch/>
        </p:blipFill>
        <p:spPr>
          <a:xfrm>
            <a:off x="7588080" y="2390760"/>
            <a:ext cx="781200" cy="4190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0" descr=""/>
          <p:cNvPicPr/>
          <p:nvPr/>
        </p:nvPicPr>
        <p:blipFill>
          <a:blip r:embed="rId6"/>
          <a:stretch/>
        </p:blipFill>
        <p:spPr>
          <a:xfrm>
            <a:off x="3441600" y="2932200"/>
            <a:ext cx="781200" cy="4204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1" descr=""/>
          <p:cNvPicPr/>
          <p:nvPr/>
        </p:nvPicPr>
        <p:blipFill>
          <a:blip r:embed="rId7"/>
          <a:stretch/>
        </p:blipFill>
        <p:spPr>
          <a:xfrm>
            <a:off x="5076720" y="2941560"/>
            <a:ext cx="779400" cy="4190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2" descr=""/>
          <p:cNvPicPr/>
          <p:nvPr/>
        </p:nvPicPr>
        <p:blipFill>
          <a:blip r:embed="rId8"/>
          <a:stretch/>
        </p:blipFill>
        <p:spPr>
          <a:xfrm>
            <a:off x="6319800" y="2943360"/>
            <a:ext cx="781200" cy="4190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3" descr=""/>
          <p:cNvPicPr/>
          <p:nvPr/>
        </p:nvPicPr>
        <p:blipFill>
          <a:blip r:embed="rId9"/>
          <a:stretch/>
        </p:blipFill>
        <p:spPr>
          <a:xfrm>
            <a:off x="7588080" y="2941560"/>
            <a:ext cx="781200" cy="4190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4" descr=""/>
          <p:cNvPicPr/>
          <p:nvPr/>
        </p:nvPicPr>
        <p:blipFill>
          <a:blip r:embed="rId10"/>
          <a:stretch/>
        </p:blipFill>
        <p:spPr>
          <a:xfrm>
            <a:off x="3413160" y="3476520"/>
            <a:ext cx="780840" cy="4190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5" descr=""/>
          <p:cNvPicPr/>
          <p:nvPr/>
        </p:nvPicPr>
        <p:blipFill>
          <a:blip r:embed="rId11"/>
          <a:stretch/>
        </p:blipFill>
        <p:spPr>
          <a:xfrm>
            <a:off x="5046840" y="3484440"/>
            <a:ext cx="780840" cy="42084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6" descr=""/>
          <p:cNvPicPr/>
          <p:nvPr/>
        </p:nvPicPr>
        <p:blipFill>
          <a:blip r:embed="rId12"/>
          <a:stretch/>
        </p:blipFill>
        <p:spPr>
          <a:xfrm>
            <a:off x="6291360" y="3487680"/>
            <a:ext cx="779400" cy="4190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7" descr=""/>
          <p:cNvPicPr/>
          <p:nvPr/>
        </p:nvPicPr>
        <p:blipFill>
          <a:blip r:embed="rId13"/>
          <a:stretch/>
        </p:blipFill>
        <p:spPr>
          <a:xfrm>
            <a:off x="7559640" y="3484440"/>
            <a:ext cx="781200" cy="42084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1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"/>
          <p:cNvSpPr/>
          <p:nvPr/>
        </p:nvSpPr>
        <p:spPr>
          <a:xfrm>
            <a:off x="611280" y="915840"/>
            <a:ext cx="823104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宋体"/>
              </a:rPr>
              <a:t>zènɡ wānɡ lú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宋体"/>
                <a:ea typeface="黑体"/>
              </a:rPr>
              <a:t>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赠 汪 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宋体"/>
              </a:rPr>
              <a:t>                             </a:t>
            </a:r>
            <a:r>
              <a:rPr b="1" lang="en-US" sz="1800" spc="-1" strike="noStrike">
                <a:solidFill>
                  <a:srgbClr val="cc00cc"/>
                </a:solidFill>
                <a:latin typeface="宋体"/>
              </a:rPr>
              <a:t>tánɡ   lǐ bá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唐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】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李 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宋体"/>
              </a:rPr>
              <a:t>lǐ bái chénɡ zhōu jiānɡ yù xínɡ  hū wén àn shànɡ tà  ɡē shēn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李白  乘  舟  将 欲 行，忽闻 岸 上 踏 歌 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宋体"/>
              </a:rPr>
              <a:t>táo huā tán shuǐ shēn qiān chǐ  bù jí wānɡ lún sònɡ wǒ qín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桃 花 潭 水  深 千 尺，不及 汪 伦 送 我 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392040" y="84240"/>
            <a:ext cx="2718000" cy="1003320"/>
            <a:chOff x="392040" y="84240"/>
            <a:chExt cx="2718000" cy="1003320"/>
          </a:xfrm>
        </p:grpSpPr>
        <p:grpSp>
          <p:nvGrpSpPr>
            <p:cNvPr id="109" name="组合 3"/>
            <p:cNvGrpSpPr/>
            <p:nvPr/>
          </p:nvGrpSpPr>
          <p:grpSpPr>
            <a:xfrm>
              <a:off x="888480" y="511200"/>
              <a:ext cx="2221560" cy="545040"/>
              <a:chOff x="888480" y="511200"/>
              <a:chExt cx="2221560" cy="545040"/>
            </a:xfrm>
          </p:grpSpPr>
          <p:pic>
            <p:nvPicPr>
              <p:cNvPr id="110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21320" y="554040"/>
                <a:ext cx="208872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文本框 2"/>
              <p:cNvSpPr/>
              <p:nvPr/>
            </p:nvSpPr>
            <p:spPr>
              <a:xfrm>
                <a:off x="888480" y="511200"/>
                <a:ext cx="1927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日积月累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2" name="Picture 8" descr="C:\Users\33716\Pictures\头像.png头像"/>
            <p:cNvPicPr/>
            <p:nvPr/>
          </p:nvPicPr>
          <p:blipFill>
            <a:blip r:embed="rId2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1"/>
          <p:cNvSpPr/>
          <p:nvPr/>
        </p:nvSpPr>
        <p:spPr>
          <a:xfrm>
            <a:off x="539640" y="700200"/>
            <a:ext cx="53276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白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01—76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字太白，号青莲居士，祖籍陇西成纪（今甘肃静宁西南）。唐代伟大的浪漫主义诗人，被后人誉为“诗仙”，与杜甫并称为“李杜”。主要作品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太白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图片 2" descr=""/>
          <p:cNvPicPr/>
          <p:nvPr/>
        </p:nvPicPr>
        <p:blipFill>
          <a:blip r:embed="rId1"/>
          <a:stretch/>
        </p:blipFill>
        <p:spPr>
          <a:xfrm>
            <a:off x="5796000" y="1419120"/>
            <a:ext cx="31240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"/>
          <p:cNvSpPr/>
          <p:nvPr/>
        </p:nvSpPr>
        <p:spPr>
          <a:xfrm>
            <a:off x="684360" y="1276200"/>
            <a:ext cx="7920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译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白坐上小船刚刚要启程，忽然听到岸上传来告别的踏歌声。桃花潭水纵然有一千尺那么深，也比不过汪伦送我的情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>jinhu.me</dc:creator>
  <dc:description/>
  <dc:language>en-US</dc:language>
  <cp:lastModifiedBy>大米饭＇Ms.Li</cp:lastModifiedBy>
  <dcterms:modified xsi:type="dcterms:W3CDTF">2018-02-09T16:05:03Z</dcterms:modified>
  <cp:revision>2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