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8.jpeg" ContentType="image/jpeg"/>
  <Override PartName="/ppt/media/image1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副标题 2"/>
          <p:cNvSpPr/>
          <p:nvPr/>
        </p:nvSpPr>
        <p:spPr>
          <a:xfrm>
            <a:off x="2935440" y="2314440"/>
            <a:ext cx="5381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年级下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标题 1"/>
          <p:cNvSpPr/>
          <p:nvPr/>
        </p:nvSpPr>
        <p:spPr>
          <a:xfrm>
            <a:off x="2935440" y="1563840"/>
            <a:ext cx="53816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语文园地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"/>
          <p:cNvSpPr/>
          <p:nvPr/>
        </p:nvSpPr>
        <p:spPr>
          <a:xfrm>
            <a:off x="3511440" y="2306520"/>
            <a:ext cx="4176720" cy="7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1"/>
          <p:cNvSpPr/>
          <p:nvPr/>
        </p:nvSpPr>
        <p:spPr>
          <a:xfrm>
            <a:off x="3277080" y="10206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己    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1170000" y="2281320"/>
            <a:ext cx="1584360" cy="1514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190520" y="2298600"/>
            <a:ext cx="154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2598840" y="2371680"/>
            <a:ext cx="161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图片 2" descr=""/>
          <p:cNvPicPr/>
          <p:nvPr/>
        </p:nvPicPr>
        <p:blipFill>
          <a:blip r:embed="rId2"/>
          <a:stretch/>
        </p:blipFill>
        <p:spPr>
          <a:xfrm>
            <a:off x="6067440" y="2254320"/>
            <a:ext cx="1582560" cy="15145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6126120" y="2284560"/>
            <a:ext cx="15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4599000" y="2343240"/>
            <a:ext cx="161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3277080" y="10206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刀    力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图片 2" descr=""/>
          <p:cNvPicPr/>
          <p:nvPr/>
        </p:nvPicPr>
        <p:blipFill>
          <a:blip r:embed="rId1"/>
          <a:stretch/>
        </p:blipFill>
        <p:spPr>
          <a:xfrm>
            <a:off x="1314360" y="2281320"/>
            <a:ext cx="1584360" cy="1514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1357200" y="2327400"/>
            <a:ext cx="154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2743200" y="2371680"/>
            <a:ext cx="161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图片 2" descr=""/>
          <p:cNvPicPr/>
          <p:nvPr/>
        </p:nvPicPr>
        <p:blipFill>
          <a:blip r:embed="rId2"/>
          <a:stretch/>
        </p:blipFill>
        <p:spPr>
          <a:xfrm>
            <a:off x="5219640" y="2254320"/>
            <a:ext cx="1584360" cy="1514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5261040" y="2328840"/>
            <a:ext cx="154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6630840" y="2328840"/>
            <a:ext cx="161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3277080" y="10206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    入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图片 2" descr=""/>
          <p:cNvPicPr/>
          <p:nvPr/>
        </p:nvPicPr>
        <p:blipFill>
          <a:blip r:embed="rId1"/>
          <a:stretch/>
        </p:blipFill>
        <p:spPr>
          <a:xfrm>
            <a:off x="1170000" y="2281320"/>
            <a:ext cx="1584360" cy="15145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190520" y="2298600"/>
            <a:ext cx="154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2598840" y="2371680"/>
            <a:ext cx="161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们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图片 2" descr=""/>
          <p:cNvPicPr/>
          <p:nvPr/>
        </p:nvPicPr>
        <p:blipFill>
          <a:blip r:embed="rId2"/>
          <a:stretch/>
        </p:blipFill>
        <p:spPr>
          <a:xfrm>
            <a:off x="6067440" y="2254320"/>
            <a:ext cx="1584360" cy="15145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6084720" y="2255760"/>
            <a:ext cx="154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599000" y="2343240"/>
            <a:ext cx="161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4863600" y="987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下面的词语中选择几个，展开想象说几句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E:\陈文丽\人一语大课堂正文\印标.tif"/>
          <p:cNvPicPr/>
          <p:nvPr/>
        </p:nvPicPr>
        <p:blipFill>
          <a:blip r:embed="rId1"/>
          <a:stretch/>
        </p:blipFill>
        <p:spPr>
          <a:xfrm>
            <a:off x="677880" y="1041480"/>
            <a:ext cx="465120" cy="4698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6"/>
          <p:cNvSpPr/>
          <p:nvPr/>
        </p:nvSpPr>
        <p:spPr>
          <a:xfrm>
            <a:off x="1563840" y="1766880"/>
            <a:ext cx="5362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朵   笑声   阳光   草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   歌唱   跑步   喜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" descr=""/>
          <p:cNvPicPr/>
          <p:nvPr/>
        </p:nvPicPr>
        <p:blipFill>
          <a:blip r:embed="rId2"/>
          <a:srcRect l="0" t="0" r="0" b="22180"/>
          <a:stretch/>
        </p:blipFill>
        <p:spPr>
          <a:xfrm>
            <a:off x="7256520" y="2424240"/>
            <a:ext cx="1887480" cy="15444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2" descr=""/>
          <p:cNvPicPr/>
          <p:nvPr/>
        </p:nvPicPr>
        <p:blipFill>
          <a:blip r:embed="rId3"/>
          <a:srcRect l="0" t="0" r="0" b="3904"/>
          <a:stretch/>
        </p:blipFill>
        <p:spPr>
          <a:xfrm>
            <a:off x="468360" y="3209760"/>
            <a:ext cx="2119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6432480" y="2787480"/>
            <a:ext cx="2025720" cy="38260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2"/>
          <p:cNvGrpSpPr/>
          <p:nvPr/>
        </p:nvGrpSpPr>
        <p:grpSpPr>
          <a:xfrm>
            <a:off x="660240" y="411120"/>
            <a:ext cx="5569200" cy="2697120"/>
            <a:chOff x="660240" y="411120"/>
            <a:chExt cx="5569200" cy="2697120"/>
          </a:xfrm>
        </p:grpSpPr>
        <p:sp>
          <p:nvSpPr>
            <p:cNvPr id="177" name="AutoShape 4"/>
            <p:cNvSpPr/>
            <p:nvPr/>
          </p:nvSpPr>
          <p:spPr>
            <a:xfrm>
              <a:off x="674280" y="411120"/>
              <a:ext cx="5555160" cy="2697120"/>
            </a:xfrm>
            <a:prstGeom prst="wedgeRectCallout">
              <a:avLst>
                <a:gd name="adj1" fmla="val 55175"/>
                <a:gd name="adj2" fmla="val 4071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5"/>
            <p:cNvSpPr/>
            <p:nvPr/>
          </p:nvSpPr>
          <p:spPr>
            <a:xfrm>
              <a:off x="660240" y="554400"/>
              <a:ext cx="5569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这是测练同学们运用所给的词语写话。大家用一段话把这些词语连接起来，而且要注意内容完整，有条理，语句通顺。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4"/>
          <p:cNvSpPr/>
          <p:nvPr/>
        </p:nvSpPr>
        <p:spPr>
          <a:xfrm>
            <a:off x="372960" y="915840"/>
            <a:ext cx="8352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500" spc="-1" strike="noStrike">
                <a:solidFill>
                  <a:srgbClr val="ff00ff"/>
                </a:solidFill>
                <a:latin typeface="宋体"/>
              </a:rPr>
              <a:t>示例：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小溪边，山坡下到处都荡漾着人们的歌声和笑声，连树上的小鸟也叽叽喳喳地叫个不停，仿佛在歌唱着这美丽的春光。柳树长着长长的辫子，对着河水细细地梳妆，树下的野花全开了，花开在温暖的阳光下显得更加鲜艳。公园里的草地旁，有不少人在跑步，充满了活力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7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181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18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书写提示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4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Picture 2" descr=""/>
          <p:cNvPicPr/>
          <p:nvPr/>
        </p:nvPicPr>
        <p:blipFill>
          <a:blip r:embed="rId3"/>
          <a:stretch/>
        </p:blipFill>
        <p:spPr>
          <a:xfrm>
            <a:off x="611280" y="1366920"/>
            <a:ext cx="3282840" cy="32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E:\陈文丽\人一语大课堂正文\续154.tif"/>
          <p:cNvPicPr/>
          <p:nvPr/>
        </p:nvPicPr>
        <p:blipFill>
          <a:blip r:embed="rId4"/>
          <a:srcRect l="0" t="0" r="82308" b="43295"/>
          <a:stretch/>
        </p:blipFill>
        <p:spPr>
          <a:xfrm>
            <a:off x="4035600" y="1371600"/>
            <a:ext cx="896760" cy="1371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E:\陈文丽\人一语大课堂正文\续154.tif"/>
          <p:cNvPicPr/>
          <p:nvPr/>
        </p:nvPicPr>
        <p:blipFill>
          <a:blip r:embed="rId5"/>
          <a:srcRect l="18261" t="0" r="1265" b="56377"/>
          <a:stretch/>
        </p:blipFill>
        <p:spPr>
          <a:xfrm>
            <a:off x="4859280" y="1276200"/>
            <a:ext cx="4081680" cy="1054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E:\陈文丽\人一语大课堂正文\续154.tif"/>
          <p:cNvPicPr/>
          <p:nvPr/>
        </p:nvPicPr>
        <p:blipFill>
          <a:blip r:embed="rId6"/>
          <a:srcRect l="82876" t="43176" r="1307" b="491"/>
          <a:stretch/>
        </p:blipFill>
        <p:spPr>
          <a:xfrm>
            <a:off x="8132760" y="2787480"/>
            <a:ext cx="801720" cy="1363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E:\陈文丽\人一语大课堂正文\续154.tif"/>
          <p:cNvPicPr/>
          <p:nvPr/>
        </p:nvPicPr>
        <p:blipFill>
          <a:blip r:embed="rId7"/>
          <a:srcRect l="1535" t="59205" r="17657" b="833"/>
          <a:stretch/>
        </p:blipFill>
        <p:spPr>
          <a:xfrm>
            <a:off x="4068720" y="3236760"/>
            <a:ext cx="40975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7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191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19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日积月累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4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组合 2"/>
          <p:cNvGrpSpPr/>
          <p:nvPr/>
        </p:nvGrpSpPr>
        <p:grpSpPr>
          <a:xfrm>
            <a:off x="484200" y="1270080"/>
            <a:ext cx="7832880" cy="1080360"/>
            <a:chOff x="484200" y="1270080"/>
            <a:chExt cx="7832880" cy="1080360"/>
          </a:xfrm>
        </p:grpSpPr>
        <p:sp>
          <p:nvSpPr>
            <p:cNvPr id="196" name="矩形 4"/>
            <p:cNvSpPr/>
            <p:nvPr/>
          </p:nvSpPr>
          <p:spPr>
            <a:xfrm>
              <a:off x="484200" y="1616760"/>
              <a:ext cx="78328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buClr>
                  <a:srgbClr val="0000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敏而 好学，不耻 下 问。（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论语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2"/>
            <p:cNvSpPr/>
            <p:nvPr/>
          </p:nvSpPr>
          <p:spPr>
            <a:xfrm>
              <a:off x="850680" y="1270080"/>
              <a:ext cx="7466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mǐ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ér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hào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xué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ù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hǐ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xià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wèn       lú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ǔ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矩形 14"/>
          <p:cNvSpPr/>
          <p:nvPr/>
        </p:nvSpPr>
        <p:spPr>
          <a:xfrm>
            <a:off x="395280" y="2455920"/>
            <a:ext cx="8280360" cy="1202760"/>
          </a:xfrm>
          <a:prstGeom prst="rect">
            <a:avLst/>
          </a:prstGeom>
          <a:noFill/>
          <a:ln w="3816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译文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天资聪明而又好学，不以向地位、学问比自己低的人请教为羞耻，形容虚心好学，不自以为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1"/>
          <p:cNvGrpSpPr/>
          <p:nvPr/>
        </p:nvGrpSpPr>
        <p:grpSpPr>
          <a:xfrm>
            <a:off x="728640" y="843120"/>
            <a:ext cx="7947000" cy="1080360"/>
            <a:chOff x="728640" y="843120"/>
            <a:chExt cx="7947000" cy="1080360"/>
          </a:xfrm>
        </p:grpSpPr>
        <p:sp>
          <p:nvSpPr>
            <p:cNvPr id="200" name="矩形 4"/>
            <p:cNvSpPr/>
            <p:nvPr/>
          </p:nvSpPr>
          <p:spPr>
            <a:xfrm>
              <a:off x="728640" y="1189800"/>
              <a:ext cx="7831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buClr>
                  <a:srgbClr val="0000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不知 则问，不 能 则学。（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荀子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3"/>
            <p:cNvSpPr/>
            <p:nvPr/>
          </p:nvSpPr>
          <p:spPr>
            <a:xfrm>
              <a:off x="1211040" y="843120"/>
              <a:ext cx="7464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ù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zhī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zé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wè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ù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nén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zé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xué       xú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zǐ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矩形 4"/>
          <p:cNvSpPr/>
          <p:nvPr/>
        </p:nvSpPr>
        <p:spPr>
          <a:xfrm>
            <a:off x="395280" y="2028960"/>
            <a:ext cx="8280360" cy="1202760"/>
          </a:xfrm>
          <a:prstGeom prst="rect">
            <a:avLst/>
          </a:prstGeom>
          <a:noFill/>
          <a:ln w="3816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译文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有不知道的就要虚心向他人请教，有不明白的就要深入学习，教育学生要养成不懂就问、勤学好问的好习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1"/>
          <p:cNvGrpSpPr/>
          <p:nvPr/>
        </p:nvGrpSpPr>
        <p:grpSpPr>
          <a:xfrm>
            <a:off x="484200" y="1131840"/>
            <a:ext cx="7904160" cy="1080000"/>
            <a:chOff x="484200" y="1131840"/>
            <a:chExt cx="7904160" cy="1080000"/>
          </a:xfrm>
        </p:grpSpPr>
        <p:sp>
          <p:nvSpPr>
            <p:cNvPr id="204" name="矩形 4"/>
            <p:cNvSpPr/>
            <p:nvPr/>
          </p:nvSpPr>
          <p:spPr>
            <a:xfrm>
              <a:off x="484200" y="1478160"/>
              <a:ext cx="78321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buClr>
                  <a:srgbClr val="0000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读书 百 遍，而义自 见。（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董 遇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3"/>
            <p:cNvSpPr/>
            <p:nvPr/>
          </p:nvSpPr>
          <p:spPr>
            <a:xfrm>
              <a:off x="923760" y="1131840"/>
              <a:ext cx="7464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dú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hū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ǎi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ià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ér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ì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zì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xiàn       d</a:t>
              </a:r>
              <a:r>
                <a:rPr b="1" lang="it-IT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ǒ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n</a:t>
              </a:r>
              <a:r>
                <a:rPr b="1" lang="it-IT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</a:t>
              </a:r>
              <a:r>
                <a:rPr b="1" lang="it-IT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矩形 4"/>
          <p:cNvSpPr/>
          <p:nvPr/>
        </p:nvSpPr>
        <p:spPr>
          <a:xfrm>
            <a:off x="395280" y="2316240"/>
            <a:ext cx="8280360" cy="1202760"/>
          </a:xfrm>
          <a:prstGeom prst="rect">
            <a:avLst/>
          </a:prstGeom>
          <a:noFill/>
          <a:ln w="3816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译文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读书上百遍，书意自然领会，指书要熟读才能真正领会其中的意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852560" y="1244520"/>
            <a:ext cx="549432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少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吵        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半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夕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岁        王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飘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风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票        校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木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张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长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弓        甜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864160" y="10526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hǎ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5983560" y="183672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i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5939280" y="1012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pà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5967360" y="29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5958360" y="377676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ɡā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2997720" y="183672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su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873160" y="377676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ɡō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2931120" y="29574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pià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1"/>
          <p:cNvGrpSpPr/>
          <p:nvPr/>
        </p:nvGrpSpPr>
        <p:grpSpPr>
          <a:xfrm>
            <a:off x="392040" y="84240"/>
            <a:ext cx="2917800" cy="1003320"/>
            <a:chOff x="392040" y="84240"/>
            <a:chExt cx="2917800" cy="1003320"/>
          </a:xfrm>
        </p:grpSpPr>
        <p:grpSp>
          <p:nvGrpSpPr>
            <p:cNvPr id="86" name="组合 3"/>
            <p:cNvGrpSpPr/>
            <p:nvPr/>
          </p:nvGrpSpPr>
          <p:grpSpPr>
            <a:xfrm>
              <a:off x="888480" y="511200"/>
              <a:ext cx="2421360" cy="545040"/>
              <a:chOff x="888480" y="511200"/>
              <a:chExt cx="2421360" cy="545040"/>
            </a:xfrm>
          </p:grpSpPr>
          <p:pic>
            <p:nvPicPr>
              <p:cNvPr id="87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1320" y="554040"/>
                <a:ext cx="22885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文本框 2"/>
              <p:cNvSpPr/>
              <p:nvPr/>
            </p:nvSpPr>
            <p:spPr>
              <a:xfrm>
                <a:off x="888480" y="511200"/>
                <a:ext cx="2095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识字加油站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9" name="Picture 8" descr="C:\Users\33716\Pictures\头像.png头像"/>
            <p:cNvPicPr/>
            <p:nvPr/>
          </p:nvPicPr>
          <p:blipFill>
            <a:blip r:embed="rId3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图片 2" descr=""/>
          <p:cNvPicPr/>
          <p:nvPr/>
        </p:nvPicPr>
        <p:blipFill>
          <a:blip r:embed="rId4"/>
          <a:srcRect l="7218" t="5528" r="7218" b="4869"/>
          <a:stretch/>
        </p:blipFill>
        <p:spPr>
          <a:xfrm>
            <a:off x="108000" y="3179880"/>
            <a:ext cx="1319040" cy="19555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1"/>
          <p:cNvGrpSpPr/>
          <p:nvPr/>
        </p:nvGrpSpPr>
        <p:grpSpPr>
          <a:xfrm>
            <a:off x="484200" y="843120"/>
            <a:ext cx="7956360" cy="1080360"/>
            <a:chOff x="484200" y="843120"/>
            <a:chExt cx="7956360" cy="1080360"/>
          </a:xfrm>
        </p:grpSpPr>
        <p:sp>
          <p:nvSpPr>
            <p:cNvPr id="208" name="矩形 4"/>
            <p:cNvSpPr/>
            <p:nvPr/>
          </p:nvSpPr>
          <p:spPr>
            <a:xfrm>
              <a:off x="484200" y="1189800"/>
              <a:ext cx="7831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buClr>
                  <a:srgbClr val="0000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读万  卷 书，行 万 里路。（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董 其 昌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3"/>
            <p:cNvSpPr/>
            <p:nvPr/>
          </p:nvSpPr>
          <p:spPr>
            <a:xfrm>
              <a:off x="976320" y="843120"/>
              <a:ext cx="7464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dú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wà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juà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hū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xín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wà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lǐ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lù        dǒn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qí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hān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矩形 4"/>
          <p:cNvSpPr/>
          <p:nvPr/>
        </p:nvSpPr>
        <p:spPr>
          <a:xfrm>
            <a:off x="395280" y="2028960"/>
            <a:ext cx="8280360" cy="1202760"/>
          </a:xfrm>
          <a:prstGeom prst="rect">
            <a:avLst/>
          </a:prstGeom>
          <a:noFill/>
          <a:ln w="3816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译文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读万卷书：指要努力读书，让自己的才识过人。行万里路：指让自己的所学能在生活中体现，同时增长见识，也就是理论结合实际，学以致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"/>
          <p:cNvSpPr/>
          <p:nvPr/>
        </p:nvSpPr>
        <p:spPr>
          <a:xfrm>
            <a:off x="755640" y="843120"/>
            <a:ext cx="7704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的拓展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千里之行，始于足下。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老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知而好学，然后能才。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——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荀子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差之毫厘，谬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iù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以千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礼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经解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2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0"/>
          <p:cNvSpPr/>
          <p:nvPr/>
        </p:nvSpPr>
        <p:spPr>
          <a:xfrm>
            <a:off x="1258920" y="137304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 悟 空 打 妖 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2351160" y="1373040"/>
            <a:ext cx="45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sūn  wù kōnɡ  dǎ  yāo ɡuà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3672720" y="7873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见课本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组合 6"/>
          <p:cNvGrpSpPr/>
          <p:nvPr/>
        </p:nvGrpSpPr>
        <p:grpSpPr>
          <a:xfrm>
            <a:off x="392040" y="84240"/>
            <a:ext cx="3459240" cy="1003320"/>
            <a:chOff x="392040" y="84240"/>
            <a:chExt cx="3459240" cy="1003320"/>
          </a:xfrm>
        </p:grpSpPr>
        <p:grpSp>
          <p:nvGrpSpPr>
            <p:cNvPr id="217" name="组合 3"/>
            <p:cNvGrpSpPr/>
            <p:nvPr/>
          </p:nvGrpSpPr>
          <p:grpSpPr>
            <a:xfrm>
              <a:off x="884880" y="483840"/>
              <a:ext cx="2966400" cy="545040"/>
              <a:chOff x="884880" y="483840"/>
              <a:chExt cx="2966400" cy="545040"/>
            </a:xfrm>
          </p:grpSpPr>
          <p:pic>
            <p:nvPicPr>
              <p:cNvPr id="218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7720" y="526680"/>
                <a:ext cx="28335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文本框 2"/>
              <p:cNvSpPr/>
              <p:nvPr/>
            </p:nvSpPr>
            <p:spPr>
              <a:xfrm>
                <a:off x="884880" y="483840"/>
                <a:ext cx="26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和大人一起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0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图片 1" descr=""/>
          <p:cNvPicPr/>
          <p:nvPr/>
        </p:nvPicPr>
        <p:blipFill>
          <a:blip r:embed="rId3"/>
          <a:srcRect l="0" t="0" r="0" b="2819"/>
          <a:stretch/>
        </p:blipFill>
        <p:spPr>
          <a:xfrm>
            <a:off x="2435400" y="2643120"/>
            <a:ext cx="4170240" cy="2212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4" descr=""/>
          <p:cNvPicPr/>
          <p:nvPr/>
        </p:nvPicPr>
        <p:blipFill>
          <a:blip r:embed="rId1"/>
          <a:stretch/>
        </p:blipFill>
        <p:spPr>
          <a:xfrm>
            <a:off x="179280" y="2643120"/>
            <a:ext cx="2252880" cy="23986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2"/>
          <p:cNvGrpSpPr/>
          <p:nvPr/>
        </p:nvGrpSpPr>
        <p:grpSpPr>
          <a:xfrm>
            <a:off x="2050920" y="843120"/>
            <a:ext cx="6553440" cy="2952720"/>
            <a:chOff x="2050920" y="843120"/>
            <a:chExt cx="6553440" cy="2952720"/>
          </a:xfrm>
        </p:grpSpPr>
        <p:sp>
          <p:nvSpPr>
            <p:cNvPr id="224" name="AutoShape 4"/>
            <p:cNvSpPr/>
            <p:nvPr/>
          </p:nvSpPr>
          <p:spPr>
            <a:xfrm>
              <a:off x="2050920" y="843120"/>
              <a:ext cx="6553440" cy="2952720"/>
            </a:xfrm>
            <a:prstGeom prst="wedgeRectCallout">
              <a:avLst>
                <a:gd name="adj1" fmla="val -55861"/>
                <a:gd name="adj2" fmla="val 4877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 Box 5"/>
            <p:cNvSpPr/>
            <p:nvPr/>
          </p:nvSpPr>
          <p:spPr>
            <a:xfrm>
              <a:off x="2254680" y="843120"/>
              <a:ext cx="6280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7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这首儿歌描述的是孙悟空三打白骨精部分，赞扬了孙悟空火眼金睛、是非分明、斩妖除魔的超强本领。儿歌语言活泼，读起来朗朗上口，家长可以和孩子齐读，指导孩子注意停顿和重读，读出对孙悟空的喜爱和赞美之情。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E:\陈文丽\人一语大课堂正文\续152.tif"/>
          <p:cNvPicPr/>
          <p:nvPr/>
        </p:nvPicPr>
        <p:blipFill>
          <a:blip r:embed="rId1"/>
          <a:srcRect l="21316" t="0" r="0" b="50005"/>
          <a:stretch/>
        </p:blipFill>
        <p:spPr>
          <a:xfrm>
            <a:off x="1908000" y="843120"/>
            <a:ext cx="5537520" cy="167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E:\陈文丽\人一语大课堂正文\续152.tif"/>
          <p:cNvPicPr/>
          <p:nvPr/>
        </p:nvPicPr>
        <p:blipFill>
          <a:blip r:embed="rId2"/>
          <a:srcRect l="-189" t="0" r="80855" b="45594"/>
          <a:stretch/>
        </p:blipFill>
        <p:spPr>
          <a:xfrm>
            <a:off x="474840" y="1131840"/>
            <a:ext cx="1360440" cy="181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:\陈文丽\人一语大课堂正文\续152.tif"/>
          <p:cNvPicPr/>
          <p:nvPr/>
        </p:nvPicPr>
        <p:blipFill>
          <a:blip r:embed="rId3"/>
          <a:srcRect l="83737" t="50005" r="0" b="205"/>
          <a:stretch/>
        </p:blipFill>
        <p:spPr>
          <a:xfrm>
            <a:off x="6588000" y="3076560"/>
            <a:ext cx="1144800" cy="166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E:\陈文丽\人一语大课堂正文\续152.tif"/>
          <p:cNvPicPr/>
          <p:nvPr/>
        </p:nvPicPr>
        <p:blipFill>
          <a:blip r:embed="rId4"/>
          <a:srcRect l="8349" t="52777" r="17737" b="10387"/>
          <a:stretch/>
        </p:blipFill>
        <p:spPr>
          <a:xfrm>
            <a:off x="1386000" y="3036960"/>
            <a:ext cx="520200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6"/>
          <p:cNvSpPr/>
          <p:nvPr/>
        </p:nvSpPr>
        <p:spPr>
          <a:xfrm>
            <a:off x="39852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2556000" y="357984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吵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927680" y="199080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胖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9"/>
          <p:cNvSpPr/>
          <p:nvPr/>
        </p:nvSpPr>
        <p:spPr>
          <a:xfrm>
            <a:off x="6804000" y="36320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306360" y="156384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hǎ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4808520" y="1539720"/>
            <a:ext cx="146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àn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27"/>
          <p:cNvGrpSpPr/>
          <p:nvPr/>
        </p:nvGrpSpPr>
        <p:grpSpPr>
          <a:xfrm>
            <a:off x="3201840" y="304920"/>
            <a:ext cx="2114640" cy="875520"/>
            <a:chOff x="3201840" y="304920"/>
            <a:chExt cx="2114640" cy="875520"/>
          </a:xfrm>
        </p:grpSpPr>
        <p:sp>
          <p:nvSpPr>
            <p:cNvPr id="103" name="矩形: 圆角 28"/>
            <p:cNvSpPr/>
            <p:nvPr/>
          </p:nvSpPr>
          <p:spPr>
            <a:xfrm rot="19996800">
              <a:off x="3290400" y="4536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矩形: 圆角 29"/>
            <p:cNvSpPr/>
            <p:nvPr/>
          </p:nvSpPr>
          <p:spPr>
            <a:xfrm rot="432000">
              <a:off x="3984480" y="3394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矩形: 圆角 30"/>
            <p:cNvSpPr/>
            <p:nvPr/>
          </p:nvSpPr>
          <p:spPr>
            <a:xfrm rot="1932000">
              <a:off x="4627080" y="5288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14" descr="E:\陈文丽\人一语大课堂正文\吵架8.TIF"/>
          <p:cNvPicPr/>
          <p:nvPr/>
        </p:nvPicPr>
        <p:blipFill>
          <a:blip r:embed="rId1"/>
          <a:stretch/>
        </p:blipFill>
        <p:spPr>
          <a:xfrm>
            <a:off x="1805040" y="1155600"/>
            <a:ext cx="2676600" cy="237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E:\陈文丽\人一语大课堂正文\肥胖.TIF"/>
          <p:cNvPicPr/>
          <p:nvPr/>
        </p:nvPicPr>
        <p:blipFill>
          <a:blip r:embed="rId2"/>
          <a:stretch/>
        </p:blipFill>
        <p:spPr>
          <a:xfrm>
            <a:off x="6297480" y="1065240"/>
            <a:ext cx="186552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390600" y="18543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2379600" y="342756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岁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53080" y="191916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6804000" y="3425760"/>
            <a:ext cx="15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628920" y="139068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su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690080" y="1525680"/>
            <a:ext cx="12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à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E:\陈文丽\人一语大课堂正文\岁数.TIF"/>
          <p:cNvPicPr/>
          <p:nvPr/>
        </p:nvPicPr>
        <p:blipFill>
          <a:blip r:embed="rId1"/>
          <a:stretch/>
        </p:blipFill>
        <p:spPr>
          <a:xfrm>
            <a:off x="1706400" y="1227240"/>
            <a:ext cx="2482920" cy="210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E:\陈文丽\人一语大课堂正文\发现.TIF"/>
          <p:cNvPicPr/>
          <p:nvPr/>
        </p:nvPicPr>
        <p:blipFill>
          <a:blip r:embed="rId2"/>
          <a:stretch/>
        </p:blipFill>
        <p:spPr>
          <a:xfrm>
            <a:off x="6053040" y="1135080"/>
            <a:ext cx="24829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"/>
          <p:cNvSpPr/>
          <p:nvPr/>
        </p:nvSpPr>
        <p:spPr>
          <a:xfrm>
            <a:off x="390600" y="18543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2411280" y="316224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钞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753080" y="194796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6732720" y="318132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交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37400" y="143208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ià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840560" y="1492200"/>
            <a:ext cx="11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iā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0" descr="E:\陈文丽\人一语大课堂正文\钞票.TIF"/>
          <p:cNvPicPr/>
          <p:nvPr/>
        </p:nvPicPr>
        <p:blipFill>
          <a:blip r:embed="rId1"/>
          <a:stretch/>
        </p:blipFill>
        <p:spPr>
          <a:xfrm>
            <a:off x="1752480" y="1806480"/>
            <a:ext cx="2730600" cy="131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E:\陈文丽\人一语大课堂正文\交费.TIF"/>
          <p:cNvPicPr/>
          <p:nvPr/>
        </p:nvPicPr>
        <p:blipFill>
          <a:blip r:embed="rId2"/>
          <a:stretch/>
        </p:blipFill>
        <p:spPr>
          <a:xfrm>
            <a:off x="6066000" y="990720"/>
            <a:ext cx="20635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390600" y="18543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弓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2405160" y="316692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弓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753080" y="196524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6732720" y="318132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甘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268200" y="1432080"/>
            <a:ext cx="14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ɡōn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767840" y="1509840"/>
            <a:ext cx="11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ɡā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0" descr="E:\陈文丽\人一语大课堂正文\弓箭.TIF"/>
          <p:cNvPicPr/>
          <p:nvPr/>
        </p:nvPicPr>
        <p:blipFill>
          <a:blip r:embed="rId1"/>
          <a:stretch/>
        </p:blipFill>
        <p:spPr>
          <a:xfrm>
            <a:off x="1859040" y="946080"/>
            <a:ext cx="1865160" cy="2247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E:\陈文丽\人一语大课堂正文\甘甜.TIF"/>
          <p:cNvPicPr/>
          <p:nvPr/>
        </p:nvPicPr>
        <p:blipFill>
          <a:blip r:embed="rId2"/>
          <a:stretch/>
        </p:blipFill>
        <p:spPr>
          <a:xfrm>
            <a:off x="6053040" y="1467000"/>
            <a:ext cx="22575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E:\陈文丽\人一语大课堂正文\男孩1.tif"/>
          <p:cNvPicPr/>
          <p:nvPr/>
        </p:nvPicPr>
        <p:blipFill>
          <a:blip r:embed="rId1"/>
          <a:stretch/>
        </p:blipFill>
        <p:spPr>
          <a:xfrm>
            <a:off x="3639960" y="855720"/>
            <a:ext cx="4349880" cy="16318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2487600"/>
            <a:ext cx="3395520" cy="16365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" descr=""/>
          <p:cNvPicPr/>
          <p:nvPr/>
        </p:nvPicPr>
        <p:blipFill>
          <a:blip r:embed="rId3"/>
          <a:stretch/>
        </p:blipFill>
        <p:spPr>
          <a:xfrm>
            <a:off x="5003640" y="2519280"/>
            <a:ext cx="148752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1"/>
          <p:cNvGrpSpPr/>
          <p:nvPr/>
        </p:nvGrpSpPr>
        <p:grpSpPr>
          <a:xfrm>
            <a:off x="392040" y="84240"/>
            <a:ext cx="2955960" cy="1003320"/>
            <a:chOff x="392040" y="84240"/>
            <a:chExt cx="2955960" cy="1003320"/>
          </a:xfrm>
        </p:grpSpPr>
        <p:grpSp>
          <p:nvGrpSpPr>
            <p:cNvPr id="136" name="组合 3"/>
            <p:cNvGrpSpPr/>
            <p:nvPr/>
          </p:nvGrpSpPr>
          <p:grpSpPr>
            <a:xfrm>
              <a:off x="970920" y="483840"/>
              <a:ext cx="2377080" cy="545040"/>
              <a:chOff x="970920" y="483840"/>
              <a:chExt cx="2377080" cy="545040"/>
            </a:xfrm>
          </p:grpSpPr>
          <p:pic>
            <p:nvPicPr>
              <p:cNvPr id="137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7720" y="526680"/>
                <a:ext cx="233028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文本框 2"/>
              <p:cNvSpPr/>
              <p:nvPr/>
            </p:nvSpPr>
            <p:spPr>
              <a:xfrm>
                <a:off x="970920" y="483840"/>
                <a:ext cx="203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字词句运用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9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TextBox 1"/>
          <p:cNvSpPr/>
          <p:nvPr/>
        </p:nvSpPr>
        <p:spPr>
          <a:xfrm>
            <a:off x="2259000" y="123048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一比，填一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E:\陈文丽\人一语大课堂正文\印标.tif"/>
          <p:cNvPicPr/>
          <p:nvPr/>
        </p:nvPicPr>
        <p:blipFill>
          <a:blip r:embed="rId3"/>
          <a:stretch/>
        </p:blipFill>
        <p:spPr>
          <a:xfrm>
            <a:off x="858960" y="1284120"/>
            <a:ext cx="465120" cy="470160"/>
          </a:xfrm>
          <a:prstGeom prst="rect">
            <a:avLst/>
          </a:prstGeom>
          <a:ln w="0">
            <a:noFill/>
          </a:ln>
        </p:spPr>
      </p:pic>
      <p:sp>
        <p:nvSpPr>
          <p:cNvPr id="142" name="矩形 8"/>
          <p:cNvSpPr/>
          <p:nvPr/>
        </p:nvSpPr>
        <p:spPr>
          <a:xfrm>
            <a:off x="3277080" y="18511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午    牛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2" descr=""/>
          <p:cNvPicPr/>
          <p:nvPr/>
        </p:nvPicPr>
        <p:blipFill>
          <a:blip r:embed="rId4"/>
          <a:stretch/>
        </p:blipFill>
        <p:spPr>
          <a:xfrm>
            <a:off x="2268360" y="2814480"/>
            <a:ext cx="1582920" cy="15145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2327400" y="2878200"/>
            <a:ext cx="154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798480" y="2905200"/>
            <a:ext cx="161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5"/>
          <a:stretch/>
        </p:blipFill>
        <p:spPr>
          <a:xfrm>
            <a:off x="6067440" y="2787480"/>
            <a:ext cx="1582560" cy="15145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6126120" y="2832120"/>
            <a:ext cx="15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4599000" y="2876400"/>
            <a:ext cx="161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dc:language>en-US</dc:language>
  <cp:lastModifiedBy>大米饭＇Ms.Li</cp:lastModifiedBy>
  <dcterms:modified xsi:type="dcterms:W3CDTF">2018-02-09T16:15:14Z</dcterms:modified>
  <cp:revision>1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