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d81616"/>
                </a:solidFill>
                <a:latin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d81616"/>
                </a:solidFill>
                <a:latin typeface="楷体_GB2312"/>
              </a:rPr>
              <a:t>&lt;date/time&gt;</a:t>
            </a:r>
            <a:endParaRPr b="1" lang="en-US" sz="12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1200" spc="-1" strike="noStrike">
                <a:solidFill>
                  <a:srgbClr val="d81616"/>
                </a:solidFill>
                <a:latin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F65C-4977-494F-97F8-A994D6681DCB}" type="slidenum">
              <a:rPr b="1" sz="1200" spc="-1" strike="noStrike">
                <a:solidFill>
                  <a:srgbClr val="d81616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45B4-1430-4F1D-B2DE-9DABBC1E588C}" type="slidenum">
              <a:rPr b="1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8F9B-F1BD-42FC-8CB3-6B670076FC84}" type="slidenum">
              <a:rPr b="1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FD45-468C-4D69-93CA-61CEF21F2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5445-2128-4366-A5B4-067737D5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7482-3E77-4ED3-BC09-98B4469D1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F9A5-3DDA-4EC3-B0C6-E64DCFAD6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1FF95-F56B-4B89-B68C-CAC407C85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B0AA2-84C6-4BF8-9666-826BBAF7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A213-0227-4FFE-8106-DC9EA999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3604-558E-4C12-87C8-8C95C188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8A57-7EEC-4632-97B9-9911441F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659F-5F1A-48EF-84E9-498C3EAE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55B5-43A2-488F-89CE-4FE26AAB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5EE7-E469-4839-8C1D-612711EA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ED22-82F2-4AF4-972B-6D78EE2D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B0F7-FD6B-4A32-A67F-7A19A24D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AAD5F-19A8-44B5-B192-679A6F76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5B3D-C90A-41CE-AD8D-388D184BD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48E7C-FBA4-4E59-A892-F1A196C3B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7048-619F-4DA5-9028-256FC46C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9755-5341-4120-91B3-89E163C6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5F8F-8BF5-4705-A354-D00ADDCA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ECD7-2826-4DD7-81C2-62A5A3E4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D538-EE52-4FAF-AA62-0A6C4165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8A9A-470E-4A3A-AF98-A2E978EA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7806-FF87-4CCA-9505-86744C6A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D28E-839D-479A-A67D-BAB4E3BEBAB6}" type="slidenum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0072415492370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692A-57CC-4581-9507-50A7384C26A8}" type="slidenum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pn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4" descr=""/>
          <p:cNvPicPr/>
          <p:nvPr/>
        </p:nvPicPr>
        <p:blipFill>
          <a:blip r:embed="rId1"/>
          <a:stretch/>
        </p:blipFill>
        <p:spPr>
          <a:xfrm>
            <a:off x="-11160" y="-76320"/>
            <a:ext cx="9569520" cy="717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539640" y="404640"/>
            <a:ext cx="8136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“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你的昨天过去了，它就永远变成昨天，你不能再回到昨天。爸爸以前也和你一样小，现在也不能回到你这么小的童年了。有一天你会长大，你会像外祖母一样老，再想回到现在，却永远不可能了。”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476360" y="549360"/>
            <a:ext cx="76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所有时间里的事物，都永远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826920" y="145404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不会回来。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539640" y="404640"/>
            <a:ext cx="8136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“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你的昨天过去了，它就永远变成昨天，你不能再回到昨天。爸爸以前也和你一样小，现在也不能回到你这么小的童年了。有一天你会长大，你会像外祖母一样老，再想回到现在，却永远不可能了。”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476360" y="730080"/>
            <a:ext cx="76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所有时间里的事物，都永远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684360" y="148428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不会回来。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39" name="Line 3"/>
          <p:cNvSpPr/>
          <p:nvPr/>
        </p:nvSpPr>
        <p:spPr>
          <a:xfrm flipH="1" flipV="1">
            <a:off x="1692000" y="691920"/>
            <a:ext cx="43164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68400" y="154080"/>
            <a:ext cx="17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中心句</a:t>
            </a:r>
            <a:endParaRPr b="1" lang="en-US" sz="36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I:\课件背景及音乐\课件素材\背景模板\图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7151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2"/>
          <p:cNvSpPr/>
          <p:nvPr/>
        </p:nvSpPr>
        <p:spPr>
          <a:xfrm>
            <a:off x="0" y="714240"/>
            <a:ext cx="91440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207e7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你的昨天过去了，它就永远变成昨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天，你不能再回到昨天。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b1403"/>
                </a:solidFill>
                <a:latin typeface="楷体"/>
                <a:ea typeface="楷体"/>
              </a:rPr>
              <a:t>   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1403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eb1403"/>
                </a:solidFill>
                <a:latin typeface="楷体"/>
                <a:ea typeface="楷体"/>
              </a:rPr>
              <a:t>爸爸以前也和你一样小，现在也不能回到你这么小的童年了。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509cb"/>
                </a:solidFill>
                <a:latin typeface="楷体"/>
                <a:ea typeface="楷体"/>
              </a:rPr>
              <a:t>   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09cb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有一天你会长大，你会像外祖母一样老，再想回到现在，却永远不可能了。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I:\课件背景及音乐\课件素材\背景模板\图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7151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2"/>
          <p:cNvSpPr/>
          <p:nvPr/>
        </p:nvSpPr>
        <p:spPr>
          <a:xfrm>
            <a:off x="0" y="7142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207e7"/>
                </a:solidFill>
                <a:latin typeface="楷体"/>
                <a:ea typeface="楷体"/>
              </a:rPr>
              <a:t>   </a:t>
            </a:r>
            <a:r>
              <a:rPr b="1" lang="zh-CN" sz="4800" spc="-1" strike="noStrike">
                <a:solidFill>
                  <a:srgbClr val="2207e7"/>
                </a:solidFill>
                <a:latin typeface="楷体"/>
                <a:ea typeface="楷体"/>
              </a:rPr>
              <a:t>以后，每当我在庭院里看到太阳一寸一寸地落下去，渐渐消失在宅院围墙的后面，就知道这一天快要过去了。虽然知道明天太阳还会升起来，但是今天永远不会再来了。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I:\课件背景及音乐\课件素材\背景模板\图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7151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"/>
          <p:cNvSpPr/>
          <p:nvPr/>
        </p:nvSpPr>
        <p:spPr>
          <a:xfrm>
            <a:off x="179280" y="355680"/>
            <a:ext cx="89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以后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每当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我在庭院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看到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太阳一寸一寸地落下去，渐渐消失在宅院围墙的后面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就知道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这一天快要过去了。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虽然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知道明天太阳还会升起来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但是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今天永远不会再来了。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306360" y="3879720"/>
            <a:ext cx="853128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每当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看到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，就知道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。虽然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</a:t>
            </a:r>
            <a:r>
              <a:rPr b="1" lang="en-US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，但是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。           </a:t>
            </a:r>
            <a:endParaRPr b="1" lang="en-US" sz="45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                        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endParaRPr b="1" lang="en-US" sz="45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48" name="TextBox 2"/>
          <p:cNvSpPr/>
          <p:nvPr/>
        </p:nvSpPr>
        <p:spPr>
          <a:xfrm>
            <a:off x="4067280" y="2873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（先写看到的，再写想法。）</a:t>
            </a:r>
            <a:endParaRPr b="1" lang="en-US" sz="30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故乡的原风景.mp3" descr=""/>
          <p:cNvPicPr/>
          <p:nvPr/>
        </p:nvPicPr>
        <p:blipFill>
          <a:blip r:embed="rId1"/>
          <a:stretch/>
        </p:blipFill>
        <p:spPr>
          <a:xfrm>
            <a:off x="-304920" y="573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97875125031992170005-fm"/>
          <p:cNvPicPr/>
          <p:nvPr/>
        </p:nvPicPr>
        <p:blipFill>
          <a:blip r:embed="rId2"/>
          <a:stretch/>
        </p:blipFill>
        <p:spPr>
          <a:xfrm>
            <a:off x="2987640" y="765000"/>
            <a:ext cx="4246560" cy="6093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160659big"/>
          <p:cNvPicPr/>
          <p:nvPr/>
        </p:nvPicPr>
        <p:blipFill>
          <a:blip r:embed="rId3"/>
          <a:stretch/>
        </p:blipFill>
        <p:spPr>
          <a:xfrm>
            <a:off x="631800" y="468360"/>
            <a:ext cx="4157640" cy="6237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1305618_933227"/>
          <p:cNvPicPr/>
          <p:nvPr/>
        </p:nvPicPr>
        <p:blipFill>
          <a:blip r:embed="rId4"/>
          <a:stretch/>
        </p:blipFill>
        <p:spPr>
          <a:xfrm>
            <a:off x="611280" y="0"/>
            <a:ext cx="4238640" cy="6337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132815120138184"/>
          <p:cNvPicPr/>
          <p:nvPr/>
        </p:nvPicPr>
        <p:blipFill>
          <a:blip r:embed="rId5"/>
          <a:stretch/>
        </p:blipFill>
        <p:spPr>
          <a:xfrm>
            <a:off x="1258920" y="549360"/>
            <a:ext cx="3771720" cy="5329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20115129534662769"/>
          <p:cNvPicPr/>
          <p:nvPr/>
        </p:nvPicPr>
        <p:blipFill>
          <a:blip r:embed="rId6"/>
          <a:stretch/>
        </p:blipFill>
        <p:spPr>
          <a:xfrm>
            <a:off x="1835280" y="0"/>
            <a:ext cx="4227480" cy="6175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3115453"/>
          <p:cNvPicPr/>
          <p:nvPr/>
        </p:nvPicPr>
        <p:blipFill>
          <a:blip r:embed="rId7"/>
          <a:stretch/>
        </p:blipFill>
        <p:spPr>
          <a:xfrm>
            <a:off x="2484360" y="665280"/>
            <a:ext cx="4138560" cy="6192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3dc441a9239213d01f17a207"/>
          <p:cNvPicPr/>
          <p:nvPr/>
        </p:nvPicPr>
        <p:blipFill>
          <a:blip r:embed="rId8"/>
          <a:stretch/>
        </p:blipFill>
        <p:spPr>
          <a:xfrm>
            <a:off x="2556000" y="0"/>
            <a:ext cx="4300560" cy="61214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aa3153ae2d570adffbed50d4"/>
          <p:cNvPicPr/>
          <p:nvPr/>
        </p:nvPicPr>
        <p:blipFill>
          <a:blip r:embed="rId9"/>
          <a:srcRect l="17915" t="0" r="19382" b="0"/>
          <a:stretch/>
        </p:blipFill>
        <p:spPr>
          <a:xfrm>
            <a:off x="3132000" y="0"/>
            <a:ext cx="3934080" cy="6273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adfe9c2f812938271f3089a6"/>
          <p:cNvPicPr/>
          <p:nvPr/>
        </p:nvPicPr>
        <p:blipFill>
          <a:blip r:embed="rId10"/>
          <a:stretch/>
        </p:blipFill>
        <p:spPr>
          <a:xfrm>
            <a:off x="3995640" y="0"/>
            <a:ext cx="4035600" cy="6121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cover_853089_397_large"/>
          <p:cNvPicPr/>
          <p:nvPr/>
        </p:nvPicPr>
        <p:blipFill>
          <a:blip r:embed="rId11"/>
          <a:stretch/>
        </p:blipFill>
        <p:spPr>
          <a:xfrm>
            <a:off x="4930920" y="0"/>
            <a:ext cx="4213080" cy="6093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" descr="22846656_1122522"/>
          <p:cNvPicPr/>
          <p:nvPr/>
        </p:nvPicPr>
        <p:blipFill>
          <a:blip r:embed="rId12"/>
          <a:stretch/>
        </p:blipFill>
        <p:spPr>
          <a:xfrm>
            <a:off x="4211640" y="1638360"/>
            <a:ext cx="5715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片 2" descr=""/>
          <p:cNvPicPr/>
          <p:nvPr/>
        </p:nvPicPr>
        <p:blipFill>
          <a:blip r:embed="rId1"/>
          <a:stretch/>
        </p:blipFill>
        <p:spPr>
          <a:xfrm>
            <a:off x="6383160" y="4076640"/>
            <a:ext cx="2786400" cy="27813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19080" y="260280"/>
            <a:ext cx="8820000" cy="17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林清玄，他是台湾作家中写作书籍最多的一位，也是获得文学奖最多的一位。他被誉为“当代散文八大家”之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_琵琶语 - 林海_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3"/>
          <p:cNvSpPr/>
          <p:nvPr/>
        </p:nvSpPr>
        <p:spPr>
          <a:xfrm>
            <a:off x="1042920" y="2781360"/>
            <a:ext cx="633744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岁，立志当一名作家；</a:t>
            </a: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17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岁，发表第一篇作品；</a:t>
            </a: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30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岁，几乎得遍台湾所有文学大奖；</a:t>
            </a: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57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岁，写出了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100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多本著作。</a:t>
            </a: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260320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I:\课件背景及音乐\课件素材\背景模板\图片3.jpg"/>
          <p:cNvPicPr/>
          <p:nvPr/>
        </p:nvPicPr>
        <p:blipFill>
          <a:blip r:embed="rId1"/>
          <a:stretch/>
        </p:blipFill>
        <p:spPr>
          <a:xfrm>
            <a:off x="-857160" y="0"/>
            <a:ext cx="11144160" cy="7715160"/>
          </a:xfrm>
          <a:prstGeom prst="rect">
            <a:avLst/>
          </a:prstGeom>
          <a:ln w="0">
            <a:noFill/>
          </a:ln>
        </p:spPr>
      </p:pic>
      <p:sp>
        <p:nvSpPr>
          <p:cNvPr id="166" name="TextBox 2"/>
          <p:cNvSpPr/>
          <p:nvPr/>
        </p:nvSpPr>
        <p:spPr>
          <a:xfrm>
            <a:off x="0" y="22748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207e7"/>
                </a:solidFill>
                <a:latin typeface="楷体"/>
                <a:ea typeface="楷体"/>
              </a:rPr>
              <a:t>   </a:t>
            </a:r>
            <a:r>
              <a:rPr b="1" lang="zh-CN" sz="4800" spc="-1" strike="noStrike">
                <a:solidFill>
                  <a:srgbClr val="2207e7"/>
                </a:solidFill>
                <a:latin typeface="楷体"/>
                <a:ea typeface="楷体"/>
              </a:rPr>
              <a:t>时间，一去不回。在学校里，我们应该怎样和时间赛跑呢？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0" y="2928960"/>
            <a:ext cx="7885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   </a:t>
            </a: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我，要不断地和时间赛跑！不断穿过泥泞的田路，看着远处的光明。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文本框 1"/>
          <p:cNvSpPr/>
          <p:nvPr/>
        </p:nvSpPr>
        <p:spPr>
          <a:xfrm>
            <a:off x="0" y="0"/>
            <a:ext cx="9252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8930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249228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eb1403"/>
                </a:solidFill>
                <a:latin typeface="楷体"/>
                <a:ea typeface="楷体"/>
              </a:rPr>
              <a:t>和时间赛跑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8930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3429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eb1403"/>
                </a:solidFill>
                <a:latin typeface="楷体"/>
                <a:ea typeface="楷体"/>
              </a:rPr>
              <a:t>和时间赛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571680" y="371484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_GB2312"/>
                <a:ea typeface="楷体_GB2312"/>
              </a:rPr>
              <a:t>滋味   涨满  持之以恒  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97" name="Picture 2" descr="D:\课件背景及音乐\课件背景模板\2007551632587.gif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1349280" y="2616120"/>
            <a:ext cx="644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滋味  涨满</a:t>
            </a:r>
            <a:endParaRPr b="1" lang="en-US" sz="66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571680" y="371484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_GB2312"/>
                <a:ea typeface="楷体_GB2312"/>
              </a:rPr>
              <a:t>滋味   涨满  持之以恒  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01" name="Picture 2" descr="D:\课件背景及音乐\课件背景模板\2007551632587.gif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1349280" y="2616120"/>
            <a:ext cx="644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滋味  </a:t>
            </a: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涨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满</a:t>
            </a:r>
            <a:endParaRPr b="1" lang="en-US" sz="66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D:\课件背景及音乐\课件背景模板\20080211151832561.jpg"/>
          <p:cNvPicPr/>
          <p:nvPr/>
        </p:nvPicPr>
        <p:blipFill>
          <a:blip r:embed="rId1"/>
          <a:stretch/>
        </p:blipFill>
        <p:spPr>
          <a:xfrm>
            <a:off x="0" y="-5724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3"/>
          <p:cNvSpPr/>
          <p:nvPr/>
        </p:nvSpPr>
        <p:spPr>
          <a:xfrm>
            <a:off x="714240" y="1928880"/>
            <a:ext cx="3071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d81616"/>
                </a:solidFill>
                <a:latin typeface="楷体"/>
                <a:ea typeface="楷体"/>
              </a:rPr>
              <a:t>涨</a:t>
            </a:r>
            <a:endParaRPr b="1" lang="en-US" sz="66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06" name="AutoShape 15"/>
          <p:cNvSpPr/>
          <p:nvPr/>
        </p:nvSpPr>
        <p:spPr>
          <a:xfrm>
            <a:off x="1643040" y="1000080"/>
            <a:ext cx="360360" cy="309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2643120" y="1214280"/>
            <a:ext cx="342900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2071800" y="85716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81616"/>
                </a:solidFill>
                <a:latin typeface="楷体"/>
                <a:ea typeface="楷体"/>
              </a:rPr>
              <a:t>zhàng(     ) 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81616"/>
                </a:solidFill>
                <a:latin typeface="楷体"/>
                <a:ea typeface="楷体"/>
              </a:rPr>
              <a:t>      </a:t>
            </a:r>
            <a:r>
              <a:rPr b="1" lang="en-US" sz="4800" spc="-1" strike="noStrike">
                <a:solidFill>
                  <a:srgbClr val="d81616"/>
                </a:solidFill>
                <a:latin typeface="楷体"/>
                <a:ea typeface="楷体"/>
              </a:rPr>
              <a:t>(        )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2000160" y="3143160"/>
            <a:ext cx="714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81616"/>
                </a:solidFill>
                <a:latin typeface="楷体"/>
                <a:ea typeface="楷体"/>
              </a:rPr>
              <a:t>zhǎng(     )(    </a:t>
            </a: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）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4464000" y="871560"/>
            <a:ext cx="221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涨满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11" name="TextBox 10"/>
          <p:cNvSpPr/>
          <p:nvPr/>
        </p:nvSpPr>
        <p:spPr>
          <a:xfrm>
            <a:off x="4286160" y="3143160"/>
            <a:ext cx="164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涨潮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12" name="TextBox 11"/>
          <p:cNvSpPr/>
          <p:nvPr/>
        </p:nvSpPr>
        <p:spPr>
          <a:xfrm>
            <a:off x="6357960" y="3071880"/>
            <a:ext cx="242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涨价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4324320" y="1657440"/>
            <a:ext cx="293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头昏脑涨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571680" y="371484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_GB2312"/>
                <a:ea typeface="楷体_GB2312"/>
              </a:rPr>
              <a:t>滋味   涨满  持之以恒  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16" name="Picture 2" descr="D:\课件背景及音乐\课件背景模板\2007551632587.gif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117" name="TextBox 4"/>
          <p:cNvSpPr/>
          <p:nvPr/>
        </p:nvSpPr>
        <p:spPr>
          <a:xfrm>
            <a:off x="2411280" y="3143160"/>
            <a:ext cx="9358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持之以</a:t>
            </a: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恒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66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D:\课件背景及音乐\课件背景模板\20080211151832591.jpg"/>
          <p:cNvPicPr/>
          <p:nvPr/>
        </p:nvPicPr>
        <p:blipFill>
          <a:blip r:embed="rId1"/>
          <a:stretch/>
        </p:blipFill>
        <p:spPr>
          <a:xfrm>
            <a:off x="-1071720" y="-228600"/>
            <a:ext cx="11215800" cy="73152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2"/>
          <p:cNvSpPr/>
          <p:nvPr/>
        </p:nvSpPr>
        <p:spPr>
          <a:xfrm>
            <a:off x="0" y="1071720"/>
            <a:ext cx="885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我知道人永远跑不过时间，但是人可以在自己拥有的时间里快跑几步，尽管那几步很小很小，如果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持之以恒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，作用却很大很大。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571680" y="371484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_GB2312"/>
                <a:ea typeface="楷体_GB2312"/>
              </a:rPr>
              <a:t>滋味   涨满  持之以恒  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22" name="Picture 2" descr="D:\课件背景及音乐\课件背景模板\2007551632587.gif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123" name="TextBox 4"/>
          <p:cNvSpPr/>
          <p:nvPr/>
        </p:nvSpPr>
        <p:spPr>
          <a:xfrm>
            <a:off x="2268360" y="1154160"/>
            <a:ext cx="9358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持之以</a:t>
            </a: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恒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66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24" name="图片 2" descr=""/>
          <p:cNvPicPr/>
          <p:nvPr/>
        </p:nvPicPr>
        <p:blipFill>
          <a:blip r:embed="rId2"/>
          <a:stretch/>
        </p:blipFill>
        <p:spPr>
          <a:xfrm>
            <a:off x="969840" y="2448000"/>
            <a:ext cx="990720" cy="1792080"/>
          </a:xfrm>
          <a:prstGeom prst="rect">
            <a:avLst/>
          </a:prstGeom>
          <a:ln w="0">
            <a:noFill/>
          </a:ln>
        </p:spPr>
      </p:pic>
      <p:sp>
        <p:nvSpPr>
          <p:cNvPr id="125" name="箭头: 右 3"/>
          <p:cNvSpPr/>
          <p:nvPr/>
        </p:nvSpPr>
        <p:spPr>
          <a:xfrm>
            <a:off x="2133720" y="3343320"/>
            <a:ext cx="990360" cy="27468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26" name="图片 5" descr=""/>
          <p:cNvPicPr/>
          <p:nvPr/>
        </p:nvPicPr>
        <p:blipFill>
          <a:blip r:embed="rId3"/>
          <a:stretch/>
        </p:blipFill>
        <p:spPr>
          <a:xfrm>
            <a:off x="3633840" y="2611440"/>
            <a:ext cx="1119240" cy="1790640"/>
          </a:xfrm>
          <a:prstGeom prst="rect">
            <a:avLst/>
          </a:prstGeom>
          <a:ln w="0">
            <a:noFill/>
          </a:ln>
        </p:spPr>
      </p:pic>
      <p:sp>
        <p:nvSpPr>
          <p:cNvPr id="127" name="箭头: 右 10"/>
          <p:cNvSpPr/>
          <p:nvPr/>
        </p:nvSpPr>
        <p:spPr>
          <a:xfrm>
            <a:off x="4878360" y="3317760"/>
            <a:ext cx="990720" cy="27468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28" name="图片 7" descr=""/>
          <p:cNvPicPr/>
          <p:nvPr/>
        </p:nvPicPr>
        <p:blipFill>
          <a:blip r:embed="rId4"/>
          <a:stretch/>
        </p:blipFill>
        <p:spPr>
          <a:xfrm>
            <a:off x="5994360" y="2581200"/>
            <a:ext cx="2478240" cy="179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箭头: 右 13"/>
          <p:cNvSpPr/>
          <p:nvPr/>
        </p:nvSpPr>
        <p:spPr>
          <a:xfrm>
            <a:off x="1341360" y="5437080"/>
            <a:ext cx="990720" cy="27468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30" name="图片 9" descr=""/>
          <p:cNvPicPr/>
          <p:nvPr/>
        </p:nvPicPr>
        <p:blipFill>
          <a:blip r:embed="rId5"/>
          <a:srcRect l="0" t="0" r="0" b="9088"/>
          <a:stretch/>
        </p:blipFill>
        <p:spPr>
          <a:xfrm>
            <a:off x="2392200" y="4379760"/>
            <a:ext cx="2143440" cy="19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D:\课件背景及音乐\课件背景模板\20080211151832591.jpg"/>
          <p:cNvPicPr/>
          <p:nvPr/>
        </p:nvPicPr>
        <p:blipFill>
          <a:blip r:embed="rId1"/>
          <a:stretch/>
        </p:blipFill>
        <p:spPr>
          <a:xfrm>
            <a:off x="-1071720" y="-228600"/>
            <a:ext cx="11215800" cy="7315200"/>
          </a:xfrm>
          <a:prstGeom prst="rect">
            <a:avLst/>
          </a:prstGeom>
          <a:ln w="0">
            <a:noFill/>
          </a:ln>
        </p:spPr>
      </p:pic>
      <p:sp>
        <p:nvSpPr>
          <p:cNvPr id="132" name="TextBox 2"/>
          <p:cNvSpPr/>
          <p:nvPr/>
        </p:nvSpPr>
        <p:spPr>
          <a:xfrm>
            <a:off x="0" y="1071720"/>
            <a:ext cx="885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我知道人永远跑不过时间，但是人可以在自己拥有的时间里快跑几步，尽管那几步很小很小，如果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持之以恒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，作用却很大很大。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4:23:51Z</dcterms:created>
  <dc:creator>User</dc:creator>
  <dc:description/>
  <cp:keywords/>
  <dc:language>en-US</dc:language>
  <cp:lastModifiedBy>tw</cp:lastModifiedBy>
  <dcterms:modified xsi:type="dcterms:W3CDTF">2019-05-21T01:03:55Z</dcterms:modified>
  <cp:revision>1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573</vt:lpwstr>
  </property>
</Properties>
</file>