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d81616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A8F3-4FC1-4A9C-A2C5-19D2D7F4640F}" type="slidenum">
              <a:rPr b="1" sz="1200" spc="-1" strike="noStrike">
                <a:solidFill>
                  <a:srgbClr val="d81616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0162-6BCE-4778-9810-4553D51F9CD1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D9FF-4741-4835-8CA7-A34DB8F7032B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9D6-9052-4BA9-87AA-6E7381AD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2A7-B7F4-4FA2-AF1E-0EBC1C9A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805-E716-4393-9EF2-EB60036C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695-D030-499C-AABE-9BDCC463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CE0B-DEFF-4759-A34E-318BAC68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1D13-C295-4224-A671-AFE93D83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A12E-327C-4DF3-AFDB-38177E7C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9F7C-3620-4582-A7AA-FD08D121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7278-E25F-4004-A067-D819A2EE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3BE2-3D03-4270-8EEC-0616FD4A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4931-5EC8-4902-977F-DACC855C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857-0C95-4DFC-AD81-5823D148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4DAE-323D-46A7-BFF1-0080FE6E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E00C-1632-4179-AEB8-66B01517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2053-6A29-42FF-A839-A1DCA696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A6DF-493F-4DB1-A115-CA39F1E6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DEDB-7595-4F5D-AC27-17C287D3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F8E-E85C-4B20-A571-CC4EAEC5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064-13B8-43C2-8D88-A68A79A5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E59-6CA7-46CC-A750-3DFD24D3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446-1F0B-459E-A6D4-230C6DAD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644-38D2-4DD8-8B80-2C6C6A58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2F5-6288-4FA0-BD0E-5CB5D75D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15A-5966-40B7-AC7E-DF8D12DE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814A-A703-44FF-97DC-3947C26C2B68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7241549237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5FF0-BABA-4E1A-A6CE-5FD8902AC6A5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-11160" y="-76320"/>
            <a:ext cx="9569520" cy="71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76360" y="54936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26920" y="14540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73008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4360" y="148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9" name="Line 3"/>
          <p:cNvSpPr/>
          <p:nvPr/>
        </p:nvSpPr>
        <p:spPr>
          <a:xfrm flipH="1" flipV="1">
            <a:off x="1692000" y="691920"/>
            <a:ext cx="431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00" y="1540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中心句</a:t>
            </a:r>
            <a:endParaRPr b="1" lang="en-US" sz="3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0" y="71424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你的昨天过去了，它就永远变成昨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天，你不能再回到昨天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40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爸爸以前也和你一样小，现在也不能回到你这么小的童年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一天你会长大，你会像外祖母一样老，再想回到现在，却永远不可能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0" y="714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以后，每当我在庭院里看到太阳一寸一寸地落下去，渐渐消失在宅院围墙的后面，就知道这一天快要过去了。虽然知道明天太阳还会升起来，但是今天永远不会再来了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179280" y="3556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以后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每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我在庭院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看到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太阳一寸一寸地落下去，渐渐消失在宅院围墙的后面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知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这一天快要过去了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虽然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知道明天太阳还会升起来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但是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今天永远不会再来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6360" y="3879720"/>
            <a:ext cx="85312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每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看到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就知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虽然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但是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 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   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067280" y="287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（先写看到的，再写想法。）</a:t>
            </a:r>
            <a:endParaRPr b="1" lang="en-US" sz="3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故乡的原风景.mp3" descr=""/>
          <p:cNvPicPr/>
          <p:nvPr/>
        </p:nvPicPr>
        <p:blipFill>
          <a:blip r:embed="rId1"/>
          <a:stretch/>
        </p:blipFill>
        <p:spPr>
          <a:xfrm>
            <a:off x="-30492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97875125031992170005-fm"/>
          <p:cNvPicPr/>
          <p:nvPr/>
        </p:nvPicPr>
        <p:blipFill>
          <a:blip r:embed="rId2"/>
          <a:stretch/>
        </p:blipFill>
        <p:spPr>
          <a:xfrm>
            <a:off x="2987640" y="765000"/>
            <a:ext cx="4246560" cy="609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160659big"/>
          <p:cNvPicPr/>
          <p:nvPr/>
        </p:nvPicPr>
        <p:blipFill>
          <a:blip r:embed="rId3"/>
          <a:stretch/>
        </p:blipFill>
        <p:spPr>
          <a:xfrm>
            <a:off x="631800" y="468360"/>
            <a:ext cx="4157640" cy="623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1305618_933227"/>
          <p:cNvPicPr/>
          <p:nvPr/>
        </p:nvPicPr>
        <p:blipFill>
          <a:blip r:embed="rId4"/>
          <a:stretch/>
        </p:blipFill>
        <p:spPr>
          <a:xfrm>
            <a:off x="611280" y="0"/>
            <a:ext cx="4238640" cy="633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132815120138184"/>
          <p:cNvPicPr/>
          <p:nvPr/>
        </p:nvPicPr>
        <p:blipFill>
          <a:blip r:embed="rId5"/>
          <a:stretch/>
        </p:blipFill>
        <p:spPr>
          <a:xfrm>
            <a:off x="1258920" y="549360"/>
            <a:ext cx="3771720" cy="532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115129534662769"/>
          <p:cNvPicPr/>
          <p:nvPr/>
        </p:nvPicPr>
        <p:blipFill>
          <a:blip r:embed="rId6"/>
          <a:stretch/>
        </p:blipFill>
        <p:spPr>
          <a:xfrm>
            <a:off x="1835280" y="0"/>
            <a:ext cx="4227480" cy="617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115453"/>
          <p:cNvPicPr/>
          <p:nvPr/>
        </p:nvPicPr>
        <p:blipFill>
          <a:blip r:embed="rId7"/>
          <a:stretch/>
        </p:blipFill>
        <p:spPr>
          <a:xfrm>
            <a:off x="2484360" y="665280"/>
            <a:ext cx="4138560" cy="619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dc441a9239213d01f17a207"/>
          <p:cNvPicPr/>
          <p:nvPr/>
        </p:nvPicPr>
        <p:blipFill>
          <a:blip r:embed="rId8"/>
          <a:stretch/>
        </p:blipFill>
        <p:spPr>
          <a:xfrm>
            <a:off x="2556000" y="0"/>
            <a:ext cx="4300560" cy="612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aa3153ae2d570adffbed50d4"/>
          <p:cNvPicPr/>
          <p:nvPr/>
        </p:nvPicPr>
        <p:blipFill>
          <a:blip r:embed="rId9"/>
          <a:srcRect l="17915" t="0" r="19382" b="0"/>
          <a:stretch/>
        </p:blipFill>
        <p:spPr>
          <a:xfrm>
            <a:off x="3132000" y="0"/>
            <a:ext cx="3934080" cy="627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dfe9c2f812938271f3089a6"/>
          <p:cNvPicPr/>
          <p:nvPr/>
        </p:nvPicPr>
        <p:blipFill>
          <a:blip r:embed="rId10"/>
          <a:stretch/>
        </p:blipFill>
        <p:spPr>
          <a:xfrm>
            <a:off x="3995640" y="0"/>
            <a:ext cx="4035600" cy="612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over_853089_397_large"/>
          <p:cNvPicPr/>
          <p:nvPr/>
        </p:nvPicPr>
        <p:blipFill>
          <a:blip r:embed="rId11"/>
          <a:stretch/>
        </p:blipFill>
        <p:spPr>
          <a:xfrm>
            <a:off x="4930920" y="0"/>
            <a:ext cx="4213080" cy="609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22846656_1122522"/>
          <p:cNvPicPr/>
          <p:nvPr/>
        </p:nvPicPr>
        <p:blipFill>
          <a:blip r:embed="rId12"/>
          <a:stretch/>
        </p:blipFill>
        <p:spPr>
          <a:xfrm>
            <a:off x="4211640" y="1638360"/>
            <a:ext cx="5715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2" descr=""/>
          <p:cNvPicPr/>
          <p:nvPr/>
        </p:nvPicPr>
        <p:blipFill>
          <a:blip r:embed="rId1"/>
          <a:stretch/>
        </p:blipFill>
        <p:spPr>
          <a:xfrm>
            <a:off x="6383160" y="4076640"/>
            <a:ext cx="2786400" cy="278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9080" y="260280"/>
            <a:ext cx="88200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林清玄，他是台湾作家中写作书籍最多的一位，也是获得文学奖最多的一位。他被誉为“当代散文八大家”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_琵琶语 - 林海_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042920" y="2781360"/>
            <a:ext cx="633744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立志当一名作家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发表第一篇作品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几乎得遍台湾所有文学大奖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写出了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多本著作。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6032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-857160" y="0"/>
            <a:ext cx="11144160" cy="7715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0" y="2274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时间，一去不回。在学校里，我们应该怎样和时间赛跑呢？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2928960"/>
            <a:ext cx="788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我，要不断地和时间赛跑！不断穿过泥泞的田路，看着远处的光明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342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97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涨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01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涨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课件背景及音乐\课件背景模板\20080211151832561.jp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14240" y="1928880"/>
            <a:ext cx="30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81616"/>
                </a:solidFill>
                <a:latin typeface="楷体"/>
                <a:ea typeface="楷体"/>
              </a:rPr>
              <a:t>涨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643040" y="10000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643120" y="1214280"/>
            <a:ext cx="3429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071800" y="8571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àng(     )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      </a:t>
            </a: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(        )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000160" y="314316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ǎng(     )( 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）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464000" y="87156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满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286160" y="3143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潮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6357960" y="3071880"/>
            <a:ext cx="24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价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324320" y="1657440"/>
            <a:ext cx="29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头昏脑涨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16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2411280" y="3143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2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268360" y="1154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2"/>
          <a:stretch/>
        </p:blipFill>
        <p:spPr>
          <a:xfrm>
            <a:off x="969840" y="2448000"/>
            <a:ext cx="990720" cy="1792080"/>
          </a:xfrm>
          <a:prstGeom prst="rect">
            <a:avLst/>
          </a:prstGeom>
          <a:ln w="0">
            <a:noFill/>
          </a:ln>
        </p:spPr>
      </p:pic>
      <p:sp>
        <p:nvSpPr>
          <p:cNvPr id="125" name="箭头: 右 3"/>
          <p:cNvSpPr/>
          <p:nvPr/>
        </p:nvSpPr>
        <p:spPr>
          <a:xfrm>
            <a:off x="2133720" y="3343320"/>
            <a:ext cx="990360" cy="2746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6" name="图片 5" descr=""/>
          <p:cNvPicPr/>
          <p:nvPr/>
        </p:nvPicPr>
        <p:blipFill>
          <a:blip r:embed="rId3"/>
          <a:stretch/>
        </p:blipFill>
        <p:spPr>
          <a:xfrm>
            <a:off x="3633840" y="2611440"/>
            <a:ext cx="1119240" cy="1790640"/>
          </a:xfrm>
          <a:prstGeom prst="rect">
            <a:avLst/>
          </a:prstGeom>
          <a:ln w="0">
            <a:noFill/>
          </a:ln>
        </p:spPr>
      </p:pic>
      <p:sp>
        <p:nvSpPr>
          <p:cNvPr id="127" name="箭头: 右 10"/>
          <p:cNvSpPr/>
          <p:nvPr/>
        </p:nvSpPr>
        <p:spPr>
          <a:xfrm>
            <a:off x="4878360" y="331776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4"/>
          <a:stretch/>
        </p:blipFill>
        <p:spPr>
          <a:xfrm>
            <a:off x="5994360" y="2581200"/>
            <a:ext cx="247824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箭头: 右 13"/>
          <p:cNvSpPr/>
          <p:nvPr/>
        </p:nvSpPr>
        <p:spPr>
          <a:xfrm>
            <a:off x="1341360" y="543708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5"/>
          <a:srcRect l="0" t="0" r="0" b="9088"/>
          <a:stretch/>
        </p:blipFill>
        <p:spPr>
          <a:xfrm>
            <a:off x="2392200" y="4379760"/>
            <a:ext cx="214344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3:51Z</dcterms:created>
  <dc:creator>User</dc:creator>
  <dc:description/>
  <cp:keywords/>
  <dc:language>en-US</dc:language>
  <cp:lastModifiedBy>tw</cp:lastModifiedBy>
  <dcterms:modified xsi:type="dcterms:W3CDTF">2019-05-21T01:03:55Z</dcterms:modified>
  <cp:revision>1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73</vt:lpwstr>
  </property>
</Properties>
</file>