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BDA-B6F0-4688-987B-85A9325E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D4C-C7E8-4764-B5B0-212EDD6B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EC0-57FD-4CE2-A47F-020D1080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A23-4FB7-4578-8AA1-45277310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272F-2BDD-4520-B491-F1853760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70CA-D2C0-4F45-8D77-442D50A8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7B7F-1DEF-41A1-9AFC-6C97391D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E8B8-353A-4C44-9001-0A209C94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1B0F-E4FD-45FC-B4CD-CA927BA5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A3B6-CDFB-4229-95A9-9C0A778F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4D89-BC5B-433A-91B1-0FEB9E90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4EB-9897-41ED-B4C7-3B9EA4D9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6A30-C1FA-43BC-B08C-31F4BBC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8F4D-3191-42CB-A4E4-61A8A41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DDA6-9F4F-4893-B2B6-56E88C3B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CB6F-EE59-4E13-838E-FF0EB9DC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9B4B-8032-4A6F-90CF-DE969492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6CA-BCC0-4AD6-BC0C-50371867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EC4-F739-42C1-B3A8-6D9AF4E3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48B-8A69-4EFA-844B-AB09A6D3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E90-512A-43C2-B3EE-E61D7C68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18F-A8F6-4163-8D89-E92214A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56E-7D2B-4142-9109-8193A3B6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C40-CAB5-43DB-9E86-C6473730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C32E-57B7-46A2-B2C3-30326E61AB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A5B5-6D1C-4FAA-9D49-607B86490F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69380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2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我是什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129400" y="46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693800" y="3944880"/>
            <a:ext cx="632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江苏省苏州市吴江区盛泽实验小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0280" y="1777680"/>
            <a:ext cx="36543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升越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19000" y="2665440"/>
            <a:ext cx="365616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来越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92600" y="177768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56000" y="3252960"/>
            <a:ext cx="413064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9" name="思想气泡: 云 8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又发现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2854080"/>
            <a:ext cx="80247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来了，天气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95760" y="1001520"/>
            <a:ext cx="3657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28120" y="2031840"/>
            <a:ext cx="79930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机开始起飞了，不一会儿，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360" y="381312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晨太阳升起来了，小露珠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826920" y="4724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9280" y="198108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升到空中，我又变成无数极小极小的点儿，连成一片，在空中漂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4" descr=""/>
          <p:cNvPicPr/>
          <p:nvPr/>
        </p:nvPicPr>
        <p:blipFill>
          <a:blip r:embed="rId1"/>
          <a:stretch/>
        </p:blipFill>
        <p:spPr>
          <a:xfrm>
            <a:off x="7020000" y="390852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37" name="思想气泡: 云 8"/>
          <p:cNvSpPr/>
          <p:nvPr/>
        </p:nvSpPr>
        <p:spPr>
          <a:xfrm>
            <a:off x="3600360" y="3451320"/>
            <a:ext cx="3203640" cy="1417680"/>
          </a:xfrm>
          <a:prstGeom prst="cloudCallout">
            <a:avLst>
              <a:gd name="adj1" fmla="val 58171"/>
              <a:gd name="adj2" fmla="val 62680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着老师样子，你也读读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接点 1"/>
          <p:cNvSpPr/>
          <p:nvPr/>
        </p:nvSpPr>
        <p:spPr>
          <a:xfrm>
            <a:off x="5508720" y="1882800"/>
            <a:ext cx="1584360" cy="8254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流程图: 接点 6"/>
          <p:cNvSpPr/>
          <p:nvPr/>
        </p:nvSpPr>
        <p:spPr>
          <a:xfrm>
            <a:off x="4643280" y="1981080"/>
            <a:ext cx="865440" cy="6559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流程图: 接点 10"/>
          <p:cNvSpPr/>
          <p:nvPr/>
        </p:nvSpPr>
        <p:spPr>
          <a:xfrm>
            <a:off x="1042920" y="2492280"/>
            <a:ext cx="86508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接点 11"/>
          <p:cNvSpPr/>
          <p:nvPr/>
        </p:nvSpPr>
        <p:spPr>
          <a:xfrm>
            <a:off x="3419640" y="2492280"/>
            <a:ext cx="93636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我是什么长句朗读1.m4a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8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615960"/>
            <a:ext cx="788328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在空中越升越高，体温越来越低，变成了无数小水滴。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"/>
          <p:cNvSpPr/>
          <p:nvPr/>
        </p:nvSpPr>
        <p:spPr>
          <a:xfrm>
            <a:off x="1042920" y="2355840"/>
            <a:ext cx="504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2"/>
          <p:cNvSpPr/>
          <p:nvPr/>
        </p:nvSpPr>
        <p:spPr>
          <a:xfrm>
            <a:off x="1379520" y="1349280"/>
            <a:ext cx="8841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3"/>
          <p:cNvSpPr/>
          <p:nvPr/>
        </p:nvSpPr>
        <p:spPr>
          <a:xfrm>
            <a:off x="5792760" y="880920"/>
            <a:ext cx="1800360" cy="574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4"/>
          <p:cNvSpPr/>
          <p:nvPr/>
        </p:nvSpPr>
        <p:spPr>
          <a:xfrm>
            <a:off x="6804000" y="1438200"/>
            <a:ext cx="360360" cy="479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5"/>
          <p:cNvSpPr/>
          <p:nvPr/>
        </p:nvSpPr>
        <p:spPr>
          <a:xfrm>
            <a:off x="2933640" y="865080"/>
            <a:ext cx="1800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6"/>
          <p:cNvSpPr/>
          <p:nvPr/>
        </p:nvSpPr>
        <p:spPr>
          <a:xfrm>
            <a:off x="4284720" y="2870280"/>
            <a:ext cx="4492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对话气泡: 圆角矩形 4"/>
          <p:cNvSpPr/>
          <p:nvPr/>
        </p:nvSpPr>
        <p:spPr>
          <a:xfrm>
            <a:off x="971640" y="3997440"/>
            <a:ext cx="3443040" cy="739800"/>
          </a:xfrm>
          <a:prstGeom prst="wedgeRoundRectCallout">
            <a:avLst>
              <a:gd name="adj1" fmla="val -50819"/>
              <a:gd name="adj2" fmla="val 109699"/>
              <a:gd name="adj3" fmla="val 16667"/>
            </a:avLst>
          </a:prstGeom>
          <a:solidFill>
            <a:srgbClr val="ffffff"/>
          </a:solidFill>
          <a:ln w="12600">
            <a:solidFill>
              <a:srgbClr val="2d2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找到老师读重音的词语，你能学着老师的样子读读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9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297080" cy="1455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995120"/>
            <a:ext cx="77040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池子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睡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在小溪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散步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江河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奔跑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在海洋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跳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唱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开大会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对话气泡: 椭圆形 10"/>
          <p:cNvSpPr/>
          <p:nvPr/>
        </p:nvSpPr>
        <p:spPr>
          <a:xfrm>
            <a:off x="3492360" y="4267080"/>
            <a:ext cx="3527640" cy="1041480"/>
          </a:xfrm>
          <a:prstGeom prst="wedgeEllipseCallout">
            <a:avLst>
              <a:gd name="adj1" fmla="val 67310"/>
              <a:gd name="adj2" fmla="val 68467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色的词语可要重读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内容占位符 22" descr=""/>
          <p:cNvPicPr/>
          <p:nvPr/>
        </p:nvPicPr>
        <p:blipFill>
          <a:blip r:embed="rId1"/>
          <a:stretch/>
        </p:blipFill>
        <p:spPr>
          <a:xfrm>
            <a:off x="255600" y="3754440"/>
            <a:ext cx="2249640" cy="1841400"/>
          </a:xfrm>
          <a:prstGeom prst="rect">
            <a:avLst/>
          </a:prstGeom>
          <a:ln w="0">
            <a:noFill/>
          </a:ln>
        </p:spPr>
      </p:pic>
      <p:pic>
        <p:nvPicPr>
          <p:cNvPr id="156" name="内容占位符 24" descr=""/>
          <p:cNvPicPr/>
          <p:nvPr/>
        </p:nvPicPr>
        <p:blipFill>
          <a:blip r:embed="rId2"/>
          <a:stretch/>
        </p:blipFill>
        <p:spPr>
          <a:xfrm>
            <a:off x="139680" y="1255680"/>
            <a:ext cx="2481120" cy="18655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1" descr=""/>
          <p:cNvPicPr/>
          <p:nvPr/>
        </p:nvPicPr>
        <p:blipFill>
          <a:blip r:embed="rId3"/>
          <a:stretch/>
        </p:blipFill>
        <p:spPr>
          <a:xfrm>
            <a:off x="3530520" y="378000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58" name="思想气泡: 云 16"/>
          <p:cNvSpPr/>
          <p:nvPr/>
        </p:nvSpPr>
        <p:spPr>
          <a:xfrm>
            <a:off x="3249720" y="2332080"/>
            <a:ext cx="2447640" cy="1434960"/>
          </a:xfrm>
          <a:prstGeom prst="cloudCallout">
            <a:avLst>
              <a:gd name="adj1" fmla="val -6703"/>
              <a:gd name="adj2" fmla="val 68699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同样是水，为什么在不同的地方样子就不一样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6" descr=""/>
          <p:cNvPicPr/>
          <p:nvPr/>
        </p:nvPicPr>
        <p:blipFill>
          <a:blip r:embed="rId4"/>
          <a:stretch/>
        </p:blipFill>
        <p:spPr>
          <a:xfrm>
            <a:off x="2998800" y="103320"/>
            <a:ext cx="2438280" cy="21700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8" descr=""/>
          <p:cNvPicPr/>
          <p:nvPr/>
        </p:nvPicPr>
        <p:blipFill>
          <a:blip r:embed="rId5"/>
          <a:stretch/>
        </p:blipFill>
        <p:spPr>
          <a:xfrm>
            <a:off x="6076800" y="133200"/>
            <a:ext cx="2676600" cy="22622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0" descr=""/>
          <p:cNvPicPr/>
          <p:nvPr/>
        </p:nvPicPr>
        <p:blipFill>
          <a:blip r:embed="rId6"/>
          <a:stretch/>
        </p:blipFill>
        <p:spPr>
          <a:xfrm>
            <a:off x="5956200" y="2346480"/>
            <a:ext cx="2749680" cy="21650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2" descr=""/>
          <p:cNvPicPr/>
          <p:nvPr/>
        </p:nvPicPr>
        <p:blipFill>
          <a:blip r:embed="rId7"/>
          <a:stretch/>
        </p:blipFill>
        <p:spPr>
          <a:xfrm>
            <a:off x="6022800" y="4541760"/>
            <a:ext cx="2535480" cy="1798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9200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时我很温和，有时我很暴躁。我做过许多好事，灌溉田地，发动机器，帮助人们工作。我也做过许多坏事，淹没庄稼，冲毁房屋，给人们带来灾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1628280"/>
            <a:ext cx="835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找一找，课文中水发生了几次变化，水都变成了什么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它们都圈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4920" y="415296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66" name="思想气泡: 云 7"/>
          <p:cNvSpPr/>
          <p:nvPr/>
        </p:nvSpPr>
        <p:spPr>
          <a:xfrm>
            <a:off x="1332000" y="3541680"/>
            <a:ext cx="186516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会变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我是水，我会变成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99840"/>
            <a:ext cx="8218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找到的水的变化，用上这个句式来说一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70" name="思想气泡: 云 5"/>
          <p:cNvSpPr/>
          <p:nvPr/>
        </p:nvSpPr>
        <p:spPr>
          <a:xfrm>
            <a:off x="1306440" y="3726000"/>
            <a:ext cx="237672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水，我会变成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924280"/>
            <a:ext cx="8397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是水，我会变。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；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600200"/>
            <a:ext cx="83120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的变化有那么多，你能用换个句式来说一说水的变化吗？比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419640" y="1608120"/>
            <a:ext cx="42480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88" name="文本占位符 8"/>
          <p:cNvSpPr/>
          <p:nvPr/>
        </p:nvSpPr>
        <p:spPr>
          <a:xfrm>
            <a:off x="3708360" y="3321000"/>
            <a:ext cx="3600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76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82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90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5280" y="90792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到来，我看到一片片树叶从树上（  ）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突然间下雷雨了，一个个豆大的雨点（ ）在树叶上啪啪的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知道是谁，撒来一把碎纸屑，它们像羽毛一样从空中（ ）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5"/>
          <p:cNvSpPr/>
          <p:nvPr/>
        </p:nvSpPr>
        <p:spPr>
          <a:xfrm>
            <a:off x="7596360" y="9079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"/>
          <p:cNvSpPr/>
          <p:nvPr/>
        </p:nvSpPr>
        <p:spPr>
          <a:xfrm>
            <a:off x="7524720" y="19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9"/>
          <p:cNvSpPr/>
          <p:nvPr/>
        </p:nvSpPr>
        <p:spPr>
          <a:xfrm>
            <a:off x="3419640" y="35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对话气泡: 椭圆形 10"/>
          <p:cNvSpPr/>
          <p:nvPr/>
        </p:nvSpPr>
        <p:spPr>
          <a:xfrm>
            <a:off x="1547640" y="4221000"/>
            <a:ext cx="1656000" cy="648000"/>
          </a:xfrm>
          <a:prstGeom prst="wedgeEllipseCallout">
            <a:avLst>
              <a:gd name="adj1" fmla="val -101773"/>
              <a:gd name="adj2" fmla="val 121944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想试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052280"/>
            <a:ext cx="8713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阵狂风吹来，把妈妈晒在衣架上的衣服给（ ）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瀑布从高高的山上一（ ）千里，非常壮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2" name="对话气泡: 椭圆形 5"/>
          <p:cNvSpPr/>
          <p:nvPr/>
        </p:nvSpPr>
        <p:spPr>
          <a:xfrm>
            <a:off x="1547640" y="3860640"/>
            <a:ext cx="3241800" cy="1008360"/>
          </a:xfrm>
          <a:prstGeom prst="wedgeEllipseCallout">
            <a:avLst>
              <a:gd name="adj1" fmla="val -63375"/>
              <a:gd name="adj2" fmla="val 70731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填对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"/>
          <p:cNvSpPr/>
          <p:nvPr/>
        </p:nvSpPr>
        <p:spPr>
          <a:xfrm>
            <a:off x="287280" y="1547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"/>
          <p:cNvSpPr/>
          <p:nvPr/>
        </p:nvSpPr>
        <p:spPr>
          <a:xfrm>
            <a:off x="4608360" y="2131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2920" y="3438360"/>
            <a:ext cx="4869000" cy="7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、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99640" y="1268280"/>
            <a:ext cx="7417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   极   片   傍   海   洋   作    坏  给   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7"/>
          <p:cNvSpPr/>
          <p:nvPr/>
        </p:nvSpPr>
        <p:spPr>
          <a:xfrm>
            <a:off x="1403280" y="27576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极、傍、海、洋、作、坏、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1440000" y="4581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640" y="2099880"/>
            <a:ext cx="486864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变、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" descr=""/>
          <p:cNvPicPr/>
          <p:nvPr/>
        </p:nvPicPr>
        <p:blipFill>
          <a:blip r:embed="rId1"/>
          <a:stretch/>
        </p:blipFill>
        <p:spPr>
          <a:xfrm>
            <a:off x="7164360" y="448632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7"/>
          <p:cNvSpPr/>
          <p:nvPr/>
        </p:nvSpPr>
        <p:spPr>
          <a:xfrm>
            <a:off x="900000" y="1268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极、傍、海、洋、作、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"/>
          <p:cNvSpPr/>
          <p:nvPr/>
        </p:nvSpPr>
        <p:spPr>
          <a:xfrm>
            <a:off x="954000" y="328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思想气泡: 云 3"/>
          <p:cNvSpPr/>
          <p:nvPr/>
        </p:nvSpPr>
        <p:spPr>
          <a:xfrm>
            <a:off x="4579920" y="3500280"/>
            <a:ext cx="2521080" cy="1081080"/>
          </a:xfrm>
          <a:prstGeom prst="cloudCallout">
            <a:avLst>
              <a:gd name="adj1" fmla="val 61592"/>
              <a:gd name="adj2" fmla="val 112638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右结构的字，书写时要注意左窄右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22" descr=""/>
          <p:cNvPicPr/>
          <p:nvPr/>
        </p:nvPicPr>
        <p:blipFill>
          <a:blip r:embed="rId1"/>
          <a:stretch/>
        </p:blipFill>
        <p:spPr>
          <a:xfrm>
            <a:off x="3335400" y="2397240"/>
            <a:ext cx="809640" cy="88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3195720" y="2233440"/>
          <a:ext cx="1089000" cy="1152720"/>
        </p:xfrm>
        <a:graphic>
          <a:graphicData uri="http://schemas.openxmlformats.org/drawingml/2006/table">
            <a:tbl>
              <a:tblPr/>
              <a:tblGrid>
                <a:gridCol w="549360"/>
                <a:gridCol w="5396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图片 20" descr=""/>
          <p:cNvPicPr/>
          <p:nvPr/>
        </p:nvPicPr>
        <p:blipFill>
          <a:blip r:embed="rId2"/>
          <a:stretch/>
        </p:blipFill>
        <p:spPr>
          <a:xfrm>
            <a:off x="1324080" y="2263680"/>
            <a:ext cx="771480" cy="9622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4" descr=""/>
          <p:cNvPicPr/>
          <p:nvPr/>
        </p:nvPicPr>
        <p:blipFill>
          <a:blip r:embed="rId3"/>
          <a:stretch/>
        </p:blipFill>
        <p:spPr>
          <a:xfrm>
            <a:off x="5194440" y="2421000"/>
            <a:ext cx="771480" cy="7808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9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变   带    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9" descr=""/>
          <p:cNvPicPr/>
          <p:nvPr/>
        </p:nvPicPr>
        <p:blipFill>
          <a:blip r:embed="rId4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5003640" y="2263680"/>
          <a:ext cx="1152720" cy="115272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16000" y="2236680"/>
          <a:ext cx="1187640" cy="1150920"/>
        </p:xfrm>
        <a:graphic>
          <a:graphicData uri="http://schemas.openxmlformats.org/drawingml/2006/table">
            <a:tbl>
              <a:tblPr/>
              <a:tblGrid>
                <a:gridCol w="61128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内容占位符 18" descr=""/>
          <p:cNvPicPr/>
          <p:nvPr/>
        </p:nvPicPr>
        <p:blipFill>
          <a:blip r:embed="rId5"/>
          <a:stretch/>
        </p:blipFill>
        <p:spPr>
          <a:xfrm>
            <a:off x="8686800" y="5027760"/>
            <a:ext cx="61920" cy="75960"/>
          </a:xfrm>
          <a:prstGeom prst="rect">
            <a:avLst/>
          </a:prstGeom>
          <a:ln w="0">
            <a:noFill/>
          </a:ln>
        </p:spPr>
      </p:pic>
      <p:sp>
        <p:nvSpPr>
          <p:cNvPr id="224" name="椭圆 23"/>
          <p:cNvSpPr/>
          <p:nvPr/>
        </p:nvSpPr>
        <p:spPr>
          <a:xfrm>
            <a:off x="1324080" y="2809800"/>
            <a:ext cx="771480" cy="392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4"/>
          <p:cNvSpPr/>
          <p:nvPr/>
        </p:nvSpPr>
        <p:spPr>
          <a:xfrm>
            <a:off x="3335400" y="2637000"/>
            <a:ext cx="809640" cy="2156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5"/>
          <p:cNvSpPr/>
          <p:nvPr/>
        </p:nvSpPr>
        <p:spPr>
          <a:xfrm>
            <a:off x="5194440" y="2421000"/>
            <a:ext cx="314280" cy="8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思想气泡: 云 26"/>
          <p:cNvSpPr/>
          <p:nvPr/>
        </p:nvSpPr>
        <p:spPr>
          <a:xfrm>
            <a:off x="1116000" y="3789360"/>
            <a:ext cx="3168720" cy="1008000"/>
          </a:xfrm>
          <a:prstGeom prst="cloudCallout">
            <a:avLst>
              <a:gd name="adj1" fmla="val -50712"/>
              <a:gd name="adj2" fmla="val 57509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书写时，要注意字的关键笔画，另外重心也要稳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" descr=""/>
          <p:cNvPicPr/>
          <p:nvPr/>
        </p:nvPicPr>
        <p:blipFill>
          <a:blip r:embed="rId1"/>
          <a:stretch/>
        </p:blipFill>
        <p:spPr>
          <a:xfrm>
            <a:off x="2916360" y="299736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229" name="思想气泡: 云 4"/>
          <p:cNvSpPr/>
          <p:nvPr/>
        </p:nvSpPr>
        <p:spPr>
          <a:xfrm>
            <a:off x="3203640" y="765000"/>
            <a:ext cx="2592360" cy="1800360"/>
          </a:xfrm>
          <a:prstGeom prst="cloudCallout">
            <a:avLst>
              <a:gd name="adj1" fmla="val -5560"/>
              <a:gd name="adj2" fmla="val 83703"/>
            </a:avLst>
          </a:prstGeom>
          <a:solidFill>
            <a:srgbClr val="ffff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朋友们，再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小学语文名师工作室联盟薛法根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132000" y="1608120"/>
            <a:ext cx="55850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92" name="文本占位符 8"/>
          <p:cNvSpPr/>
          <p:nvPr/>
        </p:nvSpPr>
        <p:spPr>
          <a:xfrm>
            <a:off x="3708360" y="3768840"/>
            <a:ext cx="36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64160" y="3003480"/>
            <a:ext cx="223200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偏旁：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箭头: V 形 2"/>
          <p:cNvSpPr/>
          <p:nvPr/>
        </p:nvSpPr>
        <p:spPr>
          <a:xfrm>
            <a:off x="5102280" y="2630520"/>
            <a:ext cx="1409760" cy="136836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116" y="0"/>
                </a:lnTo>
                <a:lnTo>
                  <a:pt x="21600" y="10800"/>
                </a:lnTo>
                <a:lnTo>
                  <a:pt x="11116" y="21600"/>
                </a:lnTo>
                <a:lnTo>
                  <a:pt x="0" y="21600"/>
                </a:lnTo>
                <a:lnTo>
                  <a:pt x="10484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5" descr=""/>
          <p:cNvPicPr/>
          <p:nvPr/>
        </p:nvPicPr>
        <p:blipFill>
          <a:blip r:embed="rId3"/>
          <a:srcRect l="13860" t="11345" r="12047" b="11404"/>
          <a:stretch/>
        </p:blipFill>
        <p:spPr>
          <a:xfrm>
            <a:off x="4818240" y="5019840"/>
            <a:ext cx="977760" cy="1106280"/>
          </a:xfrm>
          <a:prstGeom prst="rect">
            <a:avLst/>
          </a:prstGeom>
          <a:ln w="0">
            <a:noFill/>
          </a:ln>
        </p:spPr>
      </p:pic>
      <p:sp>
        <p:nvSpPr>
          <p:cNvPr id="96" name="对话气泡: 椭圆形 6"/>
          <p:cNvSpPr/>
          <p:nvPr/>
        </p:nvSpPr>
        <p:spPr>
          <a:xfrm>
            <a:off x="5724360" y="4162320"/>
            <a:ext cx="2016360" cy="1285920"/>
          </a:xfrm>
          <a:prstGeom prst="wedgeEllipseCallout">
            <a:avLst>
              <a:gd name="adj1" fmla="val -57199"/>
              <a:gd name="adj2" fmla="val 7113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还有带“氵”的字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450440"/>
            <a:ext cx="870264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汽    江    河    海    洋    灌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溉    淹    没    池    塘    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6" descr=""/>
          <p:cNvPicPr/>
          <p:nvPr/>
        </p:nvPicPr>
        <p:blipFill>
          <a:blip r:embed="rId1"/>
          <a:stretch/>
        </p:blipFill>
        <p:spPr>
          <a:xfrm>
            <a:off x="174600" y="4094280"/>
            <a:ext cx="1295280" cy="1455480"/>
          </a:xfrm>
          <a:prstGeom prst="rect">
            <a:avLst/>
          </a:prstGeom>
          <a:ln w="0">
            <a:noFill/>
          </a:ln>
        </p:spPr>
      </p:pic>
      <p:sp>
        <p:nvSpPr>
          <p:cNvPr id="100" name="对话气泡: 圆角矩形 7"/>
          <p:cNvSpPr/>
          <p:nvPr/>
        </p:nvSpPr>
        <p:spPr>
          <a:xfrm>
            <a:off x="1692360" y="3705120"/>
            <a:ext cx="2774880" cy="863640"/>
          </a:xfrm>
          <a:prstGeom prst="wedgeRoundRectCallout">
            <a:avLst>
              <a:gd name="adj1" fmla="val -60675"/>
              <a:gd name="adj2" fmla="val 43027"/>
              <a:gd name="adj3" fmla="val 16667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哪些字也和水有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9320" y="122040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雹   雪   雾   露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霜   霏   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晒     傍   管   坏   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"/>
          <p:cNvPicPr/>
          <p:nvPr/>
        </p:nvPicPr>
        <p:blipFill>
          <a:blip r:embed="rId2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05" name="思想气泡: 云 7"/>
          <p:cNvSpPr/>
          <p:nvPr/>
        </p:nvSpPr>
        <p:spPr>
          <a:xfrm>
            <a:off x="4643280" y="374760"/>
            <a:ext cx="1944720" cy="1081080"/>
          </a:xfrm>
          <a:prstGeom prst="cloudCallout">
            <a:avLst>
              <a:gd name="adj1" fmla="val 65935"/>
              <a:gd name="adj2" fmla="val 44541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字我来读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对话气泡: 椭圆形 10"/>
          <p:cNvSpPr/>
          <p:nvPr/>
        </p:nvSpPr>
        <p:spPr>
          <a:xfrm>
            <a:off x="1116000" y="3284640"/>
            <a:ext cx="2087640" cy="1388880"/>
          </a:xfrm>
          <a:prstGeom prst="wedgeEllipseCallout">
            <a:avLst>
              <a:gd name="adj1" fmla="val -53310"/>
              <a:gd name="adj2" fmla="val 70351"/>
            </a:avLst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认读的方法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毁    奔    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6" descr=""/>
          <p:cNvPicPr/>
          <p:nvPr/>
        </p:nvPicPr>
        <p:blipFill>
          <a:blip r:embed="rId2"/>
          <a:stretch/>
        </p:blipFill>
        <p:spPr>
          <a:xfrm>
            <a:off x="290520" y="4292640"/>
            <a:ext cx="1295280" cy="1457280"/>
          </a:xfrm>
          <a:prstGeom prst="rect">
            <a:avLst/>
          </a:prstGeom>
          <a:ln w="0">
            <a:noFill/>
          </a:ln>
        </p:spPr>
      </p:pic>
      <p:sp>
        <p:nvSpPr>
          <p:cNvPr id="110" name="思想气泡: 云 7"/>
          <p:cNvSpPr/>
          <p:nvPr/>
        </p:nvSpPr>
        <p:spPr>
          <a:xfrm>
            <a:off x="4716360" y="401760"/>
            <a:ext cx="1944720" cy="1081080"/>
          </a:xfrm>
          <a:prstGeom prst="cloudCallout">
            <a:avLst>
              <a:gd name="adj1" fmla="val 61828"/>
              <a:gd name="adj2" fmla="val 48648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些字谁会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对话气泡: 椭圆形 10"/>
          <p:cNvSpPr/>
          <p:nvPr/>
        </p:nvSpPr>
        <p:spPr>
          <a:xfrm>
            <a:off x="1339920" y="3201840"/>
            <a:ext cx="2330280" cy="1390680"/>
          </a:xfrm>
          <a:prstGeom prst="wedgeEllipseCallout">
            <a:avLst>
              <a:gd name="adj1" fmla="val -44824"/>
              <a:gd name="adj2" fmla="val 58847"/>
            </a:avLst>
          </a:prstGeom>
          <a:solidFill>
            <a:srgbClr val="ffffff"/>
          </a:solidFill>
          <a:ln w="12600">
            <a:solidFill>
              <a:srgbClr val="d9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地方你会用到它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920" y="19051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280" y="31431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9280" y="239832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16" name="思想气泡: 云 10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们的共同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3" descr=""/>
          <p:cNvPicPr/>
          <p:nvPr/>
        </p:nvPicPr>
        <p:blipFill>
          <a:blip r:embed="rId2"/>
          <a:stretch/>
        </p:blipFill>
        <p:spPr>
          <a:xfrm>
            <a:off x="3492360" y="2398680"/>
            <a:ext cx="571680" cy="749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38640" y="1614240"/>
            <a:ext cx="693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40280" y="24433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63640" y="36147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50560" y="2003040"/>
            <a:ext cx="41050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  极小较小  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3" name="思想气泡: 云 10"/>
          <p:cNvSpPr/>
          <p:nvPr/>
        </p:nvSpPr>
        <p:spPr>
          <a:xfrm>
            <a:off x="1589040" y="3903840"/>
            <a:ext cx="1758960" cy="103788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发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3:36:55Z</dcterms:modified>
  <cp:revision>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