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media/image12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</p:sld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9DF-5E9D-43DC-B9F0-97FF3443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677-995D-423A-A1E1-49D8625A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62C7D-3D72-48F4-AAFC-E8638896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44F29-80D1-4716-B703-70229D78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DEDCB-E62A-447D-A3C2-5250C230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305F4-27E9-45BB-9142-254B50EE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9F648-363D-4EEF-B5BA-5AF06759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5DF86-3704-40D9-88AF-9BF5942F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52519-A371-4C1F-8BF8-6934353E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4FBDB-9A8B-4E03-9CDB-A4B56FF9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D13D4-AA1C-4EEF-9835-5AAC3EE2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C86C4-D1C2-418C-AC8D-EDE74F6D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2588-2DB0-41DF-97C0-30BD6D24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C0435-F727-4EA3-850D-D674D39D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83DEA-8FD2-4494-B1E5-91A256C2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3BD8A-E508-48D8-B130-D8918B29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D34F4-3B5A-4FCF-83AE-96457861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1E588-4A43-425D-B939-7ED90E37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45315-4EE4-4450-A8E0-1E583753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CD2B6-5F4E-4E1B-B80C-902AD22C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F8BB2-81E8-4083-802A-5472C495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47F89-6CCA-424D-B943-AAEB215A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8B6E2-7B28-44E4-8CE1-EFF95B01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C00-CF82-4E62-AC82-46D63A36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87A79-EBF6-46A7-8EDD-A7D3E471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CD1AB-A00D-4E67-9395-B378FD53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C0D93-EF6D-4E57-A11A-0B302648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95099-1074-47A4-ABC4-22124719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DEBB1-93E4-4215-8F00-2F09B1D5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7D86F-A920-4E96-9D97-AC9AFFAA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7C62B-1B94-4170-A8C5-64142AA4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5B6E0-218A-43F2-933E-C8BB8924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31EF8-E407-42FD-BEA7-1A3E8788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0A347-3606-455F-973F-B737B326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724B-A079-4980-A9F5-ED04D1BB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D5E8D-B5EE-48B6-9421-D15F3EE3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DCC09-C855-453C-A8EE-37C4900F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5D61B-D44D-4AEC-AE6B-29007BFA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8E49A-12AA-4752-B753-994E3C1A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58E1C-1037-44A7-9D14-9B46CB6A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EE463-E957-4EE8-9F10-A6AA87AB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0B178-0309-498A-9E84-BD77056A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99DA8-744A-4E2E-A35B-F2A76835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EE6CB-8A9A-49BE-B279-03FB7A51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02EB6-DF0E-475D-B7E7-A18B76EF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7EC2-3768-4A70-90BD-50E94CCF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FD425-F813-4DFD-A385-69BCB68F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FB164-CEC1-46AD-BE77-E8C34DCA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A8C5D-1D98-4531-A34D-B32E6475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875D2-C171-48D7-A54A-BA078B29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37514-176D-4280-9E70-94B900E7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FE0F0E-95EE-4466-8581-64A38168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8F7FFC-A322-4509-8254-A2E5B7EF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B0AED4-2ECD-4079-A7A2-2238E7B3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358EB6-203D-4EE7-9EC0-A418D882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DE2B6-98B1-43A0-A22C-491766D5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7786-EFCD-4FED-A79E-E6BBC743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A506A-FE89-4CA9-9537-75E8D95F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F4B94-5324-4EC7-8819-3ED73A0D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7392A-BCA3-4F02-B89C-206DC03A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9E8CD-F40C-4D5A-A690-95697F6A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2B36C-F50A-49F1-8BE1-32789C8E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B3E641-F9A3-4BCA-8F93-1FC88C56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8E9B9-68F6-45B0-AF70-01E76751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77F4F5-ABAA-4AB7-9CA4-2D4E2FE1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28E8E1-B666-4F6F-9C46-D1168815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FA4061-6B4C-4D98-8EFC-42B2B5B9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D89E-A574-4A7B-910A-61DABF6D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127C2A-2CB6-494A-B85A-B67CCDEA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99669C-CAD2-4D13-863A-244B3011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47B677-A633-4BE8-A00B-5FC173AE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FDC57-CE52-43CC-9FB8-B4A8974E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F72712-19EF-4BEC-9615-BFC16851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85A0E2-44AA-473A-9CA2-8C430D39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4F5E6F-169F-4857-928B-A65306FA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E5265-8298-475E-B4C3-1300B6A9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F5924C-53C3-472C-9B34-E38FF609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A7DBED-CD72-4E82-870B-CB29BBA3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2FC1-AE23-4300-9FAB-FC2575BB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5809F-5F29-4FF3-9DD0-312AF90D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175E87-8289-465D-BCAE-E32E9C54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531DEE-CBE3-4754-BD47-70088374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C566C7-8A27-426E-967D-ADFA58B6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A1E22F-B316-4B3E-BA3F-51972D8E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D86AF4-EBB7-46CA-A70E-C70B3357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0A53C7-B243-4AD8-8E3C-4673B162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94F413-7A6A-402C-A6DE-A0E3AF3C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8CE4CE-E514-4406-B8CD-5E6887C0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63A10A-3D6D-46C4-935A-2C8F753A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3A95-DE38-4281-B4D8-D888C2CB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5D4C3D-EBD1-486C-8D97-80AE8EA9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4F2431-1176-4946-B0A1-3101FD5A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2B9C75-7F9F-4B4B-960D-F84036B0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23BDAB-F4FD-4A79-9E85-2C8E7DB7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9CC254-EEA9-4D87-90B2-345A00E8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5843E0-0475-4D7D-8C4E-C439C84E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F13E6C-7BCE-47C3-BE69-A55DE814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CAB21A-F19D-4354-9573-BD29DE0C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9ED6A9-08EF-4091-9566-98EC127C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3F8AFE-8D84-4EAA-84AE-FBE3B676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23C7-3BE2-4E7F-8DA7-2B8E8C94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EA8F94-3621-4B03-8C4B-6B77390C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93E6F7-0A4F-4B8D-9B38-47AD4AE1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DC6736-B641-4976-B5BD-83F61B3C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D52E79-249A-45F1-97D4-DBD5D937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8D0C47-4A5B-4F30-BDC2-525FEC55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E4D42E-4DCC-48A1-A6D9-459C98D6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56B40B-0514-4AE3-8563-91ECA402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CC6141-C353-4846-AF19-00D9872B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A84424-299B-4D9F-9269-B4E4C958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EED25F-42E3-4827-9F8F-56C3D14D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D8B-1FA1-44D2-9942-55905BD6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3CE3-8D43-45BA-ACF8-A43F8D6A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810CAA-5B3D-42E9-A2CE-0FC78405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9262BB-3B63-4625-AEFD-E0D0BB7D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E9DB3D-E30D-4B4E-951C-F807D590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4B8268-9757-4192-B542-D727D598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4C4F3D-A8DD-4DA0-B069-6405BE12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DB37A4-24C5-4553-9DFE-4E68C3EF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0EC933-8258-4893-ADCF-4BD80F7C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EF49C5-E9AD-4205-8796-5DB7BFE4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FFDFB6-3F81-4896-96B3-26FEB3F2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2485BE-14E3-40BA-94A6-50B7F7E8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63E9-9E0C-4F70-85B1-876455B8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7E4D4D-CC48-4F9B-BACD-0DFA8DD7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804C8F-01EE-4C8C-BB4A-063B2A04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0EEFBA-6BB3-4A91-8150-61E8781C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B1CF82-8EF4-4050-8825-7DCC8829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8CBE46-2BB5-48B8-BFCC-4A6AA550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7F6DD1-25B8-40E3-821F-C18D56B7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4A8BE2-C2A1-471E-BE52-AAD68D2E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BD262D-068F-450F-A1BA-139BA1E3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D8D872-60FA-4DB3-B6CF-99C355ED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788445-F220-459B-99F2-BF52E1EA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93A9-F9D1-4533-8E58-F0C4F8FE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75D9FB-85AE-46E6-8CC3-4BDB9281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F1B92D-2733-4F93-B7F0-BC1FE35F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891A99-57CE-453A-B959-D99E5D3B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00D5FD-CD70-4C6E-BC83-5197F170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4870CE-4038-4297-BA8D-41BFD06D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5033EA-86B2-441A-951D-23931B38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BB8B08-10B6-4E5E-87BD-1388FCA9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E27CC7-F9B9-4C34-85E4-289A966A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C28D20-BD4A-4830-BB9A-B7BD9A02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82B154-4EF1-434D-8105-3D2CC08F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4A0F-A9F3-4DE8-B0F3-69D7A775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BD8147-2012-4420-8ED1-0C2221D9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F75788-1C23-4E43-ADD4-190ECD0D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C573E7-A5E4-41FD-9223-882E88F1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EC839D-7D59-4BC8-938E-41352A41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7C1444-B5A7-4B33-9544-C517E857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DA1841-45E8-4D28-BA4F-E2951EB7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522B37-D642-45C0-9107-9FF88640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FD517D-875C-4460-AC91-B6AECCEA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17160A-1C05-43C1-8AB3-71A6389F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B998AC-ADAA-477A-8D8D-10C555AE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8C22-8147-495F-AEEC-44C42F98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21AB43-48D8-4528-8620-0C884FA2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32210B-6BE6-4368-8A91-14FF09A8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FBE4DD-A820-47BF-9AF0-41517B18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55D707-821C-43A4-B61A-2F42ACC4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F5E30B-0FB0-4BAE-8942-DBDAE987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90D51E-96E5-4A96-B315-8F6FFC5B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0A813A-F17C-4935-A9B7-34EFF3BC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08D0F1-8F8A-480F-AD36-87082F6A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FE6B37-786E-4BF0-BD5A-8B70B0B7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FE8A54-0879-4429-9637-0A7647C5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BB60D-156C-4852-AAAD-729B7375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EE33AF-EF32-453E-9707-CB6E6C3C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E0AC57-993D-4DEF-B44F-50034E77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E5DA53-FF62-4AE3-83B4-19C80CE9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4CF119-4998-4527-9BF5-3A99A16F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8C7239-4DCB-45A8-98C5-23A9F195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E7C782-1342-47EE-B909-EFE8BD9F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4B0E38-368C-4026-A21A-A209F986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7831F3-8364-4DC6-903C-8E6247F5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AE00DA-A6CD-4321-92FC-A356EE8F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D5A361-9CCB-45D3-A379-A6965B0C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A3AB6-9224-4B7C-B0E4-2DB24A62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080E79-3F47-4CDB-A64A-1BD866D4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A6CA3F-AE1A-45AD-9B8A-9F4FBCB6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4FC7DB-A601-4F71-928D-169F6153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F337A8-86D8-499B-9FCA-D4442DFC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EE75A2-611C-4B6B-8585-F9D77644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F6A743-F237-41A3-A8F7-094AF9A8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CB81DD-16E7-4C5D-BD84-9A7CD0A5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04755C-1A29-414A-9D89-741EB894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EE7199-74C2-452D-A863-DFC61653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25B1BF-EF54-445F-8820-C81736D2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6AFE6-F2D9-4367-8973-68481425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026190-16B0-4C91-A94F-84C12FE8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9B76B4-A841-4933-99A4-EE5E4D09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C37F20-EE71-48E7-927C-C0EA89B1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07B1A0-CA9B-4757-AA9E-D4762141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7A56A5-77D6-46CE-9743-D32D8CC7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817821-23E7-4C23-8492-AC918120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FD00BB-90B8-4172-8EFE-0A7ECDCA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4CD213-1A2A-43ED-A087-9F0FD8D8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DFB007-12BE-4F2C-B6EA-4ABC276D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F09257-23D6-49B0-BAB4-7388E423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46C34-0310-473D-9A99-536AE454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AD59CA-63FB-4D8D-9BBA-2E9FAD2D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965DFD-5503-4EE1-ACFB-5A7AC6F6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7A64F8-7CA4-455D-9519-C292963B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499239-958F-4C69-8352-AA008F93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A148B7-11D2-4111-9C53-2CD5AF26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B08652-4C00-4BAF-9C89-0C25D995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36848E-81D0-417A-9524-BAD1B0BE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532E86-AA63-4E6F-B7A6-EEE0E2E7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B5E228-F377-4637-98E9-06F3610D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3A38BF-BBD0-474F-8A49-914B8C21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DE7E9-57D0-4639-8E70-C3EA6C7B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2B88FC-7EFB-409D-BF5C-BC4A968D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51D9D8-69E3-4962-B21E-1A78C8F6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3D786D-7268-49AB-8351-2F5C4E8B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735BAA-BBC1-499D-875B-047643CF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91FA77-D164-4DED-8834-CB831DBE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A91302-49DE-427D-83A9-68AD0515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694621-C0D7-4719-B245-08F5E50D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A996B1-26AC-486B-B35A-33EAADDC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7F06C8-5BAD-4D7C-B77B-B3E3D2EE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37F177-6804-45D5-9599-D783640E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C7F-D51E-4463-AB55-B38913B8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D8F2C-C980-460D-A084-70A5A7C5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6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D2AE8A-61F8-405C-BCC9-8FC31DA2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9B91A3-39EA-4786-AF40-6250B36C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4BB286-23EA-41EC-9FBB-53C43BD9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2BD8D7-EA7D-4C3D-B886-3402DA8C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A1BBDA-A844-4B7A-86ED-6412181F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233E08-72F7-42C5-81B8-390125BD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43FD99-2241-418D-9CEC-36FE0F51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E81C8C-BFCC-4711-AAEF-D2966520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B33AEE-BF30-47A0-90F6-055FB658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F82955-7C55-420F-B19B-6013E142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F982C-6097-47B3-85D0-1F1F67AD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07190E-E8FB-4D21-AF97-56B81C8F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962AF4-CFBF-42E1-965C-98446FB8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CA7516-7E4B-4FFF-81D6-B53816FB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026361-8CD0-4E5F-8C40-A35AD44F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D7FADE-9D92-46AA-BE7A-1F25C2D1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12CD4C-A412-4B94-BB4E-1DD9F416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810D5E-35C5-4C72-AE4C-407FCDA6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98A7EE-0F7B-4633-9F2D-3B3E1C92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DE3D38-9D2A-4FB1-AD65-EB77DA94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9123B8-94CD-498F-ADA6-3BE1C20E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6EF98-DFA2-483C-8EE8-EB20E429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A7A368-B766-45D7-800C-6C7CFBDB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FB814C-3D6D-42AC-BD70-C650607A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BB27F9-B66E-47C6-9EEA-590A75FD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61D9E5-662F-43E0-980B-5FB427DD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008C7F-2E2B-46B7-90CD-A01A9E95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9E92AF-F96B-451D-869E-FB619192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9EF428-EDAB-4ECE-BAAD-B3D13B47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86184D-0FE8-4241-AF66-F5EED933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7F3DCF-D9C4-42F8-BA2E-4F80381F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38BFEF-DD07-4D3B-B5AF-175738C1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941F9-B2B8-469F-A8A3-EB045FEB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1E108D-322D-4B9D-9056-FA7E093A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6622BC-7D7C-4958-B83C-0BE754B4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0DE355-CA6E-4AE6-A46B-8EDC0CC3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D1DF6F-B12B-495F-8093-C899AC4A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72DE55-B2B5-487A-902D-EF4573EF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8F04DC-C5AE-409B-9281-513E44D5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9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00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BD0868-2702-4FE7-B79F-CB6C345F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9A19C1-847F-44B7-8477-ED33D572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A28717-57DA-4867-953E-B0891C51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3D627E-B209-48CB-BE50-D7162AB9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2A002-2A2E-4E7E-AB40-9A5BC70F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57AEDD-520B-4E62-995B-881AC6AB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5EE4E5-265F-44F0-BC3B-DA37709C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05981B-D1E7-49FA-9BB5-8ACA3BF8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4521B4-5A0E-4C1C-A77B-0261E9C9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BD591C-AC23-46F1-ACF3-87729F1C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D88E71-4A10-4C36-BDF7-7EB1958A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107031-4E78-4ED2-A6B5-021FFAEA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32924A-5365-43AD-8860-EB0ED40D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9FB4B6-0C41-45C7-A0B2-2F745F32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254020-F0FD-4083-872F-F377F559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1F7B5-EE62-4EDE-8164-129DF18A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6C90CD-50C6-4BDC-8800-2634DEA0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6456B8-2324-4909-917B-5905BEFE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580231-5478-47BC-970D-0B9E293D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A4E246-DF9A-4EF4-9573-1DEF1AE5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3B99AA-CBE6-4A14-A786-0AC29555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B18C75-0756-44F8-93ED-BB9821B4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028F54-A8C4-4736-B13D-C635CDCA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025731-8F44-4179-8972-5940693F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7E8BB1-B5B5-4F74-A0CE-CE09DC3E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D65FAC-0D5A-4E99-95A5-34E8D3E8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9BECA-3D4B-44BA-A4EC-45C96061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8AF09F-5A3A-407C-B50E-4765C32D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12F776-3B78-4ED0-B51E-515BB523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0D49B5-CAD6-4D50-B6C7-A9750A92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762DA6-BE68-4F0A-A9A4-4023FA9D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4645A2-20D9-4D90-9757-4E8A0A1A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6E382F-4F59-486A-8A18-FDA73DAB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A00E73-BD99-4110-AB0F-1759FBB9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610B07-7F4B-48BE-8ACC-9CFDF648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4E10AD-2CF2-4969-B7FF-9C18A97C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228295-C88C-49EE-A8DC-2732A67D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E9B35-178D-4B95-AF65-700B83B8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22941C-9B5E-4012-BB1D-F80D9638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AE42A1-1404-40A1-B15C-162ABF68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9A988B-D9E4-49C8-88FB-957CE57E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E2FE49-3EA8-4E0E-A190-082B0BCB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2123E6-2AE1-4309-AF83-8C936482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A2FDD2-C092-494B-844F-A22F2EF6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7EC7A0-0367-4E7B-8AB8-7B733EB7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B60A236-ED53-4B25-9F4E-47289685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495D70F-2BAB-4D2A-B7D8-F63B4620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CE96C4-D587-483E-9DB1-C969A314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5A407-7183-48E8-A87E-3DC099D0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B19A4D-95AE-4ED2-AD25-B7CEDC24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CB5AA7-419C-49C8-93DA-34DD2574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85E5B09-25B7-4410-883D-D09698D7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51229F-C0A2-4E42-BACD-32CE7A58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4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00BC2F-93FD-4369-8030-4D0A63E8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A551C60-093D-4FF8-B42D-E6254B90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09D0C8B-0206-411A-9EDA-DB9691FD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B292811-7AED-4828-BAD2-831834F6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17C32A-295C-42B8-8CBD-1FD0B136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ADD58A-B90F-421A-9C9B-A46697A5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4417D-1A16-4CC5-99B2-F1654FF2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654E16F-B835-47C0-9195-06B33A1A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55CF82-D233-4930-A9A8-FD5CB765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40103F-A266-4466-9085-552CEA6F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2FDB851-F371-41BB-BAEC-270E3DBA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FA10CE2-63F3-400B-A774-1A1623AB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E21ACF-CC85-418D-BD3B-282A1D5A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9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30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DA44E4-75A2-490B-962D-EBA3944F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F5C6CC-7E56-49BA-9643-7A8977B2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1303195-CC0F-4584-89A7-08AC3C5E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92849E0-64FA-4595-98BD-926EA701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E2B-D72D-4D08-B7BD-09198A31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4C2DD-BCA6-42CE-818F-4A3C6B9E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51760D-C415-46F7-92F3-E7F16D6F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DDEC163-64DB-44D1-B46B-27016DB5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E7989A-DE09-4AD1-AF3C-660781D5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BA0C40-D234-49F4-A8E4-DD36AA26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752D1B-CEB1-4281-AD27-F5B5C602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B247DC-FEF4-49DF-87A8-00A391CA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5524DF7-4FB3-4F2B-919A-68C53FDF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82CE27-4F01-44C7-8310-3F876841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FF840D-D7F5-480B-8026-22024601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6145BC1-BF3C-4FEA-AC47-82429DA4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05AFB-9E65-46EC-B23B-BCD62FAF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82D54D-F77B-42EC-BCEC-F731D798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351ED2D-DC3F-4F97-8557-C7898ABF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DAB6B6-3B7A-4174-AAD6-F68FE0A8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F49CE04-7709-45EE-93EC-24A6C3DC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BCE4C73-B956-4909-9452-281D0302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CE86A9-3FCA-401D-9C45-48D0702C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35B5635-E872-4DB0-8C1B-63011471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F5CA31-3B5D-47AA-9009-95FC4840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64D1A9F-4ABE-404B-B105-C38204A0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A4251A9-8AF6-4380-9333-29A82E3C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802D6-471B-4A9F-8557-72AA6080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1CB7F0-DAA7-49F0-847C-EAF5C4F1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1B1585-75A6-4A36-B7CC-88BDDED1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D9EDBA-876A-45FC-9F75-CAEF25A1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FEFFAEB-1D74-46D6-9200-D460C5F4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1DC26E2-9969-4CC7-AC25-FFCA3289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C7C3A8D-CF4A-4234-81D0-BE711042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D8C241-F8E9-4772-B546-B5234BB5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73F0171-AA9C-4E75-8BBB-1BE31DB7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23E5342-D8FC-4800-B473-C08B2711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48D4F14-5143-4229-9EF5-C5D7DFFF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2D247-C36E-467F-A73C-DED4B397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52D550F-1284-47A7-BB0F-593AABE3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824DE06-1BC6-417C-A880-CAEE3DC8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7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7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11A011-AA49-49FA-859B-B9C77CB2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53E5C9B-C54D-4F61-A1D2-8F974281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167510E-D730-4FB7-A2BA-649AAD35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F38D05E-577F-4092-BCF6-B9F81942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A59211-570A-4D54-B5BB-28BC843C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7DF2C20-ECEF-48EB-9AC8-6DBC59A9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CA8C93B-13A2-4030-8264-30825E6A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69C8BCF-9EA2-4017-A2DD-C140408F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74386-043B-48DF-9105-FBE389CB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C6EADE6-4F57-48D9-8C82-C39EBBEB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3E4D221-C65D-40CF-9B8B-33F9C204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F82AF1-6156-46EB-A53D-9AD6832E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C1BB983-4923-4F42-B5E4-D0B2AE1D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7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8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74A2661-4E59-43F1-A872-E086AA95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0F200C2-84CB-4908-9F30-4D445F1D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331FA66-D8B4-4867-AC61-908D31C6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725205D-E08A-490F-AD0E-72B98B2D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D7E93AA-04A2-482B-82D6-D78A8261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72591EF-E656-450E-BF24-4357CD0D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9F842-2D44-44C2-9D5F-C138238C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761C94A-B495-4554-AB6F-10EF7C9E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EC8A2CB-C4FA-4A97-AC7E-8164F591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A812EFA-3F7D-4FEE-9F7E-7A346172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1A871EE-943A-4FAD-9800-353657A8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2165D4A-99AF-408A-9C47-7335509A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38FB1DB-49E2-48C5-B144-5474C59E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3F05F7D-8F89-45D9-AC5B-DBB4D44A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EDFDA08-5EFB-488E-AA5A-7611D877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E1B174-6E5A-4A07-B69E-6D79FF7F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D26C586-DC1C-4AD4-BB31-C4E97093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08EC7-0EA7-4872-BA01-E0CD876D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CBE2C6D-2D12-4D67-AFE9-8B7A0350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79B8F18-E6AB-4718-B800-9E793F11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6D9FEFE-1246-41B6-B96A-03B53D9E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F924AEE-3837-42D0-9AA6-52812BE0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CD0EF01-AC85-4E32-B067-CC74E2C4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AF77815-378F-446F-995C-408BE369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E27CAA2-AFDD-4FB6-8D30-96D429F7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51DE11F-E79D-4513-AEC2-C6CBE547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AF310C2-A1B5-4EBF-92C6-AB433F4F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64BF7E3-35A1-43BB-90DA-C53FC915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4B051-C5CB-4CD2-BAD7-32930006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BA39571-4640-4D2A-815B-A3869C39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971D01D-32C7-4FF9-AF81-99B0EE87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38C6F51-CE33-4537-A7CA-304976E5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9CFDE7D-6A6A-4673-8F3C-6CF51520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30E29EC-9A94-474F-8B84-860CF553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53FB1B6-8F74-4034-BB32-60E0F9D4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6DB5263-9487-42E0-A025-70D7925F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5F6DE97-76F9-4390-98D9-F8DA3955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6FFF623-8BED-432D-BDD6-D34306A3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294E0C6-F37B-43D2-815A-5403C098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6AD77-D48A-49BC-B753-8B25E99D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0AD28B9-C677-4DAC-AC86-803717B2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BC9CA-8B6E-4C8A-85E5-3604B4D9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824A-353A-4F26-9959-D274285E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E8A50-16E6-4F68-BDC0-3E4CBB37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0B58F-3A99-491D-B57E-77B0121D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96C92-B6F2-435C-A25F-8DC526C6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5D239-AA2F-4E95-8C6E-35DC44ED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8D691-BF11-4E30-AFAF-F818C958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9326F-F713-4E42-A596-D6C32045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6ABBC-EE6F-4309-84BF-FB898424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B4133-353C-473C-A431-BF3799F3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2BBA6-04BF-481B-9BE4-1E5E6A70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5C3E7-848A-435C-BA15-C42FFB46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B38-07C7-4B62-A380-6C48DFF9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E88F0-2699-4418-A9D1-F0DD8618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B28E7-6BAE-4D1E-B3C6-EB32FF80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9215C-55F1-4D1F-8A4F-AEF6FFB9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493ED-59EB-4C83-BD8E-A5D2D9AE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18DCA-0FF9-4AF6-BA1A-45E213C5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9C4F2-4598-4A20-86FD-CE7C7C6C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FAC17-5A4D-4350-A99E-A8A830B3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D4B36-C3C9-40C4-8F39-069D54FC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16FC2-A823-4FC3-B22E-F55C6775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EEE5B-8ED6-4EC1-ADE8-54B27878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EBA-65C7-4CBA-A171-968DD0B7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FD308-18A3-4000-B323-4508F62A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B4217-C90B-4DCA-A282-D5849796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AA698-542A-4C66-B285-BA585CF3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31F6C-ED1F-4F58-8B83-94939AAC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C007B-51B9-4CB9-836C-4AC3A7AE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809DF-D8C5-4281-8EA9-4E4BD168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CD830-CFA4-487A-8920-5A7AC76F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EB962-3CED-45FF-8C61-C754C7A2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AA105-0672-4E98-8B6F-D897B8CE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B956A-A64D-4D26-867A-9E73E137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12B-A91D-4D16-A0B8-7F8C936C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6E23A-40F1-4641-AC1C-F77D6BBB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B9CE1-AD80-4581-84DD-8E5178A7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BAD0C-C1F1-4D08-9E8F-4DBA6D51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470E2-F210-434A-913C-CFB2318B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E8B2E-CCE3-40CD-8D7A-D18D8EDE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1BF3F-491F-4E72-AD24-BC2D2FCC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802C5-C1D1-4015-8E7A-4A1CDCDF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4979D-4C70-4D32-B7A9-BE543C6F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FD945-21C0-4ED3-879C-8E0254E8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E9508-AAA5-4DE7-B57A-D9B2DB22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C0D-A651-4271-AB72-ACC088AD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6DAFE-52AB-4C21-9653-B301E377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65623-52EA-44BB-B7D7-9AACFF76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EE6D7-1722-4EFA-AC8A-09E2C8CC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F9742-B0A2-4671-AD7C-C17DABBF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EC782-01C1-4E71-9633-0B61A23B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1367E-29F5-428B-8AC6-42AFFB3E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806A4-691A-416F-80F4-74D593B7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4234A-ECB3-473C-84AB-140EAAE9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664FC-9181-4DDB-87E3-9B39BE77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F4A5E-D767-49CB-86C8-6B8F0273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3.xml"/><Relationship Id="rId7" Type="http://schemas.openxmlformats.org/officeDocument/2006/relationships/slideLayout" Target="../slideLayouts/slideLayout374.xml"/><Relationship Id="rId8" Type="http://schemas.openxmlformats.org/officeDocument/2006/relationships/slideLayout" Target="../slideLayouts/slideLayout375.xml"/><Relationship Id="rId9" Type="http://schemas.openxmlformats.org/officeDocument/2006/relationships/slideLayout" Target="../slideLayouts/slideLayout376.xml"/><Relationship Id="rId10" Type="http://schemas.openxmlformats.org/officeDocument/2006/relationships/slideLayout" Target="../slideLayouts/slideLayout377.xml"/><Relationship Id="rId11" Type="http://schemas.openxmlformats.org/officeDocument/2006/relationships/slideLayout" Target="../slideLayouts/slideLayout378.xml"/><Relationship Id="rId12" Type="http://schemas.openxmlformats.org/officeDocument/2006/relationships/slideLayout" Target="../slideLayouts/slideLayout379.xml"/><Relationship Id="rId13" Type="http://schemas.openxmlformats.org/officeDocument/2006/relationships/slideLayout" Target="../slideLayouts/slideLayout380.xml"/><Relationship Id="rId14" Type="http://schemas.openxmlformats.org/officeDocument/2006/relationships/slideLayout" Target="../slideLayouts/slideLayout381.xml"/><Relationship Id="rId15" Type="http://schemas.openxmlformats.org/officeDocument/2006/relationships/slideLayout" Target="../slideLayouts/slideLayout382.xml"/><Relationship Id="rId16" Type="http://schemas.openxmlformats.org/officeDocument/2006/relationships/slideLayout" Target="../slideLayouts/slideLayout383.xml"/><Relationship Id="rId17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21B2-E02E-4C42-8900-62CD710C5490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41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42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42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3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D812-9FD8-4DC8-B00F-CE74CF173E2D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466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467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6F48-18F8-444B-AB8C-79682883D8D1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51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51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51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FCF9-3FB5-4387-9BC4-1680BAF5D6E0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55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55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56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01CD-B959-48F2-989E-7ACAD58FA4AE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60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60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60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5FC7-81B3-44FE-AEE8-491128FB3CAD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650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651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653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BA41-FBB8-44B2-A2B9-F181B9B4AFE4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696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697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699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00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1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2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17B4-9D6B-4484-B471-2F45B8887433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74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74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74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0BA5-B26D-450E-8254-0C4F0ADD4CFD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79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79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79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C092-ADF0-488D-9954-2748D7EB73F2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83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83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84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41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6B45-AE8A-4A49-912D-D1C30D240CCF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4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5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6B6B-D6F4-4FAB-8679-5C50C73DC12E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884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885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6150-56E5-46AF-9A47-E13B2AC5539E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92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93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93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CEC1-4524-42AE-BBB5-5B19DAE72820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97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97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97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58F9-3EBD-422E-A761-0948DD002D6F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02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02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02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E41F-8A69-4D87-862C-01DED52F87D6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068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069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071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82E7-7129-4D8C-840E-97EA08FFECF2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114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115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117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18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19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20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 type="dt" idx="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 type="ftr" idx="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E54E-D52B-4B2A-A972-3F88D7EC05F7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16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16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16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 type="dt" idx="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 type="ftr" idx="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 type="sldNum" idx="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AFFD-B07F-4887-972E-BC3AD099D74B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20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21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21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dt" idx="7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8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 type="sldNum" idx="8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3723-19AB-43C1-B7C1-9C7A431E7582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25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25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25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59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 type="dt" idx="8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 type="ftr" idx="8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 type="sldNum" idx="8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F670-9B5C-40B1-ABE4-776452318B6B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1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02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303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8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8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8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F83A-224A-4AD2-B09A-6444F87CB3EE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9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9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9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E0D0-253E-4C31-864F-17ADA7F1CECC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4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3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35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 type="dt" idx="8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 type="ftr" idx="8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 type="sldNum" idx="9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87BB-D461-47B5-826B-0A44E3A5F8C7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9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39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39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 type="dt" idx="9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 type="ftr" idx="9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 type="sldNum" idx="9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2A78-12C0-4131-987D-495F55263C71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43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44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44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443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 type="dt" idx="9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 type="ftr" idx="9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 type="sldNum" idx="9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739E-0305-4FDE-B2D2-277A38BBD408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6"/>
    <p:sldLayoutId id="2147484053" r:id="rId7"/>
    <p:sldLayoutId id="2147484054" r:id="rId8"/>
    <p:sldLayoutId id="2147484055" r:id="rId9"/>
    <p:sldLayoutId id="2147484056" r:id="rId10"/>
    <p:sldLayoutId id="2147484057" r:id="rId11"/>
    <p:sldLayoutId id="2147484058" r:id="rId12"/>
    <p:sldLayoutId id="2147484059" r:id="rId13"/>
    <p:sldLayoutId id="2147484060" r:id="rId14"/>
    <p:sldLayoutId id="2147484061" r:id="rId15"/>
    <p:sldLayoutId id="2147484062" r:id="rId16"/>
    <p:sldLayoutId id="2147484063" r:id="rId17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486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487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8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489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 type="dt" idx="9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 type="ftr" idx="9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 type="sldNum" idx="9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0A82-D59F-404E-93E6-BA2D68015C0D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1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532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533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4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535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36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37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38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10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10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10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AD86-17FD-4BD0-B1C7-9EFC1872C890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58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58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58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 type="dt" idx="10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 type="ftr" idx="10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 type="sldNum" idx="10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B28C-8ED4-41FC-BBFC-0971C51B3BCB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62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62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63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 type="dt" idx="10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 type="ftr" idx="10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 type="sldNum" idx="10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2FE5-CDC6-4BCD-B697-AC7D89529E9F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67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67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67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77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 type="dt" idx="10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 type="ftr" idx="11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 type="sldNum" idx="1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C8A1-D164-4C03-B509-476B1B8E5909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9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720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721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2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 type="dt" idx="1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 type="ftr" idx="1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 type="sldNum" idx="1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3530-3117-448A-B7E1-D8587A8F62B2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76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76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76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 type="dt" idx="1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 type="ftr" idx="11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 type="sldNum" idx="1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F022-3C79-4893-A2D4-EAE7E3CB79F9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4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4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8B34-0191-43A1-A2E1-E1F5BC6931AF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81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81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81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dt" idx="1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ftr" idx="11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19" name="PlaceHolder 5"/>
          <p:cNvSpPr>
            <a:spLocks noGrp="1"/>
          </p:cNvSpPr>
          <p:nvPr>
            <p:ph type="sldNum" idx="1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D7A3-A7B5-4D22-B397-B4364ACD1076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8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8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8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8A64-CD54-425B-8C90-C8433DD28001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232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233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235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0CEA-4968-4A18-8A71-D7CCA0007254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278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279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281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82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3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4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EE96-A6B5-4567-9B32-CDF6014FF5FF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32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32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33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6AE9-7343-4181-B546-5AA4E6D774EE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37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37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37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9D88-9CB0-4D71-866E-A40397A68AA5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TextBox 2"/>
          <p:cNvSpPr/>
          <p:nvPr/>
        </p:nvSpPr>
        <p:spPr>
          <a:xfrm>
            <a:off x="1084320" y="21700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幼圆"/>
                <a:ea typeface="幼圆"/>
              </a:rPr>
              <a:t>4.</a:t>
            </a:r>
            <a:r>
              <a:rPr b="1" lang="zh-CN" sz="4800" spc="-1" strike="noStrike">
                <a:solidFill>
                  <a:srgbClr val="0000cc"/>
                </a:solidFill>
                <a:latin typeface="幼圆"/>
                <a:ea typeface="幼圆"/>
              </a:rPr>
              <a:t>口语交际：有趣的动物</a:t>
            </a:r>
            <a:endParaRPr b="0" lang="en-US" sz="4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57" name="TextBox 3"/>
          <p:cNvSpPr/>
          <p:nvPr/>
        </p:nvSpPr>
        <p:spPr>
          <a:xfrm>
            <a:off x="2031120" y="428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编教材二年级上册第一单元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58" name="TextBox 4"/>
          <p:cNvSpPr/>
          <p:nvPr/>
        </p:nvSpPr>
        <p:spPr>
          <a:xfrm>
            <a:off x="488880" y="5129280"/>
            <a:ext cx="698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苏州市吴江区小学组块教学研究室 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朱祺  赵桂芝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直接连接符 70"/>
          <p:cNvSpPr/>
          <p:nvPr/>
        </p:nvSpPr>
        <p:spPr>
          <a:xfrm>
            <a:off x="912960" y="1371600"/>
            <a:ext cx="7318080" cy="0"/>
          </a:xfrm>
          <a:prstGeom prst="line">
            <a:avLst/>
          </a:prstGeom>
          <a:ln w="648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86" name=""/>
          <p:cNvSpPr txBox="1"/>
          <p:nvPr/>
        </p:nvSpPr>
        <p:spPr>
          <a:xfrm>
            <a:off x="714240" y="1836720"/>
            <a:ext cx="75168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苏州市吴江区小学组块教学研究室</a:t>
            </a:r>
            <a:endParaRPr b="0" lang="en-US" sz="3600" spc="-1" strike="noStrike">
              <a:solidFill>
                <a:srgbClr val="64764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朱祺 赵桂芝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开 发</a:t>
            </a:r>
            <a:endParaRPr b="0" lang="en-US" sz="3600" spc="-1" strike="noStrike">
              <a:solidFill>
                <a:srgbClr val="64764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 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2017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年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8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月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日</a:t>
            </a:r>
            <a:endParaRPr b="0" lang="en-US" sz="36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15760" y="447480"/>
            <a:ext cx="31971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69d59"/>
                </a:solidFill>
                <a:latin typeface="Arial"/>
              </a:rPr>
              <a:t>猜猜我是谁？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pic>
        <p:nvPicPr>
          <p:cNvPr id="1860" name="图片占位符 4" descr=""/>
          <p:cNvPicPr/>
          <p:nvPr/>
        </p:nvPicPr>
        <p:blipFill>
          <a:blip r:embed="rId1"/>
          <a:srcRect l="341" t="0" r="341" b="0"/>
          <a:stretch/>
        </p:blipFill>
        <p:spPr>
          <a:xfrm>
            <a:off x="4386240" y="627120"/>
            <a:ext cx="4478400" cy="4478400"/>
          </a:xfrm>
          <a:prstGeom prst="rect">
            <a:avLst/>
          </a:prstGeom>
          <a:ln w="0">
            <a:noFill/>
          </a:ln>
        </p:spPr>
      </p:pic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630360" y="1763640"/>
            <a:ext cx="319536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头戴红缨帽，身穿小绿袍；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学习人说话，小嘴真乖巧。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钩钩嘴儿巧，身穿彩色袍，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鸟类里面找，学舌逗人笑。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62" name="文本框 7"/>
          <p:cNvSpPr/>
          <p:nvPr/>
        </p:nvSpPr>
        <p:spPr>
          <a:xfrm>
            <a:off x="1200240" y="5029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谜底：（鹦鹉）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 txBox="1"/>
          <p:nvPr/>
        </p:nvSpPr>
        <p:spPr>
          <a:xfrm>
            <a:off x="739440" y="1200240"/>
            <a:ext cx="2554200" cy="2527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学习人说话”</a:t>
            </a: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学舌逗人笑”</a:t>
            </a: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</p:txBody>
      </p:sp>
      <p:pic>
        <p:nvPicPr>
          <p:cNvPr id="1864" name="图片 4" descr=""/>
          <p:cNvPicPr/>
          <p:nvPr/>
        </p:nvPicPr>
        <p:blipFill>
          <a:blip r:embed="rId1"/>
          <a:stretch/>
        </p:blipFill>
        <p:spPr>
          <a:xfrm>
            <a:off x="6480000" y="2739960"/>
            <a:ext cx="1860840" cy="1860480"/>
          </a:xfrm>
          <a:prstGeom prst="rect">
            <a:avLst/>
          </a:prstGeom>
          <a:ln w="0">
            <a:noFill/>
          </a:ln>
        </p:spPr>
      </p:pic>
      <p:sp>
        <p:nvSpPr>
          <p:cNvPr id="1865" name="思想气泡: 云 5"/>
          <p:cNvSpPr/>
          <p:nvPr/>
        </p:nvSpPr>
        <p:spPr>
          <a:xfrm>
            <a:off x="3564000" y="969840"/>
            <a:ext cx="3643200" cy="1576440"/>
          </a:xfrm>
          <a:prstGeom prst="cloudCallout">
            <a:avLst>
              <a:gd name="adj1" fmla="val 51282"/>
              <a:gd name="adj2" fmla="val 87615"/>
            </a:avLst>
          </a:prstGeom>
          <a:solidFill>
            <a:srgbClr val="ffffff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是怎么猜出来的？</a:t>
            </a: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66" name="思想气泡: 云 6"/>
          <p:cNvSpPr/>
          <p:nvPr/>
        </p:nvSpPr>
        <p:spPr>
          <a:xfrm>
            <a:off x="2336760" y="4297320"/>
            <a:ext cx="3456000" cy="1511280"/>
          </a:xfrm>
          <a:prstGeom prst="cloudCallout">
            <a:avLst>
              <a:gd name="adj1" fmla="val 80351"/>
              <a:gd name="adj2" fmla="val -52037"/>
            </a:avLst>
          </a:prstGeom>
          <a:solidFill>
            <a:srgbClr val="ffffff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有趣吗？</a:t>
            </a: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pic>
        <p:nvPicPr>
          <p:cNvPr id="1868" name="内容占位符 9" descr=""/>
          <p:cNvPicPr/>
          <p:nvPr/>
        </p:nvPicPr>
        <p:blipFill>
          <a:blip r:embed="rId1"/>
          <a:stretch/>
        </p:blipFill>
        <p:spPr>
          <a:xfrm>
            <a:off x="3419640" y="1417680"/>
            <a:ext cx="4886280" cy="3892680"/>
          </a:xfrm>
          <a:prstGeom prst="rect">
            <a:avLst/>
          </a:prstGeom>
          <a:ln w="0">
            <a:noFill/>
          </a:ln>
        </p:spPr>
      </p:pic>
      <p:sp>
        <p:nvSpPr>
          <p:cNvPr id="1869" name="文本框 11"/>
          <p:cNvSpPr/>
          <p:nvPr/>
        </p:nvSpPr>
        <p:spPr>
          <a:xfrm>
            <a:off x="244440" y="1792440"/>
            <a:ext cx="39625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黑体"/>
              </a:rPr>
              <a:t>你对我的介绍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黑体"/>
              </a:rPr>
              <a:t>还满意吗？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85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pic>
        <p:nvPicPr>
          <p:cNvPr id="1871" name="内容占位符 9" descr=""/>
          <p:cNvPicPr/>
          <p:nvPr/>
        </p:nvPicPr>
        <p:blipFill>
          <a:blip r:embed="rId1"/>
          <a:stretch/>
        </p:blipFill>
        <p:spPr>
          <a:xfrm>
            <a:off x="3419640" y="1417680"/>
            <a:ext cx="4886280" cy="3892680"/>
          </a:xfrm>
          <a:prstGeom prst="rect">
            <a:avLst/>
          </a:prstGeom>
          <a:ln w="0">
            <a:noFill/>
          </a:ln>
        </p:spPr>
      </p:pic>
      <p:sp>
        <p:nvSpPr>
          <p:cNvPr id="1872" name="文本框 11"/>
          <p:cNvSpPr/>
          <p:nvPr/>
        </p:nvSpPr>
        <p:spPr>
          <a:xfrm>
            <a:off x="244440" y="1792440"/>
            <a:ext cx="39625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黑体"/>
              </a:rPr>
              <a:t>谁也能试一试？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文本框 22"/>
          <p:cNvSpPr/>
          <p:nvPr/>
        </p:nvSpPr>
        <p:spPr>
          <a:xfrm>
            <a:off x="630360" y="341280"/>
            <a:ext cx="78832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69d59"/>
                </a:solidFill>
                <a:latin typeface="Arial"/>
              </a:rPr>
              <a:t>我是小小讲解员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874" name="图片 23" descr=""/>
          <p:cNvPicPr/>
          <p:nvPr/>
        </p:nvPicPr>
        <p:blipFill>
          <a:blip r:embed="rId1"/>
          <a:stretch/>
        </p:blipFill>
        <p:spPr>
          <a:xfrm>
            <a:off x="773280" y="1314360"/>
            <a:ext cx="7597440" cy="4280040"/>
          </a:xfrm>
          <a:prstGeom prst="rect">
            <a:avLst/>
          </a:prstGeom>
          <a:ln w="0">
            <a:noFill/>
          </a:ln>
        </p:spPr>
      </p:pic>
      <p:sp>
        <p:nvSpPr>
          <p:cNvPr id="1875" name="文本框 24"/>
          <p:cNvSpPr/>
          <p:nvPr/>
        </p:nvSpPr>
        <p:spPr>
          <a:xfrm>
            <a:off x="630360" y="5753160"/>
            <a:ext cx="7883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1f1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1f1f1f"/>
                </a:solidFill>
                <a:latin typeface="Arial"/>
              </a:rPr>
              <a:t>小朋友，你能为游客介绍大象吗？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6" name="内容占位符 4" descr=""/>
          <p:cNvPicPr/>
          <p:nvPr/>
        </p:nvPicPr>
        <p:blipFill>
          <a:blip r:embed="rId1"/>
          <a:stretch/>
        </p:blipFill>
        <p:spPr>
          <a:xfrm>
            <a:off x="163440" y="182520"/>
            <a:ext cx="4286160" cy="2724120"/>
          </a:xfrm>
          <a:prstGeom prst="rect">
            <a:avLst/>
          </a:prstGeom>
          <a:ln w="0">
            <a:noFill/>
          </a:ln>
        </p:spPr>
      </p:pic>
      <p:pic>
        <p:nvPicPr>
          <p:cNvPr id="1877" name="图片 6" descr=""/>
          <p:cNvPicPr/>
          <p:nvPr/>
        </p:nvPicPr>
        <p:blipFill>
          <a:blip r:embed="rId2"/>
          <a:stretch/>
        </p:blipFill>
        <p:spPr>
          <a:xfrm>
            <a:off x="4626000" y="182520"/>
            <a:ext cx="4338720" cy="2724120"/>
          </a:xfrm>
          <a:prstGeom prst="rect">
            <a:avLst/>
          </a:prstGeom>
          <a:ln w="0">
            <a:noFill/>
          </a:ln>
        </p:spPr>
      </p:pic>
      <p:pic>
        <p:nvPicPr>
          <p:cNvPr id="1878" name="图片 10" descr=""/>
          <p:cNvPicPr/>
          <p:nvPr/>
        </p:nvPicPr>
        <p:blipFill>
          <a:blip r:embed="rId3"/>
          <a:stretch/>
        </p:blipFill>
        <p:spPr>
          <a:xfrm>
            <a:off x="0" y="2992320"/>
            <a:ext cx="4449600" cy="3235320"/>
          </a:xfrm>
          <a:prstGeom prst="rect">
            <a:avLst/>
          </a:prstGeom>
          <a:ln w="0">
            <a:noFill/>
          </a:ln>
        </p:spPr>
      </p:pic>
      <p:pic>
        <p:nvPicPr>
          <p:cNvPr id="1879" name="图片 12" descr=""/>
          <p:cNvPicPr/>
          <p:nvPr/>
        </p:nvPicPr>
        <p:blipFill>
          <a:blip r:embed="rId4"/>
          <a:stretch/>
        </p:blipFill>
        <p:spPr>
          <a:xfrm>
            <a:off x="4626000" y="2992320"/>
            <a:ext cx="4338720" cy="323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0" name="图片 5" descr=""/>
          <p:cNvPicPr/>
          <p:nvPr/>
        </p:nvPicPr>
        <p:blipFill>
          <a:blip r:embed="rId1"/>
          <a:stretch/>
        </p:blipFill>
        <p:spPr>
          <a:xfrm>
            <a:off x="457200" y="2779560"/>
            <a:ext cx="2835360" cy="2297160"/>
          </a:xfrm>
          <a:prstGeom prst="rect">
            <a:avLst/>
          </a:prstGeom>
          <a:ln w="0">
            <a:noFill/>
          </a:ln>
        </p:spPr>
      </p:pic>
      <p:sp>
        <p:nvSpPr>
          <p:cNvPr id="1881" name="思想气泡: 云 6"/>
          <p:cNvSpPr/>
          <p:nvPr/>
        </p:nvSpPr>
        <p:spPr>
          <a:xfrm>
            <a:off x="4413240" y="1849320"/>
            <a:ext cx="4141800" cy="2478240"/>
          </a:xfrm>
          <a:prstGeom prst="cloudCallout">
            <a:avLst>
              <a:gd name="adj1" fmla="val -77333"/>
              <a:gd name="adj2" fmla="val 29638"/>
            </a:avLst>
          </a:prstGeom>
          <a:noFill/>
          <a:ln w="12600">
            <a:solidFill>
              <a:srgbClr val="61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黑体"/>
              </a:rPr>
              <a:t>来到新班级，可以怎样介绍自己？谁来试一试？</a:t>
            </a: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思想气泡: 云 6"/>
          <p:cNvSpPr/>
          <p:nvPr/>
        </p:nvSpPr>
        <p:spPr>
          <a:xfrm rot="21420000">
            <a:off x="4465440" y="1464840"/>
            <a:ext cx="3606480" cy="2719440"/>
          </a:xfrm>
          <a:prstGeom prst="cloudCallout">
            <a:avLst>
              <a:gd name="adj1" fmla="val -69361"/>
              <a:gd name="adj2" fmla="val 37490"/>
            </a:avLst>
          </a:prstGeom>
          <a:noFill/>
          <a:ln w="12600">
            <a:solidFill>
              <a:srgbClr val="61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你能夸一夸身边的同学们吗？</a:t>
            </a: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83" name="文本框 1"/>
          <p:cNvSpPr/>
          <p:nvPr/>
        </p:nvSpPr>
        <p:spPr>
          <a:xfrm>
            <a:off x="165240" y="482760"/>
            <a:ext cx="54356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884" name="图片 5" descr=""/>
          <p:cNvPicPr/>
          <p:nvPr/>
        </p:nvPicPr>
        <p:blipFill>
          <a:blip r:embed="rId1"/>
          <a:stretch/>
        </p:blipFill>
        <p:spPr>
          <a:xfrm>
            <a:off x="757080" y="2909880"/>
            <a:ext cx="2833920" cy="2295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7T14:35:00Z</dcterms:created>
  <dc:creator>盛zhe</dc:creator>
  <dc:description/>
  <dc:language>en-US</dc:language>
  <cp:lastModifiedBy>_</cp:lastModifiedBy>
  <dcterms:modified xsi:type="dcterms:W3CDTF">2017-08-21T03:40:16Z</dcterms:modified>
  <cp:revision>15</cp:revision>
  <dc:subject/>
  <dc:title>板块一、猜谜游戏：猜猜我是谁？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