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3DC-CA50-4110-A6C2-D78BF8CE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3CF-969A-4A93-86F4-9DD4D3B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5DF2C-D8FC-4CDF-8BF2-81DF0C85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67AB8-C57A-41F2-8488-ABFCBE48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907B1-3190-44A9-8DA0-3658A9DA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4A04D-84DE-4F5E-B41D-E8223490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52D6D-4DEB-4939-BED2-877594F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80E0F-424D-49F0-9B73-E79A7E4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1585A-F6BE-45BA-B208-7AFF4159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2A1B5-D5A4-4345-87A7-80CCFAFC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0EF9B-0C39-4B47-B9AA-A37D0438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932-1F9E-4984-BE43-EABF189C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B6A-D397-4FD9-908C-C1C483F1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A7BE-5B3F-48C3-A829-3CBBDF30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43C3-8C1E-4E8C-A573-88CDCAE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C278-9F02-41E6-A754-D16E6796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F8FC-9957-4B06-B9E6-F6A242AD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45E-294B-4053-B8E2-AD76309B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D1D-5396-4789-8824-432ED83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C074-274F-496D-BBDB-34031A6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9C7-2DDA-4327-8259-3B58649E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100E-F7BC-4473-BE7F-6279F99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1767-F624-489B-9A1F-43FDDD6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6671-0F41-44E0-AB1D-0316343F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CCA9-D530-4335-AC4E-7D5B72C4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597B-E20C-441D-B969-18CC154F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4BF9-AC01-4379-A94F-F14E0C96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5A5A-7BE8-4407-B31E-8F567FD4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1A17-2BB8-4888-A9B7-85CD5839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46CD-AD3F-44E4-A557-65915FA4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028F-7C71-4B8D-851F-259C374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22B-FA1F-4559-9FCC-3BBE235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FFCA-C35B-4C9C-9857-52100EE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2D06-5505-426D-BB6C-A75B699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369B-FFB7-4DEB-BB5F-60A45DC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24DD-8405-44A1-AFFA-7BBB7E9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6D58-5815-4833-9553-6BEA548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865A-0AEC-4F79-9DC2-3688053F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BE53-7430-4233-9C12-DD71115B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C737-D6AA-4C5C-9C72-AD0F3139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4CCF-CBEA-42CD-8022-BCEB787E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7F247-670C-4B8F-BBCF-12D99766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8D3-63F9-4832-A4ED-0CB3AA0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BF48-4F0E-4E7B-B9D2-4589BE0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0A6F-625C-416C-BF76-C655C71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1DDDD-A577-4A1E-85E0-3B23127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7F43-3187-4B98-87AD-5F74FEBE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7BB2-8BF7-4409-BF39-C5BF953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B8DE-8531-49F5-B751-84B26F3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9AB75-3CCD-4FD7-B559-15273D51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D9DE-1C30-4187-B941-7E337DCF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A28D-2AC8-43AD-84BB-572D1481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C1EA-97DA-4446-B742-9A5011CC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A53-BF46-42C1-B737-2CD0ED79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DE12-AB1B-4827-9A5B-8556146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C48A4-F6AA-4741-A731-81697CE9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7669-3371-4AFD-AD0F-97293F46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A226-DB8D-425A-9457-B150499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4F738-2BBF-4759-AB4A-94F60E7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C45B-ABBD-495C-AD3A-A113482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199F-BDD8-4D5D-8785-4C427871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BE35-BE12-4590-B91D-18C81C1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C988-E2AD-4BBE-9A0E-05195B43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9E2D0-FD9F-428E-9E7D-5C5CC5DA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8DD-5C5D-4B0A-84A0-BE2B8CE3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CACAE-A18F-4C26-B975-4ECAAAD1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D016-C8CB-4B53-B461-3FD30D94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B14F6-F570-4C6F-8CE9-85F14B9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FCD3A-41CE-4C19-A437-6A2B9AE8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0D13-F25F-4D8D-9878-8E8621FD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E4A3-C1CF-4346-9BAD-1BB7B907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9248-37D2-4109-BD32-247F4A2F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8330-F785-416A-9E73-C6AF68E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EBE0-264A-4E61-AD4F-5F7D3CE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3A7E-18F0-43A8-9FAD-BEF6133C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13B-5233-46F3-9C16-975F2F9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164B-37C9-4C0E-8B8E-5DF8D4A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8753-493D-42A0-8FF7-27AA888E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73EE-0615-4202-BC41-EC074430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304F4-4DA8-4477-B798-FBCEC2AB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68B1-83B5-4A0C-92AA-78EA9418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83E83-F2B8-42EE-A174-8E11CBD9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1A0DA-07EB-4A43-9001-C4DD22A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1F3F-852C-43FB-A099-366D1FCD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E6C8E-EE78-4BD4-90EA-6F3C2958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EEB5A-8B14-404E-AB60-3F94233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096-C852-447A-AB52-CD0A53F4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FAEF-7C06-4909-83AE-5CA47BB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CF40-3634-4022-89F7-3EDE0AC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D3C49-28E0-489C-9060-C3E7E848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193F0-D3B4-4684-8FB5-40266748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377E4-C0C0-45B9-91BD-184D12FE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95321-DD18-4178-A115-C1CFC441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E27C8-AC7D-4F2E-8C53-1CAC5AAE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1C30-9D63-42DE-BAB2-7DCDC01B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2E4D-F5AF-4A57-8B9E-3EC8674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C36CF-1725-4E0D-8CE8-CD7D32D3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651-FB99-4C2E-9C39-C00ED21D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F5521-80E2-44E5-BF5E-3C78E01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D1564-F814-48A6-9773-C8CAFAD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E9FC3-3440-4442-A790-528DEFF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B80E-D08D-4EC1-9DAA-C62BC27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6BC3C-1BFB-42A9-B195-DF47F67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6D31C-0EC2-4910-BDA3-6EE1BFF7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DAF0-38C1-481B-BD68-043AB762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73E56-6BDB-4CA9-892E-71D2BC35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64158-8B40-4CF9-B834-F88F3C68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DC3F7-044F-4A3A-B4DA-8518AEC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F76F-A48B-4F8D-A117-B5B4DEE3FF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7"/>
          <p:cNvSpPr/>
          <p:nvPr/>
        </p:nvSpPr>
        <p:spPr>
          <a:xfrm rot="5400000">
            <a:off x="4494240" y="-838080"/>
            <a:ext cx="3200400" cy="12191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2191760"/>
              <a:gd name="textAreaBottom" fmla="*/ 12192120 h 1219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3"/>
          <p:cNvSpPr/>
          <p:nvPr/>
        </p:nvSpPr>
        <p:spPr>
          <a:xfrm>
            <a:off x="0" y="0"/>
            <a:ext cx="12192120" cy="4381560"/>
          </a:xfrm>
          <a:custGeom>
            <a:avLst/>
            <a:gdLst/>
            <a:ahLst/>
            <a:rect l="l" t="t" r="r" b="b"/>
            <a:pathLst>
              <a:path w="12192000" h="5044965">
                <a:moveTo>
                  <a:pt x="0" y="0"/>
                </a:moveTo>
                <a:lnTo>
                  <a:pt x="12192000" y="0"/>
                </a:lnTo>
                <a:lnTo>
                  <a:pt x="12192000" y="4210775"/>
                </a:lnTo>
                <a:lnTo>
                  <a:pt x="6132786" y="5044965"/>
                </a:lnTo>
                <a:lnTo>
                  <a:pt x="0" y="421077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5"/>
          <p:cNvSpPr/>
          <p:nvPr/>
        </p:nvSpPr>
        <p:spPr>
          <a:xfrm>
            <a:off x="6095880" y="0"/>
            <a:ext cx="6096240" cy="4572000"/>
          </a:xfrm>
          <a:custGeom>
            <a:avLst/>
            <a:gdLst/>
            <a:ahLst/>
            <a:rect l="l" t="t" r="r" b="b"/>
            <a:pathLst>
              <a:path w="6096000" h="4572001">
                <a:moveTo>
                  <a:pt x="0" y="0"/>
                </a:moveTo>
                <a:lnTo>
                  <a:pt x="6096000" y="0"/>
                </a:lnTo>
                <a:lnTo>
                  <a:pt x="6096000" y="3846788"/>
                </a:lnTo>
                <a:lnTo>
                  <a:pt x="0" y="457200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组合 10" descr=""/>
          <p:cNvPicPr/>
          <p:nvPr/>
        </p:nvPicPr>
        <p:blipFill>
          <a:blip r:embed="rId4"/>
          <a:stretch/>
        </p:blipFill>
        <p:spPr>
          <a:xfrm>
            <a:off x="1847880" y="4797360"/>
            <a:ext cx="663480" cy="65880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7" descr=""/>
          <p:cNvPicPr/>
          <p:nvPr/>
        </p:nvPicPr>
        <p:blipFill>
          <a:blip r:embed="rId5"/>
          <a:stretch/>
        </p:blipFill>
        <p:spPr>
          <a:xfrm>
            <a:off x="8180280" y="4780080"/>
            <a:ext cx="658800" cy="657000"/>
          </a:xfrm>
          <a:prstGeom prst="rect">
            <a:avLst/>
          </a:prstGeom>
          <a:ln w="0">
            <a:noFill/>
          </a:ln>
        </p:spPr>
      </p:pic>
      <p:pic>
        <p:nvPicPr>
          <p:cNvPr id="48" name="组合 22" descr=""/>
          <p:cNvPicPr/>
          <p:nvPr/>
        </p:nvPicPr>
        <p:blipFill>
          <a:blip r:embed="rId6"/>
          <a:stretch/>
        </p:blipFill>
        <p:spPr>
          <a:xfrm>
            <a:off x="4645080" y="4797360"/>
            <a:ext cx="658800" cy="665280"/>
          </a:xfrm>
          <a:prstGeom prst="rect">
            <a:avLst/>
          </a:prstGeom>
          <a:ln w="0">
            <a:noFill/>
          </a:ln>
        </p:spPr>
      </p:pic>
      <p:sp>
        <p:nvSpPr>
          <p:cNvPr id="49" name="燕尾形 30"/>
          <p:cNvSpPr/>
          <p:nvPr/>
        </p:nvSpPr>
        <p:spPr>
          <a:xfrm rot="5400000">
            <a:off x="5638320" y="-1981080"/>
            <a:ext cx="914400" cy="1219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2120"/>
              <a:gd name="textAreaBottom" fmla="*/ 12192480 h 121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69" y="0"/>
                </a:lnTo>
                <a:lnTo>
                  <a:pt x="21600" y="10800"/>
                </a:lnTo>
                <a:lnTo>
                  <a:pt x="4969" y="21600"/>
                </a:lnTo>
                <a:lnTo>
                  <a:pt x="0" y="21600"/>
                </a:lnTo>
                <a:lnTo>
                  <a:pt x="16631" y="108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943-37F7-4F35-85AA-D49B7DB942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A3F5-D545-4C97-A8F4-8998F00128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263520" y="2465280"/>
            <a:ext cx="914400" cy="1927440"/>
            <a:chOff x="263520" y="2465280"/>
            <a:chExt cx="914400" cy="1927440"/>
          </a:xfrm>
        </p:grpSpPr>
        <p:sp>
          <p:nvSpPr>
            <p:cNvPr id="139" name="矩形 8"/>
            <p:cNvSpPr/>
            <p:nvPr/>
          </p:nvSpPr>
          <p:spPr>
            <a:xfrm>
              <a:off x="263520" y="2465280"/>
              <a:ext cx="1252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9"/>
            <p:cNvSpPr/>
            <p:nvPr/>
          </p:nvSpPr>
          <p:spPr>
            <a:xfrm>
              <a:off x="444240" y="2465280"/>
              <a:ext cx="7336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3"/>
            <p:cNvGrpSpPr/>
            <p:nvPr/>
          </p:nvGrpSpPr>
          <p:grpSpPr>
            <a:xfrm>
              <a:off x="557640" y="2664000"/>
              <a:ext cx="482760" cy="654840"/>
              <a:chOff x="557640" y="2664000"/>
              <a:chExt cx="482760" cy="654840"/>
            </a:xfrm>
          </p:grpSpPr>
          <p:sp>
            <p:nvSpPr>
              <p:cNvPr id="142" name="KSO_Shape"/>
              <p:cNvSpPr/>
              <p:nvPr/>
            </p:nvSpPr>
            <p:spPr>
              <a:xfrm>
                <a:off x="633600" y="2664000"/>
                <a:ext cx="374760" cy="572400"/>
              </a:xfrm>
              <a:custGeom>
                <a:avLst/>
                <a:gdLst/>
                <a:ahLst/>
                <a:rect l="l" t="t" r="r" b="b"/>
                <a:pathLst>
                  <a:path w="791665" h="1206638">
                    <a:moveTo>
                      <a:pt x="395833" y="194422"/>
                    </a:moveTo>
                    <a:cubicBezTo>
                      <a:pt x="284597" y="194422"/>
                      <a:pt x="194422" y="284596"/>
                      <a:pt x="194422" y="395833"/>
                    </a:cubicBezTo>
                    <a:cubicBezTo>
                      <a:pt x="194422" y="507069"/>
                      <a:pt x="284597" y="597244"/>
                      <a:pt x="395833" y="597244"/>
                    </a:cubicBezTo>
                    <a:cubicBezTo>
                      <a:pt x="507070" y="597244"/>
                      <a:pt x="597244" y="507069"/>
                      <a:pt x="597244" y="395833"/>
                    </a:cubicBezTo>
                    <a:cubicBezTo>
                      <a:pt x="597244" y="284596"/>
                      <a:pt x="507070" y="194422"/>
                      <a:pt x="395833" y="194422"/>
                    </a:cubicBezTo>
                    <a:close/>
                    <a:moveTo>
                      <a:pt x="395833" y="0"/>
                    </a:moveTo>
                    <a:cubicBezTo>
                      <a:pt x="497135" y="-1"/>
                      <a:pt x="598438" y="38646"/>
                      <a:pt x="675729" y="115937"/>
                    </a:cubicBezTo>
                    <a:cubicBezTo>
                      <a:pt x="830312" y="270519"/>
                      <a:pt x="830312" y="521146"/>
                      <a:pt x="675729" y="675729"/>
                    </a:cubicBezTo>
                    <a:lnTo>
                      <a:pt x="374888" y="1206638"/>
                    </a:lnTo>
                    <a:cubicBezTo>
                      <a:pt x="281589" y="1113339"/>
                      <a:pt x="209236" y="769028"/>
                      <a:pt x="115937" y="675729"/>
                    </a:cubicBezTo>
                    <a:cubicBezTo>
                      <a:pt x="-38646" y="521146"/>
                      <a:pt x="-38646" y="270519"/>
                      <a:pt x="115937" y="115937"/>
                    </a:cubicBezTo>
                    <a:cubicBezTo>
                      <a:pt x="193228" y="38646"/>
                      <a:pt x="294531" y="-1"/>
                      <a:pt x="3958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2"/>
              <p:cNvSpPr/>
              <p:nvPr/>
            </p:nvSpPr>
            <p:spPr>
              <a:xfrm>
                <a:off x="557640" y="3236400"/>
                <a:ext cx="48276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DF3-743C-4087-AB2B-A5712AF25C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65C4-E699-43DC-9992-D0D85B4196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121856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燕尾形 8"/>
          <p:cNvSpPr/>
          <p:nvPr/>
        </p:nvSpPr>
        <p:spPr>
          <a:xfrm>
            <a:off x="1936800" y="0"/>
            <a:ext cx="9402840" cy="6858000"/>
          </a:xfrm>
          <a:custGeom>
            <a:avLst/>
            <a:gdLst>
              <a:gd name="textAreaLeft" fmla="*/ 0 w 9402840"/>
              <a:gd name="textAreaRight" fmla="*/ 9403200 w 940284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30" y="0"/>
                </a:lnTo>
                <a:lnTo>
                  <a:pt x="21600" y="10800"/>
                </a:lnTo>
                <a:lnTo>
                  <a:pt x="14130" y="21600"/>
                </a:lnTo>
                <a:lnTo>
                  <a:pt x="0" y="21600"/>
                </a:lnTo>
                <a:lnTo>
                  <a:pt x="7470" y="10800"/>
                </a:lnTo>
                <a:close/>
              </a:path>
            </a:pathLst>
          </a:custGeom>
          <a:solidFill>
            <a:srgbClr val="99cc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9"/>
          <p:cNvSpPr/>
          <p:nvPr/>
        </p:nvSpPr>
        <p:spPr>
          <a:xfrm>
            <a:off x="824400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10"/>
          <p:cNvSpPr/>
          <p:nvPr/>
        </p:nvSpPr>
        <p:spPr>
          <a:xfrm>
            <a:off x="115092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E69-8F5E-4B8D-B075-080F64D0A2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568E-8B15-4C2C-AF10-6C2A506DE5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DB2-0C34-4758-A945-AFDBFACBC8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F8AB-BEF6-4776-8FE1-D0991256CB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4"/>
          <p:cNvSpPr txBox="1"/>
          <p:nvPr/>
        </p:nvSpPr>
        <p:spPr>
          <a:xfrm>
            <a:off x="3359160" y="16938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快乐读书吧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61880" y="22536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90920" y="3328920"/>
            <a:ext cx="7011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李萍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jr06"/>
          <p:cNvPicPr/>
          <p:nvPr/>
        </p:nvPicPr>
        <p:blipFill>
          <a:blip r:embed="rId1"/>
          <a:stretch/>
        </p:blipFill>
        <p:spPr>
          <a:xfrm>
            <a:off x="152388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istrator\桌面\09.jpg"/>
          <p:cNvPicPr/>
          <p:nvPr/>
        </p:nvPicPr>
        <p:blipFill>
          <a:blip r:embed="rId2"/>
          <a:stretch/>
        </p:blipFill>
        <p:spPr>
          <a:xfrm>
            <a:off x="1776240" y="4578480"/>
            <a:ext cx="8568000" cy="19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18"/>
          <p:cNvSpPr/>
          <p:nvPr/>
        </p:nvSpPr>
        <p:spPr>
          <a:xfrm>
            <a:off x="534960" y="219240"/>
            <a:ext cx="3745080" cy="2349360"/>
          </a:xfrm>
          <a:prstGeom prst="cloudCallout">
            <a:avLst>
              <a:gd name="adj1" fmla="val 86675"/>
              <a:gd name="adj2" fmla="val 53254"/>
            </a:avLst>
          </a:prstGeom>
          <a:solidFill>
            <a:srgbClr val="ccffcc">
              <a:alpha val="30000"/>
            </a:srgbClr>
          </a:solidFill>
          <a:ln cap="rnd" w="93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766960" y="3025800"/>
            <a:ext cx="7456680" cy="3340080"/>
          </a:xfrm>
          <a:prstGeom prst="rect">
            <a:avLst/>
          </a:prstGeom>
          <a:ln w="47520">
            <a:solidFill>
              <a:srgbClr val="00b050"/>
            </a:solidFill>
            <a:miter/>
          </a:ln>
        </p:spPr>
      </p:pic>
      <p:sp>
        <p:nvSpPr>
          <p:cNvPr id="419" name="TextBox 1"/>
          <p:cNvSpPr/>
          <p:nvPr/>
        </p:nvSpPr>
        <p:spPr>
          <a:xfrm>
            <a:off x="946080" y="1074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们分别叫什么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2895480" y="3025800"/>
            <a:ext cx="1884600" cy="146988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41"/>
          <p:cNvGrpSpPr/>
          <p:nvPr/>
        </p:nvGrpSpPr>
        <p:grpSpPr>
          <a:xfrm>
            <a:off x="8710560" y="3301920"/>
            <a:ext cx="1513080" cy="549360"/>
            <a:chOff x="8710560" y="3301920"/>
            <a:chExt cx="1513080" cy="549360"/>
          </a:xfrm>
        </p:grpSpPr>
        <p:sp>
          <p:nvSpPr>
            <p:cNvPr id="422" name="AutoShape 42"/>
            <p:cNvSpPr/>
            <p:nvPr/>
          </p:nvSpPr>
          <p:spPr>
            <a:xfrm>
              <a:off x="8710560" y="3301920"/>
              <a:ext cx="1513080" cy="5493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3"/>
            <p:cNvSpPr/>
            <p:nvPr/>
          </p:nvSpPr>
          <p:spPr>
            <a:xfrm>
              <a:off x="8750880" y="3316680"/>
              <a:ext cx="14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高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8"/>
          <p:cNvGrpSpPr/>
          <p:nvPr/>
        </p:nvGrpSpPr>
        <p:grpSpPr>
          <a:xfrm>
            <a:off x="1171440" y="371520"/>
            <a:ext cx="5472000" cy="647640"/>
            <a:chOff x="1171440" y="371520"/>
            <a:chExt cx="5472000" cy="647640"/>
          </a:xfrm>
        </p:grpSpPr>
        <p:sp>
          <p:nvSpPr>
            <p:cNvPr id="425" name="AutoShape 6"/>
            <p:cNvSpPr/>
            <p:nvPr/>
          </p:nvSpPr>
          <p:spPr>
            <a:xfrm>
              <a:off x="1171440" y="371520"/>
              <a:ext cx="547200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1315800" y="37152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听故事，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11"/>
          <p:cNvSpPr/>
          <p:nvPr/>
        </p:nvSpPr>
        <p:spPr>
          <a:xfrm>
            <a:off x="679320" y="1658880"/>
            <a:ext cx="35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没头脑” 赶紧找回了书包，可是又发生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7335720" y="15098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不高兴”站在墙头耍杂技 ，老师赶紧喊他下来，他会怎么回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021440" y="1219320"/>
            <a:ext cx="4260960" cy="209052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434880" y="1523880"/>
            <a:ext cx="4075200" cy="16430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2857680" y="4033800"/>
            <a:ext cx="5614920" cy="24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6"/>
          <p:cNvGrpSpPr/>
          <p:nvPr/>
        </p:nvGrpSpPr>
        <p:grpSpPr>
          <a:xfrm>
            <a:off x="396720" y="925560"/>
            <a:ext cx="4247640" cy="1252080"/>
            <a:chOff x="396720" y="925560"/>
            <a:chExt cx="4247640" cy="1252080"/>
          </a:xfrm>
        </p:grpSpPr>
        <p:sp>
          <p:nvSpPr>
            <p:cNvPr id="433" name="AutoShape 12"/>
            <p:cNvSpPr/>
            <p:nvPr/>
          </p:nvSpPr>
          <p:spPr>
            <a:xfrm>
              <a:off x="396720" y="925560"/>
              <a:ext cx="4247640" cy="125208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611640" y="1071720"/>
              <a:ext cx="40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为什么他们的名字叫“没头脑”和“不高兴”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1" descr="C:\Documents and Settings\Administrator\Application Data\Tencent\Users\2399319046\QQ\WinTemp\RichOle\F5H(@N0~VBG1V~LGIF]4W[K.png"/>
          <p:cNvPicPr/>
          <p:nvPr/>
        </p:nvPicPr>
        <p:blipFill>
          <a:blip r:embed="rId1"/>
          <a:stretch/>
        </p:blipFill>
        <p:spPr>
          <a:xfrm>
            <a:off x="5165640" y="1582560"/>
            <a:ext cx="6121440" cy="4686480"/>
          </a:xfrm>
          <a:prstGeom prst="rect">
            <a:avLst/>
          </a:prstGeom>
          <a:ln w="66600">
            <a:solidFill>
              <a:srgbClr val="41719c"/>
            </a:solidFill>
            <a:miter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8"/>
          <p:cNvGrpSpPr/>
          <p:nvPr/>
        </p:nvGrpSpPr>
        <p:grpSpPr>
          <a:xfrm>
            <a:off x="1235160" y="284040"/>
            <a:ext cx="5679720" cy="647640"/>
            <a:chOff x="1235160" y="284040"/>
            <a:chExt cx="5679720" cy="647640"/>
          </a:xfrm>
        </p:grpSpPr>
        <p:sp>
          <p:nvSpPr>
            <p:cNvPr id="437" name="AutoShape 6"/>
            <p:cNvSpPr/>
            <p:nvPr/>
          </p:nvSpPr>
          <p:spPr>
            <a:xfrm>
              <a:off x="1236960" y="284040"/>
              <a:ext cx="56779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235160" y="284040"/>
              <a:ext cx="56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读名字，再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8"/>
          <p:cNvSpPr/>
          <p:nvPr/>
        </p:nvSpPr>
        <p:spPr>
          <a:xfrm>
            <a:off x="5362560" y="1441440"/>
            <a:ext cx="33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它叫什么名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5256360" y="1162080"/>
            <a:ext cx="3644640" cy="1247760"/>
          </a:xfrm>
          <a:prstGeom prst="wedgeRoundRectCallout">
            <a:avLst>
              <a:gd name="adj1" fmla="val -46962"/>
              <a:gd name="adj2" fmla="val 124662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6" descr=""/>
          <p:cNvPicPr/>
          <p:nvPr/>
        </p:nvPicPr>
        <p:blipFill>
          <a:blip r:embed="rId1"/>
          <a:stretch/>
        </p:blipFill>
        <p:spPr>
          <a:xfrm>
            <a:off x="1407960" y="1693800"/>
            <a:ext cx="3549960" cy="4248360"/>
          </a:xfrm>
          <a:prstGeom prst="rect">
            <a:avLst/>
          </a:prstGeom>
          <a:ln w="0">
            <a:noFill/>
          </a:ln>
        </p:spPr>
      </p:pic>
      <p:grpSp>
        <p:nvGrpSpPr>
          <p:cNvPr id="442" name="组合 8"/>
          <p:cNvGrpSpPr/>
          <p:nvPr/>
        </p:nvGrpSpPr>
        <p:grpSpPr>
          <a:xfrm>
            <a:off x="7594560" y="3263760"/>
            <a:ext cx="2664000" cy="1393920"/>
            <a:chOff x="7594560" y="3263760"/>
            <a:chExt cx="2664000" cy="1393920"/>
          </a:xfrm>
        </p:grpSpPr>
        <p:sp>
          <p:nvSpPr>
            <p:cNvPr id="443" name="AutoShape 529"/>
            <p:cNvSpPr/>
            <p:nvPr/>
          </p:nvSpPr>
          <p:spPr>
            <a:xfrm>
              <a:off x="7594560" y="3263760"/>
              <a:ext cx="2664000" cy="1393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7" descr=""/>
            <p:cNvPicPr/>
            <p:nvPr/>
          </p:nvPicPr>
          <p:blipFill>
            <a:blip r:embed="rId2"/>
            <a:stretch/>
          </p:blipFill>
          <p:spPr>
            <a:xfrm>
              <a:off x="7778880" y="3577320"/>
              <a:ext cx="229536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3" descr=""/>
          <p:cNvPicPr/>
          <p:nvPr/>
        </p:nvPicPr>
        <p:blipFill>
          <a:blip r:embed="rId1"/>
          <a:stretch/>
        </p:blipFill>
        <p:spPr>
          <a:xfrm>
            <a:off x="6885000" y="463680"/>
            <a:ext cx="3986280" cy="419580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4"/>
          <p:cNvGrpSpPr/>
          <p:nvPr/>
        </p:nvGrpSpPr>
        <p:grpSpPr>
          <a:xfrm>
            <a:off x="1058760" y="4870440"/>
            <a:ext cx="4376880" cy="992160"/>
            <a:chOff x="1058760" y="4870440"/>
            <a:chExt cx="4376880" cy="992160"/>
          </a:xfrm>
        </p:grpSpPr>
        <p:sp>
          <p:nvSpPr>
            <p:cNvPr id="447" name="AutoShape 42"/>
            <p:cNvSpPr/>
            <p:nvPr/>
          </p:nvSpPr>
          <p:spPr>
            <a:xfrm>
              <a:off x="1058760" y="4870440"/>
              <a:ext cx="3284280" cy="9921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3"/>
            <p:cNvSpPr/>
            <p:nvPr/>
          </p:nvSpPr>
          <p:spPr>
            <a:xfrm>
              <a:off x="1170720" y="5046120"/>
              <a:ext cx="426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长鼻子匹诺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图片 5" descr=""/>
          <p:cNvPicPr/>
          <p:nvPr/>
        </p:nvPicPr>
        <p:blipFill>
          <a:blip r:embed="rId2"/>
          <a:stretch/>
        </p:blipFill>
        <p:spPr>
          <a:xfrm>
            <a:off x="351000" y="-9360"/>
            <a:ext cx="5708520" cy="45748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42"/>
          <p:cNvSpPr/>
          <p:nvPr/>
        </p:nvSpPr>
        <p:spPr>
          <a:xfrm>
            <a:off x="7311960" y="4870440"/>
            <a:ext cx="3132360" cy="93024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6988320" y="5045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邋遢大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8"/>
          <p:cNvGrpSpPr/>
          <p:nvPr/>
        </p:nvGrpSpPr>
        <p:grpSpPr>
          <a:xfrm>
            <a:off x="1101600" y="252360"/>
            <a:ext cx="5860800" cy="650520"/>
            <a:chOff x="1101600" y="252360"/>
            <a:chExt cx="5860800" cy="650520"/>
          </a:xfrm>
        </p:grpSpPr>
        <p:sp>
          <p:nvSpPr>
            <p:cNvPr id="453" name="AutoShape 6"/>
            <p:cNvSpPr/>
            <p:nvPr/>
          </p:nvSpPr>
          <p:spPr>
            <a:xfrm>
              <a:off x="1101600" y="252360"/>
              <a:ext cx="56905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1422000" y="260280"/>
              <a:ext cx="554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一比，学分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6"/>
          <p:cNvGrpSpPr/>
          <p:nvPr/>
        </p:nvGrpSpPr>
        <p:grpSpPr>
          <a:xfrm>
            <a:off x="291960" y="1998720"/>
            <a:ext cx="4953960" cy="1890000"/>
            <a:chOff x="291960" y="1998720"/>
            <a:chExt cx="4953960" cy="1890000"/>
          </a:xfrm>
        </p:grpSpPr>
        <p:sp>
          <p:nvSpPr>
            <p:cNvPr id="456" name="AutoShape 12"/>
            <p:cNvSpPr/>
            <p:nvPr/>
          </p:nvSpPr>
          <p:spPr>
            <a:xfrm>
              <a:off x="622800" y="1998720"/>
              <a:ext cx="4291200" cy="189000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5"/>
            <p:cNvSpPr/>
            <p:nvPr/>
          </p:nvSpPr>
          <p:spPr>
            <a:xfrm>
              <a:off x="291960" y="2451600"/>
              <a:ext cx="49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干净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8"/>
          <p:cNvGrpSpPr/>
          <p:nvPr/>
        </p:nvGrpSpPr>
        <p:grpSpPr>
          <a:xfrm>
            <a:off x="7269120" y="2111400"/>
            <a:ext cx="4579920" cy="2482920"/>
            <a:chOff x="7269120" y="2111400"/>
            <a:chExt cx="4579920" cy="2482920"/>
          </a:xfrm>
        </p:grpSpPr>
        <p:pic>
          <p:nvPicPr>
            <p:cNvPr id="459" name="Picture 2" descr=""/>
            <p:cNvPicPr/>
            <p:nvPr/>
          </p:nvPicPr>
          <p:blipFill>
            <a:blip r:embed="rId1"/>
            <a:stretch/>
          </p:blipFill>
          <p:spPr>
            <a:xfrm>
              <a:off x="7269120" y="2111400"/>
              <a:ext cx="45799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7"/>
            <p:cNvSpPr/>
            <p:nvPr/>
          </p:nvSpPr>
          <p:spPr>
            <a:xfrm>
              <a:off x="7269120" y="2465280"/>
              <a:ext cx="45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有趣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558" descr="그림1"/>
          <p:cNvPicPr/>
          <p:nvPr/>
        </p:nvPicPr>
        <p:blipFill>
          <a:blip r:embed="rId2"/>
          <a:stretch/>
        </p:blipFill>
        <p:spPr>
          <a:xfrm>
            <a:off x="4745160" y="4319640"/>
            <a:ext cx="1989000" cy="1989000"/>
          </a:xfrm>
          <a:prstGeom prst="rect">
            <a:avLst/>
          </a:prstGeom>
          <a:ln w="0">
            <a:noFill/>
          </a:ln>
        </p:spPr>
      </p:pic>
      <p:sp>
        <p:nvSpPr>
          <p:cNvPr id="462" name="Oval 563"/>
          <p:cNvSpPr/>
          <p:nvPr/>
        </p:nvSpPr>
        <p:spPr>
          <a:xfrm>
            <a:off x="4618080" y="4287960"/>
            <a:ext cx="2244600" cy="17794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60"/>
          <p:cNvSpPr txBox="1"/>
          <p:nvPr/>
        </p:nvSpPr>
        <p:spPr>
          <a:xfrm>
            <a:off x="5246640" y="4916520"/>
            <a:ext cx="10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比一比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3" descr=""/>
          <p:cNvPicPr/>
          <p:nvPr/>
        </p:nvPicPr>
        <p:blipFill>
          <a:blip r:embed="rId1"/>
          <a:stretch/>
        </p:blipFill>
        <p:spPr>
          <a:xfrm>
            <a:off x="2347920" y="3997440"/>
            <a:ext cx="7496280" cy="246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16"/>
          <p:cNvGrpSpPr/>
          <p:nvPr/>
        </p:nvGrpSpPr>
        <p:grpSpPr>
          <a:xfrm>
            <a:off x="577800" y="544680"/>
            <a:ext cx="4425120" cy="1762920"/>
            <a:chOff x="577800" y="544680"/>
            <a:chExt cx="4425120" cy="1762920"/>
          </a:xfrm>
        </p:grpSpPr>
        <p:sp>
          <p:nvSpPr>
            <p:cNvPr id="466" name="AutoShape 12"/>
            <p:cNvSpPr/>
            <p:nvPr/>
          </p:nvSpPr>
          <p:spPr>
            <a:xfrm>
              <a:off x="577800" y="544680"/>
              <a:ext cx="4264200" cy="1762920"/>
            </a:xfrm>
            <a:prstGeom prst="wedgeRoundRectCallout">
              <a:avLst>
                <a:gd name="adj1" fmla="val 48638"/>
                <a:gd name="adj2" fmla="val 89782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5"/>
            <p:cNvSpPr/>
            <p:nvPr/>
          </p:nvSpPr>
          <p:spPr>
            <a:xfrm>
              <a:off x="577800" y="878400"/>
              <a:ext cx="44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先看看封面，找找书名和作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8"/>
          <p:cNvGrpSpPr/>
          <p:nvPr/>
        </p:nvGrpSpPr>
        <p:grpSpPr>
          <a:xfrm>
            <a:off x="7542360" y="630360"/>
            <a:ext cx="4008240" cy="2604960"/>
            <a:chOff x="7542360" y="630360"/>
            <a:chExt cx="4008240" cy="2604960"/>
          </a:xfrm>
        </p:grpSpPr>
        <p:pic>
          <p:nvPicPr>
            <p:cNvPr id="469" name="Picture 2" descr=""/>
            <p:cNvPicPr/>
            <p:nvPr/>
          </p:nvPicPr>
          <p:blipFill>
            <a:blip r:embed="rId2"/>
            <a:stretch/>
          </p:blipFill>
          <p:spPr>
            <a:xfrm>
              <a:off x="7542360" y="630360"/>
              <a:ext cx="400788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Box 7"/>
            <p:cNvSpPr/>
            <p:nvPr/>
          </p:nvSpPr>
          <p:spPr>
            <a:xfrm>
              <a:off x="7624800" y="909720"/>
              <a:ext cx="39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喜欢这本书吗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563"/>
          <p:cNvSpPr/>
          <p:nvPr/>
        </p:nvSpPr>
        <p:spPr>
          <a:xfrm>
            <a:off x="5005440" y="2089080"/>
            <a:ext cx="1708200" cy="17668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560"/>
          <p:cNvSpPr txBox="1"/>
          <p:nvPr/>
        </p:nvSpPr>
        <p:spPr>
          <a:xfrm>
            <a:off x="5337000" y="2711520"/>
            <a:ext cx="10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学分享</a:t>
            </a:r>
            <a:endParaRPr b="1" lang="en-US" sz="1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28677"/>
          <p:cNvSpPr/>
          <p:nvPr/>
        </p:nvSpPr>
        <p:spPr>
          <a:xfrm>
            <a:off x="1495440" y="1420920"/>
            <a:ext cx="9480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李萍萍   开  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8T07:26:00Z</dcterms:created>
  <dc:creator>Administrator</dc:creator>
  <dc:description/>
  <dc:language>en-US</dc:language>
  <cp:lastModifiedBy>_</cp:lastModifiedBy>
  <dcterms:modified xsi:type="dcterms:W3CDTF">2017-08-21T03:41:0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