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media/image12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</p:sldMasterIdLst>
  <p:sldIdLst>
    <p:sldId id="256" r:id="rId42"/>
    <p:sldId id="257" r:id="rId43"/>
    <p:sldId id="258" r:id="rId44"/>
    <p:sldId id="259" r:id="rId45"/>
    <p:sldId id="260" r:id="rId46"/>
    <p:sldId id="261" r:id="rId47"/>
    <p:sldId id="262" r:id="rId48"/>
    <p:sldId id="263" r:id="rId49"/>
    <p:sldId id="264" r:id="rId50"/>
    <p:sldId id="265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" Target="slides/slide1.xml"/><Relationship Id="rId43" Type="http://schemas.openxmlformats.org/officeDocument/2006/relationships/slide" Target="slides/slide2.xml"/><Relationship Id="rId44" Type="http://schemas.openxmlformats.org/officeDocument/2006/relationships/slide" Target="slides/slide3.xml"/><Relationship Id="rId45" Type="http://schemas.openxmlformats.org/officeDocument/2006/relationships/slide" Target="slides/slide4.xml"/><Relationship Id="rId46" Type="http://schemas.openxmlformats.org/officeDocument/2006/relationships/slide" Target="slides/slide5.xml"/><Relationship Id="rId47" Type="http://schemas.openxmlformats.org/officeDocument/2006/relationships/slide" Target="slides/slide6.xml"/><Relationship Id="rId48" Type="http://schemas.openxmlformats.org/officeDocument/2006/relationships/slide" Target="slides/slide7.xml"/><Relationship Id="rId49" Type="http://schemas.openxmlformats.org/officeDocument/2006/relationships/slide" Target="slides/slide8.xml"/><Relationship Id="rId50" Type="http://schemas.openxmlformats.org/officeDocument/2006/relationships/slide" Target="slides/slide9.xml"/><Relationship Id="rId51" Type="http://schemas.openxmlformats.org/officeDocument/2006/relationships/slide" Target="slides/slide10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263B-84BE-4605-93A4-FB93112A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FDAA-7096-4B4C-9B98-C12B1ED3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49BA6-64CE-48AF-99EE-0807F8E3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B8E42-8A3E-446A-B473-F009E84E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D4AFD-EC66-40E5-AA08-1123129E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20631-59A5-47E0-A7A7-6BD3AC9E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ACCC67-04BE-4248-B992-75F0E0B2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028E2-64CC-4353-85D7-85C70F76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8ACC84-0885-4EC5-AA9D-9FA8982B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5C69C-B1EF-4E58-AF07-B7CC9003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13033-2291-4C46-98F5-96D53930D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7FCA81-76F4-4869-96FD-EBA9702FC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0F35-6C4A-444A-A72D-558EDA62F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942BD-9799-4AA2-BD44-99F17465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57AD4-4A2D-4B4A-956C-E051A795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B6CBC-1929-48A8-9EE9-FEF692E0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69D574-26F2-4B8C-A0E5-73D0824F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2FBAFE-5610-4A4E-9237-48DC4FF6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38EB96-5058-41CF-BE60-01EBBC3A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CC5E2E-3B01-49E0-861E-97027155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47E181-F7BB-4817-A213-37333BD7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C8054-F5A4-4785-A400-5E83655B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4D8C29-4BEE-4EB6-91AD-8B87D069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A427-5524-4530-B3E6-D61F90D22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BCEC3-8172-4541-95D4-7B83A3DCC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1738C-606F-44E6-91F9-3FB616130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F7A24-1A04-4C5D-9929-B2DDCC12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7C5AF-DE70-42F9-8832-0412A753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AFF0F-F995-427F-B5CE-03B9DE81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F6802-2610-4361-8AE8-920E7606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01AF8-47BF-4C2C-9587-36EBE59C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CBED5-3118-40BA-9C63-9C23A62F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D3F98-9BDD-4AC0-A64C-C797F3A6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AF456-4049-4628-8F38-64C6C302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7520-34F4-4FE6-8E9C-B34D8C981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06D57-18C8-4E10-9559-90E80E7C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9AEA0-E93B-4D5F-A331-864E75BA5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BE0A4-C8CE-4D08-B399-E80BDC2FF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C385F6-BEEA-4C72-947A-0A210A1D3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F03448-2E12-4A66-988B-3D3E3AFD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764F6-B758-4267-95B0-DED6C57D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36406-8912-4388-9213-B88C8D53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EFFCCD-5CFA-4435-8FAD-362EBCAA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EC2B71-EE4F-4333-942D-82441DE3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141036-1A4D-40BA-AF81-4A7CCB33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6F79-5D07-4020-ACD0-FD4CE245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C44F30-800B-4BF9-AA4B-70134DDD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E9E370-E89D-4D99-8C6D-32FE8237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2E819B-E6B4-47B2-8A44-98549DA8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99B1C2-CC93-4C56-ADFB-099CCF5E8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18306E-CFF9-4B9A-8EA8-730E41382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82B7C1-1B1A-40A1-8143-9DC75FE61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E872A9-A814-4C00-876D-A7E3E464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BA3965-7F03-47F5-9B2E-1FBBE188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AC1CAB-4406-46A1-8376-C3280D52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A21256-F11A-45A0-B387-D4A5E190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3889-372A-481D-B6E7-C852A6CE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E8EAD0-6A73-4D73-9919-F71363B8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D392F7-4DCF-4F4F-B231-A4829D0C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3892E6-BFEF-427B-AE68-D18653D6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772D11-1C8C-43B7-9820-74D30F66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95E94B-2DD7-40A9-993E-185AA962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EC4385-55FB-4278-8502-6E58F8B34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590751-EBF5-4272-8486-81650B4F3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A103EE-86D5-436C-9FBB-55ABDB965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DD798E-3B49-442F-B16F-3279A5EB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752AEA-DFF7-4DB6-B360-732BA684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F3F5-D923-4F7B-9D0E-74067969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B9B3B2-F572-41F2-9C31-FA4359A9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43EFD2-6D8C-49D0-A53B-BF8B4638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F10980-62EB-4901-AC87-9F2365EF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F9CE3D-ADCB-4CBC-880E-492DCA5A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0C8FF7-F0BF-4FC6-9370-56CE1C18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E58A9F-BA9D-454C-8411-41653CCC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B765B0-48C9-42D7-AF79-CFB2E7A3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F9D6AF-FBAF-4754-AF8D-8DC5CA17B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C7E931-AC12-4A41-A6CB-1698277AC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CC5CF1-343D-4F42-8FFC-F183FCAE6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BFB0-8BED-4277-87CC-01875BB9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4374E0-BDD2-451E-AFDD-8560336E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C56945-0FF9-4884-8808-B4765EF8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CAEE2E-8F2D-4875-8CA3-966E24CA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502523-7DD1-4809-8B83-C5218195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ED41E5-F486-4717-ABD5-400E7579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3C290C-F013-49CB-B4B8-002168BB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C72A42-CD0D-44A6-BA44-A64F8939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CD3DE8-1A7F-4595-AF27-528D736E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4AFB70-119C-4054-89CC-103D4EC2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B76004-D71B-4270-A1C1-0DA58427B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3291-CBF0-4CFC-A7B6-31BD0363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32EAF5-F2E1-467D-908D-C2333E2FC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6C337E-7FE2-4006-91A2-8748A2328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64F24A-333D-47A5-9601-184A2D0F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0B1F82-F0FA-47F6-AD89-A8F4EDDB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008228-5783-44E6-B06F-D36D9CF6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EDB32B-E58A-4283-9867-556BBB4A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0CD205-85AD-424E-99F5-A957B1D6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54D09F-86B9-4E1C-8D2D-BAC33720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016F74-9640-4300-986E-E82DBC52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319171-48F3-451D-9643-671ED62F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D5B0-7D8C-445C-ADE2-75BC9C0E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4AC7F6-1F8C-42C0-B07A-884219BD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C1DED8-FECC-454E-8E64-23F23946F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DD3D3D-C697-4C3B-A1F6-55707220F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27510A-31D8-43A4-9253-F3A06EFAD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EAAD3B-BB4B-4E8B-8259-56D15682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2871FE-CB4E-470B-92A6-64685B59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F8ED90-3F78-4C54-A3AB-5AE14297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E4EF2B-6AC6-4A2D-BCFC-0575A15D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97ACD8-B526-4FE8-A0DA-28AA94D4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5FEB52-91F2-4FD7-A2FB-63798A04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5716-C145-42C2-9552-A4840373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26C2-9D57-430A-A784-40D77082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41CE53-D055-4047-BA07-288CC100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2D9916-B05D-4506-A744-D37D87C9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9C6E10-41AC-4888-9048-9CC2A083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1B0970-CA54-4C2E-8609-A39DE6625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9B098B-539D-442C-9A0C-1B5055FFD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24DEEA-4FBD-4DC3-B03E-8BB4C165B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970211-0342-4CC2-A947-B29EAC67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6E7724-1A11-4FE5-AF26-C83393C6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7D3D69-65B9-4840-89EC-173312AA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A7A707-B577-4569-B759-CFB13067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2452-58D7-4C5B-AC4F-E9C57798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ED4CB4-788E-4417-B05E-1B52675F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57DE5B-2FA0-42E6-AA6E-4D447EBB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B52E6D-843D-42D9-8EB9-0C27F4B6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B30AC0-B0FC-4A09-A09A-B163D3C6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2E2C62-9F59-4A3E-BE63-6C1BCDCC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009263-062F-4FFC-8F0E-1499D5BED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8B27D9-48D2-4D9A-B3FB-28333744C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0828A5-ADBA-4136-84D7-CEE14F92E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91D394-4FD8-4D1B-9C4F-EF44D7B9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7527FC-940A-4978-B1E6-F481F100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B946-176A-4756-BE43-DE280020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93F832-598D-4186-8898-4DD33988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B621C3-A887-41AD-BF55-94EE59B8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892F24-3991-4474-A978-58138C42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831DC4-FA7D-4F85-9611-F3FD0381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D6DF4C-BD22-4038-9C65-F1DB1E64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EC9485-1E24-44A7-B2EF-E6FD17B2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53D3CF-5E41-412D-9987-5365CA46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1C75D6-281A-4B41-AB3E-E08D43D1D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997C8B-C37F-4C78-8C3E-ADBA292AC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29ECDC-AB79-4275-BDEC-5C540C3DA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54A3-2770-4526-A3B6-B422723F1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617100-688B-4766-9D64-62319204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66A423-8F95-42CB-BB98-48F0E0FD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CDB9C8-F3C8-443E-A291-11324440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114BE6-EBD0-4142-B2E2-99B70D79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0212FE-6483-41DA-ABD8-7E66AC74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A2BA7D-DD84-4193-A27E-53EEDADB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993BDF-35EF-4A87-B3A2-D4E41AD2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22F3A2-5C27-43B5-AE04-675232D5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F9E837-284F-4C24-88F6-7CE1A352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F8347E-0FE8-4269-90A3-9A9696598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3986-3B64-49E0-B9D5-F5122163A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7FA194-614A-4222-BD72-AAB7C665D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394754-1950-44DF-96B0-9128ECCD5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840D6D-F0EA-4BB3-921C-D92B3C59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ABCD18-9E5A-4EF5-A6FB-4E6867D3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8DFA99-5874-4422-BFB2-F9DABF1B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4947E8-D2A4-4436-B71B-33C42119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6BBECC-57EC-4CA9-9B65-C4261FA3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3F9085-CFE2-4F5E-95C9-F6BF99B0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7A9806-7B60-40D3-ACD3-157292BF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3D8700-40AE-494A-9B49-832B528A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189BB-0BA2-4FB2-B6A4-BBAFBA16E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758742-F170-41F8-BBB5-52D9DCB6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ED3BB8-B41E-41A6-A211-31C9D860C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7B686E-477A-4B41-8710-D1FEBE3B9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2BD05E-8375-4580-A893-D253A2CAD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06472C-7478-44D4-8F55-53C05B51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FF87B7-7005-4C50-AC4D-2158CBA0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6AB2D2-5666-4705-B7F3-5B2CD2E2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ECB650-9A84-4D9A-8E71-B59F7063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3A7CA1-4395-4B5B-9FFD-4A38B58D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6F8659-4BBF-4812-9417-B47A658D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A2D04-9D21-4FDB-8ADD-12181B13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2229E0-9E6D-46A6-AC6D-40AA9439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458A3A-4429-4046-B1B1-73104568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BC4A4A-9237-48D3-945C-DEFA5579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026539-AD94-4C26-9C2F-EBD48AAA4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A8A994-4B9E-4613-AD2B-C964439BF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D7DB6E-7CE5-4064-99C5-8E8BE0CD1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A46A7E-C61C-414F-A336-86890650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CAB986-B441-49C6-9F9F-0524F4D1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A9564C-6DE6-4294-8377-DE337800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07D811-BF6C-4BE1-A0AE-BC2A1AF7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8AEE9-2F7B-4641-865B-29D2C193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608A5E-8247-49C4-B04C-1FC1D9B7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F97A51-679B-4DB3-A300-1DCD3011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EF3755-9C7E-4653-BF4C-3195D234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1DEC42-5834-4A71-B658-3969B10A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D8F1D6-3347-411A-8742-B0A88182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0C5146-85B5-4172-8ED2-8041F51C6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EC860B-DB1A-4D25-AFFC-55857B531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B7079D-29C4-4BB3-9455-B0D3AD60A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12BECD-3E13-43CB-9272-5D0C8E8A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BFBFFA-25ED-4B29-B0AC-3DDB44E4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3A535-14F2-417E-8C76-DC958902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6D24E7-D37C-4EB4-A891-F25B7109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188246-9ABA-4CBF-A4FF-A93A56B1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2E48F8-33CE-4A83-94D8-794DAB0D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2608C0-8A72-4C25-888C-4D47CB67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87126A-0CED-4144-8C00-F854E39F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E2EF26-3204-4BE6-A5DD-DE8DD2A3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23568F-7F1C-442B-A2CB-A592A731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84F9F6-57F3-4DF3-BAF6-73DD6DC2E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11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12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972318-867B-403E-AC9E-BA00FB631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E3BC00B-4E68-4CF2-83C3-497DADC4A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B0E78-DAD7-4B89-8895-6E76FEBA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BBCDFF-DA7F-4715-9FCF-796C4697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523D9A3-0C19-4A65-8EF8-9CE9DDD7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94DDFF6-DDDB-431D-9DD5-0DB6DD5A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D174101-4A7A-4B92-A12B-C18F4F16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2C3184-007E-4995-A269-F29CBBA3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FCE4D6-0CDE-4ED8-B13D-85ACAA8A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3681E0-8ABA-45DB-9AEE-CDCF3759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74274A6-356E-4127-917C-2DC46173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6B1E14-1657-4C1C-849B-D42411B9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95B2E0F-5E69-4114-B81E-D449C1F4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67BB-FA0F-4CD9-A40C-3BE7C1A8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79DEF-0EC4-431B-8B79-9EDC737C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60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61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1796293-4674-474B-A3D5-56EA77BC8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48F31D-94D2-457D-A209-E96BE84D8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56D1549-0B24-44C0-8917-001A9C6E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E0A00E-1138-4D8A-83F8-0379F1D0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2AB90A-342A-44DA-89D5-556A9E7A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16B04CA-392B-42D5-AE2B-711790FA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90F659-FEB7-48C4-9B5A-CAAFDFBA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F2F46F0-1E33-4D8F-8781-9B07FB66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14DC98-A9F3-4D03-A17A-7CB62E05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53021C7-7133-42C3-888F-60AA0624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F7153-65BE-4460-AA4E-18884827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B496007-2CB4-4C69-936C-9A0ADFC3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177A772-E4F5-4320-AED1-2C54305BC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06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07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C20CAE-65A3-4CB3-8B97-9DA22AD26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F6595A3-B12B-43B9-9A72-702BCC133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40D2CFB-C521-4DC6-A167-9FC8B8EC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6CDA0DF-A532-43E1-9A44-DA2CAD39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E6D285-D0CA-40EB-92D3-5D527080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C6B10DA-57C0-42AC-AD1B-20783808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2BB7F85-7B4C-4B12-BA8C-B58B49CC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7D9EF28-1EC4-4791-9B8E-B6D8B749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45EE8-54F2-4F56-AD5A-35CCF9E9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F61953F-80DE-4303-92AA-25AEFCAE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C8147B3-8160-4F71-AB25-1D49E387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7CF70B-854C-426C-BC01-5ED0DA74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01B44C8-9D08-488C-99BB-3104117E9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52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53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EF8B6F-EB99-465B-BBC9-400915CCD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0C8A10A-6EC7-4161-B676-6365E1826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9D8E574-3E8A-4A0C-B962-84D08C99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256E813-8068-47C1-B211-0AE51755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E0D6D3-6EDE-49C0-833D-F19BE513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01853A2-8389-4366-9202-EEC7DAD4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2CDD1-4A37-4F23-A79C-AD28DBCC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06F7524-0FA9-455D-9F60-A473E750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F414C4D-C4A8-4C78-97FD-7131EED0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C01197B-47B5-434C-B713-D29006E7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46AF5F5-54C9-4E20-B5A2-BC4E03B5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764A584-6E5D-4FA3-977F-3358A08F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CDE9417-497E-46FA-9772-E5519B210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98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99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00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E62C39A-AD3A-427E-9097-B38498451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6340F95-387B-44B6-8D8E-10CE414BD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BEC3EED-0895-4477-85C0-443832AA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29C92C5-ECD0-4618-B1A6-C14DCD9B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00E7D-A02B-4275-828C-4CFFCC35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E2148E3-F7B5-4529-A737-B56B9E56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CB076D6-259B-458B-9C6B-B1A61B78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1BF4270-70F5-4490-BFEE-A4950EEB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EAAE84B-4350-44F9-A34E-D5D61878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33F0566-47E3-4696-A66A-CFF97AC2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BEBE545-5AEE-4AB3-BD54-F9E3D904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53C24AB-96DA-487F-9CD7-A6738C83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679F888-647B-427E-8E0B-435FB081A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45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8B47055-805F-4F8F-8F90-9201392C7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104D69F-47A3-44FD-85E4-5E064DEBB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D7235-85DA-4604-94BF-C7D8AB39F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FFD20C2-F1E4-498A-9774-88873FB6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7015FE2-1637-4D14-BB27-FB029543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8939459-15DC-48D1-AF8E-B1FF564A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2055F0A-1382-4BDE-AD69-734394D2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DDD1ECB-A182-4ACA-949A-25065658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C3C41DE-02AC-460C-86E7-83E1D6CC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1EE696F-8389-43C1-851C-A7C4C554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CD35DB1-5EBB-40C1-A26B-45025EFC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0D45683-9CDA-4423-ADD4-3A83D954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84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4E4980A-8469-4653-AD3C-A1DAE9974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BFDB0-CC58-48AB-8E8A-D994F03E6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89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90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91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AD0F1FD-314A-4F44-9923-060B71D8A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FE901B3-E8FA-4763-A016-6C86429C0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9FB2E58-65C2-4F43-9CCD-570ACAC4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B573C2E-369F-473B-A6D1-F0A1A4F9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97D718B-25FC-46E0-A63D-D9855289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D524734-D749-4C00-8954-94702411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FDBE27B-1637-4CCC-A4F1-DDF6ECA2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28F9EF1-C2A9-4D5F-A32E-4BF7292D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75FDA70-01DC-4D11-9A16-021E9489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76D5DE3-06D9-4AEC-84FD-26C786E6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9C36A-2561-4331-BF66-FF1A57A1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21FE71C-0D1C-41A5-A38B-A8CE7601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AB4A554-8AFD-4E52-A1D0-5C4224E32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35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36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37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E46ECAF-11DF-4560-B4F9-F38981E03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089F0DF-E0FB-45E8-9877-D68E6699B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111DB22-7DE6-46A6-B5AE-430B53CA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AD50F5B-DE6E-45B7-99E5-DA1DA1F2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28BB9AB-2ECA-4439-8416-8614312C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6E2F31F-97B3-4F04-BD64-031B607B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7769A9D-91BC-4A3B-B180-6B0EF970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81BB29B-775A-4C8A-8B2B-E2417F55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4F3C9-0660-40AB-8E76-B77FE048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2F2DC0E-7DD3-4324-9A5E-E32CBFF0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0D4B319-8620-4FF8-9CA2-8E52E648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81D4726-607A-467E-9FAC-1C8022B0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B1E5B04-D957-445A-928F-746093337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83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84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168BF0C-34BF-4283-8ED7-F7EF1615C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29AFCA5-42F9-458D-8F32-372113A5D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7A566BF-6246-46A4-9CD9-21E5A187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97560C1-B685-4839-8012-541981EC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1CF1526-E1F0-40DB-842D-7B598B0A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8774395-B6B3-44A3-ADC6-9829A0F4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1FF05-B903-4904-86BD-53811349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C45DFDA-5132-4D96-B51C-3F4B8762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CAD0C10-5445-40A1-8F02-6F99E2C3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7767650-33B4-4F63-ACF7-FD181ED8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3081279-FC39-4946-A36E-467CCD3B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9BD7EB2-553C-4ADA-BDF2-1560B326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43C2E8A-149B-4ABF-8D2B-01FA9A769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28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29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30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A0217F4-5851-4364-A3C5-7DE0522D4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AC4A3FB-165B-400D-92F6-626B82736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1D25E85-415A-49CF-A1A6-96991C31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0B992CA-E96A-4409-AC13-AF60E9CA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CEEC-B31A-46F6-A9EA-B79A7C67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79424-4C68-42EB-B258-0B5A5335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591FE82-051D-4965-AD3C-1FF48A27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9558640-06D6-4157-8004-4F1655C9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EBE3113-5114-4199-9889-C18676C5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46FAD60-A80F-4CC2-923B-B8F166BD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0763FE7-2A3C-4100-9AB8-E56227E2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48FA176-A249-4D0B-BD5F-B0335AE8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1F96EE3-8F60-4E60-A191-6EA004BA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72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B590079-3A66-4E1A-B172-1ACECAE7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77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78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79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55E55E6-788D-4707-8763-8C8FD2C30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D617131-F8B4-4FB5-98AD-97DCBE558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DCAF3-BD13-40CA-A10A-5F0E0B53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F852813-6625-4113-8170-9C2C0556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7B7597A-B6B8-41CE-B7C7-9E73D452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724CEDF-5368-48CD-86BA-A5520743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41FBB19-977C-4058-8E21-921D1190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643E340-4F16-4BAB-99F6-FB0C164C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62292DD-EE21-4E14-B476-40A4F845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D42B016-123B-4509-8A50-DF854FD0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570BF01-A3D7-4207-9AFB-3CE205CF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8823208-3F5A-4ECB-AA1C-9C089395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D9481A3-B7E9-44AE-A389-D739493B9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64D3F-64F7-4506-81ED-939C1BD1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25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E970DEA-B291-4F5D-8877-D0C367F88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1116519-714F-458F-A1E4-7A7B78E85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4722718-6381-4BFC-88DD-BA3D5613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B44CB83-99CE-4F39-B309-566D7C17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43E2E7B-6E48-4ABC-A867-D1890076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5020488-2575-4D60-AC4D-20E522B8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A49E243-B6B6-4B33-9AB7-E7189EAE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538870E-421E-4652-83CE-F33B2F8C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E9E064C-459D-4F51-BE7B-516F7879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792CCBE-CA67-434E-A7BA-1D498E5B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3C0B2-E366-4047-8679-57F0D369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BC73C25-411F-442D-BCC0-FD3F0792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64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4D02692-F53E-4390-96D2-80557AF0F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69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70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71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8EBCC88-C367-4D60-AEAD-2628B9D1F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E408B21-4961-44C6-B9C7-CA6D1ED7F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030DB72-4391-4626-9CD7-02CBA7F0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9C84666-0DC9-4A9C-B07C-57A7DD79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00D0857-86EE-4120-8EA1-9E73A743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F6787C8-7960-4D7A-959E-02C1EDC5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C116DC1-501A-4F36-897E-320AFC4C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4C87DF8-8157-47B3-91B3-353F3A3D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E814B-10D6-40FF-BD32-DA8B21C1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78082CF-5B49-42ED-AEA2-301D477C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671969B-4DD0-4F9A-852A-BC5B00E7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49C3106-5FDF-48AF-9404-F9BF8C3D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11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DE0207E-8BB8-4BDC-8BB2-3A940AE40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17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18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475DD3D-73E5-4BC0-91CB-BA0B15B13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3A192B0-01C3-44C2-93A8-ACB4A107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526D155-BEBA-40F1-A6C7-F4D1C8C1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F469758-C483-4E46-8D27-BBF89457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DD231EC-71C0-4C21-87A4-E59272CF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E1DE78F-2060-40F0-9EDD-D6191935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AE7CA-4AB6-4402-BC90-FAE24716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9BDE80E-959E-451B-8F41-CD1D83EE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CC08CBA-D6B2-4B4F-8BBA-B41163BC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C675534-BFEA-4D4A-94C7-C0259002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CAD76F0-24F5-403F-B7DE-39F8B070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8027426-9AC9-4394-9230-5A98C7B8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5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56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DECB640-8E41-4363-8F56-6BA84B7A6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61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62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63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AE05515-1A18-4F49-93A1-D171803BA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A59D984-5937-49FC-B79D-F6D8E88F4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A27720C-EF4D-4F6D-947C-CD20C98C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A0E6526-E434-4A94-9190-024D5418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E1B5C-1291-44CE-853C-8A6765FC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A29A3EB-4B6B-4F40-8CA7-9564C4E1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B6A40AE-4644-4CD7-83A2-D0092B8F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CD95A27-B808-419C-AB66-F9CE9F87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DF1217C-676D-4D39-B8B7-FA5301E5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42C1C4C-10B7-4E69-88CF-8CBC7AE8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5B78FB7-E663-4A5C-B7E6-2C0C33E5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68AB528-11E5-4877-9F4F-E61FB1F2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2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0EF4ABC-7F35-46AB-9634-CC815429F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7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8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9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25F1BDC-9621-4CF3-BDF6-8CEB82B2A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D1065C6-16C6-4D84-BED2-8A0DD1782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F3DAB-38A7-41C0-BC60-B629F1C4C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38D1274-53E5-4958-A05D-F94B866C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E9611AF-B219-46D1-B681-FC7F2DAF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3FB401A-AA40-4C69-9B9A-580544EE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EF5A0D9-C3D1-4FA1-AEB2-56BD0650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37C0721-2FFB-4C7D-83C8-854FD0D7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461856E-3E7B-48A2-845E-39D3FBD2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3DF3789-ECBC-4C14-B788-C0702B9F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11C026A-537E-4AFD-B6D3-120FBED0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DC627FC-3E00-440C-8AF5-7B4137FB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48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AE5C074-0863-4A3A-B69C-0FD5AFD6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7A38B-A097-4FA0-A526-A060FE593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53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54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55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F6A7A60-BFD3-4F51-BBDE-20C8D08C5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1B3EC-4AEB-471A-9396-945A07AF9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7A76-768E-4AAA-A469-FE4C14C1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D32B5-F323-4C04-BE01-302BB620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F80B0-EEA0-474A-8AF1-F9EA37BF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36CC4-1843-452C-BDD8-4C57959C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0EA8F-4C3C-40FC-838D-0464F89A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4B538-2877-4033-8B7B-7A06EDC0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536D6-B02F-48E9-8C63-7D5735BE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DB895-2074-4D07-A88E-07F0D191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F3D20-9932-4097-9A40-6922DDDA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CAAA3-3B50-4A74-91A6-1ACF4E97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358A0-3DAE-4235-8672-66997A5FD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4854-67C0-4AE0-BE62-82F68F5F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67006-C57C-412F-A6D4-E46AC7655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9F44A-EB27-4868-9026-A420499CC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DBDCC-F810-4317-8978-59EC1CA5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A6B0C-0703-46F0-96E7-90C2BB09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E6423-7743-4CA2-9B43-FFDC2DB0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4228E-7A69-4566-A4ED-4F925837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2D36E-BB5E-4209-A140-567F3E04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2C381-1E48-4027-86AB-F2371C0E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28CF9-C83B-4A88-AD6D-EDE19ACF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46544-31EC-4261-8584-8A397FE2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FBC9-1A93-4F0F-A9EE-AD5DAE40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94086-6891-4B72-B548-E5C077BE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7AF1D-A1B2-45B4-A945-7826F057B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972FB-3F65-44C6-8423-DD8DB01AB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BA88E-AB91-4710-BF5D-C2F4DDED9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97B31-EC8A-4A4B-8A7C-38EE024B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8FC86-BBD0-4FEC-B025-B65DB0AF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386EC-1272-4872-B992-92F77AF3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7867B-0DCD-486E-BE96-4BFFFB39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3F57B-3685-4026-8AC2-2DFF8610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C7424-18C6-44BB-9A1C-4468B8EA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7967-789C-4785-A528-2561980B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7A3B0-DD9C-426C-B5E5-B45503C7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54737-8658-407D-9018-B4B2DF62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CDCDF-2612-4D04-A948-E9BF5992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FBEC5-EB26-4884-BA59-92DE8CB37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12E6B-48F7-46A1-A1CD-DC88B6CE2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DEF83-70C8-4966-AA07-6CFFB2A4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17B49-9BCF-4003-8AA6-9ADB0140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5604B-927F-4D6A-B656-C366605A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25D2A-1AA8-4F35-9A2D-9785E5E7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A8B98-ACD0-44C7-8A60-21D3F978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2175-9C3E-4923-949B-62CE72C0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BA102-5248-4507-A8DC-08792D8D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27085-BD33-4DD7-B74E-714ED2A0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E3CF0-8CFF-4B24-B8BA-B9A6C8EC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49CFA-86FF-456E-9FB0-7AE79BE3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3A0D4-A0C1-45D8-B1D7-BB6B77CE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6AFB3-6E84-4615-BB43-2B79EF40D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FDC91-20C6-41B1-A9D6-9E73FD315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87F28F-3D64-4214-9725-A6B770A39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678DC4-AFAE-4DDD-89C5-FB62326A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9D5CD-6066-4A2E-8BFB-B5D520B6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3.xml"/><Relationship Id="rId7" Type="http://schemas.openxmlformats.org/officeDocument/2006/relationships/slideLayout" Target="../slideLayouts/slideLayout374.xml"/><Relationship Id="rId8" Type="http://schemas.openxmlformats.org/officeDocument/2006/relationships/slideLayout" Target="../slideLayouts/slideLayout375.xml"/><Relationship Id="rId9" Type="http://schemas.openxmlformats.org/officeDocument/2006/relationships/slideLayout" Target="../slideLayouts/slideLayout376.xml"/><Relationship Id="rId10" Type="http://schemas.openxmlformats.org/officeDocument/2006/relationships/slideLayout" Target="../slideLayouts/slideLayout377.xml"/><Relationship Id="rId11" Type="http://schemas.openxmlformats.org/officeDocument/2006/relationships/slideLayout" Target="../slideLayouts/slideLayout378.xml"/><Relationship Id="rId12" Type="http://schemas.openxmlformats.org/officeDocument/2006/relationships/slideLayout" Target="../slideLayouts/slideLayout379.xml"/><Relationship Id="rId13" Type="http://schemas.openxmlformats.org/officeDocument/2006/relationships/slideLayout" Target="../slideLayouts/slideLayout380.xml"/><Relationship Id="rId14" Type="http://schemas.openxmlformats.org/officeDocument/2006/relationships/slideLayout" Target="../slideLayouts/slideLayout381.xml"/><Relationship Id="rId15" Type="http://schemas.openxmlformats.org/officeDocument/2006/relationships/slideLayout" Target="../slideLayouts/slideLayout382.xml"/><Relationship Id="rId16" Type="http://schemas.openxmlformats.org/officeDocument/2006/relationships/slideLayout" Target="../slideLayouts/slideLayout383.xml"/><Relationship Id="rId17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97.xml"/><Relationship Id="rId6" Type="http://schemas.openxmlformats.org/officeDocument/2006/relationships/slideLayout" Target="../slideLayouts/slideLayout398.xml"/><Relationship Id="rId7" Type="http://schemas.openxmlformats.org/officeDocument/2006/relationships/slideLayout" Target="../slideLayouts/slideLayout399.xml"/><Relationship Id="rId8" Type="http://schemas.openxmlformats.org/officeDocument/2006/relationships/slideLayout" Target="../slideLayouts/slideLayout400.xml"/><Relationship Id="rId9" Type="http://schemas.openxmlformats.org/officeDocument/2006/relationships/slideLayout" Target="../slideLayouts/slideLayout401.xml"/><Relationship Id="rId10" Type="http://schemas.openxmlformats.org/officeDocument/2006/relationships/slideLayout" Target="../slideLayouts/slideLayout402.xml"/><Relationship Id="rId11" Type="http://schemas.openxmlformats.org/officeDocument/2006/relationships/slideLayout" Target="../slideLayouts/slideLayout403.xml"/><Relationship Id="rId12" Type="http://schemas.openxmlformats.org/officeDocument/2006/relationships/slideLayout" Target="../slideLayouts/slideLayout404.xml"/><Relationship Id="rId13" Type="http://schemas.openxmlformats.org/officeDocument/2006/relationships/slideLayout" Target="../slideLayouts/slideLayout405.xml"/><Relationship Id="rId14" Type="http://schemas.openxmlformats.org/officeDocument/2006/relationships/slideLayout" Target="../slideLayouts/slideLayout406.xml"/><Relationship Id="rId15" Type="http://schemas.openxmlformats.org/officeDocument/2006/relationships/slideLayout" Target="../slideLayouts/slideLayout407.xml"/><Relationship Id="rId16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09.xml"/><Relationship Id="rId6" Type="http://schemas.openxmlformats.org/officeDocument/2006/relationships/slideLayout" Target="../slideLayouts/slideLayout410.xml"/><Relationship Id="rId7" Type="http://schemas.openxmlformats.org/officeDocument/2006/relationships/slideLayout" Target="../slideLayouts/slideLayout411.xml"/><Relationship Id="rId8" Type="http://schemas.openxmlformats.org/officeDocument/2006/relationships/slideLayout" Target="../slideLayouts/slideLayout412.xml"/><Relationship Id="rId9" Type="http://schemas.openxmlformats.org/officeDocument/2006/relationships/slideLayout" Target="../slideLayouts/slideLayout413.xml"/><Relationship Id="rId10" Type="http://schemas.openxmlformats.org/officeDocument/2006/relationships/slideLayout" Target="../slideLayouts/slideLayout414.xml"/><Relationship Id="rId11" Type="http://schemas.openxmlformats.org/officeDocument/2006/relationships/slideLayout" Target="../slideLayouts/slideLayout415.xml"/><Relationship Id="rId12" Type="http://schemas.openxmlformats.org/officeDocument/2006/relationships/slideLayout" Target="../slideLayouts/slideLayout416.xml"/><Relationship Id="rId13" Type="http://schemas.openxmlformats.org/officeDocument/2006/relationships/slideLayout" Target="../slideLayouts/slideLayout417.xml"/><Relationship Id="rId14" Type="http://schemas.openxmlformats.org/officeDocument/2006/relationships/slideLayout" Target="../slideLayouts/slideLayout418.xml"/><Relationship Id="rId15" Type="http://schemas.openxmlformats.org/officeDocument/2006/relationships/slideLayout" Target="../slideLayouts/slideLayout419.xml"/><Relationship Id="rId16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21.xml"/><Relationship Id="rId6" Type="http://schemas.openxmlformats.org/officeDocument/2006/relationships/slideLayout" Target="../slideLayouts/slideLayout422.xml"/><Relationship Id="rId7" Type="http://schemas.openxmlformats.org/officeDocument/2006/relationships/slideLayout" Target="../slideLayouts/slideLayout423.xml"/><Relationship Id="rId8" Type="http://schemas.openxmlformats.org/officeDocument/2006/relationships/slideLayout" Target="../slideLayouts/slideLayout424.xml"/><Relationship Id="rId9" Type="http://schemas.openxmlformats.org/officeDocument/2006/relationships/slideLayout" Target="../slideLayouts/slideLayout425.xml"/><Relationship Id="rId10" Type="http://schemas.openxmlformats.org/officeDocument/2006/relationships/slideLayout" Target="../slideLayouts/slideLayout426.xml"/><Relationship Id="rId11" Type="http://schemas.openxmlformats.org/officeDocument/2006/relationships/slideLayout" Target="../slideLayouts/slideLayout427.xml"/><Relationship Id="rId12" Type="http://schemas.openxmlformats.org/officeDocument/2006/relationships/slideLayout" Target="../slideLayouts/slideLayout428.xml"/><Relationship Id="rId13" Type="http://schemas.openxmlformats.org/officeDocument/2006/relationships/slideLayout" Target="../slideLayouts/slideLayout429.xml"/><Relationship Id="rId14" Type="http://schemas.openxmlformats.org/officeDocument/2006/relationships/slideLayout" Target="../slideLayouts/slideLayout430.xml"/><Relationship Id="rId15" Type="http://schemas.openxmlformats.org/officeDocument/2006/relationships/slideLayout" Target="../slideLayouts/slideLayout431.xml"/><Relationship Id="rId16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33.xml"/><Relationship Id="rId6" Type="http://schemas.openxmlformats.org/officeDocument/2006/relationships/slideLayout" Target="../slideLayouts/slideLayout434.xml"/><Relationship Id="rId7" Type="http://schemas.openxmlformats.org/officeDocument/2006/relationships/slideLayout" Target="../slideLayouts/slideLayout435.xml"/><Relationship Id="rId8" Type="http://schemas.openxmlformats.org/officeDocument/2006/relationships/slideLayout" Target="../slideLayouts/slideLayout436.xml"/><Relationship Id="rId9" Type="http://schemas.openxmlformats.org/officeDocument/2006/relationships/slideLayout" Target="../slideLayouts/slideLayout437.xml"/><Relationship Id="rId10" Type="http://schemas.openxmlformats.org/officeDocument/2006/relationships/slideLayout" Target="../slideLayouts/slideLayout438.xml"/><Relationship Id="rId11" Type="http://schemas.openxmlformats.org/officeDocument/2006/relationships/slideLayout" Target="../slideLayouts/slideLayout439.xml"/><Relationship Id="rId12" Type="http://schemas.openxmlformats.org/officeDocument/2006/relationships/slideLayout" Target="../slideLayouts/slideLayout440.xml"/><Relationship Id="rId13" Type="http://schemas.openxmlformats.org/officeDocument/2006/relationships/slideLayout" Target="../slideLayouts/slideLayout441.xml"/><Relationship Id="rId14" Type="http://schemas.openxmlformats.org/officeDocument/2006/relationships/slideLayout" Target="../slideLayouts/slideLayout442.xml"/><Relationship Id="rId15" Type="http://schemas.openxmlformats.org/officeDocument/2006/relationships/slideLayout" Target="../slideLayouts/slideLayout443.xml"/><Relationship Id="rId16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57.xml"/><Relationship Id="rId6" Type="http://schemas.openxmlformats.org/officeDocument/2006/relationships/slideLayout" Target="../slideLayouts/slideLayout458.xml"/><Relationship Id="rId7" Type="http://schemas.openxmlformats.org/officeDocument/2006/relationships/slideLayout" Target="../slideLayouts/slideLayout459.xml"/><Relationship Id="rId8" Type="http://schemas.openxmlformats.org/officeDocument/2006/relationships/slideLayout" Target="../slideLayouts/slideLayout460.xml"/><Relationship Id="rId9" Type="http://schemas.openxmlformats.org/officeDocument/2006/relationships/slideLayout" Target="../slideLayouts/slideLayout461.xml"/><Relationship Id="rId10" Type="http://schemas.openxmlformats.org/officeDocument/2006/relationships/slideLayout" Target="../slideLayouts/slideLayout462.xml"/><Relationship Id="rId11" Type="http://schemas.openxmlformats.org/officeDocument/2006/relationships/slideLayout" Target="../slideLayouts/slideLayout463.xml"/><Relationship Id="rId12" Type="http://schemas.openxmlformats.org/officeDocument/2006/relationships/slideLayout" Target="../slideLayouts/slideLayout464.xml"/><Relationship Id="rId13" Type="http://schemas.openxmlformats.org/officeDocument/2006/relationships/slideLayout" Target="../slideLayouts/slideLayout465.xml"/><Relationship Id="rId14" Type="http://schemas.openxmlformats.org/officeDocument/2006/relationships/slideLayout" Target="../slideLayouts/slideLayout466.xml"/><Relationship Id="rId15" Type="http://schemas.openxmlformats.org/officeDocument/2006/relationships/slideLayout" Target="../slideLayouts/slideLayout467.xml"/><Relationship Id="rId16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69.xml"/><Relationship Id="rId6" Type="http://schemas.openxmlformats.org/officeDocument/2006/relationships/slideLayout" Target="../slideLayouts/slideLayout470.xml"/><Relationship Id="rId7" Type="http://schemas.openxmlformats.org/officeDocument/2006/relationships/slideLayout" Target="../slideLayouts/slideLayout471.xml"/><Relationship Id="rId8" Type="http://schemas.openxmlformats.org/officeDocument/2006/relationships/slideLayout" Target="../slideLayouts/slideLayout472.xml"/><Relationship Id="rId9" Type="http://schemas.openxmlformats.org/officeDocument/2006/relationships/slideLayout" Target="../slideLayouts/slideLayout473.xml"/><Relationship Id="rId10" Type="http://schemas.openxmlformats.org/officeDocument/2006/relationships/slideLayout" Target="../slideLayouts/slideLayout474.xml"/><Relationship Id="rId11" Type="http://schemas.openxmlformats.org/officeDocument/2006/relationships/slideLayout" Target="../slideLayouts/slideLayout475.xml"/><Relationship Id="rId12" Type="http://schemas.openxmlformats.org/officeDocument/2006/relationships/slideLayout" Target="../slideLayouts/slideLayout476.xml"/><Relationship Id="rId13" Type="http://schemas.openxmlformats.org/officeDocument/2006/relationships/slideLayout" Target="../slideLayouts/slideLayout477.xml"/><Relationship Id="rId14" Type="http://schemas.openxmlformats.org/officeDocument/2006/relationships/slideLayout" Target="../slideLayouts/slideLayout478.xml"/><Relationship Id="rId15" Type="http://schemas.openxmlformats.org/officeDocument/2006/relationships/slideLayout" Target="../slideLayouts/slideLayout479.xml"/><Relationship Id="rId16" Type="http://schemas.openxmlformats.org/officeDocument/2006/relationships/slideLayout" Target="../slideLayouts/slideLayout480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2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4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0E90-3BF9-43BC-B32A-85F344F535DB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419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420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422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23" name="空心弧 10"/>
          <p:cNvSpPr/>
          <p:nvPr/>
        </p:nvSpPr>
        <p:spPr>
          <a:xfrm rot="7086000">
            <a:off x="5523840" y="2592360"/>
            <a:ext cx="1482840" cy="1482840"/>
          </a:xfrm>
          <a:custGeom>
            <a:avLst/>
            <a:gdLst>
              <a:gd name="textAreaLeft" fmla="*/ 0 w 1482840"/>
              <a:gd name="textAreaRight" fmla="*/ 1483200 w 1482840"/>
              <a:gd name="textAreaTop" fmla="*/ 0 h 1482840"/>
              <a:gd name="textAreaBottom" fmla="*/ 1482840 h 1482840"/>
            </a:gdLst>
            <a:ahLst/>
            <a:rect l="textAreaLeft" t="textAreaTop" r="textAreaRight" b="textAreaBottom"/>
            <a:pathLst>
              <a:path w="1482725" h="1482725">
                <a:moveTo>
                  <a:pt x="719254" y="1482395"/>
                </a:moveTo>
                <a:lnTo>
                  <a:pt x="719254" y="1482395"/>
                </a:lnTo>
                <a:arcTo wR="741363" hR="741363" stAng="5502536" swAng="18077789"/>
                <a:lnTo>
                  <a:pt x="1349991" y="1136690"/>
                </a:lnTo>
                <a:lnTo>
                  <a:pt x="1349991" y="1136690"/>
                </a:lnTo>
                <a:arcTo wR="725749" hR="725749" stAng="1980319" swAng="-18077794"/>
                <a:close/>
              </a:path>
            </a:pathLst>
          </a:custGeom>
          <a:solidFill>
            <a:srgbClr val="869d59"/>
          </a:solidFill>
          <a:ln w="3240">
            <a:solidFill>
              <a:srgbClr val="869d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5C0B-0278-464A-B9FC-950100F7669C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图片 10" descr=""/>
          <p:cNvPicPr/>
          <p:nvPr/>
        </p:nvPicPr>
        <p:blipFill>
          <a:blip r:embed="rId2"/>
          <a:srcRect l="10872" t="1311" r="2133" b="15239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466" name="矩形 11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467" name="矩形 11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45F8-57DD-441E-AAE6-EF104FE6E3B1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511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512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514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9699-0EA8-441D-BEB2-F8B1C9963836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557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55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560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0549-3C10-488F-AFE3-CC19B2B531FC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603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604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606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10" descr=""/>
          <p:cNvPicPr/>
          <p:nvPr/>
        </p:nvPicPr>
        <p:blipFill>
          <a:blip r:embed="rId5"/>
          <a:srcRect l="0" t="1679" r="400" b="0"/>
          <a:stretch/>
        </p:blipFill>
        <p:spPr>
          <a:xfrm>
            <a:off x="1440" y="0"/>
            <a:ext cx="9142560" cy="686124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4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4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4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FCF4-0484-4D6C-8382-3D0E1FD1D8FE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650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651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653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B51D-8929-4196-A171-0F75793A2FED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696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697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699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00" name="任意多边形 10"/>
          <p:cNvSpPr/>
          <p:nvPr/>
        </p:nvSpPr>
        <p:spPr>
          <a:xfrm>
            <a:off x="2149560" y="2313000"/>
            <a:ext cx="4900680" cy="1801800"/>
          </a:xfrm>
          <a:custGeom>
            <a:avLst/>
            <a:gdLst/>
            <a:ahLst/>
            <a:rect l="l" t="t" r="r" b="b"/>
            <a:pathLst>
              <a:path w="4901184" h="1801368">
                <a:moveTo>
                  <a:pt x="1112071" y="0"/>
                </a:moveTo>
                <a:lnTo>
                  <a:pt x="4901184" y="0"/>
                </a:lnTo>
                <a:lnTo>
                  <a:pt x="4901184" y="1008251"/>
                </a:lnTo>
                <a:lnTo>
                  <a:pt x="3799357" y="1801368"/>
                </a:lnTo>
                <a:lnTo>
                  <a:pt x="0" y="1801368"/>
                </a:lnTo>
                <a:lnTo>
                  <a:pt x="0" y="800490"/>
                </a:lnTo>
                <a:close/>
              </a:path>
            </a:pathLst>
          </a:custGeom>
          <a:solidFill>
            <a:srgbClr val="869d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01" name="直接连接符 11"/>
          <p:cNvSpPr/>
          <p:nvPr/>
        </p:nvSpPr>
        <p:spPr>
          <a:xfrm flipH="1">
            <a:off x="1645920" y="1947960"/>
            <a:ext cx="2103480" cy="1517400"/>
          </a:xfrm>
          <a:prstGeom prst="line">
            <a:avLst/>
          </a:prstGeom>
          <a:ln w="12600">
            <a:solidFill>
              <a:srgbClr val="647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02" name="直接连接符 12"/>
          <p:cNvSpPr/>
          <p:nvPr/>
        </p:nvSpPr>
        <p:spPr>
          <a:xfrm flipH="1">
            <a:off x="5403600" y="2981160"/>
            <a:ext cx="2103480" cy="1517760"/>
          </a:xfrm>
          <a:prstGeom prst="line">
            <a:avLst/>
          </a:prstGeom>
          <a:ln w="12600">
            <a:solidFill>
              <a:srgbClr val="647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4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4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4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BCAE-48A7-4AD0-907C-76CA526CCA92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745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746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748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4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5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5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22D6-EFC9-4922-888F-EBAD112F95CE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791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792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794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5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5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6C2C-4589-4F7E-A11C-317A32EF2D7F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837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83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840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41" name="空心弧 10"/>
          <p:cNvSpPr/>
          <p:nvPr/>
        </p:nvSpPr>
        <p:spPr>
          <a:xfrm rot="7086000">
            <a:off x="5523840" y="2592360"/>
            <a:ext cx="1482840" cy="1482840"/>
          </a:xfrm>
          <a:custGeom>
            <a:avLst/>
            <a:gdLst>
              <a:gd name="textAreaLeft" fmla="*/ 0 w 1482840"/>
              <a:gd name="textAreaRight" fmla="*/ 1483200 w 1482840"/>
              <a:gd name="textAreaTop" fmla="*/ 0 h 1482840"/>
              <a:gd name="textAreaBottom" fmla="*/ 1482840 h 1482840"/>
            </a:gdLst>
            <a:ahLst/>
            <a:rect l="textAreaLeft" t="textAreaTop" r="textAreaRight" b="textAreaBottom"/>
            <a:pathLst>
              <a:path w="1482725" h="1482725">
                <a:moveTo>
                  <a:pt x="719254" y="1482395"/>
                </a:moveTo>
                <a:lnTo>
                  <a:pt x="719254" y="1482395"/>
                </a:lnTo>
                <a:arcTo wR="741363" hR="741363" stAng="5502536" swAng="18077789"/>
                <a:lnTo>
                  <a:pt x="1349991" y="1136690"/>
                </a:lnTo>
                <a:lnTo>
                  <a:pt x="1349991" y="1136690"/>
                </a:lnTo>
                <a:arcTo wR="725749" hR="725749" stAng="1980319" swAng="-18077794"/>
                <a:close/>
              </a:path>
            </a:pathLst>
          </a:custGeom>
          <a:solidFill>
            <a:srgbClr val="869d59"/>
          </a:solidFill>
          <a:ln w="3240">
            <a:solidFill>
              <a:srgbClr val="869d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5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ftr" idx="5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E100-F3F9-44D6-B907-751775DCCCAB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47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4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50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AA8D-D644-4A0E-853A-154FCA5C7908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图片 10" descr=""/>
          <p:cNvPicPr/>
          <p:nvPr/>
        </p:nvPicPr>
        <p:blipFill>
          <a:blip r:embed="rId2"/>
          <a:srcRect l="10872" t="1311" r="2133" b="15239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884" name="矩形 11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885" name="矩形 11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5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ftr" idx="5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 type="sldNum" idx="6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5017-B5A9-445F-AD8E-59A3281B3AA2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929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930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932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CCC0-77A1-40AD-B00E-C4089C9DDA71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4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975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976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978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 type="dt" idx="6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 type="ftr" idx="6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3410-5F3D-49F0-84B1-1D69FA5EA914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021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022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3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024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10" descr=""/>
          <p:cNvPicPr/>
          <p:nvPr/>
        </p:nvPicPr>
        <p:blipFill>
          <a:blip r:embed="rId5"/>
          <a:srcRect l="0" t="1679" r="400" b="0"/>
          <a:stretch/>
        </p:blipFill>
        <p:spPr>
          <a:xfrm>
            <a:off x="1440" y="0"/>
            <a:ext cx="9142560" cy="6861240"/>
          </a:xfrm>
          <a:prstGeom prst="rect">
            <a:avLst/>
          </a:prstGeom>
          <a:ln w="0">
            <a:noFill/>
          </a:ln>
        </p:spPr>
      </p:pic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dt" idx="6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 type="ftr" idx="6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 type="sldNum" idx="6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2CC9-5EA4-475E-9934-AE92280B6E60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7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068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069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0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071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 type="dt" idx="7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 type="ftr" idx="7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 type="sldNum" idx="7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8A34-83E9-4FDE-99E0-0B59CA190E02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114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115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6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117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118" name="任意多边形 10"/>
          <p:cNvSpPr/>
          <p:nvPr/>
        </p:nvSpPr>
        <p:spPr>
          <a:xfrm>
            <a:off x="2149560" y="2313000"/>
            <a:ext cx="4900680" cy="1801800"/>
          </a:xfrm>
          <a:custGeom>
            <a:avLst/>
            <a:gdLst/>
            <a:ahLst/>
            <a:rect l="l" t="t" r="r" b="b"/>
            <a:pathLst>
              <a:path w="4901184" h="1801368">
                <a:moveTo>
                  <a:pt x="1112071" y="0"/>
                </a:moveTo>
                <a:lnTo>
                  <a:pt x="4901184" y="0"/>
                </a:lnTo>
                <a:lnTo>
                  <a:pt x="4901184" y="1008251"/>
                </a:lnTo>
                <a:lnTo>
                  <a:pt x="3799357" y="1801368"/>
                </a:lnTo>
                <a:lnTo>
                  <a:pt x="0" y="1801368"/>
                </a:lnTo>
                <a:lnTo>
                  <a:pt x="0" y="800490"/>
                </a:lnTo>
                <a:close/>
              </a:path>
            </a:pathLst>
          </a:custGeom>
          <a:solidFill>
            <a:srgbClr val="869d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119" name="直接连接符 11"/>
          <p:cNvSpPr/>
          <p:nvPr/>
        </p:nvSpPr>
        <p:spPr>
          <a:xfrm flipH="1">
            <a:off x="1645920" y="1947960"/>
            <a:ext cx="2103480" cy="1517400"/>
          </a:xfrm>
          <a:prstGeom prst="line">
            <a:avLst/>
          </a:prstGeom>
          <a:ln w="12600">
            <a:solidFill>
              <a:srgbClr val="647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120" name="直接连接符 12"/>
          <p:cNvSpPr/>
          <p:nvPr/>
        </p:nvSpPr>
        <p:spPr>
          <a:xfrm flipH="1">
            <a:off x="5403600" y="2981160"/>
            <a:ext cx="2103480" cy="1517760"/>
          </a:xfrm>
          <a:prstGeom prst="line">
            <a:avLst/>
          </a:prstGeom>
          <a:ln w="12600">
            <a:solidFill>
              <a:srgbClr val="647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 type="dt" idx="7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 type="ftr" idx="7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 type="sldNum" idx="7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A665-19D7-45C9-A39E-78299F09FCB9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2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163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164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5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166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 type="dt" idx="7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 type="ftr" idx="7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 type="sldNum" idx="7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A810-780F-4234-8A8D-9DDC174B340F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8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209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210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1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212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 type="dt" idx="7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 type="ftr" idx="8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 type="sldNum" idx="8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AABC-90A3-4056-A839-D418B6956232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4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255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256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7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258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259" name="空心弧 10"/>
          <p:cNvSpPr/>
          <p:nvPr/>
        </p:nvSpPr>
        <p:spPr>
          <a:xfrm rot="7086000">
            <a:off x="5523840" y="2592360"/>
            <a:ext cx="1482840" cy="1482840"/>
          </a:xfrm>
          <a:custGeom>
            <a:avLst/>
            <a:gdLst>
              <a:gd name="textAreaLeft" fmla="*/ 0 w 1482840"/>
              <a:gd name="textAreaRight" fmla="*/ 1483200 w 1482840"/>
              <a:gd name="textAreaTop" fmla="*/ 0 h 1482840"/>
              <a:gd name="textAreaBottom" fmla="*/ 1482840 h 1482840"/>
            </a:gdLst>
            <a:ahLst/>
            <a:rect l="textAreaLeft" t="textAreaTop" r="textAreaRight" b="textAreaBottom"/>
            <a:pathLst>
              <a:path w="1482725" h="1482725">
                <a:moveTo>
                  <a:pt x="719254" y="1482395"/>
                </a:moveTo>
                <a:lnTo>
                  <a:pt x="719254" y="1482395"/>
                </a:lnTo>
                <a:arcTo wR="741363" hR="741363" stAng="5502536" swAng="18077789"/>
                <a:lnTo>
                  <a:pt x="1349991" y="1136690"/>
                </a:lnTo>
                <a:lnTo>
                  <a:pt x="1349991" y="1136690"/>
                </a:lnTo>
                <a:arcTo wR="725749" hR="725749" stAng="1980319" swAng="-18077794"/>
                <a:close/>
              </a:path>
            </a:pathLst>
          </a:custGeom>
          <a:solidFill>
            <a:srgbClr val="869d59"/>
          </a:solidFill>
          <a:ln w="3240">
            <a:solidFill>
              <a:srgbClr val="869d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 type="dt" idx="8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 type="ftr" idx="8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 type="sldNum" idx="8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0E48-11FF-40C2-A307-D666438A3B59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1" name="图片 10" descr=""/>
          <p:cNvPicPr/>
          <p:nvPr/>
        </p:nvPicPr>
        <p:blipFill>
          <a:blip r:embed="rId2"/>
          <a:srcRect l="10872" t="1311" r="2133" b="15239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302" name="矩形 11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303" name="矩形 11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4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 type="dt" idx="8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 type="ftr" idx="8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 type="sldNum" idx="8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724A-CFE1-4297-8AA9-CC6EFD22F178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93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94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96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AF5C-C4D9-435E-9531-F78216E94FB2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6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347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34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9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350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 type="dt" idx="8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 type="ftr" idx="8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 type="sldNum" idx="9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4D2D-E2F5-49B2-9092-D61DC01C2032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2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393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394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5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396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 type="dt" idx="9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 type="ftr" idx="9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401" name="PlaceHolder 5"/>
          <p:cNvSpPr>
            <a:spLocks noGrp="1"/>
          </p:cNvSpPr>
          <p:nvPr>
            <p:ph type="sldNum" idx="9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A97D-6F97-4CBA-BB9A-35E8E6B1BB0A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439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440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1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442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1443" name="图片 10" descr=""/>
          <p:cNvPicPr/>
          <p:nvPr/>
        </p:nvPicPr>
        <p:blipFill>
          <a:blip r:embed="rId5"/>
          <a:srcRect l="0" t="1679" r="400" b="0"/>
          <a:stretch/>
        </p:blipFill>
        <p:spPr>
          <a:xfrm>
            <a:off x="1440" y="0"/>
            <a:ext cx="9142560" cy="6861240"/>
          </a:xfrm>
          <a:prstGeom prst="rect">
            <a:avLst/>
          </a:prstGeom>
          <a:ln w="0">
            <a:noFill/>
          </a:ln>
        </p:spPr>
      </p:pic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 type="dt" idx="9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 type="ftr" idx="9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 type="sldNum" idx="9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9808-BDA7-4212-B558-E356E47B5BF5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6"/>
    <p:sldLayoutId id="2147484053" r:id="rId7"/>
    <p:sldLayoutId id="2147484054" r:id="rId8"/>
    <p:sldLayoutId id="2147484055" r:id="rId9"/>
    <p:sldLayoutId id="2147484056" r:id="rId10"/>
    <p:sldLayoutId id="2147484057" r:id="rId11"/>
    <p:sldLayoutId id="2147484058" r:id="rId12"/>
    <p:sldLayoutId id="2147484059" r:id="rId13"/>
    <p:sldLayoutId id="2147484060" r:id="rId14"/>
    <p:sldLayoutId id="2147484061" r:id="rId15"/>
    <p:sldLayoutId id="2147484062" r:id="rId16"/>
    <p:sldLayoutId id="2147484063" r:id="rId17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5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486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487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8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489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 type="dt" idx="9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 type="ftr" idx="9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494" name="PlaceHolder 5"/>
          <p:cNvSpPr>
            <a:spLocks noGrp="1"/>
          </p:cNvSpPr>
          <p:nvPr>
            <p:ph type="sldNum" idx="9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E0A8-615E-4EE1-BBCF-0DB8EA4CF49E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1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532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533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4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535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536" name="任意多边形 10"/>
          <p:cNvSpPr/>
          <p:nvPr/>
        </p:nvSpPr>
        <p:spPr>
          <a:xfrm>
            <a:off x="2149560" y="2313000"/>
            <a:ext cx="4900680" cy="1801800"/>
          </a:xfrm>
          <a:custGeom>
            <a:avLst/>
            <a:gdLst/>
            <a:ahLst/>
            <a:rect l="l" t="t" r="r" b="b"/>
            <a:pathLst>
              <a:path w="4901184" h="1801368">
                <a:moveTo>
                  <a:pt x="1112071" y="0"/>
                </a:moveTo>
                <a:lnTo>
                  <a:pt x="4901184" y="0"/>
                </a:lnTo>
                <a:lnTo>
                  <a:pt x="4901184" y="1008251"/>
                </a:lnTo>
                <a:lnTo>
                  <a:pt x="3799357" y="1801368"/>
                </a:lnTo>
                <a:lnTo>
                  <a:pt x="0" y="1801368"/>
                </a:lnTo>
                <a:lnTo>
                  <a:pt x="0" y="800490"/>
                </a:lnTo>
                <a:close/>
              </a:path>
            </a:pathLst>
          </a:custGeom>
          <a:solidFill>
            <a:srgbClr val="869d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37" name="直接连接符 11"/>
          <p:cNvSpPr/>
          <p:nvPr/>
        </p:nvSpPr>
        <p:spPr>
          <a:xfrm flipH="1">
            <a:off x="1645920" y="1947960"/>
            <a:ext cx="2103480" cy="1517400"/>
          </a:xfrm>
          <a:prstGeom prst="line">
            <a:avLst/>
          </a:prstGeom>
          <a:ln w="12600">
            <a:solidFill>
              <a:srgbClr val="647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38" name="直接连接符 12"/>
          <p:cNvSpPr/>
          <p:nvPr/>
        </p:nvSpPr>
        <p:spPr>
          <a:xfrm flipH="1">
            <a:off x="5403600" y="2981160"/>
            <a:ext cx="2103480" cy="1517760"/>
          </a:xfrm>
          <a:prstGeom prst="line">
            <a:avLst/>
          </a:prstGeom>
          <a:ln w="12600">
            <a:solidFill>
              <a:srgbClr val="647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 type="dt" idx="10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 type="ftr" idx="10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 type="sldNum" idx="10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7C61-D077-4ACD-8E4C-1BAF9F2BD194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5"/>
    <p:sldLayoutId id="2147484079" r:id="rId6"/>
    <p:sldLayoutId id="2147484080" r:id="rId7"/>
    <p:sldLayoutId id="2147484081" r:id="rId8"/>
    <p:sldLayoutId id="2147484082" r:id="rId9"/>
    <p:sldLayoutId id="2147484083" r:id="rId10"/>
    <p:sldLayoutId id="2147484084" r:id="rId11"/>
    <p:sldLayoutId id="2147484085" r:id="rId12"/>
    <p:sldLayoutId id="2147484086" r:id="rId13"/>
    <p:sldLayoutId id="2147484087" r:id="rId14"/>
    <p:sldLayoutId id="2147484088" r:id="rId15"/>
    <p:sldLayoutId id="2147484089" r:id="rId16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0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581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582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3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584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 type="dt" idx="10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 type="ftr" idx="10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 type="sldNum" idx="10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FB0F-A9F0-48B5-9336-6598B92CBD0F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5"/>
    <p:sldLayoutId id="2147484092" r:id="rId6"/>
    <p:sldLayoutId id="2147484093" r:id="rId7"/>
    <p:sldLayoutId id="2147484094" r:id="rId8"/>
    <p:sldLayoutId id="2147484095" r:id="rId9"/>
    <p:sldLayoutId id="2147484096" r:id="rId10"/>
    <p:sldLayoutId id="2147484097" r:id="rId11"/>
    <p:sldLayoutId id="2147484098" r:id="rId12"/>
    <p:sldLayoutId id="2147484099" r:id="rId13"/>
    <p:sldLayoutId id="2147484100" r:id="rId14"/>
    <p:sldLayoutId id="2147484101" r:id="rId15"/>
    <p:sldLayoutId id="2147484102" r:id="rId16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6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627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62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9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630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 type="dt" idx="10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 type="ftr" idx="10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 type="sldNum" idx="10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0DB0-482E-4777-82CC-EB925D764B0E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5"/>
    <p:sldLayoutId id="2147484105" r:id="rId6"/>
    <p:sldLayoutId id="2147484106" r:id="rId7"/>
    <p:sldLayoutId id="2147484107" r:id="rId8"/>
    <p:sldLayoutId id="2147484108" r:id="rId9"/>
    <p:sldLayoutId id="2147484109" r:id="rId10"/>
    <p:sldLayoutId id="2147484110" r:id="rId11"/>
    <p:sldLayoutId id="2147484111" r:id="rId12"/>
    <p:sldLayoutId id="2147484112" r:id="rId13"/>
    <p:sldLayoutId id="2147484113" r:id="rId14"/>
    <p:sldLayoutId id="2147484114" r:id="rId15"/>
    <p:sldLayoutId id="2147484115" r:id="rId16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2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673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674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5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676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677" name="空心弧 10"/>
          <p:cNvSpPr/>
          <p:nvPr/>
        </p:nvSpPr>
        <p:spPr>
          <a:xfrm rot="7086000">
            <a:off x="5523840" y="2592360"/>
            <a:ext cx="1482840" cy="1482840"/>
          </a:xfrm>
          <a:custGeom>
            <a:avLst/>
            <a:gdLst>
              <a:gd name="textAreaLeft" fmla="*/ 0 w 1482840"/>
              <a:gd name="textAreaRight" fmla="*/ 1483200 w 1482840"/>
              <a:gd name="textAreaTop" fmla="*/ 0 h 1482840"/>
              <a:gd name="textAreaBottom" fmla="*/ 1482840 h 1482840"/>
            </a:gdLst>
            <a:ahLst/>
            <a:rect l="textAreaLeft" t="textAreaTop" r="textAreaRight" b="textAreaBottom"/>
            <a:pathLst>
              <a:path w="1482725" h="1482725">
                <a:moveTo>
                  <a:pt x="719254" y="1482395"/>
                </a:moveTo>
                <a:lnTo>
                  <a:pt x="719254" y="1482395"/>
                </a:lnTo>
                <a:arcTo wR="741363" hR="741363" stAng="5502536" swAng="18077789"/>
                <a:lnTo>
                  <a:pt x="1349991" y="1136690"/>
                </a:lnTo>
                <a:lnTo>
                  <a:pt x="1349991" y="1136690"/>
                </a:lnTo>
                <a:arcTo wR="725749" hR="725749" stAng="1980319" swAng="-18077794"/>
                <a:close/>
              </a:path>
            </a:pathLst>
          </a:custGeom>
          <a:solidFill>
            <a:srgbClr val="869d59"/>
          </a:solidFill>
          <a:ln w="3240">
            <a:solidFill>
              <a:srgbClr val="869d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 type="dt" idx="10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 type="ftr" idx="11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682" name="PlaceHolder 5"/>
          <p:cNvSpPr>
            <a:spLocks noGrp="1"/>
          </p:cNvSpPr>
          <p:nvPr>
            <p:ph type="sldNum" idx="11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549F-A6F9-43B8-8BBB-B9CA56819820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5"/>
    <p:sldLayoutId id="2147484118" r:id="rId6"/>
    <p:sldLayoutId id="2147484119" r:id="rId7"/>
    <p:sldLayoutId id="2147484120" r:id="rId8"/>
    <p:sldLayoutId id="2147484121" r:id="rId9"/>
    <p:sldLayoutId id="2147484122" r:id="rId10"/>
    <p:sldLayoutId id="2147484123" r:id="rId11"/>
    <p:sldLayoutId id="2147484124" r:id="rId12"/>
    <p:sldLayoutId id="2147484125" r:id="rId13"/>
    <p:sldLayoutId id="2147484126" r:id="rId14"/>
    <p:sldLayoutId id="2147484127" r:id="rId15"/>
    <p:sldLayoutId id="2147484128" r:id="rId16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9" name="图片 10" descr=""/>
          <p:cNvPicPr/>
          <p:nvPr/>
        </p:nvPicPr>
        <p:blipFill>
          <a:blip r:embed="rId2"/>
          <a:srcRect l="10872" t="1311" r="2133" b="15239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720" name="矩形 11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721" name="矩形 11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2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 type="dt" idx="11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 type="ftr" idx="11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727" name="PlaceHolder 5"/>
          <p:cNvSpPr>
            <a:spLocks noGrp="1"/>
          </p:cNvSpPr>
          <p:nvPr>
            <p:ph type="sldNum" idx="11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3810-AAC3-446E-A877-B90965598C33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4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765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766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7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768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 type="dt" idx="11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 type="ftr" idx="11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 type="sldNum" idx="11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7E22-B454-4C2C-A427-72D0DC1BA26C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5"/>
    <p:sldLayoutId id="2147484144" r:id="rId6"/>
    <p:sldLayoutId id="2147484145" r:id="rId7"/>
    <p:sldLayoutId id="2147484146" r:id="rId8"/>
    <p:sldLayoutId id="2147484147" r:id="rId9"/>
    <p:sldLayoutId id="2147484148" r:id="rId10"/>
    <p:sldLayoutId id="2147484149" r:id="rId11"/>
    <p:sldLayoutId id="2147484150" r:id="rId12"/>
    <p:sldLayoutId id="2147484151" r:id="rId13"/>
    <p:sldLayoutId id="2147484152" r:id="rId14"/>
    <p:sldLayoutId id="2147484153" r:id="rId15"/>
    <p:sldLayoutId id="2147484154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39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40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42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CF13-483F-4410-9FEB-9E3687DC902D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0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811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812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3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814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 type="dt" idx="11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 type="ftr" idx="11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819" name="PlaceHolder 5"/>
          <p:cNvSpPr>
            <a:spLocks noGrp="1"/>
          </p:cNvSpPr>
          <p:nvPr>
            <p:ph type="sldNum" idx="12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184D-2F0E-4E5B-ADA5-8C7C67420C3A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5"/>
    <p:sldLayoutId id="2147484157" r:id="rId6"/>
    <p:sldLayoutId id="2147484158" r:id="rId7"/>
    <p:sldLayoutId id="2147484159" r:id="rId8"/>
    <p:sldLayoutId id="2147484160" r:id="rId9"/>
    <p:sldLayoutId id="2147484161" r:id="rId10"/>
    <p:sldLayoutId id="2147484162" r:id="rId11"/>
    <p:sldLayoutId id="2147484163" r:id="rId12"/>
    <p:sldLayoutId id="2147484164" r:id="rId13"/>
    <p:sldLayoutId id="2147484165" r:id="rId14"/>
    <p:sldLayoutId id="2147484166" r:id="rId15"/>
    <p:sldLayoutId id="2147484167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85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86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88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10" descr=""/>
          <p:cNvPicPr/>
          <p:nvPr/>
        </p:nvPicPr>
        <p:blipFill>
          <a:blip r:embed="rId5"/>
          <a:srcRect l="0" t="1679" r="400" b="0"/>
          <a:stretch/>
        </p:blipFill>
        <p:spPr>
          <a:xfrm>
            <a:off x="1440" y="0"/>
            <a:ext cx="9142560" cy="686124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DC08-01CA-4D6D-8EDB-8AA738DEB6BB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232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233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235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6A73-7C8B-44E2-B5F3-9AE53A85DB76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278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279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281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82" name="任意多边形 10"/>
          <p:cNvSpPr/>
          <p:nvPr/>
        </p:nvSpPr>
        <p:spPr>
          <a:xfrm>
            <a:off x="2149560" y="2313000"/>
            <a:ext cx="4900680" cy="1801800"/>
          </a:xfrm>
          <a:custGeom>
            <a:avLst/>
            <a:gdLst/>
            <a:ahLst/>
            <a:rect l="l" t="t" r="r" b="b"/>
            <a:pathLst>
              <a:path w="4901184" h="1801368">
                <a:moveTo>
                  <a:pt x="1112071" y="0"/>
                </a:moveTo>
                <a:lnTo>
                  <a:pt x="4901184" y="0"/>
                </a:lnTo>
                <a:lnTo>
                  <a:pt x="4901184" y="1008251"/>
                </a:lnTo>
                <a:lnTo>
                  <a:pt x="3799357" y="1801368"/>
                </a:lnTo>
                <a:lnTo>
                  <a:pt x="0" y="1801368"/>
                </a:lnTo>
                <a:lnTo>
                  <a:pt x="0" y="800490"/>
                </a:lnTo>
                <a:close/>
              </a:path>
            </a:pathLst>
          </a:custGeom>
          <a:solidFill>
            <a:srgbClr val="869d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83" name="直接连接符 11"/>
          <p:cNvSpPr/>
          <p:nvPr/>
        </p:nvSpPr>
        <p:spPr>
          <a:xfrm flipH="1">
            <a:off x="1645920" y="1947960"/>
            <a:ext cx="2103480" cy="1517400"/>
          </a:xfrm>
          <a:prstGeom prst="line">
            <a:avLst/>
          </a:prstGeom>
          <a:ln w="12600">
            <a:solidFill>
              <a:srgbClr val="647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84" name="直接连接符 12"/>
          <p:cNvSpPr/>
          <p:nvPr/>
        </p:nvSpPr>
        <p:spPr>
          <a:xfrm flipH="1">
            <a:off x="5403600" y="2981160"/>
            <a:ext cx="2103480" cy="1517760"/>
          </a:xfrm>
          <a:prstGeom prst="line">
            <a:avLst/>
          </a:prstGeom>
          <a:ln w="12600">
            <a:solidFill>
              <a:srgbClr val="647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DDC3-1C58-46C6-A546-9B802DD68CD3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327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32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330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DA47-DB3E-409C-9B6C-40589FFC40DF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373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374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376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C2E0-2CB2-4AB5-8D98-C87852C8B645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TextBox 2"/>
          <p:cNvSpPr/>
          <p:nvPr/>
        </p:nvSpPr>
        <p:spPr>
          <a:xfrm>
            <a:off x="1084320" y="21700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幼圆"/>
                <a:ea typeface="幼圆"/>
              </a:rPr>
              <a:t>4.</a:t>
            </a:r>
            <a:r>
              <a:rPr b="1" lang="zh-CN" sz="4800" spc="-1" strike="noStrike">
                <a:solidFill>
                  <a:srgbClr val="0000cc"/>
                </a:solidFill>
                <a:latin typeface="幼圆"/>
                <a:ea typeface="幼圆"/>
              </a:rPr>
              <a:t>口语交际：有趣的动物</a:t>
            </a:r>
            <a:endParaRPr b="0" lang="en-US" sz="4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857" name="TextBox 3"/>
          <p:cNvSpPr/>
          <p:nvPr/>
        </p:nvSpPr>
        <p:spPr>
          <a:xfrm>
            <a:off x="2031120" y="428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部编教材二年级上册第一单元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858" name="TextBox 4"/>
          <p:cNvSpPr/>
          <p:nvPr/>
        </p:nvSpPr>
        <p:spPr>
          <a:xfrm>
            <a:off x="488880" y="5129280"/>
            <a:ext cx="698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苏州市吴江区小学组块教学研究室 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朱祺  赵桂芝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直接连接符 70"/>
          <p:cNvSpPr/>
          <p:nvPr/>
        </p:nvSpPr>
        <p:spPr>
          <a:xfrm>
            <a:off x="912960" y="1371600"/>
            <a:ext cx="7318080" cy="0"/>
          </a:xfrm>
          <a:prstGeom prst="line">
            <a:avLst/>
          </a:prstGeom>
          <a:ln w="6480">
            <a:solidFill>
              <a:srgbClr val="869d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886" name=""/>
          <p:cNvSpPr txBox="1"/>
          <p:nvPr/>
        </p:nvSpPr>
        <p:spPr>
          <a:xfrm>
            <a:off x="714240" y="1836720"/>
            <a:ext cx="75168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楷体"/>
                <a:ea typeface="楷体"/>
              </a:rPr>
              <a:t>苏州市吴江区小学组块教学研究室</a:t>
            </a:r>
            <a:endParaRPr b="0" lang="en-US" sz="3600" spc="-1" strike="noStrike">
              <a:solidFill>
                <a:srgbClr val="647643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楷体"/>
                <a:ea typeface="楷体"/>
              </a:rPr>
              <a:t>朱祺 赵桂芝</a:t>
            </a:r>
            <a:r>
              <a:rPr b="1" lang="en-US" sz="3600" spc="-1" strike="noStrike">
                <a:solidFill>
                  <a:srgbClr val="3f3f3f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3f3f3f"/>
                </a:solidFill>
                <a:latin typeface="楷体"/>
                <a:ea typeface="楷体"/>
              </a:rPr>
              <a:t>开 发</a:t>
            </a:r>
            <a:endParaRPr b="0" lang="en-US" sz="3600" spc="-1" strike="noStrike">
              <a:solidFill>
                <a:srgbClr val="647643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3f3f"/>
                </a:solidFill>
                <a:latin typeface="楷体"/>
                <a:ea typeface="楷体"/>
              </a:rPr>
              <a:t> </a:t>
            </a:r>
            <a:r>
              <a:rPr b="1" lang="en-US" sz="3600" spc="-1" strike="noStrike">
                <a:solidFill>
                  <a:srgbClr val="3f3f3f"/>
                </a:solidFill>
                <a:latin typeface="楷体"/>
                <a:ea typeface="楷体"/>
              </a:rPr>
              <a:t>2017</a:t>
            </a:r>
            <a:r>
              <a:rPr b="1" lang="zh-CN" sz="3600" spc="-1" strike="noStrike">
                <a:solidFill>
                  <a:srgbClr val="3f3f3f"/>
                </a:solidFill>
                <a:latin typeface="楷体"/>
                <a:ea typeface="楷体"/>
              </a:rPr>
              <a:t>年</a:t>
            </a:r>
            <a:r>
              <a:rPr b="1" lang="en-US" sz="3600" spc="-1" strike="noStrike">
                <a:solidFill>
                  <a:srgbClr val="3f3f3f"/>
                </a:solidFill>
                <a:latin typeface="楷体"/>
                <a:ea typeface="楷体"/>
              </a:rPr>
              <a:t>8</a:t>
            </a:r>
            <a:r>
              <a:rPr b="1" lang="zh-CN" sz="3600" spc="-1" strike="noStrike">
                <a:solidFill>
                  <a:srgbClr val="3f3f3f"/>
                </a:solidFill>
                <a:latin typeface="楷体"/>
                <a:ea typeface="楷体"/>
              </a:rPr>
              <a:t>月</a:t>
            </a:r>
            <a:r>
              <a:rPr b="1" lang="en-US" sz="3600" spc="-1" strike="noStrike">
                <a:solidFill>
                  <a:srgbClr val="3f3f3f"/>
                </a:solidFill>
                <a:latin typeface="楷体"/>
                <a:ea typeface="楷体"/>
              </a:rPr>
              <a:t>5</a:t>
            </a:r>
            <a:r>
              <a:rPr b="1" lang="zh-CN" sz="3600" spc="-1" strike="noStrike">
                <a:solidFill>
                  <a:srgbClr val="3f3f3f"/>
                </a:solidFill>
                <a:latin typeface="楷体"/>
                <a:ea typeface="楷体"/>
              </a:rPr>
              <a:t>日</a:t>
            </a:r>
            <a:endParaRPr b="0" lang="en-US" sz="3600" spc="-1" strike="noStrike">
              <a:solidFill>
                <a:srgbClr val="647643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815760" y="447480"/>
            <a:ext cx="31971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69d59"/>
                </a:solidFill>
                <a:latin typeface="Arial"/>
              </a:rPr>
              <a:t>猜猜我是谁？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pic>
        <p:nvPicPr>
          <p:cNvPr id="1860" name="图片占位符 4" descr=""/>
          <p:cNvPicPr/>
          <p:nvPr/>
        </p:nvPicPr>
        <p:blipFill>
          <a:blip r:embed="rId1"/>
          <a:srcRect l="341" t="0" r="341" b="0"/>
          <a:stretch/>
        </p:blipFill>
        <p:spPr>
          <a:xfrm>
            <a:off x="4386240" y="627120"/>
            <a:ext cx="4478400" cy="4478400"/>
          </a:xfrm>
          <a:prstGeom prst="rect">
            <a:avLst/>
          </a:prstGeom>
          <a:ln w="0">
            <a:noFill/>
          </a:ln>
        </p:spPr>
      </p:pic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630360" y="1763640"/>
            <a:ext cx="3195360" cy="27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1f1f"/>
                </a:solidFill>
                <a:latin typeface="黑体"/>
              </a:rPr>
              <a:t>头戴红缨帽，身穿小绿袍；</a:t>
            </a:r>
            <a:endParaRPr b="0" lang="en-US" sz="2000" spc="-1" strike="noStrike">
              <a:solidFill>
                <a:srgbClr val="647643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1f1f"/>
                </a:solidFill>
                <a:latin typeface="黑体"/>
              </a:rPr>
              <a:t>学习人说话，小嘴真乖巧。</a:t>
            </a:r>
            <a:endParaRPr b="0" lang="en-US" sz="2000" spc="-1" strike="noStrike">
              <a:solidFill>
                <a:srgbClr val="647643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7643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1f1f"/>
                </a:solidFill>
                <a:latin typeface="黑体"/>
              </a:rPr>
              <a:t>钩钩嘴儿巧，身穿彩色袍，</a:t>
            </a:r>
            <a:endParaRPr b="0" lang="en-US" sz="2000" spc="-1" strike="noStrike">
              <a:solidFill>
                <a:srgbClr val="647643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1f1f"/>
                </a:solidFill>
                <a:latin typeface="黑体"/>
              </a:rPr>
              <a:t>鸟类里面找，学舌逗人笑。</a:t>
            </a:r>
            <a:endParaRPr b="0" lang="en-US" sz="2000" spc="-1" strike="noStrike">
              <a:solidFill>
                <a:srgbClr val="647643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7643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7643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62" name="文本框 7"/>
          <p:cNvSpPr/>
          <p:nvPr/>
        </p:nvSpPr>
        <p:spPr>
          <a:xfrm>
            <a:off x="1200240" y="50292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谜底：（鹦鹉）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"/>
          <p:cNvSpPr txBox="1"/>
          <p:nvPr/>
        </p:nvSpPr>
        <p:spPr>
          <a:xfrm>
            <a:off x="739440" y="1200240"/>
            <a:ext cx="2554200" cy="25272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7643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7643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1f1f"/>
                </a:solidFill>
                <a:latin typeface="黑体"/>
              </a:rPr>
              <a:t>“</a:t>
            </a:r>
            <a:r>
              <a:rPr b="1" lang="zh-CN" sz="2400" spc="-1" strike="noStrike">
                <a:solidFill>
                  <a:srgbClr val="1f1f1f"/>
                </a:solidFill>
                <a:latin typeface="黑体"/>
              </a:rPr>
              <a:t>学习人说话”</a:t>
            </a:r>
            <a:endParaRPr b="0" lang="en-US" sz="2400" spc="-1" strike="noStrike">
              <a:solidFill>
                <a:srgbClr val="647643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1f1f"/>
                </a:solidFill>
                <a:latin typeface="黑体"/>
              </a:rPr>
              <a:t>“</a:t>
            </a:r>
            <a:r>
              <a:rPr b="1" lang="zh-CN" sz="2400" spc="-1" strike="noStrike">
                <a:solidFill>
                  <a:srgbClr val="1f1f1f"/>
                </a:solidFill>
                <a:latin typeface="黑体"/>
              </a:rPr>
              <a:t>学舌逗人笑”</a:t>
            </a:r>
            <a:endParaRPr b="0" lang="en-US" sz="2400" spc="-1" strike="noStrike">
              <a:solidFill>
                <a:srgbClr val="647643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7643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7643"/>
              </a:solidFill>
              <a:latin typeface="Arial"/>
            </a:endParaRPr>
          </a:p>
        </p:txBody>
      </p:sp>
      <p:pic>
        <p:nvPicPr>
          <p:cNvPr id="1864" name="图片 4" descr=""/>
          <p:cNvPicPr/>
          <p:nvPr/>
        </p:nvPicPr>
        <p:blipFill>
          <a:blip r:embed="rId1"/>
          <a:stretch/>
        </p:blipFill>
        <p:spPr>
          <a:xfrm>
            <a:off x="6480000" y="2739960"/>
            <a:ext cx="1860840" cy="1860480"/>
          </a:xfrm>
          <a:prstGeom prst="rect">
            <a:avLst/>
          </a:prstGeom>
          <a:ln w="0">
            <a:noFill/>
          </a:ln>
        </p:spPr>
      </p:pic>
      <p:sp>
        <p:nvSpPr>
          <p:cNvPr id="1865" name="思想气泡: 云 5"/>
          <p:cNvSpPr/>
          <p:nvPr/>
        </p:nvSpPr>
        <p:spPr>
          <a:xfrm>
            <a:off x="3564000" y="969840"/>
            <a:ext cx="3643200" cy="1576440"/>
          </a:xfrm>
          <a:prstGeom prst="cloudCallout">
            <a:avLst>
              <a:gd name="adj1" fmla="val 51282"/>
              <a:gd name="adj2" fmla="val 87615"/>
            </a:avLst>
          </a:prstGeom>
          <a:solidFill>
            <a:srgbClr val="ffffff"/>
          </a:solidFill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是怎么猜出来的？</a:t>
            </a: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866" name="思想气泡: 云 6"/>
          <p:cNvSpPr/>
          <p:nvPr/>
        </p:nvSpPr>
        <p:spPr>
          <a:xfrm>
            <a:off x="2336760" y="4297320"/>
            <a:ext cx="3456000" cy="1511280"/>
          </a:xfrm>
          <a:prstGeom prst="cloudCallout">
            <a:avLst>
              <a:gd name="adj1" fmla="val 80351"/>
              <a:gd name="adj2" fmla="val -52037"/>
            </a:avLst>
          </a:prstGeom>
          <a:solidFill>
            <a:srgbClr val="ffffff"/>
          </a:solidFill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有趣吗？</a:t>
            </a: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pic>
        <p:nvPicPr>
          <p:cNvPr id="1868" name="内容占位符 9" descr=""/>
          <p:cNvPicPr/>
          <p:nvPr/>
        </p:nvPicPr>
        <p:blipFill>
          <a:blip r:embed="rId1"/>
          <a:stretch/>
        </p:blipFill>
        <p:spPr>
          <a:xfrm>
            <a:off x="3419640" y="1417680"/>
            <a:ext cx="4886280" cy="3892680"/>
          </a:xfrm>
          <a:prstGeom prst="rect">
            <a:avLst/>
          </a:prstGeom>
          <a:ln w="0">
            <a:noFill/>
          </a:ln>
        </p:spPr>
      </p:pic>
      <p:sp>
        <p:nvSpPr>
          <p:cNvPr id="1869" name="文本框 11"/>
          <p:cNvSpPr/>
          <p:nvPr/>
        </p:nvSpPr>
        <p:spPr>
          <a:xfrm>
            <a:off x="244440" y="1792440"/>
            <a:ext cx="39625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黑体"/>
              </a:rPr>
              <a:t>你对我的介绍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黑体"/>
              </a:rPr>
              <a:t>还满意吗？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8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8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3859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pic>
        <p:nvPicPr>
          <p:cNvPr id="1871" name="内容占位符 9" descr=""/>
          <p:cNvPicPr/>
          <p:nvPr/>
        </p:nvPicPr>
        <p:blipFill>
          <a:blip r:embed="rId1"/>
          <a:stretch/>
        </p:blipFill>
        <p:spPr>
          <a:xfrm>
            <a:off x="3419640" y="1417680"/>
            <a:ext cx="4886280" cy="3892680"/>
          </a:xfrm>
          <a:prstGeom prst="rect">
            <a:avLst/>
          </a:prstGeom>
          <a:ln w="0">
            <a:noFill/>
          </a:ln>
        </p:spPr>
      </p:pic>
      <p:sp>
        <p:nvSpPr>
          <p:cNvPr id="1872" name="文本框 11"/>
          <p:cNvSpPr/>
          <p:nvPr/>
        </p:nvSpPr>
        <p:spPr>
          <a:xfrm>
            <a:off x="244440" y="1792440"/>
            <a:ext cx="39625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黑体"/>
              </a:rPr>
              <a:t>谁也能试一试？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文本框 22"/>
          <p:cNvSpPr/>
          <p:nvPr/>
        </p:nvSpPr>
        <p:spPr>
          <a:xfrm>
            <a:off x="630360" y="341280"/>
            <a:ext cx="788328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69d59"/>
                </a:solidFill>
                <a:latin typeface="Arial"/>
              </a:rPr>
              <a:t>我是小小讲解员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</p:txBody>
      </p:sp>
      <p:pic>
        <p:nvPicPr>
          <p:cNvPr id="1874" name="图片 23" descr=""/>
          <p:cNvPicPr/>
          <p:nvPr/>
        </p:nvPicPr>
        <p:blipFill>
          <a:blip r:embed="rId1"/>
          <a:stretch/>
        </p:blipFill>
        <p:spPr>
          <a:xfrm>
            <a:off x="773280" y="1314360"/>
            <a:ext cx="7597440" cy="4280040"/>
          </a:xfrm>
          <a:prstGeom prst="rect">
            <a:avLst/>
          </a:prstGeom>
          <a:ln w="0">
            <a:noFill/>
          </a:ln>
        </p:spPr>
      </p:pic>
      <p:sp>
        <p:nvSpPr>
          <p:cNvPr id="1875" name="文本框 24"/>
          <p:cNvSpPr/>
          <p:nvPr/>
        </p:nvSpPr>
        <p:spPr>
          <a:xfrm>
            <a:off x="630360" y="5753160"/>
            <a:ext cx="78832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1f1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1f1f1f"/>
                </a:solidFill>
                <a:latin typeface="Arial"/>
              </a:rPr>
              <a:t>小朋友，你能为游客介绍大象吗？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20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6" name="内容占位符 4" descr=""/>
          <p:cNvPicPr/>
          <p:nvPr/>
        </p:nvPicPr>
        <p:blipFill>
          <a:blip r:embed="rId1"/>
          <a:stretch/>
        </p:blipFill>
        <p:spPr>
          <a:xfrm>
            <a:off x="163440" y="182520"/>
            <a:ext cx="4286160" cy="2724120"/>
          </a:xfrm>
          <a:prstGeom prst="rect">
            <a:avLst/>
          </a:prstGeom>
          <a:ln w="0">
            <a:noFill/>
          </a:ln>
        </p:spPr>
      </p:pic>
      <p:pic>
        <p:nvPicPr>
          <p:cNvPr id="1877" name="图片 6" descr=""/>
          <p:cNvPicPr/>
          <p:nvPr/>
        </p:nvPicPr>
        <p:blipFill>
          <a:blip r:embed="rId2"/>
          <a:stretch/>
        </p:blipFill>
        <p:spPr>
          <a:xfrm>
            <a:off x="4626000" y="182520"/>
            <a:ext cx="4338720" cy="2724120"/>
          </a:xfrm>
          <a:prstGeom prst="rect">
            <a:avLst/>
          </a:prstGeom>
          <a:ln w="0">
            <a:noFill/>
          </a:ln>
        </p:spPr>
      </p:pic>
      <p:pic>
        <p:nvPicPr>
          <p:cNvPr id="1878" name="图片 10" descr=""/>
          <p:cNvPicPr/>
          <p:nvPr/>
        </p:nvPicPr>
        <p:blipFill>
          <a:blip r:embed="rId3"/>
          <a:stretch/>
        </p:blipFill>
        <p:spPr>
          <a:xfrm>
            <a:off x="0" y="2992320"/>
            <a:ext cx="4449600" cy="3235320"/>
          </a:xfrm>
          <a:prstGeom prst="rect">
            <a:avLst/>
          </a:prstGeom>
          <a:ln w="0">
            <a:noFill/>
          </a:ln>
        </p:spPr>
      </p:pic>
      <p:pic>
        <p:nvPicPr>
          <p:cNvPr id="1879" name="图片 12" descr=""/>
          <p:cNvPicPr/>
          <p:nvPr/>
        </p:nvPicPr>
        <p:blipFill>
          <a:blip r:embed="rId4"/>
          <a:stretch/>
        </p:blipFill>
        <p:spPr>
          <a:xfrm>
            <a:off x="4626000" y="2992320"/>
            <a:ext cx="4338720" cy="3235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8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0" name="图片 5" descr=""/>
          <p:cNvPicPr/>
          <p:nvPr/>
        </p:nvPicPr>
        <p:blipFill>
          <a:blip r:embed="rId1"/>
          <a:stretch/>
        </p:blipFill>
        <p:spPr>
          <a:xfrm>
            <a:off x="457200" y="2779560"/>
            <a:ext cx="2835360" cy="2297160"/>
          </a:xfrm>
          <a:prstGeom prst="rect">
            <a:avLst/>
          </a:prstGeom>
          <a:ln w="0">
            <a:noFill/>
          </a:ln>
        </p:spPr>
      </p:pic>
      <p:sp>
        <p:nvSpPr>
          <p:cNvPr id="1881" name="思想气泡: 云 6"/>
          <p:cNvSpPr/>
          <p:nvPr/>
        </p:nvSpPr>
        <p:spPr>
          <a:xfrm>
            <a:off x="4413240" y="1849320"/>
            <a:ext cx="4141800" cy="2478240"/>
          </a:xfrm>
          <a:prstGeom prst="cloudCallout">
            <a:avLst>
              <a:gd name="adj1" fmla="val -77333"/>
              <a:gd name="adj2" fmla="val 29638"/>
            </a:avLst>
          </a:prstGeom>
          <a:noFill/>
          <a:ln w="12600">
            <a:solidFill>
              <a:srgbClr val="617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黑体"/>
              </a:rPr>
              <a:t>来到新班级，可以怎样介绍自己？谁来试一试？</a:t>
            </a:r>
            <a:endParaRPr b="0" lang="en-US" sz="28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思想气泡: 云 6"/>
          <p:cNvSpPr/>
          <p:nvPr/>
        </p:nvSpPr>
        <p:spPr>
          <a:xfrm rot="21420000">
            <a:off x="4465440" y="1464840"/>
            <a:ext cx="3606480" cy="2719440"/>
          </a:xfrm>
          <a:prstGeom prst="cloudCallout">
            <a:avLst>
              <a:gd name="adj1" fmla="val -69361"/>
              <a:gd name="adj2" fmla="val 37490"/>
            </a:avLst>
          </a:prstGeom>
          <a:noFill/>
          <a:ln w="12600">
            <a:solidFill>
              <a:srgbClr val="617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你能夸一夸身边的同学们吗？</a:t>
            </a:r>
            <a:endParaRPr b="0" lang="en-US" sz="2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883" name="文本框 1"/>
          <p:cNvSpPr/>
          <p:nvPr/>
        </p:nvSpPr>
        <p:spPr>
          <a:xfrm>
            <a:off x="165240" y="482760"/>
            <a:ext cx="543564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pic>
        <p:nvPicPr>
          <p:cNvPr id="1884" name="图片 5" descr=""/>
          <p:cNvPicPr/>
          <p:nvPr/>
        </p:nvPicPr>
        <p:blipFill>
          <a:blip r:embed="rId1"/>
          <a:stretch/>
        </p:blipFill>
        <p:spPr>
          <a:xfrm>
            <a:off x="757080" y="2909880"/>
            <a:ext cx="2833920" cy="2295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7T14:35:00Z</dcterms:created>
  <dc:creator>盛zhe</dc:creator>
  <dc:description/>
  <dc:language>en-US</dc:language>
  <cp:lastModifiedBy>_</cp:lastModifiedBy>
  <dcterms:modified xsi:type="dcterms:W3CDTF">2017-08-21T03:40:16Z</dcterms:modified>
  <cp:revision>15</cp:revision>
  <dc:subject/>
  <dc:title>板块一、猜谜游戏：猜猜我是谁？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