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EBC5-45E1-4271-B349-B6E80605B5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0008-8B1F-4D23-949E-3A61735D43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D08-1B34-4C42-8C5E-2789665A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C5B-5414-458C-B229-EC43BE0A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F5E-DAF7-4A20-A30F-25868865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4D4-78F3-476C-9401-3818FAA7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C25-E4D3-415F-89CF-63CF2B1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EE2-D8D5-4935-8389-72E23BC6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CFD-590A-4C45-B5EC-265D9FF1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49F-78F1-470A-A3E8-B518B4FC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B65-32D0-4C4F-A7A5-7199D7AB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3A0-0405-4683-927A-D9A35F4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A63-F491-4E7C-A673-E9C3803C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4D3-6F36-46B2-B600-6ABC0F04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97CE-9C2D-4A5F-B0C5-C73AE6BE6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珠        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457200" y="3962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今        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内容占位符 2"/>
          <p:cNvSpPr/>
          <p:nvPr/>
        </p:nvSpPr>
        <p:spPr>
          <a:xfrm>
            <a:off x="30492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zhu      sh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内容占位符 2"/>
          <p:cNvSpPr/>
          <p:nvPr/>
        </p:nvSpPr>
        <p:spPr>
          <a:xfrm>
            <a:off x="457200" y="3048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jin      x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990720" y="4114800"/>
            <a:ext cx="7467480" cy="92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447920" y="2971800"/>
            <a:ext cx="5333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9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1066680" y="152388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495680" y="3048120"/>
            <a:ext cx="609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914400" y="4495680"/>
            <a:ext cx="7315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7" descr="timg (90).jpg"/>
          <p:cNvPicPr/>
          <p:nvPr/>
        </p:nvPicPr>
        <p:blipFill>
          <a:blip r:embed="rId2"/>
          <a:stretch/>
        </p:blipFill>
        <p:spPr>
          <a:xfrm>
            <a:off x="0" y="396252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8" descr="timg (90).jpg"/>
          <p:cNvPicPr/>
          <p:nvPr/>
        </p:nvPicPr>
        <p:blipFill>
          <a:blip r:embed="rId3"/>
          <a:srcRect l="0" t="0" r="79174" b="0"/>
          <a:stretch/>
        </p:blipFill>
        <p:spPr>
          <a:xfrm>
            <a:off x="5562720" y="4130640"/>
            <a:ext cx="8380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只         支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、支，都是量词，用于计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只”用于计某些成对的东西的一个、动物（多指飞禽、走兽）、某些器具、船只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只雨鞋    一只小狗    一只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支”用于计杆状物品、队伍、歌曲、乐曲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支笔，一支歌，一支队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沓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纸    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信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句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话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束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9"/>
          <p:cNvGrpSpPr/>
          <p:nvPr/>
        </p:nvGrpSpPr>
        <p:grpSpPr>
          <a:xfrm>
            <a:off x="1905120" y="1752480"/>
            <a:ext cx="5195880" cy="2476800"/>
            <a:chOff x="1905120" y="1752480"/>
            <a:chExt cx="5195880" cy="2476800"/>
          </a:xfrm>
        </p:grpSpPr>
        <p:sp>
          <p:nvSpPr>
            <p:cNvPr id="100" name="矩形 4"/>
            <p:cNvSpPr/>
            <p:nvPr/>
          </p:nvSpPr>
          <p:spPr>
            <a:xfrm>
              <a:off x="1905120" y="175248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"/>
            <p:cNvSpPr/>
            <p:nvPr/>
          </p:nvSpPr>
          <p:spPr>
            <a:xfrm>
              <a:off x="2209680" y="320040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6"/>
            <p:cNvSpPr/>
            <p:nvPr/>
          </p:nvSpPr>
          <p:spPr>
            <a:xfrm>
              <a:off x="6095880" y="182844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7"/>
          <p:cNvSpPr/>
          <p:nvPr/>
        </p:nvSpPr>
        <p:spPr>
          <a:xfrm>
            <a:off x="6172200" y="3200400"/>
            <a:ext cx="1004760" cy="102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5" name="内容占位符 3" descr="6.7.jpg"/>
          <p:cNvPicPr/>
          <p:nvPr/>
        </p:nvPicPr>
        <p:blipFill>
          <a:blip r:embed="rId1"/>
          <a:stretch/>
        </p:blipFill>
        <p:spPr>
          <a:xfrm>
            <a:off x="436680" y="225360"/>
            <a:ext cx="78692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7" name="内容占位符 3" descr="6.8.jpg"/>
          <p:cNvPicPr/>
          <p:nvPr/>
        </p:nvPicPr>
        <p:blipFill>
          <a:blip r:embed="rId1"/>
          <a:srcRect l="0" t="0" r="0" b="11538"/>
          <a:stretch/>
        </p:blipFill>
        <p:spPr>
          <a:xfrm>
            <a:off x="457200" y="6094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81080" y="16761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削水果    削铅笔   削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09480" y="3322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2133720" y="4724280"/>
            <a:ext cx="6019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铁锅   铜锅  砂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蒸锅   炒锅  炖锅  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标题 1"/>
          <p:cNvSpPr/>
          <p:nvPr/>
        </p:nvSpPr>
        <p:spPr>
          <a:xfrm>
            <a:off x="457200" y="2746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838080" y="1676520"/>
            <a:ext cx="9372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新鲜   鲜花   鲜艳   鲜红   鲜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09480" y="3017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990720" y="4419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修改   修理   修订   修正   保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齐读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89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3809880" y="3581280"/>
            <a:ext cx="15242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讲一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内容占位符 5" descr="6.10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fēng xìn  zhu   deng   j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封    信    珠    灯     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面   写信   明珠  灯光   今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底   书信   眼珠  红灯   今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信封   信心   泪珠  路灯   今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口   自信   水珠  台灯   如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3" name="内容占位符 3" descr="6.13.jpg"/>
          <p:cNvPicPr/>
          <p:nvPr/>
        </p:nvPicPr>
        <p:blipFill>
          <a:blip r:embed="rId1"/>
          <a:stretch/>
        </p:blipFill>
        <p:spPr>
          <a:xfrm>
            <a:off x="334800" y="479520"/>
            <a:ext cx="81997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5" name="内容占位符 3" descr="6.11.jpg"/>
          <p:cNvPicPr/>
          <p:nvPr/>
        </p:nvPicPr>
        <p:blipFill>
          <a:blip r:embed="rId1"/>
          <a:stretch/>
        </p:blipFill>
        <p:spPr>
          <a:xfrm>
            <a:off x="457200" y="533520"/>
            <a:ext cx="8021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总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9" name="内容占位符 3" descr="6.14.jpg"/>
          <p:cNvPicPr/>
          <p:nvPr/>
        </p:nvPicPr>
        <p:blipFill>
          <a:blip r:embed="rId1"/>
          <a:stretch/>
        </p:blipFill>
        <p:spPr>
          <a:xfrm>
            <a:off x="385920" y="403200"/>
            <a:ext cx="83008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步自封    大雪封山    信口开河   言而无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信手拈来     珠光宝气    掌上明珠   有眼无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买椟还珠     人老珠黄   张灯结彩    灯红酒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灯火辉煌     万家灯火    油尽灯枯   黑灯瞎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只许州官放火，不许百姓点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3" name="内容占位符 3" descr="6.15.jpg"/>
          <p:cNvPicPr/>
          <p:nvPr/>
        </p:nvPicPr>
        <p:blipFill>
          <a:blip r:embed="rId1"/>
          <a:stretch/>
        </p:blipFill>
        <p:spPr>
          <a:xfrm>
            <a:off x="925560" y="533520"/>
            <a:ext cx="74563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5" name="内容占位符 5" descr="6.17.jpg"/>
          <p:cNvPicPr/>
          <p:nvPr/>
        </p:nvPicPr>
        <p:blipFill>
          <a:blip r:embed="rId1"/>
          <a:stretch/>
        </p:blipFill>
        <p:spPr>
          <a:xfrm>
            <a:off x="762120" y="685800"/>
            <a:ext cx="71514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7" name="内容占位符 3" descr="6.19.jpg"/>
          <p:cNvPicPr/>
          <p:nvPr/>
        </p:nvPicPr>
        <p:blipFill>
          <a:blip r:embed="rId1"/>
          <a:srcRect l="-9528" t="0" r="0" b="46632"/>
          <a:stretch/>
        </p:blipFill>
        <p:spPr>
          <a:xfrm>
            <a:off x="0" y="152280"/>
            <a:ext cx="87580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6.19.jpg"/>
          <p:cNvPicPr/>
          <p:nvPr/>
        </p:nvPicPr>
        <p:blipFill>
          <a:blip r:embed="rId2"/>
          <a:srcRect l="0" t="53333" r="0" b="0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timg (8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048120" y="15238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信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6"/>
          <p:cNvCxnSpPr/>
          <p:nvPr/>
        </p:nvCxnSpPr>
        <p:spPr>
          <a:xfrm flipH="1">
            <a:off x="2285280" y="2666880"/>
            <a:ext cx="762840" cy="1372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7"/>
          <p:cNvSpPr/>
          <p:nvPr/>
        </p:nvSpPr>
        <p:spPr>
          <a:xfrm>
            <a:off x="53352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密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352680" y="41911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闭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40080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包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直接箭头连接符 10"/>
          <p:cNvCxnSpPr/>
          <p:nvPr/>
        </p:nvCxnSpPr>
        <p:spPr>
          <a:xfrm>
            <a:off x="4343400" y="2514600"/>
            <a:ext cx="76680" cy="1829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直接箭头连接符 12"/>
          <p:cNvCxnSpPr/>
          <p:nvPr/>
        </p:nvCxnSpPr>
        <p:spPr>
          <a:xfrm>
            <a:off x="5105160" y="2437920"/>
            <a:ext cx="1981800" cy="16772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还有，下个星期我们去看电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2" name="内容占位符 3" descr="6.20.jpg"/>
          <p:cNvPicPr/>
          <p:nvPr/>
        </p:nvPicPr>
        <p:blipFill>
          <a:blip r:embed="rId1"/>
          <a:stretch/>
        </p:blipFill>
        <p:spPr>
          <a:xfrm>
            <a:off x="76320" y="0"/>
            <a:ext cx="888516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4" name="内容占位符 5" descr="6.21.jpg"/>
          <p:cNvPicPr/>
          <p:nvPr/>
        </p:nvPicPr>
        <p:blipFill>
          <a:blip r:embed="rId1"/>
          <a:stretch/>
        </p:blipFill>
        <p:spPr>
          <a:xfrm>
            <a:off x="258840" y="60480"/>
            <a:ext cx="86565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6" name="内容占位符 3" descr="6.22.jpg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8" name="内容占位符 3" descr="6.24.jpg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0" name="内容占位符 3" descr="6.25.jpg"/>
          <p:cNvPicPr/>
          <p:nvPr/>
        </p:nvPicPr>
        <p:blipFill>
          <a:blip r:embed="rId1"/>
          <a:stretch/>
        </p:blipFill>
        <p:spPr>
          <a:xfrm>
            <a:off x="131760" y="16812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xie   bi   dian   yuan   zhi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写    笔    电     圆    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写  毛笔   电灯   圆心   收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字  铅笔   电视   桂圆   支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信  笔尖   发电   半圆   支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话  笔画   电线   圆周   支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轻描淡写    能写会算   笔走龙蛇   妙笔生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笔勾销    奋笔疾书   下笔千言    电闪雷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光石火    雷电交加    风驰电掣    字正腔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好月圆    破镜重圆    功德圆满     膀大腰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支支吾吾    支离破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方有难，八方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5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" name="内容占位符 3" descr="6.2.jpg"/>
          <p:cNvPicPr/>
          <p:nvPr/>
        </p:nvPicPr>
        <p:blipFill>
          <a:blip r:embed="rId1"/>
          <a:srcRect l="0" t="0" r="0" b="61988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480" y="28195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由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认读生字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同桌互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6.5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朝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zhāo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阳   朝霞    朝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a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代   朝向    朝廷   朝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内容占位符 2"/>
          <p:cNvSpPr/>
          <p:nvPr/>
        </p:nvSpPr>
        <p:spPr>
          <a:xfrm>
            <a:off x="228600" y="2133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重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ò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    重量     重点    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ó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复     重新     重生    重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内容占位符 2"/>
          <p:cNvSpPr/>
          <p:nvPr/>
        </p:nvSpPr>
        <p:spPr>
          <a:xfrm>
            <a:off x="228600" y="3809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实     结巴    结结巴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é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网     结束    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外看了一眼，看到了美丽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我们一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读一遍课文，注意读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，路西在信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尾画了一束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2743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封   灯   冷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内容占位符 2"/>
          <p:cNvSpPr/>
          <p:nvPr/>
        </p:nvSpPr>
        <p:spPr>
          <a:xfrm>
            <a:off x="762120" y="144792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f ē ng   d ē ng   l ě ng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05:41:54Z</dcterms:created>
  <dc:creator>Administrator</dc:creator>
  <dc:description/>
  <dc:language>en-US</dc:language>
  <cp:lastModifiedBy>ASUS</cp:lastModifiedBy>
  <dcterms:modified xsi:type="dcterms:W3CDTF">2018-10-09T14:46:0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