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96BF-1E55-4862-8F08-DBF02CE5D91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7D74-8A67-42F6-9BCB-4DD3DB563C3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50D3-142A-4266-AA70-DFC176BF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266F-F827-4E7C-A5EB-7B682345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5692-61DB-47F5-8066-0EE5523C5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7BE4-012A-47DE-B9A8-34112E626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0F24-BA7E-4878-BDC8-8FE3DE9C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3D0E-F03E-40E7-B688-80EA00E3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AF8C-B72A-4012-81AA-C6C46AD5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791F-39C1-4C7A-84BD-6533E92F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92E3-E168-43E7-A367-1EB8A28B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3470-17BC-4DF0-8CEA-E2371904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1C44-AAA0-438C-877E-143ADA6A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ED94-5157-4D63-A5CE-A9958935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55D0-1CC5-4F01-9E41-33F2754A1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信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认读生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2133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6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珠        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内容占位符 2"/>
          <p:cNvSpPr/>
          <p:nvPr/>
        </p:nvSpPr>
        <p:spPr>
          <a:xfrm>
            <a:off x="457200" y="39625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6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今        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内容占位符 2"/>
          <p:cNvSpPr/>
          <p:nvPr/>
        </p:nvSpPr>
        <p:spPr>
          <a:xfrm>
            <a:off x="304920" y="12193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6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zhu      sh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内容占位符 2"/>
          <p:cNvSpPr/>
          <p:nvPr/>
        </p:nvSpPr>
        <p:spPr>
          <a:xfrm>
            <a:off x="457200" y="30481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jin      x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5" name="内容占位符 3" descr="6.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990720" y="4114800"/>
            <a:ext cx="7467480" cy="92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1447920" y="2971800"/>
            <a:ext cx="53337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9" name="内容占位符 3" descr="6.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矩形 4"/>
          <p:cNvSpPr/>
          <p:nvPr/>
        </p:nvSpPr>
        <p:spPr>
          <a:xfrm>
            <a:off x="1066680" y="1523880"/>
            <a:ext cx="65534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4495680" y="3048120"/>
            <a:ext cx="6098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914400" y="4495680"/>
            <a:ext cx="73152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7" descr="timg (90).jpg"/>
          <p:cNvPicPr/>
          <p:nvPr/>
        </p:nvPicPr>
        <p:blipFill>
          <a:blip r:embed="rId2"/>
          <a:stretch/>
        </p:blipFill>
        <p:spPr>
          <a:xfrm>
            <a:off x="0" y="3962520"/>
            <a:ext cx="3657600" cy="2895480"/>
          </a:xfrm>
          <a:prstGeom prst="rect">
            <a:avLst/>
          </a:prstGeom>
          <a:ln w="0">
            <a:noFill/>
          </a:ln>
        </p:spPr>
      </p:pic>
      <p:pic>
        <p:nvPicPr>
          <p:cNvPr id="94" name="图片 8" descr="timg (90).jpg"/>
          <p:cNvPicPr/>
          <p:nvPr/>
        </p:nvPicPr>
        <p:blipFill>
          <a:blip r:embed="rId3"/>
          <a:srcRect l="0" t="0" r="79174" b="0"/>
          <a:stretch/>
        </p:blipFill>
        <p:spPr>
          <a:xfrm>
            <a:off x="5562720" y="4130640"/>
            <a:ext cx="83808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只         支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只、支，都是量词，用于计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“只”用于计某些成对的东西的一个、动物（多指飞禽、走兽）、某些器具、船只等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一只雨鞋    一只小狗    一只箱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“支”用于计杆状物品、队伍、歌曲、乐曲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一支笔，一支歌，一支队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2800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沓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纸    一</a:t>
            </a: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封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信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句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话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束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9"/>
          <p:cNvGrpSpPr/>
          <p:nvPr/>
        </p:nvGrpSpPr>
        <p:grpSpPr>
          <a:xfrm>
            <a:off x="1905120" y="1752480"/>
            <a:ext cx="5195880" cy="2476800"/>
            <a:chOff x="1905120" y="1752480"/>
            <a:chExt cx="5195880" cy="2476800"/>
          </a:xfrm>
        </p:grpSpPr>
        <p:sp>
          <p:nvSpPr>
            <p:cNvPr id="100" name="矩形 4"/>
            <p:cNvSpPr/>
            <p:nvPr/>
          </p:nvSpPr>
          <p:spPr>
            <a:xfrm>
              <a:off x="1905120" y="1752480"/>
              <a:ext cx="1005120" cy="1028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5"/>
            <p:cNvSpPr/>
            <p:nvPr/>
          </p:nvSpPr>
          <p:spPr>
            <a:xfrm>
              <a:off x="2209680" y="3200400"/>
              <a:ext cx="1005120" cy="1028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6"/>
            <p:cNvSpPr/>
            <p:nvPr/>
          </p:nvSpPr>
          <p:spPr>
            <a:xfrm>
              <a:off x="6095880" y="1828440"/>
              <a:ext cx="1005120" cy="1028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矩形 7"/>
          <p:cNvSpPr/>
          <p:nvPr/>
        </p:nvSpPr>
        <p:spPr>
          <a:xfrm>
            <a:off x="6172200" y="3200400"/>
            <a:ext cx="1004760" cy="102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05" name="内容占位符 3" descr="6.7.jpg"/>
          <p:cNvPicPr/>
          <p:nvPr/>
        </p:nvPicPr>
        <p:blipFill>
          <a:blip r:embed="rId1"/>
          <a:stretch/>
        </p:blipFill>
        <p:spPr>
          <a:xfrm>
            <a:off x="436680" y="225360"/>
            <a:ext cx="786924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07" name="内容占位符 3" descr="6.8.jpg"/>
          <p:cNvPicPr/>
          <p:nvPr/>
        </p:nvPicPr>
        <p:blipFill>
          <a:blip r:embed="rId1"/>
          <a:srcRect l="0" t="0" r="0" b="11538"/>
          <a:stretch/>
        </p:blipFill>
        <p:spPr>
          <a:xfrm>
            <a:off x="457200" y="609480"/>
            <a:ext cx="7924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981080" y="1676160"/>
            <a:ext cx="60199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削水果    削铅笔   削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标题 1"/>
          <p:cNvSpPr/>
          <p:nvPr/>
        </p:nvSpPr>
        <p:spPr>
          <a:xfrm>
            <a:off x="609480" y="332280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内容占位符 2"/>
          <p:cNvSpPr/>
          <p:nvPr/>
        </p:nvSpPr>
        <p:spPr>
          <a:xfrm>
            <a:off x="2133720" y="4724280"/>
            <a:ext cx="6019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铁锅   铜锅  砂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蒸锅   炒锅  炖锅  电饭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标题 1"/>
          <p:cNvSpPr/>
          <p:nvPr/>
        </p:nvSpPr>
        <p:spPr>
          <a:xfrm>
            <a:off x="457200" y="27468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内容占位符 2"/>
          <p:cNvSpPr/>
          <p:nvPr/>
        </p:nvSpPr>
        <p:spPr>
          <a:xfrm>
            <a:off x="838080" y="1676520"/>
            <a:ext cx="9372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新鲜   鲜花   鲜艳   鲜红   鲜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标题 1"/>
          <p:cNvSpPr/>
          <p:nvPr/>
        </p:nvSpPr>
        <p:spPr>
          <a:xfrm>
            <a:off x="609480" y="301788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内容占位符 2"/>
          <p:cNvSpPr/>
          <p:nvPr/>
        </p:nvSpPr>
        <p:spPr>
          <a:xfrm>
            <a:off x="990720" y="441972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修改   修理   修订   修正   保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齐读课文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3" descr="6.1.jpg"/>
          <p:cNvPicPr/>
          <p:nvPr/>
        </p:nvPicPr>
        <p:blipFill>
          <a:blip r:embed="rId1"/>
          <a:srcRect l="0" t="0" r="0" b="255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图片 4" descr="timg (89).jpg"/>
          <p:cNvPicPr/>
          <p:nvPr/>
        </p:nvPicPr>
        <p:blipFill>
          <a:blip r:embed="rId2"/>
          <a:stretch/>
        </p:blipFill>
        <p:spPr>
          <a:xfrm>
            <a:off x="0" y="0"/>
            <a:ext cx="9144000" cy="3578400"/>
          </a:xfrm>
          <a:prstGeom prst="rect">
            <a:avLst/>
          </a:prstGeom>
          <a:ln w="0">
            <a:noFill/>
          </a:ln>
        </p:spPr>
      </p:pic>
      <p:sp>
        <p:nvSpPr>
          <p:cNvPr id="54" name="矩形 5"/>
          <p:cNvSpPr/>
          <p:nvPr/>
        </p:nvSpPr>
        <p:spPr>
          <a:xfrm>
            <a:off x="3809880" y="3581280"/>
            <a:ext cx="152424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宋体"/>
              </a:rPr>
              <a:t>讲一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内容占位符 5" descr="6.10.jpg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fēng xìn  zhu   deng   j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封    信    珠    灯     今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封面   写信   明珠  灯光   今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封底   书信   眼珠  红灯   今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信封   信心   泪珠  路灯   今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封口   自信   水珠  台灯   如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23" name="内容占位符 3" descr="6.13.jpg"/>
          <p:cNvPicPr/>
          <p:nvPr/>
        </p:nvPicPr>
        <p:blipFill>
          <a:blip r:embed="rId1"/>
          <a:stretch/>
        </p:blipFill>
        <p:spPr>
          <a:xfrm>
            <a:off x="334800" y="479520"/>
            <a:ext cx="8199720" cy="61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25" name="内容占位符 3" descr="6.11.jpg"/>
          <p:cNvPicPr/>
          <p:nvPr/>
        </p:nvPicPr>
        <p:blipFill>
          <a:blip r:embed="rId1"/>
          <a:stretch/>
        </p:blipFill>
        <p:spPr>
          <a:xfrm>
            <a:off x="457200" y="533520"/>
            <a:ext cx="802152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从早到晚，家里很冷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从早到晚，家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总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很冷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29" name="内容占位符 3" descr="6.14.jpg"/>
          <p:cNvPicPr/>
          <p:nvPr/>
        </p:nvPicPr>
        <p:blipFill>
          <a:blip r:embed="rId1"/>
          <a:stretch/>
        </p:blipFill>
        <p:spPr>
          <a:xfrm>
            <a:off x="385920" y="403200"/>
            <a:ext cx="830088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故步自封    大雪封山    信口开河   言而无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信手拈来     珠光宝气    掌上明珠   有眼无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买椟还珠     人老珠黄   张灯结彩    灯红酒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灯火辉煌     万家灯火    油尽灯枯   黑灯瞎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只许州官放火，不许百姓点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3" name="内容占位符 3" descr="6.15.jpg"/>
          <p:cNvPicPr/>
          <p:nvPr/>
        </p:nvPicPr>
        <p:blipFill>
          <a:blip r:embed="rId1"/>
          <a:stretch/>
        </p:blipFill>
        <p:spPr>
          <a:xfrm>
            <a:off x="925560" y="533520"/>
            <a:ext cx="745632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5" name="内容占位符 5" descr="6.17.jpg"/>
          <p:cNvPicPr/>
          <p:nvPr/>
        </p:nvPicPr>
        <p:blipFill>
          <a:blip r:embed="rId1"/>
          <a:stretch/>
        </p:blipFill>
        <p:spPr>
          <a:xfrm>
            <a:off x="762120" y="685800"/>
            <a:ext cx="715140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7" name="内容占位符 3" descr="6.19.jpg"/>
          <p:cNvPicPr/>
          <p:nvPr/>
        </p:nvPicPr>
        <p:blipFill>
          <a:blip r:embed="rId1"/>
          <a:srcRect l="-9528" t="0" r="0" b="46632"/>
          <a:stretch/>
        </p:blipFill>
        <p:spPr>
          <a:xfrm>
            <a:off x="0" y="152280"/>
            <a:ext cx="8758080" cy="32004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4" descr="6.19.jpg"/>
          <p:cNvPicPr/>
          <p:nvPr/>
        </p:nvPicPr>
        <p:blipFill>
          <a:blip r:embed="rId2"/>
          <a:srcRect l="0" t="53333" r="0" b="0"/>
          <a:stretch/>
        </p:blipFill>
        <p:spPr>
          <a:xfrm>
            <a:off x="0" y="3657600"/>
            <a:ext cx="9144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3" descr="timg (89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57840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3048120" y="152388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信封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直接箭头连接符 6"/>
          <p:cNvCxnSpPr/>
          <p:nvPr/>
        </p:nvCxnSpPr>
        <p:spPr>
          <a:xfrm flipH="1">
            <a:off x="2285280" y="2666880"/>
            <a:ext cx="762840" cy="13723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TextBox 7"/>
          <p:cNvSpPr/>
          <p:nvPr/>
        </p:nvSpPr>
        <p:spPr>
          <a:xfrm>
            <a:off x="533520" y="419112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密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封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3352680" y="4191120"/>
            <a:ext cx="19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封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闭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6400800" y="419112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包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封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直接箭头连接符 10"/>
          <p:cNvCxnSpPr/>
          <p:nvPr/>
        </p:nvCxnSpPr>
        <p:spPr>
          <a:xfrm>
            <a:off x="4343400" y="2514600"/>
            <a:ext cx="76680" cy="1829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直接箭头连接符 12"/>
          <p:cNvCxnSpPr/>
          <p:nvPr/>
        </p:nvCxnSpPr>
        <p:spPr>
          <a:xfrm>
            <a:off x="5105160" y="2437920"/>
            <a:ext cx="1981800" cy="16772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还有，下个星期我们去看电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42" name="内容占位符 3" descr="6.20.jpg"/>
          <p:cNvPicPr/>
          <p:nvPr/>
        </p:nvPicPr>
        <p:blipFill>
          <a:blip r:embed="rId1"/>
          <a:stretch/>
        </p:blipFill>
        <p:spPr>
          <a:xfrm>
            <a:off x="76320" y="0"/>
            <a:ext cx="8885160" cy="66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44" name="内容占位符 5" descr="6.21.jpg"/>
          <p:cNvPicPr/>
          <p:nvPr/>
        </p:nvPicPr>
        <p:blipFill>
          <a:blip r:embed="rId1"/>
          <a:stretch/>
        </p:blipFill>
        <p:spPr>
          <a:xfrm>
            <a:off x="258840" y="60480"/>
            <a:ext cx="8656560" cy="64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46" name="内容占位符 3" descr="6.22.jpg"/>
          <p:cNvPicPr/>
          <p:nvPr/>
        </p:nvPicPr>
        <p:blipFill>
          <a:blip r:embed="rId1"/>
          <a:stretch/>
        </p:blipFill>
        <p:spPr>
          <a:xfrm>
            <a:off x="-380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48" name="内容占位符 3" descr="6.24.jpg"/>
          <p:cNvPicPr/>
          <p:nvPr/>
        </p:nvPicPr>
        <p:blipFill>
          <a:blip r:embed="rId1"/>
          <a:stretch/>
        </p:blipFill>
        <p:spPr>
          <a:xfrm>
            <a:off x="380880" y="228600"/>
            <a:ext cx="861084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50" name="内容占位符 3" descr="6.25.jpg"/>
          <p:cNvPicPr/>
          <p:nvPr/>
        </p:nvPicPr>
        <p:blipFill>
          <a:blip r:embed="rId1"/>
          <a:stretch/>
        </p:blipFill>
        <p:spPr>
          <a:xfrm>
            <a:off x="131760" y="168120"/>
            <a:ext cx="8820000" cy="66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xie   bi   dian   yuan   zhi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写    笔    电     圆    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书写  毛笔   电灯   圆心   收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写字  铅笔   电视   桂圆   支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写信  笔尖   发电   半圆   支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写话  笔画   电线   圆周   支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轻描淡写    能写会算   笔走龙蛇   妙笔生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笔勾销    奋笔疾书   下笔千言    电闪雷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电光石火    雷电交加    风驰电掣    字正腔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花好月圆    破镜重圆    功德圆满     膀大腰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支支吾吾    支离破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方有难，八方支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65" name="图片 3" descr="6.1.jpg"/>
          <p:cNvPicPr/>
          <p:nvPr/>
        </p:nvPicPr>
        <p:blipFill>
          <a:blip r:embed="rId1"/>
          <a:srcRect l="0" t="0" r="0" b="255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67" name="内容占位符 3" descr="6.2.jpg"/>
          <p:cNvPicPr/>
          <p:nvPr/>
        </p:nvPicPr>
        <p:blipFill>
          <a:blip r:embed="rId1"/>
          <a:srcRect l="0" t="0" r="0" b="61988"/>
          <a:stretch/>
        </p:blipFill>
        <p:spPr>
          <a:xfrm>
            <a:off x="0" y="0"/>
            <a:ext cx="9144000" cy="236232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609480" y="2819520"/>
            <a:ext cx="8001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自由读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回答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认读生字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同桌互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70" name="内容占位符 3" descr="6.5.jpg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04920" y="304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朝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zhāo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朝阳   朝霞    朝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cha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朝代   朝向    朝廷   朝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内容占位符 2"/>
          <p:cNvSpPr/>
          <p:nvPr/>
        </p:nvSpPr>
        <p:spPr>
          <a:xfrm>
            <a:off x="228600" y="21337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重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zhòng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要    重量     重点    重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óng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复     重新     重生    重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内容占位符 2"/>
          <p:cNvSpPr/>
          <p:nvPr/>
        </p:nvSpPr>
        <p:spPr>
          <a:xfrm>
            <a:off x="228600" y="380988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jiē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结果    结实     结巴    结结巴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jié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结果    结网     结束    结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外看了一眼，看到了美丽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我们一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新读一遍课文，注意读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果，路西在信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尾画了一束鲜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认读生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371600" y="274320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</a:rPr>
              <a:t>封   灯   冷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内容占位符 2"/>
          <p:cNvSpPr/>
          <p:nvPr/>
        </p:nvSpPr>
        <p:spPr>
          <a:xfrm>
            <a:off x="762120" y="144792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f ē ng   d ē ng   l ě ng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4T05:41:54Z</dcterms:created>
  <dc:creator>Administrator</dc:creator>
  <dc:description/>
  <dc:language>en-US</dc:language>
  <cp:lastModifiedBy>ASUS</cp:lastModifiedBy>
  <dcterms:modified xsi:type="dcterms:W3CDTF">2018-10-09T14:46:09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