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F60-9D80-43B4-851F-30AC528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49C-B22E-473F-A0F2-63FEB78B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B13-736D-4E76-8FBD-8B1D6AF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637-0059-4534-BA29-9270439E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AC4-01A3-41DB-927C-A6400DF5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2E5-F51F-44C8-8B63-E82ED40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32C6-8B85-40C5-A180-9AF72CF5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B9B-64ED-4486-B164-99B8B30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B810-EE16-4307-8DC7-47411EA9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DFCC-FA54-4B34-9F5C-4C54653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05F-0BA4-4BC1-8913-44AE445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5D2-4A77-4291-9339-B1F56B6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781-1039-4920-8017-5DD11DE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595-C138-4FC6-B6B7-8A2B8A83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56C-D3D0-4036-B15F-6B7D763C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9DD-40F7-4F1F-9502-394DD84C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4843-0CD1-476D-AEA2-EF5580C4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D1F-5CE4-4335-8C0D-02DB2116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279-B252-4027-AD85-E179A274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DA1-5345-4704-833C-C5B6325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126-3BCC-40A4-8ADC-549C789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338-A3D8-4857-8220-1829E24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B26-774C-49C2-990B-BDD649C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06C-C656-4F8F-8EB0-E8E5A6E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B65-E64C-4A65-82CA-FA3D6488EE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7961-70FD-4CC0-B2AC-8543BA6FCE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timg"/>
          <p:cNvPicPr/>
          <p:nvPr/>
        </p:nvPicPr>
        <p:blipFill>
          <a:blip r:embed="rId1"/>
          <a:stretch/>
        </p:blipFill>
        <p:spPr>
          <a:xfrm>
            <a:off x="76320" y="61920"/>
            <a:ext cx="8991360" cy="68752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7278840" y="380844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国幅员辽阔，有许多风景秀丽的地方，位于祖国南方的一个最大的岛屿，它就是台湾岛，那里有一个风景特别美丽的地方，吸引了中外游客，那个地方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img"/>
          <p:cNvPicPr/>
          <p:nvPr/>
        </p:nvPicPr>
        <p:blipFill>
          <a:blip r:embed="rId1"/>
          <a:stretch/>
        </p:blipFill>
        <p:spPr>
          <a:xfrm>
            <a:off x="419040" y="1120680"/>
            <a:ext cx="8039160" cy="52452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"/>
          <p:cNvSpPr/>
          <p:nvPr/>
        </p:nvSpPr>
        <p:spPr>
          <a:xfrm>
            <a:off x="2597040" y="198360"/>
            <a:ext cx="40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胜古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2293920" y="28116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一段，你又知道了什么？是从哪里知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2513160" y="576252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自己的话说说日月潭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1514520" y="1278000"/>
            <a:ext cx="6386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中央有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岛把湖水分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日潭；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月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2023920" y="58752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不仅名字有趣，哪里的风景也非常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"/>
          <p:cNvSpPr/>
          <p:nvPr/>
        </p:nvSpPr>
        <p:spPr>
          <a:xfrm>
            <a:off x="3278160" y="74448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究竟是怎样的，听老师读课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5867280" y="74448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中告诉我们，日月潭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3992400" y="20484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两个自然段写了日月潭什么时候的风景？圈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5.jpg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"/>
          <p:cNvSpPr/>
          <p:nvPr/>
        </p:nvSpPr>
        <p:spPr>
          <a:xfrm>
            <a:off x="1432080" y="217440"/>
            <a:ext cx="73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，中午的日月潭景色各不相同，各有特色。喜欢清晨日月潭的举手，请你们读一读，其它同学闭上眼睛边听边想清晨的日月潭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533520" y="863640"/>
            <a:ext cx="42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给你留下了怎样的印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2360520" y="1673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隐隐约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4044960" y="8636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是隐隐约约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2360520" y="31654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薄薄的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1265400" y="39956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是一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美，请你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"/>
          <p:cNvSpPr/>
          <p:nvPr/>
        </p:nvSpPr>
        <p:spPr>
          <a:xfrm>
            <a:off x="2744640" y="3203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说清晨的日月潭是隐约的美，那到了中午就不一样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男女分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说看日月潭的中午是一种怎样的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"/>
          <p:cNvSpPr/>
          <p:nvPr/>
        </p:nvSpPr>
        <p:spPr>
          <a:xfrm>
            <a:off x="188136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细雨中的日月潭也别有一番景象，让我们一起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64832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一下这景象特别像哪个童话中描写的景像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596880" y="20484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喜欢哪个时候的日月潭呢？比赛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论是哪个时候的日月潭，都那么美，用一个词形容就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2.jpg"/>
          <p:cNvPicPr/>
          <p:nvPr/>
        </p:nvPicPr>
        <p:blipFill>
          <a:blip r:embed="rId1"/>
          <a:stretch/>
        </p:blipFill>
        <p:spPr>
          <a:xfrm>
            <a:off x="-115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6308640" y="1536840"/>
            <a:ext cx="200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096920" y="977760"/>
            <a:ext cx="19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深水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692360" y="371628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足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名胜古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716360" y="378936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3.jpg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文本框 1" descr=""/>
          <p:cNvPicPr/>
          <p:nvPr/>
        </p:nvPicPr>
        <p:blipFill>
          <a:blip r:embed="rId2"/>
          <a:stretch/>
        </p:blipFill>
        <p:spPr>
          <a:xfrm>
            <a:off x="1805040" y="2455920"/>
            <a:ext cx="6205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4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4932360" y="3990960"/>
            <a:ext cx="1727280" cy="57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681280" y="4726080"/>
            <a:ext cx="17272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103800" y="4751280"/>
            <a:ext cx="172728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698400" y="1873080"/>
            <a:ext cx="774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学习第一自然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27640" y="5713560"/>
            <a:ext cx="26654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660680" y="1622520"/>
            <a:ext cx="2663640" cy="1006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树木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0T00:52:05Z</dcterms:created>
  <dc:creator>Administrator</dc:creator>
  <dc:description/>
  <dc:language>en-US</dc:language>
  <cp:lastModifiedBy>noodee</cp:lastModifiedBy>
  <dcterms:modified xsi:type="dcterms:W3CDTF">2018-10-24T13:58:5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