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7019925"/>
  <p:notesSz cx="681831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84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244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0FCB-62EF-46C3-AF86-E5DCE019FCD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7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CEAD-AADA-4096-AA33-DA57E3B4A3D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0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E125-F3BC-476E-AC4A-D1791A48332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3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1C06-D495-4D08-AEBC-BFBD38B26E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6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572A-1C02-46C1-B739-A8790D20EE7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9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14FA-8A1A-4F64-9794-69ECE69F14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2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104D-74B2-43B5-83A5-2041D85A08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5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521B-C0BB-4BFC-8023-A5F715DF4F7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F741-C4A0-485D-8F15-65E91AC02E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1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AA09-B85B-49A3-B39D-4EAFEE8D4F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4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D31E-F404-42AD-999F-27231F1C9E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E31-A97B-414F-A73B-D09179ED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5B01-D286-4399-897E-D64DA66F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782-52E3-4E41-9816-A4845490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7A5-20A8-44A6-A0CA-A9027135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85F-6EAB-4EF9-91AE-5F2C9A94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32C-2E9D-4842-B348-74384A6F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8160-B689-49A1-A517-C9A08DE1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8F2-2E0C-4148-8319-68D0ED84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0800"/>
            <a:ext cx="823104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D49E-E66C-444C-970F-5BFE6751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379-F6C2-454E-A76A-38A6678B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6EF-0167-4342-B999-B213EE97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4C1-59B4-4ECE-B4A0-520048A7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79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19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41520" indent="-2206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1337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6400800"/>
            <a:ext cx="28969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400800"/>
            <a:ext cx="213336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D5DA-1245-4499-90FD-6917A16A2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855720" y="2540160"/>
            <a:ext cx="625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12. </a:t>
            </a:r>
            <a:r>
              <a:rPr b="0" lang="zh-CN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坐井观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507960" y="1136520"/>
            <a:ext cx="52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编教材二年级上册第五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1"/>
          <p:cNvSpPr/>
          <p:nvPr/>
        </p:nvSpPr>
        <p:spPr>
          <a:xfrm>
            <a:off x="2844720" y="0"/>
            <a:ext cx="167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井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2" descr="20131220031358-1289067503"/>
          <p:cNvPicPr/>
          <p:nvPr/>
        </p:nvPicPr>
        <p:blipFill>
          <a:blip r:embed="rId1"/>
          <a:srcRect l="0" t="39128" r="0" b="0"/>
          <a:stretch/>
        </p:blipFill>
        <p:spPr>
          <a:xfrm>
            <a:off x="17640" y="5178600"/>
            <a:ext cx="1893600" cy="185400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3" descr="t019c232d827d4fd0ae"/>
          <p:cNvPicPr/>
          <p:nvPr/>
        </p:nvPicPr>
        <p:blipFill>
          <a:blip r:embed="rId2"/>
          <a:stretch/>
        </p:blipFill>
        <p:spPr>
          <a:xfrm>
            <a:off x="0" y="414360"/>
            <a:ext cx="2827440" cy="283212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" descr="t01bbfea1d9c8c4c409"/>
          <p:cNvPicPr/>
          <p:nvPr/>
        </p:nvPicPr>
        <p:blipFill>
          <a:blip r:embed="rId3"/>
          <a:stretch/>
        </p:blipFill>
        <p:spPr>
          <a:xfrm>
            <a:off x="2430360" y="3000240"/>
            <a:ext cx="1214640" cy="14684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4" descr="OOOPIC_vipvip_20080816091800284562fe4873bdc3368"/>
          <p:cNvPicPr/>
          <p:nvPr/>
        </p:nvPicPr>
        <p:blipFill>
          <a:blip r:embed="rId4"/>
          <a:stretch/>
        </p:blipFill>
        <p:spPr>
          <a:xfrm>
            <a:off x="4592520" y="3040200"/>
            <a:ext cx="1278000" cy="136656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5"/>
          <p:cNvSpPr/>
          <p:nvPr/>
        </p:nvSpPr>
        <p:spPr>
          <a:xfrm>
            <a:off x="6818400" y="3000240"/>
            <a:ext cx="1455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"/>
          <p:cNvSpPr/>
          <p:nvPr/>
        </p:nvSpPr>
        <p:spPr>
          <a:xfrm>
            <a:off x="3736800" y="3346560"/>
            <a:ext cx="76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7"/>
          <p:cNvSpPr/>
          <p:nvPr/>
        </p:nvSpPr>
        <p:spPr>
          <a:xfrm flipH="1">
            <a:off x="6064200" y="334656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8"/>
          <p:cNvSpPr/>
          <p:nvPr/>
        </p:nvSpPr>
        <p:spPr>
          <a:xfrm>
            <a:off x="2733840" y="5054760"/>
            <a:ext cx="33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水井深深多危险，要在口上加栏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3852720" y="990720"/>
            <a:ext cx="167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桌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7164360" y="990720"/>
            <a:ext cx="167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床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5653080" y="990720"/>
            <a:ext cx="167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河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直接箭头连接符 14"/>
          <p:cNvCxnSpPr/>
          <p:nvPr/>
        </p:nvCxnSpPr>
        <p:spPr>
          <a:xfrm flipV="1">
            <a:off x="2268000" y="1422000"/>
            <a:ext cx="1008720" cy="5054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4"/>
          <p:cNvSpPr/>
          <p:nvPr/>
        </p:nvSpPr>
        <p:spPr>
          <a:xfrm>
            <a:off x="1260360" y="1782720"/>
            <a:ext cx="651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"/>
          <p:cNvSpPr/>
          <p:nvPr/>
        </p:nvSpPr>
        <p:spPr>
          <a:xfrm>
            <a:off x="468360" y="192708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青蛙和小鸟对天有不同的看法，</a:t>
            </a: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默读课文，将青蛙与小鸟的话，分别用“～～”和“</a:t>
            </a:r>
            <a:r>
              <a:rPr b="1" lang="en-US" sz="4000" spc="-1" strike="noStrike">
                <a:solidFill>
                  <a:srgbClr val="003366"/>
                </a:solidFill>
                <a:latin typeface="黑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”标注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4"/>
          <p:cNvSpPr/>
          <p:nvPr/>
        </p:nvSpPr>
        <p:spPr>
          <a:xfrm>
            <a:off x="304920" y="1927080"/>
            <a:ext cx="858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青蛙说：“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天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/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不过井口那么大，还用飞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/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那么远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小鸟说：“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天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/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无边无际，大得很哪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"/>
          <p:cNvSpPr/>
          <p:nvPr/>
        </p:nvSpPr>
        <p:spPr>
          <a:xfrm>
            <a:off x="1476360" y="198360"/>
            <a:ext cx="381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跟着老师一起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12360" y="342720"/>
            <a:ext cx="8231400" cy="2236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青蛙说：“朋友，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别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说大话了！天不过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井口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那么大，还用飞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那么远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吗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内容占位符 4"/>
          <p:cNvSpPr/>
          <p:nvPr/>
        </p:nvSpPr>
        <p:spPr>
          <a:xfrm>
            <a:off x="262080" y="2935440"/>
            <a:ext cx="84373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noAutofit/>
          </a:bodyPr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青蛙认为天不过井口那么大，不用飞那么远！（    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青蛙认为天不过井口那么大，要飞那么远。</a:t>
            </a: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5148360" y="3151080"/>
            <a:ext cx="8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12360" y="342720"/>
            <a:ext cx="8231400" cy="2236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青蛙说：“朋友，别说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大话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了！天不过井口那么大，还用飞那么远吗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内容占位符 4"/>
          <p:cNvSpPr/>
          <p:nvPr/>
        </p:nvSpPr>
        <p:spPr>
          <a:xfrm>
            <a:off x="262080" y="2935440"/>
            <a:ext cx="84373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noAutofit/>
          </a:bodyPr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声说话（    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话说得太多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夸大的话（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3421080" y="4302000"/>
            <a:ext cx="8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小鸟说：“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天无边无际，大得很哪！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6360" y="3150720"/>
            <a:ext cx="8231400" cy="1228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眼望不到边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眼望得到边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标题 1"/>
          <p:cNvSpPr/>
          <p:nvPr/>
        </p:nvSpPr>
        <p:spPr>
          <a:xfrm>
            <a:off x="468360" y="270000"/>
            <a:ext cx="823104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小鸟说：“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天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无边无际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，大得很哪！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内容占位符 2"/>
          <p:cNvSpPr/>
          <p:nvPr/>
        </p:nvSpPr>
        <p:spPr>
          <a:xfrm>
            <a:off x="468360" y="1351080"/>
            <a:ext cx="82310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noAutofit/>
          </a:bodyPr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朗读方法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关注关键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关注标点符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3564000" y="2646360"/>
            <a:ext cx="8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1"/>
          <p:cNvSpPr/>
          <p:nvPr/>
        </p:nvSpPr>
        <p:spPr>
          <a:xfrm>
            <a:off x="388800" y="2082960"/>
            <a:ext cx="835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921b95"/>
                </a:solidFill>
                <a:latin typeface="楷体"/>
                <a:ea typeface="楷体"/>
              </a:rPr>
              <a:t>沿、渴、话、喝、观、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"/>
          <p:cNvSpPr/>
          <p:nvPr/>
        </p:nvSpPr>
        <p:spPr>
          <a:xfrm>
            <a:off x="584280" y="1081080"/>
            <a:ext cx="636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些字有什么共同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"/>
          <p:cNvSpPr/>
          <p:nvPr/>
        </p:nvSpPr>
        <p:spPr>
          <a:xfrm>
            <a:off x="1303200" y="3594240"/>
            <a:ext cx="564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左右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左窄右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1"/>
          <p:cNvSpPr/>
          <p:nvPr/>
        </p:nvSpPr>
        <p:spPr>
          <a:xfrm>
            <a:off x="1328760" y="1469880"/>
            <a:ext cx="564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21b95"/>
                </a:solidFill>
                <a:latin typeface="楷体"/>
                <a:ea typeface="楷体"/>
              </a:rPr>
              <a:t>喝  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8"/>
          <p:cNvSpPr/>
          <p:nvPr/>
        </p:nvSpPr>
        <p:spPr>
          <a:xfrm>
            <a:off x="1689120" y="2882880"/>
            <a:ext cx="773748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渴了渴了要找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水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要想喝水张开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嘴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1"/>
          <p:cNvSpPr/>
          <p:nvPr/>
        </p:nvSpPr>
        <p:spPr>
          <a:xfrm>
            <a:off x="1457280" y="1044720"/>
            <a:ext cx="552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21b95"/>
                </a:solidFill>
                <a:latin typeface="楷体"/>
                <a:ea typeface="楷体"/>
              </a:rPr>
              <a:t>答  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606680" y="2587680"/>
            <a:ext cx="78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老师提问我来（  ）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张开嘴巴来说（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31"/>
          <p:cNvSpPr/>
          <p:nvPr/>
        </p:nvSpPr>
        <p:spPr>
          <a:xfrm>
            <a:off x="5751360" y="2338560"/>
            <a:ext cx="336600" cy="263520"/>
          </a:xfrm>
          <a:custGeom>
            <a:avLst/>
            <a:gdLst>
              <a:gd name="textAreaLeft" fmla="*/ 0 w 336600"/>
              <a:gd name="textAreaRight" fmla="*/ 336960 w 3366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31" h="407">
                <a:moveTo>
                  <a:pt x="509" y="351"/>
                </a:moveTo>
                <a:lnTo>
                  <a:pt x="498" y="362"/>
                </a:lnTo>
                <a:lnTo>
                  <a:pt x="486" y="373"/>
                </a:lnTo>
                <a:lnTo>
                  <a:pt x="475" y="385"/>
                </a:lnTo>
                <a:lnTo>
                  <a:pt x="464" y="396"/>
                </a:lnTo>
                <a:lnTo>
                  <a:pt x="441" y="407"/>
                </a:lnTo>
                <a:lnTo>
                  <a:pt x="418" y="407"/>
                </a:lnTo>
                <a:lnTo>
                  <a:pt x="396" y="407"/>
                </a:lnTo>
                <a:lnTo>
                  <a:pt x="384" y="396"/>
                </a:lnTo>
                <a:lnTo>
                  <a:pt x="362" y="385"/>
                </a:lnTo>
                <a:lnTo>
                  <a:pt x="328" y="362"/>
                </a:lnTo>
                <a:lnTo>
                  <a:pt x="305" y="340"/>
                </a:lnTo>
                <a:lnTo>
                  <a:pt x="271" y="306"/>
                </a:lnTo>
                <a:lnTo>
                  <a:pt x="226" y="272"/>
                </a:lnTo>
                <a:lnTo>
                  <a:pt x="192" y="226"/>
                </a:lnTo>
                <a:lnTo>
                  <a:pt x="147" y="181"/>
                </a:lnTo>
                <a:lnTo>
                  <a:pt x="113" y="147"/>
                </a:lnTo>
                <a:lnTo>
                  <a:pt x="79" y="113"/>
                </a:lnTo>
                <a:lnTo>
                  <a:pt x="45" y="79"/>
                </a:lnTo>
                <a:lnTo>
                  <a:pt x="34" y="57"/>
                </a:lnTo>
                <a:lnTo>
                  <a:pt x="11" y="34"/>
                </a:lnTo>
                <a:lnTo>
                  <a:pt x="0" y="12"/>
                </a:lnTo>
                <a:lnTo>
                  <a:pt x="0" y="0"/>
                </a:lnTo>
                <a:lnTo>
                  <a:pt x="79" y="0"/>
                </a:lnTo>
                <a:lnTo>
                  <a:pt x="136" y="0"/>
                </a:lnTo>
                <a:lnTo>
                  <a:pt x="204" y="12"/>
                </a:lnTo>
                <a:lnTo>
                  <a:pt x="260" y="12"/>
                </a:lnTo>
                <a:lnTo>
                  <a:pt x="305" y="23"/>
                </a:lnTo>
                <a:lnTo>
                  <a:pt x="339" y="34"/>
                </a:lnTo>
                <a:lnTo>
                  <a:pt x="373" y="46"/>
                </a:lnTo>
                <a:lnTo>
                  <a:pt x="407" y="68"/>
                </a:lnTo>
                <a:lnTo>
                  <a:pt x="452" y="102"/>
                </a:lnTo>
                <a:lnTo>
                  <a:pt x="486" y="136"/>
                </a:lnTo>
                <a:lnTo>
                  <a:pt x="498" y="147"/>
                </a:lnTo>
                <a:lnTo>
                  <a:pt x="509" y="170"/>
                </a:lnTo>
                <a:lnTo>
                  <a:pt x="520" y="181"/>
                </a:lnTo>
                <a:lnTo>
                  <a:pt x="531" y="204"/>
                </a:lnTo>
                <a:lnTo>
                  <a:pt x="531" y="238"/>
                </a:lnTo>
                <a:lnTo>
                  <a:pt x="531" y="283"/>
                </a:lnTo>
                <a:lnTo>
                  <a:pt x="520" y="317"/>
                </a:lnTo>
                <a:lnTo>
                  <a:pt x="509" y="35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话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2"/>
          <p:cNvSpPr/>
          <p:nvPr/>
        </p:nvSpPr>
        <p:spPr>
          <a:xfrm>
            <a:off x="1384200" y="2075040"/>
            <a:ext cx="9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55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44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第二笔的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5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6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说话    对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7"/>
          <p:cNvSpPr/>
          <p:nvPr/>
        </p:nvSpPr>
        <p:spPr>
          <a:xfrm>
            <a:off x="857160" y="5060880"/>
            <a:ext cx="343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俩的对话真有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7"/>
          <p:cNvSpPr/>
          <p:nvPr/>
        </p:nvSpPr>
        <p:spPr>
          <a:xfrm>
            <a:off x="53416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0"/>
          <p:cNvSpPr/>
          <p:nvPr/>
        </p:nvSpPr>
        <p:spPr>
          <a:xfrm>
            <a:off x="5356080" y="2962440"/>
            <a:ext cx="746280" cy="1184040"/>
          </a:xfrm>
          <a:custGeom>
            <a:avLst/>
            <a:gdLst>
              <a:gd name="textAreaLeft" fmla="*/ 0 w 746280"/>
              <a:gd name="textAreaRight" fmla="*/ 746640 w 746280"/>
              <a:gd name="textAreaTop" fmla="*/ 0 h 1184040"/>
              <a:gd name="textAreaBottom" fmla="*/ 1184400 h 1184040"/>
            </a:gdLst>
            <a:ahLst/>
            <a:rect l="textAreaLeft" t="textAreaTop" r="textAreaRight" b="textAreaBottom"/>
            <a:pathLst>
              <a:path w="1176" h="1820">
                <a:moveTo>
                  <a:pt x="464" y="1549"/>
                </a:moveTo>
                <a:lnTo>
                  <a:pt x="464" y="1515"/>
                </a:lnTo>
                <a:lnTo>
                  <a:pt x="475" y="1481"/>
                </a:lnTo>
                <a:lnTo>
                  <a:pt x="486" y="1447"/>
                </a:lnTo>
                <a:lnTo>
                  <a:pt x="509" y="1413"/>
                </a:lnTo>
                <a:lnTo>
                  <a:pt x="520" y="1402"/>
                </a:lnTo>
                <a:lnTo>
                  <a:pt x="520" y="1391"/>
                </a:lnTo>
                <a:lnTo>
                  <a:pt x="532" y="1380"/>
                </a:lnTo>
                <a:lnTo>
                  <a:pt x="532" y="1357"/>
                </a:lnTo>
                <a:lnTo>
                  <a:pt x="543" y="1334"/>
                </a:lnTo>
                <a:lnTo>
                  <a:pt x="554" y="1300"/>
                </a:lnTo>
                <a:lnTo>
                  <a:pt x="554" y="1266"/>
                </a:lnTo>
                <a:lnTo>
                  <a:pt x="566" y="1233"/>
                </a:lnTo>
                <a:lnTo>
                  <a:pt x="566" y="1199"/>
                </a:lnTo>
                <a:lnTo>
                  <a:pt x="577" y="1153"/>
                </a:lnTo>
                <a:lnTo>
                  <a:pt x="577" y="1108"/>
                </a:lnTo>
                <a:lnTo>
                  <a:pt x="588" y="1063"/>
                </a:lnTo>
                <a:lnTo>
                  <a:pt x="588" y="1006"/>
                </a:lnTo>
                <a:lnTo>
                  <a:pt x="599" y="950"/>
                </a:lnTo>
                <a:lnTo>
                  <a:pt x="599" y="893"/>
                </a:lnTo>
                <a:lnTo>
                  <a:pt x="611" y="826"/>
                </a:lnTo>
                <a:lnTo>
                  <a:pt x="622" y="769"/>
                </a:lnTo>
                <a:lnTo>
                  <a:pt x="622" y="713"/>
                </a:lnTo>
                <a:lnTo>
                  <a:pt x="633" y="656"/>
                </a:lnTo>
                <a:lnTo>
                  <a:pt x="633" y="611"/>
                </a:lnTo>
                <a:lnTo>
                  <a:pt x="645" y="566"/>
                </a:lnTo>
                <a:lnTo>
                  <a:pt x="645" y="520"/>
                </a:lnTo>
                <a:lnTo>
                  <a:pt x="645" y="486"/>
                </a:lnTo>
                <a:lnTo>
                  <a:pt x="645" y="453"/>
                </a:lnTo>
                <a:lnTo>
                  <a:pt x="656" y="419"/>
                </a:lnTo>
                <a:lnTo>
                  <a:pt x="656" y="385"/>
                </a:lnTo>
                <a:lnTo>
                  <a:pt x="656" y="362"/>
                </a:lnTo>
                <a:lnTo>
                  <a:pt x="656" y="351"/>
                </a:lnTo>
                <a:lnTo>
                  <a:pt x="656" y="328"/>
                </a:lnTo>
                <a:lnTo>
                  <a:pt x="656" y="317"/>
                </a:lnTo>
                <a:lnTo>
                  <a:pt x="656" y="306"/>
                </a:lnTo>
                <a:lnTo>
                  <a:pt x="645" y="306"/>
                </a:lnTo>
                <a:lnTo>
                  <a:pt x="633" y="294"/>
                </a:lnTo>
                <a:lnTo>
                  <a:pt x="611" y="306"/>
                </a:lnTo>
                <a:lnTo>
                  <a:pt x="588" y="306"/>
                </a:lnTo>
                <a:lnTo>
                  <a:pt x="566" y="317"/>
                </a:lnTo>
                <a:lnTo>
                  <a:pt x="520" y="328"/>
                </a:lnTo>
                <a:lnTo>
                  <a:pt x="486" y="339"/>
                </a:lnTo>
                <a:lnTo>
                  <a:pt x="430" y="362"/>
                </a:lnTo>
                <a:lnTo>
                  <a:pt x="385" y="385"/>
                </a:lnTo>
                <a:lnTo>
                  <a:pt x="339" y="407"/>
                </a:lnTo>
                <a:lnTo>
                  <a:pt x="306" y="419"/>
                </a:lnTo>
                <a:lnTo>
                  <a:pt x="260" y="430"/>
                </a:lnTo>
                <a:lnTo>
                  <a:pt x="238" y="441"/>
                </a:lnTo>
                <a:lnTo>
                  <a:pt x="204" y="441"/>
                </a:lnTo>
                <a:lnTo>
                  <a:pt x="192" y="441"/>
                </a:lnTo>
                <a:lnTo>
                  <a:pt x="170" y="441"/>
                </a:lnTo>
                <a:lnTo>
                  <a:pt x="147" y="441"/>
                </a:lnTo>
                <a:lnTo>
                  <a:pt x="113" y="430"/>
                </a:lnTo>
                <a:lnTo>
                  <a:pt x="102" y="419"/>
                </a:lnTo>
                <a:lnTo>
                  <a:pt x="91" y="407"/>
                </a:lnTo>
                <a:lnTo>
                  <a:pt x="68" y="396"/>
                </a:lnTo>
                <a:lnTo>
                  <a:pt x="57" y="385"/>
                </a:lnTo>
                <a:lnTo>
                  <a:pt x="34" y="362"/>
                </a:lnTo>
                <a:lnTo>
                  <a:pt x="12" y="339"/>
                </a:lnTo>
                <a:lnTo>
                  <a:pt x="0" y="317"/>
                </a:lnTo>
                <a:lnTo>
                  <a:pt x="0" y="294"/>
                </a:lnTo>
                <a:lnTo>
                  <a:pt x="68" y="283"/>
                </a:lnTo>
                <a:lnTo>
                  <a:pt x="125" y="272"/>
                </a:lnTo>
                <a:lnTo>
                  <a:pt x="192" y="260"/>
                </a:lnTo>
                <a:lnTo>
                  <a:pt x="249" y="238"/>
                </a:lnTo>
                <a:lnTo>
                  <a:pt x="306" y="226"/>
                </a:lnTo>
                <a:lnTo>
                  <a:pt x="351" y="215"/>
                </a:lnTo>
                <a:lnTo>
                  <a:pt x="396" y="204"/>
                </a:lnTo>
                <a:lnTo>
                  <a:pt x="430" y="181"/>
                </a:lnTo>
                <a:lnTo>
                  <a:pt x="498" y="159"/>
                </a:lnTo>
                <a:lnTo>
                  <a:pt x="554" y="125"/>
                </a:lnTo>
                <a:lnTo>
                  <a:pt x="566" y="113"/>
                </a:lnTo>
                <a:lnTo>
                  <a:pt x="588" y="102"/>
                </a:lnTo>
                <a:lnTo>
                  <a:pt x="611" y="79"/>
                </a:lnTo>
                <a:lnTo>
                  <a:pt x="622" y="68"/>
                </a:lnTo>
                <a:lnTo>
                  <a:pt x="633" y="46"/>
                </a:lnTo>
                <a:lnTo>
                  <a:pt x="645" y="34"/>
                </a:lnTo>
                <a:lnTo>
                  <a:pt x="656" y="23"/>
                </a:lnTo>
                <a:lnTo>
                  <a:pt x="667" y="12"/>
                </a:lnTo>
                <a:lnTo>
                  <a:pt x="690" y="12"/>
                </a:lnTo>
                <a:lnTo>
                  <a:pt x="713" y="0"/>
                </a:lnTo>
                <a:lnTo>
                  <a:pt x="735" y="12"/>
                </a:lnTo>
                <a:lnTo>
                  <a:pt x="769" y="12"/>
                </a:lnTo>
                <a:lnTo>
                  <a:pt x="814" y="34"/>
                </a:lnTo>
                <a:lnTo>
                  <a:pt x="859" y="46"/>
                </a:lnTo>
                <a:lnTo>
                  <a:pt x="882" y="68"/>
                </a:lnTo>
                <a:lnTo>
                  <a:pt x="905" y="79"/>
                </a:lnTo>
                <a:lnTo>
                  <a:pt x="927" y="91"/>
                </a:lnTo>
                <a:lnTo>
                  <a:pt x="939" y="102"/>
                </a:lnTo>
                <a:lnTo>
                  <a:pt x="950" y="113"/>
                </a:lnTo>
                <a:lnTo>
                  <a:pt x="961" y="125"/>
                </a:lnTo>
                <a:lnTo>
                  <a:pt x="961" y="136"/>
                </a:lnTo>
                <a:lnTo>
                  <a:pt x="961" y="170"/>
                </a:lnTo>
                <a:lnTo>
                  <a:pt x="950" y="192"/>
                </a:lnTo>
                <a:lnTo>
                  <a:pt x="939" y="226"/>
                </a:lnTo>
                <a:lnTo>
                  <a:pt x="916" y="260"/>
                </a:lnTo>
                <a:lnTo>
                  <a:pt x="893" y="283"/>
                </a:lnTo>
                <a:lnTo>
                  <a:pt x="882" y="317"/>
                </a:lnTo>
                <a:lnTo>
                  <a:pt x="871" y="351"/>
                </a:lnTo>
                <a:lnTo>
                  <a:pt x="859" y="396"/>
                </a:lnTo>
                <a:lnTo>
                  <a:pt x="848" y="441"/>
                </a:lnTo>
                <a:lnTo>
                  <a:pt x="837" y="498"/>
                </a:lnTo>
                <a:lnTo>
                  <a:pt x="826" y="566"/>
                </a:lnTo>
                <a:lnTo>
                  <a:pt x="814" y="633"/>
                </a:lnTo>
                <a:lnTo>
                  <a:pt x="803" y="701"/>
                </a:lnTo>
                <a:lnTo>
                  <a:pt x="792" y="769"/>
                </a:lnTo>
                <a:lnTo>
                  <a:pt x="780" y="837"/>
                </a:lnTo>
                <a:lnTo>
                  <a:pt x="769" y="893"/>
                </a:lnTo>
                <a:lnTo>
                  <a:pt x="769" y="950"/>
                </a:lnTo>
                <a:lnTo>
                  <a:pt x="758" y="995"/>
                </a:lnTo>
                <a:lnTo>
                  <a:pt x="758" y="1040"/>
                </a:lnTo>
                <a:lnTo>
                  <a:pt x="746" y="1086"/>
                </a:lnTo>
                <a:lnTo>
                  <a:pt x="746" y="1120"/>
                </a:lnTo>
                <a:lnTo>
                  <a:pt x="746" y="1153"/>
                </a:lnTo>
                <a:lnTo>
                  <a:pt x="746" y="1187"/>
                </a:lnTo>
                <a:lnTo>
                  <a:pt x="735" y="1210"/>
                </a:lnTo>
                <a:lnTo>
                  <a:pt x="746" y="1233"/>
                </a:lnTo>
                <a:lnTo>
                  <a:pt x="746" y="1244"/>
                </a:lnTo>
                <a:lnTo>
                  <a:pt x="746" y="1255"/>
                </a:lnTo>
                <a:lnTo>
                  <a:pt x="746" y="1266"/>
                </a:lnTo>
                <a:lnTo>
                  <a:pt x="758" y="1266"/>
                </a:lnTo>
                <a:lnTo>
                  <a:pt x="769" y="1266"/>
                </a:lnTo>
                <a:lnTo>
                  <a:pt x="792" y="1266"/>
                </a:lnTo>
                <a:lnTo>
                  <a:pt x="814" y="1255"/>
                </a:lnTo>
                <a:lnTo>
                  <a:pt x="837" y="1233"/>
                </a:lnTo>
                <a:lnTo>
                  <a:pt x="871" y="1210"/>
                </a:lnTo>
                <a:lnTo>
                  <a:pt x="916" y="1187"/>
                </a:lnTo>
                <a:lnTo>
                  <a:pt x="961" y="1142"/>
                </a:lnTo>
                <a:lnTo>
                  <a:pt x="1006" y="1108"/>
                </a:lnTo>
                <a:lnTo>
                  <a:pt x="1052" y="1086"/>
                </a:lnTo>
                <a:lnTo>
                  <a:pt x="1086" y="1063"/>
                </a:lnTo>
                <a:lnTo>
                  <a:pt x="1120" y="1040"/>
                </a:lnTo>
                <a:lnTo>
                  <a:pt x="1142" y="1029"/>
                </a:lnTo>
                <a:lnTo>
                  <a:pt x="1153" y="1029"/>
                </a:lnTo>
                <a:lnTo>
                  <a:pt x="1165" y="1029"/>
                </a:lnTo>
                <a:lnTo>
                  <a:pt x="1176" y="1040"/>
                </a:lnTo>
                <a:lnTo>
                  <a:pt x="1176" y="1052"/>
                </a:lnTo>
                <a:lnTo>
                  <a:pt x="1176" y="1074"/>
                </a:lnTo>
                <a:lnTo>
                  <a:pt x="1153" y="1097"/>
                </a:lnTo>
                <a:lnTo>
                  <a:pt x="1142" y="1131"/>
                </a:lnTo>
                <a:lnTo>
                  <a:pt x="1108" y="1165"/>
                </a:lnTo>
                <a:lnTo>
                  <a:pt x="1074" y="1199"/>
                </a:lnTo>
                <a:lnTo>
                  <a:pt x="1040" y="1244"/>
                </a:lnTo>
                <a:lnTo>
                  <a:pt x="984" y="1300"/>
                </a:lnTo>
                <a:lnTo>
                  <a:pt x="939" y="1357"/>
                </a:lnTo>
                <a:lnTo>
                  <a:pt x="893" y="1402"/>
                </a:lnTo>
                <a:lnTo>
                  <a:pt x="859" y="1459"/>
                </a:lnTo>
                <a:lnTo>
                  <a:pt x="814" y="1504"/>
                </a:lnTo>
                <a:lnTo>
                  <a:pt x="780" y="1549"/>
                </a:lnTo>
                <a:lnTo>
                  <a:pt x="758" y="1594"/>
                </a:lnTo>
                <a:lnTo>
                  <a:pt x="735" y="1628"/>
                </a:lnTo>
                <a:lnTo>
                  <a:pt x="713" y="1673"/>
                </a:lnTo>
                <a:lnTo>
                  <a:pt x="690" y="1707"/>
                </a:lnTo>
                <a:lnTo>
                  <a:pt x="679" y="1741"/>
                </a:lnTo>
                <a:lnTo>
                  <a:pt x="656" y="1764"/>
                </a:lnTo>
                <a:lnTo>
                  <a:pt x="645" y="1787"/>
                </a:lnTo>
                <a:lnTo>
                  <a:pt x="633" y="1798"/>
                </a:lnTo>
                <a:lnTo>
                  <a:pt x="622" y="1809"/>
                </a:lnTo>
                <a:lnTo>
                  <a:pt x="611" y="1820"/>
                </a:lnTo>
                <a:lnTo>
                  <a:pt x="599" y="1820"/>
                </a:lnTo>
                <a:lnTo>
                  <a:pt x="588" y="1820"/>
                </a:lnTo>
                <a:lnTo>
                  <a:pt x="577" y="1809"/>
                </a:lnTo>
                <a:lnTo>
                  <a:pt x="566" y="1809"/>
                </a:lnTo>
                <a:lnTo>
                  <a:pt x="554" y="1787"/>
                </a:lnTo>
                <a:lnTo>
                  <a:pt x="543" y="1775"/>
                </a:lnTo>
                <a:lnTo>
                  <a:pt x="532" y="1753"/>
                </a:lnTo>
                <a:lnTo>
                  <a:pt x="520" y="1730"/>
                </a:lnTo>
                <a:lnTo>
                  <a:pt x="509" y="1707"/>
                </a:lnTo>
                <a:lnTo>
                  <a:pt x="498" y="1673"/>
                </a:lnTo>
                <a:lnTo>
                  <a:pt x="486" y="1651"/>
                </a:lnTo>
                <a:lnTo>
                  <a:pt x="475" y="1628"/>
                </a:lnTo>
                <a:lnTo>
                  <a:pt x="475" y="1606"/>
                </a:lnTo>
                <a:lnTo>
                  <a:pt x="464" y="1583"/>
                </a:lnTo>
                <a:lnTo>
                  <a:pt x="464" y="15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2"/>
          <p:cNvSpPr/>
          <p:nvPr/>
        </p:nvSpPr>
        <p:spPr>
          <a:xfrm>
            <a:off x="6232680" y="2344680"/>
            <a:ext cx="695160" cy="449280"/>
          </a:xfrm>
          <a:custGeom>
            <a:avLst/>
            <a:gdLst>
              <a:gd name="textAreaLeft" fmla="*/ 0 w 695160"/>
              <a:gd name="textAreaRight" fmla="*/ 695520 w 6951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096" h="689">
                <a:moveTo>
                  <a:pt x="723" y="101"/>
                </a:moveTo>
                <a:lnTo>
                  <a:pt x="723" y="67"/>
                </a:lnTo>
                <a:lnTo>
                  <a:pt x="723" y="45"/>
                </a:lnTo>
                <a:lnTo>
                  <a:pt x="723" y="22"/>
                </a:lnTo>
                <a:lnTo>
                  <a:pt x="723" y="11"/>
                </a:lnTo>
                <a:lnTo>
                  <a:pt x="734" y="0"/>
                </a:lnTo>
                <a:lnTo>
                  <a:pt x="746" y="0"/>
                </a:lnTo>
                <a:lnTo>
                  <a:pt x="757" y="0"/>
                </a:lnTo>
                <a:lnTo>
                  <a:pt x="768" y="0"/>
                </a:lnTo>
                <a:lnTo>
                  <a:pt x="814" y="0"/>
                </a:lnTo>
                <a:lnTo>
                  <a:pt x="847" y="11"/>
                </a:lnTo>
                <a:lnTo>
                  <a:pt x="870" y="11"/>
                </a:lnTo>
                <a:lnTo>
                  <a:pt x="893" y="22"/>
                </a:lnTo>
                <a:lnTo>
                  <a:pt x="938" y="45"/>
                </a:lnTo>
                <a:lnTo>
                  <a:pt x="983" y="79"/>
                </a:lnTo>
                <a:lnTo>
                  <a:pt x="1017" y="113"/>
                </a:lnTo>
                <a:lnTo>
                  <a:pt x="1051" y="147"/>
                </a:lnTo>
                <a:lnTo>
                  <a:pt x="1074" y="181"/>
                </a:lnTo>
                <a:lnTo>
                  <a:pt x="1085" y="203"/>
                </a:lnTo>
                <a:lnTo>
                  <a:pt x="1085" y="214"/>
                </a:lnTo>
                <a:lnTo>
                  <a:pt x="1096" y="226"/>
                </a:lnTo>
                <a:lnTo>
                  <a:pt x="1085" y="248"/>
                </a:lnTo>
                <a:lnTo>
                  <a:pt x="1085" y="260"/>
                </a:lnTo>
                <a:lnTo>
                  <a:pt x="1062" y="282"/>
                </a:lnTo>
                <a:lnTo>
                  <a:pt x="1040" y="305"/>
                </a:lnTo>
                <a:lnTo>
                  <a:pt x="1017" y="316"/>
                </a:lnTo>
                <a:lnTo>
                  <a:pt x="983" y="339"/>
                </a:lnTo>
                <a:lnTo>
                  <a:pt x="949" y="361"/>
                </a:lnTo>
                <a:lnTo>
                  <a:pt x="904" y="384"/>
                </a:lnTo>
                <a:lnTo>
                  <a:pt x="847" y="407"/>
                </a:lnTo>
                <a:lnTo>
                  <a:pt x="791" y="429"/>
                </a:lnTo>
                <a:lnTo>
                  <a:pt x="734" y="452"/>
                </a:lnTo>
                <a:lnTo>
                  <a:pt x="667" y="486"/>
                </a:lnTo>
                <a:lnTo>
                  <a:pt x="599" y="508"/>
                </a:lnTo>
                <a:lnTo>
                  <a:pt x="520" y="531"/>
                </a:lnTo>
                <a:lnTo>
                  <a:pt x="440" y="565"/>
                </a:lnTo>
                <a:lnTo>
                  <a:pt x="361" y="588"/>
                </a:lnTo>
                <a:lnTo>
                  <a:pt x="316" y="610"/>
                </a:lnTo>
                <a:lnTo>
                  <a:pt x="282" y="621"/>
                </a:lnTo>
                <a:lnTo>
                  <a:pt x="237" y="633"/>
                </a:lnTo>
                <a:lnTo>
                  <a:pt x="203" y="644"/>
                </a:lnTo>
                <a:lnTo>
                  <a:pt x="180" y="655"/>
                </a:lnTo>
                <a:lnTo>
                  <a:pt x="147" y="667"/>
                </a:lnTo>
                <a:lnTo>
                  <a:pt x="124" y="678"/>
                </a:lnTo>
                <a:lnTo>
                  <a:pt x="90" y="678"/>
                </a:lnTo>
                <a:lnTo>
                  <a:pt x="79" y="689"/>
                </a:lnTo>
                <a:lnTo>
                  <a:pt x="56" y="689"/>
                </a:lnTo>
                <a:lnTo>
                  <a:pt x="45" y="689"/>
                </a:lnTo>
                <a:lnTo>
                  <a:pt x="22" y="689"/>
                </a:lnTo>
                <a:lnTo>
                  <a:pt x="11" y="689"/>
                </a:lnTo>
                <a:lnTo>
                  <a:pt x="0" y="689"/>
                </a:lnTo>
                <a:lnTo>
                  <a:pt x="0" y="678"/>
                </a:lnTo>
                <a:lnTo>
                  <a:pt x="0" y="667"/>
                </a:lnTo>
                <a:lnTo>
                  <a:pt x="11" y="667"/>
                </a:lnTo>
                <a:lnTo>
                  <a:pt x="22" y="655"/>
                </a:lnTo>
                <a:lnTo>
                  <a:pt x="33" y="644"/>
                </a:lnTo>
                <a:lnTo>
                  <a:pt x="45" y="633"/>
                </a:lnTo>
                <a:lnTo>
                  <a:pt x="56" y="621"/>
                </a:lnTo>
                <a:lnTo>
                  <a:pt x="101" y="599"/>
                </a:lnTo>
                <a:lnTo>
                  <a:pt x="147" y="576"/>
                </a:lnTo>
                <a:lnTo>
                  <a:pt x="203" y="542"/>
                </a:lnTo>
                <a:lnTo>
                  <a:pt x="271" y="497"/>
                </a:lnTo>
                <a:lnTo>
                  <a:pt x="339" y="463"/>
                </a:lnTo>
                <a:lnTo>
                  <a:pt x="407" y="429"/>
                </a:lnTo>
                <a:lnTo>
                  <a:pt x="463" y="395"/>
                </a:lnTo>
                <a:lnTo>
                  <a:pt x="508" y="373"/>
                </a:lnTo>
                <a:lnTo>
                  <a:pt x="553" y="339"/>
                </a:lnTo>
                <a:lnTo>
                  <a:pt x="599" y="305"/>
                </a:lnTo>
                <a:lnTo>
                  <a:pt x="633" y="271"/>
                </a:lnTo>
                <a:lnTo>
                  <a:pt x="667" y="248"/>
                </a:lnTo>
                <a:lnTo>
                  <a:pt x="689" y="214"/>
                </a:lnTo>
                <a:lnTo>
                  <a:pt x="700" y="192"/>
                </a:lnTo>
                <a:lnTo>
                  <a:pt x="723" y="169"/>
                </a:lnTo>
                <a:lnTo>
                  <a:pt x="723" y="158"/>
                </a:lnTo>
                <a:lnTo>
                  <a:pt x="734" y="135"/>
                </a:lnTo>
                <a:lnTo>
                  <a:pt x="734" y="124"/>
                </a:lnTo>
                <a:lnTo>
                  <a:pt x="734" y="113"/>
                </a:lnTo>
                <a:lnTo>
                  <a:pt x="723" y="10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4"/>
          <p:cNvSpPr/>
          <p:nvPr/>
        </p:nvSpPr>
        <p:spPr>
          <a:xfrm>
            <a:off x="6173640" y="3565440"/>
            <a:ext cx="187560" cy="676440"/>
          </a:xfrm>
          <a:custGeom>
            <a:avLst/>
            <a:gdLst>
              <a:gd name="textAreaLeft" fmla="*/ 0 w 187560"/>
              <a:gd name="textAreaRight" fmla="*/ 187920 w 1875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94" h="1040">
                <a:moveTo>
                  <a:pt x="34" y="147"/>
                </a:moveTo>
                <a:lnTo>
                  <a:pt x="23" y="125"/>
                </a:lnTo>
                <a:lnTo>
                  <a:pt x="11" y="113"/>
                </a:lnTo>
                <a:lnTo>
                  <a:pt x="11" y="91"/>
                </a:lnTo>
                <a:lnTo>
                  <a:pt x="0" y="79"/>
                </a:lnTo>
                <a:lnTo>
                  <a:pt x="0" y="68"/>
                </a:lnTo>
                <a:lnTo>
                  <a:pt x="0" y="46"/>
                </a:lnTo>
                <a:lnTo>
                  <a:pt x="11" y="34"/>
                </a:lnTo>
                <a:lnTo>
                  <a:pt x="11" y="23"/>
                </a:lnTo>
                <a:lnTo>
                  <a:pt x="23" y="12"/>
                </a:lnTo>
                <a:lnTo>
                  <a:pt x="34" y="12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92" y="0"/>
                </a:lnTo>
                <a:lnTo>
                  <a:pt x="238" y="12"/>
                </a:lnTo>
                <a:lnTo>
                  <a:pt x="249" y="136"/>
                </a:lnTo>
                <a:lnTo>
                  <a:pt x="260" y="249"/>
                </a:lnTo>
                <a:lnTo>
                  <a:pt x="260" y="362"/>
                </a:lnTo>
                <a:lnTo>
                  <a:pt x="271" y="464"/>
                </a:lnTo>
                <a:lnTo>
                  <a:pt x="271" y="554"/>
                </a:lnTo>
                <a:lnTo>
                  <a:pt x="283" y="633"/>
                </a:lnTo>
                <a:lnTo>
                  <a:pt x="283" y="713"/>
                </a:lnTo>
                <a:lnTo>
                  <a:pt x="294" y="780"/>
                </a:lnTo>
                <a:lnTo>
                  <a:pt x="294" y="837"/>
                </a:lnTo>
                <a:lnTo>
                  <a:pt x="294" y="882"/>
                </a:lnTo>
                <a:lnTo>
                  <a:pt x="294" y="927"/>
                </a:lnTo>
                <a:lnTo>
                  <a:pt x="294" y="961"/>
                </a:lnTo>
                <a:lnTo>
                  <a:pt x="294" y="984"/>
                </a:lnTo>
                <a:lnTo>
                  <a:pt x="283" y="1006"/>
                </a:lnTo>
                <a:lnTo>
                  <a:pt x="283" y="1018"/>
                </a:lnTo>
                <a:lnTo>
                  <a:pt x="283" y="1029"/>
                </a:lnTo>
                <a:lnTo>
                  <a:pt x="260" y="1040"/>
                </a:lnTo>
                <a:lnTo>
                  <a:pt x="249" y="1040"/>
                </a:lnTo>
                <a:lnTo>
                  <a:pt x="238" y="1040"/>
                </a:lnTo>
                <a:lnTo>
                  <a:pt x="226" y="1040"/>
                </a:lnTo>
                <a:lnTo>
                  <a:pt x="215" y="1029"/>
                </a:lnTo>
                <a:lnTo>
                  <a:pt x="215" y="1018"/>
                </a:lnTo>
                <a:lnTo>
                  <a:pt x="215" y="1006"/>
                </a:lnTo>
                <a:lnTo>
                  <a:pt x="215" y="984"/>
                </a:lnTo>
                <a:lnTo>
                  <a:pt x="204" y="973"/>
                </a:lnTo>
                <a:lnTo>
                  <a:pt x="204" y="939"/>
                </a:lnTo>
                <a:lnTo>
                  <a:pt x="204" y="916"/>
                </a:lnTo>
                <a:lnTo>
                  <a:pt x="192" y="882"/>
                </a:lnTo>
                <a:lnTo>
                  <a:pt x="192" y="848"/>
                </a:lnTo>
                <a:lnTo>
                  <a:pt x="192" y="814"/>
                </a:lnTo>
                <a:lnTo>
                  <a:pt x="181" y="769"/>
                </a:lnTo>
                <a:lnTo>
                  <a:pt x="181" y="724"/>
                </a:lnTo>
                <a:lnTo>
                  <a:pt x="170" y="679"/>
                </a:lnTo>
                <a:lnTo>
                  <a:pt x="170" y="622"/>
                </a:lnTo>
                <a:lnTo>
                  <a:pt x="158" y="577"/>
                </a:lnTo>
                <a:lnTo>
                  <a:pt x="147" y="532"/>
                </a:lnTo>
                <a:lnTo>
                  <a:pt x="147" y="486"/>
                </a:lnTo>
                <a:lnTo>
                  <a:pt x="136" y="441"/>
                </a:lnTo>
                <a:lnTo>
                  <a:pt x="124" y="407"/>
                </a:lnTo>
                <a:lnTo>
                  <a:pt x="113" y="362"/>
                </a:lnTo>
                <a:lnTo>
                  <a:pt x="113" y="328"/>
                </a:lnTo>
                <a:lnTo>
                  <a:pt x="102" y="306"/>
                </a:lnTo>
                <a:lnTo>
                  <a:pt x="91" y="272"/>
                </a:lnTo>
                <a:lnTo>
                  <a:pt x="91" y="249"/>
                </a:lnTo>
                <a:lnTo>
                  <a:pt x="79" y="226"/>
                </a:lnTo>
                <a:lnTo>
                  <a:pt x="68" y="204"/>
                </a:lnTo>
                <a:lnTo>
                  <a:pt x="57" y="181"/>
                </a:lnTo>
                <a:lnTo>
                  <a:pt x="57" y="170"/>
                </a:lnTo>
                <a:lnTo>
                  <a:pt x="45" y="159"/>
                </a:lnTo>
                <a:lnTo>
                  <a:pt x="34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7"/>
          <p:cNvSpPr/>
          <p:nvPr/>
        </p:nvSpPr>
        <p:spPr>
          <a:xfrm>
            <a:off x="6016680" y="2962440"/>
            <a:ext cx="1241280" cy="28728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56" h="441">
                <a:moveTo>
                  <a:pt x="475" y="385"/>
                </a:moveTo>
                <a:lnTo>
                  <a:pt x="419" y="396"/>
                </a:lnTo>
                <a:lnTo>
                  <a:pt x="373" y="407"/>
                </a:lnTo>
                <a:lnTo>
                  <a:pt x="328" y="419"/>
                </a:lnTo>
                <a:lnTo>
                  <a:pt x="294" y="430"/>
                </a:lnTo>
                <a:lnTo>
                  <a:pt x="272" y="430"/>
                </a:lnTo>
                <a:lnTo>
                  <a:pt x="238" y="441"/>
                </a:lnTo>
                <a:lnTo>
                  <a:pt x="226" y="441"/>
                </a:lnTo>
                <a:lnTo>
                  <a:pt x="215" y="441"/>
                </a:lnTo>
                <a:lnTo>
                  <a:pt x="193" y="441"/>
                </a:lnTo>
                <a:lnTo>
                  <a:pt x="159" y="430"/>
                </a:lnTo>
                <a:lnTo>
                  <a:pt x="125" y="419"/>
                </a:lnTo>
                <a:lnTo>
                  <a:pt x="91" y="396"/>
                </a:lnTo>
                <a:lnTo>
                  <a:pt x="68" y="385"/>
                </a:lnTo>
                <a:lnTo>
                  <a:pt x="46" y="373"/>
                </a:lnTo>
                <a:lnTo>
                  <a:pt x="34" y="362"/>
                </a:lnTo>
                <a:lnTo>
                  <a:pt x="23" y="351"/>
                </a:lnTo>
                <a:lnTo>
                  <a:pt x="12" y="339"/>
                </a:lnTo>
                <a:lnTo>
                  <a:pt x="0" y="328"/>
                </a:lnTo>
                <a:lnTo>
                  <a:pt x="0" y="317"/>
                </a:lnTo>
                <a:lnTo>
                  <a:pt x="0" y="306"/>
                </a:lnTo>
                <a:lnTo>
                  <a:pt x="12" y="294"/>
                </a:lnTo>
                <a:lnTo>
                  <a:pt x="34" y="294"/>
                </a:lnTo>
                <a:lnTo>
                  <a:pt x="57" y="283"/>
                </a:lnTo>
                <a:lnTo>
                  <a:pt x="91" y="272"/>
                </a:lnTo>
                <a:lnTo>
                  <a:pt x="125" y="260"/>
                </a:lnTo>
                <a:lnTo>
                  <a:pt x="159" y="260"/>
                </a:lnTo>
                <a:lnTo>
                  <a:pt x="181" y="260"/>
                </a:lnTo>
                <a:lnTo>
                  <a:pt x="215" y="249"/>
                </a:lnTo>
                <a:lnTo>
                  <a:pt x="238" y="249"/>
                </a:lnTo>
                <a:lnTo>
                  <a:pt x="272" y="238"/>
                </a:lnTo>
                <a:lnTo>
                  <a:pt x="306" y="238"/>
                </a:lnTo>
                <a:lnTo>
                  <a:pt x="340" y="226"/>
                </a:lnTo>
                <a:lnTo>
                  <a:pt x="385" y="226"/>
                </a:lnTo>
                <a:lnTo>
                  <a:pt x="430" y="215"/>
                </a:lnTo>
                <a:lnTo>
                  <a:pt x="475" y="204"/>
                </a:lnTo>
                <a:lnTo>
                  <a:pt x="520" y="192"/>
                </a:lnTo>
                <a:lnTo>
                  <a:pt x="577" y="181"/>
                </a:lnTo>
                <a:lnTo>
                  <a:pt x="633" y="170"/>
                </a:lnTo>
                <a:lnTo>
                  <a:pt x="690" y="159"/>
                </a:lnTo>
                <a:lnTo>
                  <a:pt x="758" y="147"/>
                </a:lnTo>
                <a:lnTo>
                  <a:pt x="826" y="136"/>
                </a:lnTo>
                <a:lnTo>
                  <a:pt x="893" y="125"/>
                </a:lnTo>
                <a:lnTo>
                  <a:pt x="961" y="113"/>
                </a:lnTo>
                <a:lnTo>
                  <a:pt x="1029" y="102"/>
                </a:lnTo>
                <a:lnTo>
                  <a:pt x="1086" y="79"/>
                </a:lnTo>
                <a:lnTo>
                  <a:pt x="1142" y="68"/>
                </a:lnTo>
                <a:lnTo>
                  <a:pt x="1199" y="57"/>
                </a:lnTo>
                <a:lnTo>
                  <a:pt x="1255" y="57"/>
                </a:lnTo>
                <a:lnTo>
                  <a:pt x="1300" y="46"/>
                </a:lnTo>
                <a:lnTo>
                  <a:pt x="1346" y="34"/>
                </a:lnTo>
                <a:lnTo>
                  <a:pt x="1391" y="23"/>
                </a:lnTo>
                <a:lnTo>
                  <a:pt x="1425" y="23"/>
                </a:lnTo>
                <a:lnTo>
                  <a:pt x="1459" y="12"/>
                </a:lnTo>
                <a:lnTo>
                  <a:pt x="1493" y="12"/>
                </a:lnTo>
                <a:lnTo>
                  <a:pt x="1515" y="12"/>
                </a:lnTo>
                <a:lnTo>
                  <a:pt x="1538" y="12"/>
                </a:lnTo>
                <a:lnTo>
                  <a:pt x="1560" y="0"/>
                </a:lnTo>
                <a:lnTo>
                  <a:pt x="1583" y="0"/>
                </a:lnTo>
                <a:lnTo>
                  <a:pt x="1606" y="0"/>
                </a:lnTo>
                <a:lnTo>
                  <a:pt x="1640" y="12"/>
                </a:lnTo>
                <a:lnTo>
                  <a:pt x="1674" y="12"/>
                </a:lnTo>
                <a:lnTo>
                  <a:pt x="1707" y="23"/>
                </a:lnTo>
                <a:lnTo>
                  <a:pt x="1764" y="46"/>
                </a:lnTo>
                <a:lnTo>
                  <a:pt x="1832" y="79"/>
                </a:lnTo>
                <a:lnTo>
                  <a:pt x="1866" y="102"/>
                </a:lnTo>
                <a:lnTo>
                  <a:pt x="1888" y="125"/>
                </a:lnTo>
                <a:lnTo>
                  <a:pt x="1911" y="136"/>
                </a:lnTo>
                <a:lnTo>
                  <a:pt x="1934" y="159"/>
                </a:lnTo>
                <a:lnTo>
                  <a:pt x="1945" y="170"/>
                </a:lnTo>
                <a:lnTo>
                  <a:pt x="1956" y="181"/>
                </a:lnTo>
                <a:lnTo>
                  <a:pt x="1956" y="192"/>
                </a:lnTo>
                <a:lnTo>
                  <a:pt x="1956" y="204"/>
                </a:lnTo>
                <a:lnTo>
                  <a:pt x="1956" y="215"/>
                </a:lnTo>
                <a:lnTo>
                  <a:pt x="1945" y="215"/>
                </a:lnTo>
                <a:lnTo>
                  <a:pt x="1922" y="226"/>
                </a:lnTo>
                <a:lnTo>
                  <a:pt x="1888" y="238"/>
                </a:lnTo>
                <a:lnTo>
                  <a:pt x="1843" y="238"/>
                </a:lnTo>
                <a:lnTo>
                  <a:pt x="1787" y="238"/>
                </a:lnTo>
                <a:lnTo>
                  <a:pt x="1730" y="249"/>
                </a:lnTo>
                <a:lnTo>
                  <a:pt x="1662" y="249"/>
                </a:lnTo>
                <a:lnTo>
                  <a:pt x="1504" y="249"/>
                </a:lnTo>
                <a:lnTo>
                  <a:pt x="1357" y="249"/>
                </a:lnTo>
                <a:lnTo>
                  <a:pt x="1199" y="260"/>
                </a:lnTo>
                <a:lnTo>
                  <a:pt x="1040" y="272"/>
                </a:lnTo>
                <a:lnTo>
                  <a:pt x="882" y="294"/>
                </a:lnTo>
                <a:lnTo>
                  <a:pt x="735" y="317"/>
                </a:lnTo>
                <a:lnTo>
                  <a:pt x="667" y="339"/>
                </a:lnTo>
                <a:lnTo>
                  <a:pt x="600" y="351"/>
                </a:lnTo>
                <a:lnTo>
                  <a:pt x="543" y="362"/>
                </a:lnTo>
                <a:lnTo>
                  <a:pt x="475" y="3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3"/>
          <p:cNvSpPr/>
          <p:nvPr/>
        </p:nvSpPr>
        <p:spPr>
          <a:xfrm>
            <a:off x="6432480" y="2633760"/>
            <a:ext cx="216000" cy="969840"/>
          </a:xfrm>
          <a:custGeom>
            <a:avLst/>
            <a:gdLst>
              <a:gd name="textAreaLeft" fmla="*/ 0 w 216000"/>
              <a:gd name="textAreaRight" fmla="*/ 216360 w 216000"/>
              <a:gd name="textAreaTop" fmla="*/ 0 h 969840"/>
              <a:gd name="textAreaBottom" fmla="*/ 970200 h 969840"/>
            </a:gdLst>
            <a:ahLst/>
            <a:rect l="textAreaLeft" t="textAreaTop" r="textAreaRight" b="textAreaBottom"/>
            <a:pathLst>
              <a:path w="339" h="1492">
                <a:moveTo>
                  <a:pt x="0" y="1492"/>
                </a:moveTo>
                <a:lnTo>
                  <a:pt x="0" y="1481"/>
                </a:lnTo>
                <a:lnTo>
                  <a:pt x="0" y="1458"/>
                </a:lnTo>
                <a:lnTo>
                  <a:pt x="0" y="1447"/>
                </a:lnTo>
                <a:lnTo>
                  <a:pt x="11" y="1424"/>
                </a:lnTo>
                <a:lnTo>
                  <a:pt x="11" y="1379"/>
                </a:lnTo>
                <a:lnTo>
                  <a:pt x="23" y="1322"/>
                </a:lnTo>
                <a:lnTo>
                  <a:pt x="23" y="1254"/>
                </a:lnTo>
                <a:lnTo>
                  <a:pt x="34" y="1187"/>
                </a:lnTo>
                <a:lnTo>
                  <a:pt x="45" y="1096"/>
                </a:lnTo>
                <a:lnTo>
                  <a:pt x="57" y="1006"/>
                </a:lnTo>
                <a:lnTo>
                  <a:pt x="68" y="915"/>
                </a:lnTo>
                <a:lnTo>
                  <a:pt x="79" y="836"/>
                </a:lnTo>
                <a:lnTo>
                  <a:pt x="79" y="757"/>
                </a:lnTo>
                <a:lnTo>
                  <a:pt x="91" y="689"/>
                </a:lnTo>
                <a:lnTo>
                  <a:pt x="91" y="633"/>
                </a:lnTo>
                <a:lnTo>
                  <a:pt x="102" y="576"/>
                </a:lnTo>
                <a:lnTo>
                  <a:pt x="102" y="531"/>
                </a:lnTo>
                <a:lnTo>
                  <a:pt x="113" y="497"/>
                </a:lnTo>
                <a:lnTo>
                  <a:pt x="113" y="463"/>
                </a:lnTo>
                <a:lnTo>
                  <a:pt x="102" y="418"/>
                </a:lnTo>
                <a:lnTo>
                  <a:pt x="102" y="361"/>
                </a:lnTo>
                <a:lnTo>
                  <a:pt x="102" y="305"/>
                </a:lnTo>
                <a:lnTo>
                  <a:pt x="91" y="237"/>
                </a:lnTo>
                <a:lnTo>
                  <a:pt x="91" y="169"/>
                </a:lnTo>
                <a:lnTo>
                  <a:pt x="79" y="90"/>
                </a:lnTo>
                <a:lnTo>
                  <a:pt x="68" y="0"/>
                </a:lnTo>
                <a:lnTo>
                  <a:pt x="113" y="22"/>
                </a:lnTo>
                <a:lnTo>
                  <a:pt x="147" y="33"/>
                </a:lnTo>
                <a:lnTo>
                  <a:pt x="181" y="56"/>
                </a:lnTo>
                <a:lnTo>
                  <a:pt x="215" y="67"/>
                </a:lnTo>
                <a:lnTo>
                  <a:pt x="237" y="79"/>
                </a:lnTo>
                <a:lnTo>
                  <a:pt x="260" y="101"/>
                </a:lnTo>
                <a:lnTo>
                  <a:pt x="271" y="113"/>
                </a:lnTo>
                <a:lnTo>
                  <a:pt x="283" y="124"/>
                </a:lnTo>
                <a:lnTo>
                  <a:pt x="305" y="147"/>
                </a:lnTo>
                <a:lnTo>
                  <a:pt x="317" y="169"/>
                </a:lnTo>
                <a:lnTo>
                  <a:pt x="339" y="214"/>
                </a:lnTo>
                <a:lnTo>
                  <a:pt x="339" y="248"/>
                </a:lnTo>
                <a:lnTo>
                  <a:pt x="339" y="282"/>
                </a:lnTo>
                <a:lnTo>
                  <a:pt x="328" y="316"/>
                </a:lnTo>
                <a:lnTo>
                  <a:pt x="328" y="350"/>
                </a:lnTo>
                <a:lnTo>
                  <a:pt x="317" y="373"/>
                </a:lnTo>
                <a:lnTo>
                  <a:pt x="305" y="407"/>
                </a:lnTo>
                <a:lnTo>
                  <a:pt x="294" y="452"/>
                </a:lnTo>
                <a:lnTo>
                  <a:pt x="283" y="508"/>
                </a:lnTo>
                <a:lnTo>
                  <a:pt x="271" y="565"/>
                </a:lnTo>
                <a:lnTo>
                  <a:pt x="260" y="644"/>
                </a:lnTo>
                <a:lnTo>
                  <a:pt x="260" y="678"/>
                </a:lnTo>
                <a:lnTo>
                  <a:pt x="249" y="723"/>
                </a:lnTo>
                <a:lnTo>
                  <a:pt x="237" y="768"/>
                </a:lnTo>
                <a:lnTo>
                  <a:pt x="237" y="814"/>
                </a:lnTo>
                <a:lnTo>
                  <a:pt x="215" y="904"/>
                </a:lnTo>
                <a:lnTo>
                  <a:pt x="192" y="994"/>
                </a:lnTo>
                <a:lnTo>
                  <a:pt x="181" y="1085"/>
                </a:lnTo>
                <a:lnTo>
                  <a:pt x="158" y="1175"/>
                </a:lnTo>
                <a:lnTo>
                  <a:pt x="147" y="1254"/>
                </a:lnTo>
                <a:lnTo>
                  <a:pt x="124" y="1334"/>
                </a:lnTo>
                <a:lnTo>
                  <a:pt x="113" y="1413"/>
                </a:lnTo>
                <a:lnTo>
                  <a:pt x="102" y="1492"/>
                </a:lnTo>
                <a:lnTo>
                  <a:pt x="0" y="149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5"/>
          <p:cNvSpPr/>
          <p:nvPr/>
        </p:nvSpPr>
        <p:spPr>
          <a:xfrm>
            <a:off x="6261120" y="3440160"/>
            <a:ext cx="774720" cy="574560"/>
          </a:xfrm>
          <a:custGeom>
            <a:avLst/>
            <a:gdLst>
              <a:gd name="textAreaLeft" fmla="*/ 0 w 774720"/>
              <a:gd name="textAreaRight" fmla="*/ 775080 w 7747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221" h="882">
                <a:moveTo>
                  <a:pt x="802" y="34"/>
                </a:moveTo>
                <a:lnTo>
                  <a:pt x="836" y="23"/>
                </a:lnTo>
                <a:lnTo>
                  <a:pt x="859" y="11"/>
                </a:lnTo>
                <a:lnTo>
                  <a:pt x="882" y="11"/>
                </a:lnTo>
                <a:lnTo>
                  <a:pt x="904" y="0"/>
                </a:lnTo>
                <a:lnTo>
                  <a:pt x="915" y="11"/>
                </a:lnTo>
                <a:lnTo>
                  <a:pt x="938" y="23"/>
                </a:lnTo>
                <a:lnTo>
                  <a:pt x="949" y="34"/>
                </a:lnTo>
                <a:lnTo>
                  <a:pt x="972" y="45"/>
                </a:lnTo>
                <a:lnTo>
                  <a:pt x="995" y="57"/>
                </a:lnTo>
                <a:lnTo>
                  <a:pt x="1029" y="68"/>
                </a:lnTo>
                <a:lnTo>
                  <a:pt x="1051" y="91"/>
                </a:lnTo>
                <a:lnTo>
                  <a:pt x="1085" y="113"/>
                </a:lnTo>
                <a:lnTo>
                  <a:pt x="1119" y="136"/>
                </a:lnTo>
                <a:lnTo>
                  <a:pt x="1142" y="158"/>
                </a:lnTo>
                <a:lnTo>
                  <a:pt x="1164" y="170"/>
                </a:lnTo>
                <a:lnTo>
                  <a:pt x="1187" y="192"/>
                </a:lnTo>
                <a:lnTo>
                  <a:pt x="1198" y="204"/>
                </a:lnTo>
                <a:lnTo>
                  <a:pt x="1209" y="215"/>
                </a:lnTo>
                <a:lnTo>
                  <a:pt x="1221" y="238"/>
                </a:lnTo>
                <a:lnTo>
                  <a:pt x="1221" y="249"/>
                </a:lnTo>
                <a:lnTo>
                  <a:pt x="1221" y="271"/>
                </a:lnTo>
                <a:lnTo>
                  <a:pt x="1198" y="294"/>
                </a:lnTo>
                <a:lnTo>
                  <a:pt x="1175" y="317"/>
                </a:lnTo>
                <a:lnTo>
                  <a:pt x="1142" y="339"/>
                </a:lnTo>
                <a:lnTo>
                  <a:pt x="1130" y="339"/>
                </a:lnTo>
                <a:lnTo>
                  <a:pt x="1119" y="351"/>
                </a:lnTo>
                <a:lnTo>
                  <a:pt x="1108" y="373"/>
                </a:lnTo>
                <a:lnTo>
                  <a:pt x="1096" y="385"/>
                </a:lnTo>
                <a:lnTo>
                  <a:pt x="1074" y="407"/>
                </a:lnTo>
                <a:lnTo>
                  <a:pt x="1062" y="430"/>
                </a:lnTo>
                <a:lnTo>
                  <a:pt x="1040" y="464"/>
                </a:lnTo>
                <a:lnTo>
                  <a:pt x="1029" y="498"/>
                </a:lnTo>
                <a:lnTo>
                  <a:pt x="1006" y="531"/>
                </a:lnTo>
                <a:lnTo>
                  <a:pt x="983" y="565"/>
                </a:lnTo>
                <a:lnTo>
                  <a:pt x="961" y="611"/>
                </a:lnTo>
                <a:lnTo>
                  <a:pt x="938" y="656"/>
                </a:lnTo>
                <a:lnTo>
                  <a:pt x="915" y="701"/>
                </a:lnTo>
                <a:lnTo>
                  <a:pt x="893" y="758"/>
                </a:lnTo>
                <a:lnTo>
                  <a:pt x="870" y="814"/>
                </a:lnTo>
                <a:lnTo>
                  <a:pt x="848" y="882"/>
                </a:lnTo>
                <a:lnTo>
                  <a:pt x="667" y="882"/>
                </a:lnTo>
                <a:lnTo>
                  <a:pt x="689" y="825"/>
                </a:lnTo>
                <a:lnTo>
                  <a:pt x="712" y="780"/>
                </a:lnTo>
                <a:lnTo>
                  <a:pt x="723" y="724"/>
                </a:lnTo>
                <a:lnTo>
                  <a:pt x="746" y="678"/>
                </a:lnTo>
                <a:lnTo>
                  <a:pt x="757" y="645"/>
                </a:lnTo>
                <a:lnTo>
                  <a:pt x="769" y="599"/>
                </a:lnTo>
                <a:lnTo>
                  <a:pt x="780" y="565"/>
                </a:lnTo>
                <a:lnTo>
                  <a:pt x="791" y="531"/>
                </a:lnTo>
                <a:lnTo>
                  <a:pt x="802" y="498"/>
                </a:lnTo>
                <a:lnTo>
                  <a:pt x="814" y="464"/>
                </a:lnTo>
                <a:lnTo>
                  <a:pt x="825" y="441"/>
                </a:lnTo>
                <a:lnTo>
                  <a:pt x="825" y="418"/>
                </a:lnTo>
                <a:lnTo>
                  <a:pt x="836" y="396"/>
                </a:lnTo>
                <a:lnTo>
                  <a:pt x="836" y="385"/>
                </a:lnTo>
                <a:lnTo>
                  <a:pt x="848" y="362"/>
                </a:lnTo>
                <a:lnTo>
                  <a:pt x="848" y="351"/>
                </a:lnTo>
                <a:lnTo>
                  <a:pt x="848" y="317"/>
                </a:lnTo>
                <a:lnTo>
                  <a:pt x="836" y="283"/>
                </a:lnTo>
                <a:lnTo>
                  <a:pt x="825" y="260"/>
                </a:lnTo>
                <a:lnTo>
                  <a:pt x="802" y="226"/>
                </a:lnTo>
                <a:lnTo>
                  <a:pt x="791" y="226"/>
                </a:lnTo>
                <a:lnTo>
                  <a:pt x="780" y="226"/>
                </a:lnTo>
                <a:lnTo>
                  <a:pt x="746" y="215"/>
                </a:lnTo>
                <a:lnTo>
                  <a:pt x="712" y="215"/>
                </a:lnTo>
                <a:lnTo>
                  <a:pt x="667" y="215"/>
                </a:lnTo>
                <a:lnTo>
                  <a:pt x="622" y="226"/>
                </a:lnTo>
                <a:lnTo>
                  <a:pt x="565" y="226"/>
                </a:lnTo>
                <a:lnTo>
                  <a:pt x="508" y="226"/>
                </a:lnTo>
                <a:lnTo>
                  <a:pt x="373" y="249"/>
                </a:lnTo>
                <a:lnTo>
                  <a:pt x="248" y="283"/>
                </a:lnTo>
                <a:lnTo>
                  <a:pt x="124" y="305"/>
                </a:lnTo>
                <a:lnTo>
                  <a:pt x="0" y="339"/>
                </a:lnTo>
                <a:lnTo>
                  <a:pt x="0" y="204"/>
                </a:lnTo>
                <a:lnTo>
                  <a:pt x="34" y="204"/>
                </a:lnTo>
                <a:lnTo>
                  <a:pt x="68" y="192"/>
                </a:lnTo>
                <a:lnTo>
                  <a:pt x="113" y="192"/>
                </a:lnTo>
                <a:lnTo>
                  <a:pt x="158" y="181"/>
                </a:lnTo>
                <a:lnTo>
                  <a:pt x="226" y="170"/>
                </a:lnTo>
                <a:lnTo>
                  <a:pt x="282" y="158"/>
                </a:lnTo>
                <a:lnTo>
                  <a:pt x="362" y="147"/>
                </a:lnTo>
                <a:lnTo>
                  <a:pt x="441" y="124"/>
                </a:lnTo>
                <a:lnTo>
                  <a:pt x="520" y="113"/>
                </a:lnTo>
                <a:lnTo>
                  <a:pt x="588" y="91"/>
                </a:lnTo>
                <a:lnTo>
                  <a:pt x="644" y="79"/>
                </a:lnTo>
                <a:lnTo>
                  <a:pt x="701" y="68"/>
                </a:lnTo>
                <a:lnTo>
                  <a:pt x="735" y="57"/>
                </a:lnTo>
                <a:lnTo>
                  <a:pt x="769" y="45"/>
                </a:lnTo>
                <a:lnTo>
                  <a:pt x="791" y="45"/>
                </a:lnTo>
                <a:lnTo>
                  <a:pt x="802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6"/>
          <p:cNvSpPr/>
          <p:nvPr/>
        </p:nvSpPr>
        <p:spPr>
          <a:xfrm>
            <a:off x="6310440" y="3941640"/>
            <a:ext cx="595080" cy="146160"/>
          </a:xfrm>
          <a:custGeom>
            <a:avLst/>
            <a:gdLst>
              <a:gd name="textAreaLeft" fmla="*/ 0 w 595080"/>
              <a:gd name="textAreaRight" fmla="*/ 595440 w 5950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38" h="226">
                <a:moveTo>
                  <a:pt x="0" y="113"/>
                </a:moveTo>
                <a:lnTo>
                  <a:pt x="102" y="90"/>
                </a:lnTo>
                <a:lnTo>
                  <a:pt x="203" y="79"/>
                </a:lnTo>
                <a:lnTo>
                  <a:pt x="294" y="68"/>
                </a:lnTo>
                <a:lnTo>
                  <a:pt x="384" y="56"/>
                </a:lnTo>
                <a:lnTo>
                  <a:pt x="463" y="45"/>
                </a:lnTo>
                <a:lnTo>
                  <a:pt x="531" y="34"/>
                </a:lnTo>
                <a:lnTo>
                  <a:pt x="599" y="34"/>
                </a:lnTo>
                <a:lnTo>
                  <a:pt x="656" y="22"/>
                </a:lnTo>
                <a:lnTo>
                  <a:pt x="712" y="11"/>
                </a:lnTo>
                <a:lnTo>
                  <a:pt x="757" y="11"/>
                </a:lnTo>
                <a:lnTo>
                  <a:pt x="803" y="0"/>
                </a:lnTo>
                <a:lnTo>
                  <a:pt x="836" y="0"/>
                </a:lnTo>
                <a:lnTo>
                  <a:pt x="859" y="0"/>
                </a:lnTo>
                <a:lnTo>
                  <a:pt x="882" y="0"/>
                </a:lnTo>
                <a:lnTo>
                  <a:pt x="893" y="0"/>
                </a:lnTo>
                <a:lnTo>
                  <a:pt x="904" y="0"/>
                </a:lnTo>
                <a:lnTo>
                  <a:pt x="916" y="22"/>
                </a:lnTo>
                <a:lnTo>
                  <a:pt x="938" y="34"/>
                </a:lnTo>
                <a:lnTo>
                  <a:pt x="938" y="56"/>
                </a:lnTo>
                <a:lnTo>
                  <a:pt x="938" y="90"/>
                </a:lnTo>
                <a:lnTo>
                  <a:pt x="938" y="113"/>
                </a:lnTo>
                <a:lnTo>
                  <a:pt x="938" y="124"/>
                </a:lnTo>
                <a:lnTo>
                  <a:pt x="927" y="136"/>
                </a:lnTo>
                <a:lnTo>
                  <a:pt x="916" y="147"/>
                </a:lnTo>
                <a:lnTo>
                  <a:pt x="893" y="158"/>
                </a:lnTo>
                <a:lnTo>
                  <a:pt x="882" y="169"/>
                </a:lnTo>
                <a:lnTo>
                  <a:pt x="859" y="181"/>
                </a:lnTo>
                <a:lnTo>
                  <a:pt x="825" y="181"/>
                </a:lnTo>
                <a:lnTo>
                  <a:pt x="814" y="192"/>
                </a:lnTo>
                <a:lnTo>
                  <a:pt x="791" y="192"/>
                </a:lnTo>
                <a:lnTo>
                  <a:pt x="757" y="203"/>
                </a:lnTo>
                <a:lnTo>
                  <a:pt x="723" y="203"/>
                </a:lnTo>
                <a:lnTo>
                  <a:pt x="690" y="203"/>
                </a:lnTo>
                <a:lnTo>
                  <a:pt x="656" y="215"/>
                </a:lnTo>
                <a:lnTo>
                  <a:pt x="610" y="215"/>
                </a:lnTo>
                <a:lnTo>
                  <a:pt x="554" y="215"/>
                </a:lnTo>
                <a:lnTo>
                  <a:pt x="497" y="215"/>
                </a:lnTo>
                <a:lnTo>
                  <a:pt x="441" y="226"/>
                </a:lnTo>
                <a:lnTo>
                  <a:pt x="384" y="226"/>
                </a:lnTo>
                <a:lnTo>
                  <a:pt x="316" y="226"/>
                </a:lnTo>
                <a:lnTo>
                  <a:pt x="237" y="226"/>
                </a:lnTo>
                <a:lnTo>
                  <a:pt x="169" y="226"/>
                </a:lnTo>
                <a:lnTo>
                  <a:pt x="79" y="226"/>
                </a:lnTo>
                <a:lnTo>
                  <a:pt x="0" y="226"/>
                </a:lnTo>
                <a:lnTo>
                  <a:pt x="0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3" descr="t019c232d827d4fd0ae"/>
          <p:cNvPicPr/>
          <p:nvPr/>
        </p:nvPicPr>
        <p:blipFill>
          <a:blip r:embed="rId1"/>
          <a:stretch/>
        </p:blipFill>
        <p:spPr>
          <a:xfrm>
            <a:off x="2556000" y="485640"/>
            <a:ext cx="4249440" cy="3097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" descr="20131220031358-1289067503"/>
          <p:cNvPicPr/>
          <p:nvPr/>
        </p:nvPicPr>
        <p:blipFill>
          <a:blip r:embed="rId2"/>
          <a:srcRect l="0" t="39128" r="0" b="0"/>
          <a:stretch/>
        </p:blipFill>
        <p:spPr>
          <a:xfrm>
            <a:off x="2484360" y="2719440"/>
            <a:ext cx="43210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reeform 43"/>
          <p:cNvSpPr/>
          <p:nvPr/>
        </p:nvSpPr>
        <p:spPr>
          <a:xfrm>
            <a:off x="5553000" y="2316240"/>
            <a:ext cx="525600" cy="676080"/>
          </a:xfrm>
          <a:custGeom>
            <a:avLst/>
            <a:gdLst>
              <a:gd name="textAreaLeft" fmla="*/ 0 w 525600"/>
              <a:gd name="textAreaRight" fmla="*/ 525960 w 52560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826" h="1040">
                <a:moveTo>
                  <a:pt x="554" y="271"/>
                </a:moveTo>
                <a:lnTo>
                  <a:pt x="566" y="237"/>
                </a:lnTo>
                <a:lnTo>
                  <a:pt x="577" y="203"/>
                </a:lnTo>
                <a:lnTo>
                  <a:pt x="588" y="169"/>
                </a:lnTo>
                <a:lnTo>
                  <a:pt x="588" y="147"/>
                </a:lnTo>
                <a:lnTo>
                  <a:pt x="599" y="124"/>
                </a:lnTo>
                <a:lnTo>
                  <a:pt x="599" y="101"/>
                </a:lnTo>
                <a:lnTo>
                  <a:pt x="599" y="79"/>
                </a:lnTo>
                <a:lnTo>
                  <a:pt x="599" y="68"/>
                </a:lnTo>
                <a:lnTo>
                  <a:pt x="588" y="56"/>
                </a:lnTo>
                <a:lnTo>
                  <a:pt x="577" y="45"/>
                </a:lnTo>
                <a:lnTo>
                  <a:pt x="577" y="34"/>
                </a:lnTo>
                <a:lnTo>
                  <a:pt x="577" y="22"/>
                </a:lnTo>
                <a:lnTo>
                  <a:pt x="577" y="11"/>
                </a:lnTo>
                <a:lnTo>
                  <a:pt x="588" y="11"/>
                </a:lnTo>
                <a:lnTo>
                  <a:pt x="599" y="0"/>
                </a:lnTo>
                <a:lnTo>
                  <a:pt x="611" y="0"/>
                </a:lnTo>
                <a:lnTo>
                  <a:pt x="633" y="0"/>
                </a:lnTo>
                <a:lnTo>
                  <a:pt x="656" y="11"/>
                </a:lnTo>
                <a:lnTo>
                  <a:pt x="690" y="22"/>
                </a:lnTo>
                <a:lnTo>
                  <a:pt x="712" y="34"/>
                </a:lnTo>
                <a:lnTo>
                  <a:pt x="735" y="56"/>
                </a:lnTo>
                <a:lnTo>
                  <a:pt x="758" y="68"/>
                </a:lnTo>
                <a:lnTo>
                  <a:pt x="769" y="79"/>
                </a:lnTo>
                <a:lnTo>
                  <a:pt x="792" y="101"/>
                </a:lnTo>
                <a:lnTo>
                  <a:pt x="803" y="113"/>
                </a:lnTo>
                <a:lnTo>
                  <a:pt x="814" y="124"/>
                </a:lnTo>
                <a:lnTo>
                  <a:pt x="814" y="147"/>
                </a:lnTo>
                <a:lnTo>
                  <a:pt x="814" y="158"/>
                </a:lnTo>
                <a:lnTo>
                  <a:pt x="826" y="169"/>
                </a:lnTo>
                <a:lnTo>
                  <a:pt x="814" y="192"/>
                </a:lnTo>
                <a:lnTo>
                  <a:pt x="814" y="203"/>
                </a:lnTo>
                <a:lnTo>
                  <a:pt x="803" y="226"/>
                </a:lnTo>
                <a:lnTo>
                  <a:pt x="792" y="260"/>
                </a:lnTo>
                <a:lnTo>
                  <a:pt x="780" y="282"/>
                </a:lnTo>
                <a:lnTo>
                  <a:pt x="758" y="316"/>
                </a:lnTo>
                <a:lnTo>
                  <a:pt x="735" y="362"/>
                </a:lnTo>
                <a:lnTo>
                  <a:pt x="712" y="395"/>
                </a:lnTo>
                <a:lnTo>
                  <a:pt x="645" y="486"/>
                </a:lnTo>
                <a:lnTo>
                  <a:pt x="588" y="576"/>
                </a:lnTo>
                <a:lnTo>
                  <a:pt x="520" y="655"/>
                </a:lnTo>
                <a:lnTo>
                  <a:pt x="441" y="735"/>
                </a:lnTo>
                <a:lnTo>
                  <a:pt x="407" y="768"/>
                </a:lnTo>
                <a:lnTo>
                  <a:pt x="362" y="814"/>
                </a:lnTo>
                <a:lnTo>
                  <a:pt x="317" y="848"/>
                </a:lnTo>
                <a:lnTo>
                  <a:pt x="283" y="870"/>
                </a:lnTo>
                <a:lnTo>
                  <a:pt x="249" y="904"/>
                </a:lnTo>
                <a:lnTo>
                  <a:pt x="215" y="927"/>
                </a:lnTo>
                <a:lnTo>
                  <a:pt x="147" y="972"/>
                </a:lnTo>
                <a:lnTo>
                  <a:pt x="113" y="995"/>
                </a:lnTo>
                <a:lnTo>
                  <a:pt x="79" y="1006"/>
                </a:lnTo>
                <a:lnTo>
                  <a:pt x="57" y="1017"/>
                </a:lnTo>
                <a:lnTo>
                  <a:pt x="34" y="1029"/>
                </a:lnTo>
                <a:lnTo>
                  <a:pt x="23" y="1029"/>
                </a:lnTo>
                <a:lnTo>
                  <a:pt x="12" y="1040"/>
                </a:lnTo>
                <a:lnTo>
                  <a:pt x="0" y="1029"/>
                </a:lnTo>
                <a:lnTo>
                  <a:pt x="0" y="1017"/>
                </a:lnTo>
                <a:lnTo>
                  <a:pt x="12" y="1017"/>
                </a:lnTo>
                <a:lnTo>
                  <a:pt x="12" y="995"/>
                </a:lnTo>
                <a:lnTo>
                  <a:pt x="34" y="983"/>
                </a:lnTo>
                <a:lnTo>
                  <a:pt x="57" y="949"/>
                </a:lnTo>
                <a:lnTo>
                  <a:pt x="79" y="927"/>
                </a:lnTo>
                <a:lnTo>
                  <a:pt x="113" y="893"/>
                </a:lnTo>
                <a:lnTo>
                  <a:pt x="159" y="859"/>
                </a:lnTo>
                <a:lnTo>
                  <a:pt x="226" y="780"/>
                </a:lnTo>
                <a:lnTo>
                  <a:pt x="294" y="689"/>
                </a:lnTo>
                <a:lnTo>
                  <a:pt x="351" y="610"/>
                </a:lnTo>
                <a:lnTo>
                  <a:pt x="385" y="576"/>
                </a:lnTo>
                <a:lnTo>
                  <a:pt x="407" y="531"/>
                </a:lnTo>
                <a:lnTo>
                  <a:pt x="452" y="463"/>
                </a:lnTo>
                <a:lnTo>
                  <a:pt x="486" y="395"/>
                </a:lnTo>
                <a:lnTo>
                  <a:pt x="520" y="328"/>
                </a:lnTo>
                <a:lnTo>
                  <a:pt x="554" y="27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答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á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83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的撇捺要舒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回答  答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明回答问题的声音总是很响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49200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8"/>
          <p:cNvSpPr/>
          <p:nvPr/>
        </p:nvSpPr>
        <p:spPr>
          <a:xfrm>
            <a:off x="5424480" y="2895480"/>
            <a:ext cx="954000" cy="881280"/>
          </a:xfrm>
          <a:custGeom>
            <a:avLst/>
            <a:gdLst>
              <a:gd name="textAreaLeft" fmla="*/ 0 w 954000"/>
              <a:gd name="textAreaRight" fmla="*/ 954360 w 954000"/>
              <a:gd name="textAreaTop" fmla="*/ 0 h 881280"/>
              <a:gd name="textAreaBottom" fmla="*/ 881640 h 881280"/>
            </a:gdLst>
            <a:ahLst/>
            <a:rect l="textAreaLeft" t="textAreaTop" r="textAreaRight" b="textAreaBottom"/>
            <a:pathLst>
              <a:path w="1503" h="1356">
                <a:moveTo>
                  <a:pt x="1289" y="0"/>
                </a:moveTo>
                <a:lnTo>
                  <a:pt x="1300" y="0"/>
                </a:lnTo>
                <a:lnTo>
                  <a:pt x="1322" y="0"/>
                </a:lnTo>
                <a:lnTo>
                  <a:pt x="1334" y="0"/>
                </a:lnTo>
                <a:lnTo>
                  <a:pt x="1356" y="11"/>
                </a:lnTo>
                <a:lnTo>
                  <a:pt x="1368" y="22"/>
                </a:lnTo>
                <a:lnTo>
                  <a:pt x="1390" y="34"/>
                </a:lnTo>
                <a:lnTo>
                  <a:pt x="1436" y="56"/>
                </a:lnTo>
                <a:lnTo>
                  <a:pt x="1458" y="68"/>
                </a:lnTo>
                <a:lnTo>
                  <a:pt x="1469" y="90"/>
                </a:lnTo>
                <a:lnTo>
                  <a:pt x="1481" y="102"/>
                </a:lnTo>
                <a:lnTo>
                  <a:pt x="1492" y="113"/>
                </a:lnTo>
                <a:lnTo>
                  <a:pt x="1503" y="124"/>
                </a:lnTo>
                <a:lnTo>
                  <a:pt x="1503" y="136"/>
                </a:lnTo>
                <a:lnTo>
                  <a:pt x="1503" y="158"/>
                </a:lnTo>
                <a:lnTo>
                  <a:pt x="1492" y="181"/>
                </a:lnTo>
                <a:lnTo>
                  <a:pt x="1481" y="203"/>
                </a:lnTo>
                <a:lnTo>
                  <a:pt x="1469" y="215"/>
                </a:lnTo>
                <a:lnTo>
                  <a:pt x="1458" y="249"/>
                </a:lnTo>
                <a:lnTo>
                  <a:pt x="1436" y="271"/>
                </a:lnTo>
                <a:lnTo>
                  <a:pt x="1413" y="305"/>
                </a:lnTo>
                <a:lnTo>
                  <a:pt x="1379" y="339"/>
                </a:lnTo>
                <a:lnTo>
                  <a:pt x="1345" y="373"/>
                </a:lnTo>
                <a:lnTo>
                  <a:pt x="1311" y="418"/>
                </a:lnTo>
                <a:lnTo>
                  <a:pt x="1277" y="463"/>
                </a:lnTo>
                <a:lnTo>
                  <a:pt x="1243" y="509"/>
                </a:lnTo>
                <a:lnTo>
                  <a:pt x="1198" y="565"/>
                </a:lnTo>
                <a:lnTo>
                  <a:pt x="1108" y="656"/>
                </a:lnTo>
                <a:lnTo>
                  <a:pt x="1006" y="757"/>
                </a:lnTo>
                <a:lnTo>
                  <a:pt x="961" y="803"/>
                </a:lnTo>
                <a:lnTo>
                  <a:pt x="904" y="848"/>
                </a:lnTo>
                <a:lnTo>
                  <a:pt x="802" y="938"/>
                </a:lnTo>
                <a:lnTo>
                  <a:pt x="701" y="1017"/>
                </a:lnTo>
                <a:lnTo>
                  <a:pt x="599" y="1085"/>
                </a:lnTo>
                <a:lnTo>
                  <a:pt x="542" y="1119"/>
                </a:lnTo>
                <a:lnTo>
                  <a:pt x="497" y="1153"/>
                </a:lnTo>
                <a:lnTo>
                  <a:pt x="395" y="1210"/>
                </a:lnTo>
                <a:lnTo>
                  <a:pt x="305" y="1255"/>
                </a:lnTo>
                <a:lnTo>
                  <a:pt x="203" y="1300"/>
                </a:lnTo>
                <a:lnTo>
                  <a:pt x="158" y="1323"/>
                </a:lnTo>
                <a:lnTo>
                  <a:pt x="113" y="1334"/>
                </a:lnTo>
                <a:lnTo>
                  <a:pt x="79" y="1345"/>
                </a:lnTo>
                <a:lnTo>
                  <a:pt x="56" y="1356"/>
                </a:lnTo>
                <a:lnTo>
                  <a:pt x="34" y="1356"/>
                </a:lnTo>
                <a:lnTo>
                  <a:pt x="22" y="1356"/>
                </a:lnTo>
                <a:lnTo>
                  <a:pt x="11" y="1356"/>
                </a:lnTo>
                <a:lnTo>
                  <a:pt x="0" y="1356"/>
                </a:lnTo>
                <a:lnTo>
                  <a:pt x="11" y="1345"/>
                </a:lnTo>
                <a:lnTo>
                  <a:pt x="22" y="1334"/>
                </a:lnTo>
                <a:lnTo>
                  <a:pt x="34" y="1323"/>
                </a:lnTo>
                <a:lnTo>
                  <a:pt x="45" y="1311"/>
                </a:lnTo>
                <a:lnTo>
                  <a:pt x="68" y="1300"/>
                </a:lnTo>
                <a:lnTo>
                  <a:pt x="79" y="1289"/>
                </a:lnTo>
                <a:lnTo>
                  <a:pt x="102" y="1277"/>
                </a:lnTo>
                <a:lnTo>
                  <a:pt x="135" y="1255"/>
                </a:lnTo>
                <a:lnTo>
                  <a:pt x="158" y="1232"/>
                </a:lnTo>
                <a:lnTo>
                  <a:pt x="192" y="1210"/>
                </a:lnTo>
                <a:lnTo>
                  <a:pt x="226" y="1187"/>
                </a:lnTo>
                <a:lnTo>
                  <a:pt x="271" y="1164"/>
                </a:lnTo>
                <a:lnTo>
                  <a:pt x="316" y="1130"/>
                </a:lnTo>
                <a:lnTo>
                  <a:pt x="362" y="1096"/>
                </a:lnTo>
                <a:lnTo>
                  <a:pt x="407" y="1063"/>
                </a:lnTo>
                <a:lnTo>
                  <a:pt x="463" y="1029"/>
                </a:lnTo>
                <a:lnTo>
                  <a:pt x="509" y="983"/>
                </a:lnTo>
                <a:lnTo>
                  <a:pt x="565" y="938"/>
                </a:lnTo>
                <a:lnTo>
                  <a:pt x="622" y="893"/>
                </a:lnTo>
                <a:lnTo>
                  <a:pt x="678" y="836"/>
                </a:lnTo>
                <a:lnTo>
                  <a:pt x="735" y="791"/>
                </a:lnTo>
                <a:lnTo>
                  <a:pt x="791" y="735"/>
                </a:lnTo>
                <a:lnTo>
                  <a:pt x="848" y="667"/>
                </a:lnTo>
                <a:lnTo>
                  <a:pt x="904" y="610"/>
                </a:lnTo>
                <a:lnTo>
                  <a:pt x="961" y="554"/>
                </a:lnTo>
                <a:lnTo>
                  <a:pt x="1006" y="497"/>
                </a:lnTo>
                <a:lnTo>
                  <a:pt x="1051" y="452"/>
                </a:lnTo>
                <a:lnTo>
                  <a:pt x="1096" y="407"/>
                </a:lnTo>
                <a:lnTo>
                  <a:pt x="1130" y="350"/>
                </a:lnTo>
                <a:lnTo>
                  <a:pt x="1164" y="316"/>
                </a:lnTo>
                <a:lnTo>
                  <a:pt x="1187" y="271"/>
                </a:lnTo>
                <a:lnTo>
                  <a:pt x="1209" y="237"/>
                </a:lnTo>
                <a:lnTo>
                  <a:pt x="1221" y="203"/>
                </a:lnTo>
                <a:lnTo>
                  <a:pt x="1243" y="169"/>
                </a:lnTo>
                <a:lnTo>
                  <a:pt x="1255" y="147"/>
                </a:lnTo>
                <a:lnTo>
                  <a:pt x="1255" y="113"/>
                </a:lnTo>
                <a:lnTo>
                  <a:pt x="1266" y="90"/>
                </a:lnTo>
                <a:lnTo>
                  <a:pt x="1266" y="68"/>
                </a:lnTo>
                <a:lnTo>
                  <a:pt x="1266" y="56"/>
                </a:lnTo>
                <a:lnTo>
                  <a:pt x="1255" y="45"/>
                </a:lnTo>
                <a:lnTo>
                  <a:pt x="1255" y="34"/>
                </a:lnTo>
                <a:lnTo>
                  <a:pt x="1255" y="11"/>
                </a:lnTo>
                <a:lnTo>
                  <a:pt x="1266" y="0"/>
                </a:lnTo>
                <a:lnTo>
                  <a:pt x="1277" y="0"/>
                </a:lnTo>
                <a:lnTo>
                  <a:pt x="1289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9"/>
          <p:cNvSpPr/>
          <p:nvPr/>
        </p:nvSpPr>
        <p:spPr>
          <a:xfrm>
            <a:off x="6264360" y="2940120"/>
            <a:ext cx="1127160" cy="69840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1775" h="1074">
                <a:moveTo>
                  <a:pt x="1527" y="904"/>
                </a:moveTo>
                <a:lnTo>
                  <a:pt x="1583" y="915"/>
                </a:lnTo>
                <a:lnTo>
                  <a:pt x="1628" y="927"/>
                </a:lnTo>
                <a:lnTo>
                  <a:pt x="1674" y="938"/>
                </a:lnTo>
                <a:lnTo>
                  <a:pt x="1708" y="961"/>
                </a:lnTo>
                <a:lnTo>
                  <a:pt x="1741" y="972"/>
                </a:lnTo>
                <a:lnTo>
                  <a:pt x="1764" y="983"/>
                </a:lnTo>
                <a:lnTo>
                  <a:pt x="1775" y="983"/>
                </a:lnTo>
                <a:lnTo>
                  <a:pt x="1775" y="995"/>
                </a:lnTo>
                <a:lnTo>
                  <a:pt x="1764" y="1006"/>
                </a:lnTo>
                <a:lnTo>
                  <a:pt x="1753" y="1017"/>
                </a:lnTo>
                <a:lnTo>
                  <a:pt x="1730" y="1017"/>
                </a:lnTo>
                <a:lnTo>
                  <a:pt x="1696" y="1028"/>
                </a:lnTo>
                <a:lnTo>
                  <a:pt x="1662" y="1028"/>
                </a:lnTo>
                <a:lnTo>
                  <a:pt x="1617" y="1040"/>
                </a:lnTo>
                <a:lnTo>
                  <a:pt x="1572" y="1051"/>
                </a:lnTo>
                <a:lnTo>
                  <a:pt x="1470" y="1062"/>
                </a:lnTo>
                <a:lnTo>
                  <a:pt x="1380" y="1074"/>
                </a:lnTo>
                <a:lnTo>
                  <a:pt x="1301" y="1074"/>
                </a:lnTo>
                <a:lnTo>
                  <a:pt x="1255" y="1074"/>
                </a:lnTo>
                <a:lnTo>
                  <a:pt x="1221" y="1074"/>
                </a:lnTo>
                <a:lnTo>
                  <a:pt x="1188" y="1074"/>
                </a:lnTo>
                <a:lnTo>
                  <a:pt x="1154" y="1062"/>
                </a:lnTo>
                <a:lnTo>
                  <a:pt x="1120" y="1062"/>
                </a:lnTo>
                <a:lnTo>
                  <a:pt x="1086" y="1051"/>
                </a:lnTo>
                <a:lnTo>
                  <a:pt x="1052" y="1040"/>
                </a:lnTo>
                <a:lnTo>
                  <a:pt x="1018" y="1028"/>
                </a:lnTo>
                <a:lnTo>
                  <a:pt x="995" y="1017"/>
                </a:lnTo>
                <a:lnTo>
                  <a:pt x="973" y="995"/>
                </a:lnTo>
                <a:lnTo>
                  <a:pt x="950" y="983"/>
                </a:lnTo>
                <a:lnTo>
                  <a:pt x="939" y="961"/>
                </a:lnTo>
                <a:lnTo>
                  <a:pt x="905" y="938"/>
                </a:lnTo>
                <a:lnTo>
                  <a:pt x="871" y="915"/>
                </a:lnTo>
                <a:lnTo>
                  <a:pt x="837" y="881"/>
                </a:lnTo>
                <a:lnTo>
                  <a:pt x="792" y="836"/>
                </a:lnTo>
                <a:lnTo>
                  <a:pt x="735" y="791"/>
                </a:lnTo>
                <a:lnTo>
                  <a:pt x="679" y="735"/>
                </a:lnTo>
                <a:lnTo>
                  <a:pt x="611" y="678"/>
                </a:lnTo>
                <a:lnTo>
                  <a:pt x="543" y="610"/>
                </a:lnTo>
                <a:lnTo>
                  <a:pt x="464" y="531"/>
                </a:lnTo>
                <a:lnTo>
                  <a:pt x="385" y="463"/>
                </a:lnTo>
                <a:lnTo>
                  <a:pt x="294" y="373"/>
                </a:lnTo>
                <a:lnTo>
                  <a:pt x="204" y="282"/>
                </a:lnTo>
                <a:lnTo>
                  <a:pt x="102" y="181"/>
                </a:lnTo>
                <a:lnTo>
                  <a:pt x="0" y="79"/>
                </a:lnTo>
                <a:lnTo>
                  <a:pt x="68" y="0"/>
                </a:lnTo>
                <a:lnTo>
                  <a:pt x="193" y="113"/>
                </a:lnTo>
                <a:lnTo>
                  <a:pt x="317" y="214"/>
                </a:lnTo>
                <a:lnTo>
                  <a:pt x="441" y="316"/>
                </a:lnTo>
                <a:lnTo>
                  <a:pt x="566" y="418"/>
                </a:lnTo>
                <a:lnTo>
                  <a:pt x="634" y="463"/>
                </a:lnTo>
                <a:lnTo>
                  <a:pt x="690" y="508"/>
                </a:lnTo>
                <a:lnTo>
                  <a:pt x="747" y="554"/>
                </a:lnTo>
                <a:lnTo>
                  <a:pt x="814" y="599"/>
                </a:lnTo>
                <a:lnTo>
                  <a:pt x="871" y="633"/>
                </a:lnTo>
                <a:lnTo>
                  <a:pt x="928" y="667"/>
                </a:lnTo>
                <a:lnTo>
                  <a:pt x="984" y="701"/>
                </a:lnTo>
                <a:lnTo>
                  <a:pt x="1041" y="723"/>
                </a:lnTo>
                <a:lnTo>
                  <a:pt x="1165" y="780"/>
                </a:lnTo>
                <a:lnTo>
                  <a:pt x="1278" y="825"/>
                </a:lnTo>
                <a:lnTo>
                  <a:pt x="1402" y="859"/>
                </a:lnTo>
                <a:lnTo>
                  <a:pt x="1527" y="90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40"/>
          <p:cNvSpPr/>
          <p:nvPr/>
        </p:nvSpPr>
        <p:spPr>
          <a:xfrm>
            <a:off x="6041880" y="3417840"/>
            <a:ext cx="487440" cy="147600"/>
          </a:xfrm>
          <a:custGeom>
            <a:avLst/>
            <a:gdLst>
              <a:gd name="textAreaLeft" fmla="*/ 0 w 487440"/>
              <a:gd name="textAreaRight" fmla="*/ 487800 w 4874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769" h="226">
                <a:moveTo>
                  <a:pt x="350" y="45"/>
                </a:moveTo>
                <a:lnTo>
                  <a:pt x="407" y="33"/>
                </a:lnTo>
                <a:lnTo>
                  <a:pt x="452" y="22"/>
                </a:lnTo>
                <a:lnTo>
                  <a:pt x="497" y="11"/>
                </a:lnTo>
                <a:lnTo>
                  <a:pt x="543" y="0"/>
                </a:lnTo>
                <a:lnTo>
                  <a:pt x="577" y="0"/>
                </a:lnTo>
                <a:lnTo>
                  <a:pt x="611" y="0"/>
                </a:lnTo>
                <a:lnTo>
                  <a:pt x="644" y="0"/>
                </a:lnTo>
                <a:lnTo>
                  <a:pt x="667" y="0"/>
                </a:lnTo>
                <a:lnTo>
                  <a:pt x="690" y="11"/>
                </a:lnTo>
                <a:lnTo>
                  <a:pt x="712" y="22"/>
                </a:lnTo>
                <a:lnTo>
                  <a:pt x="724" y="33"/>
                </a:lnTo>
                <a:lnTo>
                  <a:pt x="746" y="33"/>
                </a:lnTo>
                <a:lnTo>
                  <a:pt x="757" y="45"/>
                </a:lnTo>
                <a:lnTo>
                  <a:pt x="769" y="56"/>
                </a:lnTo>
                <a:lnTo>
                  <a:pt x="769" y="67"/>
                </a:lnTo>
                <a:lnTo>
                  <a:pt x="757" y="79"/>
                </a:lnTo>
                <a:lnTo>
                  <a:pt x="746" y="101"/>
                </a:lnTo>
                <a:lnTo>
                  <a:pt x="712" y="113"/>
                </a:lnTo>
                <a:lnTo>
                  <a:pt x="701" y="124"/>
                </a:lnTo>
                <a:lnTo>
                  <a:pt x="678" y="135"/>
                </a:lnTo>
                <a:lnTo>
                  <a:pt x="656" y="135"/>
                </a:lnTo>
                <a:lnTo>
                  <a:pt x="622" y="146"/>
                </a:lnTo>
                <a:lnTo>
                  <a:pt x="588" y="158"/>
                </a:lnTo>
                <a:lnTo>
                  <a:pt x="543" y="169"/>
                </a:lnTo>
                <a:lnTo>
                  <a:pt x="497" y="180"/>
                </a:lnTo>
                <a:lnTo>
                  <a:pt x="452" y="192"/>
                </a:lnTo>
                <a:lnTo>
                  <a:pt x="407" y="203"/>
                </a:lnTo>
                <a:lnTo>
                  <a:pt x="362" y="203"/>
                </a:lnTo>
                <a:lnTo>
                  <a:pt x="317" y="214"/>
                </a:lnTo>
                <a:lnTo>
                  <a:pt x="283" y="226"/>
                </a:lnTo>
                <a:lnTo>
                  <a:pt x="249" y="226"/>
                </a:lnTo>
                <a:lnTo>
                  <a:pt x="226" y="226"/>
                </a:lnTo>
                <a:lnTo>
                  <a:pt x="204" y="226"/>
                </a:lnTo>
                <a:lnTo>
                  <a:pt x="192" y="226"/>
                </a:lnTo>
                <a:lnTo>
                  <a:pt x="158" y="226"/>
                </a:lnTo>
                <a:lnTo>
                  <a:pt x="136" y="226"/>
                </a:lnTo>
                <a:lnTo>
                  <a:pt x="102" y="203"/>
                </a:lnTo>
                <a:lnTo>
                  <a:pt x="79" y="192"/>
                </a:lnTo>
                <a:lnTo>
                  <a:pt x="45" y="169"/>
                </a:lnTo>
                <a:lnTo>
                  <a:pt x="23" y="158"/>
                </a:lnTo>
                <a:lnTo>
                  <a:pt x="11" y="146"/>
                </a:lnTo>
                <a:lnTo>
                  <a:pt x="0" y="135"/>
                </a:lnTo>
                <a:lnTo>
                  <a:pt x="11" y="124"/>
                </a:lnTo>
                <a:lnTo>
                  <a:pt x="23" y="124"/>
                </a:lnTo>
                <a:lnTo>
                  <a:pt x="45" y="113"/>
                </a:lnTo>
                <a:lnTo>
                  <a:pt x="79" y="113"/>
                </a:lnTo>
                <a:lnTo>
                  <a:pt x="102" y="113"/>
                </a:lnTo>
                <a:lnTo>
                  <a:pt x="124" y="101"/>
                </a:lnTo>
                <a:lnTo>
                  <a:pt x="147" y="101"/>
                </a:lnTo>
                <a:lnTo>
                  <a:pt x="181" y="90"/>
                </a:lnTo>
                <a:lnTo>
                  <a:pt x="215" y="79"/>
                </a:lnTo>
                <a:lnTo>
                  <a:pt x="260" y="67"/>
                </a:lnTo>
                <a:lnTo>
                  <a:pt x="305" y="56"/>
                </a:lnTo>
                <a:lnTo>
                  <a:pt x="350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41"/>
          <p:cNvSpPr/>
          <p:nvPr/>
        </p:nvSpPr>
        <p:spPr>
          <a:xfrm>
            <a:off x="6602400" y="2682720"/>
            <a:ext cx="200160" cy="206640"/>
          </a:xfrm>
          <a:custGeom>
            <a:avLst/>
            <a:gdLst>
              <a:gd name="textAreaLeft" fmla="*/ 0 w 200160"/>
              <a:gd name="textAreaRight" fmla="*/ 200520 w 20016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316" h="317">
                <a:moveTo>
                  <a:pt x="0" y="34"/>
                </a:moveTo>
                <a:lnTo>
                  <a:pt x="0" y="23"/>
                </a:lnTo>
                <a:lnTo>
                  <a:pt x="11" y="11"/>
                </a:lnTo>
                <a:lnTo>
                  <a:pt x="22" y="0"/>
                </a:lnTo>
                <a:lnTo>
                  <a:pt x="45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92" y="11"/>
                </a:lnTo>
                <a:lnTo>
                  <a:pt x="203" y="11"/>
                </a:lnTo>
                <a:lnTo>
                  <a:pt x="226" y="23"/>
                </a:lnTo>
                <a:lnTo>
                  <a:pt x="249" y="45"/>
                </a:lnTo>
                <a:lnTo>
                  <a:pt x="282" y="79"/>
                </a:lnTo>
                <a:lnTo>
                  <a:pt x="305" y="113"/>
                </a:lnTo>
                <a:lnTo>
                  <a:pt x="305" y="136"/>
                </a:lnTo>
                <a:lnTo>
                  <a:pt x="316" y="158"/>
                </a:lnTo>
                <a:lnTo>
                  <a:pt x="316" y="203"/>
                </a:lnTo>
                <a:lnTo>
                  <a:pt x="316" y="237"/>
                </a:lnTo>
                <a:lnTo>
                  <a:pt x="305" y="260"/>
                </a:lnTo>
                <a:lnTo>
                  <a:pt x="294" y="283"/>
                </a:lnTo>
                <a:lnTo>
                  <a:pt x="282" y="294"/>
                </a:lnTo>
                <a:lnTo>
                  <a:pt x="271" y="305"/>
                </a:lnTo>
                <a:lnTo>
                  <a:pt x="260" y="317"/>
                </a:lnTo>
                <a:lnTo>
                  <a:pt x="249" y="317"/>
                </a:lnTo>
                <a:lnTo>
                  <a:pt x="237" y="305"/>
                </a:lnTo>
                <a:lnTo>
                  <a:pt x="226" y="305"/>
                </a:lnTo>
                <a:lnTo>
                  <a:pt x="215" y="283"/>
                </a:lnTo>
                <a:lnTo>
                  <a:pt x="192" y="271"/>
                </a:lnTo>
                <a:lnTo>
                  <a:pt x="169" y="249"/>
                </a:lnTo>
                <a:lnTo>
                  <a:pt x="147" y="215"/>
                </a:lnTo>
                <a:lnTo>
                  <a:pt x="124" y="181"/>
                </a:lnTo>
                <a:lnTo>
                  <a:pt x="90" y="158"/>
                </a:lnTo>
                <a:lnTo>
                  <a:pt x="68" y="124"/>
                </a:lnTo>
                <a:lnTo>
                  <a:pt x="45" y="102"/>
                </a:lnTo>
                <a:lnTo>
                  <a:pt x="34" y="79"/>
                </a:lnTo>
                <a:lnTo>
                  <a:pt x="11" y="68"/>
                </a:lnTo>
                <a:lnTo>
                  <a:pt x="11" y="57"/>
                </a:lnTo>
                <a:lnTo>
                  <a:pt x="0" y="45"/>
                </a:lnTo>
                <a:lnTo>
                  <a:pt x="0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42"/>
          <p:cNvSpPr/>
          <p:nvPr/>
        </p:nvSpPr>
        <p:spPr>
          <a:xfrm>
            <a:off x="5913360" y="2733840"/>
            <a:ext cx="214560" cy="191880"/>
          </a:xfrm>
          <a:custGeom>
            <a:avLst/>
            <a:gdLst>
              <a:gd name="textAreaLeft" fmla="*/ 0 w 214560"/>
              <a:gd name="textAreaRight" fmla="*/ 214920 w 2145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339" h="294">
                <a:moveTo>
                  <a:pt x="293" y="294"/>
                </a:moveTo>
                <a:lnTo>
                  <a:pt x="282" y="294"/>
                </a:lnTo>
                <a:lnTo>
                  <a:pt x="271" y="294"/>
                </a:lnTo>
                <a:lnTo>
                  <a:pt x="260" y="283"/>
                </a:lnTo>
                <a:lnTo>
                  <a:pt x="248" y="271"/>
                </a:lnTo>
                <a:lnTo>
                  <a:pt x="226" y="260"/>
                </a:lnTo>
                <a:lnTo>
                  <a:pt x="203" y="249"/>
                </a:lnTo>
                <a:lnTo>
                  <a:pt x="169" y="226"/>
                </a:lnTo>
                <a:lnTo>
                  <a:pt x="146" y="204"/>
                </a:lnTo>
                <a:lnTo>
                  <a:pt x="113" y="170"/>
                </a:lnTo>
                <a:lnTo>
                  <a:pt x="79" y="147"/>
                </a:lnTo>
                <a:lnTo>
                  <a:pt x="56" y="124"/>
                </a:lnTo>
                <a:lnTo>
                  <a:pt x="45" y="113"/>
                </a:lnTo>
                <a:lnTo>
                  <a:pt x="22" y="91"/>
                </a:lnTo>
                <a:lnTo>
                  <a:pt x="11" y="79"/>
                </a:lnTo>
                <a:lnTo>
                  <a:pt x="11" y="57"/>
                </a:lnTo>
                <a:lnTo>
                  <a:pt x="0" y="45"/>
                </a:lnTo>
                <a:lnTo>
                  <a:pt x="0" y="34"/>
                </a:lnTo>
                <a:lnTo>
                  <a:pt x="11" y="23"/>
                </a:lnTo>
                <a:lnTo>
                  <a:pt x="11" y="11"/>
                </a:lnTo>
                <a:lnTo>
                  <a:pt x="22" y="11"/>
                </a:lnTo>
                <a:lnTo>
                  <a:pt x="33" y="0"/>
                </a:lnTo>
                <a:lnTo>
                  <a:pt x="45" y="0"/>
                </a:lnTo>
                <a:lnTo>
                  <a:pt x="56" y="0"/>
                </a:lnTo>
                <a:lnTo>
                  <a:pt x="67" y="0"/>
                </a:lnTo>
                <a:lnTo>
                  <a:pt x="90" y="0"/>
                </a:lnTo>
                <a:lnTo>
                  <a:pt x="113" y="11"/>
                </a:lnTo>
                <a:lnTo>
                  <a:pt x="146" y="11"/>
                </a:lnTo>
                <a:lnTo>
                  <a:pt x="180" y="23"/>
                </a:lnTo>
                <a:lnTo>
                  <a:pt x="226" y="34"/>
                </a:lnTo>
                <a:lnTo>
                  <a:pt x="260" y="57"/>
                </a:lnTo>
                <a:lnTo>
                  <a:pt x="282" y="68"/>
                </a:lnTo>
                <a:lnTo>
                  <a:pt x="293" y="79"/>
                </a:lnTo>
                <a:lnTo>
                  <a:pt x="316" y="113"/>
                </a:lnTo>
                <a:lnTo>
                  <a:pt x="327" y="136"/>
                </a:lnTo>
                <a:lnTo>
                  <a:pt x="339" y="170"/>
                </a:lnTo>
                <a:lnTo>
                  <a:pt x="339" y="204"/>
                </a:lnTo>
                <a:lnTo>
                  <a:pt x="339" y="215"/>
                </a:lnTo>
                <a:lnTo>
                  <a:pt x="327" y="238"/>
                </a:lnTo>
                <a:lnTo>
                  <a:pt x="327" y="260"/>
                </a:lnTo>
                <a:lnTo>
                  <a:pt x="305" y="283"/>
                </a:lnTo>
                <a:lnTo>
                  <a:pt x="293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44"/>
          <p:cNvSpPr/>
          <p:nvPr/>
        </p:nvSpPr>
        <p:spPr>
          <a:xfrm>
            <a:off x="6315120" y="2255760"/>
            <a:ext cx="415800" cy="544680"/>
          </a:xfrm>
          <a:custGeom>
            <a:avLst/>
            <a:gdLst>
              <a:gd name="textAreaLeft" fmla="*/ 0 w 415800"/>
              <a:gd name="textAreaRight" fmla="*/ 416160 w 41580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655" h="837">
                <a:moveTo>
                  <a:pt x="316" y="396"/>
                </a:moveTo>
                <a:lnTo>
                  <a:pt x="327" y="362"/>
                </a:lnTo>
                <a:lnTo>
                  <a:pt x="350" y="328"/>
                </a:lnTo>
                <a:lnTo>
                  <a:pt x="373" y="272"/>
                </a:lnTo>
                <a:lnTo>
                  <a:pt x="395" y="226"/>
                </a:lnTo>
                <a:lnTo>
                  <a:pt x="407" y="204"/>
                </a:lnTo>
                <a:lnTo>
                  <a:pt x="418" y="181"/>
                </a:lnTo>
                <a:lnTo>
                  <a:pt x="418" y="147"/>
                </a:lnTo>
                <a:lnTo>
                  <a:pt x="429" y="113"/>
                </a:lnTo>
                <a:lnTo>
                  <a:pt x="429" y="79"/>
                </a:lnTo>
                <a:lnTo>
                  <a:pt x="429" y="46"/>
                </a:lnTo>
                <a:lnTo>
                  <a:pt x="418" y="34"/>
                </a:lnTo>
                <a:lnTo>
                  <a:pt x="418" y="23"/>
                </a:lnTo>
                <a:lnTo>
                  <a:pt x="418" y="12"/>
                </a:lnTo>
                <a:lnTo>
                  <a:pt x="418" y="0"/>
                </a:lnTo>
                <a:lnTo>
                  <a:pt x="429" y="0"/>
                </a:lnTo>
                <a:lnTo>
                  <a:pt x="441" y="0"/>
                </a:lnTo>
                <a:lnTo>
                  <a:pt x="452" y="0"/>
                </a:lnTo>
                <a:lnTo>
                  <a:pt x="474" y="12"/>
                </a:lnTo>
                <a:lnTo>
                  <a:pt x="497" y="23"/>
                </a:lnTo>
                <a:lnTo>
                  <a:pt x="531" y="34"/>
                </a:lnTo>
                <a:lnTo>
                  <a:pt x="554" y="46"/>
                </a:lnTo>
                <a:lnTo>
                  <a:pt x="576" y="68"/>
                </a:lnTo>
                <a:lnTo>
                  <a:pt x="610" y="91"/>
                </a:lnTo>
                <a:lnTo>
                  <a:pt x="633" y="125"/>
                </a:lnTo>
                <a:lnTo>
                  <a:pt x="644" y="147"/>
                </a:lnTo>
                <a:lnTo>
                  <a:pt x="655" y="159"/>
                </a:lnTo>
                <a:lnTo>
                  <a:pt x="655" y="170"/>
                </a:lnTo>
                <a:lnTo>
                  <a:pt x="644" y="192"/>
                </a:lnTo>
                <a:lnTo>
                  <a:pt x="633" y="215"/>
                </a:lnTo>
                <a:lnTo>
                  <a:pt x="621" y="238"/>
                </a:lnTo>
                <a:lnTo>
                  <a:pt x="599" y="272"/>
                </a:lnTo>
                <a:lnTo>
                  <a:pt x="565" y="306"/>
                </a:lnTo>
                <a:lnTo>
                  <a:pt x="542" y="351"/>
                </a:lnTo>
                <a:lnTo>
                  <a:pt x="508" y="396"/>
                </a:lnTo>
                <a:lnTo>
                  <a:pt x="463" y="453"/>
                </a:lnTo>
                <a:lnTo>
                  <a:pt x="418" y="509"/>
                </a:lnTo>
                <a:lnTo>
                  <a:pt x="384" y="554"/>
                </a:lnTo>
                <a:lnTo>
                  <a:pt x="339" y="599"/>
                </a:lnTo>
                <a:lnTo>
                  <a:pt x="294" y="645"/>
                </a:lnTo>
                <a:lnTo>
                  <a:pt x="260" y="679"/>
                </a:lnTo>
                <a:lnTo>
                  <a:pt x="214" y="713"/>
                </a:lnTo>
                <a:lnTo>
                  <a:pt x="181" y="735"/>
                </a:lnTo>
                <a:lnTo>
                  <a:pt x="147" y="758"/>
                </a:lnTo>
                <a:lnTo>
                  <a:pt x="113" y="780"/>
                </a:lnTo>
                <a:lnTo>
                  <a:pt x="90" y="803"/>
                </a:lnTo>
                <a:lnTo>
                  <a:pt x="67" y="814"/>
                </a:lnTo>
                <a:lnTo>
                  <a:pt x="45" y="826"/>
                </a:lnTo>
                <a:lnTo>
                  <a:pt x="34" y="837"/>
                </a:lnTo>
                <a:lnTo>
                  <a:pt x="11" y="837"/>
                </a:lnTo>
                <a:lnTo>
                  <a:pt x="0" y="837"/>
                </a:lnTo>
                <a:lnTo>
                  <a:pt x="0" y="826"/>
                </a:lnTo>
                <a:lnTo>
                  <a:pt x="11" y="814"/>
                </a:lnTo>
                <a:lnTo>
                  <a:pt x="22" y="803"/>
                </a:lnTo>
                <a:lnTo>
                  <a:pt x="34" y="780"/>
                </a:lnTo>
                <a:lnTo>
                  <a:pt x="56" y="746"/>
                </a:lnTo>
                <a:lnTo>
                  <a:pt x="79" y="713"/>
                </a:lnTo>
                <a:lnTo>
                  <a:pt x="113" y="679"/>
                </a:lnTo>
                <a:lnTo>
                  <a:pt x="169" y="599"/>
                </a:lnTo>
                <a:lnTo>
                  <a:pt x="226" y="532"/>
                </a:lnTo>
                <a:lnTo>
                  <a:pt x="260" y="498"/>
                </a:lnTo>
                <a:lnTo>
                  <a:pt x="282" y="464"/>
                </a:lnTo>
                <a:lnTo>
                  <a:pt x="294" y="430"/>
                </a:lnTo>
                <a:lnTo>
                  <a:pt x="316" y="39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45"/>
          <p:cNvSpPr/>
          <p:nvPr/>
        </p:nvSpPr>
        <p:spPr>
          <a:xfrm>
            <a:off x="6580080" y="2425680"/>
            <a:ext cx="509760" cy="139680"/>
          </a:xfrm>
          <a:custGeom>
            <a:avLst/>
            <a:gdLst>
              <a:gd name="textAreaLeft" fmla="*/ 0 w 509760"/>
              <a:gd name="textAreaRight" fmla="*/ 510120 w 5097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803" h="215">
                <a:moveTo>
                  <a:pt x="0" y="113"/>
                </a:moveTo>
                <a:lnTo>
                  <a:pt x="102" y="102"/>
                </a:lnTo>
                <a:lnTo>
                  <a:pt x="192" y="91"/>
                </a:lnTo>
                <a:lnTo>
                  <a:pt x="294" y="68"/>
                </a:lnTo>
                <a:lnTo>
                  <a:pt x="350" y="57"/>
                </a:lnTo>
                <a:lnTo>
                  <a:pt x="396" y="46"/>
                </a:lnTo>
                <a:lnTo>
                  <a:pt x="441" y="34"/>
                </a:lnTo>
                <a:lnTo>
                  <a:pt x="486" y="23"/>
                </a:lnTo>
                <a:lnTo>
                  <a:pt x="531" y="23"/>
                </a:lnTo>
                <a:lnTo>
                  <a:pt x="554" y="12"/>
                </a:lnTo>
                <a:lnTo>
                  <a:pt x="588" y="12"/>
                </a:lnTo>
                <a:lnTo>
                  <a:pt x="610" y="12"/>
                </a:lnTo>
                <a:lnTo>
                  <a:pt x="622" y="0"/>
                </a:lnTo>
                <a:lnTo>
                  <a:pt x="633" y="0"/>
                </a:lnTo>
                <a:lnTo>
                  <a:pt x="644" y="0"/>
                </a:lnTo>
                <a:lnTo>
                  <a:pt x="667" y="12"/>
                </a:lnTo>
                <a:lnTo>
                  <a:pt x="701" y="23"/>
                </a:lnTo>
                <a:lnTo>
                  <a:pt x="735" y="34"/>
                </a:lnTo>
                <a:lnTo>
                  <a:pt x="757" y="46"/>
                </a:lnTo>
                <a:lnTo>
                  <a:pt x="780" y="68"/>
                </a:lnTo>
                <a:lnTo>
                  <a:pt x="791" y="79"/>
                </a:lnTo>
                <a:lnTo>
                  <a:pt x="803" y="102"/>
                </a:lnTo>
                <a:lnTo>
                  <a:pt x="791" y="102"/>
                </a:lnTo>
                <a:lnTo>
                  <a:pt x="791" y="113"/>
                </a:lnTo>
                <a:lnTo>
                  <a:pt x="769" y="113"/>
                </a:lnTo>
                <a:lnTo>
                  <a:pt x="757" y="125"/>
                </a:lnTo>
                <a:lnTo>
                  <a:pt x="723" y="136"/>
                </a:lnTo>
                <a:lnTo>
                  <a:pt x="701" y="147"/>
                </a:lnTo>
                <a:lnTo>
                  <a:pt x="667" y="159"/>
                </a:lnTo>
                <a:lnTo>
                  <a:pt x="622" y="159"/>
                </a:lnTo>
                <a:lnTo>
                  <a:pt x="576" y="181"/>
                </a:lnTo>
                <a:lnTo>
                  <a:pt x="543" y="193"/>
                </a:lnTo>
                <a:lnTo>
                  <a:pt x="509" y="204"/>
                </a:lnTo>
                <a:lnTo>
                  <a:pt x="475" y="204"/>
                </a:lnTo>
                <a:lnTo>
                  <a:pt x="452" y="215"/>
                </a:lnTo>
                <a:lnTo>
                  <a:pt x="430" y="215"/>
                </a:lnTo>
                <a:lnTo>
                  <a:pt x="407" y="215"/>
                </a:lnTo>
                <a:lnTo>
                  <a:pt x="396" y="215"/>
                </a:lnTo>
                <a:lnTo>
                  <a:pt x="384" y="215"/>
                </a:lnTo>
                <a:lnTo>
                  <a:pt x="373" y="215"/>
                </a:lnTo>
                <a:lnTo>
                  <a:pt x="362" y="215"/>
                </a:lnTo>
                <a:lnTo>
                  <a:pt x="339" y="215"/>
                </a:lnTo>
                <a:lnTo>
                  <a:pt x="316" y="215"/>
                </a:lnTo>
                <a:lnTo>
                  <a:pt x="305" y="215"/>
                </a:lnTo>
                <a:lnTo>
                  <a:pt x="271" y="215"/>
                </a:lnTo>
                <a:lnTo>
                  <a:pt x="249" y="215"/>
                </a:lnTo>
                <a:lnTo>
                  <a:pt x="226" y="215"/>
                </a:lnTo>
                <a:lnTo>
                  <a:pt x="192" y="215"/>
                </a:lnTo>
                <a:lnTo>
                  <a:pt x="158" y="215"/>
                </a:lnTo>
                <a:lnTo>
                  <a:pt x="124" y="215"/>
                </a:lnTo>
                <a:lnTo>
                  <a:pt x="79" y="215"/>
                </a:lnTo>
                <a:lnTo>
                  <a:pt x="34" y="215"/>
                </a:lnTo>
                <a:lnTo>
                  <a:pt x="0" y="215"/>
                </a:lnTo>
                <a:lnTo>
                  <a:pt x="0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46"/>
          <p:cNvSpPr/>
          <p:nvPr/>
        </p:nvSpPr>
        <p:spPr>
          <a:xfrm>
            <a:off x="5905440" y="2521080"/>
            <a:ext cx="432000" cy="125280"/>
          </a:xfrm>
          <a:custGeom>
            <a:avLst/>
            <a:gdLst>
              <a:gd name="textAreaLeft" fmla="*/ 0 w 432000"/>
              <a:gd name="textAreaRight" fmla="*/ 432360 w 43200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679" h="192">
                <a:moveTo>
                  <a:pt x="520" y="136"/>
                </a:moveTo>
                <a:lnTo>
                  <a:pt x="475" y="147"/>
                </a:lnTo>
                <a:lnTo>
                  <a:pt x="419" y="159"/>
                </a:lnTo>
                <a:lnTo>
                  <a:pt x="373" y="159"/>
                </a:lnTo>
                <a:lnTo>
                  <a:pt x="305" y="170"/>
                </a:lnTo>
                <a:lnTo>
                  <a:pt x="238" y="170"/>
                </a:lnTo>
                <a:lnTo>
                  <a:pt x="170" y="181"/>
                </a:lnTo>
                <a:lnTo>
                  <a:pt x="91" y="181"/>
                </a:lnTo>
                <a:lnTo>
                  <a:pt x="0" y="192"/>
                </a:lnTo>
                <a:lnTo>
                  <a:pt x="12" y="57"/>
                </a:lnTo>
                <a:lnTo>
                  <a:pt x="68" y="57"/>
                </a:lnTo>
                <a:lnTo>
                  <a:pt x="113" y="57"/>
                </a:lnTo>
                <a:lnTo>
                  <a:pt x="158" y="57"/>
                </a:lnTo>
                <a:lnTo>
                  <a:pt x="192" y="46"/>
                </a:lnTo>
                <a:lnTo>
                  <a:pt x="226" y="46"/>
                </a:lnTo>
                <a:lnTo>
                  <a:pt x="260" y="46"/>
                </a:lnTo>
                <a:lnTo>
                  <a:pt x="294" y="34"/>
                </a:lnTo>
                <a:lnTo>
                  <a:pt x="317" y="34"/>
                </a:lnTo>
                <a:lnTo>
                  <a:pt x="373" y="23"/>
                </a:lnTo>
                <a:lnTo>
                  <a:pt x="430" y="12"/>
                </a:lnTo>
                <a:lnTo>
                  <a:pt x="486" y="12"/>
                </a:lnTo>
                <a:lnTo>
                  <a:pt x="554" y="0"/>
                </a:lnTo>
                <a:lnTo>
                  <a:pt x="588" y="0"/>
                </a:lnTo>
                <a:lnTo>
                  <a:pt x="611" y="12"/>
                </a:lnTo>
                <a:lnTo>
                  <a:pt x="633" y="12"/>
                </a:lnTo>
                <a:lnTo>
                  <a:pt x="656" y="12"/>
                </a:lnTo>
                <a:lnTo>
                  <a:pt x="667" y="23"/>
                </a:lnTo>
                <a:lnTo>
                  <a:pt x="679" y="23"/>
                </a:lnTo>
                <a:lnTo>
                  <a:pt x="679" y="34"/>
                </a:lnTo>
                <a:lnTo>
                  <a:pt x="679" y="46"/>
                </a:lnTo>
                <a:lnTo>
                  <a:pt x="679" y="57"/>
                </a:lnTo>
                <a:lnTo>
                  <a:pt x="667" y="68"/>
                </a:lnTo>
                <a:lnTo>
                  <a:pt x="656" y="79"/>
                </a:lnTo>
                <a:lnTo>
                  <a:pt x="645" y="91"/>
                </a:lnTo>
                <a:lnTo>
                  <a:pt x="622" y="102"/>
                </a:lnTo>
                <a:lnTo>
                  <a:pt x="588" y="113"/>
                </a:lnTo>
                <a:lnTo>
                  <a:pt x="554" y="125"/>
                </a:lnTo>
                <a:lnTo>
                  <a:pt x="520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47"/>
          <p:cNvSpPr/>
          <p:nvPr/>
        </p:nvSpPr>
        <p:spPr>
          <a:xfrm>
            <a:off x="5877000" y="3776760"/>
            <a:ext cx="158760" cy="465120"/>
          </a:xfrm>
          <a:custGeom>
            <a:avLst/>
            <a:gdLst>
              <a:gd name="textAreaLeft" fmla="*/ 0 w 158760"/>
              <a:gd name="textAreaRight" fmla="*/ 159120 w 15876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49" h="713">
                <a:moveTo>
                  <a:pt x="136" y="23"/>
                </a:moveTo>
                <a:lnTo>
                  <a:pt x="158" y="34"/>
                </a:lnTo>
                <a:lnTo>
                  <a:pt x="192" y="34"/>
                </a:lnTo>
                <a:lnTo>
                  <a:pt x="215" y="34"/>
                </a:lnTo>
                <a:lnTo>
                  <a:pt x="237" y="34"/>
                </a:lnTo>
                <a:lnTo>
                  <a:pt x="237" y="125"/>
                </a:lnTo>
                <a:lnTo>
                  <a:pt x="237" y="193"/>
                </a:lnTo>
                <a:lnTo>
                  <a:pt x="237" y="260"/>
                </a:lnTo>
                <a:lnTo>
                  <a:pt x="237" y="328"/>
                </a:lnTo>
                <a:lnTo>
                  <a:pt x="249" y="385"/>
                </a:lnTo>
                <a:lnTo>
                  <a:pt x="249" y="441"/>
                </a:lnTo>
                <a:lnTo>
                  <a:pt x="249" y="498"/>
                </a:lnTo>
                <a:lnTo>
                  <a:pt x="249" y="543"/>
                </a:lnTo>
                <a:lnTo>
                  <a:pt x="249" y="577"/>
                </a:lnTo>
                <a:lnTo>
                  <a:pt x="249" y="611"/>
                </a:lnTo>
                <a:lnTo>
                  <a:pt x="249" y="645"/>
                </a:lnTo>
                <a:lnTo>
                  <a:pt x="237" y="667"/>
                </a:lnTo>
                <a:lnTo>
                  <a:pt x="237" y="690"/>
                </a:lnTo>
                <a:lnTo>
                  <a:pt x="237" y="701"/>
                </a:lnTo>
                <a:lnTo>
                  <a:pt x="237" y="713"/>
                </a:lnTo>
                <a:lnTo>
                  <a:pt x="215" y="701"/>
                </a:lnTo>
                <a:lnTo>
                  <a:pt x="203" y="701"/>
                </a:lnTo>
                <a:lnTo>
                  <a:pt x="181" y="690"/>
                </a:lnTo>
                <a:lnTo>
                  <a:pt x="158" y="667"/>
                </a:lnTo>
                <a:lnTo>
                  <a:pt x="147" y="656"/>
                </a:lnTo>
                <a:lnTo>
                  <a:pt x="147" y="634"/>
                </a:lnTo>
                <a:lnTo>
                  <a:pt x="136" y="611"/>
                </a:lnTo>
                <a:lnTo>
                  <a:pt x="124" y="577"/>
                </a:lnTo>
                <a:lnTo>
                  <a:pt x="113" y="543"/>
                </a:lnTo>
                <a:lnTo>
                  <a:pt x="113" y="498"/>
                </a:lnTo>
                <a:lnTo>
                  <a:pt x="102" y="453"/>
                </a:lnTo>
                <a:lnTo>
                  <a:pt x="102" y="396"/>
                </a:lnTo>
                <a:lnTo>
                  <a:pt x="90" y="351"/>
                </a:lnTo>
                <a:lnTo>
                  <a:pt x="90" y="306"/>
                </a:lnTo>
                <a:lnTo>
                  <a:pt x="79" y="260"/>
                </a:lnTo>
                <a:lnTo>
                  <a:pt x="68" y="227"/>
                </a:lnTo>
                <a:lnTo>
                  <a:pt x="68" y="193"/>
                </a:lnTo>
                <a:lnTo>
                  <a:pt x="57" y="170"/>
                </a:lnTo>
                <a:lnTo>
                  <a:pt x="45" y="147"/>
                </a:lnTo>
                <a:lnTo>
                  <a:pt x="34" y="136"/>
                </a:lnTo>
                <a:lnTo>
                  <a:pt x="23" y="114"/>
                </a:lnTo>
                <a:lnTo>
                  <a:pt x="11" y="91"/>
                </a:lnTo>
                <a:lnTo>
                  <a:pt x="0" y="68"/>
                </a:lnTo>
                <a:lnTo>
                  <a:pt x="0" y="34"/>
                </a:lnTo>
                <a:lnTo>
                  <a:pt x="0" y="23"/>
                </a:lnTo>
                <a:lnTo>
                  <a:pt x="11" y="12"/>
                </a:lnTo>
                <a:lnTo>
                  <a:pt x="23" y="0"/>
                </a:lnTo>
                <a:lnTo>
                  <a:pt x="45" y="0"/>
                </a:lnTo>
                <a:lnTo>
                  <a:pt x="68" y="0"/>
                </a:lnTo>
                <a:lnTo>
                  <a:pt x="90" y="12"/>
                </a:lnTo>
                <a:lnTo>
                  <a:pt x="113" y="12"/>
                </a:lnTo>
                <a:lnTo>
                  <a:pt x="136" y="2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49"/>
          <p:cNvSpPr/>
          <p:nvPr/>
        </p:nvSpPr>
        <p:spPr>
          <a:xfrm>
            <a:off x="5962680" y="3697200"/>
            <a:ext cx="789120" cy="405000"/>
          </a:xfrm>
          <a:custGeom>
            <a:avLst/>
            <a:gdLst>
              <a:gd name="textAreaLeft" fmla="*/ 0 w 789120"/>
              <a:gd name="textAreaRight" fmla="*/ 789480 w 78912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1243" h="622">
                <a:moveTo>
                  <a:pt x="1164" y="283"/>
                </a:moveTo>
                <a:lnTo>
                  <a:pt x="1153" y="294"/>
                </a:lnTo>
                <a:lnTo>
                  <a:pt x="1130" y="317"/>
                </a:lnTo>
                <a:lnTo>
                  <a:pt x="1108" y="339"/>
                </a:lnTo>
                <a:lnTo>
                  <a:pt x="1085" y="373"/>
                </a:lnTo>
                <a:lnTo>
                  <a:pt x="1074" y="396"/>
                </a:lnTo>
                <a:lnTo>
                  <a:pt x="1062" y="418"/>
                </a:lnTo>
                <a:lnTo>
                  <a:pt x="1040" y="452"/>
                </a:lnTo>
                <a:lnTo>
                  <a:pt x="1028" y="475"/>
                </a:lnTo>
                <a:lnTo>
                  <a:pt x="1017" y="509"/>
                </a:lnTo>
                <a:lnTo>
                  <a:pt x="995" y="543"/>
                </a:lnTo>
                <a:lnTo>
                  <a:pt x="983" y="577"/>
                </a:lnTo>
                <a:lnTo>
                  <a:pt x="972" y="622"/>
                </a:lnTo>
                <a:lnTo>
                  <a:pt x="836" y="622"/>
                </a:lnTo>
                <a:lnTo>
                  <a:pt x="848" y="577"/>
                </a:lnTo>
                <a:lnTo>
                  <a:pt x="859" y="531"/>
                </a:lnTo>
                <a:lnTo>
                  <a:pt x="870" y="486"/>
                </a:lnTo>
                <a:lnTo>
                  <a:pt x="881" y="452"/>
                </a:lnTo>
                <a:lnTo>
                  <a:pt x="893" y="407"/>
                </a:lnTo>
                <a:lnTo>
                  <a:pt x="904" y="373"/>
                </a:lnTo>
                <a:lnTo>
                  <a:pt x="904" y="351"/>
                </a:lnTo>
                <a:lnTo>
                  <a:pt x="915" y="317"/>
                </a:lnTo>
                <a:lnTo>
                  <a:pt x="915" y="294"/>
                </a:lnTo>
                <a:lnTo>
                  <a:pt x="927" y="271"/>
                </a:lnTo>
                <a:lnTo>
                  <a:pt x="927" y="249"/>
                </a:lnTo>
                <a:lnTo>
                  <a:pt x="927" y="238"/>
                </a:lnTo>
                <a:lnTo>
                  <a:pt x="927" y="226"/>
                </a:lnTo>
                <a:lnTo>
                  <a:pt x="927" y="215"/>
                </a:lnTo>
                <a:lnTo>
                  <a:pt x="927" y="204"/>
                </a:lnTo>
                <a:lnTo>
                  <a:pt x="915" y="192"/>
                </a:lnTo>
                <a:lnTo>
                  <a:pt x="904" y="192"/>
                </a:lnTo>
                <a:lnTo>
                  <a:pt x="881" y="192"/>
                </a:lnTo>
                <a:lnTo>
                  <a:pt x="859" y="192"/>
                </a:lnTo>
                <a:lnTo>
                  <a:pt x="848" y="192"/>
                </a:lnTo>
                <a:lnTo>
                  <a:pt x="825" y="192"/>
                </a:lnTo>
                <a:lnTo>
                  <a:pt x="802" y="192"/>
                </a:lnTo>
                <a:lnTo>
                  <a:pt x="780" y="192"/>
                </a:lnTo>
                <a:lnTo>
                  <a:pt x="746" y="192"/>
                </a:lnTo>
                <a:lnTo>
                  <a:pt x="712" y="204"/>
                </a:lnTo>
                <a:lnTo>
                  <a:pt x="667" y="204"/>
                </a:lnTo>
                <a:lnTo>
                  <a:pt x="610" y="215"/>
                </a:lnTo>
                <a:lnTo>
                  <a:pt x="565" y="215"/>
                </a:lnTo>
                <a:lnTo>
                  <a:pt x="497" y="226"/>
                </a:lnTo>
                <a:lnTo>
                  <a:pt x="429" y="226"/>
                </a:lnTo>
                <a:lnTo>
                  <a:pt x="350" y="238"/>
                </a:lnTo>
                <a:lnTo>
                  <a:pt x="271" y="249"/>
                </a:lnTo>
                <a:lnTo>
                  <a:pt x="192" y="260"/>
                </a:lnTo>
                <a:lnTo>
                  <a:pt x="101" y="271"/>
                </a:lnTo>
                <a:lnTo>
                  <a:pt x="0" y="283"/>
                </a:lnTo>
                <a:lnTo>
                  <a:pt x="0" y="158"/>
                </a:lnTo>
                <a:lnTo>
                  <a:pt x="67" y="158"/>
                </a:lnTo>
                <a:lnTo>
                  <a:pt x="124" y="147"/>
                </a:lnTo>
                <a:lnTo>
                  <a:pt x="181" y="147"/>
                </a:lnTo>
                <a:lnTo>
                  <a:pt x="237" y="136"/>
                </a:lnTo>
                <a:lnTo>
                  <a:pt x="294" y="124"/>
                </a:lnTo>
                <a:lnTo>
                  <a:pt x="339" y="124"/>
                </a:lnTo>
                <a:lnTo>
                  <a:pt x="384" y="113"/>
                </a:lnTo>
                <a:lnTo>
                  <a:pt x="429" y="113"/>
                </a:lnTo>
                <a:lnTo>
                  <a:pt x="474" y="113"/>
                </a:lnTo>
                <a:lnTo>
                  <a:pt x="508" y="102"/>
                </a:lnTo>
                <a:lnTo>
                  <a:pt x="542" y="102"/>
                </a:lnTo>
                <a:lnTo>
                  <a:pt x="576" y="91"/>
                </a:lnTo>
                <a:lnTo>
                  <a:pt x="610" y="91"/>
                </a:lnTo>
                <a:lnTo>
                  <a:pt x="633" y="91"/>
                </a:lnTo>
                <a:lnTo>
                  <a:pt x="655" y="91"/>
                </a:lnTo>
                <a:lnTo>
                  <a:pt x="678" y="79"/>
                </a:lnTo>
                <a:lnTo>
                  <a:pt x="746" y="68"/>
                </a:lnTo>
                <a:lnTo>
                  <a:pt x="802" y="57"/>
                </a:lnTo>
                <a:lnTo>
                  <a:pt x="825" y="57"/>
                </a:lnTo>
                <a:lnTo>
                  <a:pt x="848" y="45"/>
                </a:lnTo>
                <a:lnTo>
                  <a:pt x="859" y="34"/>
                </a:lnTo>
                <a:lnTo>
                  <a:pt x="881" y="34"/>
                </a:lnTo>
                <a:lnTo>
                  <a:pt x="904" y="23"/>
                </a:lnTo>
                <a:lnTo>
                  <a:pt x="927" y="11"/>
                </a:lnTo>
                <a:lnTo>
                  <a:pt x="949" y="0"/>
                </a:lnTo>
                <a:lnTo>
                  <a:pt x="972" y="0"/>
                </a:lnTo>
                <a:lnTo>
                  <a:pt x="972" y="11"/>
                </a:lnTo>
                <a:lnTo>
                  <a:pt x="995" y="11"/>
                </a:lnTo>
                <a:lnTo>
                  <a:pt x="1006" y="23"/>
                </a:lnTo>
                <a:lnTo>
                  <a:pt x="1028" y="34"/>
                </a:lnTo>
                <a:lnTo>
                  <a:pt x="1051" y="45"/>
                </a:lnTo>
                <a:lnTo>
                  <a:pt x="1074" y="57"/>
                </a:lnTo>
                <a:lnTo>
                  <a:pt x="1096" y="79"/>
                </a:lnTo>
                <a:lnTo>
                  <a:pt x="1130" y="91"/>
                </a:lnTo>
                <a:lnTo>
                  <a:pt x="1153" y="113"/>
                </a:lnTo>
                <a:lnTo>
                  <a:pt x="1175" y="136"/>
                </a:lnTo>
                <a:lnTo>
                  <a:pt x="1198" y="147"/>
                </a:lnTo>
                <a:lnTo>
                  <a:pt x="1221" y="170"/>
                </a:lnTo>
                <a:lnTo>
                  <a:pt x="1232" y="181"/>
                </a:lnTo>
                <a:lnTo>
                  <a:pt x="1232" y="192"/>
                </a:lnTo>
                <a:lnTo>
                  <a:pt x="1243" y="204"/>
                </a:lnTo>
                <a:lnTo>
                  <a:pt x="1243" y="215"/>
                </a:lnTo>
                <a:lnTo>
                  <a:pt x="1243" y="238"/>
                </a:lnTo>
                <a:lnTo>
                  <a:pt x="1221" y="260"/>
                </a:lnTo>
                <a:lnTo>
                  <a:pt x="1198" y="271"/>
                </a:lnTo>
                <a:lnTo>
                  <a:pt x="1164" y="28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48"/>
          <p:cNvSpPr/>
          <p:nvPr/>
        </p:nvSpPr>
        <p:spPr>
          <a:xfrm>
            <a:off x="6005520" y="4049640"/>
            <a:ext cx="674640" cy="147600"/>
          </a:xfrm>
          <a:custGeom>
            <a:avLst/>
            <a:gdLst>
              <a:gd name="textAreaLeft" fmla="*/ 0 w 674640"/>
              <a:gd name="textAreaRight" fmla="*/ 675000 w 6746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1063" h="226">
                <a:moveTo>
                  <a:pt x="1052" y="147"/>
                </a:moveTo>
                <a:lnTo>
                  <a:pt x="1041" y="147"/>
                </a:lnTo>
                <a:lnTo>
                  <a:pt x="1029" y="147"/>
                </a:lnTo>
                <a:lnTo>
                  <a:pt x="1018" y="147"/>
                </a:lnTo>
                <a:lnTo>
                  <a:pt x="995" y="158"/>
                </a:lnTo>
                <a:lnTo>
                  <a:pt x="961" y="158"/>
                </a:lnTo>
                <a:lnTo>
                  <a:pt x="928" y="158"/>
                </a:lnTo>
                <a:lnTo>
                  <a:pt x="894" y="158"/>
                </a:lnTo>
                <a:lnTo>
                  <a:pt x="848" y="158"/>
                </a:lnTo>
                <a:lnTo>
                  <a:pt x="826" y="158"/>
                </a:lnTo>
                <a:lnTo>
                  <a:pt x="792" y="158"/>
                </a:lnTo>
                <a:lnTo>
                  <a:pt x="758" y="158"/>
                </a:lnTo>
                <a:lnTo>
                  <a:pt x="724" y="158"/>
                </a:lnTo>
                <a:lnTo>
                  <a:pt x="679" y="158"/>
                </a:lnTo>
                <a:lnTo>
                  <a:pt x="645" y="169"/>
                </a:lnTo>
                <a:lnTo>
                  <a:pt x="588" y="169"/>
                </a:lnTo>
                <a:lnTo>
                  <a:pt x="543" y="169"/>
                </a:lnTo>
                <a:lnTo>
                  <a:pt x="487" y="181"/>
                </a:lnTo>
                <a:lnTo>
                  <a:pt x="430" y="181"/>
                </a:lnTo>
                <a:lnTo>
                  <a:pt x="362" y="192"/>
                </a:lnTo>
                <a:lnTo>
                  <a:pt x="294" y="192"/>
                </a:lnTo>
                <a:lnTo>
                  <a:pt x="227" y="203"/>
                </a:lnTo>
                <a:lnTo>
                  <a:pt x="147" y="203"/>
                </a:lnTo>
                <a:lnTo>
                  <a:pt x="80" y="215"/>
                </a:lnTo>
                <a:lnTo>
                  <a:pt x="0" y="226"/>
                </a:lnTo>
                <a:lnTo>
                  <a:pt x="0" y="102"/>
                </a:lnTo>
                <a:lnTo>
                  <a:pt x="114" y="90"/>
                </a:lnTo>
                <a:lnTo>
                  <a:pt x="215" y="79"/>
                </a:lnTo>
                <a:lnTo>
                  <a:pt x="317" y="68"/>
                </a:lnTo>
                <a:lnTo>
                  <a:pt x="407" y="56"/>
                </a:lnTo>
                <a:lnTo>
                  <a:pt x="498" y="45"/>
                </a:lnTo>
                <a:lnTo>
                  <a:pt x="566" y="34"/>
                </a:lnTo>
                <a:lnTo>
                  <a:pt x="645" y="34"/>
                </a:lnTo>
                <a:lnTo>
                  <a:pt x="701" y="22"/>
                </a:lnTo>
                <a:lnTo>
                  <a:pt x="758" y="11"/>
                </a:lnTo>
                <a:lnTo>
                  <a:pt x="803" y="11"/>
                </a:lnTo>
                <a:lnTo>
                  <a:pt x="848" y="11"/>
                </a:lnTo>
                <a:lnTo>
                  <a:pt x="882" y="0"/>
                </a:lnTo>
                <a:lnTo>
                  <a:pt x="916" y="0"/>
                </a:lnTo>
                <a:lnTo>
                  <a:pt x="928" y="0"/>
                </a:lnTo>
                <a:lnTo>
                  <a:pt x="939" y="0"/>
                </a:lnTo>
                <a:lnTo>
                  <a:pt x="950" y="0"/>
                </a:lnTo>
                <a:lnTo>
                  <a:pt x="961" y="0"/>
                </a:lnTo>
                <a:lnTo>
                  <a:pt x="973" y="0"/>
                </a:lnTo>
                <a:lnTo>
                  <a:pt x="984" y="0"/>
                </a:lnTo>
                <a:lnTo>
                  <a:pt x="995" y="11"/>
                </a:lnTo>
                <a:lnTo>
                  <a:pt x="1018" y="22"/>
                </a:lnTo>
                <a:lnTo>
                  <a:pt x="1041" y="45"/>
                </a:lnTo>
                <a:lnTo>
                  <a:pt x="1052" y="68"/>
                </a:lnTo>
                <a:lnTo>
                  <a:pt x="1063" y="79"/>
                </a:lnTo>
                <a:lnTo>
                  <a:pt x="1063" y="90"/>
                </a:lnTo>
                <a:lnTo>
                  <a:pt x="1063" y="102"/>
                </a:lnTo>
                <a:lnTo>
                  <a:pt x="1063" y="124"/>
                </a:lnTo>
                <a:lnTo>
                  <a:pt x="1063" y="135"/>
                </a:lnTo>
                <a:lnTo>
                  <a:pt x="1052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30"/>
          <p:cNvSpPr/>
          <p:nvPr/>
        </p:nvSpPr>
        <p:spPr>
          <a:xfrm>
            <a:off x="5810400" y="2478240"/>
            <a:ext cx="280800" cy="234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441" h="362">
                <a:moveTo>
                  <a:pt x="294" y="79"/>
                </a:moveTo>
                <a:lnTo>
                  <a:pt x="328" y="102"/>
                </a:lnTo>
                <a:lnTo>
                  <a:pt x="351" y="113"/>
                </a:lnTo>
                <a:lnTo>
                  <a:pt x="385" y="136"/>
                </a:lnTo>
                <a:lnTo>
                  <a:pt x="396" y="147"/>
                </a:lnTo>
                <a:lnTo>
                  <a:pt x="419" y="170"/>
                </a:lnTo>
                <a:lnTo>
                  <a:pt x="430" y="192"/>
                </a:lnTo>
                <a:lnTo>
                  <a:pt x="430" y="215"/>
                </a:lnTo>
                <a:lnTo>
                  <a:pt x="441" y="226"/>
                </a:lnTo>
                <a:lnTo>
                  <a:pt x="441" y="249"/>
                </a:lnTo>
                <a:lnTo>
                  <a:pt x="430" y="271"/>
                </a:lnTo>
                <a:lnTo>
                  <a:pt x="430" y="294"/>
                </a:lnTo>
                <a:lnTo>
                  <a:pt x="430" y="305"/>
                </a:lnTo>
                <a:lnTo>
                  <a:pt x="430" y="317"/>
                </a:lnTo>
                <a:lnTo>
                  <a:pt x="430" y="328"/>
                </a:lnTo>
                <a:lnTo>
                  <a:pt x="419" y="339"/>
                </a:lnTo>
                <a:lnTo>
                  <a:pt x="419" y="351"/>
                </a:lnTo>
                <a:lnTo>
                  <a:pt x="396" y="351"/>
                </a:lnTo>
                <a:lnTo>
                  <a:pt x="385" y="362"/>
                </a:lnTo>
                <a:lnTo>
                  <a:pt x="362" y="362"/>
                </a:lnTo>
                <a:lnTo>
                  <a:pt x="340" y="362"/>
                </a:lnTo>
                <a:lnTo>
                  <a:pt x="328" y="351"/>
                </a:lnTo>
                <a:lnTo>
                  <a:pt x="306" y="339"/>
                </a:lnTo>
                <a:lnTo>
                  <a:pt x="283" y="328"/>
                </a:lnTo>
                <a:lnTo>
                  <a:pt x="249" y="305"/>
                </a:lnTo>
                <a:lnTo>
                  <a:pt x="227" y="271"/>
                </a:lnTo>
                <a:lnTo>
                  <a:pt x="181" y="238"/>
                </a:lnTo>
                <a:lnTo>
                  <a:pt x="147" y="204"/>
                </a:lnTo>
                <a:lnTo>
                  <a:pt x="102" y="170"/>
                </a:lnTo>
                <a:lnTo>
                  <a:pt x="80" y="125"/>
                </a:lnTo>
                <a:lnTo>
                  <a:pt x="46" y="102"/>
                </a:lnTo>
                <a:lnTo>
                  <a:pt x="23" y="79"/>
                </a:lnTo>
                <a:lnTo>
                  <a:pt x="12" y="57"/>
                </a:lnTo>
                <a:lnTo>
                  <a:pt x="0" y="34"/>
                </a:lnTo>
                <a:lnTo>
                  <a:pt x="0" y="23"/>
                </a:lnTo>
                <a:lnTo>
                  <a:pt x="12" y="11"/>
                </a:lnTo>
                <a:lnTo>
                  <a:pt x="23" y="11"/>
                </a:lnTo>
                <a:lnTo>
                  <a:pt x="46" y="0"/>
                </a:lnTo>
                <a:lnTo>
                  <a:pt x="68" y="0"/>
                </a:lnTo>
                <a:lnTo>
                  <a:pt x="114" y="0"/>
                </a:lnTo>
                <a:lnTo>
                  <a:pt x="125" y="0"/>
                </a:lnTo>
                <a:lnTo>
                  <a:pt x="147" y="11"/>
                </a:lnTo>
                <a:lnTo>
                  <a:pt x="159" y="11"/>
                </a:lnTo>
                <a:lnTo>
                  <a:pt x="181" y="23"/>
                </a:lnTo>
                <a:lnTo>
                  <a:pt x="204" y="34"/>
                </a:lnTo>
                <a:lnTo>
                  <a:pt x="238" y="45"/>
                </a:lnTo>
                <a:lnTo>
                  <a:pt x="260" y="68"/>
                </a:lnTo>
                <a:lnTo>
                  <a:pt x="294" y="7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沿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á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15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4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右上部第二笔为横折弯，下部略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河沿  沿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岸都是发达城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55814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1"/>
          <p:cNvSpPr/>
          <p:nvPr/>
        </p:nvSpPr>
        <p:spPr>
          <a:xfrm>
            <a:off x="5595840" y="2971800"/>
            <a:ext cx="265320" cy="271440"/>
          </a:xfrm>
          <a:custGeom>
            <a:avLst/>
            <a:gdLst>
              <a:gd name="textAreaLeft" fmla="*/ 0 w 265320"/>
              <a:gd name="textAreaRight" fmla="*/ 265680 w 2653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419" h="418">
                <a:moveTo>
                  <a:pt x="407" y="203"/>
                </a:moveTo>
                <a:lnTo>
                  <a:pt x="419" y="260"/>
                </a:lnTo>
                <a:lnTo>
                  <a:pt x="419" y="294"/>
                </a:lnTo>
                <a:lnTo>
                  <a:pt x="407" y="339"/>
                </a:lnTo>
                <a:lnTo>
                  <a:pt x="396" y="373"/>
                </a:lnTo>
                <a:lnTo>
                  <a:pt x="385" y="384"/>
                </a:lnTo>
                <a:lnTo>
                  <a:pt x="373" y="395"/>
                </a:lnTo>
                <a:lnTo>
                  <a:pt x="362" y="407"/>
                </a:lnTo>
                <a:lnTo>
                  <a:pt x="339" y="418"/>
                </a:lnTo>
                <a:lnTo>
                  <a:pt x="328" y="418"/>
                </a:lnTo>
                <a:lnTo>
                  <a:pt x="317" y="418"/>
                </a:lnTo>
                <a:lnTo>
                  <a:pt x="306" y="407"/>
                </a:lnTo>
                <a:lnTo>
                  <a:pt x="294" y="395"/>
                </a:lnTo>
                <a:lnTo>
                  <a:pt x="272" y="373"/>
                </a:lnTo>
                <a:lnTo>
                  <a:pt x="249" y="350"/>
                </a:lnTo>
                <a:lnTo>
                  <a:pt x="238" y="327"/>
                </a:lnTo>
                <a:lnTo>
                  <a:pt x="204" y="305"/>
                </a:lnTo>
                <a:lnTo>
                  <a:pt x="170" y="248"/>
                </a:lnTo>
                <a:lnTo>
                  <a:pt x="125" y="192"/>
                </a:lnTo>
                <a:lnTo>
                  <a:pt x="91" y="147"/>
                </a:lnTo>
                <a:lnTo>
                  <a:pt x="57" y="113"/>
                </a:lnTo>
                <a:lnTo>
                  <a:pt x="34" y="90"/>
                </a:lnTo>
                <a:lnTo>
                  <a:pt x="12" y="56"/>
                </a:lnTo>
                <a:lnTo>
                  <a:pt x="12" y="45"/>
                </a:lnTo>
                <a:lnTo>
                  <a:pt x="0" y="34"/>
                </a:lnTo>
                <a:lnTo>
                  <a:pt x="0" y="22"/>
                </a:lnTo>
                <a:lnTo>
                  <a:pt x="12" y="22"/>
                </a:lnTo>
                <a:lnTo>
                  <a:pt x="12" y="11"/>
                </a:lnTo>
                <a:lnTo>
                  <a:pt x="23" y="11"/>
                </a:lnTo>
                <a:lnTo>
                  <a:pt x="34" y="0"/>
                </a:lnTo>
                <a:lnTo>
                  <a:pt x="46" y="0"/>
                </a:lnTo>
                <a:lnTo>
                  <a:pt x="57" y="0"/>
                </a:lnTo>
                <a:lnTo>
                  <a:pt x="79" y="0"/>
                </a:lnTo>
                <a:lnTo>
                  <a:pt x="91" y="0"/>
                </a:lnTo>
                <a:lnTo>
                  <a:pt x="136" y="0"/>
                </a:lnTo>
                <a:lnTo>
                  <a:pt x="181" y="11"/>
                </a:lnTo>
                <a:lnTo>
                  <a:pt x="226" y="22"/>
                </a:lnTo>
                <a:lnTo>
                  <a:pt x="260" y="34"/>
                </a:lnTo>
                <a:lnTo>
                  <a:pt x="283" y="45"/>
                </a:lnTo>
                <a:lnTo>
                  <a:pt x="306" y="67"/>
                </a:lnTo>
                <a:lnTo>
                  <a:pt x="339" y="79"/>
                </a:lnTo>
                <a:lnTo>
                  <a:pt x="351" y="101"/>
                </a:lnTo>
                <a:lnTo>
                  <a:pt x="373" y="113"/>
                </a:lnTo>
                <a:lnTo>
                  <a:pt x="385" y="135"/>
                </a:lnTo>
                <a:lnTo>
                  <a:pt x="396" y="158"/>
                </a:lnTo>
                <a:lnTo>
                  <a:pt x="407" y="180"/>
                </a:lnTo>
                <a:lnTo>
                  <a:pt x="407" y="20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2"/>
          <p:cNvSpPr/>
          <p:nvPr/>
        </p:nvSpPr>
        <p:spPr>
          <a:xfrm>
            <a:off x="5681520" y="3213000"/>
            <a:ext cx="430200" cy="868320"/>
          </a:xfrm>
          <a:custGeom>
            <a:avLst/>
            <a:gdLst>
              <a:gd name="textAreaLeft" fmla="*/ 0 w 430200"/>
              <a:gd name="textAreaRight" fmla="*/ 430560 w 43020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678" h="1334">
                <a:moveTo>
                  <a:pt x="396" y="452"/>
                </a:moveTo>
                <a:lnTo>
                  <a:pt x="430" y="395"/>
                </a:lnTo>
                <a:lnTo>
                  <a:pt x="452" y="339"/>
                </a:lnTo>
                <a:lnTo>
                  <a:pt x="486" y="294"/>
                </a:lnTo>
                <a:lnTo>
                  <a:pt x="509" y="237"/>
                </a:lnTo>
                <a:lnTo>
                  <a:pt x="531" y="203"/>
                </a:lnTo>
                <a:lnTo>
                  <a:pt x="554" y="158"/>
                </a:lnTo>
                <a:lnTo>
                  <a:pt x="577" y="124"/>
                </a:lnTo>
                <a:lnTo>
                  <a:pt x="588" y="101"/>
                </a:lnTo>
                <a:lnTo>
                  <a:pt x="610" y="68"/>
                </a:lnTo>
                <a:lnTo>
                  <a:pt x="622" y="45"/>
                </a:lnTo>
                <a:lnTo>
                  <a:pt x="633" y="34"/>
                </a:lnTo>
                <a:lnTo>
                  <a:pt x="644" y="11"/>
                </a:lnTo>
                <a:lnTo>
                  <a:pt x="656" y="11"/>
                </a:lnTo>
                <a:lnTo>
                  <a:pt x="667" y="0"/>
                </a:lnTo>
                <a:lnTo>
                  <a:pt x="678" y="0"/>
                </a:lnTo>
                <a:lnTo>
                  <a:pt x="678" y="11"/>
                </a:lnTo>
                <a:lnTo>
                  <a:pt x="678" y="22"/>
                </a:lnTo>
                <a:lnTo>
                  <a:pt x="678" y="45"/>
                </a:lnTo>
                <a:lnTo>
                  <a:pt x="678" y="68"/>
                </a:lnTo>
                <a:lnTo>
                  <a:pt x="667" y="101"/>
                </a:lnTo>
                <a:lnTo>
                  <a:pt x="656" y="135"/>
                </a:lnTo>
                <a:lnTo>
                  <a:pt x="644" y="181"/>
                </a:lnTo>
                <a:lnTo>
                  <a:pt x="633" y="214"/>
                </a:lnTo>
                <a:lnTo>
                  <a:pt x="622" y="271"/>
                </a:lnTo>
                <a:lnTo>
                  <a:pt x="610" y="328"/>
                </a:lnTo>
                <a:lnTo>
                  <a:pt x="588" y="384"/>
                </a:lnTo>
                <a:lnTo>
                  <a:pt x="565" y="441"/>
                </a:lnTo>
                <a:lnTo>
                  <a:pt x="543" y="520"/>
                </a:lnTo>
                <a:lnTo>
                  <a:pt x="520" y="588"/>
                </a:lnTo>
                <a:lnTo>
                  <a:pt x="497" y="667"/>
                </a:lnTo>
                <a:lnTo>
                  <a:pt x="475" y="746"/>
                </a:lnTo>
                <a:lnTo>
                  <a:pt x="452" y="825"/>
                </a:lnTo>
                <a:lnTo>
                  <a:pt x="418" y="893"/>
                </a:lnTo>
                <a:lnTo>
                  <a:pt x="396" y="961"/>
                </a:lnTo>
                <a:lnTo>
                  <a:pt x="373" y="1017"/>
                </a:lnTo>
                <a:lnTo>
                  <a:pt x="362" y="1074"/>
                </a:lnTo>
                <a:lnTo>
                  <a:pt x="339" y="1119"/>
                </a:lnTo>
                <a:lnTo>
                  <a:pt x="317" y="1164"/>
                </a:lnTo>
                <a:lnTo>
                  <a:pt x="305" y="1198"/>
                </a:lnTo>
                <a:lnTo>
                  <a:pt x="294" y="1232"/>
                </a:lnTo>
                <a:lnTo>
                  <a:pt x="271" y="1266"/>
                </a:lnTo>
                <a:lnTo>
                  <a:pt x="260" y="1288"/>
                </a:lnTo>
                <a:lnTo>
                  <a:pt x="249" y="1311"/>
                </a:lnTo>
                <a:lnTo>
                  <a:pt x="237" y="1322"/>
                </a:lnTo>
                <a:lnTo>
                  <a:pt x="237" y="1334"/>
                </a:lnTo>
                <a:lnTo>
                  <a:pt x="226" y="1334"/>
                </a:lnTo>
                <a:lnTo>
                  <a:pt x="215" y="1334"/>
                </a:lnTo>
                <a:lnTo>
                  <a:pt x="192" y="1322"/>
                </a:lnTo>
                <a:lnTo>
                  <a:pt x="181" y="1322"/>
                </a:lnTo>
                <a:lnTo>
                  <a:pt x="170" y="1300"/>
                </a:lnTo>
                <a:lnTo>
                  <a:pt x="147" y="1288"/>
                </a:lnTo>
                <a:lnTo>
                  <a:pt x="124" y="1266"/>
                </a:lnTo>
                <a:lnTo>
                  <a:pt x="113" y="1232"/>
                </a:lnTo>
                <a:lnTo>
                  <a:pt x="90" y="1198"/>
                </a:lnTo>
                <a:lnTo>
                  <a:pt x="68" y="1175"/>
                </a:lnTo>
                <a:lnTo>
                  <a:pt x="45" y="1141"/>
                </a:lnTo>
                <a:lnTo>
                  <a:pt x="34" y="1119"/>
                </a:lnTo>
                <a:lnTo>
                  <a:pt x="23" y="1096"/>
                </a:lnTo>
                <a:lnTo>
                  <a:pt x="11" y="1074"/>
                </a:lnTo>
                <a:lnTo>
                  <a:pt x="0" y="1051"/>
                </a:lnTo>
                <a:lnTo>
                  <a:pt x="0" y="1028"/>
                </a:lnTo>
                <a:lnTo>
                  <a:pt x="0" y="1017"/>
                </a:lnTo>
                <a:lnTo>
                  <a:pt x="0" y="983"/>
                </a:lnTo>
                <a:lnTo>
                  <a:pt x="11" y="961"/>
                </a:lnTo>
                <a:lnTo>
                  <a:pt x="34" y="949"/>
                </a:lnTo>
                <a:lnTo>
                  <a:pt x="45" y="949"/>
                </a:lnTo>
                <a:lnTo>
                  <a:pt x="56" y="949"/>
                </a:lnTo>
                <a:lnTo>
                  <a:pt x="79" y="949"/>
                </a:lnTo>
                <a:lnTo>
                  <a:pt x="90" y="949"/>
                </a:lnTo>
                <a:lnTo>
                  <a:pt x="113" y="949"/>
                </a:lnTo>
                <a:lnTo>
                  <a:pt x="124" y="938"/>
                </a:lnTo>
                <a:lnTo>
                  <a:pt x="136" y="938"/>
                </a:lnTo>
                <a:lnTo>
                  <a:pt x="136" y="927"/>
                </a:lnTo>
                <a:lnTo>
                  <a:pt x="147" y="927"/>
                </a:lnTo>
                <a:lnTo>
                  <a:pt x="147" y="915"/>
                </a:lnTo>
                <a:lnTo>
                  <a:pt x="158" y="893"/>
                </a:lnTo>
                <a:lnTo>
                  <a:pt x="170" y="881"/>
                </a:lnTo>
                <a:lnTo>
                  <a:pt x="181" y="859"/>
                </a:lnTo>
                <a:lnTo>
                  <a:pt x="192" y="836"/>
                </a:lnTo>
                <a:lnTo>
                  <a:pt x="215" y="802"/>
                </a:lnTo>
                <a:lnTo>
                  <a:pt x="226" y="768"/>
                </a:lnTo>
                <a:lnTo>
                  <a:pt x="249" y="735"/>
                </a:lnTo>
                <a:lnTo>
                  <a:pt x="271" y="701"/>
                </a:lnTo>
                <a:lnTo>
                  <a:pt x="294" y="655"/>
                </a:lnTo>
                <a:lnTo>
                  <a:pt x="317" y="610"/>
                </a:lnTo>
                <a:lnTo>
                  <a:pt x="339" y="565"/>
                </a:lnTo>
                <a:lnTo>
                  <a:pt x="373" y="508"/>
                </a:lnTo>
                <a:lnTo>
                  <a:pt x="396" y="45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3"/>
          <p:cNvSpPr/>
          <p:nvPr/>
        </p:nvSpPr>
        <p:spPr>
          <a:xfrm>
            <a:off x="6127920" y="2536920"/>
            <a:ext cx="344160" cy="941400"/>
          </a:xfrm>
          <a:custGeom>
            <a:avLst/>
            <a:gdLst>
              <a:gd name="textAreaLeft" fmla="*/ 0 w 344160"/>
              <a:gd name="textAreaRight" fmla="*/ 344520 w 34416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543" h="1447">
                <a:moveTo>
                  <a:pt x="350" y="531"/>
                </a:moveTo>
                <a:lnTo>
                  <a:pt x="350" y="452"/>
                </a:lnTo>
                <a:lnTo>
                  <a:pt x="362" y="373"/>
                </a:lnTo>
                <a:lnTo>
                  <a:pt x="362" y="305"/>
                </a:lnTo>
                <a:lnTo>
                  <a:pt x="350" y="260"/>
                </a:lnTo>
                <a:lnTo>
                  <a:pt x="350" y="203"/>
                </a:lnTo>
                <a:lnTo>
                  <a:pt x="339" y="169"/>
                </a:lnTo>
                <a:lnTo>
                  <a:pt x="339" y="135"/>
                </a:lnTo>
                <a:lnTo>
                  <a:pt x="328" y="113"/>
                </a:lnTo>
                <a:lnTo>
                  <a:pt x="316" y="101"/>
                </a:lnTo>
                <a:lnTo>
                  <a:pt x="305" y="79"/>
                </a:lnTo>
                <a:lnTo>
                  <a:pt x="305" y="67"/>
                </a:lnTo>
                <a:lnTo>
                  <a:pt x="294" y="56"/>
                </a:lnTo>
                <a:lnTo>
                  <a:pt x="294" y="45"/>
                </a:lnTo>
                <a:lnTo>
                  <a:pt x="305" y="22"/>
                </a:lnTo>
                <a:lnTo>
                  <a:pt x="305" y="11"/>
                </a:lnTo>
                <a:lnTo>
                  <a:pt x="316" y="0"/>
                </a:lnTo>
                <a:lnTo>
                  <a:pt x="328" y="0"/>
                </a:lnTo>
                <a:lnTo>
                  <a:pt x="339" y="0"/>
                </a:lnTo>
                <a:lnTo>
                  <a:pt x="350" y="0"/>
                </a:lnTo>
                <a:lnTo>
                  <a:pt x="384" y="11"/>
                </a:lnTo>
                <a:lnTo>
                  <a:pt x="407" y="11"/>
                </a:lnTo>
                <a:lnTo>
                  <a:pt x="452" y="22"/>
                </a:lnTo>
                <a:lnTo>
                  <a:pt x="497" y="45"/>
                </a:lnTo>
                <a:lnTo>
                  <a:pt x="543" y="56"/>
                </a:lnTo>
                <a:lnTo>
                  <a:pt x="543" y="169"/>
                </a:lnTo>
                <a:lnTo>
                  <a:pt x="543" y="271"/>
                </a:lnTo>
                <a:lnTo>
                  <a:pt x="531" y="373"/>
                </a:lnTo>
                <a:lnTo>
                  <a:pt x="531" y="463"/>
                </a:lnTo>
                <a:lnTo>
                  <a:pt x="531" y="542"/>
                </a:lnTo>
                <a:lnTo>
                  <a:pt x="520" y="621"/>
                </a:lnTo>
                <a:lnTo>
                  <a:pt x="520" y="678"/>
                </a:lnTo>
                <a:lnTo>
                  <a:pt x="520" y="746"/>
                </a:lnTo>
                <a:lnTo>
                  <a:pt x="509" y="791"/>
                </a:lnTo>
                <a:lnTo>
                  <a:pt x="497" y="847"/>
                </a:lnTo>
                <a:lnTo>
                  <a:pt x="463" y="949"/>
                </a:lnTo>
                <a:lnTo>
                  <a:pt x="429" y="1028"/>
                </a:lnTo>
                <a:lnTo>
                  <a:pt x="396" y="1119"/>
                </a:lnTo>
                <a:lnTo>
                  <a:pt x="362" y="1153"/>
                </a:lnTo>
                <a:lnTo>
                  <a:pt x="339" y="1187"/>
                </a:lnTo>
                <a:lnTo>
                  <a:pt x="283" y="1254"/>
                </a:lnTo>
                <a:lnTo>
                  <a:pt x="226" y="1322"/>
                </a:lnTo>
                <a:lnTo>
                  <a:pt x="169" y="1368"/>
                </a:lnTo>
                <a:lnTo>
                  <a:pt x="124" y="1390"/>
                </a:lnTo>
                <a:lnTo>
                  <a:pt x="102" y="1413"/>
                </a:lnTo>
                <a:lnTo>
                  <a:pt x="68" y="1424"/>
                </a:lnTo>
                <a:lnTo>
                  <a:pt x="45" y="1435"/>
                </a:lnTo>
                <a:lnTo>
                  <a:pt x="34" y="1435"/>
                </a:lnTo>
                <a:lnTo>
                  <a:pt x="22" y="1447"/>
                </a:lnTo>
                <a:lnTo>
                  <a:pt x="11" y="1447"/>
                </a:lnTo>
                <a:lnTo>
                  <a:pt x="0" y="1435"/>
                </a:lnTo>
                <a:lnTo>
                  <a:pt x="0" y="1424"/>
                </a:lnTo>
                <a:lnTo>
                  <a:pt x="0" y="1401"/>
                </a:lnTo>
                <a:lnTo>
                  <a:pt x="11" y="1390"/>
                </a:lnTo>
                <a:lnTo>
                  <a:pt x="22" y="1368"/>
                </a:lnTo>
                <a:lnTo>
                  <a:pt x="45" y="1345"/>
                </a:lnTo>
                <a:lnTo>
                  <a:pt x="68" y="1322"/>
                </a:lnTo>
                <a:lnTo>
                  <a:pt x="90" y="1288"/>
                </a:lnTo>
                <a:lnTo>
                  <a:pt x="113" y="1266"/>
                </a:lnTo>
                <a:lnTo>
                  <a:pt x="147" y="1232"/>
                </a:lnTo>
                <a:lnTo>
                  <a:pt x="169" y="1209"/>
                </a:lnTo>
                <a:lnTo>
                  <a:pt x="192" y="1175"/>
                </a:lnTo>
                <a:lnTo>
                  <a:pt x="215" y="1130"/>
                </a:lnTo>
                <a:lnTo>
                  <a:pt x="237" y="1096"/>
                </a:lnTo>
                <a:lnTo>
                  <a:pt x="260" y="1051"/>
                </a:lnTo>
                <a:lnTo>
                  <a:pt x="283" y="1006"/>
                </a:lnTo>
                <a:lnTo>
                  <a:pt x="294" y="972"/>
                </a:lnTo>
                <a:lnTo>
                  <a:pt x="305" y="915"/>
                </a:lnTo>
                <a:lnTo>
                  <a:pt x="316" y="870"/>
                </a:lnTo>
                <a:lnTo>
                  <a:pt x="328" y="814"/>
                </a:lnTo>
                <a:lnTo>
                  <a:pt x="328" y="746"/>
                </a:lnTo>
                <a:lnTo>
                  <a:pt x="339" y="678"/>
                </a:lnTo>
                <a:lnTo>
                  <a:pt x="350" y="610"/>
                </a:lnTo>
                <a:lnTo>
                  <a:pt x="350" y="53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4"/>
          <p:cNvSpPr/>
          <p:nvPr/>
        </p:nvSpPr>
        <p:spPr>
          <a:xfrm>
            <a:off x="6407280" y="2433600"/>
            <a:ext cx="803160" cy="785880"/>
          </a:xfrm>
          <a:custGeom>
            <a:avLst/>
            <a:gdLst>
              <a:gd name="textAreaLeft" fmla="*/ 0 w 803160"/>
              <a:gd name="textAreaRight" fmla="*/ 803520 w 8031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266" h="1210">
                <a:moveTo>
                  <a:pt x="667" y="498"/>
                </a:moveTo>
                <a:lnTo>
                  <a:pt x="655" y="554"/>
                </a:lnTo>
                <a:lnTo>
                  <a:pt x="644" y="599"/>
                </a:lnTo>
                <a:lnTo>
                  <a:pt x="633" y="645"/>
                </a:lnTo>
                <a:lnTo>
                  <a:pt x="622" y="690"/>
                </a:lnTo>
                <a:lnTo>
                  <a:pt x="610" y="724"/>
                </a:lnTo>
                <a:lnTo>
                  <a:pt x="610" y="758"/>
                </a:lnTo>
                <a:lnTo>
                  <a:pt x="599" y="792"/>
                </a:lnTo>
                <a:lnTo>
                  <a:pt x="599" y="826"/>
                </a:lnTo>
                <a:lnTo>
                  <a:pt x="610" y="871"/>
                </a:lnTo>
                <a:lnTo>
                  <a:pt x="610" y="905"/>
                </a:lnTo>
                <a:lnTo>
                  <a:pt x="633" y="939"/>
                </a:lnTo>
                <a:lnTo>
                  <a:pt x="644" y="961"/>
                </a:lnTo>
                <a:lnTo>
                  <a:pt x="655" y="973"/>
                </a:lnTo>
                <a:lnTo>
                  <a:pt x="678" y="984"/>
                </a:lnTo>
                <a:lnTo>
                  <a:pt x="701" y="995"/>
                </a:lnTo>
                <a:lnTo>
                  <a:pt x="723" y="1006"/>
                </a:lnTo>
                <a:lnTo>
                  <a:pt x="757" y="1018"/>
                </a:lnTo>
                <a:lnTo>
                  <a:pt x="769" y="1029"/>
                </a:lnTo>
                <a:lnTo>
                  <a:pt x="791" y="1029"/>
                </a:lnTo>
                <a:lnTo>
                  <a:pt x="825" y="1018"/>
                </a:lnTo>
                <a:lnTo>
                  <a:pt x="882" y="1006"/>
                </a:lnTo>
                <a:lnTo>
                  <a:pt x="938" y="995"/>
                </a:lnTo>
                <a:lnTo>
                  <a:pt x="972" y="984"/>
                </a:lnTo>
                <a:lnTo>
                  <a:pt x="1006" y="973"/>
                </a:lnTo>
                <a:lnTo>
                  <a:pt x="1029" y="973"/>
                </a:lnTo>
                <a:lnTo>
                  <a:pt x="1051" y="961"/>
                </a:lnTo>
                <a:lnTo>
                  <a:pt x="1062" y="961"/>
                </a:lnTo>
                <a:lnTo>
                  <a:pt x="1085" y="961"/>
                </a:lnTo>
                <a:lnTo>
                  <a:pt x="1096" y="950"/>
                </a:lnTo>
                <a:lnTo>
                  <a:pt x="1108" y="950"/>
                </a:lnTo>
                <a:lnTo>
                  <a:pt x="1130" y="961"/>
                </a:lnTo>
                <a:lnTo>
                  <a:pt x="1153" y="961"/>
                </a:lnTo>
                <a:lnTo>
                  <a:pt x="1176" y="984"/>
                </a:lnTo>
                <a:lnTo>
                  <a:pt x="1187" y="995"/>
                </a:lnTo>
                <a:lnTo>
                  <a:pt x="1209" y="1006"/>
                </a:lnTo>
                <a:lnTo>
                  <a:pt x="1232" y="1040"/>
                </a:lnTo>
                <a:lnTo>
                  <a:pt x="1255" y="1063"/>
                </a:lnTo>
                <a:lnTo>
                  <a:pt x="1266" y="1086"/>
                </a:lnTo>
                <a:lnTo>
                  <a:pt x="1266" y="1097"/>
                </a:lnTo>
                <a:lnTo>
                  <a:pt x="1266" y="1108"/>
                </a:lnTo>
                <a:lnTo>
                  <a:pt x="1266" y="1120"/>
                </a:lnTo>
                <a:lnTo>
                  <a:pt x="1255" y="1131"/>
                </a:lnTo>
                <a:lnTo>
                  <a:pt x="1243" y="1142"/>
                </a:lnTo>
                <a:lnTo>
                  <a:pt x="1221" y="1153"/>
                </a:lnTo>
                <a:lnTo>
                  <a:pt x="1209" y="1153"/>
                </a:lnTo>
                <a:lnTo>
                  <a:pt x="1187" y="1165"/>
                </a:lnTo>
                <a:lnTo>
                  <a:pt x="1153" y="1165"/>
                </a:lnTo>
                <a:lnTo>
                  <a:pt x="1130" y="1176"/>
                </a:lnTo>
                <a:lnTo>
                  <a:pt x="1096" y="1187"/>
                </a:lnTo>
                <a:lnTo>
                  <a:pt x="1029" y="1199"/>
                </a:lnTo>
                <a:lnTo>
                  <a:pt x="938" y="1210"/>
                </a:lnTo>
                <a:lnTo>
                  <a:pt x="859" y="1210"/>
                </a:lnTo>
                <a:lnTo>
                  <a:pt x="814" y="1210"/>
                </a:lnTo>
                <a:lnTo>
                  <a:pt x="769" y="1210"/>
                </a:lnTo>
                <a:lnTo>
                  <a:pt x="735" y="1199"/>
                </a:lnTo>
                <a:lnTo>
                  <a:pt x="701" y="1199"/>
                </a:lnTo>
                <a:lnTo>
                  <a:pt x="667" y="1199"/>
                </a:lnTo>
                <a:lnTo>
                  <a:pt x="644" y="1187"/>
                </a:lnTo>
                <a:lnTo>
                  <a:pt x="622" y="1176"/>
                </a:lnTo>
                <a:lnTo>
                  <a:pt x="599" y="1165"/>
                </a:lnTo>
                <a:lnTo>
                  <a:pt x="588" y="1165"/>
                </a:lnTo>
                <a:lnTo>
                  <a:pt x="576" y="1153"/>
                </a:lnTo>
                <a:lnTo>
                  <a:pt x="542" y="1131"/>
                </a:lnTo>
                <a:lnTo>
                  <a:pt x="520" y="1097"/>
                </a:lnTo>
                <a:lnTo>
                  <a:pt x="497" y="1063"/>
                </a:lnTo>
                <a:lnTo>
                  <a:pt x="497" y="1040"/>
                </a:lnTo>
                <a:lnTo>
                  <a:pt x="486" y="1029"/>
                </a:lnTo>
                <a:lnTo>
                  <a:pt x="475" y="995"/>
                </a:lnTo>
                <a:lnTo>
                  <a:pt x="475" y="973"/>
                </a:lnTo>
                <a:lnTo>
                  <a:pt x="475" y="939"/>
                </a:lnTo>
                <a:lnTo>
                  <a:pt x="463" y="905"/>
                </a:lnTo>
                <a:lnTo>
                  <a:pt x="463" y="871"/>
                </a:lnTo>
                <a:lnTo>
                  <a:pt x="463" y="837"/>
                </a:lnTo>
                <a:lnTo>
                  <a:pt x="463" y="746"/>
                </a:lnTo>
                <a:lnTo>
                  <a:pt x="475" y="656"/>
                </a:lnTo>
                <a:lnTo>
                  <a:pt x="486" y="566"/>
                </a:lnTo>
                <a:lnTo>
                  <a:pt x="497" y="509"/>
                </a:lnTo>
                <a:lnTo>
                  <a:pt x="520" y="464"/>
                </a:lnTo>
                <a:lnTo>
                  <a:pt x="531" y="407"/>
                </a:lnTo>
                <a:lnTo>
                  <a:pt x="531" y="362"/>
                </a:lnTo>
                <a:lnTo>
                  <a:pt x="542" y="328"/>
                </a:lnTo>
                <a:lnTo>
                  <a:pt x="542" y="294"/>
                </a:lnTo>
                <a:lnTo>
                  <a:pt x="542" y="272"/>
                </a:lnTo>
                <a:lnTo>
                  <a:pt x="531" y="249"/>
                </a:lnTo>
                <a:lnTo>
                  <a:pt x="531" y="238"/>
                </a:lnTo>
                <a:lnTo>
                  <a:pt x="520" y="226"/>
                </a:lnTo>
                <a:lnTo>
                  <a:pt x="497" y="226"/>
                </a:lnTo>
                <a:lnTo>
                  <a:pt x="475" y="226"/>
                </a:lnTo>
                <a:lnTo>
                  <a:pt x="452" y="226"/>
                </a:lnTo>
                <a:lnTo>
                  <a:pt x="429" y="226"/>
                </a:lnTo>
                <a:lnTo>
                  <a:pt x="395" y="238"/>
                </a:lnTo>
                <a:lnTo>
                  <a:pt x="362" y="249"/>
                </a:lnTo>
                <a:lnTo>
                  <a:pt x="328" y="260"/>
                </a:lnTo>
                <a:lnTo>
                  <a:pt x="294" y="272"/>
                </a:lnTo>
                <a:lnTo>
                  <a:pt x="237" y="283"/>
                </a:lnTo>
                <a:lnTo>
                  <a:pt x="203" y="294"/>
                </a:lnTo>
                <a:lnTo>
                  <a:pt x="158" y="306"/>
                </a:lnTo>
                <a:lnTo>
                  <a:pt x="124" y="317"/>
                </a:lnTo>
                <a:lnTo>
                  <a:pt x="90" y="317"/>
                </a:lnTo>
                <a:lnTo>
                  <a:pt x="56" y="317"/>
                </a:lnTo>
                <a:lnTo>
                  <a:pt x="22" y="328"/>
                </a:lnTo>
                <a:lnTo>
                  <a:pt x="0" y="328"/>
                </a:lnTo>
                <a:lnTo>
                  <a:pt x="0" y="215"/>
                </a:lnTo>
                <a:lnTo>
                  <a:pt x="45" y="215"/>
                </a:lnTo>
                <a:lnTo>
                  <a:pt x="90" y="204"/>
                </a:lnTo>
                <a:lnTo>
                  <a:pt x="135" y="204"/>
                </a:lnTo>
                <a:lnTo>
                  <a:pt x="192" y="193"/>
                </a:lnTo>
                <a:lnTo>
                  <a:pt x="226" y="181"/>
                </a:lnTo>
                <a:lnTo>
                  <a:pt x="271" y="170"/>
                </a:lnTo>
                <a:lnTo>
                  <a:pt x="328" y="147"/>
                </a:lnTo>
                <a:lnTo>
                  <a:pt x="362" y="136"/>
                </a:lnTo>
                <a:lnTo>
                  <a:pt x="384" y="125"/>
                </a:lnTo>
                <a:lnTo>
                  <a:pt x="418" y="113"/>
                </a:lnTo>
                <a:lnTo>
                  <a:pt x="452" y="102"/>
                </a:lnTo>
                <a:lnTo>
                  <a:pt x="475" y="91"/>
                </a:lnTo>
                <a:lnTo>
                  <a:pt x="497" y="79"/>
                </a:lnTo>
                <a:lnTo>
                  <a:pt x="509" y="68"/>
                </a:lnTo>
                <a:lnTo>
                  <a:pt x="520" y="68"/>
                </a:lnTo>
                <a:lnTo>
                  <a:pt x="531" y="57"/>
                </a:lnTo>
                <a:lnTo>
                  <a:pt x="542" y="46"/>
                </a:lnTo>
                <a:lnTo>
                  <a:pt x="554" y="23"/>
                </a:lnTo>
                <a:lnTo>
                  <a:pt x="565" y="12"/>
                </a:lnTo>
                <a:lnTo>
                  <a:pt x="588" y="0"/>
                </a:lnTo>
                <a:lnTo>
                  <a:pt x="610" y="0"/>
                </a:lnTo>
                <a:lnTo>
                  <a:pt x="633" y="0"/>
                </a:lnTo>
                <a:lnTo>
                  <a:pt x="644" y="12"/>
                </a:lnTo>
                <a:lnTo>
                  <a:pt x="678" y="23"/>
                </a:lnTo>
                <a:lnTo>
                  <a:pt x="712" y="46"/>
                </a:lnTo>
                <a:lnTo>
                  <a:pt x="757" y="68"/>
                </a:lnTo>
                <a:lnTo>
                  <a:pt x="780" y="91"/>
                </a:lnTo>
                <a:lnTo>
                  <a:pt x="791" y="102"/>
                </a:lnTo>
                <a:lnTo>
                  <a:pt x="814" y="113"/>
                </a:lnTo>
                <a:lnTo>
                  <a:pt x="825" y="125"/>
                </a:lnTo>
                <a:lnTo>
                  <a:pt x="825" y="147"/>
                </a:lnTo>
                <a:lnTo>
                  <a:pt x="836" y="159"/>
                </a:lnTo>
                <a:lnTo>
                  <a:pt x="836" y="170"/>
                </a:lnTo>
                <a:lnTo>
                  <a:pt x="836" y="181"/>
                </a:lnTo>
                <a:lnTo>
                  <a:pt x="836" y="193"/>
                </a:lnTo>
                <a:lnTo>
                  <a:pt x="825" y="215"/>
                </a:lnTo>
                <a:lnTo>
                  <a:pt x="814" y="226"/>
                </a:lnTo>
                <a:lnTo>
                  <a:pt x="791" y="249"/>
                </a:lnTo>
                <a:lnTo>
                  <a:pt x="780" y="249"/>
                </a:lnTo>
                <a:lnTo>
                  <a:pt x="757" y="272"/>
                </a:lnTo>
                <a:lnTo>
                  <a:pt x="746" y="294"/>
                </a:lnTo>
                <a:lnTo>
                  <a:pt x="735" y="317"/>
                </a:lnTo>
                <a:lnTo>
                  <a:pt x="712" y="362"/>
                </a:lnTo>
                <a:lnTo>
                  <a:pt x="701" y="396"/>
                </a:lnTo>
                <a:lnTo>
                  <a:pt x="678" y="441"/>
                </a:lnTo>
                <a:lnTo>
                  <a:pt x="667" y="49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5"/>
          <p:cNvSpPr/>
          <p:nvPr/>
        </p:nvSpPr>
        <p:spPr>
          <a:xfrm>
            <a:off x="6170760" y="3537000"/>
            <a:ext cx="214200" cy="623880"/>
          </a:xfrm>
          <a:custGeom>
            <a:avLst/>
            <a:gdLst>
              <a:gd name="textAreaLeft" fmla="*/ 0 w 214200"/>
              <a:gd name="textAreaRight" fmla="*/ 214560 w 214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339" h="961">
                <a:moveTo>
                  <a:pt x="135" y="441"/>
                </a:moveTo>
                <a:lnTo>
                  <a:pt x="124" y="373"/>
                </a:lnTo>
                <a:lnTo>
                  <a:pt x="113" y="328"/>
                </a:lnTo>
                <a:lnTo>
                  <a:pt x="90" y="283"/>
                </a:lnTo>
                <a:lnTo>
                  <a:pt x="79" y="238"/>
                </a:lnTo>
                <a:lnTo>
                  <a:pt x="68" y="192"/>
                </a:lnTo>
                <a:lnTo>
                  <a:pt x="56" y="170"/>
                </a:lnTo>
                <a:lnTo>
                  <a:pt x="45" y="136"/>
                </a:lnTo>
                <a:lnTo>
                  <a:pt x="34" y="113"/>
                </a:lnTo>
                <a:lnTo>
                  <a:pt x="22" y="91"/>
                </a:lnTo>
                <a:lnTo>
                  <a:pt x="11" y="79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0" y="11"/>
                </a:lnTo>
                <a:lnTo>
                  <a:pt x="11" y="11"/>
                </a:lnTo>
                <a:lnTo>
                  <a:pt x="22" y="0"/>
                </a:lnTo>
                <a:lnTo>
                  <a:pt x="34" y="0"/>
                </a:lnTo>
                <a:lnTo>
                  <a:pt x="68" y="0"/>
                </a:lnTo>
                <a:lnTo>
                  <a:pt x="90" y="11"/>
                </a:lnTo>
                <a:lnTo>
                  <a:pt x="124" y="11"/>
                </a:lnTo>
                <a:lnTo>
                  <a:pt x="169" y="23"/>
                </a:lnTo>
                <a:lnTo>
                  <a:pt x="215" y="34"/>
                </a:lnTo>
                <a:lnTo>
                  <a:pt x="260" y="45"/>
                </a:lnTo>
                <a:lnTo>
                  <a:pt x="271" y="136"/>
                </a:lnTo>
                <a:lnTo>
                  <a:pt x="282" y="226"/>
                </a:lnTo>
                <a:lnTo>
                  <a:pt x="282" y="317"/>
                </a:lnTo>
                <a:lnTo>
                  <a:pt x="294" y="396"/>
                </a:lnTo>
                <a:lnTo>
                  <a:pt x="305" y="464"/>
                </a:lnTo>
                <a:lnTo>
                  <a:pt x="316" y="531"/>
                </a:lnTo>
                <a:lnTo>
                  <a:pt x="316" y="599"/>
                </a:lnTo>
                <a:lnTo>
                  <a:pt x="328" y="667"/>
                </a:lnTo>
                <a:lnTo>
                  <a:pt x="328" y="724"/>
                </a:lnTo>
                <a:lnTo>
                  <a:pt x="328" y="780"/>
                </a:lnTo>
                <a:lnTo>
                  <a:pt x="339" y="825"/>
                </a:lnTo>
                <a:lnTo>
                  <a:pt x="339" y="859"/>
                </a:lnTo>
                <a:lnTo>
                  <a:pt x="339" y="893"/>
                </a:lnTo>
                <a:lnTo>
                  <a:pt x="339" y="916"/>
                </a:lnTo>
                <a:lnTo>
                  <a:pt x="339" y="938"/>
                </a:lnTo>
                <a:lnTo>
                  <a:pt x="339" y="950"/>
                </a:lnTo>
                <a:lnTo>
                  <a:pt x="328" y="950"/>
                </a:lnTo>
                <a:lnTo>
                  <a:pt x="316" y="961"/>
                </a:lnTo>
                <a:lnTo>
                  <a:pt x="305" y="961"/>
                </a:lnTo>
                <a:lnTo>
                  <a:pt x="294" y="961"/>
                </a:lnTo>
                <a:lnTo>
                  <a:pt x="282" y="950"/>
                </a:lnTo>
                <a:lnTo>
                  <a:pt x="282" y="938"/>
                </a:lnTo>
                <a:lnTo>
                  <a:pt x="271" y="916"/>
                </a:lnTo>
                <a:lnTo>
                  <a:pt x="260" y="905"/>
                </a:lnTo>
                <a:lnTo>
                  <a:pt x="248" y="871"/>
                </a:lnTo>
                <a:lnTo>
                  <a:pt x="248" y="848"/>
                </a:lnTo>
                <a:lnTo>
                  <a:pt x="237" y="814"/>
                </a:lnTo>
                <a:lnTo>
                  <a:pt x="226" y="769"/>
                </a:lnTo>
                <a:lnTo>
                  <a:pt x="203" y="735"/>
                </a:lnTo>
                <a:lnTo>
                  <a:pt x="192" y="690"/>
                </a:lnTo>
                <a:lnTo>
                  <a:pt x="181" y="644"/>
                </a:lnTo>
                <a:lnTo>
                  <a:pt x="169" y="599"/>
                </a:lnTo>
                <a:lnTo>
                  <a:pt x="158" y="543"/>
                </a:lnTo>
                <a:lnTo>
                  <a:pt x="135" y="44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6"/>
          <p:cNvSpPr/>
          <p:nvPr/>
        </p:nvSpPr>
        <p:spPr>
          <a:xfrm>
            <a:off x="6276960" y="3463920"/>
            <a:ext cx="804960" cy="550800"/>
          </a:xfrm>
          <a:custGeom>
            <a:avLst/>
            <a:gdLst>
              <a:gd name="textAreaLeft" fmla="*/ 0 w 804960"/>
              <a:gd name="textAreaRight" fmla="*/ 805320 w 80496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1266" h="848">
                <a:moveTo>
                  <a:pt x="893" y="237"/>
                </a:moveTo>
                <a:lnTo>
                  <a:pt x="882" y="226"/>
                </a:lnTo>
                <a:lnTo>
                  <a:pt x="871" y="215"/>
                </a:lnTo>
                <a:lnTo>
                  <a:pt x="848" y="204"/>
                </a:lnTo>
                <a:lnTo>
                  <a:pt x="814" y="204"/>
                </a:lnTo>
                <a:lnTo>
                  <a:pt x="803" y="204"/>
                </a:lnTo>
                <a:lnTo>
                  <a:pt x="780" y="204"/>
                </a:lnTo>
                <a:lnTo>
                  <a:pt x="746" y="204"/>
                </a:lnTo>
                <a:lnTo>
                  <a:pt x="713" y="215"/>
                </a:lnTo>
                <a:lnTo>
                  <a:pt x="667" y="215"/>
                </a:lnTo>
                <a:lnTo>
                  <a:pt x="622" y="215"/>
                </a:lnTo>
                <a:lnTo>
                  <a:pt x="566" y="226"/>
                </a:lnTo>
                <a:lnTo>
                  <a:pt x="509" y="226"/>
                </a:lnTo>
                <a:lnTo>
                  <a:pt x="373" y="249"/>
                </a:lnTo>
                <a:lnTo>
                  <a:pt x="249" y="260"/>
                </a:lnTo>
                <a:lnTo>
                  <a:pt x="125" y="271"/>
                </a:lnTo>
                <a:lnTo>
                  <a:pt x="0" y="271"/>
                </a:lnTo>
                <a:lnTo>
                  <a:pt x="0" y="158"/>
                </a:lnTo>
                <a:lnTo>
                  <a:pt x="91" y="158"/>
                </a:lnTo>
                <a:lnTo>
                  <a:pt x="170" y="158"/>
                </a:lnTo>
                <a:lnTo>
                  <a:pt x="238" y="158"/>
                </a:lnTo>
                <a:lnTo>
                  <a:pt x="317" y="147"/>
                </a:lnTo>
                <a:lnTo>
                  <a:pt x="385" y="147"/>
                </a:lnTo>
                <a:lnTo>
                  <a:pt x="453" y="136"/>
                </a:lnTo>
                <a:lnTo>
                  <a:pt x="520" y="124"/>
                </a:lnTo>
                <a:lnTo>
                  <a:pt x="577" y="113"/>
                </a:lnTo>
                <a:lnTo>
                  <a:pt x="633" y="102"/>
                </a:lnTo>
                <a:lnTo>
                  <a:pt x="690" y="90"/>
                </a:lnTo>
                <a:lnTo>
                  <a:pt x="735" y="79"/>
                </a:lnTo>
                <a:lnTo>
                  <a:pt x="769" y="68"/>
                </a:lnTo>
                <a:lnTo>
                  <a:pt x="803" y="57"/>
                </a:lnTo>
                <a:lnTo>
                  <a:pt x="826" y="45"/>
                </a:lnTo>
                <a:lnTo>
                  <a:pt x="848" y="34"/>
                </a:lnTo>
                <a:lnTo>
                  <a:pt x="859" y="23"/>
                </a:lnTo>
                <a:lnTo>
                  <a:pt x="871" y="11"/>
                </a:lnTo>
                <a:lnTo>
                  <a:pt x="893" y="0"/>
                </a:lnTo>
                <a:lnTo>
                  <a:pt x="916" y="0"/>
                </a:lnTo>
                <a:lnTo>
                  <a:pt x="927" y="0"/>
                </a:lnTo>
                <a:lnTo>
                  <a:pt x="950" y="0"/>
                </a:lnTo>
                <a:lnTo>
                  <a:pt x="961" y="11"/>
                </a:lnTo>
                <a:lnTo>
                  <a:pt x="973" y="11"/>
                </a:lnTo>
                <a:lnTo>
                  <a:pt x="995" y="23"/>
                </a:lnTo>
                <a:lnTo>
                  <a:pt x="1018" y="34"/>
                </a:lnTo>
                <a:lnTo>
                  <a:pt x="1040" y="45"/>
                </a:lnTo>
                <a:lnTo>
                  <a:pt x="1074" y="68"/>
                </a:lnTo>
                <a:lnTo>
                  <a:pt x="1097" y="79"/>
                </a:lnTo>
                <a:lnTo>
                  <a:pt x="1131" y="113"/>
                </a:lnTo>
                <a:lnTo>
                  <a:pt x="1165" y="136"/>
                </a:lnTo>
                <a:lnTo>
                  <a:pt x="1187" y="158"/>
                </a:lnTo>
                <a:lnTo>
                  <a:pt x="1210" y="170"/>
                </a:lnTo>
                <a:lnTo>
                  <a:pt x="1233" y="192"/>
                </a:lnTo>
                <a:lnTo>
                  <a:pt x="1255" y="204"/>
                </a:lnTo>
                <a:lnTo>
                  <a:pt x="1266" y="215"/>
                </a:lnTo>
                <a:lnTo>
                  <a:pt x="1266" y="226"/>
                </a:lnTo>
                <a:lnTo>
                  <a:pt x="1266" y="249"/>
                </a:lnTo>
                <a:lnTo>
                  <a:pt x="1255" y="271"/>
                </a:lnTo>
                <a:lnTo>
                  <a:pt x="1244" y="283"/>
                </a:lnTo>
                <a:lnTo>
                  <a:pt x="1221" y="294"/>
                </a:lnTo>
                <a:lnTo>
                  <a:pt x="1210" y="305"/>
                </a:lnTo>
                <a:lnTo>
                  <a:pt x="1199" y="317"/>
                </a:lnTo>
                <a:lnTo>
                  <a:pt x="1199" y="328"/>
                </a:lnTo>
                <a:lnTo>
                  <a:pt x="1176" y="351"/>
                </a:lnTo>
                <a:lnTo>
                  <a:pt x="1165" y="362"/>
                </a:lnTo>
                <a:lnTo>
                  <a:pt x="1153" y="396"/>
                </a:lnTo>
                <a:lnTo>
                  <a:pt x="1142" y="418"/>
                </a:lnTo>
                <a:lnTo>
                  <a:pt x="1120" y="452"/>
                </a:lnTo>
                <a:lnTo>
                  <a:pt x="1097" y="486"/>
                </a:lnTo>
                <a:lnTo>
                  <a:pt x="1086" y="531"/>
                </a:lnTo>
                <a:lnTo>
                  <a:pt x="1063" y="577"/>
                </a:lnTo>
                <a:lnTo>
                  <a:pt x="1040" y="622"/>
                </a:lnTo>
                <a:lnTo>
                  <a:pt x="1018" y="667"/>
                </a:lnTo>
                <a:lnTo>
                  <a:pt x="995" y="724"/>
                </a:lnTo>
                <a:lnTo>
                  <a:pt x="973" y="780"/>
                </a:lnTo>
                <a:lnTo>
                  <a:pt x="950" y="848"/>
                </a:lnTo>
                <a:lnTo>
                  <a:pt x="803" y="848"/>
                </a:lnTo>
                <a:lnTo>
                  <a:pt x="826" y="791"/>
                </a:lnTo>
                <a:lnTo>
                  <a:pt x="837" y="746"/>
                </a:lnTo>
                <a:lnTo>
                  <a:pt x="848" y="701"/>
                </a:lnTo>
                <a:lnTo>
                  <a:pt x="859" y="656"/>
                </a:lnTo>
                <a:lnTo>
                  <a:pt x="871" y="611"/>
                </a:lnTo>
                <a:lnTo>
                  <a:pt x="871" y="577"/>
                </a:lnTo>
                <a:lnTo>
                  <a:pt x="882" y="543"/>
                </a:lnTo>
                <a:lnTo>
                  <a:pt x="893" y="509"/>
                </a:lnTo>
                <a:lnTo>
                  <a:pt x="893" y="475"/>
                </a:lnTo>
                <a:lnTo>
                  <a:pt x="905" y="441"/>
                </a:lnTo>
                <a:lnTo>
                  <a:pt x="905" y="418"/>
                </a:lnTo>
                <a:lnTo>
                  <a:pt x="916" y="396"/>
                </a:lnTo>
                <a:lnTo>
                  <a:pt x="916" y="373"/>
                </a:lnTo>
                <a:lnTo>
                  <a:pt x="916" y="362"/>
                </a:lnTo>
                <a:lnTo>
                  <a:pt x="916" y="351"/>
                </a:lnTo>
                <a:lnTo>
                  <a:pt x="916" y="339"/>
                </a:lnTo>
                <a:lnTo>
                  <a:pt x="916" y="305"/>
                </a:lnTo>
                <a:lnTo>
                  <a:pt x="916" y="283"/>
                </a:lnTo>
                <a:lnTo>
                  <a:pt x="905" y="260"/>
                </a:lnTo>
                <a:lnTo>
                  <a:pt x="905" y="249"/>
                </a:lnTo>
                <a:lnTo>
                  <a:pt x="893" y="23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7"/>
          <p:cNvSpPr/>
          <p:nvPr/>
        </p:nvSpPr>
        <p:spPr>
          <a:xfrm>
            <a:off x="6342120" y="3933720"/>
            <a:ext cx="660240" cy="154080"/>
          </a:xfrm>
          <a:custGeom>
            <a:avLst/>
            <a:gdLst>
              <a:gd name="textAreaLeft" fmla="*/ 0 w 660240"/>
              <a:gd name="textAreaRight" fmla="*/ 660600 w 6602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040" h="237">
                <a:moveTo>
                  <a:pt x="1006" y="45"/>
                </a:moveTo>
                <a:lnTo>
                  <a:pt x="1018" y="56"/>
                </a:lnTo>
                <a:lnTo>
                  <a:pt x="1040" y="79"/>
                </a:lnTo>
                <a:lnTo>
                  <a:pt x="1040" y="101"/>
                </a:lnTo>
                <a:lnTo>
                  <a:pt x="1040" y="124"/>
                </a:lnTo>
                <a:lnTo>
                  <a:pt x="1040" y="135"/>
                </a:lnTo>
                <a:lnTo>
                  <a:pt x="1029" y="147"/>
                </a:lnTo>
                <a:lnTo>
                  <a:pt x="1018" y="158"/>
                </a:lnTo>
                <a:lnTo>
                  <a:pt x="995" y="158"/>
                </a:lnTo>
                <a:lnTo>
                  <a:pt x="984" y="158"/>
                </a:lnTo>
                <a:lnTo>
                  <a:pt x="972" y="158"/>
                </a:lnTo>
                <a:lnTo>
                  <a:pt x="961" y="158"/>
                </a:lnTo>
                <a:lnTo>
                  <a:pt x="938" y="158"/>
                </a:lnTo>
                <a:lnTo>
                  <a:pt x="927" y="169"/>
                </a:lnTo>
                <a:lnTo>
                  <a:pt x="904" y="169"/>
                </a:lnTo>
                <a:lnTo>
                  <a:pt x="882" y="169"/>
                </a:lnTo>
                <a:lnTo>
                  <a:pt x="848" y="169"/>
                </a:lnTo>
                <a:lnTo>
                  <a:pt x="825" y="169"/>
                </a:lnTo>
                <a:lnTo>
                  <a:pt x="791" y="180"/>
                </a:lnTo>
                <a:lnTo>
                  <a:pt x="746" y="180"/>
                </a:lnTo>
                <a:lnTo>
                  <a:pt x="712" y="180"/>
                </a:lnTo>
                <a:lnTo>
                  <a:pt x="667" y="192"/>
                </a:lnTo>
                <a:lnTo>
                  <a:pt x="622" y="192"/>
                </a:lnTo>
                <a:lnTo>
                  <a:pt x="577" y="192"/>
                </a:lnTo>
                <a:lnTo>
                  <a:pt x="531" y="203"/>
                </a:lnTo>
                <a:lnTo>
                  <a:pt x="475" y="203"/>
                </a:lnTo>
                <a:lnTo>
                  <a:pt x="430" y="214"/>
                </a:lnTo>
                <a:lnTo>
                  <a:pt x="373" y="214"/>
                </a:lnTo>
                <a:lnTo>
                  <a:pt x="328" y="214"/>
                </a:lnTo>
                <a:lnTo>
                  <a:pt x="294" y="226"/>
                </a:lnTo>
                <a:lnTo>
                  <a:pt x="249" y="226"/>
                </a:lnTo>
                <a:lnTo>
                  <a:pt x="215" y="226"/>
                </a:lnTo>
                <a:lnTo>
                  <a:pt x="181" y="226"/>
                </a:lnTo>
                <a:lnTo>
                  <a:pt x="147" y="237"/>
                </a:lnTo>
                <a:lnTo>
                  <a:pt x="124" y="237"/>
                </a:lnTo>
                <a:lnTo>
                  <a:pt x="90" y="237"/>
                </a:lnTo>
                <a:lnTo>
                  <a:pt x="68" y="237"/>
                </a:lnTo>
                <a:lnTo>
                  <a:pt x="45" y="237"/>
                </a:lnTo>
                <a:lnTo>
                  <a:pt x="34" y="237"/>
                </a:lnTo>
                <a:lnTo>
                  <a:pt x="11" y="237"/>
                </a:lnTo>
                <a:lnTo>
                  <a:pt x="0" y="237"/>
                </a:lnTo>
                <a:lnTo>
                  <a:pt x="0" y="124"/>
                </a:lnTo>
                <a:lnTo>
                  <a:pt x="57" y="113"/>
                </a:lnTo>
                <a:lnTo>
                  <a:pt x="113" y="113"/>
                </a:lnTo>
                <a:lnTo>
                  <a:pt x="170" y="101"/>
                </a:lnTo>
                <a:lnTo>
                  <a:pt x="226" y="101"/>
                </a:lnTo>
                <a:lnTo>
                  <a:pt x="294" y="90"/>
                </a:lnTo>
                <a:lnTo>
                  <a:pt x="362" y="79"/>
                </a:lnTo>
                <a:lnTo>
                  <a:pt x="430" y="67"/>
                </a:lnTo>
                <a:lnTo>
                  <a:pt x="509" y="56"/>
                </a:lnTo>
                <a:lnTo>
                  <a:pt x="577" y="33"/>
                </a:lnTo>
                <a:lnTo>
                  <a:pt x="644" y="22"/>
                </a:lnTo>
                <a:lnTo>
                  <a:pt x="701" y="22"/>
                </a:lnTo>
                <a:lnTo>
                  <a:pt x="746" y="11"/>
                </a:lnTo>
                <a:lnTo>
                  <a:pt x="791" y="11"/>
                </a:lnTo>
                <a:lnTo>
                  <a:pt x="837" y="0"/>
                </a:lnTo>
                <a:lnTo>
                  <a:pt x="871" y="0"/>
                </a:lnTo>
                <a:lnTo>
                  <a:pt x="893" y="0"/>
                </a:lnTo>
                <a:lnTo>
                  <a:pt x="927" y="0"/>
                </a:lnTo>
                <a:lnTo>
                  <a:pt x="961" y="11"/>
                </a:lnTo>
                <a:lnTo>
                  <a:pt x="984" y="22"/>
                </a:lnTo>
                <a:lnTo>
                  <a:pt x="1006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际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4"/>
          <p:cNvSpPr/>
          <p:nvPr/>
        </p:nvSpPr>
        <p:spPr>
          <a:xfrm>
            <a:off x="1447920" y="2075040"/>
            <a:ext cx="95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42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36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高度基本相同，“小”的两点要呼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7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8"/>
          <p:cNvSpPr/>
          <p:nvPr/>
        </p:nvSpPr>
        <p:spPr>
          <a:xfrm>
            <a:off x="898560" y="4646520"/>
            <a:ext cx="334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际  无边无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9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终于见到了无边无际的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7"/>
          <p:cNvSpPr/>
          <p:nvPr/>
        </p:nvSpPr>
        <p:spPr>
          <a:xfrm>
            <a:off x="33476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9"/>
          <p:cNvSpPr/>
          <p:nvPr/>
        </p:nvSpPr>
        <p:spPr>
          <a:xfrm>
            <a:off x="5695920" y="2263680"/>
            <a:ext cx="509760" cy="1046160"/>
          </a:xfrm>
          <a:custGeom>
            <a:avLst/>
            <a:gdLst>
              <a:gd name="textAreaLeft" fmla="*/ 0 w 509760"/>
              <a:gd name="textAreaRight" fmla="*/ 510120 w 50976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03" h="1606">
                <a:moveTo>
                  <a:pt x="622" y="1515"/>
                </a:moveTo>
                <a:lnTo>
                  <a:pt x="611" y="1538"/>
                </a:lnTo>
                <a:lnTo>
                  <a:pt x="588" y="1549"/>
                </a:lnTo>
                <a:lnTo>
                  <a:pt x="577" y="1572"/>
                </a:lnTo>
                <a:lnTo>
                  <a:pt x="566" y="1583"/>
                </a:lnTo>
                <a:lnTo>
                  <a:pt x="566" y="1594"/>
                </a:lnTo>
                <a:lnTo>
                  <a:pt x="554" y="1594"/>
                </a:lnTo>
                <a:lnTo>
                  <a:pt x="543" y="1606"/>
                </a:lnTo>
                <a:lnTo>
                  <a:pt x="532" y="1606"/>
                </a:lnTo>
                <a:lnTo>
                  <a:pt x="521" y="1606"/>
                </a:lnTo>
                <a:lnTo>
                  <a:pt x="509" y="1594"/>
                </a:lnTo>
                <a:lnTo>
                  <a:pt x="498" y="1583"/>
                </a:lnTo>
                <a:lnTo>
                  <a:pt x="487" y="1572"/>
                </a:lnTo>
                <a:lnTo>
                  <a:pt x="475" y="1549"/>
                </a:lnTo>
                <a:lnTo>
                  <a:pt x="475" y="1538"/>
                </a:lnTo>
                <a:lnTo>
                  <a:pt x="464" y="1515"/>
                </a:lnTo>
                <a:lnTo>
                  <a:pt x="464" y="1493"/>
                </a:lnTo>
                <a:lnTo>
                  <a:pt x="453" y="1481"/>
                </a:lnTo>
                <a:lnTo>
                  <a:pt x="441" y="1459"/>
                </a:lnTo>
                <a:lnTo>
                  <a:pt x="430" y="1447"/>
                </a:lnTo>
                <a:lnTo>
                  <a:pt x="396" y="1413"/>
                </a:lnTo>
                <a:lnTo>
                  <a:pt x="351" y="1380"/>
                </a:lnTo>
                <a:lnTo>
                  <a:pt x="328" y="1357"/>
                </a:lnTo>
                <a:lnTo>
                  <a:pt x="317" y="1346"/>
                </a:lnTo>
                <a:lnTo>
                  <a:pt x="294" y="1334"/>
                </a:lnTo>
                <a:lnTo>
                  <a:pt x="283" y="1323"/>
                </a:lnTo>
                <a:lnTo>
                  <a:pt x="272" y="1312"/>
                </a:lnTo>
                <a:lnTo>
                  <a:pt x="260" y="1300"/>
                </a:lnTo>
                <a:lnTo>
                  <a:pt x="260" y="1289"/>
                </a:lnTo>
                <a:lnTo>
                  <a:pt x="249" y="1278"/>
                </a:lnTo>
                <a:lnTo>
                  <a:pt x="260" y="1278"/>
                </a:lnTo>
                <a:lnTo>
                  <a:pt x="272" y="1278"/>
                </a:lnTo>
                <a:lnTo>
                  <a:pt x="283" y="1278"/>
                </a:lnTo>
                <a:lnTo>
                  <a:pt x="306" y="1278"/>
                </a:lnTo>
                <a:lnTo>
                  <a:pt x="317" y="1278"/>
                </a:lnTo>
                <a:lnTo>
                  <a:pt x="340" y="1278"/>
                </a:lnTo>
                <a:lnTo>
                  <a:pt x="385" y="1278"/>
                </a:lnTo>
                <a:lnTo>
                  <a:pt x="419" y="1266"/>
                </a:lnTo>
                <a:lnTo>
                  <a:pt x="453" y="1266"/>
                </a:lnTo>
                <a:lnTo>
                  <a:pt x="464" y="1255"/>
                </a:lnTo>
                <a:lnTo>
                  <a:pt x="475" y="1255"/>
                </a:lnTo>
                <a:lnTo>
                  <a:pt x="475" y="1233"/>
                </a:lnTo>
                <a:lnTo>
                  <a:pt x="475" y="1221"/>
                </a:lnTo>
                <a:lnTo>
                  <a:pt x="464" y="1187"/>
                </a:lnTo>
                <a:lnTo>
                  <a:pt x="464" y="1165"/>
                </a:lnTo>
                <a:lnTo>
                  <a:pt x="453" y="1120"/>
                </a:lnTo>
                <a:lnTo>
                  <a:pt x="430" y="1086"/>
                </a:lnTo>
                <a:lnTo>
                  <a:pt x="419" y="1029"/>
                </a:lnTo>
                <a:lnTo>
                  <a:pt x="396" y="984"/>
                </a:lnTo>
                <a:lnTo>
                  <a:pt x="385" y="939"/>
                </a:lnTo>
                <a:lnTo>
                  <a:pt x="374" y="905"/>
                </a:lnTo>
                <a:lnTo>
                  <a:pt x="362" y="871"/>
                </a:lnTo>
                <a:lnTo>
                  <a:pt x="362" y="837"/>
                </a:lnTo>
                <a:lnTo>
                  <a:pt x="351" y="814"/>
                </a:lnTo>
                <a:lnTo>
                  <a:pt x="351" y="803"/>
                </a:lnTo>
                <a:lnTo>
                  <a:pt x="351" y="792"/>
                </a:lnTo>
                <a:lnTo>
                  <a:pt x="362" y="780"/>
                </a:lnTo>
                <a:lnTo>
                  <a:pt x="362" y="769"/>
                </a:lnTo>
                <a:lnTo>
                  <a:pt x="362" y="746"/>
                </a:lnTo>
                <a:lnTo>
                  <a:pt x="374" y="713"/>
                </a:lnTo>
                <a:lnTo>
                  <a:pt x="385" y="679"/>
                </a:lnTo>
                <a:lnTo>
                  <a:pt x="396" y="633"/>
                </a:lnTo>
                <a:lnTo>
                  <a:pt x="419" y="577"/>
                </a:lnTo>
                <a:lnTo>
                  <a:pt x="430" y="520"/>
                </a:lnTo>
                <a:lnTo>
                  <a:pt x="453" y="464"/>
                </a:lnTo>
                <a:lnTo>
                  <a:pt x="464" y="407"/>
                </a:lnTo>
                <a:lnTo>
                  <a:pt x="475" y="362"/>
                </a:lnTo>
                <a:lnTo>
                  <a:pt x="487" y="328"/>
                </a:lnTo>
                <a:lnTo>
                  <a:pt x="498" y="294"/>
                </a:lnTo>
                <a:lnTo>
                  <a:pt x="498" y="272"/>
                </a:lnTo>
                <a:lnTo>
                  <a:pt x="498" y="260"/>
                </a:lnTo>
                <a:lnTo>
                  <a:pt x="498" y="249"/>
                </a:lnTo>
                <a:lnTo>
                  <a:pt x="487" y="249"/>
                </a:lnTo>
                <a:lnTo>
                  <a:pt x="475" y="249"/>
                </a:lnTo>
                <a:lnTo>
                  <a:pt x="464" y="249"/>
                </a:lnTo>
                <a:lnTo>
                  <a:pt x="441" y="249"/>
                </a:lnTo>
                <a:lnTo>
                  <a:pt x="419" y="260"/>
                </a:lnTo>
                <a:lnTo>
                  <a:pt x="385" y="272"/>
                </a:lnTo>
                <a:lnTo>
                  <a:pt x="351" y="283"/>
                </a:lnTo>
                <a:lnTo>
                  <a:pt x="317" y="294"/>
                </a:lnTo>
                <a:lnTo>
                  <a:pt x="283" y="317"/>
                </a:lnTo>
                <a:lnTo>
                  <a:pt x="238" y="328"/>
                </a:lnTo>
                <a:lnTo>
                  <a:pt x="204" y="339"/>
                </a:lnTo>
                <a:lnTo>
                  <a:pt x="170" y="339"/>
                </a:lnTo>
                <a:lnTo>
                  <a:pt x="91" y="351"/>
                </a:lnTo>
                <a:lnTo>
                  <a:pt x="0" y="351"/>
                </a:lnTo>
                <a:lnTo>
                  <a:pt x="0" y="238"/>
                </a:lnTo>
                <a:lnTo>
                  <a:pt x="57" y="238"/>
                </a:lnTo>
                <a:lnTo>
                  <a:pt x="102" y="226"/>
                </a:lnTo>
                <a:lnTo>
                  <a:pt x="147" y="226"/>
                </a:lnTo>
                <a:lnTo>
                  <a:pt x="193" y="215"/>
                </a:lnTo>
                <a:lnTo>
                  <a:pt x="272" y="192"/>
                </a:lnTo>
                <a:lnTo>
                  <a:pt x="306" y="181"/>
                </a:lnTo>
                <a:lnTo>
                  <a:pt x="340" y="159"/>
                </a:lnTo>
                <a:lnTo>
                  <a:pt x="374" y="147"/>
                </a:lnTo>
                <a:lnTo>
                  <a:pt x="407" y="125"/>
                </a:lnTo>
                <a:lnTo>
                  <a:pt x="430" y="113"/>
                </a:lnTo>
                <a:lnTo>
                  <a:pt x="453" y="91"/>
                </a:lnTo>
                <a:lnTo>
                  <a:pt x="464" y="79"/>
                </a:lnTo>
                <a:lnTo>
                  <a:pt x="487" y="68"/>
                </a:lnTo>
                <a:lnTo>
                  <a:pt x="498" y="57"/>
                </a:lnTo>
                <a:lnTo>
                  <a:pt x="509" y="46"/>
                </a:lnTo>
                <a:lnTo>
                  <a:pt x="521" y="23"/>
                </a:lnTo>
                <a:lnTo>
                  <a:pt x="532" y="12"/>
                </a:lnTo>
                <a:lnTo>
                  <a:pt x="554" y="0"/>
                </a:lnTo>
                <a:lnTo>
                  <a:pt x="566" y="0"/>
                </a:lnTo>
                <a:lnTo>
                  <a:pt x="577" y="0"/>
                </a:lnTo>
                <a:lnTo>
                  <a:pt x="588" y="0"/>
                </a:lnTo>
                <a:lnTo>
                  <a:pt x="611" y="12"/>
                </a:lnTo>
                <a:lnTo>
                  <a:pt x="622" y="23"/>
                </a:lnTo>
                <a:lnTo>
                  <a:pt x="645" y="34"/>
                </a:lnTo>
                <a:lnTo>
                  <a:pt x="667" y="46"/>
                </a:lnTo>
                <a:lnTo>
                  <a:pt x="690" y="68"/>
                </a:lnTo>
                <a:lnTo>
                  <a:pt x="713" y="91"/>
                </a:lnTo>
                <a:lnTo>
                  <a:pt x="724" y="113"/>
                </a:lnTo>
                <a:lnTo>
                  <a:pt x="747" y="136"/>
                </a:lnTo>
                <a:lnTo>
                  <a:pt x="769" y="159"/>
                </a:lnTo>
                <a:lnTo>
                  <a:pt x="781" y="181"/>
                </a:lnTo>
                <a:lnTo>
                  <a:pt x="792" y="192"/>
                </a:lnTo>
                <a:lnTo>
                  <a:pt x="803" y="204"/>
                </a:lnTo>
                <a:lnTo>
                  <a:pt x="803" y="215"/>
                </a:lnTo>
                <a:lnTo>
                  <a:pt x="803" y="226"/>
                </a:lnTo>
                <a:lnTo>
                  <a:pt x="803" y="249"/>
                </a:lnTo>
                <a:lnTo>
                  <a:pt x="792" y="272"/>
                </a:lnTo>
                <a:lnTo>
                  <a:pt x="769" y="294"/>
                </a:lnTo>
                <a:lnTo>
                  <a:pt x="735" y="317"/>
                </a:lnTo>
                <a:lnTo>
                  <a:pt x="713" y="328"/>
                </a:lnTo>
                <a:lnTo>
                  <a:pt x="690" y="351"/>
                </a:lnTo>
                <a:lnTo>
                  <a:pt x="667" y="385"/>
                </a:lnTo>
                <a:lnTo>
                  <a:pt x="645" y="407"/>
                </a:lnTo>
                <a:lnTo>
                  <a:pt x="622" y="453"/>
                </a:lnTo>
                <a:lnTo>
                  <a:pt x="600" y="486"/>
                </a:lnTo>
                <a:lnTo>
                  <a:pt x="577" y="532"/>
                </a:lnTo>
                <a:lnTo>
                  <a:pt x="554" y="577"/>
                </a:lnTo>
                <a:lnTo>
                  <a:pt x="532" y="633"/>
                </a:lnTo>
                <a:lnTo>
                  <a:pt x="509" y="679"/>
                </a:lnTo>
                <a:lnTo>
                  <a:pt x="487" y="713"/>
                </a:lnTo>
                <a:lnTo>
                  <a:pt x="475" y="746"/>
                </a:lnTo>
                <a:lnTo>
                  <a:pt x="464" y="780"/>
                </a:lnTo>
                <a:lnTo>
                  <a:pt x="453" y="803"/>
                </a:lnTo>
                <a:lnTo>
                  <a:pt x="441" y="814"/>
                </a:lnTo>
                <a:lnTo>
                  <a:pt x="441" y="826"/>
                </a:lnTo>
                <a:lnTo>
                  <a:pt x="441" y="837"/>
                </a:lnTo>
                <a:lnTo>
                  <a:pt x="453" y="848"/>
                </a:lnTo>
                <a:lnTo>
                  <a:pt x="464" y="871"/>
                </a:lnTo>
                <a:lnTo>
                  <a:pt x="475" y="893"/>
                </a:lnTo>
                <a:lnTo>
                  <a:pt x="487" y="916"/>
                </a:lnTo>
                <a:lnTo>
                  <a:pt x="498" y="950"/>
                </a:lnTo>
                <a:lnTo>
                  <a:pt x="521" y="984"/>
                </a:lnTo>
                <a:lnTo>
                  <a:pt x="543" y="1018"/>
                </a:lnTo>
                <a:lnTo>
                  <a:pt x="588" y="1097"/>
                </a:lnTo>
                <a:lnTo>
                  <a:pt x="622" y="1165"/>
                </a:lnTo>
                <a:lnTo>
                  <a:pt x="634" y="1199"/>
                </a:lnTo>
                <a:lnTo>
                  <a:pt x="645" y="1233"/>
                </a:lnTo>
                <a:lnTo>
                  <a:pt x="656" y="1255"/>
                </a:lnTo>
                <a:lnTo>
                  <a:pt x="656" y="1289"/>
                </a:lnTo>
                <a:lnTo>
                  <a:pt x="656" y="1357"/>
                </a:lnTo>
                <a:lnTo>
                  <a:pt x="656" y="1413"/>
                </a:lnTo>
                <a:lnTo>
                  <a:pt x="645" y="1470"/>
                </a:lnTo>
                <a:lnTo>
                  <a:pt x="622" y="151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8"/>
          <p:cNvSpPr/>
          <p:nvPr/>
        </p:nvSpPr>
        <p:spPr>
          <a:xfrm>
            <a:off x="5618160" y="2403360"/>
            <a:ext cx="142920" cy="1743120"/>
          </a:xfrm>
          <a:custGeom>
            <a:avLst/>
            <a:gdLst>
              <a:gd name="textAreaLeft" fmla="*/ 0 w 142920"/>
              <a:gd name="textAreaRight" fmla="*/ 143280 w 142920"/>
              <a:gd name="textAreaTop" fmla="*/ 0 h 1743120"/>
              <a:gd name="textAreaBottom" fmla="*/ 1743480 h 1743120"/>
            </a:gdLst>
            <a:ahLst/>
            <a:rect l="textAreaLeft" t="textAreaTop" r="textAreaRight" b="textAreaBottom"/>
            <a:pathLst>
              <a:path w="226" h="2679">
                <a:moveTo>
                  <a:pt x="226" y="23"/>
                </a:moveTo>
                <a:lnTo>
                  <a:pt x="226" y="147"/>
                </a:lnTo>
                <a:lnTo>
                  <a:pt x="226" y="271"/>
                </a:lnTo>
                <a:lnTo>
                  <a:pt x="226" y="396"/>
                </a:lnTo>
                <a:lnTo>
                  <a:pt x="226" y="520"/>
                </a:lnTo>
                <a:lnTo>
                  <a:pt x="226" y="633"/>
                </a:lnTo>
                <a:lnTo>
                  <a:pt x="226" y="746"/>
                </a:lnTo>
                <a:lnTo>
                  <a:pt x="226" y="848"/>
                </a:lnTo>
                <a:lnTo>
                  <a:pt x="226" y="961"/>
                </a:lnTo>
                <a:lnTo>
                  <a:pt x="226" y="1063"/>
                </a:lnTo>
                <a:lnTo>
                  <a:pt x="226" y="1153"/>
                </a:lnTo>
                <a:lnTo>
                  <a:pt x="226" y="1255"/>
                </a:lnTo>
                <a:lnTo>
                  <a:pt x="226" y="1345"/>
                </a:lnTo>
                <a:lnTo>
                  <a:pt x="226" y="1425"/>
                </a:lnTo>
                <a:lnTo>
                  <a:pt x="226" y="1515"/>
                </a:lnTo>
                <a:lnTo>
                  <a:pt x="226" y="1594"/>
                </a:lnTo>
                <a:lnTo>
                  <a:pt x="226" y="1662"/>
                </a:lnTo>
                <a:lnTo>
                  <a:pt x="226" y="1741"/>
                </a:lnTo>
                <a:lnTo>
                  <a:pt x="226" y="1809"/>
                </a:lnTo>
                <a:lnTo>
                  <a:pt x="226" y="1877"/>
                </a:lnTo>
                <a:lnTo>
                  <a:pt x="226" y="1933"/>
                </a:lnTo>
                <a:lnTo>
                  <a:pt x="226" y="2001"/>
                </a:lnTo>
                <a:lnTo>
                  <a:pt x="226" y="2046"/>
                </a:lnTo>
                <a:lnTo>
                  <a:pt x="226" y="2103"/>
                </a:lnTo>
                <a:lnTo>
                  <a:pt x="226" y="2148"/>
                </a:lnTo>
                <a:lnTo>
                  <a:pt x="226" y="2193"/>
                </a:lnTo>
                <a:lnTo>
                  <a:pt x="226" y="2239"/>
                </a:lnTo>
                <a:lnTo>
                  <a:pt x="226" y="2272"/>
                </a:lnTo>
                <a:lnTo>
                  <a:pt x="215" y="2306"/>
                </a:lnTo>
                <a:lnTo>
                  <a:pt x="215" y="2340"/>
                </a:lnTo>
                <a:lnTo>
                  <a:pt x="215" y="2363"/>
                </a:lnTo>
                <a:lnTo>
                  <a:pt x="215" y="2385"/>
                </a:lnTo>
                <a:lnTo>
                  <a:pt x="215" y="2408"/>
                </a:lnTo>
                <a:lnTo>
                  <a:pt x="215" y="2442"/>
                </a:lnTo>
                <a:lnTo>
                  <a:pt x="215" y="2476"/>
                </a:lnTo>
                <a:lnTo>
                  <a:pt x="204" y="2510"/>
                </a:lnTo>
                <a:lnTo>
                  <a:pt x="204" y="2544"/>
                </a:lnTo>
                <a:lnTo>
                  <a:pt x="204" y="2566"/>
                </a:lnTo>
                <a:lnTo>
                  <a:pt x="192" y="2589"/>
                </a:lnTo>
                <a:lnTo>
                  <a:pt x="192" y="2612"/>
                </a:lnTo>
                <a:lnTo>
                  <a:pt x="192" y="2623"/>
                </a:lnTo>
                <a:lnTo>
                  <a:pt x="181" y="2646"/>
                </a:lnTo>
                <a:lnTo>
                  <a:pt x="181" y="2657"/>
                </a:lnTo>
                <a:lnTo>
                  <a:pt x="170" y="2668"/>
                </a:lnTo>
                <a:lnTo>
                  <a:pt x="158" y="2679"/>
                </a:lnTo>
                <a:lnTo>
                  <a:pt x="147" y="2679"/>
                </a:lnTo>
                <a:lnTo>
                  <a:pt x="136" y="2679"/>
                </a:lnTo>
                <a:lnTo>
                  <a:pt x="124" y="2668"/>
                </a:lnTo>
                <a:lnTo>
                  <a:pt x="113" y="2657"/>
                </a:lnTo>
                <a:lnTo>
                  <a:pt x="102" y="2634"/>
                </a:lnTo>
                <a:lnTo>
                  <a:pt x="91" y="2612"/>
                </a:lnTo>
                <a:lnTo>
                  <a:pt x="79" y="2589"/>
                </a:lnTo>
                <a:lnTo>
                  <a:pt x="68" y="2566"/>
                </a:lnTo>
                <a:lnTo>
                  <a:pt x="57" y="2532"/>
                </a:lnTo>
                <a:lnTo>
                  <a:pt x="57" y="2499"/>
                </a:lnTo>
                <a:lnTo>
                  <a:pt x="34" y="2453"/>
                </a:lnTo>
                <a:lnTo>
                  <a:pt x="23" y="2397"/>
                </a:lnTo>
                <a:lnTo>
                  <a:pt x="23" y="2385"/>
                </a:lnTo>
                <a:lnTo>
                  <a:pt x="23" y="2363"/>
                </a:lnTo>
                <a:lnTo>
                  <a:pt x="11" y="2352"/>
                </a:lnTo>
                <a:lnTo>
                  <a:pt x="11" y="2340"/>
                </a:lnTo>
                <a:lnTo>
                  <a:pt x="11" y="2329"/>
                </a:lnTo>
                <a:lnTo>
                  <a:pt x="11" y="2318"/>
                </a:lnTo>
                <a:lnTo>
                  <a:pt x="23" y="2306"/>
                </a:lnTo>
                <a:lnTo>
                  <a:pt x="23" y="2295"/>
                </a:lnTo>
                <a:lnTo>
                  <a:pt x="23" y="2272"/>
                </a:lnTo>
                <a:lnTo>
                  <a:pt x="23" y="2261"/>
                </a:lnTo>
                <a:lnTo>
                  <a:pt x="23" y="2239"/>
                </a:lnTo>
                <a:lnTo>
                  <a:pt x="23" y="2216"/>
                </a:lnTo>
                <a:lnTo>
                  <a:pt x="34" y="2182"/>
                </a:lnTo>
                <a:lnTo>
                  <a:pt x="34" y="2159"/>
                </a:lnTo>
                <a:lnTo>
                  <a:pt x="34" y="2125"/>
                </a:lnTo>
                <a:lnTo>
                  <a:pt x="45" y="2092"/>
                </a:lnTo>
                <a:lnTo>
                  <a:pt x="45" y="2058"/>
                </a:lnTo>
                <a:lnTo>
                  <a:pt x="45" y="2012"/>
                </a:lnTo>
                <a:lnTo>
                  <a:pt x="57" y="1979"/>
                </a:lnTo>
                <a:lnTo>
                  <a:pt x="57" y="1933"/>
                </a:lnTo>
                <a:lnTo>
                  <a:pt x="57" y="1888"/>
                </a:lnTo>
                <a:lnTo>
                  <a:pt x="68" y="1843"/>
                </a:lnTo>
                <a:lnTo>
                  <a:pt x="68" y="1798"/>
                </a:lnTo>
                <a:lnTo>
                  <a:pt x="68" y="1741"/>
                </a:lnTo>
                <a:lnTo>
                  <a:pt x="79" y="1685"/>
                </a:lnTo>
                <a:lnTo>
                  <a:pt x="79" y="1617"/>
                </a:lnTo>
                <a:lnTo>
                  <a:pt x="79" y="1560"/>
                </a:lnTo>
                <a:lnTo>
                  <a:pt x="79" y="1492"/>
                </a:lnTo>
                <a:lnTo>
                  <a:pt x="79" y="1425"/>
                </a:lnTo>
                <a:lnTo>
                  <a:pt x="91" y="1345"/>
                </a:lnTo>
                <a:lnTo>
                  <a:pt x="91" y="1278"/>
                </a:lnTo>
                <a:lnTo>
                  <a:pt x="91" y="1198"/>
                </a:lnTo>
                <a:lnTo>
                  <a:pt x="91" y="1108"/>
                </a:lnTo>
                <a:lnTo>
                  <a:pt x="91" y="1029"/>
                </a:lnTo>
                <a:lnTo>
                  <a:pt x="91" y="938"/>
                </a:lnTo>
                <a:lnTo>
                  <a:pt x="91" y="848"/>
                </a:lnTo>
                <a:lnTo>
                  <a:pt x="91" y="769"/>
                </a:lnTo>
                <a:lnTo>
                  <a:pt x="91" y="690"/>
                </a:lnTo>
                <a:lnTo>
                  <a:pt x="91" y="622"/>
                </a:lnTo>
                <a:lnTo>
                  <a:pt x="91" y="554"/>
                </a:lnTo>
                <a:lnTo>
                  <a:pt x="79" y="486"/>
                </a:lnTo>
                <a:lnTo>
                  <a:pt x="79" y="430"/>
                </a:lnTo>
                <a:lnTo>
                  <a:pt x="79" y="373"/>
                </a:lnTo>
                <a:lnTo>
                  <a:pt x="79" y="328"/>
                </a:lnTo>
                <a:lnTo>
                  <a:pt x="68" y="283"/>
                </a:lnTo>
                <a:lnTo>
                  <a:pt x="68" y="249"/>
                </a:lnTo>
                <a:lnTo>
                  <a:pt x="68" y="215"/>
                </a:lnTo>
                <a:lnTo>
                  <a:pt x="57" y="181"/>
                </a:lnTo>
                <a:lnTo>
                  <a:pt x="57" y="158"/>
                </a:lnTo>
                <a:lnTo>
                  <a:pt x="45" y="136"/>
                </a:lnTo>
                <a:lnTo>
                  <a:pt x="45" y="124"/>
                </a:lnTo>
                <a:lnTo>
                  <a:pt x="23" y="102"/>
                </a:lnTo>
                <a:lnTo>
                  <a:pt x="11" y="79"/>
                </a:lnTo>
                <a:lnTo>
                  <a:pt x="11" y="68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11" y="11"/>
                </a:lnTo>
                <a:lnTo>
                  <a:pt x="23" y="0"/>
                </a:lnTo>
                <a:lnTo>
                  <a:pt x="34" y="0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81" y="11"/>
                </a:lnTo>
                <a:lnTo>
                  <a:pt x="226" y="2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40"/>
          <p:cNvSpPr/>
          <p:nvPr/>
        </p:nvSpPr>
        <p:spPr>
          <a:xfrm>
            <a:off x="6321600" y="2338560"/>
            <a:ext cx="631800" cy="222120"/>
          </a:xfrm>
          <a:custGeom>
            <a:avLst/>
            <a:gdLst>
              <a:gd name="textAreaLeft" fmla="*/ 0 w 631800"/>
              <a:gd name="textAreaRight" fmla="*/ 632160 w 6318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95" h="340">
                <a:moveTo>
                  <a:pt x="384" y="125"/>
                </a:moveTo>
                <a:lnTo>
                  <a:pt x="475" y="91"/>
                </a:lnTo>
                <a:lnTo>
                  <a:pt x="509" y="79"/>
                </a:lnTo>
                <a:lnTo>
                  <a:pt x="554" y="68"/>
                </a:lnTo>
                <a:lnTo>
                  <a:pt x="588" y="57"/>
                </a:lnTo>
                <a:lnTo>
                  <a:pt x="611" y="57"/>
                </a:lnTo>
                <a:lnTo>
                  <a:pt x="644" y="46"/>
                </a:lnTo>
                <a:lnTo>
                  <a:pt x="667" y="34"/>
                </a:lnTo>
                <a:lnTo>
                  <a:pt x="690" y="23"/>
                </a:lnTo>
                <a:lnTo>
                  <a:pt x="712" y="23"/>
                </a:lnTo>
                <a:lnTo>
                  <a:pt x="735" y="12"/>
                </a:lnTo>
                <a:lnTo>
                  <a:pt x="757" y="12"/>
                </a:lnTo>
                <a:lnTo>
                  <a:pt x="769" y="12"/>
                </a:lnTo>
                <a:lnTo>
                  <a:pt x="780" y="0"/>
                </a:lnTo>
                <a:lnTo>
                  <a:pt x="791" y="0"/>
                </a:lnTo>
                <a:lnTo>
                  <a:pt x="814" y="0"/>
                </a:lnTo>
                <a:lnTo>
                  <a:pt x="837" y="12"/>
                </a:lnTo>
                <a:lnTo>
                  <a:pt x="871" y="23"/>
                </a:lnTo>
                <a:lnTo>
                  <a:pt x="916" y="34"/>
                </a:lnTo>
                <a:lnTo>
                  <a:pt x="950" y="57"/>
                </a:lnTo>
                <a:lnTo>
                  <a:pt x="972" y="79"/>
                </a:lnTo>
                <a:lnTo>
                  <a:pt x="984" y="102"/>
                </a:lnTo>
                <a:lnTo>
                  <a:pt x="995" y="136"/>
                </a:lnTo>
                <a:lnTo>
                  <a:pt x="995" y="147"/>
                </a:lnTo>
                <a:lnTo>
                  <a:pt x="984" y="159"/>
                </a:lnTo>
                <a:lnTo>
                  <a:pt x="972" y="170"/>
                </a:lnTo>
                <a:lnTo>
                  <a:pt x="961" y="181"/>
                </a:lnTo>
                <a:lnTo>
                  <a:pt x="950" y="193"/>
                </a:lnTo>
                <a:lnTo>
                  <a:pt x="927" y="193"/>
                </a:lnTo>
                <a:lnTo>
                  <a:pt x="904" y="204"/>
                </a:lnTo>
                <a:lnTo>
                  <a:pt x="882" y="215"/>
                </a:lnTo>
                <a:lnTo>
                  <a:pt x="859" y="226"/>
                </a:lnTo>
                <a:lnTo>
                  <a:pt x="825" y="226"/>
                </a:lnTo>
                <a:lnTo>
                  <a:pt x="791" y="238"/>
                </a:lnTo>
                <a:lnTo>
                  <a:pt x="757" y="249"/>
                </a:lnTo>
                <a:lnTo>
                  <a:pt x="724" y="260"/>
                </a:lnTo>
                <a:lnTo>
                  <a:pt x="690" y="260"/>
                </a:lnTo>
                <a:lnTo>
                  <a:pt x="644" y="272"/>
                </a:lnTo>
                <a:lnTo>
                  <a:pt x="554" y="294"/>
                </a:lnTo>
                <a:lnTo>
                  <a:pt x="475" y="306"/>
                </a:lnTo>
                <a:lnTo>
                  <a:pt x="407" y="328"/>
                </a:lnTo>
                <a:lnTo>
                  <a:pt x="350" y="328"/>
                </a:lnTo>
                <a:lnTo>
                  <a:pt x="294" y="340"/>
                </a:lnTo>
                <a:lnTo>
                  <a:pt x="249" y="340"/>
                </a:lnTo>
                <a:lnTo>
                  <a:pt x="204" y="340"/>
                </a:lnTo>
                <a:lnTo>
                  <a:pt x="181" y="328"/>
                </a:lnTo>
                <a:lnTo>
                  <a:pt x="147" y="328"/>
                </a:lnTo>
                <a:lnTo>
                  <a:pt x="113" y="317"/>
                </a:lnTo>
                <a:lnTo>
                  <a:pt x="90" y="317"/>
                </a:lnTo>
                <a:lnTo>
                  <a:pt x="68" y="306"/>
                </a:lnTo>
                <a:lnTo>
                  <a:pt x="57" y="306"/>
                </a:lnTo>
                <a:lnTo>
                  <a:pt x="45" y="294"/>
                </a:lnTo>
                <a:lnTo>
                  <a:pt x="34" y="283"/>
                </a:lnTo>
                <a:lnTo>
                  <a:pt x="23" y="272"/>
                </a:lnTo>
                <a:lnTo>
                  <a:pt x="11" y="260"/>
                </a:lnTo>
                <a:lnTo>
                  <a:pt x="0" y="249"/>
                </a:lnTo>
                <a:lnTo>
                  <a:pt x="11" y="238"/>
                </a:lnTo>
                <a:lnTo>
                  <a:pt x="11" y="226"/>
                </a:lnTo>
                <a:lnTo>
                  <a:pt x="23" y="226"/>
                </a:lnTo>
                <a:lnTo>
                  <a:pt x="34" y="226"/>
                </a:lnTo>
                <a:lnTo>
                  <a:pt x="45" y="226"/>
                </a:lnTo>
                <a:lnTo>
                  <a:pt x="57" y="215"/>
                </a:lnTo>
                <a:lnTo>
                  <a:pt x="79" y="215"/>
                </a:lnTo>
                <a:lnTo>
                  <a:pt x="90" y="215"/>
                </a:lnTo>
                <a:lnTo>
                  <a:pt x="113" y="204"/>
                </a:lnTo>
                <a:lnTo>
                  <a:pt x="147" y="193"/>
                </a:lnTo>
                <a:lnTo>
                  <a:pt x="170" y="193"/>
                </a:lnTo>
                <a:lnTo>
                  <a:pt x="204" y="181"/>
                </a:lnTo>
                <a:lnTo>
                  <a:pt x="237" y="170"/>
                </a:lnTo>
                <a:lnTo>
                  <a:pt x="271" y="159"/>
                </a:lnTo>
                <a:lnTo>
                  <a:pt x="305" y="147"/>
                </a:lnTo>
                <a:lnTo>
                  <a:pt x="350" y="136"/>
                </a:lnTo>
                <a:lnTo>
                  <a:pt x="384" y="12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41"/>
          <p:cNvSpPr/>
          <p:nvPr/>
        </p:nvSpPr>
        <p:spPr>
          <a:xfrm>
            <a:off x="6105600" y="2787480"/>
            <a:ext cx="1104840" cy="263520"/>
          </a:xfrm>
          <a:custGeom>
            <a:avLst/>
            <a:gdLst>
              <a:gd name="textAreaLeft" fmla="*/ 0 w 1104840"/>
              <a:gd name="textAreaRight" fmla="*/ 1105200 w 1104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741" h="407">
                <a:moveTo>
                  <a:pt x="1696" y="136"/>
                </a:moveTo>
                <a:lnTo>
                  <a:pt x="1707" y="158"/>
                </a:lnTo>
                <a:lnTo>
                  <a:pt x="1718" y="170"/>
                </a:lnTo>
                <a:lnTo>
                  <a:pt x="1730" y="192"/>
                </a:lnTo>
                <a:lnTo>
                  <a:pt x="1741" y="203"/>
                </a:lnTo>
                <a:lnTo>
                  <a:pt x="1730" y="215"/>
                </a:lnTo>
                <a:lnTo>
                  <a:pt x="1730" y="226"/>
                </a:lnTo>
                <a:lnTo>
                  <a:pt x="1707" y="226"/>
                </a:lnTo>
                <a:lnTo>
                  <a:pt x="1684" y="226"/>
                </a:lnTo>
                <a:lnTo>
                  <a:pt x="1662" y="237"/>
                </a:lnTo>
                <a:lnTo>
                  <a:pt x="1628" y="237"/>
                </a:lnTo>
                <a:lnTo>
                  <a:pt x="1594" y="237"/>
                </a:lnTo>
                <a:lnTo>
                  <a:pt x="1549" y="249"/>
                </a:lnTo>
                <a:lnTo>
                  <a:pt x="1492" y="249"/>
                </a:lnTo>
                <a:lnTo>
                  <a:pt x="1390" y="249"/>
                </a:lnTo>
                <a:lnTo>
                  <a:pt x="1289" y="249"/>
                </a:lnTo>
                <a:lnTo>
                  <a:pt x="1198" y="249"/>
                </a:lnTo>
                <a:lnTo>
                  <a:pt x="1119" y="260"/>
                </a:lnTo>
                <a:lnTo>
                  <a:pt x="1074" y="271"/>
                </a:lnTo>
                <a:lnTo>
                  <a:pt x="1029" y="271"/>
                </a:lnTo>
                <a:lnTo>
                  <a:pt x="983" y="283"/>
                </a:lnTo>
                <a:lnTo>
                  <a:pt x="927" y="294"/>
                </a:lnTo>
                <a:lnTo>
                  <a:pt x="870" y="305"/>
                </a:lnTo>
                <a:lnTo>
                  <a:pt x="803" y="317"/>
                </a:lnTo>
                <a:lnTo>
                  <a:pt x="735" y="339"/>
                </a:lnTo>
                <a:lnTo>
                  <a:pt x="656" y="350"/>
                </a:lnTo>
                <a:lnTo>
                  <a:pt x="576" y="362"/>
                </a:lnTo>
                <a:lnTo>
                  <a:pt x="509" y="384"/>
                </a:lnTo>
                <a:lnTo>
                  <a:pt x="441" y="384"/>
                </a:lnTo>
                <a:lnTo>
                  <a:pt x="384" y="396"/>
                </a:lnTo>
                <a:lnTo>
                  <a:pt x="339" y="407"/>
                </a:lnTo>
                <a:lnTo>
                  <a:pt x="305" y="407"/>
                </a:lnTo>
                <a:lnTo>
                  <a:pt x="271" y="407"/>
                </a:lnTo>
                <a:lnTo>
                  <a:pt x="237" y="407"/>
                </a:lnTo>
                <a:lnTo>
                  <a:pt x="215" y="407"/>
                </a:lnTo>
                <a:lnTo>
                  <a:pt x="192" y="407"/>
                </a:lnTo>
                <a:lnTo>
                  <a:pt x="158" y="396"/>
                </a:lnTo>
                <a:lnTo>
                  <a:pt x="124" y="384"/>
                </a:lnTo>
                <a:lnTo>
                  <a:pt x="102" y="362"/>
                </a:lnTo>
                <a:lnTo>
                  <a:pt x="68" y="339"/>
                </a:lnTo>
                <a:lnTo>
                  <a:pt x="34" y="317"/>
                </a:lnTo>
                <a:lnTo>
                  <a:pt x="0" y="294"/>
                </a:lnTo>
                <a:lnTo>
                  <a:pt x="45" y="271"/>
                </a:lnTo>
                <a:lnTo>
                  <a:pt x="90" y="260"/>
                </a:lnTo>
                <a:lnTo>
                  <a:pt x="136" y="249"/>
                </a:lnTo>
                <a:lnTo>
                  <a:pt x="192" y="249"/>
                </a:lnTo>
                <a:lnTo>
                  <a:pt x="203" y="249"/>
                </a:lnTo>
                <a:lnTo>
                  <a:pt x="215" y="237"/>
                </a:lnTo>
                <a:lnTo>
                  <a:pt x="237" y="237"/>
                </a:lnTo>
                <a:lnTo>
                  <a:pt x="260" y="237"/>
                </a:lnTo>
                <a:lnTo>
                  <a:pt x="283" y="237"/>
                </a:lnTo>
                <a:lnTo>
                  <a:pt x="316" y="226"/>
                </a:lnTo>
                <a:lnTo>
                  <a:pt x="350" y="226"/>
                </a:lnTo>
                <a:lnTo>
                  <a:pt x="384" y="215"/>
                </a:lnTo>
                <a:lnTo>
                  <a:pt x="429" y="203"/>
                </a:lnTo>
                <a:lnTo>
                  <a:pt x="475" y="192"/>
                </a:lnTo>
                <a:lnTo>
                  <a:pt x="531" y="181"/>
                </a:lnTo>
                <a:lnTo>
                  <a:pt x="588" y="181"/>
                </a:lnTo>
                <a:lnTo>
                  <a:pt x="644" y="170"/>
                </a:lnTo>
                <a:lnTo>
                  <a:pt x="701" y="147"/>
                </a:lnTo>
                <a:lnTo>
                  <a:pt x="769" y="136"/>
                </a:lnTo>
                <a:lnTo>
                  <a:pt x="836" y="124"/>
                </a:lnTo>
                <a:lnTo>
                  <a:pt x="916" y="113"/>
                </a:lnTo>
                <a:lnTo>
                  <a:pt x="972" y="102"/>
                </a:lnTo>
                <a:lnTo>
                  <a:pt x="1040" y="90"/>
                </a:lnTo>
                <a:lnTo>
                  <a:pt x="1096" y="79"/>
                </a:lnTo>
                <a:lnTo>
                  <a:pt x="1142" y="68"/>
                </a:lnTo>
                <a:lnTo>
                  <a:pt x="1198" y="56"/>
                </a:lnTo>
                <a:lnTo>
                  <a:pt x="1243" y="45"/>
                </a:lnTo>
                <a:lnTo>
                  <a:pt x="1289" y="34"/>
                </a:lnTo>
                <a:lnTo>
                  <a:pt x="1323" y="34"/>
                </a:lnTo>
                <a:lnTo>
                  <a:pt x="1356" y="23"/>
                </a:lnTo>
                <a:lnTo>
                  <a:pt x="1390" y="11"/>
                </a:lnTo>
                <a:lnTo>
                  <a:pt x="1413" y="11"/>
                </a:lnTo>
                <a:lnTo>
                  <a:pt x="1436" y="11"/>
                </a:lnTo>
                <a:lnTo>
                  <a:pt x="1458" y="11"/>
                </a:lnTo>
                <a:lnTo>
                  <a:pt x="1470" y="0"/>
                </a:lnTo>
                <a:lnTo>
                  <a:pt x="1481" y="0"/>
                </a:lnTo>
                <a:lnTo>
                  <a:pt x="1515" y="11"/>
                </a:lnTo>
                <a:lnTo>
                  <a:pt x="1549" y="11"/>
                </a:lnTo>
                <a:lnTo>
                  <a:pt x="1583" y="23"/>
                </a:lnTo>
                <a:lnTo>
                  <a:pt x="1605" y="34"/>
                </a:lnTo>
                <a:lnTo>
                  <a:pt x="1617" y="45"/>
                </a:lnTo>
                <a:lnTo>
                  <a:pt x="1639" y="45"/>
                </a:lnTo>
                <a:lnTo>
                  <a:pt x="1662" y="79"/>
                </a:lnTo>
                <a:lnTo>
                  <a:pt x="1673" y="102"/>
                </a:lnTo>
                <a:lnTo>
                  <a:pt x="169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42"/>
          <p:cNvSpPr/>
          <p:nvPr/>
        </p:nvSpPr>
        <p:spPr>
          <a:xfrm>
            <a:off x="6105600" y="3309840"/>
            <a:ext cx="207720" cy="506520"/>
          </a:xfrm>
          <a:custGeom>
            <a:avLst/>
            <a:gdLst>
              <a:gd name="textAreaLeft" fmla="*/ 0 w 207720"/>
              <a:gd name="textAreaRight" fmla="*/ 208080 w 20772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328" h="780">
                <a:moveTo>
                  <a:pt x="305" y="56"/>
                </a:moveTo>
                <a:lnTo>
                  <a:pt x="305" y="90"/>
                </a:lnTo>
                <a:lnTo>
                  <a:pt x="316" y="135"/>
                </a:lnTo>
                <a:lnTo>
                  <a:pt x="316" y="169"/>
                </a:lnTo>
                <a:lnTo>
                  <a:pt x="328" y="192"/>
                </a:lnTo>
                <a:lnTo>
                  <a:pt x="328" y="226"/>
                </a:lnTo>
                <a:lnTo>
                  <a:pt x="328" y="282"/>
                </a:lnTo>
                <a:lnTo>
                  <a:pt x="328" y="350"/>
                </a:lnTo>
                <a:lnTo>
                  <a:pt x="316" y="407"/>
                </a:lnTo>
                <a:lnTo>
                  <a:pt x="294" y="474"/>
                </a:lnTo>
                <a:lnTo>
                  <a:pt x="260" y="542"/>
                </a:lnTo>
                <a:lnTo>
                  <a:pt x="237" y="599"/>
                </a:lnTo>
                <a:lnTo>
                  <a:pt x="203" y="655"/>
                </a:lnTo>
                <a:lnTo>
                  <a:pt x="181" y="701"/>
                </a:lnTo>
                <a:lnTo>
                  <a:pt x="158" y="723"/>
                </a:lnTo>
                <a:lnTo>
                  <a:pt x="136" y="746"/>
                </a:lnTo>
                <a:lnTo>
                  <a:pt x="124" y="757"/>
                </a:lnTo>
                <a:lnTo>
                  <a:pt x="113" y="768"/>
                </a:lnTo>
                <a:lnTo>
                  <a:pt x="90" y="780"/>
                </a:lnTo>
                <a:lnTo>
                  <a:pt x="79" y="780"/>
                </a:lnTo>
                <a:lnTo>
                  <a:pt x="68" y="780"/>
                </a:lnTo>
                <a:lnTo>
                  <a:pt x="45" y="780"/>
                </a:lnTo>
                <a:lnTo>
                  <a:pt x="34" y="768"/>
                </a:lnTo>
                <a:lnTo>
                  <a:pt x="22" y="757"/>
                </a:lnTo>
                <a:lnTo>
                  <a:pt x="22" y="746"/>
                </a:lnTo>
                <a:lnTo>
                  <a:pt x="11" y="734"/>
                </a:lnTo>
                <a:lnTo>
                  <a:pt x="11" y="712"/>
                </a:lnTo>
                <a:lnTo>
                  <a:pt x="0" y="701"/>
                </a:lnTo>
                <a:lnTo>
                  <a:pt x="0" y="667"/>
                </a:lnTo>
                <a:lnTo>
                  <a:pt x="0" y="644"/>
                </a:lnTo>
                <a:lnTo>
                  <a:pt x="0" y="621"/>
                </a:lnTo>
                <a:lnTo>
                  <a:pt x="0" y="588"/>
                </a:lnTo>
                <a:lnTo>
                  <a:pt x="0" y="565"/>
                </a:lnTo>
                <a:lnTo>
                  <a:pt x="11" y="542"/>
                </a:lnTo>
                <a:lnTo>
                  <a:pt x="22" y="520"/>
                </a:lnTo>
                <a:lnTo>
                  <a:pt x="34" y="497"/>
                </a:lnTo>
                <a:lnTo>
                  <a:pt x="45" y="474"/>
                </a:lnTo>
                <a:lnTo>
                  <a:pt x="68" y="452"/>
                </a:lnTo>
                <a:lnTo>
                  <a:pt x="79" y="429"/>
                </a:lnTo>
                <a:lnTo>
                  <a:pt x="102" y="407"/>
                </a:lnTo>
                <a:lnTo>
                  <a:pt x="113" y="384"/>
                </a:lnTo>
                <a:lnTo>
                  <a:pt x="136" y="350"/>
                </a:lnTo>
                <a:lnTo>
                  <a:pt x="147" y="316"/>
                </a:lnTo>
                <a:lnTo>
                  <a:pt x="158" y="282"/>
                </a:lnTo>
                <a:lnTo>
                  <a:pt x="169" y="237"/>
                </a:lnTo>
                <a:lnTo>
                  <a:pt x="192" y="192"/>
                </a:lnTo>
                <a:lnTo>
                  <a:pt x="203" y="147"/>
                </a:lnTo>
                <a:lnTo>
                  <a:pt x="215" y="113"/>
                </a:lnTo>
                <a:lnTo>
                  <a:pt x="226" y="79"/>
                </a:lnTo>
                <a:lnTo>
                  <a:pt x="237" y="56"/>
                </a:lnTo>
                <a:lnTo>
                  <a:pt x="249" y="34"/>
                </a:lnTo>
                <a:lnTo>
                  <a:pt x="249" y="22"/>
                </a:lnTo>
                <a:lnTo>
                  <a:pt x="260" y="11"/>
                </a:lnTo>
                <a:lnTo>
                  <a:pt x="260" y="0"/>
                </a:lnTo>
                <a:lnTo>
                  <a:pt x="271" y="0"/>
                </a:lnTo>
                <a:lnTo>
                  <a:pt x="283" y="11"/>
                </a:lnTo>
                <a:lnTo>
                  <a:pt x="283" y="22"/>
                </a:lnTo>
                <a:lnTo>
                  <a:pt x="294" y="34"/>
                </a:lnTo>
                <a:lnTo>
                  <a:pt x="294" y="45"/>
                </a:lnTo>
                <a:lnTo>
                  <a:pt x="305" y="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43"/>
          <p:cNvSpPr/>
          <p:nvPr/>
        </p:nvSpPr>
        <p:spPr>
          <a:xfrm>
            <a:off x="6823080" y="3338640"/>
            <a:ext cx="423720" cy="425160"/>
          </a:xfrm>
          <a:custGeom>
            <a:avLst/>
            <a:gdLst>
              <a:gd name="textAreaLeft" fmla="*/ 0 w 423720"/>
              <a:gd name="textAreaRight" fmla="*/ 424080 w 42372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667" h="656">
                <a:moveTo>
                  <a:pt x="667" y="520"/>
                </a:moveTo>
                <a:lnTo>
                  <a:pt x="667" y="554"/>
                </a:lnTo>
                <a:lnTo>
                  <a:pt x="656" y="588"/>
                </a:lnTo>
                <a:lnTo>
                  <a:pt x="656" y="610"/>
                </a:lnTo>
                <a:lnTo>
                  <a:pt x="645" y="633"/>
                </a:lnTo>
                <a:lnTo>
                  <a:pt x="633" y="644"/>
                </a:lnTo>
                <a:lnTo>
                  <a:pt x="622" y="644"/>
                </a:lnTo>
                <a:lnTo>
                  <a:pt x="611" y="656"/>
                </a:lnTo>
                <a:lnTo>
                  <a:pt x="600" y="656"/>
                </a:lnTo>
                <a:lnTo>
                  <a:pt x="577" y="656"/>
                </a:lnTo>
                <a:lnTo>
                  <a:pt x="554" y="644"/>
                </a:lnTo>
                <a:lnTo>
                  <a:pt x="532" y="633"/>
                </a:lnTo>
                <a:lnTo>
                  <a:pt x="509" y="622"/>
                </a:lnTo>
                <a:lnTo>
                  <a:pt x="487" y="599"/>
                </a:lnTo>
                <a:lnTo>
                  <a:pt x="453" y="565"/>
                </a:lnTo>
                <a:lnTo>
                  <a:pt x="407" y="520"/>
                </a:lnTo>
                <a:lnTo>
                  <a:pt x="362" y="475"/>
                </a:lnTo>
                <a:lnTo>
                  <a:pt x="340" y="441"/>
                </a:lnTo>
                <a:lnTo>
                  <a:pt x="306" y="418"/>
                </a:lnTo>
                <a:lnTo>
                  <a:pt x="283" y="384"/>
                </a:lnTo>
                <a:lnTo>
                  <a:pt x="249" y="339"/>
                </a:lnTo>
                <a:lnTo>
                  <a:pt x="193" y="282"/>
                </a:lnTo>
                <a:lnTo>
                  <a:pt x="147" y="226"/>
                </a:lnTo>
                <a:lnTo>
                  <a:pt x="102" y="169"/>
                </a:lnTo>
                <a:lnTo>
                  <a:pt x="68" y="136"/>
                </a:lnTo>
                <a:lnTo>
                  <a:pt x="34" y="102"/>
                </a:lnTo>
                <a:lnTo>
                  <a:pt x="23" y="68"/>
                </a:lnTo>
                <a:lnTo>
                  <a:pt x="0" y="56"/>
                </a:lnTo>
                <a:lnTo>
                  <a:pt x="0" y="45"/>
                </a:lnTo>
                <a:lnTo>
                  <a:pt x="0" y="34"/>
                </a:lnTo>
                <a:lnTo>
                  <a:pt x="12" y="34"/>
                </a:lnTo>
                <a:lnTo>
                  <a:pt x="12" y="22"/>
                </a:lnTo>
                <a:lnTo>
                  <a:pt x="23" y="11"/>
                </a:lnTo>
                <a:lnTo>
                  <a:pt x="34" y="0"/>
                </a:lnTo>
                <a:lnTo>
                  <a:pt x="57" y="0"/>
                </a:lnTo>
                <a:lnTo>
                  <a:pt x="80" y="0"/>
                </a:lnTo>
                <a:lnTo>
                  <a:pt x="102" y="11"/>
                </a:lnTo>
                <a:lnTo>
                  <a:pt x="113" y="22"/>
                </a:lnTo>
                <a:lnTo>
                  <a:pt x="136" y="22"/>
                </a:lnTo>
                <a:lnTo>
                  <a:pt x="170" y="34"/>
                </a:lnTo>
                <a:lnTo>
                  <a:pt x="193" y="45"/>
                </a:lnTo>
                <a:lnTo>
                  <a:pt x="226" y="68"/>
                </a:lnTo>
                <a:lnTo>
                  <a:pt x="260" y="79"/>
                </a:lnTo>
                <a:lnTo>
                  <a:pt x="306" y="102"/>
                </a:lnTo>
                <a:lnTo>
                  <a:pt x="351" y="113"/>
                </a:lnTo>
                <a:lnTo>
                  <a:pt x="396" y="147"/>
                </a:lnTo>
                <a:lnTo>
                  <a:pt x="441" y="169"/>
                </a:lnTo>
                <a:lnTo>
                  <a:pt x="475" y="203"/>
                </a:lnTo>
                <a:lnTo>
                  <a:pt x="509" y="226"/>
                </a:lnTo>
                <a:lnTo>
                  <a:pt x="543" y="260"/>
                </a:lnTo>
                <a:lnTo>
                  <a:pt x="566" y="282"/>
                </a:lnTo>
                <a:lnTo>
                  <a:pt x="588" y="316"/>
                </a:lnTo>
                <a:lnTo>
                  <a:pt x="600" y="339"/>
                </a:lnTo>
                <a:lnTo>
                  <a:pt x="633" y="396"/>
                </a:lnTo>
                <a:lnTo>
                  <a:pt x="645" y="441"/>
                </a:lnTo>
                <a:lnTo>
                  <a:pt x="667" y="486"/>
                </a:lnTo>
                <a:lnTo>
                  <a:pt x="667" y="509"/>
                </a:lnTo>
                <a:lnTo>
                  <a:pt x="667" y="5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44"/>
          <p:cNvSpPr/>
          <p:nvPr/>
        </p:nvSpPr>
        <p:spPr>
          <a:xfrm>
            <a:off x="6335640" y="2919240"/>
            <a:ext cx="379440" cy="1293840"/>
          </a:xfrm>
          <a:custGeom>
            <a:avLst/>
            <a:gdLst>
              <a:gd name="textAreaLeft" fmla="*/ 0 w 379440"/>
              <a:gd name="textAreaRight" fmla="*/ 379800 w 379440"/>
              <a:gd name="textAreaTop" fmla="*/ 0 h 1293840"/>
              <a:gd name="textAreaBottom" fmla="*/ 1294200 h 1293840"/>
            </a:gdLst>
            <a:ahLst/>
            <a:rect l="textAreaLeft" t="textAreaTop" r="textAreaRight" b="textAreaBottom"/>
            <a:pathLst>
              <a:path w="599" h="1990">
                <a:moveTo>
                  <a:pt x="361" y="1470"/>
                </a:moveTo>
                <a:lnTo>
                  <a:pt x="373" y="1436"/>
                </a:lnTo>
                <a:lnTo>
                  <a:pt x="384" y="1391"/>
                </a:lnTo>
                <a:lnTo>
                  <a:pt x="384" y="1346"/>
                </a:lnTo>
                <a:lnTo>
                  <a:pt x="395" y="1289"/>
                </a:lnTo>
                <a:lnTo>
                  <a:pt x="395" y="1221"/>
                </a:lnTo>
                <a:lnTo>
                  <a:pt x="407" y="1142"/>
                </a:lnTo>
                <a:lnTo>
                  <a:pt x="407" y="1097"/>
                </a:lnTo>
                <a:lnTo>
                  <a:pt x="407" y="1052"/>
                </a:lnTo>
                <a:lnTo>
                  <a:pt x="407" y="1007"/>
                </a:lnTo>
                <a:lnTo>
                  <a:pt x="407" y="961"/>
                </a:lnTo>
                <a:lnTo>
                  <a:pt x="407" y="860"/>
                </a:lnTo>
                <a:lnTo>
                  <a:pt x="395" y="747"/>
                </a:lnTo>
                <a:lnTo>
                  <a:pt x="395" y="645"/>
                </a:lnTo>
                <a:lnTo>
                  <a:pt x="384" y="532"/>
                </a:lnTo>
                <a:lnTo>
                  <a:pt x="373" y="407"/>
                </a:lnTo>
                <a:lnTo>
                  <a:pt x="361" y="294"/>
                </a:lnTo>
                <a:lnTo>
                  <a:pt x="350" y="170"/>
                </a:lnTo>
                <a:lnTo>
                  <a:pt x="339" y="46"/>
                </a:lnTo>
                <a:lnTo>
                  <a:pt x="565" y="0"/>
                </a:lnTo>
                <a:lnTo>
                  <a:pt x="576" y="159"/>
                </a:lnTo>
                <a:lnTo>
                  <a:pt x="576" y="317"/>
                </a:lnTo>
                <a:lnTo>
                  <a:pt x="576" y="453"/>
                </a:lnTo>
                <a:lnTo>
                  <a:pt x="588" y="588"/>
                </a:lnTo>
                <a:lnTo>
                  <a:pt x="588" y="713"/>
                </a:lnTo>
                <a:lnTo>
                  <a:pt x="588" y="837"/>
                </a:lnTo>
                <a:lnTo>
                  <a:pt x="588" y="939"/>
                </a:lnTo>
                <a:lnTo>
                  <a:pt x="599" y="1041"/>
                </a:lnTo>
                <a:lnTo>
                  <a:pt x="599" y="1131"/>
                </a:lnTo>
                <a:lnTo>
                  <a:pt x="599" y="1210"/>
                </a:lnTo>
                <a:lnTo>
                  <a:pt x="599" y="1278"/>
                </a:lnTo>
                <a:lnTo>
                  <a:pt x="599" y="1346"/>
                </a:lnTo>
                <a:lnTo>
                  <a:pt x="599" y="1402"/>
                </a:lnTo>
                <a:lnTo>
                  <a:pt x="599" y="1436"/>
                </a:lnTo>
                <a:lnTo>
                  <a:pt x="599" y="1470"/>
                </a:lnTo>
                <a:lnTo>
                  <a:pt x="588" y="1504"/>
                </a:lnTo>
                <a:lnTo>
                  <a:pt x="588" y="1549"/>
                </a:lnTo>
                <a:lnTo>
                  <a:pt x="576" y="1583"/>
                </a:lnTo>
                <a:lnTo>
                  <a:pt x="554" y="1674"/>
                </a:lnTo>
                <a:lnTo>
                  <a:pt x="531" y="1753"/>
                </a:lnTo>
                <a:lnTo>
                  <a:pt x="497" y="1832"/>
                </a:lnTo>
                <a:lnTo>
                  <a:pt x="474" y="1877"/>
                </a:lnTo>
                <a:lnTo>
                  <a:pt x="452" y="1911"/>
                </a:lnTo>
                <a:lnTo>
                  <a:pt x="429" y="1934"/>
                </a:lnTo>
                <a:lnTo>
                  <a:pt x="418" y="1956"/>
                </a:lnTo>
                <a:lnTo>
                  <a:pt x="407" y="1979"/>
                </a:lnTo>
                <a:lnTo>
                  <a:pt x="384" y="1990"/>
                </a:lnTo>
                <a:lnTo>
                  <a:pt x="373" y="1990"/>
                </a:lnTo>
                <a:lnTo>
                  <a:pt x="361" y="1990"/>
                </a:lnTo>
                <a:lnTo>
                  <a:pt x="350" y="1990"/>
                </a:lnTo>
                <a:lnTo>
                  <a:pt x="339" y="1979"/>
                </a:lnTo>
                <a:lnTo>
                  <a:pt x="327" y="1968"/>
                </a:lnTo>
                <a:lnTo>
                  <a:pt x="316" y="1945"/>
                </a:lnTo>
                <a:lnTo>
                  <a:pt x="305" y="1922"/>
                </a:lnTo>
                <a:lnTo>
                  <a:pt x="305" y="1900"/>
                </a:lnTo>
                <a:lnTo>
                  <a:pt x="294" y="1877"/>
                </a:lnTo>
                <a:lnTo>
                  <a:pt x="260" y="1809"/>
                </a:lnTo>
                <a:lnTo>
                  <a:pt x="226" y="1753"/>
                </a:lnTo>
                <a:lnTo>
                  <a:pt x="203" y="1719"/>
                </a:lnTo>
                <a:lnTo>
                  <a:pt x="169" y="1696"/>
                </a:lnTo>
                <a:lnTo>
                  <a:pt x="147" y="1674"/>
                </a:lnTo>
                <a:lnTo>
                  <a:pt x="113" y="1651"/>
                </a:lnTo>
                <a:lnTo>
                  <a:pt x="90" y="1628"/>
                </a:lnTo>
                <a:lnTo>
                  <a:pt x="56" y="1606"/>
                </a:lnTo>
                <a:lnTo>
                  <a:pt x="34" y="1583"/>
                </a:lnTo>
                <a:lnTo>
                  <a:pt x="22" y="1572"/>
                </a:lnTo>
                <a:lnTo>
                  <a:pt x="11" y="1549"/>
                </a:lnTo>
                <a:lnTo>
                  <a:pt x="0" y="1538"/>
                </a:lnTo>
                <a:lnTo>
                  <a:pt x="0" y="1527"/>
                </a:lnTo>
                <a:lnTo>
                  <a:pt x="0" y="1515"/>
                </a:lnTo>
                <a:lnTo>
                  <a:pt x="11" y="1515"/>
                </a:lnTo>
                <a:lnTo>
                  <a:pt x="11" y="1504"/>
                </a:lnTo>
                <a:lnTo>
                  <a:pt x="34" y="1504"/>
                </a:lnTo>
                <a:lnTo>
                  <a:pt x="45" y="1504"/>
                </a:lnTo>
                <a:lnTo>
                  <a:pt x="67" y="1504"/>
                </a:lnTo>
                <a:lnTo>
                  <a:pt x="101" y="1515"/>
                </a:lnTo>
                <a:lnTo>
                  <a:pt x="135" y="1515"/>
                </a:lnTo>
                <a:lnTo>
                  <a:pt x="181" y="1527"/>
                </a:lnTo>
                <a:lnTo>
                  <a:pt x="214" y="1538"/>
                </a:lnTo>
                <a:lnTo>
                  <a:pt x="248" y="1549"/>
                </a:lnTo>
                <a:lnTo>
                  <a:pt x="282" y="1549"/>
                </a:lnTo>
                <a:lnTo>
                  <a:pt x="305" y="1538"/>
                </a:lnTo>
                <a:lnTo>
                  <a:pt x="327" y="1527"/>
                </a:lnTo>
                <a:lnTo>
                  <a:pt x="350" y="1515"/>
                </a:lnTo>
                <a:lnTo>
                  <a:pt x="361" y="1493"/>
                </a:lnTo>
                <a:lnTo>
                  <a:pt x="361" y="14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2"/>
          <p:cNvGrpSpPr/>
          <p:nvPr/>
        </p:nvGrpSpPr>
        <p:grpSpPr>
          <a:xfrm>
            <a:off x="730080" y="1228680"/>
            <a:ext cx="2905200" cy="682560"/>
            <a:chOff x="730080" y="1228680"/>
            <a:chExt cx="2905200" cy="682560"/>
          </a:xfrm>
        </p:grpSpPr>
        <p:sp>
          <p:nvSpPr>
            <p:cNvPr id="267" name="圆角矩形 17"/>
            <p:cNvSpPr/>
            <p:nvPr/>
          </p:nvSpPr>
          <p:spPr>
            <a:xfrm>
              <a:off x="1545840" y="13698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286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文本框 16"/>
            <p:cNvSpPr/>
            <p:nvPr/>
          </p:nvSpPr>
          <p:spPr>
            <a:xfrm>
              <a:off x="1805400" y="1389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55600"/>
            <a:ext cx="2643120" cy="709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71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井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8"/>
          <p:cNvSpPr/>
          <p:nvPr/>
        </p:nvSpPr>
        <p:spPr>
          <a:xfrm>
            <a:off x="1384200" y="2075040"/>
            <a:ext cx="114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ǐ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74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Box 52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横在横中线上，笔画要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53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4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水井  井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55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村里的人们都从这口水井里打水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1"/>
          <p:cNvSpPr/>
          <p:nvPr/>
        </p:nvSpPr>
        <p:spPr>
          <a:xfrm>
            <a:off x="2232000" y="368424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4"/>
          <p:cNvSpPr/>
          <p:nvPr/>
        </p:nvSpPr>
        <p:spPr>
          <a:xfrm>
            <a:off x="555732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7"/>
          <p:cNvSpPr/>
          <p:nvPr/>
        </p:nvSpPr>
        <p:spPr>
          <a:xfrm>
            <a:off x="5837400" y="2662200"/>
            <a:ext cx="1147680" cy="277920"/>
          </a:xfrm>
          <a:custGeom>
            <a:avLst/>
            <a:gdLst>
              <a:gd name="textAreaLeft" fmla="*/ 0 w 1147680"/>
              <a:gd name="textAreaRight" fmla="*/ 1148040 w 1147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808" h="429">
                <a:moveTo>
                  <a:pt x="1266" y="68"/>
                </a:moveTo>
                <a:lnTo>
                  <a:pt x="1322" y="56"/>
                </a:lnTo>
                <a:lnTo>
                  <a:pt x="1379" y="45"/>
                </a:lnTo>
                <a:lnTo>
                  <a:pt x="1424" y="34"/>
                </a:lnTo>
                <a:lnTo>
                  <a:pt x="1469" y="22"/>
                </a:lnTo>
                <a:lnTo>
                  <a:pt x="1503" y="11"/>
                </a:lnTo>
                <a:lnTo>
                  <a:pt x="1537" y="11"/>
                </a:lnTo>
                <a:lnTo>
                  <a:pt x="1571" y="0"/>
                </a:lnTo>
                <a:lnTo>
                  <a:pt x="1594" y="0"/>
                </a:lnTo>
                <a:lnTo>
                  <a:pt x="1628" y="0"/>
                </a:lnTo>
                <a:lnTo>
                  <a:pt x="1661" y="11"/>
                </a:lnTo>
                <a:lnTo>
                  <a:pt x="1707" y="22"/>
                </a:lnTo>
                <a:lnTo>
                  <a:pt x="1741" y="34"/>
                </a:lnTo>
                <a:lnTo>
                  <a:pt x="1763" y="45"/>
                </a:lnTo>
                <a:lnTo>
                  <a:pt x="1786" y="68"/>
                </a:lnTo>
                <a:lnTo>
                  <a:pt x="1797" y="90"/>
                </a:lnTo>
                <a:lnTo>
                  <a:pt x="1808" y="102"/>
                </a:lnTo>
                <a:lnTo>
                  <a:pt x="1797" y="113"/>
                </a:lnTo>
                <a:lnTo>
                  <a:pt x="1786" y="113"/>
                </a:lnTo>
                <a:lnTo>
                  <a:pt x="1775" y="124"/>
                </a:lnTo>
                <a:lnTo>
                  <a:pt x="1752" y="135"/>
                </a:lnTo>
                <a:lnTo>
                  <a:pt x="1729" y="135"/>
                </a:lnTo>
                <a:lnTo>
                  <a:pt x="1695" y="147"/>
                </a:lnTo>
                <a:lnTo>
                  <a:pt x="1650" y="158"/>
                </a:lnTo>
                <a:lnTo>
                  <a:pt x="1605" y="169"/>
                </a:lnTo>
                <a:lnTo>
                  <a:pt x="1560" y="181"/>
                </a:lnTo>
                <a:lnTo>
                  <a:pt x="1503" y="192"/>
                </a:lnTo>
                <a:lnTo>
                  <a:pt x="1435" y="215"/>
                </a:lnTo>
                <a:lnTo>
                  <a:pt x="1368" y="226"/>
                </a:lnTo>
                <a:lnTo>
                  <a:pt x="1288" y="237"/>
                </a:lnTo>
                <a:lnTo>
                  <a:pt x="1209" y="248"/>
                </a:lnTo>
                <a:lnTo>
                  <a:pt x="1130" y="271"/>
                </a:lnTo>
                <a:lnTo>
                  <a:pt x="1028" y="282"/>
                </a:lnTo>
                <a:lnTo>
                  <a:pt x="938" y="305"/>
                </a:lnTo>
                <a:lnTo>
                  <a:pt x="847" y="328"/>
                </a:lnTo>
                <a:lnTo>
                  <a:pt x="768" y="339"/>
                </a:lnTo>
                <a:lnTo>
                  <a:pt x="689" y="350"/>
                </a:lnTo>
                <a:lnTo>
                  <a:pt x="621" y="373"/>
                </a:lnTo>
                <a:lnTo>
                  <a:pt x="554" y="384"/>
                </a:lnTo>
                <a:lnTo>
                  <a:pt x="486" y="395"/>
                </a:lnTo>
                <a:lnTo>
                  <a:pt x="429" y="407"/>
                </a:lnTo>
                <a:lnTo>
                  <a:pt x="373" y="407"/>
                </a:lnTo>
                <a:lnTo>
                  <a:pt x="327" y="418"/>
                </a:lnTo>
                <a:lnTo>
                  <a:pt x="282" y="418"/>
                </a:lnTo>
                <a:lnTo>
                  <a:pt x="248" y="429"/>
                </a:lnTo>
                <a:lnTo>
                  <a:pt x="214" y="429"/>
                </a:lnTo>
                <a:lnTo>
                  <a:pt x="192" y="429"/>
                </a:lnTo>
                <a:lnTo>
                  <a:pt x="169" y="429"/>
                </a:lnTo>
                <a:lnTo>
                  <a:pt x="147" y="429"/>
                </a:lnTo>
                <a:lnTo>
                  <a:pt x="124" y="418"/>
                </a:lnTo>
                <a:lnTo>
                  <a:pt x="101" y="418"/>
                </a:lnTo>
                <a:lnTo>
                  <a:pt x="79" y="418"/>
                </a:lnTo>
                <a:lnTo>
                  <a:pt x="56" y="407"/>
                </a:lnTo>
                <a:lnTo>
                  <a:pt x="45" y="395"/>
                </a:lnTo>
                <a:lnTo>
                  <a:pt x="34" y="395"/>
                </a:lnTo>
                <a:lnTo>
                  <a:pt x="22" y="384"/>
                </a:lnTo>
                <a:lnTo>
                  <a:pt x="11" y="373"/>
                </a:lnTo>
                <a:lnTo>
                  <a:pt x="0" y="373"/>
                </a:lnTo>
                <a:lnTo>
                  <a:pt x="0" y="362"/>
                </a:lnTo>
                <a:lnTo>
                  <a:pt x="11" y="362"/>
                </a:lnTo>
                <a:lnTo>
                  <a:pt x="11" y="350"/>
                </a:lnTo>
                <a:lnTo>
                  <a:pt x="22" y="339"/>
                </a:lnTo>
                <a:lnTo>
                  <a:pt x="45" y="339"/>
                </a:lnTo>
                <a:lnTo>
                  <a:pt x="67" y="328"/>
                </a:lnTo>
                <a:lnTo>
                  <a:pt x="101" y="328"/>
                </a:lnTo>
                <a:lnTo>
                  <a:pt x="124" y="316"/>
                </a:lnTo>
                <a:lnTo>
                  <a:pt x="158" y="316"/>
                </a:lnTo>
                <a:lnTo>
                  <a:pt x="192" y="305"/>
                </a:lnTo>
                <a:lnTo>
                  <a:pt x="226" y="305"/>
                </a:lnTo>
                <a:lnTo>
                  <a:pt x="271" y="294"/>
                </a:lnTo>
                <a:lnTo>
                  <a:pt x="316" y="294"/>
                </a:lnTo>
                <a:lnTo>
                  <a:pt x="361" y="282"/>
                </a:lnTo>
                <a:lnTo>
                  <a:pt x="407" y="271"/>
                </a:lnTo>
                <a:lnTo>
                  <a:pt x="508" y="260"/>
                </a:lnTo>
                <a:lnTo>
                  <a:pt x="621" y="237"/>
                </a:lnTo>
                <a:lnTo>
                  <a:pt x="723" y="215"/>
                </a:lnTo>
                <a:lnTo>
                  <a:pt x="836" y="181"/>
                </a:lnTo>
                <a:lnTo>
                  <a:pt x="938" y="158"/>
                </a:lnTo>
                <a:lnTo>
                  <a:pt x="1051" y="124"/>
                </a:lnTo>
                <a:lnTo>
                  <a:pt x="1266" y="6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9"/>
          <p:cNvSpPr/>
          <p:nvPr/>
        </p:nvSpPr>
        <p:spPr>
          <a:xfrm>
            <a:off x="5572080" y="3110040"/>
            <a:ext cx="1701720" cy="31572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680" h="487">
                <a:moveTo>
                  <a:pt x="68" y="453"/>
                </a:moveTo>
                <a:lnTo>
                  <a:pt x="34" y="430"/>
                </a:lnTo>
                <a:lnTo>
                  <a:pt x="12" y="407"/>
                </a:lnTo>
                <a:lnTo>
                  <a:pt x="0" y="385"/>
                </a:lnTo>
                <a:lnTo>
                  <a:pt x="0" y="373"/>
                </a:lnTo>
                <a:lnTo>
                  <a:pt x="136" y="351"/>
                </a:lnTo>
                <a:lnTo>
                  <a:pt x="260" y="328"/>
                </a:lnTo>
                <a:lnTo>
                  <a:pt x="385" y="306"/>
                </a:lnTo>
                <a:lnTo>
                  <a:pt x="509" y="294"/>
                </a:lnTo>
                <a:lnTo>
                  <a:pt x="611" y="272"/>
                </a:lnTo>
                <a:lnTo>
                  <a:pt x="713" y="260"/>
                </a:lnTo>
                <a:lnTo>
                  <a:pt x="814" y="249"/>
                </a:lnTo>
                <a:lnTo>
                  <a:pt x="905" y="238"/>
                </a:lnTo>
                <a:lnTo>
                  <a:pt x="984" y="215"/>
                </a:lnTo>
                <a:lnTo>
                  <a:pt x="1052" y="215"/>
                </a:lnTo>
                <a:lnTo>
                  <a:pt x="1120" y="204"/>
                </a:lnTo>
                <a:lnTo>
                  <a:pt x="1176" y="193"/>
                </a:lnTo>
                <a:lnTo>
                  <a:pt x="1233" y="181"/>
                </a:lnTo>
                <a:lnTo>
                  <a:pt x="1278" y="181"/>
                </a:lnTo>
                <a:lnTo>
                  <a:pt x="1312" y="170"/>
                </a:lnTo>
                <a:lnTo>
                  <a:pt x="1334" y="159"/>
                </a:lnTo>
                <a:lnTo>
                  <a:pt x="1391" y="159"/>
                </a:lnTo>
                <a:lnTo>
                  <a:pt x="1459" y="147"/>
                </a:lnTo>
                <a:lnTo>
                  <a:pt x="1515" y="136"/>
                </a:lnTo>
                <a:lnTo>
                  <a:pt x="1594" y="125"/>
                </a:lnTo>
                <a:lnTo>
                  <a:pt x="1673" y="113"/>
                </a:lnTo>
                <a:lnTo>
                  <a:pt x="1753" y="102"/>
                </a:lnTo>
                <a:lnTo>
                  <a:pt x="1843" y="80"/>
                </a:lnTo>
                <a:lnTo>
                  <a:pt x="1933" y="57"/>
                </a:lnTo>
                <a:lnTo>
                  <a:pt x="1979" y="57"/>
                </a:lnTo>
                <a:lnTo>
                  <a:pt x="2024" y="46"/>
                </a:lnTo>
                <a:lnTo>
                  <a:pt x="2069" y="46"/>
                </a:lnTo>
                <a:lnTo>
                  <a:pt x="2114" y="34"/>
                </a:lnTo>
                <a:lnTo>
                  <a:pt x="2148" y="34"/>
                </a:lnTo>
                <a:lnTo>
                  <a:pt x="2182" y="23"/>
                </a:lnTo>
                <a:lnTo>
                  <a:pt x="2205" y="23"/>
                </a:lnTo>
                <a:lnTo>
                  <a:pt x="2239" y="12"/>
                </a:lnTo>
                <a:lnTo>
                  <a:pt x="2261" y="12"/>
                </a:lnTo>
                <a:lnTo>
                  <a:pt x="2284" y="12"/>
                </a:lnTo>
                <a:lnTo>
                  <a:pt x="2307" y="0"/>
                </a:lnTo>
                <a:lnTo>
                  <a:pt x="2318" y="0"/>
                </a:lnTo>
                <a:lnTo>
                  <a:pt x="2329" y="0"/>
                </a:lnTo>
                <a:lnTo>
                  <a:pt x="2340" y="0"/>
                </a:lnTo>
                <a:lnTo>
                  <a:pt x="2352" y="0"/>
                </a:lnTo>
                <a:lnTo>
                  <a:pt x="2363" y="0"/>
                </a:lnTo>
                <a:lnTo>
                  <a:pt x="2374" y="0"/>
                </a:lnTo>
                <a:lnTo>
                  <a:pt x="2397" y="0"/>
                </a:lnTo>
                <a:lnTo>
                  <a:pt x="2431" y="0"/>
                </a:lnTo>
                <a:lnTo>
                  <a:pt x="2476" y="12"/>
                </a:lnTo>
                <a:lnTo>
                  <a:pt x="2510" y="23"/>
                </a:lnTo>
                <a:lnTo>
                  <a:pt x="2544" y="46"/>
                </a:lnTo>
                <a:lnTo>
                  <a:pt x="2578" y="68"/>
                </a:lnTo>
                <a:lnTo>
                  <a:pt x="2623" y="102"/>
                </a:lnTo>
                <a:lnTo>
                  <a:pt x="2646" y="125"/>
                </a:lnTo>
                <a:lnTo>
                  <a:pt x="2668" y="159"/>
                </a:lnTo>
                <a:lnTo>
                  <a:pt x="2680" y="181"/>
                </a:lnTo>
                <a:lnTo>
                  <a:pt x="2680" y="204"/>
                </a:lnTo>
                <a:lnTo>
                  <a:pt x="2680" y="215"/>
                </a:lnTo>
                <a:lnTo>
                  <a:pt x="2668" y="215"/>
                </a:lnTo>
                <a:lnTo>
                  <a:pt x="2657" y="215"/>
                </a:lnTo>
                <a:lnTo>
                  <a:pt x="2634" y="227"/>
                </a:lnTo>
                <a:lnTo>
                  <a:pt x="2623" y="227"/>
                </a:lnTo>
                <a:lnTo>
                  <a:pt x="2600" y="227"/>
                </a:lnTo>
                <a:lnTo>
                  <a:pt x="2567" y="227"/>
                </a:lnTo>
                <a:lnTo>
                  <a:pt x="2544" y="238"/>
                </a:lnTo>
                <a:lnTo>
                  <a:pt x="2510" y="238"/>
                </a:lnTo>
                <a:lnTo>
                  <a:pt x="2465" y="238"/>
                </a:lnTo>
                <a:lnTo>
                  <a:pt x="2431" y="238"/>
                </a:lnTo>
                <a:lnTo>
                  <a:pt x="2386" y="238"/>
                </a:lnTo>
                <a:lnTo>
                  <a:pt x="2329" y="238"/>
                </a:lnTo>
                <a:lnTo>
                  <a:pt x="2284" y="238"/>
                </a:lnTo>
                <a:lnTo>
                  <a:pt x="2227" y="238"/>
                </a:lnTo>
                <a:lnTo>
                  <a:pt x="2103" y="238"/>
                </a:lnTo>
                <a:lnTo>
                  <a:pt x="2001" y="249"/>
                </a:lnTo>
                <a:lnTo>
                  <a:pt x="1888" y="249"/>
                </a:lnTo>
                <a:lnTo>
                  <a:pt x="1798" y="249"/>
                </a:lnTo>
                <a:lnTo>
                  <a:pt x="1696" y="260"/>
                </a:lnTo>
                <a:lnTo>
                  <a:pt x="1606" y="260"/>
                </a:lnTo>
                <a:lnTo>
                  <a:pt x="1515" y="272"/>
                </a:lnTo>
                <a:lnTo>
                  <a:pt x="1436" y="283"/>
                </a:lnTo>
                <a:lnTo>
                  <a:pt x="1357" y="294"/>
                </a:lnTo>
                <a:lnTo>
                  <a:pt x="1278" y="306"/>
                </a:lnTo>
                <a:lnTo>
                  <a:pt x="1187" y="317"/>
                </a:lnTo>
                <a:lnTo>
                  <a:pt x="1097" y="328"/>
                </a:lnTo>
                <a:lnTo>
                  <a:pt x="995" y="340"/>
                </a:lnTo>
                <a:lnTo>
                  <a:pt x="905" y="362"/>
                </a:lnTo>
                <a:lnTo>
                  <a:pt x="803" y="373"/>
                </a:lnTo>
                <a:lnTo>
                  <a:pt x="690" y="396"/>
                </a:lnTo>
                <a:lnTo>
                  <a:pt x="645" y="407"/>
                </a:lnTo>
                <a:lnTo>
                  <a:pt x="588" y="419"/>
                </a:lnTo>
                <a:lnTo>
                  <a:pt x="543" y="430"/>
                </a:lnTo>
                <a:lnTo>
                  <a:pt x="498" y="441"/>
                </a:lnTo>
                <a:lnTo>
                  <a:pt x="464" y="441"/>
                </a:lnTo>
                <a:lnTo>
                  <a:pt x="419" y="453"/>
                </a:lnTo>
                <a:lnTo>
                  <a:pt x="385" y="464"/>
                </a:lnTo>
                <a:lnTo>
                  <a:pt x="351" y="464"/>
                </a:lnTo>
                <a:lnTo>
                  <a:pt x="328" y="475"/>
                </a:lnTo>
                <a:lnTo>
                  <a:pt x="306" y="475"/>
                </a:lnTo>
                <a:lnTo>
                  <a:pt x="283" y="475"/>
                </a:lnTo>
                <a:lnTo>
                  <a:pt x="260" y="487"/>
                </a:lnTo>
                <a:lnTo>
                  <a:pt x="238" y="487"/>
                </a:lnTo>
                <a:lnTo>
                  <a:pt x="226" y="487"/>
                </a:lnTo>
                <a:lnTo>
                  <a:pt x="215" y="487"/>
                </a:lnTo>
                <a:lnTo>
                  <a:pt x="204" y="487"/>
                </a:lnTo>
                <a:lnTo>
                  <a:pt x="181" y="487"/>
                </a:lnTo>
                <a:lnTo>
                  <a:pt x="147" y="475"/>
                </a:lnTo>
                <a:lnTo>
                  <a:pt x="113" y="464"/>
                </a:lnTo>
                <a:lnTo>
                  <a:pt x="68" y="45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40"/>
          <p:cNvSpPr/>
          <p:nvPr/>
        </p:nvSpPr>
        <p:spPr>
          <a:xfrm>
            <a:off x="6505560" y="2263680"/>
            <a:ext cx="185760" cy="19861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86120"/>
              <a:gd name="textAreaBottom" fmla="*/ 1986480 h 1986120"/>
            </a:gdLst>
            <a:ahLst/>
            <a:rect l="textAreaLeft" t="textAreaTop" r="textAreaRight" b="textAreaBottom"/>
            <a:pathLst>
              <a:path w="294" h="3053">
                <a:moveTo>
                  <a:pt x="283" y="226"/>
                </a:moveTo>
                <a:lnTo>
                  <a:pt x="283" y="238"/>
                </a:lnTo>
                <a:lnTo>
                  <a:pt x="271" y="260"/>
                </a:lnTo>
                <a:lnTo>
                  <a:pt x="271" y="283"/>
                </a:lnTo>
                <a:lnTo>
                  <a:pt x="271" y="328"/>
                </a:lnTo>
                <a:lnTo>
                  <a:pt x="271" y="373"/>
                </a:lnTo>
                <a:lnTo>
                  <a:pt x="271" y="419"/>
                </a:lnTo>
                <a:lnTo>
                  <a:pt x="260" y="486"/>
                </a:lnTo>
                <a:lnTo>
                  <a:pt x="260" y="554"/>
                </a:lnTo>
                <a:lnTo>
                  <a:pt x="260" y="633"/>
                </a:lnTo>
                <a:lnTo>
                  <a:pt x="260" y="724"/>
                </a:lnTo>
                <a:lnTo>
                  <a:pt x="260" y="826"/>
                </a:lnTo>
                <a:lnTo>
                  <a:pt x="260" y="927"/>
                </a:lnTo>
                <a:lnTo>
                  <a:pt x="260" y="1040"/>
                </a:lnTo>
                <a:lnTo>
                  <a:pt x="260" y="1165"/>
                </a:lnTo>
                <a:lnTo>
                  <a:pt x="260" y="1300"/>
                </a:lnTo>
                <a:lnTo>
                  <a:pt x="260" y="1436"/>
                </a:lnTo>
                <a:lnTo>
                  <a:pt x="260" y="1583"/>
                </a:lnTo>
                <a:lnTo>
                  <a:pt x="249" y="1719"/>
                </a:lnTo>
                <a:lnTo>
                  <a:pt x="249" y="1843"/>
                </a:lnTo>
                <a:lnTo>
                  <a:pt x="249" y="1967"/>
                </a:lnTo>
                <a:lnTo>
                  <a:pt x="249" y="2080"/>
                </a:lnTo>
                <a:lnTo>
                  <a:pt x="249" y="2182"/>
                </a:lnTo>
                <a:lnTo>
                  <a:pt x="249" y="2284"/>
                </a:lnTo>
                <a:lnTo>
                  <a:pt x="249" y="2374"/>
                </a:lnTo>
                <a:lnTo>
                  <a:pt x="249" y="2454"/>
                </a:lnTo>
                <a:lnTo>
                  <a:pt x="237" y="2533"/>
                </a:lnTo>
                <a:lnTo>
                  <a:pt x="237" y="2600"/>
                </a:lnTo>
                <a:lnTo>
                  <a:pt x="237" y="2668"/>
                </a:lnTo>
                <a:lnTo>
                  <a:pt x="237" y="2714"/>
                </a:lnTo>
                <a:lnTo>
                  <a:pt x="237" y="2759"/>
                </a:lnTo>
                <a:lnTo>
                  <a:pt x="237" y="2804"/>
                </a:lnTo>
                <a:lnTo>
                  <a:pt x="226" y="2827"/>
                </a:lnTo>
                <a:lnTo>
                  <a:pt x="226" y="2883"/>
                </a:lnTo>
                <a:lnTo>
                  <a:pt x="215" y="2928"/>
                </a:lnTo>
                <a:lnTo>
                  <a:pt x="215" y="2962"/>
                </a:lnTo>
                <a:lnTo>
                  <a:pt x="203" y="2996"/>
                </a:lnTo>
                <a:lnTo>
                  <a:pt x="203" y="3019"/>
                </a:lnTo>
                <a:lnTo>
                  <a:pt x="192" y="3030"/>
                </a:lnTo>
                <a:lnTo>
                  <a:pt x="181" y="3041"/>
                </a:lnTo>
                <a:lnTo>
                  <a:pt x="181" y="3053"/>
                </a:lnTo>
                <a:lnTo>
                  <a:pt x="170" y="3053"/>
                </a:lnTo>
                <a:lnTo>
                  <a:pt x="170" y="3041"/>
                </a:lnTo>
                <a:lnTo>
                  <a:pt x="158" y="3041"/>
                </a:lnTo>
                <a:lnTo>
                  <a:pt x="158" y="3030"/>
                </a:lnTo>
                <a:lnTo>
                  <a:pt x="147" y="3019"/>
                </a:lnTo>
                <a:lnTo>
                  <a:pt x="147" y="3007"/>
                </a:lnTo>
                <a:lnTo>
                  <a:pt x="136" y="2985"/>
                </a:lnTo>
                <a:lnTo>
                  <a:pt x="136" y="2974"/>
                </a:lnTo>
                <a:lnTo>
                  <a:pt x="124" y="2962"/>
                </a:lnTo>
                <a:lnTo>
                  <a:pt x="124" y="2940"/>
                </a:lnTo>
                <a:lnTo>
                  <a:pt x="124" y="2906"/>
                </a:lnTo>
                <a:lnTo>
                  <a:pt x="124" y="2883"/>
                </a:lnTo>
                <a:lnTo>
                  <a:pt x="124" y="2838"/>
                </a:lnTo>
                <a:lnTo>
                  <a:pt x="113" y="2804"/>
                </a:lnTo>
                <a:lnTo>
                  <a:pt x="113" y="2747"/>
                </a:lnTo>
                <a:lnTo>
                  <a:pt x="113" y="2702"/>
                </a:lnTo>
                <a:lnTo>
                  <a:pt x="113" y="2634"/>
                </a:lnTo>
                <a:lnTo>
                  <a:pt x="113" y="2578"/>
                </a:lnTo>
                <a:lnTo>
                  <a:pt x="113" y="2499"/>
                </a:lnTo>
                <a:lnTo>
                  <a:pt x="113" y="2420"/>
                </a:lnTo>
                <a:lnTo>
                  <a:pt x="102" y="2340"/>
                </a:lnTo>
                <a:lnTo>
                  <a:pt x="102" y="2250"/>
                </a:lnTo>
                <a:lnTo>
                  <a:pt x="102" y="2160"/>
                </a:lnTo>
                <a:lnTo>
                  <a:pt x="102" y="2058"/>
                </a:lnTo>
                <a:lnTo>
                  <a:pt x="102" y="1956"/>
                </a:lnTo>
                <a:lnTo>
                  <a:pt x="102" y="1854"/>
                </a:lnTo>
                <a:lnTo>
                  <a:pt x="102" y="1662"/>
                </a:lnTo>
                <a:lnTo>
                  <a:pt x="102" y="1481"/>
                </a:lnTo>
                <a:lnTo>
                  <a:pt x="102" y="1300"/>
                </a:lnTo>
                <a:lnTo>
                  <a:pt x="102" y="1131"/>
                </a:lnTo>
                <a:lnTo>
                  <a:pt x="102" y="984"/>
                </a:lnTo>
                <a:lnTo>
                  <a:pt x="102" y="826"/>
                </a:lnTo>
                <a:lnTo>
                  <a:pt x="90" y="690"/>
                </a:lnTo>
                <a:lnTo>
                  <a:pt x="90" y="633"/>
                </a:lnTo>
                <a:lnTo>
                  <a:pt x="90" y="566"/>
                </a:lnTo>
                <a:lnTo>
                  <a:pt x="90" y="509"/>
                </a:lnTo>
                <a:lnTo>
                  <a:pt x="79" y="464"/>
                </a:lnTo>
                <a:lnTo>
                  <a:pt x="79" y="407"/>
                </a:lnTo>
                <a:lnTo>
                  <a:pt x="79" y="362"/>
                </a:lnTo>
                <a:lnTo>
                  <a:pt x="79" y="328"/>
                </a:lnTo>
                <a:lnTo>
                  <a:pt x="68" y="283"/>
                </a:lnTo>
                <a:lnTo>
                  <a:pt x="68" y="249"/>
                </a:lnTo>
                <a:lnTo>
                  <a:pt x="68" y="215"/>
                </a:lnTo>
                <a:lnTo>
                  <a:pt x="57" y="192"/>
                </a:lnTo>
                <a:lnTo>
                  <a:pt x="57" y="170"/>
                </a:lnTo>
                <a:lnTo>
                  <a:pt x="45" y="147"/>
                </a:lnTo>
                <a:lnTo>
                  <a:pt x="45" y="136"/>
                </a:lnTo>
                <a:lnTo>
                  <a:pt x="34" y="125"/>
                </a:lnTo>
                <a:lnTo>
                  <a:pt x="34" y="113"/>
                </a:lnTo>
                <a:lnTo>
                  <a:pt x="23" y="102"/>
                </a:lnTo>
                <a:lnTo>
                  <a:pt x="11" y="91"/>
                </a:lnTo>
                <a:lnTo>
                  <a:pt x="0" y="79"/>
                </a:lnTo>
                <a:lnTo>
                  <a:pt x="0" y="68"/>
                </a:lnTo>
                <a:lnTo>
                  <a:pt x="0" y="57"/>
                </a:lnTo>
                <a:lnTo>
                  <a:pt x="11" y="34"/>
                </a:lnTo>
                <a:lnTo>
                  <a:pt x="23" y="23"/>
                </a:lnTo>
                <a:lnTo>
                  <a:pt x="34" y="12"/>
                </a:lnTo>
                <a:lnTo>
                  <a:pt x="45" y="0"/>
                </a:lnTo>
                <a:lnTo>
                  <a:pt x="68" y="0"/>
                </a:lnTo>
                <a:lnTo>
                  <a:pt x="79" y="0"/>
                </a:lnTo>
                <a:lnTo>
                  <a:pt x="102" y="12"/>
                </a:lnTo>
                <a:lnTo>
                  <a:pt x="136" y="23"/>
                </a:lnTo>
                <a:lnTo>
                  <a:pt x="170" y="34"/>
                </a:lnTo>
                <a:lnTo>
                  <a:pt x="203" y="46"/>
                </a:lnTo>
                <a:lnTo>
                  <a:pt x="226" y="57"/>
                </a:lnTo>
                <a:lnTo>
                  <a:pt x="249" y="79"/>
                </a:lnTo>
                <a:lnTo>
                  <a:pt x="271" y="102"/>
                </a:lnTo>
                <a:lnTo>
                  <a:pt x="283" y="113"/>
                </a:lnTo>
                <a:lnTo>
                  <a:pt x="294" y="125"/>
                </a:lnTo>
                <a:lnTo>
                  <a:pt x="294" y="147"/>
                </a:lnTo>
                <a:lnTo>
                  <a:pt x="294" y="170"/>
                </a:lnTo>
                <a:lnTo>
                  <a:pt x="294" y="204"/>
                </a:lnTo>
                <a:lnTo>
                  <a:pt x="283" y="2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8"/>
          <p:cNvSpPr/>
          <p:nvPr/>
        </p:nvSpPr>
        <p:spPr>
          <a:xfrm>
            <a:off x="5757840" y="2463840"/>
            <a:ext cx="495360" cy="1662120"/>
          </a:xfrm>
          <a:custGeom>
            <a:avLst/>
            <a:gdLst>
              <a:gd name="textAreaLeft" fmla="*/ 0 w 495360"/>
              <a:gd name="textAreaRight" fmla="*/ 495720 w 49536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780" h="2555">
                <a:moveTo>
                  <a:pt x="520" y="2057"/>
                </a:moveTo>
                <a:lnTo>
                  <a:pt x="486" y="2125"/>
                </a:lnTo>
                <a:lnTo>
                  <a:pt x="452" y="2181"/>
                </a:lnTo>
                <a:lnTo>
                  <a:pt x="419" y="2227"/>
                </a:lnTo>
                <a:lnTo>
                  <a:pt x="373" y="2272"/>
                </a:lnTo>
                <a:lnTo>
                  <a:pt x="328" y="2317"/>
                </a:lnTo>
                <a:lnTo>
                  <a:pt x="294" y="2362"/>
                </a:lnTo>
                <a:lnTo>
                  <a:pt x="249" y="2396"/>
                </a:lnTo>
                <a:lnTo>
                  <a:pt x="204" y="2430"/>
                </a:lnTo>
                <a:lnTo>
                  <a:pt x="159" y="2464"/>
                </a:lnTo>
                <a:lnTo>
                  <a:pt x="113" y="2487"/>
                </a:lnTo>
                <a:lnTo>
                  <a:pt x="91" y="2509"/>
                </a:lnTo>
                <a:lnTo>
                  <a:pt x="57" y="2532"/>
                </a:lnTo>
                <a:lnTo>
                  <a:pt x="34" y="2543"/>
                </a:lnTo>
                <a:lnTo>
                  <a:pt x="23" y="2555"/>
                </a:lnTo>
                <a:lnTo>
                  <a:pt x="12" y="2555"/>
                </a:lnTo>
                <a:lnTo>
                  <a:pt x="0" y="2555"/>
                </a:lnTo>
                <a:lnTo>
                  <a:pt x="0" y="2543"/>
                </a:lnTo>
                <a:lnTo>
                  <a:pt x="0" y="2532"/>
                </a:lnTo>
                <a:lnTo>
                  <a:pt x="12" y="2521"/>
                </a:lnTo>
                <a:lnTo>
                  <a:pt x="23" y="2509"/>
                </a:lnTo>
                <a:lnTo>
                  <a:pt x="45" y="2487"/>
                </a:lnTo>
                <a:lnTo>
                  <a:pt x="68" y="2464"/>
                </a:lnTo>
                <a:lnTo>
                  <a:pt x="91" y="2441"/>
                </a:lnTo>
                <a:lnTo>
                  <a:pt x="125" y="2408"/>
                </a:lnTo>
                <a:lnTo>
                  <a:pt x="192" y="2328"/>
                </a:lnTo>
                <a:lnTo>
                  <a:pt x="226" y="2283"/>
                </a:lnTo>
                <a:lnTo>
                  <a:pt x="260" y="2238"/>
                </a:lnTo>
                <a:lnTo>
                  <a:pt x="283" y="2193"/>
                </a:lnTo>
                <a:lnTo>
                  <a:pt x="317" y="2136"/>
                </a:lnTo>
                <a:lnTo>
                  <a:pt x="351" y="2080"/>
                </a:lnTo>
                <a:lnTo>
                  <a:pt x="385" y="2023"/>
                </a:lnTo>
                <a:lnTo>
                  <a:pt x="441" y="1899"/>
                </a:lnTo>
                <a:lnTo>
                  <a:pt x="498" y="1774"/>
                </a:lnTo>
                <a:lnTo>
                  <a:pt x="520" y="1707"/>
                </a:lnTo>
                <a:lnTo>
                  <a:pt x="543" y="1639"/>
                </a:lnTo>
                <a:lnTo>
                  <a:pt x="554" y="1560"/>
                </a:lnTo>
                <a:lnTo>
                  <a:pt x="577" y="1492"/>
                </a:lnTo>
                <a:lnTo>
                  <a:pt x="599" y="1345"/>
                </a:lnTo>
                <a:lnTo>
                  <a:pt x="611" y="1198"/>
                </a:lnTo>
                <a:lnTo>
                  <a:pt x="622" y="1040"/>
                </a:lnTo>
                <a:lnTo>
                  <a:pt x="622" y="893"/>
                </a:lnTo>
                <a:lnTo>
                  <a:pt x="622" y="814"/>
                </a:lnTo>
                <a:lnTo>
                  <a:pt x="611" y="734"/>
                </a:lnTo>
                <a:lnTo>
                  <a:pt x="611" y="667"/>
                </a:lnTo>
                <a:lnTo>
                  <a:pt x="599" y="599"/>
                </a:lnTo>
                <a:lnTo>
                  <a:pt x="599" y="531"/>
                </a:lnTo>
                <a:lnTo>
                  <a:pt x="599" y="463"/>
                </a:lnTo>
                <a:lnTo>
                  <a:pt x="588" y="407"/>
                </a:lnTo>
                <a:lnTo>
                  <a:pt x="588" y="350"/>
                </a:lnTo>
                <a:lnTo>
                  <a:pt x="577" y="293"/>
                </a:lnTo>
                <a:lnTo>
                  <a:pt x="577" y="248"/>
                </a:lnTo>
                <a:lnTo>
                  <a:pt x="565" y="214"/>
                </a:lnTo>
                <a:lnTo>
                  <a:pt x="554" y="169"/>
                </a:lnTo>
                <a:lnTo>
                  <a:pt x="554" y="147"/>
                </a:lnTo>
                <a:lnTo>
                  <a:pt x="543" y="124"/>
                </a:lnTo>
                <a:lnTo>
                  <a:pt x="532" y="101"/>
                </a:lnTo>
                <a:lnTo>
                  <a:pt x="520" y="90"/>
                </a:lnTo>
                <a:lnTo>
                  <a:pt x="498" y="67"/>
                </a:lnTo>
                <a:lnTo>
                  <a:pt x="486" y="45"/>
                </a:lnTo>
                <a:lnTo>
                  <a:pt x="486" y="33"/>
                </a:lnTo>
                <a:lnTo>
                  <a:pt x="486" y="11"/>
                </a:lnTo>
                <a:lnTo>
                  <a:pt x="498" y="0"/>
                </a:lnTo>
                <a:lnTo>
                  <a:pt x="520" y="0"/>
                </a:lnTo>
                <a:lnTo>
                  <a:pt x="532" y="0"/>
                </a:lnTo>
                <a:lnTo>
                  <a:pt x="554" y="0"/>
                </a:lnTo>
                <a:lnTo>
                  <a:pt x="577" y="0"/>
                </a:lnTo>
                <a:lnTo>
                  <a:pt x="599" y="11"/>
                </a:lnTo>
                <a:lnTo>
                  <a:pt x="633" y="11"/>
                </a:lnTo>
                <a:lnTo>
                  <a:pt x="667" y="22"/>
                </a:lnTo>
                <a:lnTo>
                  <a:pt x="690" y="33"/>
                </a:lnTo>
                <a:lnTo>
                  <a:pt x="712" y="45"/>
                </a:lnTo>
                <a:lnTo>
                  <a:pt x="735" y="45"/>
                </a:lnTo>
                <a:lnTo>
                  <a:pt x="746" y="56"/>
                </a:lnTo>
                <a:lnTo>
                  <a:pt x="758" y="67"/>
                </a:lnTo>
                <a:lnTo>
                  <a:pt x="769" y="67"/>
                </a:lnTo>
                <a:lnTo>
                  <a:pt x="769" y="79"/>
                </a:lnTo>
                <a:lnTo>
                  <a:pt x="780" y="101"/>
                </a:lnTo>
                <a:lnTo>
                  <a:pt x="780" y="124"/>
                </a:lnTo>
                <a:lnTo>
                  <a:pt x="780" y="158"/>
                </a:lnTo>
                <a:lnTo>
                  <a:pt x="769" y="192"/>
                </a:lnTo>
                <a:lnTo>
                  <a:pt x="769" y="203"/>
                </a:lnTo>
                <a:lnTo>
                  <a:pt x="769" y="214"/>
                </a:lnTo>
                <a:lnTo>
                  <a:pt x="769" y="237"/>
                </a:lnTo>
                <a:lnTo>
                  <a:pt x="769" y="260"/>
                </a:lnTo>
                <a:lnTo>
                  <a:pt x="769" y="282"/>
                </a:lnTo>
                <a:lnTo>
                  <a:pt x="758" y="316"/>
                </a:lnTo>
                <a:lnTo>
                  <a:pt x="758" y="339"/>
                </a:lnTo>
                <a:lnTo>
                  <a:pt x="758" y="373"/>
                </a:lnTo>
                <a:lnTo>
                  <a:pt x="758" y="418"/>
                </a:lnTo>
                <a:lnTo>
                  <a:pt x="758" y="463"/>
                </a:lnTo>
                <a:lnTo>
                  <a:pt x="769" y="508"/>
                </a:lnTo>
                <a:lnTo>
                  <a:pt x="769" y="553"/>
                </a:lnTo>
                <a:lnTo>
                  <a:pt x="769" y="610"/>
                </a:lnTo>
                <a:lnTo>
                  <a:pt x="769" y="667"/>
                </a:lnTo>
                <a:lnTo>
                  <a:pt x="769" y="723"/>
                </a:lnTo>
                <a:lnTo>
                  <a:pt x="769" y="780"/>
                </a:lnTo>
                <a:lnTo>
                  <a:pt x="769" y="847"/>
                </a:lnTo>
                <a:lnTo>
                  <a:pt x="780" y="915"/>
                </a:lnTo>
                <a:lnTo>
                  <a:pt x="780" y="1028"/>
                </a:lnTo>
                <a:lnTo>
                  <a:pt x="780" y="1130"/>
                </a:lnTo>
                <a:lnTo>
                  <a:pt x="769" y="1232"/>
                </a:lnTo>
                <a:lnTo>
                  <a:pt x="769" y="1322"/>
                </a:lnTo>
                <a:lnTo>
                  <a:pt x="758" y="1401"/>
                </a:lnTo>
                <a:lnTo>
                  <a:pt x="746" y="1481"/>
                </a:lnTo>
                <a:lnTo>
                  <a:pt x="735" y="1548"/>
                </a:lnTo>
                <a:lnTo>
                  <a:pt x="724" y="1605"/>
                </a:lnTo>
                <a:lnTo>
                  <a:pt x="701" y="1673"/>
                </a:lnTo>
                <a:lnTo>
                  <a:pt x="679" y="1741"/>
                </a:lnTo>
                <a:lnTo>
                  <a:pt x="656" y="1797"/>
                </a:lnTo>
                <a:lnTo>
                  <a:pt x="622" y="1865"/>
                </a:lnTo>
                <a:lnTo>
                  <a:pt x="588" y="1933"/>
                </a:lnTo>
                <a:lnTo>
                  <a:pt x="554" y="2001"/>
                </a:lnTo>
                <a:lnTo>
                  <a:pt x="520" y="20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文本框 1"/>
          <p:cNvSpPr/>
          <p:nvPr/>
        </p:nvSpPr>
        <p:spPr>
          <a:xfrm>
            <a:off x="900000" y="2430360"/>
            <a:ext cx="625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12. </a:t>
            </a:r>
            <a:r>
              <a:rPr b="0" lang="zh-CN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坐井观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1"/>
          <p:cNvSpPr/>
          <p:nvPr/>
        </p:nvSpPr>
        <p:spPr>
          <a:xfrm>
            <a:off x="324000" y="1206360"/>
            <a:ext cx="52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文本框 1"/>
          <p:cNvSpPr/>
          <p:nvPr/>
        </p:nvSpPr>
        <p:spPr>
          <a:xfrm>
            <a:off x="463680" y="2238480"/>
            <a:ext cx="77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黑体"/>
                <a:ea typeface="黑体"/>
              </a:rPr>
              <a:t>自由读课文，提出不懂的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1" descr=""/>
          <p:cNvPicPr/>
          <p:nvPr/>
        </p:nvPicPr>
        <p:blipFill>
          <a:blip r:embed="rId1"/>
          <a:stretch/>
        </p:blipFill>
        <p:spPr>
          <a:xfrm>
            <a:off x="49320" y="3902040"/>
            <a:ext cx="34750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2197080" y="1206360"/>
            <a:ext cx="4248000" cy="181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4140360" y="343080"/>
            <a:ext cx="2192040" cy="101268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2" descr="20131220031358-1289067503"/>
          <p:cNvPicPr/>
          <p:nvPr/>
        </p:nvPicPr>
        <p:blipFill>
          <a:blip r:embed="rId3"/>
          <a:srcRect l="0" t="39128" r="0" b="31633"/>
          <a:stretch/>
        </p:blipFill>
        <p:spPr>
          <a:xfrm>
            <a:off x="2197080" y="2790720"/>
            <a:ext cx="4319640" cy="1871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4"/>
          <a:stretch/>
        </p:blipFill>
        <p:spPr>
          <a:xfrm>
            <a:off x="2124000" y="4662360"/>
            <a:ext cx="4399200" cy="21193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8"/>
          <p:cNvSpPr/>
          <p:nvPr/>
        </p:nvSpPr>
        <p:spPr>
          <a:xfrm>
            <a:off x="6948360" y="990720"/>
            <a:ext cx="15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有多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468360" y="1062000"/>
            <a:ext cx="4248000" cy="1817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2484360" y="198360"/>
            <a:ext cx="2192400" cy="101304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2" descr="20131220031358-1289067503"/>
          <p:cNvPicPr/>
          <p:nvPr/>
        </p:nvPicPr>
        <p:blipFill>
          <a:blip r:embed="rId3"/>
          <a:srcRect l="0" t="39128" r="0" b="31633"/>
          <a:stretch/>
        </p:blipFill>
        <p:spPr>
          <a:xfrm>
            <a:off x="324000" y="2790720"/>
            <a:ext cx="4321080" cy="1871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4"/>
          <a:stretch/>
        </p:blipFill>
        <p:spPr>
          <a:xfrm>
            <a:off x="324000" y="4662360"/>
            <a:ext cx="4398840" cy="2119320"/>
          </a:xfrm>
          <a:prstGeom prst="rect">
            <a:avLst/>
          </a:prstGeom>
          <a:ln w="0">
            <a:noFill/>
          </a:ln>
        </p:spPr>
      </p:pic>
      <p:sp>
        <p:nvSpPr>
          <p:cNvPr id="308" name="TextBox 8"/>
          <p:cNvSpPr/>
          <p:nvPr/>
        </p:nvSpPr>
        <p:spPr>
          <a:xfrm>
            <a:off x="4932360" y="1927080"/>
            <a:ext cx="39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华文楷体"/>
                <a:ea typeface="华文楷体"/>
              </a:rPr>
              <a:t>青蛙坐在井里。小鸟飞来，落在井沿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4300" spc="-1" strike="noStrike">
                <a:solidFill>
                  <a:srgbClr val="cc0000"/>
                </a:solidFill>
                <a:latin typeface="Arial"/>
              </a:rPr>
              <a:t>用自己喜欢的方式读青蛙和小鸟的第一次对话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539640" y="1062000"/>
            <a:ext cx="4249800" cy="1817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"/>
          <p:cNvPicPr/>
          <p:nvPr/>
        </p:nvPicPr>
        <p:blipFill>
          <a:blip r:embed="rId2"/>
          <a:stretch/>
        </p:blipFill>
        <p:spPr>
          <a:xfrm>
            <a:off x="2484360" y="198360"/>
            <a:ext cx="2192400" cy="1013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"/>
          <p:cNvPicPr/>
          <p:nvPr/>
        </p:nvPicPr>
        <p:blipFill>
          <a:blip r:embed="rId3"/>
          <a:stretch/>
        </p:blipFill>
        <p:spPr>
          <a:xfrm>
            <a:off x="324000" y="4662360"/>
            <a:ext cx="4398840" cy="2119320"/>
          </a:xfrm>
          <a:prstGeom prst="rect">
            <a:avLst/>
          </a:prstGeom>
          <a:ln w="0">
            <a:noFill/>
          </a:ln>
        </p:spPr>
      </p:pic>
      <p:grpSp>
        <p:nvGrpSpPr>
          <p:cNvPr id="313" name="组合 7"/>
          <p:cNvGrpSpPr/>
          <p:nvPr/>
        </p:nvGrpSpPr>
        <p:grpSpPr>
          <a:xfrm>
            <a:off x="4284720" y="4086360"/>
            <a:ext cx="4248000" cy="1944720"/>
            <a:chOff x="4284720" y="4086360"/>
            <a:chExt cx="4248000" cy="1944720"/>
          </a:xfrm>
        </p:grpSpPr>
        <p:sp>
          <p:nvSpPr>
            <p:cNvPr id="314" name="云形标注 6"/>
            <p:cNvSpPr/>
            <p:nvPr/>
          </p:nvSpPr>
          <p:spPr>
            <a:xfrm>
              <a:off x="4284720" y="4086360"/>
              <a:ext cx="424800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8"/>
            <p:cNvSpPr/>
            <p:nvPr/>
          </p:nvSpPr>
          <p:spPr>
            <a:xfrm>
              <a:off x="4609080" y="4662360"/>
              <a:ext cx="39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华文楷体"/>
                  <a:ea typeface="华文楷体"/>
                </a:rPr>
                <a:t>你从哪里来呀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9"/>
          <p:cNvGrpSpPr/>
          <p:nvPr/>
        </p:nvGrpSpPr>
        <p:grpSpPr>
          <a:xfrm>
            <a:off x="4500720" y="0"/>
            <a:ext cx="4429080" cy="1944720"/>
            <a:chOff x="4500720" y="0"/>
            <a:chExt cx="4429080" cy="1944720"/>
          </a:xfrm>
        </p:grpSpPr>
        <p:sp>
          <p:nvSpPr>
            <p:cNvPr id="317" name="云形标注 10"/>
            <p:cNvSpPr/>
            <p:nvPr/>
          </p:nvSpPr>
          <p:spPr>
            <a:xfrm>
              <a:off x="4500720" y="0"/>
              <a:ext cx="421308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11"/>
            <p:cNvSpPr/>
            <p:nvPr/>
          </p:nvSpPr>
          <p:spPr>
            <a:xfrm>
              <a:off x="4932720" y="198360"/>
              <a:ext cx="39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华文楷体"/>
                  <a:ea typeface="华文楷体"/>
                </a:rPr>
                <a:t>我从天上来，飞了一百多里，口渴了，下来找点儿水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Box 12"/>
          <p:cNvSpPr/>
          <p:nvPr/>
        </p:nvSpPr>
        <p:spPr>
          <a:xfrm>
            <a:off x="468360" y="3006720"/>
            <a:ext cx="80643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鸟曾飞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飞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天无边无际，大得很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1"/>
          <p:cNvSpPr/>
          <p:nvPr/>
        </p:nvSpPr>
        <p:spPr>
          <a:xfrm>
            <a:off x="2314440" y="1044720"/>
            <a:ext cx="623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坐井</a:t>
            </a:r>
            <a:r>
              <a:rPr b="0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______</a:t>
            </a: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" descr="20131220031358-1289067503"/>
          <p:cNvPicPr/>
          <p:nvPr/>
        </p:nvPicPr>
        <p:blipFill>
          <a:blip r:embed="rId1"/>
          <a:stretch/>
        </p:blipFill>
        <p:spPr>
          <a:xfrm>
            <a:off x="17640" y="0"/>
            <a:ext cx="3474720" cy="701352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5221440" y="84600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4429080" y="2719440"/>
            <a:ext cx="33116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539640" y="1062000"/>
            <a:ext cx="4249800" cy="1817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2484360" y="198360"/>
            <a:ext cx="2192400" cy="1013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3"/>
          <a:stretch/>
        </p:blipFill>
        <p:spPr>
          <a:xfrm>
            <a:off x="324000" y="4662360"/>
            <a:ext cx="4398840" cy="2119320"/>
          </a:xfrm>
          <a:prstGeom prst="rect">
            <a:avLst/>
          </a:prstGeom>
          <a:ln w="0">
            <a:noFill/>
          </a:ln>
        </p:spPr>
      </p:pic>
      <p:grpSp>
        <p:nvGrpSpPr>
          <p:cNvPr id="323" name="组合 7"/>
          <p:cNvGrpSpPr/>
          <p:nvPr/>
        </p:nvGrpSpPr>
        <p:grpSpPr>
          <a:xfrm>
            <a:off x="4284720" y="4086360"/>
            <a:ext cx="4248000" cy="1945800"/>
            <a:chOff x="4284720" y="4086360"/>
            <a:chExt cx="4248000" cy="1945800"/>
          </a:xfrm>
        </p:grpSpPr>
        <p:sp>
          <p:nvSpPr>
            <p:cNvPr id="324" name="云形标注 6"/>
            <p:cNvSpPr/>
            <p:nvPr/>
          </p:nvSpPr>
          <p:spPr>
            <a:xfrm>
              <a:off x="4284720" y="4086360"/>
              <a:ext cx="4248000" cy="19458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8"/>
            <p:cNvSpPr/>
            <p:nvPr/>
          </p:nvSpPr>
          <p:spPr>
            <a:xfrm>
              <a:off x="4500720" y="4302360"/>
              <a:ext cx="392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华文楷体"/>
                  <a:ea typeface="华文楷体"/>
                </a:rPr>
                <a:t>朋友，别说</a:t>
              </a:r>
              <a:r>
                <a:rPr b="1" lang="zh-CN" sz="3600" spc="-1" strike="noStrike">
                  <a:solidFill>
                    <a:srgbClr val="cc0000"/>
                  </a:solidFill>
                  <a:latin typeface="华文楷体"/>
                  <a:ea typeface="华文楷体"/>
                </a:rPr>
                <a:t>大话</a:t>
              </a:r>
              <a:r>
                <a:rPr b="1" lang="zh-CN" sz="3600" spc="-1" strike="noStrike">
                  <a:solidFill>
                    <a:srgbClr val="333399"/>
                  </a:solidFill>
                  <a:latin typeface="华文楷体"/>
                  <a:ea typeface="华文楷体"/>
                </a:rPr>
                <a:t>了！天不过井口那么大，还用飞那么远吗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9"/>
          <p:cNvGrpSpPr/>
          <p:nvPr/>
        </p:nvGrpSpPr>
        <p:grpSpPr>
          <a:xfrm>
            <a:off x="4500720" y="0"/>
            <a:ext cx="4429080" cy="1944720"/>
            <a:chOff x="4500720" y="0"/>
            <a:chExt cx="4429080" cy="1944720"/>
          </a:xfrm>
        </p:grpSpPr>
        <p:sp>
          <p:nvSpPr>
            <p:cNvPr id="327" name="云形标注 10"/>
            <p:cNvSpPr/>
            <p:nvPr/>
          </p:nvSpPr>
          <p:spPr>
            <a:xfrm>
              <a:off x="4500720" y="0"/>
              <a:ext cx="421308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11"/>
            <p:cNvSpPr/>
            <p:nvPr/>
          </p:nvSpPr>
          <p:spPr>
            <a:xfrm>
              <a:off x="4932720" y="198360"/>
              <a:ext cx="39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华文楷体"/>
                  <a:ea typeface="华文楷体"/>
                </a:rPr>
                <a:t>你弄错了，天无边无际大得很哪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13"/>
          <p:cNvSpPr/>
          <p:nvPr/>
        </p:nvSpPr>
        <p:spPr>
          <a:xfrm>
            <a:off x="973080" y="307800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蛙为什么认为天空只有井口那么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539640" y="1062000"/>
            <a:ext cx="4249800" cy="1817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2484360" y="198360"/>
            <a:ext cx="2192400" cy="1013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3"/>
          <a:stretch/>
        </p:blipFill>
        <p:spPr>
          <a:xfrm>
            <a:off x="324000" y="4662360"/>
            <a:ext cx="4398840" cy="2119320"/>
          </a:xfrm>
          <a:prstGeom prst="rect">
            <a:avLst/>
          </a:prstGeom>
          <a:ln w="0">
            <a:noFill/>
          </a:ln>
        </p:spPr>
      </p:pic>
      <p:grpSp>
        <p:nvGrpSpPr>
          <p:cNvPr id="333" name="组合 7"/>
          <p:cNvGrpSpPr/>
          <p:nvPr/>
        </p:nvGrpSpPr>
        <p:grpSpPr>
          <a:xfrm>
            <a:off x="4284720" y="4086360"/>
            <a:ext cx="4427640" cy="1944720"/>
            <a:chOff x="4284720" y="4086360"/>
            <a:chExt cx="4427640" cy="1944720"/>
          </a:xfrm>
        </p:grpSpPr>
        <p:sp>
          <p:nvSpPr>
            <p:cNvPr id="334" name="云形标注 6"/>
            <p:cNvSpPr/>
            <p:nvPr/>
          </p:nvSpPr>
          <p:spPr>
            <a:xfrm>
              <a:off x="4284720" y="4086360"/>
              <a:ext cx="424836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8"/>
            <p:cNvSpPr/>
            <p:nvPr/>
          </p:nvSpPr>
          <p:spPr>
            <a:xfrm>
              <a:off x="4356720" y="4230360"/>
              <a:ext cx="43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华文楷体"/>
                  <a:ea typeface="华文楷体"/>
                </a:rPr>
                <a:t>朋友，我天天坐在井里，一抬头就能看见天。我不会弄错的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9"/>
          <p:cNvGrpSpPr/>
          <p:nvPr/>
        </p:nvGrpSpPr>
        <p:grpSpPr>
          <a:xfrm>
            <a:off x="4429080" y="0"/>
            <a:ext cx="4429080" cy="1944720"/>
            <a:chOff x="4429080" y="0"/>
            <a:chExt cx="4429080" cy="1944720"/>
          </a:xfrm>
        </p:grpSpPr>
        <p:sp>
          <p:nvSpPr>
            <p:cNvPr id="337" name="云形标注 10"/>
            <p:cNvSpPr/>
            <p:nvPr/>
          </p:nvSpPr>
          <p:spPr>
            <a:xfrm>
              <a:off x="4429080" y="0"/>
              <a:ext cx="421308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11"/>
            <p:cNvSpPr/>
            <p:nvPr/>
          </p:nvSpPr>
          <p:spPr>
            <a:xfrm>
              <a:off x="4861080" y="198360"/>
              <a:ext cx="39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华文楷体"/>
                  <a:ea typeface="华文楷体"/>
                </a:rPr>
                <a:t>朋友，你是弄错了。不信，你跳出井来看一看吧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Box 13"/>
          <p:cNvSpPr/>
          <p:nvPr/>
        </p:nvSpPr>
        <p:spPr>
          <a:xfrm>
            <a:off x="539640" y="293544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蛙为什么笑了？小鸟为什么也笑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图片 4" descr="timg.jpg"/>
          <p:cNvPicPr/>
          <p:nvPr/>
        </p:nvPicPr>
        <p:blipFill>
          <a:blip r:embed="rId1"/>
          <a:srcRect l="0" t="0" r="0" b="14158"/>
          <a:stretch/>
        </p:blipFill>
        <p:spPr>
          <a:xfrm>
            <a:off x="0" y="2502000"/>
            <a:ext cx="4573440" cy="4519440"/>
          </a:xfrm>
          <a:prstGeom prst="rect">
            <a:avLst/>
          </a:prstGeom>
          <a:ln w="0">
            <a:noFill/>
          </a:ln>
        </p:spPr>
      </p:pic>
      <p:sp>
        <p:nvSpPr>
          <p:cNvPr id="341" name="TextBox 5"/>
          <p:cNvSpPr/>
          <p:nvPr/>
        </p:nvSpPr>
        <p:spPr>
          <a:xfrm>
            <a:off x="396720" y="198360"/>
            <a:ext cx="7704360" cy="204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蛙听了小鸟的话，真的跳出了井口，它一下子惊呆了，看见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是对小鸟说：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鸟说：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矩形 6" descr=""/>
          <p:cNvPicPr/>
          <p:nvPr/>
        </p:nvPicPr>
        <p:blipFill>
          <a:blip r:embed="rId2"/>
          <a:stretch/>
        </p:blipFill>
        <p:spPr>
          <a:xfrm>
            <a:off x="4925880" y="2749680"/>
            <a:ext cx="35416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34"/>
          <p:cNvSpPr/>
          <p:nvPr/>
        </p:nvSpPr>
        <p:spPr>
          <a:xfrm>
            <a:off x="5673600" y="2411280"/>
            <a:ext cx="279360" cy="263520"/>
          </a:xfrm>
          <a:custGeom>
            <a:avLst/>
            <a:gdLst>
              <a:gd name="textAreaLeft" fmla="*/ 0 w 279360"/>
              <a:gd name="textAreaRight" fmla="*/ 279720 w 279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41" h="407">
                <a:moveTo>
                  <a:pt x="384" y="158"/>
                </a:moveTo>
                <a:lnTo>
                  <a:pt x="407" y="181"/>
                </a:lnTo>
                <a:lnTo>
                  <a:pt x="418" y="203"/>
                </a:lnTo>
                <a:lnTo>
                  <a:pt x="429" y="226"/>
                </a:lnTo>
                <a:lnTo>
                  <a:pt x="441" y="248"/>
                </a:lnTo>
                <a:lnTo>
                  <a:pt x="441" y="271"/>
                </a:lnTo>
                <a:lnTo>
                  <a:pt x="441" y="294"/>
                </a:lnTo>
                <a:lnTo>
                  <a:pt x="429" y="305"/>
                </a:lnTo>
                <a:lnTo>
                  <a:pt x="429" y="328"/>
                </a:lnTo>
                <a:lnTo>
                  <a:pt x="418" y="339"/>
                </a:lnTo>
                <a:lnTo>
                  <a:pt x="407" y="361"/>
                </a:lnTo>
                <a:lnTo>
                  <a:pt x="395" y="373"/>
                </a:lnTo>
                <a:lnTo>
                  <a:pt x="395" y="384"/>
                </a:lnTo>
                <a:lnTo>
                  <a:pt x="384" y="395"/>
                </a:lnTo>
                <a:lnTo>
                  <a:pt x="373" y="407"/>
                </a:lnTo>
                <a:lnTo>
                  <a:pt x="361" y="407"/>
                </a:lnTo>
                <a:lnTo>
                  <a:pt x="350" y="407"/>
                </a:lnTo>
                <a:lnTo>
                  <a:pt x="339" y="395"/>
                </a:lnTo>
                <a:lnTo>
                  <a:pt x="316" y="384"/>
                </a:lnTo>
                <a:lnTo>
                  <a:pt x="305" y="373"/>
                </a:lnTo>
                <a:lnTo>
                  <a:pt x="282" y="350"/>
                </a:lnTo>
                <a:lnTo>
                  <a:pt x="271" y="339"/>
                </a:lnTo>
                <a:lnTo>
                  <a:pt x="237" y="316"/>
                </a:lnTo>
                <a:lnTo>
                  <a:pt x="214" y="282"/>
                </a:lnTo>
                <a:lnTo>
                  <a:pt x="181" y="260"/>
                </a:lnTo>
                <a:lnTo>
                  <a:pt x="158" y="215"/>
                </a:lnTo>
                <a:lnTo>
                  <a:pt x="124" y="181"/>
                </a:lnTo>
                <a:lnTo>
                  <a:pt x="79" y="124"/>
                </a:lnTo>
                <a:lnTo>
                  <a:pt x="45" y="79"/>
                </a:lnTo>
                <a:lnTo>
                  <a:pt x="0" y="22"/>
                </a:lnTo>
                <a:lnTo>
                  <a:pt x="11" y="11"/>
                </a:lnTo>
                <a:lnTo>
                  <a:pt x="22" y="11"/>
                </a:lnTo>
                <a:lnTo>
                  <a:pt x="45" y="0"/>
                </a:lnTo>
                <a:lnTo>
                  <a:pt x="67" y="0"/>
                </a:lnTo>
                <a:lnTo>
                  <a:pt x="90" y="0"/>
                </a:lnTo>
                <a:lnTo>
                  <a:pt x="113" y="0"/>
                </a:lnTo>
                <a:lnTo>
                  <a:pt x="147" y="0"/>
                </a:lnTo>
                <a:lnTo>
                  <a:pt x="169" y="11"/>
                </a:lnTo>
                <a:lnTo>
                  <a:pt x="203" y="22"/>
                </a:lnTo>
                <a:lnTo>
                  <a:pt x="237" y="34"/>
                </a:lnTo>
                <a:lnTo>
                  <a:pt x="294" y="68"/>
                </a:lnTo>
                <a:lnTo>
                  <a:pt x="339" y="101"/>
                </a:lnTo>
                <a:lnTo>
                  <a:pt x="384" y="15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渴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8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kě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47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Box 40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三点水写成弧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41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2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渴  解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43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只小鸟口渴了，下来找水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7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30"/>
          <p:cNvSpPr/>
          <p:nvPr/>
        </p:nvSpPr>
        <p:spPr>
          <a:xfrm>
            <a:off x="6138720" y="2352600"/>
            <a:ext cx="208080" cy="609840"/>
          </a:xfrm>
          <a:custGeom>
            <a:avLst/>
            <a:gdLst>
              <a:gd name="textAreaLeft" fmla="*/ 0 w 208080"/>
              <a:gd name="textAreaRight" fmla="*/ 208440 w 2080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328" h="939">
                <a:moveTo>
                  <a:pt x="227" y="45"/>
                </a:moveTo>
                <a:lnTo>
                  <a:pt x="238" y="147"/>
                </a:lnTo>
                <a:lnTo>
                  <a:pt x="249" y="238"/>
                </a:lnTo>
                <a:lnTo>
                  <a:pt x="260" y="317"/>
                </a:lnTo>
                <a:lnTo>
                  <a:pt x="260" y="396"/>
                </a:lnTo>
                <a:lnTo>
                  <a:pt x="272" y="475"/>
                </a:lnTo>
                <a:lnTo>
                  <a:pt x="283" y="543"/>
                </a:lnTo>
                <a:lnTo>
                  <a:pt x="294" y="611"/>
                </a:lnTo>
                <a:lnTo>
                  <a:pt x="294" y="667"/>
                </a:lnTo>
                <a:lnTo>
                  <a:pt x="306" y="724"/>
                </a:lnTo>
                <a:lnTo>
                  <a:pt x="306" y="769"/>
                </a:lnTo>
                <a:lnTo>
                  <a:pt x="317" y="814"/>
                </a:lnTo>
                <a:lnTo>
                  <a:pt x="317" y="848"/>
                </a:lnTo>
                <a:lnTo>
                  <a:pt x="328" y="882"/>
                </a:lnTo>
                <a:lnTo>
                  <a:pt x="328" y="905"/>
                </a:lnTo>
                <a:lnTo>
                  <a:pt x="328" y="927"/>
                </a:lnTo>
                <a:lnTo>
                  <a:pt x="328" y="939"/>
                </a:lnTo>
                <a:lnTo>
                  <a:pt x="249" y="939"/>
                </a:lnTo>
                <a:lnTo>
                  <a:pt x="227" y="859"/>
                </a:lnTo>
                <a:lnTo>
                  <a:pt x="215" y="780"/>
                </a:lnTo>
                <a:lnTo>
                  <a:pt x="193" y="701"/>
                </a:lnTo>
                <a:lnTo>
                  <a:pt x="181" y="633"/>
                </a:lnTo>
                <a:lnTo>
                  <a:pt x="159" y="566"/>
                </a:lnTo>
                <a:lnTo>
                  <a:pt x="147" y="509"/>
                </a:lnTo>
                <a:lnTo>
                  <a:pt x="136" y="441"/>
                </a:lnTo>
                <a:lnTo>
                  <a:pt x="125" y="385"/>
                </a:lnTo>
                <a:lnTo>
                  <a:pt x="114" y="339"/>
                </a:lnTo>
                <a:lnTo>
                  <a:pt x="102" y="294"/>
                </a:lnTo>
                <a:lnTo>
                  <a:pt x="91" y="260"/>
                </a:lnTo>
                <a:lnTo>
                  <a:pt x="80" y="226"/>
                </a:lnTo>
                <a:lnTo>
                  <a:pt x="68" y="192"/>
                </a:lnTo>
                <a:lnTo>
                  <a:pt x="57" y="170"/>
                </a:lnTo>
                <a:lnTo>
                  <a:pt x="46" y="147"/>
                </a:lnTo>
                <a:lnTo>
                  <a:pt x="34" y="125"/>
                </a:lnTo>
                <a:lnTo>
                  <a:pt x="23" y="113"/>
                </a:lnTo>
                <a:lnTo>
                  <a:pt x="12" y="102"/>
                </a:lnTo>
                <a:lnTo>
                  <a:pt x="12" y="79"/>
                </a:lnTo>
                <a:lnTo>
                  <a:pt x="0" y="68"/>
                </a:lnTo>
                <a:lnTo>
                  <a:pt x="0" y="57"/>
                </a:lnTo>
                <a:lnTo>
                  <a:pt x="0" y="45"/>
                </a:lnTo>
                <a:lnTo>
                  <a:pt x="12" y="23"/>
                </a:lnTo>
                <a:lnTo>
                  <a:pt x="12" y="12"/>
                </a:lnTo>
                <a:lnTo>
                  <a:pt x="34" y="12"/>
                </a:lnTo>
                <a:lnTo>
                  <a:pt x="46" y="0"/>
                </a:lnTo>
                <a:lnTo>
                  <a:pt x="68" y="12"/>
                </a:lnTo>
                <a:lnTo>
                  <a:pt x="102" y="12"/>
                </a:lnTo>
                <a:lnTo>
                  <a:pt x="136" y="23"/>
                </a:lnTo>
                <a:lnTo>
                  <a:pt x="170" y="34"/>
                </a:lnTo>
                <a:lnTo>
                  <a:pt x="227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1"/>
          <p:cNvSpPr/>
          <p:nvPr/>
        </p:nvSpPr>
        <p:spPr>
          <a:xfrm>
            <a:off x="6232680" y="2255760"/>
            <a:ext cx="846000" cy="655560"/>
          </a:xfrm>
          <a:custGeom>
            <a:avLst/>
            <a:gdLst>
              <a:gd name="textAreaLeft" fmla="*/ 0 w 846000"/>
              <a:gd name="textAreaRight" fmla="*/ 846360 w 84600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1334" h="1006">
                <a:moveTo>
                  <a:pt x="1199" y="102"/>
                </a:moveTo>
                <a:lnTo>
                  <a:pt x="1233" y="125"/>
                </a:lnTo>
                <a:lnTo>
                  <a:pt x="1255" y="147"/>
                </a:lnTo>
                <a:lnTo>
                  <a:pt x="1278" y="159"/>
                </a:lnTo>
                <a:lnTo>
                  <a:pt x="1301" y="181"/>
                </a:lnTo>
                <a:lnTo>
                  <a:pt x="1312" y="192"/>
                </a:lnTo>
                <a:lnTo>
                  <a:pt x="1323" y="204"/>
                </a:lnTo>
                <a:lnTo>
                  <a:pt x="1334" y="215"/>
                </a:lnTo>
                <a:lnTo>
                  <a:pt x="1334" y="238"/>
                </a:lnTo>
                <a:lnTo>
                  <a:pt x="1323" y="260"/>
                </a:lnTo>
                <a:lnTo>
                  <a:pt x="1301" y="272"/>
                </a:lnTo>
                <a:lnTo>
                  <a:pt x="1289" y="283"/>
                </a:lnTo>
                <a:lnTo>
                  <a:pt x="1278" y="283"/>
                </a:lnTo>
                <a:lnTo>
                  <a:pt x="1267" y="294"/>
                </a:lnTo>
                <a:lnTo>
                  <a:pt x="1267" y="306"/>
                </a:lnTo>
                <a:lnTo>
                  <a:pt x="1255" y="306"/>
                </a:lnTo>
                <a:lnTo>
                  <a:pt x="1244" y="328"/>
                </a:lnTo>
                <a:lnTo>
                  <a:pt x="1221" y="362"/>
                </a:lnTo>
                <a:lnTo>
                  <a:pt x="1199" y="407"/>
                </a:lnTo>
                <a:lnTo>
                  <a:pt x="1176" y="453"/>
                </a:lnTo>
                <a:lnTo>
                  <a:pt x="1154" y="520"/>
                </a:lnTo>
                <a:lnTo>
                  <a:pt x="1120" y="588"/>
                </a:lnTo>
                <a:lnTo>
                  <a:pt x="1097" y="667"/>
                </a:lnTo>
                <a:lnTo>
                  <a:pt x="1074" y="713"/>
                </a:lnTo>
                <a:lnTo>
                  <a:pt x="1063" y="746"/>
                </a:lnTo>
                <a:lnTo>
                  <a:pt x="1052" y="792"/>
                </a:lnTo>
                <a:lnTo>
                  <a:pt x="1041" y="826"/>
                </a:lnTo>
                <a:lnTo>
                  <a:pt x="1018" y="859"/>
                </a:lnTo>
                <a:lnTo>
                  <a:pt x="1007" y="882"/>
                </a:lnTo>
                <a:lnTo>
                  <a:pt x="1007" y="905"/>
                </a:lnTo>
                <a:lnTo>
                  <a:pt x="995" y="927"/>
                </a:lnTo>
                <a:lnTo>
                  <a:pt x="984" y="950"/>
                </a:lnTo>
                <a:lnTo>
                  <a:pt x="973" y="973"/>
                </a:lnTo>
                <a:lnTo>
                  <a:pt x="973" y="984"/>
                </a:lnTo>
                <a:lnTo>
                  <a:pt x="961" y="995"/>
                </a:lnTo>
                <a:lnTo>
                  <a:pt x="961" y="1006"/>
                </a:lnTo>
                <a:lnTo>
                  <a:pt x="950" y="1006"/>
                </a:lnTo>
                <a:lnTo>
                  <a:pt x="939" y="995"/>
                </a:lnTo>
                <a:lnTo>
                  <a:pt x="927" y="973"/>
                </a:lnTo>
                <a:lnTo>
                  <a:pt x="916" y="950"/>
                </a:lnTo>
                <a:lnTo>
                  <a:pt x="916" y="939"/>
                </a:lnTo>
                <a:lnTo>
                  <a:pt x="905" y="916"/>
                </a:lnTo>
                <a:lnTo>
                  <a:pt x="905" y="905"/>
                </a:lnTo>
                <a:lnTo>
                  <a:pt x="905" y="882"/>
                </a:lnTo>
                <a:lnTo>
                  <a:pt x="905" y="848"/>
                </a:lnTo>
                <a:lnTo>
                  <a:pt x="905" y="814"/>
                </a:lnTo>
                <a:lnTo>
                  <a:pt x="905" y="780"/>
                </a:lnTo>
                <a:lnTo>
                  <a:pt x="916" y="735"/>
                </a:lnTo>
                <a:lnTo>
                  <a:pt x="927" y="690"/>
                </a:lnTo>
                <a:lnTo>
                  <a:pt x="939" y="645"/>
                </a:lnTo>
                <a:lnTo>
                  <a:pt x="950" y="588"/>
                </a:lnTo>
                <a:lnTo>
                  <a:pt x="961" y="543"/>
                </a:lnTo>
                <a:lnTo>
                  <a:pt x="973" y="498"/>
                </a:lnTo>
                <a:lnTo>
                  <a:pt x="973" y="464"/>
                </a:lnTo>
                <a:lnTo>
                  <a:pt x="984" y="430"/>
                </a:lnTo>
                <a:lnTo>
                  <a:pt x="984" y="396"/>
                </a:lnTo>
                <a:lnTo>
                  <a:pt x="984" y="362"/>
                </a:lnTo>
                <a:lnTo>
                  <a:pt x="984" y="339"/>
                </a:lnTo>
                <a:lnTo>
                  <a:pt x="984" y="306"/>
                </a:lnTo>
                <a:lnTo>
                  <a:pt x="984" y="272"/>
                </a:lnTo>
                <a:lnTo>
                  <a:pt x="961" y="238"/>
                </a:lnTo>
                <a:lnTo>
                  <a:pt x="950" y="215"/>
                </a:lnTo>
                <a:lnTo>
                  <a:pt x="927" y="215"/>
                </a:lnTo>
                <a:lnTo>
                  <a:pt x="905" y="204"/>
                </a:lnTo>
                <a:lnTo>
                  <a:pt x="871" y="192"/>
                </a:lnTo>
                <a:lnTo>
                  <a:pt x="848" y="192"/>
                </a:lnTo>
                <a:lnTo>
                  <a:pt x="826" y="192"/>
                </a:lnTo>
                <a:lnTo>
                  <a:pt x="792" y="192"/>
                </a:lnTo>
                <a:lnTo>
                  <a:pt x="758" y="204"/>
                </a:lnTo>
                <a:lnTo>
                  <a:pt x="713" y="204"/>
                </a:lnTo>
                <a:lnTo>
                  <a:pt x="667" y="215"/>
                </a:lnTo>
                <a:lnTo>
                  <a:pt x="611" y="215"/>
                </a:lnTo>
                <a:lnTo>
                  <a:pt x="543" y="226"/>
                </a:lnTo>
                <a:lnTo>
                  <a:pt x="475" y="249"/>
                </a:lnTo>
                <a:lnTo>
                  <a:pt x="396" y="260"/>
                </a:lnTo>
                <a:lnTo>
                  <a:pt x="328" y="272"/>
                </a:lnTo>
                <a:lnTo>
                  <a:pt x="260" y="283"/>
                </a:lnTo>
                <a:lnTo>
                  <a:pt x="204" y="283"/>
                </a:lnTo>
                <a:lnTo>
                  <a:pt x="147" y="294"/>
                </a:lnTo>
                <a:lnTo>
                  <a:pt x="91" y="294"/>
                </a:lnTo>
                <a:lnTo>
                  <a:pt x="46" y="294"/>
                </a:lnTo>
                <a:lnTo>
                  <a:pt x="0" y="294"/>
                </a:lnTo>
                <a:lnTo>
                  <a:pt x="0" y="181"/>
                </a:lnTo>
                <a:lnTo>
                  <a:pt x="46" y="181"/>
                </a:lnTo>
                <a:lnTo>
                  <a:pt x="91" y="181"/>
                </a:lnTo>
                <a:lnTo>
                  <a:pt x="136" y="181"/>
                </a:lnTo>
                <a:lnTo>
                  <a:pt x="181" y="181"/>
                </a:lnTo>
                <a:lnTo>
                  <a:pt x="215" y="181"/>
                </a:lnTo>
                <a:lnTo>
                  <a:pt x="249" y="170"/>
                </a:lnTo>
                <a:lnTo>
                  <a:pt x="272" y="170"/>
                </a:lnTo>
                <a:lnTo>
                  <a:pt x="294" y="170"/>
                </a:lnTo>
                <a:lnTo>
                  <a:pt x="317" y="159"/>
                </a:lnTo>
                <a:lnTo>
                  <a:pt x="351" y="159"/>
                </a:lnTo>
                <a:lnTo>
                  <a:pt x="385" y="147"/>
                </a:lnTo>
                <a:lnTo>
                  <a:pt x="430" y="147"/>
                </a:lnTo>
                <a:lnTo>
                  <a:pt x="475" y="136"/>
                </a:lnTo>
                <a:lnTo>
                  <a:pt x="520" y="125"/>
                </a:lnTo>
                <a:lnTo>
                  <a:pt x="577" y="113"/>
                </a:lnTo>
                <a:lnTo>
                  <a:pt x="645" y="102"/>
                </a:lnTo>
                <a:lnTo>
                  <a:pt x="701" y="91"/>
                </a:lnTo>
                <a:lnTo>
                  <a:pt x="758" y="79"/>
                </a:lnTo>
                <a:lnTo>
                  <a:pt x="814" y="68"/>
                </a:lnTo>
                <a:lnTo>
                  <a:pt x="848" y="57"/>
                </a:lnTo>
                <a:lnTo>
                  <a:pt x="882" y="57"/>
                </a:lnTo>
                <a:lnTo>
                  <a:pt x="916" y="46"/>
                </a:lnTo>
                <a:lnTo>
                  <a:pt x="939" y="34"/>
                </a:lnTo>
                <a:lnTo>
                  <a:pt x="950" y="23"/>
                </a:lnTo>
                <a:lnTo>
                  <a:pt x="973" y="12"/>
                </a:lnTo>
                <a:lnTo>
                  <a:pt x="995" y="0"/>
                </a:lnTo>
                <a:lnTo>
                  <a:pt x="1018" y="0"/>
                </a:lnTo>
                <a:lnTo>
                  <a:pt x="1041" y="0"/>
                </a:lnTo>
                <a:lnTo>
                  <a:pt x="1052" y="0"/>
                </a:lnTo>
                <a:lnTo>
                  <a:pt x="1063" y="12"/>
                </a:lnTo>
                <a:lnTo>
                  <a:pt x="1086" y="23"/>
                </a:lnTo>
                <a:lnTo>
                  <a:pt x="1097" y="23"/>
                </a:lnTo>
                <a:lnTo>
                  <a:pt x="1120" y="46"/>
                </a:lnTo>
                <a:lnTo>
                  <a:pt x="1142" y="57"/>
                </a:lnTo>
                <a:lnTo>
                  <a:pt x="1176" y="79"/>
                </a:lnTo>
                <a:lnTo>
                  <a:pt x="1199" y="1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2"/>
          <p:cNvSpPr/>
          <p:nvPr/>
        </p:nvSpPr>
        <p:spPr>
          <a:xfrm>
            <a:off x="6283440" y="2558880"/>
            <a:ext cx="423720" cy="130320"/>
          </a:xfrm>
          <a:custGeom>
            <a:avLst/>
            <a:gdLst>
              <a:gd name="textAreaLeft" fmla="*/ 0 w 423720"/>
              <a:gd name="textAreaRight" fmla="*/ 424080 w 42372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667" h="203">
                <a:moveTo>
                  <a:pt x="0" y="113"/>
                </a:moveTo>
                <a:lnTo>
                  <a:pt x="22" y="102"/>
                </a:lnTo>
                <a:lnTo>
                  <a:pt x="56" y="102"/>
                </a:lnTo>
                <a:lnTo>
                  <a:pt x="135" y="90"/>
                </a:lnTo>
                <a:lnTo>
                  <a:pt x="214" y="68"/>
                </a:lnTo>
                <a:lnTo>
                  <a:pt x="260" y="56"/>
                </a:lnTo>
                <a:lnTo>
                  <a:pt x="294" y="45"/>
                </a:lnTo>
                <a:lnTo>
                  <a:pt x="339" y="34"/>
                </a:lnTo>
                <a:lnTo>
                  <a:pt x="384" y="22"/>
                </a:lnTo>
                <a:lnTo>
                  <a:pt x="418" y="22"/>
                </a:lnTo>
                <a:lnTo>
                  <a:pt x="452" y="11"/>
                </a:lnTo>
                <a:lnTo>
                  <a:pt x="474" y="11"/>
                </a:lnTo>
                <a:lnTo>
                  <a:pt x="497" y="11"/>
                </a:lnTo>
                <a:lnTo>
                  <a:pt x="508" y="11"/>
                </a:lnTo>
                <a:lnTo>
                  <a:pt x="520" y="0"/>
                </a:lnTo>
                <a:lnTo>
                  <a:pt x="542" y="0"/>
                </a:lnTo>
                <a:lnTo>
                  <a:pt x="565" y="11"/>
                </a:lnTo>
                <a:lnTo>
                  <a:pt x="587" y="11"/>
                </a:lnTo>
                <a:lnTo>
                  <a:pt x="621" y="22"/>
                </a:lnTo>
                <a:lnTo>
                  <a:pt x="633" y="22"/>
                </a:lnTo>
                <a:lnTo>
                  <a:pt x="644" y="34"/>
                </a:lnTo>
                <a:lnTo>
                  <a:pt x="655" y="45"/>
                </a:lnTo>
                <a:lnTo>
                  <a:pt x="667" y="56"/>
                </a:lnTo>
                <a:lnTo>
                  <a:pt x="667" y="68"/>
                </a:lnTo>
                <a:lnTo>
                  <a:pt x="667" y="79"/>
                </a:lnTo>
                <a:lnTo>
                  <a:pt x="655" y="90"/>
                </a:lnTo>
                <a:lnTo>
                  <a:pt x="644" y="102"/>
                </a:lnTo>
                <a:lnTo>
                  <a:pt x="633" y="113"/>
                </a:lnTo>
                <a:lnTo>
                  <a:pt x="610" y="113"/>
                </a:lnTo>
                <a:lnTo>
                  <a:pt x="587" y="124"/>
                </a:lnTo>
                <a:lnTo>
                  <a:pt x="554" y="135"/>
                </a:lnTo>
                <a:lnTo>
                  <a:pt x="520" y="135"/>
                </a:lnTo>
                <a:lnTo>
                  <a:pt x="486" y="147"/>
                </a:lnTo>
                <a:lnTo>
                  <a:pt x="440" y="158"/>
                </a:lnTo>
                <a:lnTo>
                  <a:pt x="384" y="169"/>
                </a:lnTo>
                <a:lnTo>
                  <a:pt x="316" y="169"/>
                </a:lnTo>
                <a:lnTo>
                  <a:pt x="248" y="181"/>
                </a:lnTo>
                <a:lnTo>
                  <a:pt x="169" y="192"/>
                </a:lnTo>
                <a:lnTo>
                  <a:pt x="90" y="192"/>
                </a:lnTo>
                <a:lnTo>
                  <a:pt x="0" y="203"/>
                </a:lnTo>
                <a:lnTo>
                  <a:pt x="0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3"/>
          <p:cNvSpPr/>
          <p:nvPr/>
        </p:nvSpPr>
        <p:spPr>
          <a:xfrm>
            <a:off x="6318360" y="2830680"/>
            <a:ext cx="517320" cy="109440"/>
          </a:xfrm>
          <a:custGeom>
            <a:avLst/>
            <a:gdLst>
              <a:gd name="textAreaLeft" fmla="*/ 0 w 517320"/>
              <a:gd name="textAreaRight" fmla="*/ 517680 w 517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814" h="170">
                <a:moveTo>
                  <a:pt x="0" y="57"/>
                </a:moveTo>
                <a:lnTo>
                  <a:pt x="68" y="45"/>
                </a:lnTo>
                <a:lnTo>
                  <a:pt x="136" y="34"/>
                </a:lnTo>
                <a:lnTo>
                  <a:pt x="204" y="23"/>
                </a:lnTo>
                <a:lnTo>
                  <a:pt x="271" y="11"/>
                </a:lnTo>
                <a:lnTo>
                  <a:pt x="283" y="11"/>
                </a:lnTo>
                <a:lnTo>
                  <a:pt x="305" y="0"/>
                </a:lnTo>
                <a:lnTo>
                  <a:pt x="328" y="0"/>
                </a:lnTo>
                <a:lnTo>
                  <a:pt x="351" y="0"/>
                </a:lnTo>
                <a:lnTo>
                  <a:pt x="373" y="0"/>
                </a:lnTo>
                <a:lnTo>
                  <a:pt x="407" y="0"/>
                </a:lnTo>
                <a:lnTo>
                  <a:pt x="464" y="0"/>
                </a:lnTo>
                <a:lnTo>
                  <a:pt x="543" y="0"/>
                </a:lnTo>
                <a:lnTo>
                  <a:pt x="622" y="0"/>
                </a:lnTo>
                <a:lnTo>
                  <a:pt x="712" y="0"/>
                </a:lnTo>
                <a:lnTo>
                  <a:pt x="814" y="0"/>
                </a:lnTo>
                <a:lnTo>
                  <a:pt x="814" y="91"/>
                </a:lnTo>
                <a:lnTo>
                  <a:pt x="791" y="91"/>
                </a:lnTo>
                <a:lnTo>
                  <a:pt x="769" y="91"/>
                </a:lnTo>
                <a:lnTo>
                  <a:pt x="746" y="91"/>
                </a:lnTo>
                <a:lnTo>
                  <a:pt x="712" y="91"/>
                </a:lnTo>
                <a:lnTo>
                  <a:pt x="678" y="91"/>
                </a:lnTo>
                <a:lnTo>
                  <a:pt x="633" y="102"/>
                </a:lnTo>
                <a:lnTo>
                  <a:pt x="588" y="102"/>
                </a:lnTo>
                <a:lnTo>
                  <a:pt x="543" y="102"/>
                </a:lnTo>
                <a:lnTo>
                  <a:pt x="486" y="113"/>
                </a:lnTo>
                <a:lnTo>
                  <a:pt x="430" y="113"/>
                </a:lnTo>
                <a:lnTo>
                  <a:pt x="373" y="124"/>
                </a:lnTo>
                <a:lnTo>
                  <a:pt x="305" y="136"/>
                </a:lnTo>
                <a:lnTo>
                  <a:pt x="238" y="136"/>
                </a:lnTo>
                <a:lnTo>
                  <a:pt x="170" y="147"/>
                </a:lnTo>
                <a:lnTo>
                  <a:pt x="91" y="158"/>
                </a:lnTo>
                <a:lnTo>
                  <a:pt x="0" y="170"/>
                </a:lnTo>
                <a:lnTo>
                  <a:pt x="0" y="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5"/>
          <p:cNvSpPr/>
          <p:nvPr/>
        </p:nvSpPr>
        <p:spPr>
          <a:xfrm>
            <a:off x="5500800" y="3160800"/>
            <a:ext cx="458640" cy="822240"/>
          </a:xfrm>
          <a:custGeom>
            <a:avLst/>
            <a:gdLst>
              <a:gd name="textAreaLeft" fmla="*/ 0 w 458640"/>
              <a:gd name="textAreaRight" fmla="*/ 459000 w 458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724" h="1266">
                <a:moveTo>
                  <a:pt x="272" y="1153"/>
                </a:moveTo>
                <a:lnTo>
                  <a:pt x="272" y="1176"/>
                </a:lnTo>
                <a:lnTo>
                  <a:pt x="260" y="1198"/>
                </a:lnTo>
                <a:lnTo>
                  <a:pt x="249" y="1221"/>
                </a:lnTo>
                <a:lnTo>
                  <a:pt x="249" y="1232"/>
                </a:lnTo>
                <a:lnTo>
                  <a:pt x="238" y="1243"/>
                </a:lnTo>
                <a:lnTo>
                  <a:pt x="226" y="1255"/>
                </a:lnTo>
                <a:lnTo>
                  <a:pt x="204" y="1266"/>
                </a:lnTo>
                <a:lnTo>
                  <a:pt x="192" y="1266"/>
                </a:lnTo>
                <a:lnTo>
                  <a:pt x="181" y="1266"/>
                </a:lnTo>
                <a:lnTo>
                  <a:pt x="159" y="1266"/>
                </a:lnTo>
                <a:lnTo>
                  <a:pt x="147" y="1255"/>
                </a:lnTo>
                <a:lnTo>
                  <a:pt x="125" y="1232"/>
                </a:lnTo>
                <a:lnTo>
                  <a:pt x="113" y="1209"/>
                </a:lnTo>
                <a:lnTo>
                  <a:pt x="91" y="1187"/>
                </a:lnTo>
                <a:lnTo>
                  <a:pt x="79" y="1153"/>
                </a:lnTo>
                <a:lnTo>
                  <a:pt x="57" y="1119"/>
                </a:lnTo>
                <a:lnTo>
                  <a:pt x="46" y="1085"/>
                </a:lnTo>
                <a:lnTo>
                  <a:pt x="34" y="1051"/>
                </a:lnTo>
                <a:lnTo>
                  <a:pt x="23" y="1029"/>
                </a:lnTo>
                <a:lnTo>
                  <a:pt x="12" y="995"/>
                </a:lnTo>
                <a:lnTo>
                  <a:pt x="12" y="972"/>
                </a:lnTo>
                <a:lnTo>
                  <a:pt x="12" y="961"/>
                </a:lnTo>
                <a:lnTo>
                  <a:pt x="0" y="938"/>
                </a:lnTo>
                <a:lnTo>
                  <a:pt x="12" y="916"/>
                </a:lnTo>
                <a:lnTo>
                  <a:pt x="12" y="904"/>
                </a:lnTo>
                <a:lnTo>
                  <a:pt x="12" y="893"/>
                </a:lnTo>
                <a:lnTo>
                  <a:pt x="23" y="882"/>
                </a:lnTo>
                <a:lnTo>
                  <a:pt x="46" y="870"/>
                </a:lnTo>
                <a:lnTo>
                  <a:pt x="79" y="859"/>
                </a:lnTo>
                <a:lnTo>
                  <a:pt x="102" y="859"/>
                </a:lnTo>
                <a:lnTo>
                  <a:pt x="125" y="848"/>
                </a:lnTo>
                <a:lnTo>
                  <a:pt x="147" y="848"/>
                </a:lnTo>
                <a:lnTo>
                  <a:pt x="159" y="836"/>
                </a:lnTo>
                <a:lnTo>
                  <a:pt x="159" y="825"/>
                </a:lnTo>
                <a:lnTo>
                  <a:pt x="170" y="825"/>
                </a:lnTo>
                <a:lnTo>
                  <a:pt x="181" y="803"/>
                </a:lnTo>
                <a:lnTo>
                  <a:pt x="192" y="791"/>
                </a:lnTo>
                <a:lnTo>
                  <a:pt x="204" y="769"/>
                </a:lnTo>
                <a:lnTo>
                  <a:pt x="226" y="746"/>
                </a:lnTo>
                <a:lnTo>
                  <a:pt x="238" y="723"/>
                </a:lnTo>
                <a:lnTo>
                  <a:pt x="260" y="701"/>
                </a:lnTo>
                <a:lnTo>
                  <a:pt x="283" y="667"/>
                </a:lnTo>
                <a:lnTo>
                  <a:pt x="306" y="633"/>
                </a:lnTo>
                <a:lnTo>
                  <a:pt x="328" y="588"/>
                </a:lnTo>
                <a:lnTo>
                  <a:pt x="362" y="554"/>
                </a:lnTo>
                <a:lnTo>
                  <a:pt x="385" y="509"/>
                </a:lnTo>
                <a:lnTo>
                  <a:pt x="419" y="463"/>
                </a:lnTo>
                <a:lnTo>
                  <a:pt x="441" y="407"/>
                </a:lnTo>
                <a:lnTo>
                  <a:pt x="475" y="362"/>
                </a:lnTo>
                <a:lnTo>
                  <a:pt x="509" y="305"/>
                </a:lnTo>
                <a:lnTo>
                  <a:pt x="532" y="271"/>
                </a:lnTo>
                <a:lnTo>
                  <a:pt x="554" y="226"/>
                </a:lnTo>
                <a:lnTo>
                  <a:pt x="588" y="192"/>
                </a:lnTo>
                <a:lnTo>
                  <a:pt x="599" y="158"/>
                </a:lnTo>
                <a:lnTo>
                  <a:pt x="622" y="124"/>
                </a:lnTo>
                <a:lnTo>
                  <a:pt x="645" y="90"/>
                </a:lnTo>
                <a:lnTo>
                  <a:pt x="656" y="68"/>
                </a:lnTo>
                <a:lnTo>
                  <a:pt x="679" y="45"/>
                </a:lnTo>
                <a:lnTo>
                  <a:pt x="690" y="34"/>
                </a:lnTo>
                <a:lnTo>
                  <a:pt x="701" y="22"/>
                </a:lnTo>
                <a:lnTo>
                  <a:pt x="713" y="11"/>
                </a:lnTo>
                <a:lnTo>
                  <a:pt x="713" y="0"/>
                </a:lnTo>
                <a:lnTo>
                  <a:pt x="724" y="0"/>
                </a:lnTo>
                <a:lnTo>
                  <a:pt x="724" y="11"/>
                </a:lnTo>
                <a:lnTo>
                  <a:pt x="724" y="22"/>
                </a:lnTo>
                <a:lnTo>
                  <a:pt x="724" y="34"/>
                </a:lnTo>
                <a:lnTo>
                  <a:pt x="724" y="56"/>
                </a:lnTo>
                <a:lnTo>
                  <a:pt x="713" y="79"/>
                </a:lnTo>
                <a:lnTo>
                  <a:pt x="713" y="102"/>
                </a:lnTo>
                <a:lnTo>
                  <a:pt x="701" y="147"/>
                </a:lnTo>
                <a:lnTo>
                  <a:pt x="690" y="181"/>
                </a:lnTo>
                <a:lnTo>
                  <a:pt x="667" y="226"/>
                </a:lnTo>
                <a:lnTo>
                  <a:pt x="645" y="282"/>
                </a:lnTo>
                <a:lnTo>
                  <a:pt x="622" y="339"/>
                </a:lnTo>
                <a:lnTo>
                  <a:pt x="599" y="396"/>
                </a:lnTo>
                <a:lnTo>
                  <a:pt x="566" y="463"/>
                </a:lnTo>
                <a:lnTo>
                  <a:pt x="532" y="542"/>
                </a:lnTo>
                <a:lnTo>
                  <a:pt x="498" y="610"/>
                </a:lnTo>
                <a:lnTo>
                  <a:pt x="464" y="701"/>
                </a:lnTo>
                <a:lnTo>
                  <a:pt x="419" y="780"/>
                </a:lnTo>
                <a:lnTo>
                  <a:pt x="385" y="848"/>
                </a:lnTo>
                <a:lnTo>
                  <a:pt x="362" y="916"/>
                </a:lnTo>
                <a:lnTo>
                  <a:pt x="328" y="983"/>
                </a:lnTo>
                <a:lnTo>
                  <a:pt x="306" y="1040"/>
                </a:lnTo>
                <a:lnTo>
                  <a:pt x="294" y="1085"/>
                </a:lnTo>
                <a:lnTo>
                  <a:pt x="283" y="1119"/>
                </a:lnTo>
                <a:lnTo>
                  <a:pt x="272" y="115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6"/>
          <p:cNvSpPr/>
          <p:nvPr/>
        </p:nvSpPr>
        <p:spPr>
          <a:xfrm>
            <a:off x="6024600" y="3456000"/>
            <a:ext cx="876240" cy="498600"/>
          </a:xfrm>
          <a:custGeom>
            <a:avLst/>
            <a:gdLst>
              <a:gd name="textAreaLeft" fmla="*/ 0 w 876240"/>
              <a:gd name="textAreaRight" fmla="*/ 876600 w 87624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1379" h="769">
                <a:moveTo>
                  <a:pt x="56" y="11"/>
                </a:moveTo>
                <a:lnTo>
                  <a:pt x="90" y="0"/>
                </a:lnTo>
                <a:lnTo>
                  <a:pt x="113" y="0"/>
                </a:lnTo>
                <a:lnTo>
                  <a:pt x="135" y="0"/>
                </a:lnTo>
                <a:lnTo>
                  <a:pt x="158" y="11"/>
                </a:lnTo>
                <a:lnTo>
                  <a:pt x="180" y="11"/>
                </a:lnTo>
                <a:lnTo>
                  <a:pt x="192" y="23"/>
                </a:lnTo>
                <a:lnTo>
                  <a:pt x="214" y="45"/>
                </a:lnTo>
                <a:lnTo>
                  <a:pt x="226" y="68"/>
                </a:lnTo>
                <a:lnTo>
                  <a:pt x="237" y="102"/>
                </a:lnTo>
                <a:lnTo>
                  <a:pt x="248" y="113"/>
                </a:lnTo>
                <a:lnTo>
                  <a:pt x="248" y="136"/>
                </a:lnTo>
                <a:lnTo>
                  <a:pt x="248" y="158"/>
                </a:lnTo>
                <a:lnTo>
                  <a:pt x="248" y="181"/>
                </a:lnTo>
                <a:lnTo>
                  <a:pt x="248" y="215"/>
                </a:lnTo>
                <a:lnTo>
                  <a:pt x="248" y="249"/>
                </a:lnTo>
                <a:lnTo>
                  <a:pt x="237" y="305"/>
                </a:lnTo>
                <a:lnTo>
                  <a:pt x="237" y="339"/>
                </a:lnTo>
                <a:lnTo>
                  <a:pt x="237" y="373"/>
                </a:lnTo>
                <a:lnTo>
                  <a:pt x="237" y="396"/>
                </a:lnTo>
                <a:lnTo>
                  <a:pt x="237" y="418"/>
                </a:lnTo>
                <a:lnTo>
                  <a:pt x="237" y="441"/>
                </a:lnTo>
                <a:lnTo>
                  <a:pt x="237" y="452"/>
                </a:lnTo>
                <a:lnTo>
                  <a:pt x="237" y="464"/>
                </a:lnTo>
                <a:lnTo>
                  <a:pt x="248" y="475"/>
                </a:lnTo>
                <a:lnTo>
                  <a:pt x="260" y="475"/>
                </a:lnTo>
                <a:lnTo>
                  <a:pt x="271" y="475"/>
                </a:lnTo>
                <a:lnTo>
                  <a:pt x="282" y="475"/>
                </a:lnTo>
                <a:lnTo>
                  <a:pt x="305" y="464"/>
                </a:lnTo>
                <a:lnTo>
                  <a:pt x="327" y="464"/>
                </a:lnTo>
                <a:lnTo>
                  <a:pt x="339" y="464"/>
                </a:lnTo>
                <a:lnTo>
                  <a:pt x="373" y="464"/>
                </a:lnTo>
                <a:lnTo>
                  <a:pt x="395" y="452"/>
                </a:lnTo>
                <a:lnTo>
                  <a:pt x="429" y="452"/>
                </a:lnTo>
                <a:lnTo>
                  <a:pt x="452" y="441"/>
                </a:lnTo>
                <a:lnTo>
                  <a:pt x="497" y="441"/>
                </a:lnTo>
                <a:lnTo>
                  <a:pt x="531" y="430"/>
                </a:lnTo>
                <a:lnTo>
                  <a:pt x="565" y="418"/>
                </a:lnTo>
                <a:lnTo>
                  <a:pt x="610" y="418"/>
                </a:lnTo>
                <a:lnTo>
                  <a:pt x="701" y="407"/>
                </a:lnTo>
                <a:lnTo>
                  <a:pt x="780" y="384"/>
                </a:lnTo>
                <a:lnTo>
                  <a:pt x="847" y="373"/>
                </a:lnTo>
                <a:lnTo>
                  <a:pt x="915" y="373"/>
                </a:lnTo>
                <a:lnTo>
                  <a:pt x="983" y="362"/>
                </a:lnTo>
                <a:lnTo>
                  <a:pt x="1040" y="351"/>
                </a:lnTo>
                <a:lnTo>
                  <a:pt x="1096" y="351"/>
                </a:lnTo>
                <a:lnTo>
                  <a:pt x="1141" y="351"/>
                </a:lnTo>
                <a:lnTo>
                  <a:pt x="1187" y="351"/>
                </a:lnTo>
                <a:lnTo>
                  <a:pt x="1221" y="351"/>
                </a:lnTo>
                <a:lnTo>
                  <a:pt x="1254" y="362"/>
                </a:lnTo>
                <a:lnTo>
                  <a:pt x="1288" y="362"/>
                </a:lnTo>
                <a:lnTo>
                  <a:pt x="1311" y="373"/>
                </a:lnTo>
                <a:lnTo>
                  <a:pt x="1322" y="373"/>
                </a:lnTo>
                <a:lnTo>
                  <a:pt x="1345" y="384"/>
                </a:lnTo>
                <a:lnTo>
                  <a:pt x="1356" y="407"/>
                </a:lnTo>
                <a:lnTo>
                  <a:pt x="1356" y="418"/>
                </a:lnTo>
                <a:lnTo>
                  <a:pt x="1368" y="430"/>
                </a:lnTo>
                <a:lnTo>
                  <a:pt x="1368" y="441"/>
                </a:lnTo>
                <a:lnTo>
                  <a:pt x="1379" y="464"/>
                </a:lnTo>
                <a:lnTo>
                  <a:pt x="1368" y="464"/>
                </a:lnTo>
                <a:lnTo>
                  <a:pt x="1356" y="475"/>
                </a:lnTo>
                <a:lnTo>
                  <a:pt x="1334" y="475"/>
                </a:lnTo>
                <a:lnTo>
                  <a:pt x="1322" y="475"/>
                </a:lnTo>
                <a:lnTo>
                  <a:pt x="1300" y="486"/>
                </a:lnTo>
                <a:lnTo>
                  <a:pt x="1277" y="486"/>
                </a:lnTo>
                <a:lnTo>
                  <a:pt x="1232" y="486"/>
                </a:lnTo>
                <a:lnTo>
                  <a:pt x="1221" y="486"/>
                </a:lnTo>
                <a:lnTo>
                  <a:pt x="1209" y="486"/>
                </a:lnTo>
                <a:lnTo>
                  <a:pt x="1187" y="486"/>
                </a:lnTo>
                <a:lnTo>
                  <a:pt x="1164" y="486"/>
                </a:lnTo>
                <a:lnTo>
                  <a:pt x="1141" y="486"/>
                </a:lnTo>
                <a:lnTo>
                  <a:pt x="1119" y="486"/>
                </a:lnTo>
                <a:lnTo>
                  <a:pt x="1062" y="497"/>
                </a:lnTo>
                <a:lnTo>
                  <a:pt x="994" y="497"/>
                </a:lnTo>
                <a:lnTo>
                  <a:pt x="915" y="509"/>
                </a:lnTo>
                <a:lnTo>
                  <a:pt x="825" y="520"/>
                </a:lnTo>
                <a:lnTo>
                  <a:pt x="734" y="531"/>
                </a:lnTo>
                <a:lnTo>
                  <a:pt x="689" y="543"/>
                </a:lnTo>
                <a:lnTo>
                  <a:pt x="633" y="554"/>
                </a:lnTo>
                <a:lnTo>
                  <a:pt x="599" y="554"/>
                </a:lnTo>
                <a:lnTo>
                  <a:pt x="554" y="565"/>
                </a:lnTo>
                <a:lnTo>
                  <a:pt x="520" y="577"/>
                </a:lnTo>
                <a:lnTo>
                  <a:pt x="474" y="577"/>
                </a:lnTo>
                <a:lnTo>
                  <a:pt x="418" y="599"/>
                </a:lnTo>
                <a:lnTo>
                  <a:pt x="361" y="611"/>
                </a:lnTo>
                <a:lnTo>
                  <a:pt x="305" y="633"/>
                </a:lnTo>
                <a:lnTo>
                  <a:pt x="271" y="656"/>
                </a:lnTo>
                <a:lnTo>
                  <a:pt x="237" y="678"/>
                </a:lnTo>
                <a:lnTo>
                  <a:pt x="214" y="701"/>
                </a:lnTo>
                <a:lnTo>
                  <a:pt x="203" y="724"/>
                </a:lnTo>
                <a:lnTo>
                  <a:pt x="180" y="735"/>
                </a:lnTo>
                <a:lnTo>
                  <a:pt x="158" y="746"/>
                </a:lnTo>
                <a:lnTo>
                  <a:pt x="147" y="757"/>
                </a:lnTo>
                <a:lnTo>
                  <a:pt x="135" y="769"/>
                </a:lnTo>
                <a:lnTo>
                  <a:pt x="124" y="769"/>
                </a:lnTo>
                <a:lnTo>
                  <a:pt x="113" y="769"/>
                </a:lnTo>
                <a:lnTo>
                  <a:pt x="90" y="757"/>
                </a:lnTo>
                <a:lnTo>
                  <a:pt x="79" y="746"/>
                </a:lnTo>
                <a:lnTo>
                  <a:pt x="67" y="735"/>
                </a:lnTo>
                <a:lnTo>
                  <a:pt x="56" y="724"/>
                </a:lnTo>
                <a:lnTo>
                  <a:pt x="45" y="712"/>
                </a:lnTo>
                <a:lnTo>
                  <a:pt x="33" y="701"/>
                </a:lnTo>
                <a:lnTo>
                  <a:pt x="11" y="678"/>
                </a:lnTo>
                <a:lnTo>
                  <a:pt x="11" y="656"/>
                </a:lnTo>
                <a:lnTo>
                  <a:pt x="0" y="644"/>
                </a:lnTo>
                <a:lnTo>
                  <a:pt x="0" y="633"/>
                </a:lnTo>
                <a:lnTo>
                  <a:pt x="0" y="622"/>
                </a:lnTo>
                <a:lnTo>
                  <a:pt x="0" y="611"/>
                </a:lnTo>
                <a:lnTo>
                  <a:pt x="0" y="599"/>
                </a:lnTo>
                <a:lnTo>
                  <a:pt x="11" y="588"/>
                </a:lnTo>
                <a:lnTo>
                  <a:pt x="22" y="577"/>
                </a:lnTo>
                <a:lnTo>
                  <a:pt x="33" y="565"/>
                </a:lnTo>
                <a:lnTo>
                  <a:pt x="45" y="543"/>
                </a:lnTo>
                <a:lnTo>
                  <a:pt x="56" y="520"/>
                </a:lnTo>
                <a:lnTo>
                  <a:pt x="67" y="497"/>
                </a:lnTo>
                <a:lnTo>
                  <a:pt x="79" y="475"/>
                </a:lnTo>
                <a:lnTo>
                  <a:pt x="79" y="452"/>
                </a:lnTo>
                <a:lnTo>
                  <a:pt x="90" y="430"/>
                </a:lnTo>
                <a:lnTo>
                  <a:pt x="90" y="396"/>
                </a:lnTo>
                <a:lnTo>
                  <a:pt x="101" y="362"/>
                </a:lnTo>
                <a:lnTo>
                  <a:pt x="101" y="339"/>
                </a:lnTo>
                <a:lnTo>
                  <a:pt x="101" y="305"/>
                </a:lnTo>
                <a:lnTo>
                  <a:pt x="101" y="249"/>
                </a:lnTo>
                <a:lnTo>
                  <a:pt x="90" y="181"/>
                </a:lnTo>
                <a:lnTo>
                  <a:pt x="67" y="124"/>
                </a:lnTo>
                <a:lnTo>
                  <a:pt x="56" y="102"/>
                </a:lnTo>
                <a:lnTo>
                  <a:pt x="45" y="79"/>
                </a:lnTo>
                <a:lnTo>
                  <a:pt x="45" y="57"/>
                </a:lnTo>
                <a:lnTo>
                  <a:pt x="33" y="34"/>
                </a:lnTo>
                <a:lnTo>
                  <a:pt x="45" y="23"/>
                </a:lnTo>
                <a:lnTo>
                  <a:pt x="45" y="11"/>
                </a:lnTo>
                <a:lnTo>
                  <a:pt x="56" y="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40"/>
          <p:cNvSpPr/>
          <p:nvPr/>
        </p:nvSpPr>
        <p:spPr>
          <a:xfrm>
            <a:off x="5514840" y="288144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18" h="351">
                <a:moveTo>
                  <a:pt x="0" y="0"/>
                </a:moveTo>
                <a:lnTo>
                  <a:pt x="56" y="0"/>
                </a:lnTo>
                <a:lnTo>
                  <a:pt x="113" y="0"/>
                </a:lnTo>
                <a:lnTo>
                  <a:pt x="169" y="0"/>
                </a:lnTo>
                <a:lnTo>
                  <a:pt x="215" y="12"/>
                </a:lnTo>
                <a:lnTo>
                  <a:pt x="249" y="23"/>
                </a:lnTo>
                <a:lnTo>
                  <a:pt x="283" y="34"/>
                </a:lnTo>
                <a:lnTo>
                  <a:pt x="316" y="45"/>
                </a:lnTo>
                <a:lnTo>
                  <a:pt x="339" y="57"/>
                </a:lnTo>
                <a:lnTo>
                  <a:pt x="362" y="79"/>
                </a:lnTo>
                <a:lnTo>
                  <a:pt x="373" y="102"/>
                </a:lnTo>
                <a:lnTo>
                  <a:pt x="396" y="125"/>
                </a:lnTo>
                <a:lnTo>
                  <a:pt x="407" y="136"/>
                </a:lnTo>
                <a:lnTo>
                  <a:pt x="407" y="159"/>
                </a:lnTo>
                <a:lnTo>
                  <a:pt x="418" y="170"/>
                </a:lnTo>
                <a:lnTo>
                  <a:pt x="418" y="192"/>
                </a:lnTo>
                <a:lnTo>
                  <a:pt x="418" y="204"/>
                </a:lnTo>
                <a:lnTo>
                  <a:pt x="418" y="238"/>
                </a:lnTo>
                <a:lnTo>
                  <a:pt x="418" y="260"/>
                </a:lnTo>
                <a:lnTo>
                  <a:pt x="407" y="294"/>
                </a:lnTo>
                <a:lnTo>
                  <a:pt x="396" y="305"/>
                </a:lnTo>
                <a:lnTo>
                  <a:pt x="384" y="328"/>
                </a:lnTo>
                <a:lnTo>
                  <a:pt x="362" y="339"/>
                </a:lnTo>
                <a:lnTo>
                  <a:pt x="350" y="351"/>
                </a:lnTo>
                <a:lnTo>
                  <a:pt x="339" y="351"/>
                </a:lnTo>
                <a:lnTo>
                  <a:pt x="328" y="339"/>
                </a:lnTo>
                <a:lnTo>
                  <a:pt x="305" y="328"/>
                </a:lnTo>
                <a:lnTo>
                  <a:pt x="283" y="317"/>
                </a:lnTo>
                <a:lnTo>
                  <a:pt x="260" y="294"/>
                </a:lnTo>
                <a:lnTo>
                  <a:pt x="226" y="260"/>
                </a:lnTo>
                <a:lnTo>
                  <a:pt x="192" y="226"/>
                </a:lnTo>
                <a:lnTo>
                  <a:pt x="158" y="192"/>
                </a:lnTo>
                <a:lnTo>
                  <a:pt x="124" y="159"/>
                </a:lnTo>
                <a:lnTo>
                  <a:pt x="90" y="125"/>
                </a:lnTo>
                <a:lnTo>
                  <a:pt x="56" y="91"/>
                </a:lnTo>
                <a:lnTo>
                  <a:pt x="34" y="68"/>
                </a:lnTo>
                <a:lnTo>
                  <a:pt x="23" y="45"/>
                </a:lnTo>
                <a:lnTo>
                  <a:pt x="11" y="23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41"/>
          <p:cNvSpPr/>
          <p:nvPr/>
        </p:nvSpPr>
        <p:spPr>
          <a:xfrm>
            <a:off x="5952960" y="2948040"/>
            <a:ext cx="495360" cy="477720"/>
          </a:xfrm>
          <a:custGeom>
            <a:avLst/>
            <a:gdLst>
              <a:gd name="textAreaLeft" fmla="*/ 0 w 495360"/>
              <a:gd name="textAreaRight" fmla="*/ 495720 w 49536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780" h="735">
                <a:moveTo>
                  <a:pt x="169" y="667"/>
                </a:moveTo>
                <a:lnTo>
                  <a:pt x="135" y="690"/>
                </a:lnTo>
                <a:lnTo>
                  <a:pt x="101" y="712"/>
                </a:lnTo>
                <a:lnTo>
                  <a:pt x="67" y="724"/>
                </a:lnTo>
                <a:lnTo>
                  <a:pt x="45" y="735"/>
                </a:lnTo>
                <a:lnTo>
                  <a:pt x="33" y="735"/>
                </a:lnTo>
                <a:lnTo>
                  <a:pt x="11" y="735"/>
                </a:lnTo>
                <a:lnTo>
                  <a:pt x="0" y="735"/>
                </a:lnTo>
                <a:lnTo>
                  <a:pt x="0" y="724"/>
                </a:lnTo>
                <a:lnTo>
                  <a:pt x="0" y="712"/>
                </a:lnTo>
                <a:lnTo>
                  <a:pt x="22" y="690"/>
                </a:lnTo>
                <a:lnTo>
                  <a:pt x="33" y="667"/>
                </a:lnTo>
                <a:lnTo>
                  <a:pt x="67" y="644"/>
                </a:lnTo>
                <a:lnTo>
                  <a:pt x="101" y="610"/>
                </a:lnTo>
                <a:lnTo>
                  <a:pt x="146" y="565"/>
                </a:lnTo>
                <a:lnTo>
                  <a:pt x="192" y="520"/>
                </a:lnTo>
                <a:lnTo>
                  <a:pt x="248" y="486"/>
                </a:lnTo>
                <a:lnTo>
                  <a:pt x="293" y="441"/>
                </a:lnTo>
                <a:lnTo>
                  <a:pt x="339" y="407"/>
                </a:lnTo>
                <a:lnTo>
                  <a:pt x="373" y="362"/>
                </a:lnTo>
                <a:lnTo>
                  <a:pt x="407" y="328"/>
                </a:lnTo>
                <a:lnTo>
                  <a:pt x="440" y="294"/>
                </a:lnTo>
                <a:lnTo>
                  <a:pt x="463" y="271"/>
                </a:lnTo>
                <a:lnTo>
                  <a:pt x="486" y="237"/>
                </a:lnTo>
                <a:lnTo>
                  <a:pt x="520" y="181"/>
                </a:lnTo>
                <a:lnTo>
                  <a:pt x="553" y="113"/>
                </a:lnTo>
                <a:lnTo>
                  <a:pt x="565" y="57"/>
                </a:lnTo>
                <a:lnTo>
                  <a:pt x="576" y="0"/>
                </a:lnTo>
                <a:lnTo>
                  <a:pt x="621" y="23"/>
                </a:lnTo>
                <a:lnTo>
                  <a:pt x="655" y="45"/>
                </a:lnTo>
                <a:lnTo>
                  <a:pt x="689" y="68"/>
                </a:lnTo>
                <a:lnTo>
                  <a:pt x="723" y="90"/>
                </a:lnTo>
                <a:lnTo>
                  <a:pt x="746" y="102"/>
                </a:lnTo>
                <a:lnTo>
                  <a:pt x="757" y="124"/>
                </a:lnTo>
                <a:lnTo>
                  <a:pt x="768" y="136"/>
                </a:lnTo>
                <a:lnTo>
                  <a:pt x="780" y="147"/>
                </a:lnTo>
                <a:lnTo>
                  <a:pt x="780" y="158"/>
                </a:lnTo>
                <a:lnTo>
                  <a:pt x="780" y="170"/>
                </a:lnTo>
                <a:lnTo>
                  <a:pt x="780" y="192"/>
                </a:lnTo>
                <a:lnTo>
                  <a:pt x="780" y="203"/>
                </a:lnTo>
                <a:lnTo>
                  <a:pt x="768" y="215"/>
                </a:lnTo>
                <a:lnTo>
                  <a:pt x="768" y="237"/>
                </a:lnTo>
                <a:lnTo>
                  <a:pt x="757" y="249"/>
                </a:lnTo>
                <a:lnTo>
                  <a:pt x="734" y="260"/>
                </a:lnTo>
                <a:lnTo>
                  <a:pt x="723" y="283"/>
                </a:lnTo>
                <a:lnTo>
                  <a:pt x="700" y="294"/>
                </a:lnTo>
                <a:lnTo>
                  <a:pt x="678" y="317"/>
                </a:lnTo>
                <a:lnTo>
                  <a:pt x="655" y="339"/>
                </a:lnTo>
                <a:lnTo>
                  <a:pt x="621" y="362"/>
                </a:lnTo>
                <a:lnTo>
                  <a:pt x="587" y="384"/>
                </a:lnTo>
                <a:lnTo>
                  <a:pt x="553" y="418"/>
                </a:lnTo>
                <a:lnTo>
                  <a:pt x="520" y="441"/>
                </a:lnTo>
                <a:lnTo>
                  <a:pt x="474" y="475"/>
                </a:lnTo>
                <a:lnTo>
                  <a:pt x="429" y="509"/>
                </a:lnTo>
                <a:lnTo>
                  <a:pt x="339" y="565"/>
                </a:lnTo>
                <a:lnTo>
                  <a:pt x="260" y="622"/>
                </a:lnTo>
                <a:lnTo>
                  <a:pt x="169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9"/>
          <p:cNvSpPr/>
          <p:nvPr/>
        </p:nvSpPr>
        <p:spPr>
          <a:xfrm>
            <a:off x="6211800" y="3043080"/>
            <a:ext cx="1040040" cy="11988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198800"/>
              <a:gd name="textAreaBottom" fmla="*/ 1199160 h 1198800"/>
            </a:gdLst>
            <a:ahLst/>
            <a:rect l="textAreaLeft" t="textAreaTop" r="textAreaRight" b="textAreaBottom"/>
            <a:pathLst>
              <a:path w="1639" h="1843">
                <a:moveTo>
                  <a:pt x="1480" y="102"/>
                </a:moveTo>
                <a:lnTo>
                  <a:pt x="1514" y="124"/>
                </a:lnTo>
                <a:lnTo>
                  <a:pt x="1548" y="147"/>
                </a:lnTo>
                <a:lnTo>
                  <a:pt x="1571" y="170"/>
                </a:lnTo>
                <a:lnTo>
                  <a:pt x="1594" y="181"/>
                </a:lnTo>
                <a:lnTo>
                  <a:pt x="1616" y="192"/>
                </a:lnTo>
                <a:lnTo>
                  <a:pt x="1627" y="203"/>
                </a:lnTo>
                <a:lnTo>
                  <a:pt x="1639" y="215"/>
                </a:lnTo>
                <a:lnTo>
                  <a:pt x="1639" y="237"/>
                </a:lnTo>
                <a:lnTo>
                  <a:pt x="1639" y="260"/>
                </a:lnTo>
                <a:lnTo>
                  <a:pt x="1616" y="271"/>
                </a:lnTo>
                <a:lnTo>
                  <a:pt x="1605" y="283"/>
                </a:lnTo>
                <a:lnTo>
                  <a:pt x="1594" y="305"/>
                </a:lnTo>
                <a:lnTo>
                  <a:pt x="1582" y="317"/>
                </a:lnTo>
                <a:lnTo>
                  <a:pt x="1571" y="350"/>
                </a:lnTo>
                <a:lnTo>
                  <a:pt x="1560" y="384"/>
                </a:lnTo>
                <a:lnTo>
                  <a:pt x="1560" y="430"/>
                </a:lnTo>
                <a:lnTo>
                  <a:pt x="1548" y="475"/>
                </a:lnTo>
                <a:lnTo>
                  <a:pt x="1548" y="531"/>
                </a:lnTo>
                <a:lnTo>
                  <a:pt x="1548" y="599"/>
                </a:lnTo>
                <a:lnTo>
                  <a:pt x="1537" y="746"/>
                </a:lnTo>
                <a:lnTo>
                  <a:pt x="1526" y="882"/>
                </a:lnTo>
                <a:lnTo>
                  <a:pt x="1514" y="1029"/>
                </a:lnTo>
                <a:lnTo>
                  <a:pt x="1480" y="1176"/>
                </a:lnTo>
                <a:lnTo>
                  <a:pt x="1469" y="1255"/>
                </a:lnTo>
                <a:lnTo>
                  <a:pt x="1447" y="1323"/>
                </a:lnTo>
                <a:lnTo>
                  <a:pt x="1424" y="1390"/>
                </a:lnTo>
                <a:lnTo>
                  <a:pt x="1401" y="1458"/>
                </a:lnTo>
                <a:lnTo>
                  <a:pt x="1367" y="1515"/>
                </a:lnTo>
                <a:lnTo>
                  <a:pt x="1345" y="1571"/>
                </a:lnTo>
                <a:lnTo>
                  <a:pt x="1311" y="1617"/>
                </a:lnTo>
                <a:lnTo>
                  <a:pt x="1277" y="1673"/>
                </a:lnTo>
                <a:lnTo>
                  <a:pt x="1243" y="1707"/>
                </a:lnTo>
                <a:lnTo>
                  <a:pt x="1209" y="1741"/>
                </a:lnTo>
                <a:lnTo>
                  <a:pt x="1175" y="1775"/>
                </a:lnTo>
                <a:lnTo>
                  <a:pt x="1153" y="1797"/>
                </a:lnTo>
                <a:lnTo>
                  <a:pt x="1130" y="1820"/>
                </a:lnTo>
                <a:lnTo>
                  <a:pt x="1107" y="1831"/>
                </a:lnTo>
                <a:lnTo>
                  <a:pt x="1096" y="1831"/>
                </a:lnTo>
                <a:lnTo>
                  <a:pt x="1074" y="1843"/>
                </a:lnTo>
                <a:lnTo>
                  <a:pt x="1062" y="1831"/>
                </a:lnTo>
                <a:lnTo>
                  <a:pt x="1051" y="1820"/>
                </a:lnTo>
                <a:lnTo>
                  <a:pt x="1040" y="1809"/>
                </a:lnTo>
                <a:lnTo>
                  <a:pt x="1040" y="1797"/>
                </a:lnTo>
                <a:lnTo>
                  <a:pt x="1040" y="1786"/>
                </a:lnTo>
                <a:lnTo>
                  <a:pt x="1040" y="1764"/>
                </a:lnTo>
                <a:lnTo>
                  <a:pt x="1040" y="1741"/>
                </a:lnTo>
                <a:lnTo>
                  <a:pt x="1051" y="1718"/>
                </a:lnTo>
                <a:lnTo>
                  <a:pt x="1051" y="1696"/>
                </a:lnTo>
                <a:lnTo>
                  <a:pt x="1051" y="1673"/>
                </a:lnTo>
                <a:lnTo>
                  <a:pt x="1040" y="1651"/>
                </a:lnTo>
                <a:lnTo>
                  <a:pt x="1028" y="1628"/>
                </a:lnTo>
                <a:lnTo>
                  <a:pt x="1006" y="1605"/>
                </a:lnTo>
                <a:lnTo>
                  <a:pt x="983" y="1583"/>
                </a:lnTo>
                <a:lnTo>
                  <a:pt x="960" y="1560"/>
                </a:lnTo>
                <a:lnTo>
                  <a:pt x="927" y="1537"/>
                </a:lnTo>
                <a:lnTo>
                  <a:pt x="893" y="1515"/>
                </a:lnTo>
                <a:lnTo>
                  <a:pt x="870" y="1492"/>
                </a:lnTo>
                <a:lnTo>
                  <a:pt x="847" y="1470"/>
                </a:lnTo>
                <a:lnTo>
                  <a:pt x="825" y="1458"/>
                </a:lnTo>
                <a:lnTo>
                  <a:pt x="802" y="1436"/>
                </a:lnTo>
                <a:lnTo>
                  <a:pt x="791" y="1424"/>
                </a:lnTo>
                <a:lnTo>
                  <a:pt x="791" y="1413"/>
                </a:lnTo>
                <a:lnTo>
                  <a:pt x="780" y="1402"/>
                </a:lnTo>
                <a:lnTo>
                  <a:pt x="791" y="1402"/>
                </a:lnTo>
                <a:lnTo>
                  <a:pt x="802" y="1390"/>
                </a:lnTo>
                <a:lnTo>
                  <a:pt x="813" y="1390"/>
                </a:lnTo>
                <a:lnTo>
                  <a:pt x="825" y="1390"/>
                </a:lnTo>
                <a:lnTo>
                  <a:pt x="847" y="1402"/>
                </a:lnTo>
                <a:lnTo>
                  <a:pt x="870" y="1402"/>
                </a:lnTo>
                <a:lnTo>
                  <a:pt x="904" y="1402"/>
                </a:lnTo>
                <a:lnTo>
                  <a:pt x="927" y="1413"/>
                </a:lnTo>
                <a:lnTo>
                  <a:pt x="960" y="1413"/>
                </a:lnTo>
                <a:lnTo>
                  <a:pt x="1006" y="1424"/>
                </a:lnTo>
                <a:lnTo>
                  <a:pt x="1040" y="1424"/>
                </a:lnTo>
                <a:lnTo>
                  <a:pt x="1074" y="1436"/>
                </a:lnTo>
                <a:lnTo>
                  <a:pt x="1107" y="1424"/>
                </a:lnTo>
                <a:lnTo>
                  <a:pt x="1130" y="1424"/>
                </a:lnTo>
                <a:lnTo>
                  <a:pt x="1153" y="1413"/>
                </a:lnTo>
                <a:lnTo>
                  <a:pt x="1175" y="1390"/>
                </a:lnTo>
                <a:lnTo>
                  <a:pt x="1187" y="1379"/>
                </a:lnTo>
                <a:lnTo>
                  <a:pt x="1198" y="1357"/>
                </a:lnTo>
                <a:lnTo>
                  <a:pt x="1209" y="1334"/>
                </a:lnTo>
                <a:lnTo>
                  <a:pt x="1220" y="1300"/>
                </a:lnTo>
                <a:lnTo>
                  <a:pt x="1232" y="1266"/>
                </a:lnTo>
                <a:lnTo>
                  <a:pt x="1243" y="1221"/>
                </a:lnTo>
                <a:lnTo>
                  <a:pt x="1254" y="1164"/>
                </a:lnTo>
                <a:lnTo>
                  <a:pt x="1277" y="1097"/>
                </a:lnTo>
                <a:lnTo>
                  <a:pt x="1300" y="984"/>
                </a:lnTo>
                <a:lnTo>
                  <a:pt x="1311" y="870"/>
                </a:lnTo>
                <a:lnTo>
                  <a:pt x="1334" y="746"/>
                </a:lnTo>
                <a:lnTo>
                  <a:pt x="1345" y="633"/>
                </a:lnTo>
                <a:lnTo>
                  <a:pt x="1345" y="577"/>
                </a:lnTo>
                <a:lnTo>
                  <a:pt x="1334" y="531"/>
                </a:lnTo>
                <a:lnTo>
                  <a:pt x="1334" y="486"/>
                </a:lnTo>
                <a:lnTo>
                  <a:pt x="1334" y="441"/>
                </a:lnTo>
                <a:lnTo>
                  <a:pt x="1334" y="407"/>
                </a:lnTo>
                <a:lnTo>
                  <a:pt x="1334" y="373"/>
                </a:lnTo>
                <a:lnTo>
                  <a:pt x="1334" y="350"/>
                </a:lnTo>
                <a:lnTo>
                  <a:pt x="1322" y="328"/>
                </a:lnTo>
                <a:lnTo>
                  <a:pt x="1311" y="294"/>
                </a:lnTo>
                <a:lnTo>
                  <a:pt x="1300" y="260"/>
                </a:lnTo>
                <a:lnTo>
                  <a:pt x="1288" y="237"/>
                </a:lnTo>
                <a:lnTo>
                  <a:pt x="1277" y="226"/>
                </a:lnTo>
                <a:lnTo>
                  <a:pt x="1277" y="215"/>
                </a:lnTo>
                <a:lnTo>
                  <a:pt x="1243" y="215"/>
                </a:lnTo>
                <a:lnTo>
                  <a:pt x="1209" y="203"/>
                </a:lnTo>
                <a:lnTo>
                  <a:pt x="1175" y="192"/>
                </a:lnTo>
                <a:lnTo>
                  <a:pt x="1141" y="192"/>
                </a:lnTo>
                <a:lnTo>
                  <a:pt x="1130" y="192"/>
                </a:lnTo>
                <a:lnTo>
                  <a:pt x="1119" y="192"/>
                </a:lnTo>
                <a:lnTo>
                  <a:pt x="1096" y="192"/>
                </a:lnTo>
                <a:lnTo>
                  <a:pt x="1085" y="203"/>
                </a:lnTo>
                <a:lnTo>
                  <a:pt x="1062" y="203"/>
                </a:lnTo>
                <a:lnTo>
                  <a:pt x="1040" y="203"/>
                </a:lnTo>
                <a:lnTo>
                  <a:pt x="983" y="215"/>
                </a:lnTo>
                <a:lnTo>
                  <a:pt x="915" y="226"/>
                </a:lnTo>
                <a:lnTo>
                  <a:pt x="847" y="237"/>
                </a:lnTo>
                <a:lnTo>
                  <a:pt x="768" y="249"/>
                </a:lnTo>
                <a:lnTo>
                  <a:pt x="678" y="271"/>
                </a:lnTo>
                <a:lnTo>
                  <a:pt x="576" y="294"/>
                </a:lnTo>
                <a:lnTo>
                  <a:pt x="486" y="305"/>
                </a:lnTo>
                <a:lnTo>
                  <a:pt x="395" y="317"/>
                </a:lnTo>
                <a:lnTo>
                  <a:pt x="305" y="328"/>
                </a:lnTo>
                <a:lnTo>
                  <a:pt x="226" y="328"/>
                </a:lnTo>
                <a:lnTo>
                  <a:pt x="146" y="328"/>
                </a:lnTo>
                <a:lnTo>
                  <a:pt x="67" y="317"/>
                </a:lnTo>
                <a:lnTo>
                  <a:pt x="0" y="317"/>
                </a:lnTo>
                <a:lnTo>
                  <a:pt x="0" y="249"/>
                </a:lnTo>
                <a:lnTo>
                  <a:pt x="33" y="249"/>
                </a:lnTo>
                <a:lnTo>
                  <a:pt x="56" y="249"/>
                </a:lnTo>
                <a:lnTo>
                  <a:pt x="101" y="237"/>
                </a:lnTo>
                <a:lnTo>
                  <a:pt x="135" y="237"/>
                </a:lnTo>
                <a:lnTo>
                  <a:pt x="180" y="226"/>
                </a:lnTo>
                <a:lnTo>
                  <a:pt x="237" y="226"/>
                </a:lnTo>
                <a:lnTo>
                  <a:pt x="293" y="215"/>
                </a:lnTo>
                <a:lnTo>
                  <a:pt x="350" y="203"/>
                </a:lnTo>
                <a:lnTo>
                  <a:pt x="407" y="192"/>
                </a:lnTo>
                <a:lnTo>
                  <a:pt x="463" y="192"/>
                </a:lnTo>
                <a:lnTo>
                  <a:pt x="520" y="181"/>
                </a:lnTo>
                <a:lnTo>
                  <a:pt x="587" y="170"/>
                </a:lnTo>
                <a:lnTo>
                  <a:pt x="655" y="158"/>
                </a:lnTo>
                <a:lnTo>
                  <a:pt x="734" y="147"/>
                </a:lnTo>
                <a:lnTo>
                  <a:pt x="881" y="113"/>
                </a:lnTo>
                <a:lnTo>
                  <a:pt x="949" y="102"/>
                </a:lnTo>
                <a:lnTo>
                  <a:pt x="1006" y="90"/>
                </a:lnTo>
                <a:lnTo>
                  <a:pt x="1062" y="79"/>
                </a:lnTo>
                <a:lnTo>
                  <a:pt x="1107" y="68"/>
                </a:lnTo>
                <a:lnTo>
                  <a:pt x="1153" y="56"/>
                </a:lnTo>
                <a:lnTo>
                  <a:pt x="1187" y="45"/>
                </a:lnTo>
                <a:lnTo>
                  <a:pt x="1209" y="34"/>
                </a:lnTo>
                <a:lnTo>
                  <a:pt x="1220" y="23"/>
                </a:lnTo>
                <a:lnTo>
                  <a:pt x="1232" y="11"/>
                </a:lnTo>
                <a:lnTo>
                  <a:pt x="1254" y="0"/>
                </a:lnTo>
                <a:lnTo>
                  <a:pt x="1277" y="0"/>
                </a:lnTo>
                <a:lnTo>
                  <a:pt x="1300" y="0"/>
                </a:lnTo>
                <a:lnTo>
                  <a:pt x="1311" y="0"/>
                </a:lnTo>
                <a:lnTo>
                  <a:pt x="1334" y="0"/>
                </a:lnTo>
                <a:lnTo>
                  <a:pt x="1356" y="11"/>
                </a:lnTo>
                <a:lnTo>
                  <a:pt x="1367" y="23"/>
                </a:lnTo>
                <a:lnTo>
                  <a:pt x="1401" y="34"/>
                </a:lnTo>
                <a:lnTo>
                  <a:pt x="1424" y="56"/>
                </a:lnTo>
                <a:lnTo>
                  <a:pt x="1447" y="79"/>
                </a:lnTo>
                <a:lnTo>
                  <a:pt x="1480" y="1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7"/>
          <p:cNvSpPr/>
          <p:nvPr/>
        </p:nvSpPr>
        <p:spPr>
          <a:xfrm>
            <a:off x="6246720" y="3197160"/>
            <a:ext cx="366840" cy="433440"/>
          </a:xfrm>
          <a:custGeom>
            <a:avLst/>
            <a:gdLst>
              <a:gd name="textAreaLeft" fmla="*/ 0 w 366840"/>
              <a:gd name="textAreaRight" fmla="*/ 367200 w 36684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577" h="667">
                <a:moveTo>
                  <a:pt x="441" y="0"/>
                </a:moveTo>
                <a:lnTo>
                  <a:pt x="464" y="34"/>
                </a:lnTo>
                <a:lnTo>
                  <a:pt x="497" y="57"/>
                </a:lnTo>
                <a:lnTo>
                  <a:pt x="520" y="91"/>
                </a:lnTo>
                <a:lnTo>
                  <a:pt x="543" y="113"/>
                </a:lnTo>
                <a:lnTo>
                  <a:pt x="554" y="136"/>
                </a:lnTo>
                <a:lnTo>
                  <a:pt x="577" y="147"/>
                </a:lnTo>
                <a:lnTo>
                  <a:pt x="577" y="159"/>
                </a:lnTo>
                <a:lnTo>
                  <a:pt x="577" y="170"/>
                </a:lnTo>
                <a:lnTo>
                  <a:pt x="577" y="181"/>
                </a:lnTo>
                <a:lnTo>
                  <a:pt x="565" y="204"/>
                </a:lnTo>
                <a:lnTo>
                  <a:pt x="554" y="226"/>
                </a:lnTo>
                <a:lnTo>
                  <a:pt x="531" y="249"/>
                </a:lnTo>
                <a:lnTo>
                  <a:pt x="509" y="283"/>
                </a:lnTo>
                <a:lnTo>
                  <a:pt x="486" y="317"/>
                </a:lnTo>
                <a:lnTo>
                  <a:pt x="452" y="351"/>
                </a:lnTo>
                <a:lnTo>
                  <a:pt x="418" y="385"/>
                </a:lnTo>
                <a:lnTo>
                  <a:pt x="384" y="430"/>
                </a:lnTo>
                <a:lnTo>
                  <a:pt x="305" y="486"/>
                </a:lnTo>
                <a:lnTo>
                  <a:pt x="237" y="554"/>
                </a:lnTo>
                <a:lnTo>
                  <a:pt x="170" y="600"/>
                </a:lnTo>
                <a:lnTo>
                  <a:pt x="136" y="622"/>
                </a:lnTo>
                <a:lnTo>
                  <a:pt x="102" y="645"/>
                </a:lnTo>
                <a:lnTo>
                  <a:pt x="68" y="656"/>
                </a:lnTo>
                <a:lnTo>
                  <a:pt x="45" y="667"/>
                </a:lnTo>
                <a:lnTo>
                  <a:pt x="34" y="667"/>
                </a:lnTo>
                <a:lnTo>
                  <a:pt x="11" y="667"/>
                </a:lnTo>
                <a:lnTo>
                  <a:pt x="0" y="667"/>
                </a:lnTo>
                <a:lnTo>
                  <a:pt x="0" y="656"/>
                </a:lnTo>
                <a:lnTo>
                  <a:pt x="0" y="645"/>
                </a:lnTo>
                <a:lnTo>
                  <a:pt x="11" y="633"/>
                </a:lnTo>
                <a:lnTo>
                  <a:pt x="23" y="622"/>
                </a:lnTo>
                <a:lnTo>
                  <a:pt x="45" y="588"/>
                </a:lnTo>
                <a:lnTo>
                  <a:pt x="79" y="566"/>
                </a:lnTo>
                <a:lnTo>
                  <a:pt x="102" y="532"/>
                </a:lnTo>
                <a:lnTo>
                  <a:pt x="147" y="498"/>
                </a:lnTo>
                <a:lnTo>
                  <a:pt x="181" y="453"/>
                </a:lnTo>
                <a:lnTo>
                  <a:pt x="215" y="407"/>
                </a:lnTo>
                <a:lnTo>
                  <a:pt x="249" y="351"/>
                </a:lnTo>
                <a:lnTo>
                  <a:pt x="294" y="294"/>
                </a:lnTo>
                <a:lnTo>
                  <a:pt x="328" y="226"/>
                </a:lnTo>
                <a:lnTo>
                  <a:pt x="362" y="159"/>
                </a:lnTo>
                <a:lnTo>
                  <a:pt x="396" y="80"/>
                </a:lnTo>
                <a:lnTo>
                  <a:pt x="441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38"/>
          <p:cNvSpPr/>
          <p:nvPr/>
        </p:nvSpPr>
        <p:spPr>
          <a:xfrm>
            <a:off x="6519960" y="3389400"/>
            <a:ext cx="315720" cy="212760"/>
          </a:xfrm>
          <a:custGeom>
            <a:avLst/>
            <a:gdLst>
              <a:gd name="textAreaLeft" fmla="*/ 0 w 315720"/>
              <a:gd name="textAreaRight" fmla="*/ 316080 w 3157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497" h="328">
                <a:moveTo>
                  <a:pt x="350" y="68"/>
                </a:moveTo>
                <a:lnTo>
                  <a:pt x="373" y="91"/>
                </a:lnTo>
                <a:lnTo>
                  <a:pt x="407" y="102"/>
                </a:lnTo>
                <a:lnTo>
                  <a:pt x="418" y="125"/>
                </a:lnTo>
                <a:lnTo>
                  <a:pt x="441" y="136"/>
                </a:lnTo>
                <a:lnTo>
                  <a:pt x="452" y="159"/>
                </a:lnTo>
                <a:lnTo>
                  <a:pt x="463" y="181"/>
                </a:lnTo>
                <a:lnTo>
                  <a:pt x="474" y="192"/>
                </a:lnTo>
                <a:lnTo>
                  <a:pt x="486" y="215"/>
                </a:lnTo>
                <a:lnTo>
                  <a:pt x="486" y="238"/>
                </a:lnTo>
                <a:lnTo>
                  <a:pt x="486" y="260"/>
                </a:lnTo>
                <a:lnTo>
                  <a:pt x="497" y="272"/>
                </a:lnTo>
                <a:lnTo>
                  <a:pt x="497" y="283"/>
                </a:lnTo>
                <a:lnTo>
                  <a:pt x="497" y="294"/>
                </a:lnTo>
                <a:lnTo>
                  <a:pt x="486" y="306"/>
                </a:lnTo>
                <a:lnTo>
                  <a:pt x="486" y="317"/>
                </a:lnTo>
                <a:lnTo>
                  <a:pt x="474" y="328"/>
                </a:lnTo>
                <a:lnTo>
                  <a:pt x="463" y="328"/>
                </a:lnTo>
                <a:lnTo>
                  <a:pt x="441" y="328"/>
                </a:lnTo>
                <a:lnTo>
                  <a:pt x="418" y="317"/>
                </a:lnTo>
                <a:lnTo>
                  <a:pt x="395" y="294"/>
                </a:lnTo>
                <a:lnTo>
                  <a:pt x="373" y="283"/>
                </a:lnTo>
                <a:lnTo>
                  <a:pt x="350" y="283"/>
                </a:lnTo>
                <a:lnTo>
                  <a:pt x="316" y="260"/>
                </a:lnTo>
                <a:lnTo>
                  <a:pt x="294" y="249"/>
                </a:lnTo>
                <a:lnTo>
                  <a:pt x="260" y="226"/>
                </a:lnTo>
                <a:lnTo>
                  <a:pt x="226" y="215"/>
                </a:lnTo>
                <a:lnTo>
                  <a:pt x="192" y="192"/>
                </a:lnTo>
                <a:lnTo>
                  <a:pt x="147" y="159"/>
                </a:lnTo>
                <a:lnTo>
                  <a:pt x="113" y="136"/>
                </a:lnTo>
                <a:lnTo>
                  <a:pt x="79" y="113"/>
                </a:lnTo>
                <a:lnTo>
                  <a:pt x="56" y="102"/>
                </a:lnTo>
                <a:lnTo>
                  <a:pt x="34" y="79"/>
                </a:lnTo>
                <a:lnTo>
                  <a:pt x="22" y="68"/>
                </a:lnTo>
                <a:lnTo>
                  <a:pt x="11" y="57"/>
                </a:lnTo>
                <a:lnTo>
                  <a:pt x="0" y="46"/>
                </a:lnTo>
                <a:lnTo>
                  <a:pt x="11" y="46"/>
                </a:lnTo>
                <a:lnTo>
                  <a:pt x="11" y="34"/>
                </a:lnTo>
                <a:lnTo>
                  <a:pt x="22" y="34"/>
                </a:lnTo>
                <a:lnTo>
                  <a:pt x="34" y="23"/>
                </a:lnTo>
                <a:lnTo>
                  <a:pt x="56" y="23"/>
                </a:lnTo>
                <a:lnTo>
                  <a:pt x="67" y="12"/>
                </a:lnTo>
                <a:lnTo>
                  <a:pt x="101" y="12"/>
                </a:lnTo>
                <a:lnTo>
                  <a:pt x="124" y="0"/>
                </a:lnTo>
                <a:lnTo>
                  <a:pt x="147" y="12"/>
                </a:lnTo>
                <a:lnTo>
                  <a:pt x="181" y="12"/>
                </a:lnTo>
                <a:lnTo>
                  <a:pt x="237" y="23"/>
                </a:lnTo>
                <a:lnTo>
                  <a:pt x="294" y="46"/>
                </a:lnTo>
                <a:lnTo>
                  <a:pt x="350" y="6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喝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5"/>
          <p:cNvSpPr/>
          <p:nvPr/>
        </p:nvSpPr>
        <p:spPr>
          <a:xfrm>
            <a:off x="1447920" y="2075040"/>
            <a:ext cx="95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h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78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Box 37"/>
          <p:cNvSpPr/>
          <p:nvPr/>
        </p:nvSpPr>
        <p:spPr>
          <a:xfrm>
            <a:off x="4621320" y="4973760"/>
            <a:ext cx="392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低右高，口写的略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喝水  喝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0"/>
          <p:cNvSpPr/>
          <p:nvPr/>
        </p:nvSpPr>
        <p:spPr>
          <a:xfrm>
            <a:off x="857160" y="5060880"/>
            <a:ext cx="328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奶奶有喝茶的好习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7"/>
          <p:cNvSpPr/>
          <p:nvPr/>
        </p:nvSpPr>
        <p:spPr>
          <a:xfrm>
            <a:off x="327636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42"/>
          <p:cNvSpPr/>
          <p:nvPr/>
        </p:nvSpPr>
        <p:spPr>
          <a:xfrm>
            <a:off x="5388120" y="2860560"/>
            <a:ext cx="201600" cy="646200"/>
          </a:xfrm>
          <a:custGeom>
            <a:avLst/>
            <a:gdLst>
              <a:gd name="textAreaLeft" fmla="*/ 0 w 201600"/>
              <a:gd name="textAreaRight" fmla="*/ 201960 w 20160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317" h="995">
                <a:moveTo>
                  <a:pt x="306" y="554"/>
                </a:moveTo>
                <a:lnTo>
                  <a:pt x="317" y="599"/>
                </a:lnTo>
                <a:lnTo>
                  <a:pt x="317" y="656"/>
                </a:lnTo>
                <a:lnTo>
                  <a:pt x="317" y="690"/>
                </a:lnTo>
                <a:lnTo>
                  <a:pt x="317" y="735"/>
                </a:lnTo>
                <a:lnTo>
                  <a:pt x="317" y="769"/>
                </a:lnTo>
                <a:lnTo>
                  <a:pt x="317" y="814"/>
                </a:lnTo>
                <a:lnTo>
                  <a:pt x="317" y="837"/>
                </a:lnTo>
                <a:lnTo>
                  <a:pt x="317" y="871"/>
                </a:lnTo>
                <a:lnTo>
                  <a:pt x="317" y="893"/>
                </a:lnTo>
                <a:lnTo>
                  <a:pt x="317" y="916"/>
                </a:lnTo>
                <a:lnTo>
                  <a:pt x="317" y="938"/>
                </a:lnTo>
                <a:lnTo>
                  <a:pt x="317" y="950"/>
                </a:lnTo>
                <a:lnTo>
                  <a:pt x="317" y="961"/>
                </a:lnTo>
                <a:lnTo>
                  <a:pt x="317" y="972"/>
                </a:lnTo>
                <a:lnTo>
                  <a:pt x="317" y="984"/>
                </a:lnTo>
                <a:lnTo>
                  <a:pt x="306" y="984"/>
                </a:lnTo>
                <a:lnTo>
                  <a:pt x="306" y="995"/>
                </a:lnTo>
                <a:lnTo>
                  <a:pt x="294" y="995"/>
                </a:lnTo>
                <a:lnTo>
                  <a:pt x="294" y="984"/>
                </a:lnTo>
                <a:lnTo>
                  <a:pt x="283" y="972"/>
                </a:lnTo>
                <a:lnTo>
                  <a:pt x="272" y="961"/>
                </a:lnTo>
                <a:lnTo>
                  <a:pt x="260" y="950"/>
                </a:lnTo>
                <a:lnTo>
                  <a:pt x="249" y="927"/>
                </a:lnTo>
                <a:lnTo>
                  <a:pt x="227" y="893"/>
                </a:lnTo>
                <a:lnTo>
                  <a:pt x="215" y="871"/>
                </a:lnTo>
                <a:lnTo>
                  <a:pt x="204" y="837"/>
                </a:lnTo>
                <a:lnTo>
                  <a:pt x="193" y="791"/>
                </a:lnTo>
                <a:lnTo>
                  <a:pt x="181" y="757"/>
                </a:lnTo>
                <a:lnTo>
                  <a:pt x="181" y="724"/>
                </a:lnTo>
                <a:lnTo>
                  <a:pt x="181" y="712"/>
                </a:lnTo>
                <a:lnTo>
                  <a:pt x="181" y="690"/>
                </a:lnTo>
                <a:lnTo>
                  <a:pt x="170" y="656"/>
                </a:lnTo>
                <a:lnTo>
                  <a:pt x="170" y="622"/>
                </a:lnTo>
                <a:lnTo>
                  <a:pt x="159" y="588"/>
                </a:lnTo>
                <a:lnTo>
                  <a:pt x="159" y="543"/>
                </a:lnTo>
                <a:lnTo>
                  <a:pt x="147" y="486"/>
                </a:lnTo>
                <a:lnTo>
                  <a:pt x="136" y="430"/>
                </a:lnTo>
                <a:lnTo>
                  <a:pt x="125" y="384"/>
                </a:lnTo>
                <a:lnTo>
                  <a:pt x="113" y="328"/>
                </a:lnTo>
                <a:lnTo>
                  <a:pt x="113" y="283"/>
                </a:lnTo>
                <a:lnTo>
                  <a:pt x="102" y="249"/>
                </a:lnTo>
                <a:lnTo>
                  <a:pt x="91" y="215"/>
                </a:lnTo>
                <a:lnTo>
                  <a:pt x="68" y="181"/>
                </a:lnTo>
                <a:lnTo>
                  <a:pt x="57" y="158"/>
                </a:lnTo>
                <a:lnTo>
                  <a:pt x="46" y="147"/>
                </a:lnTo>
                <a:lnTo>
                  <a:pt x="34" y="136"/>
                </a:lnTo>
                <a:lnTo>
                  <a:pt x="23" y="113"/>
                </a:lnTo>
                <a:lnTo>
                  <a:pt x="12" y="102"/>
                </a:lnTo>
                <a:lnTo>
                  <a:pt x="12" y="90"/>
                </a:lnTo>
                <a:lnTo>
                  <a:pt x="0" y="79"/>
                </a:lnTo>
                <a:lnTo>
                  <a:pt x="0" y="68"/>
                </a:lnTo>
                <a:lnTo>
                  <a:pt x="0" y="57"/>
                </a:lnTo>
                <a:lnTo>
                  <a:pt x="0" y="45"/>
                </a:lnTo>
                <a:lnTo>
                  <a:pt x="12" y="23"/>
                </a:lnTo>
                <a:lnTo>
                  <a:pt x="23" y="11"/>
                </a:lnTo>
                <a:lnTo>
                  <a:pt x="34" y="0"/>
                </a:lnTo>
                <a:lnTo>
                  <a:pt x="46" y="0"/>
                </a:lnTo>
                <a:lnTo>
                  <a:pt x="57" y="0"/>
                </a:lnTo>
                <a:lnTo>
                  <a:pt x="80" y="0"/>
                </a:lnTo>
                <a:lnTo>
                  <a:pt x="91" y="0"/>
                </a:lnTo>
                <a:lnTo>
                  <a:pt x="113" y="11"/>
                </a:lnTo>
                <a:lnTo>
                  <a:pt x="147" y="11"/>
                </a:lnTo>
                <a:lnTo>
                  <a:pt x="170" y="11"/>
                </a:lnTo>
                <a:lnTo>
                  <a:pt x="204" y="23"/>
                </a:lnTo>
                <a:lnTo>
                  <a:pt x="238" y="34"/>
                </a:lnTo>
                <a:lnTo>
                  <a:pt x="283" y="45"/>
                </a:lnTo>
                <a:lnTo>
                  <a:pt x="283" y="57"/>
                </a:lnTo>
                <a:lnTo>
                  <a:pt x="283" y="68"/>
                </a:lnTo>
                <a:lnTo>
                  <a:pt x="283" y="90"/>
                </a:lnTo>
                <a:lnTo>
                  <a:pt x="283" y="113"/>
                </a:lnTo>
                <a:lnTo>
                  <a:pt x="283" y="136"/>
                </a:lnTo>
                <a:lnTo>
                  <a:pt x="294" y="158"/>
                </a:lnTo>
                <a:lnTo>
                  <a:pt x="294" y="192"/>
                </a:lnTo>
                <a:lnTo>
                  <a:pt x="294" y="215"/>
                </a:lnTo>
                <a:lnTo>
                  <a:pt x="294" y="249"/>
                </a:lnTo>
                <a:lnTo>
                  <a:pt x="294" y="283"/>
                </a:lnTo>
                <a:lnTo>
                  <a:pt x="294" y="328"/>
                </a:lnTo>
                <a:lnTo>
                  <a:pt x="306" y="362"/>
                </a:lnTo>
                <a:lnTo>
                  <a:pt x="306" y="407"/>
                </a:lnTo>
                <a:lnTo>
                  <a:pt x="306" y="452"/>
                </a:lnTo>
                <a:lnTo>
                  <a:pt x="306" y="497"/>
                </a:lnTo>
                <a:lnTo>
                  <a:pt x="306" y="55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43"/>
          <p:cNvSpPr/>
          <p:nvPr/>
        </p:nvSpPr>
        <p:spPr>
          <a:xfrm>
            <a:off x="5459400" y="2771640"/>
            <a:ext cx="538200" cy="486000"/>
          </a:xfrm>
          <a:custGeom>
            <a:avLst/>
            <a:gdLst>
              <a:gd name="textAreaLeft" fmla="*/ 0 w 538200"/>
              <a:gd name="textAreaRight" fmla="*/ 538560 w 53820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848" h="747">
                <a:moveTo>
                  <a:pt x="600" y="0"/>
                </a:moveTo>
                <a:lnTo>
                  <a:pt x="611" y="12"/>
                </a:lnTo>
                <a:lnTo>
                  <a:pt x="622" y="12"/>
                </a:lnTo>
                <a:lnTo>
                  <a:pt x="656" y="23"/>
                </a:lnTo>
                <a:lnTo>
                  <a:pt x="690" y="46"/>
                </a:lnTo>
                <a:lnTo>
                  <a:pt x="735" y="68"/>
                </a:lnTo>
                <a:lnTo>
                  <a:pt x="769" y="91"/>
                </a:lnTo>
                <a:lnTo>
                  <a:pt x="781" y="113"/>
                </a:lnTo>
                <a:lnTo>
                  <a:pt x="803" y="125"/>
                </a:lnTo>
                <a:lnTo>
                  <a:pt x="814" y="136"/>
                </a:lnTo>
                <a:lnTo>
                  <a:pt x="826" y="147"/>
                </a:lnTo>
                <a:lnTo>
                  <a:pt x="837" y="159"/>
                </a:lnTo>
                <a:lnTo>
                  <a:pt x="848" y="170"/>
                </a:lnTo>
                <a:lnTo>
                  <a:pt x="848" y="181"/>
                </a:lnTo>
                <a:lnTo>
                  <a:pt x="848" y="193"/>
                </a:lnTo>
                <a:lnTo>
                  <a:pt x="837" y="215"/>
                </a:lnTo>
                <a:lnTo>
                  <a:pt x="826" y="226"/>
                </a:lnTo>
                <a:lnTo>
                  <a:pt x="803" y="238"/>
                </a:lnTo>
                <a:lnTo>
                  <a:pt x="803" y="249"/>
                </a:lnTo>
                <a:lnTo>
                  <a:pt x="792" y="249"/>
                </a:lnTo>
                <a:lnTo>
                  <a:pt x="792" y="272"/>
                </a:lnTo>
                <a:lnTo>
                  <a:pt x="781" y="283"/>
                </a:lnTo>
                <a:lnTo>
                  <a:pt x="769" y="306"/>
                </a:lnTo>
                <a:lnTo>
                  <a:pt x="769" y="328"/>
                </a:lnTo>
                <a:lnTo>
                  <a:pt x="758" y="351"/>
                </a:lnTo>
                <a:lnTo>
                  <a:pt x="747" y="373"/>
                </a:lnTo>
                <a:lnTo>
                  <a:pt x="735" y="407"/>
                </a:lnTo>
                <a:lnTo>
                  <a:pt x="724" y="453"/>
                </a:lnTo>
                <a:lnTo>
                  <a:pt x="713" y="486"/>
                </a:lnTo>
                <a:lnTo>
                  <a:pt x="701" y="532"/>
                </a:lnTo>
                <a:lnTo>
                  <a:pt x="679" y="577"/>
                </a:lnTo>
                <a:lnTo>
                  <a:pt x="667" y="633"/>
                </a:lnTo>
                <a:lnTo>
                  <a:pt x="656" y="690"/>
                </a:lnTo>
                <a:lnTo>
                  <a:pt x="634" y="747"/>
                </a:lnTo>
                <a:lnTo>
                  <a:pt x="487" y="747"/>
                </a:lnTo>
                <a:lnTo>
                  <a:pt x="509" y="656"/>
                </a:lnTo>
                <a:lnTo>
                  <a:pt x="520" y="577"/>
                </a:lnTo>
                <a:lnTo>
                  <a:pt x="532" y="498"/>
                </a:lnTo>
                <a:lnTo>
                  <a:pt x="543" y="441"/>
                </a:lnTo>
                <a:lnTo>
                  <a:pt x="554" y="385"/>
                </a:lnTo>
                <a:lnTo>
                  <a:pt x="566" y="362"/>
                </a:lnTo>
                <a:lnTo>
                  <a:pt x="566" y="340"/>
                </a:lnTo>
                <a:lnTo>
                  <a:pt x="566" y="317"/>
                </a:lnTo>
                <a:lnTo>
                  <a:pt x="566" y="306"/>
                </a:lnTo>
                <a:lnTo>
                  <a:pt x="566" y="294"/>
                </a:lnTo>
                <a:lnTo>
                  <a:pt x="566" y="283"/>
                </a:lnTo>
                <a:lnTo>
                  <a:pt x="566" y="249"/>
                </a:lnTo>
                <a:lnTo>
                  <a:pt x="566" y="226"/>
                </a:lnTo>
                <a:lnTo>
                  <a:pt x="566" y="204"/>
                </a:lnTo>
                <a:lnTo>
                  <a:pt x="554" y="193"/>
                </a:lnTo>
                <a:lnTo>
                  <a:pt x="543" y="181"/>
                </a:lnTo>
                <a:lnTo>
                  <a:pt x="532" y="181"/>
                </a:lnTo>
                <a:lnTo>
                  <a:pt x="520" y="181"/>
                </a:lnTo>
                <a:lnTo>
                  <a:pt x="498" y="193"/>
                </a:lnTo>
                <a:lnTo>
                  <a:pt x="464" y="193"/>
                </a:lnTo>
                <a:lnTo>
                  <a:pt x="441" y="204"/>
                </a:lnTo>
                <a:lnTo>
                  <a:pt x="396" y="215"/>
                </a:lnTo>
                <a:lnTo>
                  <a:pt x="362" y="226"/>
                </a:lnTo>
                <a:lnTo>
                  <a:pt x="317" y="238"/>
                </a:lnTo>
                <a:lnTo>
                  <a:pt x="272" y="249"/>
                </a:lnTo>
                <a:lnTo>
                  <a:pt x="227" y="260"/>
                </a:lnTo>
                <a:lnTo>
                  <a:pt x="181" y="272"/>
                </a:lnTo>
                <a:lnTo>
                  <a:pt x="136" y="272"/>
                </a:lnTo>
                <a:lnTo>
                  <a:pt x="91" y="272"/>
                </a:lnTo>
                <a:lnTo>
                  <a:pt x="46" y="272"/>
                </a:lnTo>
                <a:lnTo>
                  <a:pt x="0" y="272"/>
                </a:lnTo>
                <a:lnTo>
                  <a:pt x="0" y="147"/>
                </a:lnTo>
                <a:lnTo>
                  <a:pt x="23" y="147"/>
                </a:lnTo>
                <a:lnTo>
                  <a:pt x="46" y="147"/>
                </a:lnTo>
                <a:lnTo>
                  <a:pt x="80" y="159"/>
                </a:lnTo>
                <a:lnTo>
                  <a:pt x="102" y="159"/>
                </a:lnTo>
                <a:lnTo>
                  <a:pt x="125" y="170"/>
                </a:lnTo>
                <a:lnTo>
                  <a:pt x="147" y="170"/>
                </a:lnTo>
                <a:lnTo>
                  <a:pt x="170" y="170"/>
                </a:lnTo>
                <a:lnTo>
                  <a:pt x="193" y="159"/>
                </a:lnTo>
                <a:lnTo>
                  <a:pt x="215" y="159"/>
                </a:lnTo>
                <a:lnTo>
                  <a:pt x="249" y="147"/>
                </a:lnTo>
                <a:lnTo>
                  <a:pt x="283" y="136"/>
                </a:lnTo>
                <a:lnTo>
                  <a:pt x="317" y="125"/>
                </a:lnTo>
                <a:lnTo>
                  <a:pt x="351" y="113"/>
                </a:lnTo>
                <a:lnTo>
                  <a:pt x="385" y="91"/>
                </a:lnTo>
                <a:lnTo>
                  <a:pt x="407" y="79"/>
                </a:lnTo>
                <a:lnTo>
                  <a:pt x="441" y="68"/>
                </a:lnTo>
                <a:lnTo>
                  <a:pt x="464" y="57"/>
                </a:lnTo>
                <a:lnTo>
                  <a:pt x="475" y="57"/>
                </a:lnTo>
                <a:lnTo>
                  <a:pt x="498" y="46"/>
                </a:lnTo>
                <a:lnTo>
                  <a:pt x="520" y="34"/>
                </a:lnTo>
                <a:lnTo>
                  <a:pt x="543" y="23"/>
                </a:lnTo>
                <a:lnTo>
                  <a:pt x="566" y="12"/>
                </a:lnTo>
                <a:lnTo>
                  <a:pt x="588" y="12"/>
                </a:lnTo>
                <a:lnTo>
                  <a:pt x="60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44"/>
          <p:cNvSpPr/>
          <p:nvPr/>
        </p:nvSpPr>
        <p:spPr>
          <a:xfrm>
            <a:off x="5553000" y="3227400"/>
            <a:ext cx="358920" cy="111240"/>
          </a:xfrm>
          <a:custGeom>
            <a:avLst/>
            <a:gdLst>
              <a:gd name="textAreaLeft" fmla="*/ 0 w 358920"/>
              <a:gd name="textAreaRight" fmla="*/ 359280 w 3589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66" h="170">
                <a:moveTo>
                  <a:pt x="566" y="57"/>
                </a:moveTo>
                <a:lnTo>
                  <a:pt x="566" y="68"/>
                </a:lnTo>
                <a:lnTo>
                  <a:pt x="566" y="91"/>
                </a:lnTo>
                <a:lnTo>
                  <a:pt x="566" y="102"/>
                </a:lnTo>
                <a:lnTo>
                  <a:pt x="554" y="102"/>
                </a:lnTo>
                <a:lnTo>
                  <a:pt x="543" y="113"/>
                </a:lnTo>
                <a:lnTo>
                  <a:pt x="532" y="113"/>
                </a:lnTo>
                <a:lnTo>
                  <a:pt x="520" y="125"/>
                </a:lnTo>
                <a:lnTo>
                  <a:pt x="498" y="125"/>
                </a:lnTo>
                <a:lnTo>
                  <a:pt x="464" y="136"/>
                </a:lnTo>
                <a:lnTo>
                  <a:pt x="430" y="136"/>
                </a:lnTo>
                <a:lnTo>
                  <a:pt x="396" y="147"/>
                </a:lnTo>
                <a:lnTo>
                  <a:pt x="351" y="147"/>
                </a:lnTo>
                <a:lnTo>
                  <a:pt x="272" y="159"/>
                </a:lnTo>
                <a:lnTo>
                  <a:pt x="181" y="170"/>
                </a:lnTo>
                <a:lnTo>
                  <a:pt x="91" y="170"/>
                </a:lnTo>
                <a:lnTo>
                  <a:pt x="0" y="170"/>
                </a:lnTo>
                <a:lnTo>
                  <a:pt x="0" y="68"/>
                </a:lnTo>
                <a:lnTo>
                  <a:pt x="68" y="57"/>
                </a:lnTo>
                <a:lnTo>
                  <a:pt x="125" y="57"/>
                </a:lnTo>
                <a:lnTo>
                  <a:pt x="181" y="46"/>
                </a:lnTo>
                <a:lnTo>
                  <a:pt x="238" y="46"/>
                </a:lnTo>
                <a:lnTo>
                  <a:pt x="283" y="34"/>
                </a:lnTo>
                <a:lnTo>
                  <a:pt x="328" y="34"/>
                </a:lnTo>
                <a:lnTo>
                  <a:pt x="373" y="23"/>
                </a:lnTo>
                <a:lnTo>
                  <a:pt x="407" y="23"/>
                </a:lnTo>
                <a:lnTo>
                  <a:pt x="441" y="12"/>
                </a:lnTo>
                <a:lnTo>
                  <a:pt x="464" y="12"/>
                </a:lnTo>
                <a:lnTo>
                  <a:pt x="487" y="12"/>
                </a:lnTo>
                <a:lnTo>
                  <a:pt x="509" y="12"/>
                </a:lnTo>
                <a:lnTo>
                  <a:pt x="532" y="0"/>
                </a:lnTo>
                <a:lnTo>
                  <a:pt x="543" y="0"/>
                </a:lnTo>
                <a:lnTo>
                  <a:pt x="554" y="0"/>
                </a:lnTo>
                <a:lnTo>
                  <a:pt x="566" y="12"/>
                </a:lnTo>
                <a:lnTo>
                  <a:pt x="566" y="23"/>
                </a:lnTo>
                <a:lnTo>
                  <a:pt x="566" y="34"/>
                </a:lnTo>
                <a:lnTo>
                  <a:pt x="566" y="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45"/>
          <p:cNvSpPr/>
          <p:nvPr/>
        </p:nvSpPr>
        <p:spPr>
          <a:xfrm>
            <a:off x="6121440" y="2403360"/>
            <a:ext cx="257040" cy="552600"/>
          </a:xfrm>
          <a:custGeom>
            <a:avLst/>
            <a:gdLst>
              <a:gd name="textAreaLeft" fmla="*/ 0 w 257040"/>
              <a:gd name="textAreaRight" fmla="*/ 257400 w 2570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407" h="848">
                <a:moveTo>
                  <a:pt x="56" y="136"/>
                </a:moveTo>
                <a:lnTo>
                  <a:pt x="45" y="124"/>
                </a:lnTo>
                <a:lnTo>
                  <a:pt x="22" y="102"/>
                </a:lnTo>
                <a:lnTo>
                  <a:pt x="11" y="91"/>
                </a:lnTo>
                <a:lnTo>
                  <a:pt x="11" y="79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11" y="11"/>
                </a:lnTo>
                <a:lnTo>
                  <a:pt x="33" y="0"/>
                </a:lnTo>
                <a:lnTo>
                  <a:pt x="56" y="0"/>
                </a:lnTo>
                <a:lnTo>
                  <a:pt x="90" y="0"/>
                </a:lnTo>
                <a:lnTo>
                  <a:pt x="135" y="0"/>
                </a:lnTo>
                <a:lnTo>
                  <a:pt x="180" y="0"/>
                </a:lnTo>
                <a:lnTo>
                  <a:pt x="237" y="0"/>
                </a:lnTo>
                <a:lnTo>
                  <a:pt x="293" y="0"/>
                </a:lnTo>
                <a:lnTo>
                  <a:pt x="293" y="23"/>
                </a:lnTo>
                <a:lnTo>
                  <a:pt x="293" y="45"/>
                </a:lnTo>
                <a:lnTo>
                  <a:pt x="305" y="79"/>
                </a:lnTo>
                <a:lnTo>
                  <a:pt x="305" y="113"/>
                </a:lnTo>
                <a:lnTo>
                  <a:pt x="305" y="147"/>
                </a:lnTo>
                <a:lnTo>
                  <a:pt x="316" y="192"/>
                </a:lnTo>
                <a:lnTo>
                  <a:pt x="316" y="238"/>
                </a:lnTo>
                <a:lnTo>
                  <a:pt x="327" y="283"/>
                </a:lnTo>
                <a:lnTo>
                  <a:pt x="327" y="339"/>
                </a:lnTo>
                <a:lnTo>
                  <a:pt x="339" y="407"/>
                </a:lnTo>
                <a:lnTo>
                  <a:pt x="350" y="464"/>
                </a:lnTo>
                <a:lnTo>
                  <a:pt x="361" y="531"/>
                </a:lnTo>
                <a:lnTo>
                  <a:pt x="373" y="611"/>
                </a:lnTo>
                <a:lnTo>
                  <a:pt x="384" y="678"/>
                </a:lnTo>
                <a:lnTo>
                  <a:pt x="395" y="758"/>
                </a:lnTo>
                <a:lnTo>
                  <a:pt x="407" y="848"/>
                </a:lnTo>
                <a:lnTo>
                  <a:pt x="384" y="848"/>
                </a:lnTo>
                <a:lnTo>
                  <a:pt x="361" y="837"/>
                </a:lnTo>
                <a:lnTo>
                  <a:pt x="350" y="837"/>
                </a:lnTo>
                <a:lnTo>
                  <a:pt x="327" y="825"/>
                </a:lnTo>
                <a:lnTo>
                  <a:pt x="316" y="814"/>
                </a:lnTo>
                <a:lnTo>
                  <a:pt x="293" y="803"/>
                </a:lnTo>
                <a:lnTo>
                  <a:pt x="282" y="780"/>
                </a:lnTo>
                <a:lnTo>
                  <a:pt x="271" y="769"/>
                </a:lnTo>
                <a:lnTo>
                  <a:pt x="260" y="746"/>
                </a:lnTo>
                <a:lnTo>
                  <a:pt x="248" y="724"/>
                </a:lnTo>
                <a:lnTo>
                  <a:pt x="237" y="690"/>
                </a:lnTo>
                <a:lnTo>
                  <a:pt x="226" y="667"/>
                </a:lnTo>
                <a:lnTo>
                  <a:pt x="214" y="633"/>
                </a:lnTo>
                <a:lnTo>
                  <a:pt x="203" y="599"/>
                </a:lnTo>
                <a:lnTo>
                  <a:pt x="203" y="554"/>
                </a:lnTo>
                <a:lnTo>
                  <a:pt x="192" y="520"/>
                </a:lnTo>
                <a:lnTo>
                  <a:pt x="180" y="475"/>
                </a:lnTo>
                <a:lnTo>
                  <a:pt x="180" y="441"/>
                </a:lnTo>
                <a:lnTo>
                  <a:pt x="169" y="407"/>
                </a:lnTo>
                <a:lnTo>
                  <a:pt x="158" y="373"/>
                </a:lnTo>
                <a:lnTo>
                  <a:pt x="147" y="305"/>
                </a:lnTo>
                <a:lnTo>
                  <a:pt x="124" y="260"/>
                </a:lnTo>
                <a:lnTo>
                  <a:pt x="113" y="215"/>
                </a:lnTo>
                <a:lnTo>
                  <a:pt x="90" y="181"/>
                </a:lnTo>
                <a:lnTo>
                  <a:pt x="79" y="158"/>
                </a:lnTo>
                <a:lnTo>
                  <a:pt x="5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46"/>
          <p:cNvSpPr/>
          <p:nvPr/>
        </p:nvSpPr>
        <p:spPr>
          <a:xfrm>
            <a:off x="6221520" y="2295360"/>
            <a:ext cx="796680" cy="594000"/>
          </a:xfrm>
          <a:custGeom>
            <a:avLst/>
            <a:gdLst>
              <a:gd name="textAreaLeft" fmla="*/ 0 w 796680"/>
              <a:gd name="textAreaRight" fmla="*/ 797040 w 796680"/>
              <a:gd name="textAreaTop" fmla="*/ 0 h 594000"/>
              <a:gd name="textAreaBottom" fmla="*/ 594360 h 594000"/>
            </a:gdLst>
            <a:ahLst/>
            <a:rect l="textAreaLeft" t="textAreaTop" r="textAreaRight" b="textAreaBottom"/>
            <a:pathLst>
              <a:path w="1255" h="915">
                <a:moveTo>
                  <a:pt x="814" y="45"/>
                </a:moveTo>
                <a:lnTo>
                  <a:pt x="848" y="22"/>
                </a:lnTo>
                <a:lnTo>
                  <a:pt x="870" y="11"/>
                </a:lnTo>
                <a:lnTo>
                  <a:pt x="893" y="0"/>
                </a:lnTo>
                <a:lnTo>
                  <a:pt x="916" y="0"/>
                </a:lnTo>
                <a:lnTo>
                  <a:pt x="927" y="0"/>
                </a:lnTo>
                <a:lnTo>
                  <a:pt x="938" y="11"/>
                </a:lnTo>
                <a:lnTo>
                  <a:pt x="961" y="22"/>
                </a:lnTo>
                <a:lnTo>
                  <a:pt x="972" y="33"/>
                </a:lnTo>
                <a:lnTo>
                  <a:pt x="1006" y="45"/>
                </a:lnTo>
                <a:lnTo>
                  <a:pt x="1029" y="67"/>
                </a:lnTo>
                <a:lnTo>
                  <a:pt x="1062" y="79"/>
                </a:lnTo>
                <a:lnTo>
                  <a:pt x="1108" y="113"/>
                </a:lnTo>
                <a:lnTo>
                  <a:pt x="1142" y="135"/>
                </a:lnTo>
                <a:lnTo>
                  <a:pt x="1164" y="158"/>
                </a:lnTo>
                <a:lnTo>
                  <a:pt x="1187" y="180"/>
                </a:lnTo>
                <a:lnTo>
                  <a:pt x="1209" y="192"/>
                </a:lnTo>
                <a:lnTo>
                  <a:pt x="1232" y="214"/>
                </a:lnTo>
                <a:lnTo>
                  <a:pt x="1243" y="226"/>
                </a:lnTo>
                <a:lnTo>
                  <a:pt x="1243" y="237"/>
                </a:lnTo>
                <a:lnTo>
                  <a:pt x="1255" y="237"/>
                </a:lnTo>
                <a:lnTo>
                  <a:pt x="1243" y="260"/>
                </a:lnTo>
                <a:lnTo>
                  <a:pt x="1221" y="282"/>
                </a:lnTo>
                <a:lnTo>
                  <a:pt x="1198" y="293"/>
                </a:lnTo>
                <a:lnTo>
                  <a:pt x="1176" y="305"/>
                </a:lnTo>
                <a:lnTo>
                  <a:pt x="1164" y="305"/>
                </a:lnTo>
                <a:lnTo>
                  <a:pt x="1153" y="316"/>
                </a:lnTo>
                <a:lnTo>
                  <a:pt x="1142" y="339"/>
                </a:lnTo>
                <a:lnTo>
                  <a:pt x="1130" y="350"/>
                </a:lnTo>
                <a:lnTo>
                  <a:pt x="1119" y="373"/>
                </a:lnTo>
                <a:lnTo>
                  <a:pt x="1108" y="407"/>
                </a:lnTo>
                <a:lnTo>
                  <a:pt x="1085" y="429"/>
                </a:lnTo>
                <a:lnTo>
                  <a:pt x="1074" y="474"/>
                </a:lnTo>
                <a:lnTo>
                  <a:pt x="1051" y="508"/>
                </a:lnTo>
                <a:lnTo>
                  <a:pt x="1029" y="553"/>
                </a:lnTo>
                <a:lnTo>
                  <a:pt x="1017" y="599"/>
                </a:lnTo>
                <a:lnTo>
                  <a:pt x="995" y="655"/>
                </a:lnTo>
                <a:lnTo>
                  <a:pt x="972" y="712"/>
                </a:lnTo>
                <a:lnTo>
                  <a:pt x="949" y="780"/>
                </a:lnTo>
                <a:lnTo>
                  <a:pt x="916" y="836"/>
                </a:lnTo>
                <a:lnTo>
                  <a:pt x="893" y="915"/>
                </a:lnTo>
                <a:lnTo>
                  <a:pt x="746" y="915"/>
                </a:lnTo>
                <a:lnTo>
                  <a:pt x="769" y="836"/>
                </a:lnTo>
                <a:lnTo>
                  <a:pt x="780" y="768"/>
                </a:lnTo>
                <a:lnTo>
                  <a:pt x="791" y="712"/>
                </a:lnTo>
                <a:lnTo>
                  <a:pt x="802" y="644"/>
                </a:lnTo>
                <a:lnTo>
                  <a:pt x="825" y="587"/>
                </a:lnTo>
                <a:lnTo>
                  <a:pt x="836" y="542"/>
                </a:lnTo>
                <a:lnTo>
                  <a:pt x="848" y="497"/>
                </a:lnTo>
                <a:lnTo>
                  <a:pt x="848" y="452"/>
                </a:lnTo>
                <a:lnTo>
                  <a:pt x="859" y="407"/>
                </a:lnTo>
                <a:lnTo>
                  <a:pt x="870" y="373"/>
                </a:lnTo>
                <a:lnTo>
                  <a:pt x="870" y="339"/>
                </a:lnTo>
                <a:lnTo>
                  <a:pt x="882" y="316"/>
                </a:lnTo>
                <a:lnTo>
                  <a:pt x="882" y="293"/>
                </a:lnTo>
                <a:lnTo>
                  <a:pt x="882" y="271"/>
                </a:lnTo>
                <a:lnTo>
                  <a:pt x="882" y="260"/>
                </a:lnTo>
                <a:lnTo>
                  <a:pt x="882" y="248"/>
                </a:lnTo>
                <a:lnTo>
                  <a:pt x="870" y="226"/>
                </a:lnTo>
                <a:lnTo>
                  <a:pt x="859" y="203"/>
                </a:lnTo>
                <a:lnTo>
                  <a:pt x="836" y="180"/>
                </a:lnTo>
                <a:lnTo>
                  <a:pt x="825" y="180"/>
                </a:lnTo>
                <a:lnTo>
                  <a:pt x="814" y="169"/>
                </a:lnTo>
                <a:lnTo>
                  <a:pt x="791" y="169"/>
                </a:lnTo>
                <a:lnTo>
                  <a:pt x="769" y="180"/>
                </a:lnTo>
                <a:lnTo>
                  <a:pt x="735" y="180"/>
                </a:lnTo>
                <a:lnTo>
                  <a:pt x="701" y="180"/>
                </a:lnTo>
                <a:lnTo>
                  <a:pt x="656" y="192"/>
                </a:lnTo>
                <a:lnTo>
                  <a:pt x="599" y="203"/>
                </a:lnTo>
                <a:lnTo>
                  <a:pt x="542" y="214"/>
                </a:lnTo>
                <a:lnTo>
                  <a:pt x="486" y="226"/>
                </a:lnTo>
                <a:lnTo>
                  <a:pt x="418" y="237"/>
                </a:lnTo>
                <a:lnTo>
                  <a:pt x="350" y="248"/>
                </a:lnTo>
                <a:lnTo>
                  <a:pt x="237" y="271"/>
                </a:lnTo>
                <a:lnTo>
                  <a:pt x="113" y="271"/>
                </a:lnTo>
                <a:lnTo>
                  <a:pt x="0" y="282"/>
                </a:lnTo>
                <a:lnTo>
                  <a:pt x="0" y="169"/>
                </a:lnTo>
                <a:lnTo>
                  <a:pt x="56" y="169"/>
                </a:lnTo>
                <a:lnTo>
                  <a:pt x="102" y="169"/>
                </a:lnTo>
                <a:lnTo>
                  <a:pt x="147" y="169"/>
                </a:lnTo>
                <a:lnTo>
                  <a:pt x="203" y="158"/>
                </a:lnTo>
                <a:lnTo>
                  <a:pt x="271" y="158"/>
                </a:lnTo>
                <a:lnTo>
                  <a:pt x="328" y="146"/>
                </a:lnTo>
                <a:lnTo>
                  <a:pt x="395" y="135"/>
                </a:lnTo>
                <a:lnTo>
                  <a:pt x="463" y="124"/>
                </a:lnTo>
                <a:lnTo>
                  <a:pt x="542" y="101"/>
                </a:lnTo>
                <a:lnTo>
                  <a:pt x="599" y="90"/>
                </a:lnTo>
                <a:lnTo>
                  <a:pt x="656" y="79"/>
                </a:lnTo>
                <a:lnTo>
                  <a:pt x="701" y="67"/>
                </a:lnTo>
                <a:lnTo>
                  <a:pt x="735" y="67"/>
                </a:lnTo>
                <a:lnTo>
                  <a:pt x="769" y="56"/>
                </a:lnTo>
                <a:lnTo>
                  <a:pt x="791" y="45"/>
                </a:lnTo>
                <a:lnTo>
                  <a:pt x="814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47"/>
          <p:cNvSpPr/>
          <p:nvPr/>
        </p:nvSpPr>
        <p:spPr>
          <a:xfrm>
            <a:off x="5985000" y="3330720"/>
            <a:ext cx="838080" cy="603000"/>
          </a:xfrm>
          <a:custGeom>
            <a:avLst/>
            <a:gdLst>
              <a:gd name="textAreaLeft" fmla="*/ 0 w 838080"/>
              <a:gd name="textAreaRight" fmla="*/ 838440 w 838080"/>
              <a:gd name="textAreaTop" fmla="*/ 0 h 603000"/>
              <a:gd name="textAreaBottom" fmla="*/ 603360 h 603000"/>
            </a:gdLst>
            <a:ahLst/>
            <a:rect l="textAreaLeft" t="textAreaTop" r="textAreaRight" b="textAreaBottom"/>
            <a:pathLst>
              <a:path w="1322" h="927">
                <a:moveTo>
                  <a:pt x="203" y="870"/>
                </a:moveTo>
                <a:lnTo>
                  <a:pt x="192" y="881"/>
                </a:lnTo>
                <a:lnTo>
                  <a:pt x="181" y="893"/>
                </a:lnTo>
                <a:lnTo>
                  <a:pt x="158" y="915"/>
                </a:lnTo>
                <a:lnTo>
                  <a:pt x="135" y="915"/>
                </a:lnTo>
                <a:lnTo>
                  <a:pt x="124" y="927"/>
                </a:lnTo>
                <a:lnTo>
                  <a:pt x="101" y="915"/>
                </a:lnTo>
                <a:lnTo>
                  <a:pt x="90" y="915"/>
                </a:lnTo>
                <a:lnTo>
                  <a:pt x="68" y="893"/>
                </a:lnTo>
                <a:lnTo>
                  <a:pt x="56" y="881"/>
                </a:lnTo>
                <a:lnTo>
                  <a:pt x="45" y="870"/>
                </a:lnTo>
                <a:lnTo>
                  <a:pt x="34" y="859"/>
                </a:lnTo>
                <a:lnTo>
                  <a:pt x="22" y="847"/>
                </a:lnTo>
                <a:lnTo>
                  <a:pt x="11" y="814"/>
                </a:lnTo>
                <a:lnTo>
                  <a:pt x="0" y="802"/>
                </a:lnTo>
                <a:lnTo>
                  <a:pt x="0" y="780"/>
                </a:lnTo>
                <a:lnTo>
                  <a:pt x="0" y="768"/>
                </a:lnTo>
                <a:lnTo>
                  <a:pt x="11" y="746"/>
                </a:lnTo>
                <a:lnTo>
                  <a:pt x="22" y="712"/>
                </a:lnTo>
                <a:lnTo>
                  <a:pt x="34" y="700"/>
                </a:lnTo>
                <a:lnTo>
                  <a:pt x="45" y="689"/>
                </a:lnTo>
                <a:lnTo>
                  <a:pt x="56" y="667"/>
                </a:lnTo>
                <a:lnTo>
                  <a:pt x="68" y="644"/>
                </a:lnTo>
                <a:lnTo>
                  <a:pt x="79" y="621"/>
                </a:lnTo>
                <a:lnTo>
                  <a:pt x="90" y="587"/>
                </a:lnTo>
                <a:lnTo>
                  <a:pt x="90" y="554"/>
                </a:lnTo>
                <a:lnTo>
                  <a:pt x="101" y="520"/>
                </a:lnTo>
                <a:lnTo>
                  <a:pt x="113" y="474"/>
                </a:lnTo>
                <a:lnTo>
                  <a:pt x="113" y="440"/>
                </a:lnTo>
                <a:lnTo>
                  <a:pt x="113" y="395"/>
                </a:lnTo>
                <a:lnTo>
                  <a:pt x="113" y="350"/>
                </a:lnTo>
                <a:lnTo>
                  <a:pt x="113" y="271"/>
                </a:lnTo>
                <a:lnTo>
                  <a:pt x="101" y="203"/>
                </a:lnTo>
                <a:lnTo>
                  <a:pt x="90" y="135"/>
                </a:lnTo>
                <a:lnTo>
                  <a:pt x="79" y="101"/>
                </a:lnTo>
                <a:lnTo>
                  <a:pt x="68" y="79"/>
                </a:lnTo>
                <a:lnTo>
                  <a:pt x="68" y="56"/>
                </a:lnTo>
                <a:lnTo>
                  <a:pt x="68" y="45"/>
                </a:lnTo>
                <a:lnTo>
                  <a:pt x="68" y="22"/>
                </a:lnTo>
                <a:lnTo>
                  <a:pt x="68" y="11"/>
                </a:lnTo>
                <a:lnTo>
                  <a:pt x="79" y="11"/>
                </a:lnTo>
                <a:lnTo>
                  <a:pt x="90" y="0"/>
                </a:lnTo>
                <a:lnTo>
                  <a:pt x="101" y="0"/>
                </a:lnTo>
                <a:lnTo>
                  <a:pt x="124" y="11"/>
                </a:lnTo>
                <a:lnTo>
                  <a:pt x="158" y="22"/>
                </a:lnTo>
                <a:lnTo>
                  <a:pt x="192" y="45"/>
                </a:lnTo>
                <a:lnTo>
                  <a:pt x="203" y="56"/>
                </a:lnTo>
                <a:lnTo>
                  <a:pt x="215" y="67"/>
                </a:lnTo>
                <a:lnTo>
                  <a:pt x="237" y="101"/>
                </a:lnTo>
                <a:lnTo>
                  <a:pt x="260" y="135"/>
                </a:lnTo>
                <a:lnTo>
                  <a:pt x="260" y="158"/>
                </a:lnTo>
                <a:lnTo>
                  <a:pt x="260" y="180"/>
                </a:lnTo>
                <a:lnTo>
                  <a:pt x="260" y="214"/>
                </a:lnTo>
                <a:lnTo>
                  <a:pt x="260" y="237"/>
                </a:lnTo>
                <a:lnTo>
                  <a:pt x="260" y="305"/>
                </a:lnTo>
                <a:lnTo>
                  <a:pt x="248" y="373"/>
                </a:lnTo>
                <a:lnTo>
                  <a:pt x="248" y="452"/>
                </a:lnTo>
                <a:lnTo>
                  <a:pt x="237" y="486"/>
                </a:lnTo>
                <a:lnTo>
                  <a:pt x="237" y="520"/>
                </a:lnTo>
                <a:lnTo>
                  <a:pt x="237" y="554"/>
                </a:lnTo>
                <a:lnTo>
                  <a:pt x="248" y="576"/>
                </a:lnTo>
                <a:lnTo>
                  <a:pt x="248" y="599"/>
                </a:lnTo>
                <a:lnTo>
                  <a:pt x="248" y="610"/>
                </a:lnTo>
                <a:lnTo>
                  <a:pt x="260" y="621"/>
                </a:lnTo>
                <a:lnTo>
                  <a:pt x="260" y="633"/>
                </a:lnTo>
                <a:lnTo>
                  <a:pt x="271" y="644"/>
                </a:lnTo>
                <a:lnTo>
                  <a:pt x="282" y="644"/>
                </a:lnTo>
                <a:lnTo>
                  <a:pt x="294" y="644"/>
                </a:lnTo>
                <a:lnTo>
                  <a:pt x="305" y="644"/>
                </a:lnTo>
                <a:lnTo>
                  <a:pt x="328" y="644"/>
                </a:lnTo>
                <a:lnTo>
                  <a:pt x="350" y="644"/>
                </a:lnTo>
                <a:lnTo>
                  <a:pt x="373" y="644"/>
                </a:lnTo>
                <a:lnTo>
                  <a:pt x="395" y="644"/>
                </a:lnTo>
                <a:lnTo>
                  <a:pt x="429" y="644"/>
                </a:lnTo>
                <a:lnTo>
                  <a:pt x="452" y="633"/>
                </a:lnTo>
                <a:lnTo>
                  <a:pt x="486" y="633"/>
                </a:lnTo>
                <a:lnTo>
                  <a:pt x="531" y="621"/>
                </a:lnTo>
                <a:lnTo>
                  <a:pt x="565" y="621"/>
                </a:lnTo>
                <a:lnTo>
                  <a:pt x="610" y="610"/>
                </a:lnTo>
                <a:lnTo>
                  <a:pt x="655" y="610"/>
                </a:lnTo>
                <a:lnTo>
                  <a:pt x="746" y="587"/>
                </a:lnTo>
                <a:lnTo>
                  <a:pt x="825" y="576"/>
                </a:lnTo>
                <a:lnTo>
                  <a:pt x="904" y="565"/>
                </a:lnTo>
                <a:lnTo>
                  <a:pt x="961" y="554"/>
                </a:lnTo>
                <a:lnTo>
                  <a:pt x="1017" y="542"/>
                </a:lnTo>
                <a:lnTo>
                  <a:pt x="1040" y="542"/>
                </a:lnTo>
                <a:lnTo>
                  <a:pt x="1062" y="542"/>
                </a:lnTo>
                <a:lnTo>
                  <a:pt x="1074" y="531"/>
                </a:lnTo>
                <a:lnTo>
                  <a:pt x="1096" y="531"/>
                </a:lnTo>
                <a:lnTo>
                  <a:pt x="1108" y="531"/>
                </a:lnTo>
                <a:lnTo>
                  <a:pt x="1119" y="531"/>
                </a:lnTo>
                <a:lnTo>
                  <a:pt x="1130" y="520"/>
                </a:lnTo>
                <a:lnTo>
                  <a:pt x="1153" y="520"/>
                </a:lnTo>
                <a:lnTo>
                  <a:pt x="1187" y="531"/>
                </a:lnTo>
                <a:lnTo>
                  <a:pt x="1221" y="531"/>
                </a:lnTo>
                <a:lnTo>
                  <a:pt x="1255" y="554"/>
                </a:lnTo>
                <a:lnTo>
                  <a:pt x="1277" y="576"/>
                </a:lnTo>
                <a:lnTo>
                  <a:pt x="1300" y="610"/>
                </a:lnTo>
                <a:lnTo>
                  <a:pt x="1311" y="621"/>
                </a:lnTo>
                <a:lnTo>
                  <a:pt x="1322" y="633"/>
                </a:lnTo>
                <a:lnTo>
                  <a:pt x="1322" y="644"/>
                </a:lnTo>
                <a:lnTo>
                  <a:pt x="1322" y="655"/>
                </a:lnTo>
                <a:lnTo>
                  <a:pt x="1311" y="667"/>
                </a:lnTo>
                <a:lnTo>
                  <a:pt x="1300" y="667"/>
                </a:lnTo>
                <a:lnTo>
                  <a:pt x="1289" y="678"/>
                </a:lnTo>
                <a:lnTo>
                  <a:pt x="1266" y="678"/>
                </a:lnTo>
                <a:lnTo>
                  <a:pt x="1243" y="678"/>
                </a:lnTo>
                <a:lnTo>
                  <a:pt x="1221" y="689"/>
                </a:lnTo>
                <a:lnTo>
                  <a:pt x="1187" y="689"/>
                </a:lnTo>
                <a:lnTo>
                  <a:pt x="1153" y="689"/>
                </a:lnTo>
                <a:lnTo>
                  <a:pt x="1108" y="689"/>
                </a:lnTo>
                <a:lnTo>
                  <a:pt x="1062" y="689"/>
                </a:lnTo>
                <a:lnTo>
                  <a:pt x="1006" y="700"/>
                </a:lnTo>
                <a:lnTo>
                  <a:pt x="949" y="700"/>
                </a:lnTo>
                <a:lnTo>
                  <a:pt x="893" y="712"/>
                </a:lnTo>
                <a:lnTo>
                  <a:pt x="825" y="712"/>
                </a:lnTo>
                <a:lnTo>
                  <a:pt x="746" y="723"/>
                </a:lnTo>
                <a:lnTo>
                  <a:pt x="678" y="734"/>
                </a:lnTo>
                <a:lnTo>
                  <a:pt x="610" y="746"/>
                </a:lnTo>
                <a:lnTo>
                  <a:pt x="554" y="757"/>
                </a:lnTo>
                <a:lnTo>
                  <a:pt x="508" y="757"/>
                </a:lnTo>
                <a:lnTo>
                  <a:pt x="463" y="768"/>
                </a:lnTo>
                <a:lnTo>
                  <a:pt x="429" y="780"/>
                </a:lnTo>
                <a:lnTo>
                  <a:pt x="395" y="780"/>
                </a:lnTo>
                <a:lnTo>
                  <a:pt x="362" y="791"/>
                </a:lnTo>
                <a:lnTo>
                  <a:pt x="316" y="802"/>
                </a:lnTo>
                <a:lnTo>
                  <a:pt x="271" y="825"/>
                </a:lnTo>
                <a:lnTo>
                  <a:pt x="237" y="847"/>
                </a:lnTo>
                <a:lnTo>
                  <a:pt x="203" y="8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50"/>
          <p:cNvSpPr/>
          <p:nvPr/>
        </p:nvSpPr>
        <p:spPr>
          <a:xfrm>
            <a:off x="6307200" y="2589120"/>
            <a:ext cx="336600" cy="109800"/>
          </a:xfrm>
          <a:custGeom>
            <a:avLst/>
            <a:gdLst>
              <a:gd name="textAreaLeft" fmla="*/ 0 w 336600"/>
              <a:gd name="textAreaRight" fmla="*/ 336960 w 3366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32" h="169">
                <a:moveTo>
                  <a:pt x="204" y="34"/>
                </a:moveTo>
                <a:lnTo>
                  <a:pt x="227" y="22"/>
                </a:lnTo>
                <a:lnTo>
                  <a:pt x="260" y="22"/>
                </a:lnTo>
                <a:lnTo>
                  <a:pt x="306" y="11"/>
                </a:lnTo>
                <a:lnTo>
                  <a:pt x="340" y="0"/>
                </a:lnTo>
                <a:lnTo>
                  <a:pt x="374" y="0"/>
                </a:lnTo>
                <a:lnTo>
                  <a:pt x="407" y="0"/>
                </a:lnTo>
                <a:lnTo>
                  <a:pt x="441" y="11"/>
                </a:lnTo>
                <a:lnTo>
                  <a:pt x="487" y="22"/>
                </a:lnTo>
                <a:lnTo>
                  <a:pt x="532" y="34"/>
                </a:lnTo>
                <a:lnTo>
                  <a:pt x="532" y="68"/>
                </a:lnTo>
                <a:lnTo>
                  <a:pt x="521" y="90"/>
                </a:lnTo>
                <a:lnTo>
                  <a:pt x="509" y="101"/>
                </a:lnTo>
                <a:lnTo>
                  <a:pt x="498" y="113"/>
                </a:lnTo>
                <a:lnTo>
                  <a:pt x="475" y="113"/>
                </a:lnTo>
                <a:lnTo>
                  <a:pt x="441" y="124"/>
                </a:lnTo>
                <a:lnTo>
                  <a:pt x="430" y="135"/>
                </a:lnTo>
                <a:lnTo>
                  <a:pt x="407" y="135"/>
                </a:lnTo>
                <a:lnTo>
                  <a:pt x="385" y="147"/>
                </a:lnTo>
                <a:lnTo>
                  <a:pt x="362" y="147"/>
                </a:lnTo>
                <a:lnTo>
                  <a:pt x="328" y="147"/>
                </a:lnTo>
                <a:lnTo>
                  <a:pt x="294" y="158"/>
                </a:lnTo>
                <a:lnTo>
                  <a:pt x="227" y="158"/>
                </a:lnTo>
                <a:lnTo>
                  <a:pt x="147" y="169"/>
                </a:lnTo>
                <a:lnTo>
                  <a:pt x="80" y="169"/>
                </a:lnTo>
                <a:lnTo>
                  <a:pt x="0" y="169"/>
                </a:lnTo>
                <a:lnTo>
                  <a:pt x="0" y="101"/>
                </a:lnTo>
                <a:lnTo>
                  <a:pt x="46" y="90"/>
                </a:lnTo>
                <a:lnTo>
                  <a:pt x="91" y="79"/>
                </a:lnTo>
                <a:lnTo>
                  <a:pt x="147" y="56"/>
                </a:lnTo>
                <a:lnTo>
                  <a:pt x="204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51"/>
          <p:cNvSpPr/>
          <p:nvPr/>
        </p:nvSpPr>
        <p:spPr>
          <a:xfrm>
            <a:off x="6342120" y="2838600"/>
            <a:ext cx="460440" cy="101520"/>
          </a:xfrm>
          <a:custGeom>
            <a:avLst/>
            <a:gdLst>
              <a:gd name="textAreaLeft" fmla="*/ 0 w 460440"/>
              <a:gd name="textAreaRight" fmla="*/ 460800 w 4604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724" h="158">
                <a:moveTo>
                  <a:pt x="724" y="45"/>
                </a:moveTo>
                <a:lnTo>
                  <a:pt x="724" y="57"/>
                </a:lnTo>
                <a:lnTo>
                  <a:pt x="724" y="68"/>
                </a:lnTo>
                <a:lnTo>
                  <a:pt x="724" y="91"/>
                </a:lnTo>
                <a:lnTo>
                  <a:pt x="724" y="102"/>
                </a:lnTo>
                <a:lnTo>
                  <a:pt x="724" y="113"/>
                </a:lnTo>
                <a:lnTo>
                  <a:pt x="712" y="124"/>
                </a:lnTo>
                <a:lnTo>
                  <a:pt x="701" y="124"/>
                </a:lnTo>
                <a:lnTo>
                  <a:pt x="678" y="124"/>
                </a:lnTo>
                <a:lnTo>
                  <a:pt x="644" y="124"/>
                </a:lnTo>
                <a:lnTo>
                  <a:pt x="622" y="124"/>
                </a:lnTo>
                <a:lnTo>
                  <a:pt x="577" y="136"/>
                </a:lnTo>
                <a:lnTo>
                  <a:pt x="543" y="136"/>
                </a:lnTo>
                <a:lnTo>
                  <a:pt x="486" y="136"/>
                </a:lnTo>
                <a:lnTo>
                  <a:pt x="441" y="136"/>
                </a:lnTo>
                <a:lnTo>
                  <a:pt x="384" y="136"/>
                </a:lnTo>
                <a:lnTo>
                  <a:pt x="317" y="147"/>
                </a:lnTo>
                <a:lnTo>
                  <a:pt x="249" y="147"/>
                </a:lnTo>
                <a:lnTo>
                  <a:pt x="181" y="147"/>
                </a:lnTo>
                <a:lnTo>
                  <a:pt x="102" y="147"/>
                </a:lnTo>
                <a:lnTo>
                  <a:pt x="11" y="158"/>
                </a:lnTo>
                <a:lnTo>
                  <a:pt x="0" y="57"/>
                </a:lnTo>
                <a:lnTo>
                  <a:pt x="79" y="57"/>
                </a:lnTo>
                <a:lnTo>
                  <a:pt x="158" y="45"/>
                </a:lnTo>
                <a:lnTo>
                  <a:pt x="237" y="34"/>
                </a:lnTo>
                <a:lnTo>
                  <a:pt x="305" y="34"/>
                </a:lnTo>
                <a:lnTo>
                  <a:pt x="373" y="23"/>
                </a:lnTo>
                <a:lnTo>
                  <a:pt x="430" y="23"/>
                </a:lnTo>
                <a:lnTo>
                  <a:pt x="486" y="11"/>
                </a:lnTo>
                <a:lnTo>
                  <a:pt x="543" y="11"/>
                </a:lnTo>
                <a:lnTo>
                  <a:pt x="588" y="0"/>
                </a:lnTo>
                <a:lnTo>
                  <a:pt x="622" y="0"/>
                </a:lnTo>
                <a:lnTo>
                  <a:pt x="656" y="0"/>
                </a:lnTo>
                <a:lnTo>
                  <a:pt x="678" y="11"/>
                </a:lnTo>
                <a:lnTo>
                  <a:pt x="701" y="11"/>
                </a:lnTo>
                <a:lnTo>
                  <a:pt x="712" y="23"/>
                </a:lnTo>
                <a:lnTo>
                  <a:pt x="724" y="34"/>
                </a:lnTo>
                <a:lnTo>
                  <a:pt x="724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52"/>
          <p:cNvSpPr/>
          <p:nvPr/>
        </p:nvSpPr>
        <p:spPr>
          <a:xfrm>
            <a:off x="6091200" y="2971800"/>
            <a:ext cx="338040" cy="322200"/>
          </a:xfrm>
          <a:custGeom>
            <a:avLst/>
            <a:gdLst>
              <a:gd name="textAreaLeft" fmla="*/ 0 w 338040"/>
              <a:gd name="textAreaRight" fmla="*/ 338400 w 33804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532" h="497">
                <a:moveTo>
                  <a:pt x="272" y="203"/>
                </a:moveTo>
                <a:lnTo>
                  <a:pt x="306" y="158"/>
                </a:lnTo>
                <a:lnTo>
                  <a:pt x="328" y="135"/>
                </a:lnTo>
                <a:lnTo>
                  <a:pt x="339" y="101"/>
                </a:lnTo>
                <a:lnTo>
                  <a:pt x="339" y="90"/>
                </a:lnTo>
                <a:lnTo>
                  <a:pt x="339" y="79"/>
                </a:lnTo>
                <a:lnTo>
                  <a:pt x="339" y="67"/>
                </a:lnTo>
                <a:lnTo>
                  <a:pt x="339" y="56"/>
                </a:lnTo>
                <a:lnTo>
                  <a:pt x="339" y="45"/>
                </a:lnTo>
                <a:lnTo>
                  <a:pt x="351" y="22"/>
                </a:lnTo>
                <a:lnTo>
                  <a:pt x="373" y="0"/>
                </a:lnTo>
                <a:lnTo>
                  <a:pt x="385" y="0"/>
                </a:lnTo>
                <a:lnTo>
                  <a:pt x="396" y="0"/>
                </a:lnTo>
                <a:lnTo>
                  <a:pt x="407" y="0"/>
                </a:lnTo>
                <a:lnTo>
                  <a:pt x="419" y="11"/>
                </a:lnTo>
                <a:lnTo>
                  <a:pt x="430" y="22"/>
                </a:lnTo>
                <a:lnTo>
                  <a:pt x="441" y="22"/>
                </a:lnTo>
                <a:lnTo>
                  <a:pt x="464" y="45"/>
                </a:lnTo>
                <a:lnTo>
                  <a:pt x="486" y="79"/>
                </a:lnTo>
                <a:lnTo>
                  <a:pt x="509" y="113"/>
                </a:lnTo>
                <a:lnTo>
                  <a:pt x="520" y="135"/>
                </a:lnTo>
                <a:lnTo>
                  <a:pt x="520" y="147"/>
                </a:lnTo>
                <a:lnTo>
                  <a:pt x="532" y="158"/>
                </a:lnTo>
                <a:lnTo>
                  <a:pt x="520" y="169"/>
                </a:lnTo>
                <a:lnTo>
                  <a:pt x="520" y="180"/>
                </a:lnTo>
                <a:lnTo>
                  <a:pt x="509" y="192"/>
                </a:lnTo>
                <a:lnTo>
                  <a:pt x="498" y="214"/>
                </a:lnTo>
                <a:lnTo>
                  <a:pt x="486" y="226"/>
                </a:lnTo>
                <a:lnTo>
                  <a:pt x="464" y="237"/>
                </a:lnTo>
                <a:lnTo>
                  <a:pt x="441" y="260"/>
                </a:lnTo>
                <a:lnTo>
                  <a:pt x="419" y="282"/>
                </a:lnTo>
                <a:lnTo>
                  <a:pt x="396" y="305"/>
                </a:lnTo>
                <a:lnTo>
                  <a:pt x="373" y="327"/>
                </a:lnTo>
                <a:lnTo>
                  <a:pt x="317" y="361"/>
                </a:lnTo>
                <a:lnTo>
                  <a:pt x="260" y="395"/>
                </a:lnTo>
                <a:lnTo>
                  <a:pt x="204" y="418"/>
                </a:lnTo>
                <a:lnTo>
                  <a:pt x="159" y="452"/>
                </a:lnTo>
                <a:lnTo>
                  <a:pt x="125" y="474"/>
                </a:lnTo>
                <a:lnTo>
                  <a:pt x="79" y="486"/>
                </a:lnTo>
                <a:lnTo>
                  <a:pt x="68" y="486"/>
                </a:lnTo>
                <a:lnTo>
                  <a:pt x="46" y="486"/>
                </a:lnTo>
                <a:lnTo>
                  <a:pt x="34" y="497"/>
                </a:lnTo>
                <a:lnTo>
                  <a:pt x="23" y="497"/>
                </a:lnTo>
                <a:lnTo>
                  <a:pt x="12" y="497"/>
                </a:lnTo>
                <a:lnTo>
                  <a:pt x="0" y="486"/>
                </a:lnTo>
                <a:lnTo>
                  <a:pt x="0" y="474"/>
                </a:lnTo>
                <a:lnTo>
                  <a:pt x="0" y="463"/>
                </a:lnTo>
                <a:lnTo>
                  <a:pt x="0" y="452"/>
                </a:lnTo>
                <a:lnTo>
                  <a:pt x="12" y="441"/>
                </a:lnTo>
                <a:lnTo>
                  <a:pt x="34" y="429"/>
                </a:lnTo>
                <a:lnTo>
                  <a:pt x="57" y="418"/>
                </a:lnTo>
                <a:lnTo>
                  <a:pt x="79" y="395"/>
                </a:lnTo>
                <a:lnTo>
                  <a:pt x="102" y="373"/>
                </a:lnTo>
                <a:lnTo>
                  <a:pt x="159" y="327"/>
                </a:lnTo>
                <a:lnTo>
                  <a:pt x="204" y="282"/>
                </a:lnTo>
                <a:lnTo>
                  <a:pt x="238" y="237"/>
                </a:lnTo>
                <a:lnTo>
                  <a:pt x="272" y="20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53"/>
          <p:cNvSpPr/>
          <p:nvPr/>
        </p:nvSpPr>
        <p:spPr>
          <a:xfrm>
            <a:off x="6264360" y="3044880"/>
            <a:ext cx="911160" cy="1204920"/>
          </a:xfrm>
          <a:custGeom>
            <a:avLst/>
            <a:gdLst>
              <a:gd name="textAreaLeft" fmla="*/ 0 w 911160"/>
              <a:gd name="textAreaRight" fmla="*/ 911520 w 91116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1435" h="1854">
                <a:moveTo>
                  <a:pt x="972" y="1492"/>
                </a:moveTo>
                <a:lnTo>
                  <a:pt x="983" y="1492"/>
                </a:lnTo>
                <a:lnTo>
                  <a:pt x="994" y="1481"/>
                </a:lnTo>
                <a:lnTo>
                  <a:pt x="1006" y="1458"/>
                </a:lnTo>
                <a:lnTo>
                  <a:pt x="1017" y="1447"/>
                </a:lnTo>
                <a:lnTo>
                  <a:pt x="1028" y="1424"/>
                </a:lnTo>
                <a:lnTo>
                  <a:pt x="1040" y="1401"/>
                </a:lnTo>
                <a:lnTo>
                  <a:pt x="1051" y="1368"/>
                </a:lnTo>
                <a:lnTo>
                  <a:pt x="1062" y="1334"/>
                </a:lnTo>
                <a:lnTo>
                  <a:pt x="1085" y="1266"/>
                </a:lnTo>
                <a:lnTo>
                  <a:pt x="1096" y="1187"/>
                </a:lnTo>
                <a:lnTo>
                  <a:pt x="1119" y="1108"/>
                </a:lnTo>
                <a:lnTo>
                  <a:pt x="1130" y="1017"/>
                </a:lnTo>
                <a:lnTo>
                  <a:pt x="1130" y="972"/>
                </a:lnTo>
                <a:lnTo>
                  <a:pt x="1141" y="927"/>
                </a:lnTo>
                <a:lnTo>
                  <a:pt x="1141" y="870"/>
                </a:lnTo>
                <a:lnTo>
                  <a:pt x="1141" y="802"/>
                </a:lnTo>
                <a:lnTo>
                  <a:pt x="1141" y="746"/>
                </a:lnTo>
                <a:lnTo>
                  <a:pt x="1141" y="667"/>
                </a:lnTo>
                <a:lnTo>
                  <a:pt x="1141" y="599"/>
                </a:lnTo>
                <a:lnTo>
                  <a:pt x="1141" y="520"/>
                </a:lnTo>
                <a:lnTo>
                  <a:pt x="1141" y="452"/>
                </a:lnTo>
                <a:lnTo>
                  <a:pt x="1141" y="384"/>
                </a:lnTo>
                <a:lnTo>
                  <a:pt x="1141" y="339"/>
                </a:lnTo>
                <a:lnTo>
                  <a:pt x="1130" y="282"/>
                </a:lnTo>
                <a:lnTo>
                  <a:pt x="1130" y="248"/>
                </a:lnTo>
                <a:lnTo>
                  <a:pt x="1119" y="226"/>
                </a:lnTo>
                <a:lnTo>
                  <a:pt x="1108" y="203"/>
                </a:lnTo>
                <a:lnTo>
                  <a:pt x="1108" y="192"/>
                </a:lnTo>
                <a:lnTo>
                  <a:pt x="1096" y="192"/>
                </a:lnTo>
                <a:lnTo>
                  <a:pt x="1074" y="181"/>
                </a:lnTo>
                <a:lnTo>
                  <a:pt x="1062" y="181"/>
                </a:lnTo>
                <a:lnTo>
                  <a:pt x="1040" y="181"/>
                </a:lnTo>
                <a:lnTo>
                  <a:pt x="1017" y="181"/>
                </a:lnTo>
                <a:lnTo>
                  <a:pt x="994" y="181"/>
                </a:lnTo>
                <a:lnTo>
                  <a:pt x="961" y="192"/>
                </a:lnTo>
                <a:lnTo>
                  <a:pt x="927" y="192"/>
                </a:lnTo>
                <a:lnTo>
                  <a:pt x="859" y="203"/>
                </a:lnTo>
                <a:lnTo>
                  <a:pt x="791" y="203"/>
                </a:lnTo>
                <a:lnTo>
                  <a:pt x="734" y="214"/>
                </a:lnTo>
                <a:lnTo>
                  <a:pt x="701" y="214"/>
                </a:lnTo>
                <a:lnTo>
                  <a:pt x="678" y="214"/>
                </a:lnTo>
                <a:lnTo>
                  <a:pt x="655" y="226"/>
                </a:lnTo>
                <a:lnTo>
                  <a:pt x="621" y="226"/>
                </a:lnTo>
                <a:lnTo>
                  <a:pt x="588" y="237"/>
                </a:lnTo>
                <a:lnTo>
                  <a:pt x="554" y="248"/>
                </a:lnTo>
                <a:lnTo>
                  <a:pt x="508" y="248"/>
                </a:lnTo>
                <a:lnTo>
                  <a:pt x="463" y="260"/>
                </a:lnTo>
                <a:lnTo>
                  <a:pt x="418" y="260"/>
                </a:lnTo>
                <a:lnTo>
                  <a:pt x="373" y="271"/>
                </a:lnTo>
                <a:lnTo>
                  <a:pt x="327" y="282"/>
                </a:lnTo>
                <a:lnTo>
                  <a:pt x="282" y="282"/>
                </a:lnTo>
                <a:lnTo>
                  <a:pt x="226" y="294"/>
                </a:lnTo>
                <a:lnTo>
                  <a:pt x="181" y="294"/>
                </a:lnTo>
                <a:lnTo>
                  <a:pt x="135" y="282"/>
                </a:lnTo>
                <a:lnTo>
                  <a:pt x="90" y="282"/>
                </a:lnTo>
                <a:lnTo>
                  <a:pt x="45" y="271"/>
                </a:lnTo>
                <a:lnTo>
                  <a:pt x="0" y="260"/>
                </a:lnTo>
                <a:lnTo>
                  <a:pt x="0" y="181"/>
                </a:lnTo>
                <a:lnTo>
                  <a:pt x="56" y="181"/>
                </a:lnTo>
                <a:lnTo>
                  <a:pt x="124" y="169"/>
                </a:lnTo>
                <a:lnTo>
                  <a:pt x="192" y="169"/>
                </a:lnTo>
                <a:lnTo>
                  <a:pt x="260" y="158"/>
                </a:lnTo>
                <a:lnTo>
                  <a:pt x="339" y="147"/>
                </a:lnTo>
                <a:lnTo>
                  <a:pt x="429" y="135"/>
                </a:lnTo>
                <a:lnTo>
                  <a:pt x="520" y="124"/>
                </a:lnTo>
                <a:lnTo>
                  <a:pt x="610" y="113"/>
                </a:lnTo>
                <a:lnTo>
                  <a:pt x="667" y="101"/>
                </a:lnTo>
                <a:lnTo>
                  <a:pt x="712" y="101"/>
                </a:lnTo>
                <a:lnTo>
                  <a:pt x="746" y="90"/>
                </a:lnTo>
                <a:lnTo>
                  <a:pt x="791" y="79"/>
                </a:lnTo>
                <a:lnTo>
                  <a:pt x="825" y="79"/>
                </a:lnTo>
                <a:lnTo>
                  <a:pt x="859" y="67"/>
                </a:lnTo>
                <a:lnTo>
                  <a:pt x="893" y="67"/>
                </a:lnTo>
                <a:lnTo>
                  <a:pt x="927" y="56"/>
                </a:lnTo>
                <a:lnTo>
                  <a:pt x="949" y="56"/>
                </a:lnTo>
                <a:lnTo>
                  <a:pt x="972" y="45"/>
                </a:lnTo>
                <a:lnTo>
                  <a:pt x="994" y="45"/>
                </a:lnTo>
                <a:lnTo>
                  <a:pt x="1006" y="34"/>
                </a:lnTo>
                <a:lnTo>
                  <a:pt x="1017" y="34"/>
                </a:lnTo>
                <a:lnTo>
                  <a:pt x="1040" y="22"/>
                </a:lnTo>
                <a:lnTo>
                  <a:pt x="1051" y="22"/>
                </a:lnTo>
                <a:lnTo>
                  <a:pt x="1062" y="11"/>
                </a:lnTo>
                <a:lnTo>
                  <a:pt x="1085" y="0"/>
                </a:lnTo>
                <a:lnTo>
                  <a:pt x="1108" y="0"/>
                </a:lnTo>
                <a:lnTo>
                  <a:pt x="1130" y="0"/>
                </a:lnTo>
                <a:lnTo>
                  <a:pt x="1141" y="0"/>
                </a:lnTo>
                <a:lnTo>
                  <a:pt x="1153" y="11"/>
                </a:lnTo>
                <a:lnTo>
                  <a:pt x="1175" y="11"/>
                </a:lnTo>
                <a:lnTo>
                  <a:pt x="1187" y="22"/>
                </a:lnTo>
                <a:lnTo>
                  <a:pt x="1209" y="34"/>
                </a:lnTo>
                <a:lnTo>
                  <a:pt x="1243" y="45"/>
                </a:lnTo>
                <a:lnTo>
                  <a:pt x="1266" y="56"/>
                </a:lnTo>
                <a:lnTo>
                  <a:pt x="1300" y="67"/>
                </a:lnTo>
                <a:lnTo>
                  <a:pt x="1334" y="90"/>
                </a:lnTo>
                <a:lnTo>
                  <a:pt x="1356" y="113"/>
                </a:lnTo>
                <a:lnTo>
                  <a:pt x="1379" y="124"/>
                </a:lnTo>
                <a:lnTo>
                  <a:pt x="1390" y="147"/>
                </a:lnTo>
                <a:lnTo>
                  <a:pt x="1413" y="158"/>
                </a:lnTo>
                <a:lnTo>
                  <a:pt x="1424" y="169"/>
                </a:lnTo>
                <a:lnTo>
                  <a:pt x="1424" y="181"/>
                </a:lnTo>
                <a:lnTo>
                  <a:pt x="1435" y="192"/>
                </a:lnTo>
                <a:lnTo>
                  <a:pt x="1435" y="214"/>
                </a:lnTo>
                <a:lnTo>
                  <a:pt x="1424" y="226"/>
                </a:lnTo>
                <a:lnTo>
                  <a:pt x="1413" y="237"/>
                </a:lnTo>
                <a:lnTo>
                  <a:pt x="1390" y="248"/>
                </a:lnTo>
                <a:lnTo>
                  <a:pt x="1390" y="260"/>
                </a:lnTo>
                <a:lnTo>
                  <a:pt x="1379" y="271"/>
                </a:lnTo>
                <a:lnTo>
                  <a:pt x="1379" y="282"/>
                </a:lnTo>
                <a:lnTo>
                  <a:pt x="1379" y="294"/>
                </a:lnTo>
                <a:lnTo>
                  <a:pt x="1368" y="316"/>
                </a:lnTo>
                <a:lnTo>
                  <a:pt x="1368" y="339"/>
                </a:lnTo>
                <a:lnTo>
                  <a:pt x="1368" y="361"/>
                </a:lnTo>
                <a:lnTo>
                  <a:pt x="1368" y="384"/>
                </a:lnTo>
                <a:lnTo>
                  <a:pt x="1356" y="418"/>
                </a:lnTo>
                <a:lnTo>
                  <a:pt x="1356" y="452"/>
                </a:lnTo>
                <a:lnTo>
                  <a:pt x="1356" y="486"/>
                </a:lnTo>
                <a:lnTo>
                  <a:pt x="1356" y="531"/>
                </a:lnTo>
                <a:lnTo>
                  <a:pt x="1356" y="576"/>
                </a:lnTo>
                <a:lnTo>
                  <a:pt x="1356" y="621"/>
                </a:lnTo>
                <a:lnTo>
                  <a:pt x="1356" y="667"/>
                </a:lnTo>
                <a:lnTo>
                  <a:pt x="1345" y="757"/>
                </a:lnTo>
                <a:lnTo>
                  <a:pt x="1345" y="848"/>
                </a:lnTo>
                <a:lnTo>
                  <a:pt x="1334" y="938"/>
                </a:lnTo>
                <a:lnTo>
                  <a:pt x="1334" y="1017"/>
                </a:lnTo>
                <a:lnTo>
                  <a:pt x="1322" y="1096"/>
                </a:lnTo>
                <a:lnTo>
                  <a:pt x="1322" y="1164"/>
                </a:lnTo>
                <a:lnTo>
                  <a:pt x="1311" y="1232"/>
                </a:lnTo>
                <a:lnTo>
                  <a:pt x="1300" y="1300"/>
                </a:lnTo>
                <a:lnTo>
                  <a:pt x="1288" y="1356"/>
                </a:lnTo>
                <a:lnTo>
                  <a:pt x="1277" y="1413"/>
                </a:lnTo>
                <a:lnTo>
                  <a:pt x="1266" y="1458"/>
                </a:lnTo>
                <a:lnTo>
                  <a:pt x="1243" y="1515"/>
                </a:lnTo>
                <a:lnTo>
                  <a:pt x="1221" y="1560"/>
                </a:lnTo>
                <a:lnTo>
                  <a:pt x="1198" y="1605"/>
                </a:lnTo>
                <a:lnTo>
                  <a:pt x="1141" y="1695"/>
                </a:lnTo>
                <a:lnTo>
                  <a:pt x="1108" y="1729"/>
                </a:lnTo>
                <a:lnTo>
                  <a:pt x="1085" y="1763"/>
                </a:lnTo>
                <a:lnTo>
                  <a:pt x="1051" y="1786"/>
                </a:lnTo>
                <a:lnTo>
                  <a:pt x="1028" y="1808"/>
                </a:lnTo>
                <a:lnTo>
                  <a:pt x="1017" y="1831"/>
                </a:lnTo>
                <a:lnTo>
                  <a:pt x="994" y="1842"/>
                </a:lnTo>
                <a:lnTo>
                  <a:pt x="983" y="1842"/>
                </a:lnTo>
                <a:lnTo>
                  <a:pt x="972" y="1854"/>
                </a:lnTo>
                <a:lnTo>
                  <a:pt x="961" y="1854"/>
                </a:lnTo>
                <a:lnTo>
                  <a:pt x="938" y="1842"/>
                </a:lnTo>
                <a:lnTo>
                  <a:pt x="927" y="1842"/>
                </a:lnTo>
                <a:lnTo>
                  <a:pt x="915" y="1831"/>
                </a:lnTo>
                <a:lnTo>
                  <a:pt x="915" y="1820"/>
                </a:lnTo>
                <a:lnTo>
                  <a:pt x="904" y="1797"/>
                </a:lnTo>
                <a:lnTo>
                  <a:pt x="893" y="1786"/>
                </a:lnTo>
                <a:lnTo>
                  <a:pt x="893" y="1752"/>
                </a:lnTo>
                <a:lnTo>
                  <a:pt x="881" y="1729"/>
                </a:lnTo>
                <a:lnTo>
                  <a:pt x="870" y="1707"/>
                </a:lnTo>
                <a:lnTo>
                  <a:pt x="859" y="1684"/>
                </a:lnTo>
                <a:lnTo>
                  <a:pt x="836" y="1673"/>
                </a:lnTo>
                <a:lnTo>
                  <a:pt x="825" y="1650"/>
                </a:lnTo>
                <a:lnTo>
                  <a:pt x="791" y="1628"/>
                </a:lnTo>
                <a:lnTo>
                  <a:pt x="768" y="1605"/>
                </a:lnTo>
                <a:lnTo>
                  <a:pt x="734" y="1582"/>
                </a:lnTo>
                <a:lnTo>
                  <a:pt x="701" y="1560"/>
                </a:lnTo>
                <a:lnTo>
                  <a:pt x="667" y="1537"/>
                </a:lnTo>
                <a:lnTo>
                  <a:pt x="644" y="1526"/>
                </a:lnTo>
                <a:lnTo>
                  <a:pt x="621" y="1503"/>
                </a:lnTo>
                <a:lnTo>
                  <a:pt x="610" y="1492"/>
                </a:lnTo>
                <a:lnTo>
                  <a:pt x="599" y="1481"/>
                </a:lnTo>
                <a:lnTo>
                  <a:pt x="599" y="1469"/>
                </a:lnTo>
                <a:lnTo>
                  <a:pt x="610" y="1458"/>
                </a:lnTo>
                <a:lnTo>
                  <a:pt x="621" y="1458"/>
                </a:lnTo>
                <a:lnTo>
                  <a:pt x="644" y="1458"/>
                </a:lnTo>
                <a:lnTo>
                  <a:pt x="667" y="1458"/>
                </a:lnTo>
                <a:lnTo>
                  <a:pt x="689" y="1458"/>
                </a:lnTo>
                <a:lnTo>
                  <a:pt x="734" y="1469"/>
                </a:lnTo>
                <a:lnTo>
                  <a:pt x="768" y="1469"/>
                </a:lnTo>
                <a:lnTo>
                  <a:pt x="814" y="1481"/>
                </a:lnTo>
                <a:lnTo>
                  <a:pt x="848" y="1481"/>
                </a:lnTo>
                <a:lnTo>
                  <a:pt x="870" y="1492"/>
                </a:lnTo>
                <a:lnTo>
                  <a:pt x="904" y="1492"/>
                </a:lnTo>
                <a:lnTo>
                  <a:pt x="927" y="1503"/>
                </a:lnTo>
                <a:lnTo>
                  <a:pt x="938" y="1503"/>
                </a:lnTo>
                <a:lnTo>
                  <a:pt x="961" y="1503"/>
                </a:lnTo>
                <a:lnTo>
                  <a:pt x="972" y="149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48"/>
          <p:cNvSpPr/>
          <p:nvPr/>
        </p:nvSpPr>
        <p:spPr>
          <a:xfrm>
            <a:off x="6221520" y="3205080"/>
            <a:ext cx="379440" cy="457200"/>
          </a:xfrm>
          <a:custGeom>
            <a:avLst/>
            <a:gdLst>
              <a:gd name="textAreaLeft" fmla="*/ 0 w 379440"/>
              <a:gd name="textAreaRight" fmla="*/ 379800 w 379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99" h="701">
                <a:moveTo>
                  <a:pt x="486" y="340"/>
                </a:moveTo>
                <a:lnTo>
                  <a:pt x="452" y="373"/>
                </a:lnTo>
                <a:lnTo>
                  <a:pt x="429" y="407"/>
                </a:lnTo>
                <a:lnTo>
                  <a:pt x="362" y="475"/>
                </a:lnTo>
                <a:lnTo>
                  <a:pt x="294" y="532"/>
                </a:lnTo>
                <a:lnTo>
                  <a:pt x="215" y="588"/>
                </a:lnTo>
                <a:lnTo>
                  <a:pt x="181" y="622"/>
                </a:lnTo>
                <a:lnTo>
                  <a:pt x="135" y="645"/>
                </a:lnTo>
                <a:lnTo>
                  <a:pt x="102" y="656"/>
                </a:lnTo>
                <a:lnTo>
                  <a:pt x="79" y="679"/>
                </a:lnTo>
                <a:lnTo>
                  <a:pt x="56" y="690"/>
                </a:lnTo>
                <a:lnTo>
                  <a:pt x="34" y="690"/>
                </a:lnTo>
                <a:lnTo>
                  <a:pt x="22" y="701"/>
                </a:lnTo>
                <a:lnTo>
                  <a:pt x="0" y="690"/>
                </a:lnTo>
                <a:lnTo>
                  <a:pt x="0" y="667"/>
                </a:lnTo>
                <a:lnTo>
                  <a:pt x="11" y="656"/>
                </a:lnTo>
                <a:lnTo>
                  <a:pt x="34" y="633"/>
                </a:lnTo>
                <a:lnTo>
                  <a:pt x="56" y="611"/>
                </a:lnTo>
                <a:lnTo>
                  <a:pt x="90" y="577"/>
                </a:lnTo>
                <a:lnTo>
                  <a:pt x="124" y="554"/>
                </a:lnTo>
                <a:lnTo>
                  <a:pt x="192" y="475"/>
                </a:lnTo>
                <a:lnTo>
                  <a:pt x="226" y="441"/>
                </a:lnTo>
                <a:lnTo>
                  <a:pt x="249" y="407"/>
                </a:lnTo>
                <a:lnTo>
                  <a:pt x="271" y="362"/>
                </a:lnTo>
                <a:lnTo>
                  <a:pt x="305" y="328"/>
                </a:lnTo>
                <a:lnTo>
                  <a:pt x="316" y="294"/>
                </a:lnTo>
                <a:lnTo>
                  <a:pt x="339" y="260"/>
                </a:lnTo>
                <a:lnTo>
                  <a:pt x="350" y="226"/>
                </a:lnTo>
                <a:lnTo>
                  <a:pt x="362" y="193"/>
                </a:lnTo>
                <a:lnTo>
                  <a:pt x="373" y="170"/>
                </a:lnTo>
                <a:lnTo>
                  <a:pt x="373" y="147"/>
                </a:lnTo>
                <a:lnTo>
                  <a:pt x="384" y="125"/>
                </a:lnTo>
                <a:lnTo>
                  <a:pt x="384" y="102"/>
                </a:lnTo>
                <a:lnTo>
                  <a:pt x="384" y="91"/>
                </a:lnTo>
                <a:lnTo>
                  <a:pt x="373" y="80"/>
                </a:lnTo>
                <a:lnTo>
                  <a:pt x="373" y="57"/>
                </a:lnTo>
                <a:lnTo>
                  <a:pt x="373" y="34"/>
                </a:lnTo>
                <a:lnTo>
                  <a:pt x="373" y="23"/>
                </a:lnTo>
                <a:lnTo>
                  <a:pt x="384" y="12"/>
                </a:lnTo>
                <a:lnTo>
                  <a:pt x="395" y="0"/>
                </a:lnTo>
                <a:lnTo>
                  <a:pt x="407" y="0"/>
                </a:lnTo>
                <a:lnTo>
                  <a:pt x="441" y="12"/>
                </a:lnTo>
                <a:lnTo>
                  <a:pt x="475" y="23"/>
                </a:lnTo>
                <a:lnTo>
                  <a:pt x="497" y="23"/>
                </a:lnTo>
                <a:lnTo>
                  <a:pt x="520" y="34"/>
                </a:lnTo>
                <a:lnTo>
                  <a:pt x="542" y="46"/>
                </a:lnTo>
                <a:lnTo>
                  <a:pt x="554" y="68"/>
                </a:lnTo>
                <a:lnTo>
                  <a:pt x="565" y="80"/>
                </a:lnTo>
                <a:lnTo>
                  <a:pt x="576" y="91"/>
                </a:lnTo>
                <a:lnTo>
                  <a:pt x="588" y="102"/>
                </a:lnTo>
                <a:lnTo>
                  <a:pt x="599" y="113"/>
                </a:lnTo>
                <a:lnTo>
                  <a:pt x="599" y="125"/>
                </a:lnTo>
                <a:lnTo>
                  <a:pt x="599" y="136"/>
                </a:lnTo>
                <a:lnTo>
                  <a:pt x="599" y="159"/>
                </a:lnTo>
                <a:lnTo>
                  <a:pt x="599" y="170"/>
                </a:lnTo>
                <a:lnTo>
                  <a:pt x="588" y="193"/>
                </a:lnTo>
                <a:lnTo>
                  <a:pt x="576" y="215"/>
                </a:lnTo>
                <a:lnTo>
                  <a:pt x="554" y="249"/>
                </a:lnTo>
                <a:lnTo>
                  <a:pt x="531" y="272"/>
                </a:lnTo>
                <a:lnTo>
                  <a:pt x="509" y="306"/>
                </a:lnTo>
                <a:lnTo>
                  <a:pt x="486" y="34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49"/>
          <p:cNvSpPr/>
          <p:nvPr/>
        </p:nvSpPr>
        <p:spPr>
          <a:xfrm>
            <a:off x="6535800" y="3389400"/>
            <a:ext cx="295200" cy="176040"/>
          </a:xfrm>
          <a:custGeom>
            <a:avLst/>
            <a:gdLst>
              <a:gd name="textAreaLeft" fmla="*/ 0 w 295200"/>
              <a:gd name="textAreaRight" fmla="*/ 295560 w 29520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464" h="271">
                <a:moveTo>
                  <a:pt x="464" y="170"/>
                </a:moveTo>
                <a:lnTo>
                  <a:pt x="464" y="192"/>
                </a:lnTo>
                <a:lnTo>
                  <a:pt x="464" y="203"/>
                </a:lnTo>
                <a:lnTo>
                  <a:pt x="464" y="237"/>
                </a:lnTo>
                <a:lnTo>
                  <a:pt x="452" y="249"/>
                </a:lnTo>
                <a:lnTo>
                  <a:pt x="452" y="271"/>
                </a:lnTo>
                <a:lnTo>
                  <a:pt x="441" y="271"/>
                </a:lnTo>
                <a:lnTo>
                  <a:pt x="430" y="271"/>
                </a:lnTo>
                <a:lnTo>
                  <a:pt x="407" y="260"/>
                </a:lnTo>
                <a:lnTo>
                  <a:pt x="385" y="249"/>
                </a:lnTo>
                <a:lnTo>
                  <a:pt x="351" y="237"/>
                </a:lnTo>
                <a:lnTo>
                  <a:pt x="305" y="215"/>
                </a:lnTo>
                <a:lnTo>
                  <a:pt x="260" y="192"/>
                </a:lnTo>
                <a:lnTo>
                  <a:pt x="215" y="158"/>
                </a:lnTo>
                <a:lnTo>
                  <a:pt x="159" y="136"/>
                </a:lnTo>
                <a:lnTo>
                  <a:pt x="113" y="102"/>
                </a:lnTo>
                <a:lnTo>
                  <a:pt x="79" y="79"/>
                </a:lnTo>
                <a:lnTo>
                  <a:pt x="45" y="68"/>
                </a:lnTo>
                <a:lnTo>
                  <a:pt x="23" y="45"/>
                </a:lnTo>
                <a:lnTo>
                  <a:pt x="12" y="34"/>
                </a:lnTo>
                <a:lnTo>
                  <a:pt x="0" y="23"/>
                </a:lnTo>
                <a:lnTo>
                  <a:pt x="0" y="11"/>
                </a:lnTo>
                <a:lnTo>
                  <a:pt x="12" y="11"/>
                </a:lnTo>
                <a:lnTo>
                  <a:pt x="23" y="11"/>
                </a:lnTo>
                <a:lnTo>
                  <a:pt x="34" y="0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81" y="0"/>
                </a:lnTo>
                <a:lnTo>
                  <a:pt x="204" y="0"/>
                </a:lnTo>
                <a:lnTo>
                  <a:pt x="272" y="11"/>
                </a:lnTo>
                <a:lnTo>
                  <a:pt x="317" y="23"/>
                </a:lnTo>
                <a:lnTo>
                  <a:pt x="373" y="45"/>
                </a:lnTo>
                <a:lnTo>
                  <a:pt x="396" y="57"/>
                </a:lnTo>
                <a:lnTo>
                  <a:pt x="407" y="68"/>
                </a:lnTo>
                <a:lnTo>
                  <a:pt x="430" y="90"/>
                </a:lnTo>
                <a:lnTo>
                  <a:pt x="441" y="102"/>
                </a:lnTo>
                <a:lnTo>
                  <a:pt x="452" y="124"/>
                </a:lnTo>
                <a:lnTo>
                  <a:pt x="452" y="136"/>
                </a:lnTo>
                <a:lnTo>
                  <a:pt x="464" y="158"/>
                </a:lnTo>
                <a:lnTo>
                  <a:pt x="464" y="1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reeform 31"/>
          <p:cNvSpPr/>
          <p:nvPr/>
        </p:nvSpPr>
        <p:spPr>
          <a:xfrm>
            <a:off x="5751360" y="2338560"/>
            <a:ext cx="336600" cy="263520"/>
          </a:xfrm>
          <a:custGeom>
            <a:avLst/>
            <a:gdLst>
              <a:gd name="textAreaLeft" fmla="*/ 0 w 336600"/>
              <a:gd name="textAreaRight" fmla="*/ 336960 w 3366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31" h="407">
                <a:moveTo>
                  <a:pt x="509" y="351"/>
                </a:moveTo>
                <a:lnTo>
                  <a:pt x="498" y="362"/>
                </a:lnTo>
                <a:lnTo>
                  <a:pt x="486" y="373"/>
                </a:lnTo>
                <a:lnTo>
                  <a:pt x="475" y="385"/>
                </a:lnTo>
                <a:lnTo>
                  <a:pt x="464" y="396"/>
                </a:lnTo>
                <a:lnTo>
                  <a:pt x="441" y="407"/>
                </a:lnTo>
                <a:lnTo>
                  <a:pt x="418" y="407"/>
                </a:lnTo>
                <a:lnTo>
                  <a:pt x="396" y="407"/>
                </a:lnTo>
                <a:lnTo>
                  <a:pt x="384" y="396"/>
                </a:lnTo>
                <a:lnTo>
                  <a:pt x="362" y="385"/>
                </a:lnTo>
                <a:lnTo>
                  <a:pt x="328" y="362"/>
                </a:lnTo>
                <a:lnTo>
                  <a:pt x="305" y="340"/>
                </a:lnTo>
                <a:lnTo>
                  <a:pt x="271" y="306"/>
                </a:lnTo>
                <a:lnTo>
                  <a:pt x="226" y="272"/>
                </a:lnTo>
                <a:lnTo>
                  <a:pt x="192" y="226"/>
                </a:lnTo>
                <a:lnTo>
                  <a:pt x="147" y="181"/>
                </a:lnTo>
                <a:lnTo>
                  <a:pt x="113" y="147"/>
                </a:lnTo>
                <a:lnTo>
                  <a:pt x="79" y="113"/>
                </a:lnTo>
                <a:lnTo>
                  <a:pt x="45" y="79"/>
                </a:lnTo>
                <a:lnTo>
                  <a:pt x="34" y="57"/>
                </a:lnTo>
                <a:lnTo>
                  <a:pt x="11" y="34"/>
                </a:lnTo>
                <a:lnTo>
                  <a:pt x="0" y="12"/>
                </a:lnTo>
                <a:lnTo>
                  <a:pt x="0" y="0"/>
                </a:lnTo>
                <a:lnTo>
                  <a:pt x="79" y="0"/>
                </a:lnTo>
                <a:lnTo>
                  <a:pt x="136" y="0"/>
                </a:lnTo>
                <a:lnTo>
                  <a:pt x="204" y="12"/>
                </a:lnTo>
                <a:lnTo>
                  <a:pt x="260" y="12"/>
                </a:lnTo>
                <a:lnTo>
                  <a:pt x="305" y="23"/>
                </a:lnTo>
                <a:lnTo>
                  <a:pt x="339" y="34"/>
                </a:lnTo>
                <a:lnTo>
                  <a:pt x="373" y="46"/>
                </a:lnTo>
                <a:lnTo>
                  <a:pt x="407" y="68"/>
                </a:lnTo>
                <a:lnTo>
                  <a:pt x="452" y="102"/>
                </a:lnTo>
                <a:lnTo>
                  <a:pt x="486" y="136"/>
                </a:lnTo>
                <a:lnTo>
                  <a:pt x="498" y="147"/>
                </a:lnTo>
                <a:lnTo>
                  <a:pt x="509" y="170"/>
                </a:lnTo>
                <a:lnTo>
                  <a:pt x="520" y="181"/>
                </a:lnTo>
                <a:lnTo>
                  <a:pt x="531" y="204"/>
                </a:lnTo>
                <a:lnTo>
                  <a:pt x="531" y="238"/>
                </a:lnTo>
                <a:lnTo>
                  <a:pt x="531" y="283"/>
                </a:lnTo>
                <a:lnTo>
                  <a:pt x="520" y="317"/>
                </a:lnTo>
                <a:lnTo>
                  <a:pt x="509" y="35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话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2"/>
          <p:cNvSpPr/>
          <p:nvPr/>
        </p:nvSpPr>
        <p:spPr>
          <a:xfrm>
            <a:off x="1384200" y="2075040"/>
            <a:ext cx="9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41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TextBox 44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第二笔的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45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6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说话    对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47"/>
          <p:cNvSpPr/>
          <p:nvPr/>
        </p:nvSpPr>
        <p:spPr>
          <a:xfrm>
            <a:off x="857160" y="5060880"/>
            <a:ext cx="343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俩的对话真有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7"/>
          <p:cNvSpPr/>
          <p:nvPr/>
        </p:nvSpPr>
        <p:spPr>
          <a:xfrm>
            <a:off x="53416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0"/>
          <p:cNvSpPr/>
          <p:nvPr/>
        </p:nvSpPr>
        <p:spPr>
          <a:xfrm>
            <a:off x="5356080" y="2962440"/>
            <a:ext cx="746280" cy="1184040"/>
          </a:xfrm>
          <a:custGeom>
            <a:avLst/>
            <a:gdLst>
              <a:gd name="textAreaLeft" fmla="*/ 0 w 746280"/>
              <a:gd name="textAreaRight" fmla="*/ 746640 w 746280"/>
              <a:gd name="textAreaTop" fmla="*/ 0 h 1184040"/>
              <a:gd name="textAreaBottom" fmla="*/ 1184400 h 1184040"/>
            </a:gdLst>
            <a:ahLst/>
            <a:rect l="textAreaLeft" t="textAreaTop" r="textAreaRight" b="textAreaBottom"/>
            <a:pathLst>
              <a:path w="1176" h="1820">
                <a:moveTo>
                  <a:pt x="464" y="1549"/>
                </a:moveTo>
                <a:lnTo>
                  <a:pt x="464" y="1515"/>
                </a:lnTo>
                <a:lnTo>
                  <a:pt x="475" y="1481"/>
                </a:lnTo>
                <a:lnTo>
                  <a:pt x="486" y="1447"/>
                </a:lnTo>
                <a:lnTo>
                  <a:pt x="509" y="1413"/>
                </a:lnTo>
                <a:lnTo>
                  <a:pt x="520" y="1402"/>
                </a:lnTo>
                <a:lnTo>
                  <a:pt x="520" y="1391"/>
                </a:lnTo>
                <a:lnTo>
                  <a:pt x="532" y="1380"/>
                </a:lnTo>
                <a:lnTo>
                  <a:pt x="532" y="1357"/>
                </a:lnTo>
                <a:lnTo>
                  <a:pt x="543" y="1334"/>
                </a:lnTo>
                <a:lnTo>
                  <a:pt x="554" y="1300"/>
                </a:lnTo>
                <a:lnTo>
                  <a:pt x="554" y="1266"/>
                </a:lnTo>
                <a:lnTo>
                  <a:pt x="566" y="1233"/>
                </a:lnTo>
                <a:lnTo>
                  <a:pt x="566" y="1199"/>
                </a:lnTo>
                <a:lnTo>
                  <a:pt x="577" y="1153"/>
                </a:lnTo>
                <a:lnTo>
                  <a:pt x="577" y="1108"/>
                </a:lnTo>
                <a:lnTo>
                  <a:pt x="588" y="1063"/>
                </a:lnTo>
                <a:lnTo>
                  <a:pt x="588" y="1006"/>
                </a:lnTo>
                <a:lnTo>
                  <a:pt x="599" y="950"/>
                </a:lnTo>
                <a:lnTo>
                  <a:pt x="599" y="893"/>
                </a:lnTo>
                <a:lnTo>
                  <a:pt x="611" y="826"/>
                </a:lnTo>
                <a:lnTo>
                  <a:pt x="622" y="769"/>
                </a:lnTo>
                <a:lnTo>
                  <a:pt x="622" y="713"/>
                </a:lnTo>
                <a:lnTo>
                  <a:pt x="633" y="656"/>
                </a:lnTo>
                <a:lnTo>
                  <a:pt x="633" y="611"/>
                </a:lnTo>
                <a:lnTo>
                  <a:pt x="645" y="566"/>
                </a:lnTo>
                <a:lnTo>
                  <a:pt x="645" y="520"/>
                </a:lnTo>
                <a:lnTo>
                  <a:pt x="645" y="486"/>
                </a:lnTo>
                <a:lnTo>
                  <a:pt x="645" y="453"/>
                </a:lnTo>
                <a:lnTo>
                  <a:pt x="656" y="419"/>
                </a:lnTo>
                <a:lnTo>
                  <a:pt x="656" y="385"/>
                </a:lnTo>
                <a:lnTo>
                  <a:pt x="656" y="362"/>
                </a:lnTo>
                <a:lnTo>
                  <a:pt x="656" y="351"/>
                </a:lnTo>
                <a:lnTo>
                  <a:pt x="656" y="328"/>
                </a:lnTo>
                <a:lnTo>
                  <a:pt x="656" y="317"/>
                </a:lnTo>
                <a:lnTo>
                  <a:pt x="656" y="306"/>
                </a:lnTo>
                <a:lnTo>
                  <a:pt x="645" y="306"/>
                </a:lnTo>
                <a:lnTo>
                  <a:pt x="633" y="294"/>
                </a:lnTo>
                <a:lnTo>
                  <a:pt x="611" y="306"/>
                </a:lnTo>
                <a:lnTo>
                  <a:pt x="588" y="306"/>
                </a:lnTo>
                <a:lnTo>
                  <a:pt x="566" y="317"/>
                </a:lnTo>
                <a:lnTo>
                  <a:pt x="520" y="328"/>
                </a:lnTo>
                <a:lnTo>
                  <a:pt x="486" y="339"/>
                </a:lnTo>
                <a:lnTo>
                  <a:pt x="430" y="362"/>
                </a:lnTo>
                <a:lnTo>
                  <a:pt x="385" y="385"/>
                </a:lnTo>
                <a:lnTo>
                  <a:pt x="339" y="407"/>
                </a:lnTo>
                <a:lnTo>
                  <a:pt x="306" y="419"/>
                </a:lnTo>
                <a:lnTo>
                  <a:pt x="260" y="430"/>
                </a:lnTo>
                <a:lnTo>
                  <a:pt x="238" y="441"/>
                </a:lnTo>
                <a:lnTo>
                  <a:pt x="204" y="441"/>
                </a:lnTo>
                <a:lnTo>
                  <a:pt x="192" y="441"/>
                </a:lnTo>
                <a:lnTo>
                  <a:pt x="170" y="441"/>
                </a:lnTo>
                <a:lnTo>
                  <a:pt x="147" y="441"/>
                </a:lnTo>
                <a:lnTo>
                  <a:pt x="113" y="430"/>
                </a:lnTo>
                <a:lnTo>
                  <a:pt x="102" y="419"/>
                </a:lnTo>
                <a:lnTo>
                  <a:pt x="91" y="407"/>
                </a:lnTo>
                <a:lnTo>
                  <a:pt x="68" y="396"/>
                </a:lnTo>
                <a:lnTo>
                  <a:pt x="57" y="385"/>
                </a:lnTo>
                <a:lnTo>
                  <a:pt x="34" y="362"/>
                </a:lnTo>
                <a:lnTo>
                  <a:pt x="12" y="339"/>
                </a:lnTo>
                <a:lnTo>
                  <a:pt x="0" y="317"/>
                </a:lnTo>
                <a:lnTo>
                  <a:pt x="0" y="294"/>
                </a:lnTo>
                <a:lnTo>
                  <a:pt x="68" y="283"/>
                </a:lnTo>
                <a:lnTo>
                  <a:pt x="125" y="272"/>
                </a:lnTo>
                <a:lnTo>
                  <a:pt x="192" y="260"/>
                </a:lnTo>
                <a:lnTo>
                  <a:pt x="249" y="238"/>
                </a:lnTo>
                <a:lnTo>
                  <a:pt x="306" y="226"/>
                </a:lnTo>
                <a:lnTo>
                  <a:pt x="351" y="215"/>
                </a:lnTo>
                <a:lnTo>
                  <a:pt x="396" y="204"/>
                </a:lnTo>
                <a:lnTo>
                  <a:pt x="430" y="181"/>
                </a:lnTo>
                <a:lnTo>
                  <a:pt x="498" y="159"/>
                </a:lnTo>
                <a:lnTo>
                  <a:pt x="554" y="125"/>
                </a:lnTo>
                <a:lnTo>
                  <a:pt x="566" y="113"/>
                </a:lnTo>
                <a:lnTo>
                  <a:pt x="588" y="102"/>
                </a:lnTo>
                <a:lnTo>
                  <a:pt x="611" y="79"/>
                </a:lnTo>
                <a:lnTo>
                  <a:pt x="622" y="68"/>
                </a:lnTo>
                <a:lnTo>
                  <a:pt x="633" y="46"/>
                </a:lnTo>
                <a:lnTo>
                  <a:pt x="645" y="34"/>
                </a:lnTo>
                <a:lnTo>
                  <a:pt x="656" y="23"/>
                </a:lnTo>
                <a:lnTo>
                  <a:pt x="667" y="12"/>
                </a:lnTo>
                <a:lnTo>
                  <a:pt x="690" y="12"/>
                </a:lnTo>
                <a:lnTo>
                  <a:pt x="713" y="0"/>
                </a:lnTo>
                <a:lnTo>
                  <a:pt x="735" y="12"/>
                </a:lnTo>
                <a:lnTo>
                  <a:pt x="769" y="12"/>
                </a:lnTo>
                <a:lnTo>
                  <a:pt x="814" y="34"/>
                </a:lnTo>
                <a:lnTo>
                  <a:pt x="859" y="46"/>
                </a:lnTo>
                <a:lnTo>
                  <a:pt x="882" y="68"/>
                </a:lnTo>
                <a:lnTo>
                  <a:pt x="905" y="79"/>
                </a:lnTo>
                <a:lnTo>
                  <a:pt x="927" y="91"/>
                </a:lnTo>
                <a:lnTo>
                  <a:pt x="939" y="102"/>
                </a:lnTo>
                <a:lnTo>
                  <a:pt x="950" y="113"/>
                </a:lnTo>
                <a:lnTo>
                  <a:pt x="961" y="125"/>
                </a:lnTo>
                <a:lnTo>
                  <a:pt x="961" y="136"/>
                </a:lnTo>
                <a:lnTo>
                  <a:pt x="961" y="170"/>
                </a:lnTo>
                <a:lnTo>
                  <a:pt x="950" y="192"/>
                </a:lnTo>
                <a:lnTo>
                  <a:pt x="939" y="226"/>
                </a:lnTo>
                <a:lnTo>
                  <a:pt x="916" y="260"/>
                </a:lnTo>
                <a:lnTo>
                  <a:pt x="893" y="283"/>
                </a:lnTo>
                <a:lnTo>
                  <a:pt x="882" y="317"/>
                </a:lnTo>
                <a:lnTo>
                  <a:pt x="871" y="351"/>
                </a:lnTo>
                <a:lnTo>
                  <a:pt x="859" y="396"/>
                </a:lnTo>
                <a:lnTo>
                  <a:pt x="848" y="441"/>
                </a:lnTo>
                <a:lnTo>
                  <a:pt x="837" y="498"/>
                </a:lnTo>
                <a:lnTo>
                  <a:pt x="826" y="566"/>
                </a:lnTo>
                <a:lnTo>
                  <a:pt x="814" y="633"/>
                </a:lnTo>
                <a:lnTo>
                  <a:pt x="803" y="701"/>
                </a:lnTo>
                <a:lnTo>
                  <a:pt x="792" y="769"/>
                </a:lnTo>
                <a:lnTo>
                  <a:pt x="780" y="837"/>
                </a:lnTo>
                <a:lnTo>
                  <a:pt x="769" y="893"/>
                </a:lnTo>
                <a:lnTo>
                  <a:pt x="769" y="950"/>
                </a:lnTo>
                <a:lnTo>
                  <a:pt x="758" y="995"/>
                </a:lnTo>
                <a:lnTo>
                  <a:pt x="758" y="1040"/>
                </a:lnTo>
                <a:lnTo>
                  <a:pt x="746" y="1086"/>
                </a:lnTo>
                <a:lnTo>
                  <a:pt x="746" y="1120"/>
                </a:lnTo>
                <a:lnTo>
                  <a:pt x="746" y="1153"/>
                </a:lnTo>
                <a:lnTo>
                  <a:pt x="746" y="1187"/>
                </a:lnTo>
                <a:lnTo>
                  <a:pt x="735" y="1210"/>
                </a:lnTo>
                <a:lnTo>
                  <a:pt x="746" y="1233"/>
                </a:lnTo>
                <a:lnTo>
                  <a:pt x="746" y="1244"/>
                </a:lnTo>
                <a:lnTo>
                  <a:pt x="746" y="1255"/>
                </a:lnTo>
                <a:lnTo>
                  <a:pt x="746" y="1266"/>
                </a:lnTo>
                <a:lnTo>
                  <a:pt x="758" y="1266"/>
                </a:lnTo>
                <a:lnTo>
                  <a:pt x="769" y="1266"/>
                </a:lnTo>
                <a:lnTo>
                  <a:pt x="792" y="1266"/>
                </a:lnTo>
                <a:lnTo>
                  <a:pt x="814" y="1255"/>
                </a:lnTo>
                <a:lnTo>
                  <a:pt x="837" y="1233"/>
                </a:lnTo>
                <a:lnTo>
                  <a:pt x="871" y="1210"/>
                </a:lnTo>
                <a:lnTo>
                  <a:pt x="916" y="1187"/>
                </a:lnTo>
                <a:lnTo>
                  <a:pt x="961" y="1142"/>
                </a:lnTo>
                <a:lnTo>
                  <a:pt x="1006" y="1108"/>
                </a:lnTo>
                <a:lnTo>
                  <a:pt x="1052" y="1086"/>
                </a:lnTo>
                <a:lnTo>
                  <a:pt x="1086" y="1063"/>
                </a:lnTo>
                <a:lnTo>
                  <a:pt x="1120" y="1040"/>
                </a:lnTo>
                <a:lnTo>
                  <a:pt x="1142" y="1029"/>
                </a:lnTo>
                <a:lnTo>
                  <a:pt x="1153" y="1029"/>
                </a:lnTo>
                <a:lnTo>
                  <a:pt x="1165" y="1029"/>
                </a:lnTo>
                <a:lnTo>
                  <a:pt x="1176" y="1040"/>
                </a:lnTo>
                <a:lnTo>
                  <a:pt x="1176" y="1052"/>
                </a:lnTo>
                <a:lnTo>
                  <a:pt x="1176" y="1074"/>
                </a:lnTo>
                <a:lnTo>
                  <a:pt x="1153" y="1097"/>
                </a:lnTo>
                <a:lnTo>
                  <a:pt x="1142" y="1131"/>
                </a:lnTo>
                <a:lnTo>
                  <a:pt x="1108" y="1165"/>
                </a:lnTo>
                <a:lnTo>
                  <a:pt x="1074" y="1199"/>
                </a:lnTo>
                <a:lnTo>
                  <a:pt x="1040" y="1244"/>
                </a:lnTo>
                <a:lnTo>
                  <a:pt x="984" y="1300"/>
                </a:lnTo>
                <a:lnTo>
                  <a:pt x="939" y="1357"/>
                </a:lnTo>
                <a:lnTo>
                  <a:pt x="893" y="1402"/>
                </a:lnTo>
                <a:lnTo>
                  <a:pt x="859" y="1459"/>
                </a:lnTo>
                <a:lnTo>
                  <a:pt x="814" y="1504"/>
                </a:lnTo>
                <a:lnTo>
                  <a:pt x="780" y="1549"/>
                </a:lnTo>
                <a:lnTo>
                  <a:pt x="758" y="1594"/>
                </a:lnTo>
                <a:lnTo>
                  <a:pt x="735" y="1628"/>
                </a:lnTo>
                <a:lnTo>
                  <a:pt x="713" y="1673"/>
                </a:lnTo>
                <a:lnTo>
                  <a:pt x="690" y="1707"/>
                </a:lnTo>
                <a:lnTo>
                  <a:pt x="679" y="1741"/>
                </a:lnTo>
                <a:lnTo>
                  <a:pt x="656" y="1764"/>
                </a:lnTo>
                <a:lnTo>
                  <a:pt x="645" y="1787"/>
                </a:lnTo>
                <a:lnTo>
                  <a:pt x="633" y="1798"/>
                </a:lnTo>
                <a:lnTo>
                  <a:pt x="622" y="1809"/>
                </a:lnTo>
                <a:lnTo>
                  <a:pt x="611" y="1820"/>
                </a:lnTo>
                <a:lnTo>
                  <a:pt x="599" y="1820"/>
                </a:lnTo>
                <a:lnTo>
                  <a:pt x="588" y="1820"/>
                </a:lnTo>
                <a:lnTo>
                  <a:pt x="577" y="1809"/>
                </a:lnTo>
                <a:lnTo>
                  <a:pt x="566" y="1809"/>
                </a:lnTo>
                <a:lnTo>
                  <a:pt x="554" y="1787"/>
                </a:lnTo>
                <a:lnTo>
                  <a:pt x="543" y="1775"/>
                </a:lnTo>
                <a:lnTo>
                  <a:pt x="532" y="1753"/>
                </a:lnTo>
                <a:lnTo>
                  <a:pt x="520" y="1730"/>
                </a:lnTo>
                <a:lnTo>
                  <a:pt x="509" y="1707"/>
                </a:lnTo>
                <a:lnTo>
                  <a:pt x="498" y="1673"/>
                </a:lnTo>
                <a:lnTo>
                  <a:pt x="486" y="1651"/>
                </a:lnTo>
                <a:lnTo>
                  <a:pt x="475" y="1628"/>
                </a:lnTo>
                <a:lnTo>
                  <a:pt x="475" y="1606"/>
                </a:lnTo>
                <a:lnTo>
                  <a:pt x="464" y="1583"/>
                </a:lnTo>
                <a:lnTo>
                  <a:pt x="464" y="15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2"/>
          <p:cNvSpPr/>
          <p:nvPr/>
        </p:nvSpPr>
        <p:spPr>
          <a:xfrm>
            <a:off x="6232680" y="2344680"/>
            <a:ext cx="695160" cy="449280"/>
          </a:xfrm>
          <a:custGeom>
            <a:avLst/>
            <a:gdLst>
              <a:gd name="textAreaLeft" fmla="*/ 0 w 695160"/>
              <a:gd name="textAreaRight" fmla="*/ 695520 w 6951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096" h="689">
                <a:moveTo>
                  <a:pt x="723" y="101"/>
                </a:moveTo>
                <a:lnTo>
                  <a:pt x="723" y="67"/>
                </a:lnTo>
                <a:lnTo>
                  <a:pt x="723" y="45"/>
                </a:lnTo>
                <a:lnTo>
                  <a:pt x="723" y="22"/>
                </a:lnTo>
                <a:lnTo>
                  <a:pt x="723" y="11"/>
                </a:lnTo>
                <a:lnTo>
                  <a:pt x="734" y="0"/>
                </a:lnTo>
                <a:lnTo>
                  <a:pt x="746" y="0"/>
                </a:lnTo>
                <a:lnTo>
                  <a:pt x="757" y="0"/>
                </a:lnTo>
                <a:lnTo>
                  <a:pt x="768" y="0"/>
                </a:lnTo>
                <a:lnTo>
                  <a:pt x="814" y="0"/>
                </a:lnTo>
                <a:lnTo>
                  <a:pt x="847" y="11"/>
                </a:lnTo>
                <a:lnTo>
                  <a:pt x="870" y="11"/>
                </a:lnTo>
                <a:lnTo>
                  <a:pt x="893" y="22"/>
                </a:lnTo>
                <a:lnTo>
                  <a:pt x="938" y="45"/>
                </a:lnTo>
                <a:lnTo>
                  <a:pt x="983" y="79"/>
                </a:lnTo>
                <a:lnTo>
                  <a:pt x="1017" y="113"/>
                </a:lnTo>
                <a:lnTo>
                  <a:pt x="1051" y="147"/>
                </a:lnTo>
                <a:lnTo>
                  <a:pt x="1074" y="181"/>
                </a:lnTo>
                <a:lnTo>
                  <a:pt x="1085" y="203"/>
                </a:lnTo>
                <a:lnTo>
                  <a:pt x="1085" y="214"/>
                </a:lnTo>
                <a:lnTo>
                  <a:pt x="1096" y="226"/>
                </a:lnTo>
                <a:lnTo>
                  <a:pt x="1085" y="248"/>
                </a:lnTo>
                <a:lnTo>
                  <a:pt x="1085" y="260"/>
                </a:lnTo>
                <a:lnTo>
                  <a:pt x="1062" y="282"/>
                </a:lnTo>
                <a:lnTo>
                  <a:pt x="1040" y="305"/>
                </a:lnTo>
                <a:lnTo>
                  <a:pt x="1017" y="316"/>
                </a:lnTo>
                <a:lnTo>
                  <a:pt x="983" y="339"/>
                </a:lnTo>
                <a:lnTo>
                  <a:pt x="949" y="361"/>
                </a:lnTo>
                <a:lnTo>
                  <a:pt x="904" y="384"/>
                </a:lnTo>
                <a:lnTo>
                  <a:pt x="847" y="407"/>
                </a:lnTo>
                <a:lnTo>
                  <a:pt x="791" y="429"/>
                </a:lnTo>
                <a:lnTo>
                  <a:pt x="734" y="452"/>
                </a:lnTo>
                <a:lnTo>
                  <a:pt x="667" y="486"/>
                </a:lnTo>
                <a:lnTo>
                  <a:pt x="599" y="508"/>
                </a:lnTo>
                <a:lnTo>
                  <a:pt x="520" y="531"/>
                </a:lnTo>
                <a:lnTo>
                  <a:pt x="440" y="565"/>
                </a:lnTo>
                <a:lnTo>
                  <a:pt x="361" y="588"/>
                </a:lnTo>
                <a:lnTo>
                  <a:pt x="316" y="610"/>
                </a:lnTo>
                <a:lnTo>
                  <a:pt x="282" y="621"/>
                </a:lnTo>
                <a:lnTo>
                  <a:pt x="237" y="633"/>
                </a:lnTo>
                <a:lnTo>
                  <a:pt x="203" y="644"/>
                </a:lnTo>
                <a:lnTo>
                  <a:pt x="180" y="655"/>
                </a:lnTo>
                <a:lnTo>
                  <a:pt x="147" y="667"/>
                </a:lnTo>
                <a:lnTo>
                  <a:pt x="124" y="678"/>
                </a:lnTo>
                <a:lnTo>
                  <a:pt x="90" y="678"/>
                </a:lnTo>
                <a:lnTo>
                  <a:pt x="79" y="689"/>
                </a:lnTo>
                <a:lnTo>
                  <a:pt x="56" y="689"/>
                </a:lnTo>
                <a:lnTo>
                  <a:pt x="45" y="689"/>
                </a:lnTo>
                <a:lnTo>
                  <a:pt x="22" y="689"/>
                </a:lnTo>
                <a:lnTo>
                  <a:pt x="11" y="689"/>
                </a:lnTo>
                <a:lnTo>
                  <a:pt x="0" y="689"/>
                </a:lnTo>
                <a:lnTo>
                  <a:pt x="0" y="678"/>
                </a:lnTo>
                <a:lnTo>
                  <a:pt x="0" y="667"/>
                </a:lnTo>
                <a:lnTo>
                  <a:pt x="11" y="667"/>
                </a:lnTo>
                <a:lnTo>
                  <a:pt x="22" y="655"/>
                </a:lnTo>
                <a:lnTo>
                  <a:pt x="33" y="644"/>
                </a:lnTo>
                <a:lnTo>
                  <a:pt x="45" y="633"/>
                </a:lnTo>
                <a:lnTo>
                  <a:pt x="56" y="621"/>
                </a:lnTo>
                <a:lnTo>
                  <a:pt x="101" y="599"/>
                </a:lnTo>
                <a:lnTo>
                  <a:pt x="147" y="576"/>
                </a:lnTo>
                <a:lnTo>
                  <a:pt x="203" y="542"/>
                </a:lnTo>
                <a:lnTo>
                  <a:pt x="271" y="497"/>
                </a:lnTo>
                <a:lnTo>
                  <a:pt x="339" y="463"/>
                </a:lnTo>
                <a:lnTo>
                  <a:pt x="407" y="429"/>
                </a:lnTo>
                <a:lnTo>
                  <a:pt x="463" y="395"/>
                </a:lnTo>
                <a:lnTo>
                  <a:pt x="508" y="373"/>
                </a:lnTo>
                <a:lnTo>
                  <a:pt x="553" y="339"/>
                </a:lnTo>
                <a:lnTo>
                  <a:pt x="599" y="305"/>
                </a:lnTo>
                <a:lnTo>
                  <a:pt x="633" y="271"/>
                </a:lnTo>
                <a:lnTo>
                  <a:pt x="667" y="248"/>
                </a:lnTo>
                <a:lnTo>
                  <a:pt x="689" y="214"/>
                </a:lnTo>
                <a:lnTo>
                  <a:pt x="700" y="192"/>
                </a:lnTo>
                <a:lnTo>
                  <a:pt x="723" y="169"/>
                </a:lnTo>
                <a:lnTo>
                  <a:pt x="723" y="158"/>
                </a:lnTo>
                <a:lnTo>
                  <a:pt x="734" y="135"/>
                </a:lnTo>
                <a:lnTo>
                  <a:pt x="734" y="124"/>
                </a:lnTo>
                <a:lnTo>
                  <a:pt x="734" y="113"/>
                </a:lnTo>
                <a:lnTo>
                  <a:pt x="723" y="10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4"/>
          <p:cNvSpPr/>
          <p:nvPr/>
        </p:nvSpPr>
        <p:spPr>
          <a:xfrm>
            <a:off x="6173640" y="3565440"/>
            <a:ext cx="187560" cy="676440"/>
          </a:xfrm>
          <a:custGeom>
            <a:avLst/>
            <a:gdLst>
              <a:gd name="textAreaLeft" fmla="*/ 0 w 187560"/>
              <a:gd name="textAreaRight" fmla="*/ 187920 w 1875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94" h="1040">
                <a:moveTo>
                  <a:pt x="34" y="147"/>
                </a:moveTo>
                <a:lnTo>
                  <a:pt x="23" y="125"/>
                </a:lnTo>
                <a:lnTo>
                  <a:pt x="11" y="113"/>
                </a:lnTo>
                <a:lnTo>
                  <a:pt x="11" y="91"/>
                </a:lnTo>
                <a:lnTo>
                  <a:pt x="0" y="79"/>
                </a:lnTo>
                <a:lnTo>
                  <a:pt x="0" y="68"/>
                </a:lnTo>
                <a:lnTo>
                  <a:pt x="0" y="46"/>
                </a:lnTo>
                <a:lnTo>
                  <a:pt x="11" y="34"/>
                </a:lnTo>
                <a:lnTo>
                  <a:pt x="11" y="23"/>
                </a:lnTo>
                <a:lnTo>
                  <a:pt x="23" y="12"/>
                </a:lnTo>
                <a:lnTo>
                  <a:pt x="34" y="12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92" y="0"/>
                </a:lnTo>
                <a:lnTo>
                  <a:pt x="238" y="12"/>
                </a:lnTo>
                <a:lnTo>
                  <a:pt x="249" y="136"/>
                </a:lnTo>
                <a:lnTo>
                  <a:pt x="260" y="249"/>
                </a:lnTo>
                <a:lnTo>
                  <a:pt x="260" y="362"/>
                </a:lnTo>
                <a:lnTo>
                  <a:pt x="271" y="464"/>
                </a:lnTo>
                <a:lnTo>
                  <a:pt x="271" y="554"/>
                </a:lnTo>
                <a:lnTo>
                  <a:pt x="283" y="633"/>
                </a:lnTo>
                <a:lnTo>
                  <a:pt x="283" y="713"/>
                </a:lnTo>
                <a:lnTo>
                  <a:pt x="294" y="780"/>
                </a:lnTo>
                <a:lnTo>
                  <a:pt x="294" y="837"/>
                </a:lnTo>
                <a:lnTo>
                  <a:pt x="294" y="882"/>
                </a:lnTo>
                <a:lnTo>
                  <a:pt x="294" y="927"/>
                </a:lnTo>
                <a:lnTo>
                  <a:pt x="294" y="961"/>
                </a:lnTo>
                <a:lnTo>
                  <a:pt x="294" y="984"/>
                </a:lnTo>
                <a:lnTo>
                  <a:pt x="283" y="1006"/>
                </a:lnTo>
                <a:lnTo>
                  <a:pt x="283" y="1018"/>
                </a:lnTo>
                <a:lnTo>
                  <a:pt x="283" y="1029"/>
                </a:lnTo>
                <a:lnTo>
                  <a:pt x="260" y="1040"/>
                </a:lnTo>
                <a:lnTo>
                  <a:pt x="249" y="1040"/>
                </a:lnTo>
                <a:lnTo>
                  <a:pt x="238" y="1040"/>
                </a:lnTo>
                <a:lnTo>
                  <a:pt x="226" y="1040"/>
                </a:lnTo>
                <a:lnTo>
                  <a:pt x="215" y="1029"/>
                </a:lnTo>
                <a:lnTo>
                  <a:pt x="215" y="1018"/>
                </a:lnTo>
                <a:lnTo>
                  <a:pt x="215" y="1006"/>
                </a:lnTo>
                <a:lnTo>
                  <a:pt x="215" y="984"/>
                </a:lnTo>
                <a:lnTo>
                  <a:pt x="204" y="973"/>
                </a:lnTo>
                <a:lnTo>
                  <a:pt x="204" y="939"/>
                </a:lnTo>
                <a:lnTo>
                  <a:pt x="204" y="916"/>
                </a:lnTo>
                <a:lnTo>
                  <a:pt x="192" y="882"/>
                </a:lnTo>
                <a:lnTo>
                  <a:pt x="192" y="848"/>
                </a:lnTo>
                <a:lnTo>
                  <a:pt x="192" y="814"/>
                </a:lnTo>
                <a:lnTo>
                  <a:pt x="181" y="769"/>
                </a:lnTo>
                <a:lnTo>
                  <a:pt x="181" y="724"/>
                </a:lnTo>
                <a:lnTo>
                  <a:pt x="170" y="679"/>
                </a:lnTo>
                <a:lnTo>
                  <a:pt x="170" y="622"/>
                </a:lnTo>
                <a:lnTo>
                  <a:pt x="158" y="577"/>
                </a:lnTo>
                <a:lnTo>
                  <a:pt x="147" y="532"/>
                </a:lnTo>
                <a:lnTo>
                  <a:pt x="147" y="486"/>
                </a:lnTo>
                <a:lnTo>
                  <a:pt x="136" y="441"/>
                </a:lnTo>
                <a:lnTo>
                  <a:pt x="124" y="407"/>
                </a:lnTo>
                <a:lnTo>
                  <a:pt x="113" y="362"/>
                </a:lnTo>
                <a:lnTo>
                  <a:pt x="113" y="328"/>
                </a:lnTo>
                <a:lnTo>
                  <a:pt x="102" y="306"/>
                </a:lnTo>
                <a:lnTo>
                  <a:pt x="91" y="272"/>
                </a:lnTo>
                <a:lnTo>
                  <a:pt x="91" y="249"/>
                </a:lnTo>
                <a:lnTo>
                  <a:pt x="79" y="226"/>
                </a:lnTo>
                <a:lnTo>
                  <a:pt x="68" y="204"/>
                </a:lnTo>
                <a:lnTo>
                  <a:pt x="57" y="181"/>
                </a:lnTo>
                <a:lnTo>
                  <a:pt x="57" y="170"/>
                </a:lnTo>
                <a:lnTo>
                  <a:pt x="45" y="159"/>
                </a:lnTo>
                <a:lnTo>
                  <a:pt x="34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7"/>
          <p:cNvSpPr/>
          <p:nvPr/>
        </p:nvSpPr>
        <p:spPr>
          <a:xfrm>
            <a:off x="6016680" y="2962440"/>
            <a:ext cx="1241280" cy="28728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56" h="441">
                <a:moveTo>
                  <a:pt x="475" y="385"/>
                </a:moveTo>
                <a:lnTo>
                  <a:pt x="419" y="396"/>
                </a:lnTo>
                <a:lnTo>
                  <a:pt x="373" y="407"/>
                </a:lnTo>
                <a:lnTo>
                  <a:pt x="328" y="419"/>
                </a:lnTo>
                <a:lnTo>
                  <a:pt x="294" y="430"/>
                </a:lnTo>
                <a:lnTo>
                  <a:pt x="272" y="430"/>
                </a:lnTo>
                <a:lnTo>
                  <a:pt x="238" y="441"/>
                </a:lnTo>
                <a:lnTo>
                  <a:pt x="226" y="441"/>
                </a:lnTo>
                <a:lnTo>
                  <a:pt x="215" y="441"/>
                </a:lnTo>
                <a:lnTo>
                  <a:pt x="193" y="441"/>
                </a:lnTo>
                <a:lnTo>
                  <a:pt x="159" y="430"/>
                </a:lnTo>
                <a:lnTo>
                  <a:pt x="125" y="419"/>
                </a:lnTo>
                <a:lnTo>
                  <a:pt x="91" y="396"/>
                </a:lnTo>
                <a:lnTo>
                  <a:pt x="68" y="385"/>
                </a:lnTo>
                <a:lnTo>
                  <a:pt x="46" y="373"/>
                </a:lnTo>
                <a:lnTo>
                  <a:pt x="34" y="362"/>
                </a:lnTo>
                <a:lnTo>
                  <a:pt x="23" y="351"/>
                </a:lnTo>
                <a:lnTo>
                  <a:pt x="12" y="339"/>
                </a:lnTo>
                <a:lnTo>
                  <a:pt x="0" y="328"/>
                </a:lnTo>
                <a:lnTo>
                  <a:pt x="0" y="317"/>
                </a:lnTo>
                <a:lnTo>
                  <a:pt x="0" y="306"/>
                </a:lnTo>
                <a:lnTo>
                  <a:pt x="12" y="294"/>
                </a:lnTo>
                <a:lnTo>
                  <a:pt x="34" y="294"/>
                </a:lnTo>
                <a:lnTo>
                  <a:pt x="57" y="283"/>
                </a:lnTo>
                <a:lnTo>
                  <a:pt x="91" y="272"/>
                </a:lnTo>
                <a:lnTo>
                  <a:pt x="125" y="260"/>
                </a:lnTo>
                <a:lnTo>
                  <a:pt x="159" y="260"/>
                </a:lnTo>
                <a:lnTo>
                  <a:pt x="181" y="260"/>
                </a:lnTo>
                <a:lnTo>
                  <a:pt x="215" y="249"/>
                </a:lnTo>
                <a:lnTo>
                  <a:pt x="238" y="249"/>
                </a:lnTo>
                <a:lnTo>
                  <a:pt x="272" y="238"/>
                </a:lnTo>
                <a:lnTo>
                  <a:pt x="306" y="238"/>
                </a:lnTo>
                <a:lnTo>
                  <a:pt x="340" y="226"/>
                </a:lnTo>
                <a:lnTo>
                  <a:pt x="385" y="226"/>
                </a:lnTo>
                <a:lnTo>
                  <a:pt x="430" y="215"/>
                </a:lnTo>
                <a:lnTo>
                  <a:pt x="475" y="204"/>
                </a:lnTo>
                <a:lnTo>
                  <a:pt x="520" y="192"/>
                </a:lnTo>
                <a:lnTo>
                  <a:pt x="577" y="181"/>
                </a:lnTo>
                <a:lnTo>
                  <a:pt x="633" y="170"/>
                </a:lnTo>
                <a:lnTo>
                  <a:pt x="690" y="159"/>
                </a:lnTo>
                <a:lnTo>
                  <a:pt x="758" y="147"/>
                </a:lnTo>
                <a:lnTo>
                  <a:pt x="826" y="136"/>
                </a:lnTo>
                <a:lnTo>
                  <a:pt x="893" y="125"/>
                </a:lnTo>
                <a:lnTo>
                  <a:pt x="961" y="113"/>
                </a:lnTo>
                <a:lnTo>
                  <a:pt x="1029" y="102"/>
                </a:lnTo>
                <a:lnTo>
                  <a:pt x="1086" y="79"/>
                </a:lnTo>
                <a:lnTo>
                  <a:pt x="1142" y="68"/>
                </a:lnTo>
                <a:lnTo>
                  <a:pt x="1199" y="57"/>
                </a:lnTo>
                <a:lnTo>
                  <a:pt x="1255" y="57"/>
                </a:lnTo>
                <a:lnTo>
                  <a:pt x="1300" y="46"/>
                </a:lnTo>
                <a:lnTo>
                  <a:pt x="1346" y="34"/>
                </a:lnTo>
                <a:lnTo>
                  <a:pt x="1391" y="23"/>
                </a:lnTo>
                <a:lnTo>
                  <a:pt x="1425" y="23"/>
                </a:lnTo>
                <a:lnTo>
                  <a:pt x="1459" y="12"/>
                </a:lnTo>
                <a:lnTo>
                  <a:pt x="1493" y="12"/>
                </a:lnTo>
                <a:lnTo>
                  <a:pt x="1515" y="12"/>
                </a:lnTo>
                <a:lnTo>
                  <a:pt x="1538" y="12"/>
                </a:lnTo>
                <a:lnTo>
                  <a:pt x="1560" y="0"/>
                </a:lnTo>
                <a:lnTo>
                  <a:pt x="1583" y="0"/>
                </a:lnTo>
                <a:lnTo>
                  <a:pt x="1606" y="0"/>
                </a:lnTo>
                <a:lnTo>
                  <a:pt x="1640" y="12"/>
                </a:lnTo>
                <a:lnTo>
                  <a:pt x="1674" y="12"/>
                </a:lnTo>
                <a:lnTo>
                  <a:pt x="1707" y="23"/>
                </a:lnTo>
                <a:lnTo>
                  <a:pt x="1764" y="46"/>
                </a:lnTo>
                <a:lnTo>
                  <a:pt x="1832" y="79"/>
                </a:lnTo>
                <a:lnTo>
                  <a:pt x="1866" y="102"/>
                </a:lnTo>
                <a:lnTo>
                  <a:pt x="1888" y="125"/>
                </a:lnTo>
                <a:lnTo>
                  <a:pt x="1911" y="136"/>
                </a:lnTo>
                <a:lnTo>
                  <a:pt x="1934" y="159"/>
                </a:lnTo>
                <a:lnTo>
                  <a:pt x="1945" y="170"/>
                </a:lnTo>
                <a:lnTo>
                  <a:pt x="1956" y="181"/>
                </a:lnTo>
                <a:lnTo>
                  <a:pt x="1956" y="192"/>
                </a:lnTo>
                <a:lnTo>
                  <a:pt x="1956" y="204"/>
                </a:lnTo>
                <a:lnTo>
                  <a:pt x="1956" y="215"/>
                </a:lnTo>
                <a:lnTo>
                  <a:pt x="1945" y="215"/>
                </a:lnTo>
                <a:lnTo>
                  <a:pt x="1922" y="226"/>
                </a:lnTo>
                <a:lnTo>
                  <a:pt x="1888" y="238"/>
                </a:lnTo>
                <a:lnTo>
                  <a:pt x="1843" y="238"/>
                </a:lnTo>
                <a:lnTo>
                  <a:pt x="1787" y="238"/>
                </a:lnTo>
                <a:lnTo>
                  <a:pt x="1730" y="249"/>
                </a:lnTo>
                <a:lnTo>
                  <a:pt x="1662" y="249"/>
                </a:lnTo>
                <a:lnTo>
                  <a:pt x="1504" y="249"/>
                </a:lnTo>
                <a:lnTo>
                  <a:pt x="1357" y="249"/>
                </a:lnTo>
                <a:lnTo>
                  <a:pt x="1199" y="260"/>
                </a:lnTo>
                <a:lnTo>
                  <a:pt x="1040" y="272"/>
                </a:lnTo>
                <a:lnTo>
                  <a:pt x="882" y="294"/>
                </a:lnTo>
                <a:lnTo>
                  <a:pt x="735" y="317"/>
                </a:lnTo>
                <a:lnTo>
                  <a:pt x="667" y="339"/>
                </a:lnTo>
                <a:lnTo>
                  <a:pt x="600" y="351"/>
                </a:lnTo>
                <a:lnTo>
                  <a:pt x="543" y="362"/>
                </a:lnTo>
                <a:lnTo>
                  <a:pt x="475" y="3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3"/>
          <p:cNvSpPr/>
          <p:nvPr/>
        </p:nvSpPr>
        <p:spPr>
          <a:xfrm>
            <a:off x="6432480" y="2633760"/>
            <a:ext cx="216000" cy="969840"/>
          </a:xfrm>
          <a:custGeom>
            <a:avLst/>
            <a:gdLst>
              <a:gd name="textAreaLeft" fmla="*/ 0 w 216000"/>
              <a:gd name="textAreaRight" fmla="*/ 216360 w 216000"/>
              <a:gd name="textAreaTop" fmla="*/ 0 h 969840"/>
              <a:gd name="textAreaBottom" fmla="*/ 970200 h 969840"/>
            </a:gdLst>
            <a:ahLst/>
            <a:rect l="textAreaLeft" t="textAreaTop" r="textAreaRight" b="textAreaBottom"/>
            <a:pathLst>
              <a:path w="339" h="1492">
                <a:moveTo>
                  <a:pt x="0" y="1492"/>
                </a:moveTo>
                <a:lnTo>
                  <a:pt x="0" y="1481"/>
                </a:lnTo>
                <a:lnTo>
                  <a:pt x="0" y="1458"/>
                </a:lnTo>
                <a:lnTo>
                  <a:pt x="0" y="1447"/>
                </a:lnTo>
                <a:lnTo>
                  <a:pt x="11" y="1424"/>
                </a:lnTo>
                <a:lnTo>
                  <a:pt x="11" y="1379"/>
                </a:lnTo>
                <a:lnTo>
                  <a:pt x="23" y="1322"/>
                </a:lnTo>
                <a:lnTo>
                  <a:pt x="23" y="1254"/>
                </a:lnTo>
                <a:lnTo>
                  <a:pt x="34" y="1187"/>
                </a:lnTo>
                <a:lnTo>
                  <a:pt x="45" y="1096"/>
                </a:lnTo>
                <a:lnTo>
                  <a:pt x="57" y="1006"/>
                </a:lnTo>
                <a:lnTo>
                  <a:pt x="68" y="915"/>
                </a:lnTo>
                <a:lnTo>
                  <a:pt x="79" y="836"/>
                </a:lnTo>
                <a:lnTo>
                  <a:pt x="79" y="757"/>
                </a:lnTo>
                <a:lnTo>
                  <a:pt x="91" y="689"/>
                </a:lnTo>
                <a:lnTo>
                  <a:pt x="91" y="633"/>
                </a:lnTo>
                <a:lnTo>
                  <a:pt x="102" y="576"/>
                </a:lnTo>
                <a:lnTo>
                  <a:pt x="102" y="531"/>
                </a:lnTo>
                <a:lnTo>
                  <a:pt x="113" y="497"/>
                </a:lnTo>
                <a:lnTo>
                  <a:pt x="113" y="463"/>
                </a:lnTo>
                <a:lnTo>
                  <a:pt x="102" y="418"/>
                </a:lnTo>
                <a:lnTo>
                  <a:pt x="102" y="361"/>
                </a:lnTo>
                <a:lnTo>
                  <a:pt x="102" y="305"/>
                </a:lnTo>
                <a:lnTo>
                  <a:pt x="91" y="237"/>
                </a:lnTo>
                <a:lnTo>
                  <a:pt x="91" y="169"/>
                </a:lnTo>
                <a:lnTo>
                  <a:pt x="79" y="90"/>
                </a:lnTo>
                <a:lnTo>
                  <a:pt x="68" y="0"/>
                </a:lnTo>
                <a:lnTo>
                  <a:pt x="113" y="22"/>
                </a:lnTo>
                <a:lnTo>
                  <a:pt x="147" y="33"/>
                </a:lnTo>
                <a:lnTo>
                  <a:pt x="181" y="56"/>
                </a:lnTo>
                <a:lnTo>
                  <a:pt x="215" y="67"/>
                </a:lnTo>
                <a:lnTo>
                  <a:pt x="237" y="79"/>
                </a:lnTo>
                <a:lnTo>
                  <a:pt x="260" y="101"/>
                </a:lnTo>
                <a:lnTo>
                  <a:pt x="271" y="113"/>
                </a:lnTo>
                <a:lnTo>
                  <a:pt x="283" y="124"/>
                </a:lnTo>
                <a:lnTo>
                  <a:pt x="305" y="147"/>
                </a:lnTo>
                <a:lnTo>
                  <a:pt x="317" y="169"/>
                </a:lnTo>
                <a:lnTo>
                  <a:pt x="339" y="214"/>
                </a:lnTo>
                <a:lnTo>
                  <a:pt x="339" y="248"/>
                </a:lnTo>
                <a:lnTo>
                  <a:pt x="339" y="282"/>
                </a:lnTo>
                <a:lnTo>
                  <a:pt x="328" y="316"/>
                </a:lnTo>
                <a:lnTo>
                  <a:pt x="328" y="350"/>
                </a:lnTo>
                <a:lnTo>
                  <a:pt x="317" y="373"/>
                </a:lnTo>
                <a:lnTo>
                  <a:pt x="305" y="407"/>
                </a:lnTo>
                <a:lnTo>
                  <a:pt x="294" y="452"/>
                </a:lnTo>
                <a:lnTo>
                  <a:pt x="283" y="508"/>
                </a:lnTo>
                <a:lnTo>
                  <a:pt x="271" y="565"/>
                </a:lnTo>
                <a:lnTo>
                  <a:pt x="260" y="644"/>
                </a:lnTo>
                <a:lnTo>
                  <a:pt x="260" y="678"/>
                </a:lnTo>
                <a:lnTo>
                  <a:pt x="249" y="723"/>
                </a:lnTo>
                <a:lnTo>
                  <a:pt x="237" y="768"/>
                </a:lnTo>
                <a:lnTo>
                  <a:pt x="237" y="814"/>
                </a:lnTo>
                <a:lnTo>
                  <a:pt x="215" y="904"/>
                </a:lnTo>
                <a:lnTo>
                  <a:pt x="192" y="994"/>
                </a:lnTo>
                <a:lnTo>
                  <a:pt x="181" y="1085"/>
                </a:lnTo>
                <a:lnTo>
                  <a:pt x="158" y="1175"/>
                </a:lnTo>
                <a:lnTo>
                  <a:pt x="147" y="1254"/>
                </a:lnTo>
                <a:lnTo>
                  <a:pt x="124" y="1334"/>
                </a:lnTo>
                <a:lnTo>
                  <a:pt x="113" y="1413"/>
                </a:lnTo>
                <a:lnTo>
                  <a:pt x="102" y="1492"/>
                </a:lnTo>
                <a:lnTo>
                  <a:pt x="0" y="149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5"/>
          <p:cNvSpPr/>
          <p:nvPr/>
        </p:nvSpPr>
        <p:spPr>
          <a:xfrm>
            <a:off x="6261120" y="3440160"/>
            <a:ext cx="774720" cy="574560"/>
          </a:xfrm>
          <a:custGeom>
            <a:avLst/>
            <a:gdLst>
              <a:gd name="textAreaLeft" fmla="*/ 0 w 774720"/>
              <a:gd name="textAreaRight" fmla="*/ 775080 w 7747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221" h="882">
                <a:moveTo>
                  <a:pt x="802" y="34"/>
                </a:moveTo>
                <a:lnTo>
                  <a:pt x="836" y="23"/>
                </a:lnTo>
                <a:lnTo>
                  <a:pt x="859" y="11"/>
                </a:lnTo>
                <a:lnTo>
                  <a:pt x="882" y="11"/>
                </a:lnTo>
                <a:lnTo>
                  <a:pt x="904" y="0"/>
                </a:lnTo>
                <a:lnTo>
                  <a:pt x="915" y="11"/>
                </a:lnTo>
                <a:lnTo>
                  <a:pt x="938" y="23"/>
                </a:lnTo>
                <a:lnTo>
                  <a:pt x="949" y="34"/>
                </a:lnTo>
                <a:lnTo>
                  <a:pt x="972" y="45"/>
                </a:lnTo>
                <a:lnTo>
                  <a:pt x="995" y="57"/>
                </a:lnTo>
                <a:lnTo>
                  <a:pt x="1029" y="68"/>
                </a:lnTo>
                <a:lnTo>
                  <a:pt x="1051" y="91"/>
                </a:lnTo>
                <a:lnTo>
                  <a:pt x="1085" y="113"/>
                </a:lnTo>
                <a:lnTo>
                  <a:pt x="1119" y="136"/>
                </a:lnTo>
                <a:lnTo>
                  <a:pt x="1142" y="158"/>
                </a:lnTo>
                <a:lnTo>
                  <a:pt x="1164" y="170"/>
                </a:lnTo>
                <a:lnTo>
                  <a:pt x="1187" y="192"/>
                </a:lnTo>
                <a:lnTo>
                  <a:pt x="1198" y="204"/>
                </a:lnTo>
                <a:lnTo>
                  <a:pt x="1209" y="215"/>
                </a:lnTo>
                <a:lnTo>
                  <a:pt x="1221" y="238"/>
                </a:lnTo>
                <a:lnTo>
                  <a:pt x="1221" y="249"/>
                </a:lnTo>
                <a:lnTo>
                  <a:pt x="1221" y="271"/>
                </a:lnTo>
                <a:lnTo>
                  <a:pt x="1198" y="294"/>
                </a:lnTo>
                <a:lnTo>
                  <a:pt x="1175" y="317"/>
                </a:lnTo>
                <a:lnTo>
                  <a:pt x="1142" y="339"/>
                </a:lnTo>
                <a:lnTo>
                  <a:pt x="1130" y="339"/>
                </a:lnTo>
                <a:lnTo>
                  <a:pt x="1119" y="351"/>
                </a:lnTo>
                <a:lnTo>
                  <a:pt x="1108" y="373"/>
                </a:lnTo>
                <a:lnTo>
                  <a:pt x="1096" y="385"/>
                </a:lnTo>
                <a:lnTo>
                  <a:pt x="1074" y="407"/>
                </a:lnTo>
                <a:lnTo>
                  <a:pt x="1062" y="430"/>
                </a:lnTo>
                <a:lnTo>
                  <a:pt x="1040" y="464"/>
                </a:lnTo>
                <a:lnTo>
                  <a:pt x="1029" y="498"/>
                </a:lnTo>
                <a:lnTo>
                  <a:pt x="1006" y="531"/>
                </a:lnTo>
                <a:lnTo>
                  <a:pt x="983" y="565"/>
                </a:lnTo>
                <a:lnTo>
                  <a:pt x="961" y="611"/>
                </a:lnTo>
                <a:lnTo>
                  <a:pt x="938" y="656"/>
                </a:lnTo>
                <a:lnTo>
                  <a:pt x="915" y="701"/>
                </a:lnTo>
                <a:lnTo>
                  <a:pt x="893" y="758"/>
                </a:lnTo>
                <a:lnTo>
                  <a:pt x="870" y="814"/>
                </a:lnTo>
                <a:lnTo>
                  <a:pt x="848" y="882"/>
                </a:lnTo>
                <a:lnTo>
                  <a:pt x="667" y="882"/>
                </a:lnTo>
                <a:lnTo>
                  <a:pt x="689" y="825"/>
                </a:lnTo>
                <a:lnTo>
                  <a:pt x="712" y="780"/>
                </a:lnTo>
                <a:lnTo>
                  <a:pt x="723" y="724"/>
                </a:lnTo>
                <a:lnTo>
                  <a:pt x="746" y="678"/>
                </a:lnTo>
                <a:lnTo>
                  <a:pt x="757" y="645"/>
                </a:lnTo>
                <a:lnTo>
                  <a:pt x="769" y="599"/>
                </a:lnTo>
                <a:lnTo>
                  <a:pt x="780" y="565"/>
                </a:lnTo>
                <a:lnTo>
                  <a:pt x="791" y="531"/>
                </a:lnTo>
                <a:lnTo>
                  <a:pt x="802" y="498"/>
                </a:lnTo>
                <a:lnTo>
                  <a:pt x="814" y="464"/>
                </a:lnTo>
                <a:lnTo>
                  <a:pt x="825" y="441"/>
                </a:lnTo>
                <a:lnTo>
                  <a:pt x="825" y="418"/>
                </a:lnTo>
                <a:lnTo>
                  <a:pt x="836" y="396"/>
                </a:lnTo>
                <a:lnTo>
                  <a:pt x="836" y="385"/>
                </a:lnTo>
                <a:lnTo>
                  <a:pt x="848" y="362"/>
                </a:lnTo>
                <a:lnTo>
                  <a:pt x="848" y="351"/>
                </a:lnTo>
                <a:lnTo>
                  <a:pt x="848" y="317"/>
                </a:lnTo>
                <a:lnTo>
                  <a:pt x="836" y="283"/>
                </a:lnTo>
                <a:lnTo>
                  <a:pt x="825" y="260"/>
                </a:lnTo>
                <a:lnTo>
                  <a:pt x="802" y="226"/>
                </a:lnTo>
                <a:lnTo>
                  <a:pt x="791" y="226"/>
                </a:lnTo>
                <a:lnTo>
                  <a:pt x="780" y="226"/>
                </a:lnTo>
                <a:lnTo>
                  <a:pt x="746" y="215"/>
                </a:lnTo>
                <a:lnTo>
                  <a:pt x="712" y="215"/>
                </a:lnTo>
                <a:lnTo>
                  <a:pt x="667" y="215"/>
                </a:lnTo>
                <a:lnTo>
                  <a:pt x="622" y="226"/>
                </a:lnTo>
                <a:lnTo>
                  <a:pt x="565" y="226"/>
                </a:lnTo>
                <a:lnTo>
                  <a:pt x="508" y="226"/>
                </a:lnTo>
                <a:lnTo>
                  <a:pt x="373" y="249"/>
                </a:lnTo>
                <a:lnTo>
                  <a:pt x="248" y="283"/>
                </a:lnTo>
                <a:lnTo>
                  <a:pt x="124" y="305"/>
                </a:lnTo>
                <a:lnTo>
                  <a:pt x="0" y="339"/>
                </a:lnTo>
                <a:lnTo>
                  <a:pt x="0" y="204"/>
                </a:lnTo>
                <a:lnTo>
                  <a:pt x="34" y="204"/>
                </a:lnTo>
                <a:lnTo>
                  <a:pt x="68" y="192"/>
                </a:lnTo>
                <a:lnTo>
                  <a:pt x="113" y="192"/>
                </a:lnTo>
                <a:lnTo>
                  <a:pt x="158" y="181"/>
                </a:lnTo>
                <a:lnTo>
                  <a:pt x="226" y="170"/>
                </a:lnTo>
                <a:lnTo>
                  <a:pt x="282" y="158"/>
                </a:lnTo>
                <a:lnTo>
                  <a:pt x="362" y="147"/>
                </a:lnTo>
                <a:lnTo>
                  <a:pt x="441" y="124"/>
                </a:lnTo>
                <a:lnTo>
                  <a:pt x="520" y="113"/>
                </a:lnTo>
                <a:lnTo>
                  <a:pt x="588" y="91"/>
                </a:lnTo>
                <a:lnTo>
                  <a:pt x="644" y="79"/>
                </a:lnTo>
                <a:lnTo>
                  <a:pt x="701" y="68"/>
                </a:lnTo>
                <a:lnTo>
                  <a:pt x="735" y="57"/>
                </a:lnTo>
                <a:lnTo>
                  <a:pt x="769" y="45"/>
                </a:lnTo>
                <a:lnTo>
                  <a:pt x="791" y="45"/>
                </a:lnTo>
                <a:lnTo>
                  <a:pt x="802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6"/>
          <p:cNvSpPr/>
          <p:nvPr/>
        </p:nvSpPr>
        <p:spPr>
          <a:xfrm>
            <a:off x="6310440" y="3941640"/>
            <a:ext cx="595080" cy="146160"/>
          </a:xfrm>
          <a:custGeom>
            <a:avLst/>
            <a:gdLst>
              <a:gd name="textAreaLeft" fmla="*/ 0 w 595080"/>
              <a:gd name="textAreaRight" fmla="*/ 595440 w 5950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38" h="226">
                <a:moveTo>
                  <a:pt x="0" y="113"/>
                </a:moveTo>
                <a:lnTo>
                  <a:pt x="102" y="90"/>
                </a:lnTo>
                <a:lnTo>
                  <a:pt x="203" y="79"/>
                </a:lnTo>
                <a:lnTo>
                  <a:pt x="294" y="68"/>
                </a:lnTo>
                <a:lnTo>
                  <a:pt x="384" y="56"/>
                </a:lnTo>
                <a:lnTo>
                  <a:pt x="463" y="45"/>
                </a:lnTo>
                <a:lnTo>
                  <a:pt x="531" y="34"/>
                </a:lnTo>
                <a:lnTo>
                  <a:pt x="599" y="34"/>
                </a:lnTo>
                <a:lnTo>
                  <a:pt x="656" y="22"/>
                </a:lnTo>
                <a:lnTo>
                  <a:pt x="712" y="11"/>
                </a:lnTo>
                <a:lnTo>
                  <a:pt x="757" y="11"/>
                </a:lnTo>
                <a:lnTo>
                  <a:pt x="803" y="0"/>
                </a:lnTo>
                <a:lnTo>
                  <a:pt x="836" y="0"/>
                </a:lnTo>
                <a:lnTo>
                  <a:pt x="859" y="0"/>
                </a:lnTo>
                <a:lnTo>
                  <a:pt x="882" y="0"/>
                </a:lnTo>
                <a:lnTo>
                  <a:pt x="893" y="0"/>
                </a:lnTo>
                <a:lnTo>
                  <a:pt x="904" y="0"/>
                </a:lnTo>
                <a:lnTo>
                  <a:pt x="916" y="22"/>
                </a:lnTo>
                <a:lnTo>
                  <a:pt x="938" y="34"/>
                </a:lnTo>
                <a:lnTo>
                  <a:pt x="938" y="56"/>
                </a:lnTo>
                <a:lnTo>
                  <a:pt x="938" y="90"/>
                </a:lnTo>
                <a:lnTo>
                  <a:pt x="938" y="113"/>
                </a:lnTo>
                <a:lnTo>
                  <a:pt x="938" y="124"/>
                </a:lnTo>
                <a:lnTo>
                  <a:pt x="927" y="136"/>
                </a:lnTo>
                <a:lnTo>
                  <a:pt x="916" y="147"/>
                </a:lnTo>
                <a:lnTo>
                  <a:pt x="893" y="158"/>
                </a:lnTo>
                <a:lnTo>
                  <a:pt x="882" y="169"/>
                </a:lnTo>
                <a:lnTo>
                  <a:pt x="859" y="181"/>
                </a:lnTo>
                <a:lnTo>
                  <a:pt x="825" y="181"/>
                </a:lnTo>
                <a:lnTo>
                  <a:pt x="814" y="192"/>
                </a:lnTo>
                <a:lnTo>
                  <a:pt x="791" y="192"/>
                </a:lnTo>
                <a:lnTo>
                  <a:pt x="757" y="203"/>
                </a:lnTo>
                <a:lnTo>
                  <a:pt x="723" y="203"/>
                </a:lnTo>
                <a:lnTo>
                  <a:pt x="690" y="203"/>
                </a:lnTo>
                <a:lnTo>
                  <a:pt x="656" y="215"/>
                </a:lnTo>
                <a:lnTo>
                  <a:pt x="610" y="215"/>
                </a:lnTo>
                <a:lnTo>
                  <a:pt x="554" y="215"/>
                </a:lnTo>
                <a:lnTo>
                  <a:pt x="497" y="215"/>
                </a:lnTo>
                <a:lnTo>
                  <a:pt x="441" y="226"/>
                </a:lnTo>
                <a:lnTo>
                  <a:pt x="384" y="226"/>
                </a:lnTo>
                <a:lnTo>
                  <a:pt x="316" y="226"/>
                </a:lnTo>
                <a:lnTo>
                  <a:pt x="237" y="226"/>
                </a:lnTo>
                <a:lnTo>
                  <a:pt x="169" y="226"/>
                </a:lnTo>
                <a:lnTo>
                  <a:pt x="79" y="226"/>
                </a:lnTo>
                <a:lnTo>
                  <a:pt x="0" y="226"/>
                </a:lnTo>
                <a:lnTo>
                  <a:pt x="0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际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4"/>
          <p:cNvSpPr/>
          <p:nvPr/>
        </p:nvSpPr>
        <p:spPr>
          <a:xfrm>
            <a:off x="1447920" y="2075040"/>
            <a:ext cx="95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438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Box 36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高度基本相同，“小”的两点要呼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37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8"/>
          <p:cNvSpPr/>
          <p:nvPr/>
        </p:nvSpPr>
        <p:spPr>
          <a:xfrm>
            <a:off x="898560" y="4646520"/>
            <a:ext cx="334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际  无边无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39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终于见到了无边无际的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7"/>
          <p:cNvSpPr/>
          <p:nvPr/>
        </p:nvSpPr>
        <p:spPr>
          <a:xfrm>
            <a:off x="33476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9"/>
          <p:cNvSpPr/>
          <p:nvPr/>
        </p:nvSpPr>
        <p:spPr>
          <a:xfrm>
            <a:off x="5695920" y="2263680"/>
            <a:ext cx="509760" cy="1046160"/>
          </a:xfrm>
          <a:custGeom>
            <a:avLst/>
            <a:gdLst>
              <a:gd name="textAreaLeft" fmla="*/ 0 w 509760"/>
              <a:gd name="textAreaRight" fmla="*/ 510120 w 50976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03" h="1606">
                <a:moveTo>
                  <a:pt x="622" y="1515"/>
                </a:moveTo>
                <a:lnTo>
                  <a:pt x="611" y="1538"/>
                </a:lnTo>
                <a:lnTo>
                  <a:pt x="588" y="1549"/>
                </a:lnTo>
                <a:lnTo>
                  <a:pt x="577" y="1572"/>
                </a:lnTo>
                <a:lnTo>
                  <a:pt x="566" y="1583"/>
                </a:lnTo>
                <a:lnTo>
                  <a:pt x="566" y="1594"/>
                </a:lnTo>
                <a:lnTo>
                  <a:pt x="554" y="1594"/>
                </a:lnTo>
                <a:lnTo>
                  <a:pt x="543" y="1606"/>
                </a:lnTo>
                <a:lnTo>
                  <a:pt x="532" y="1606"/>
                </a:lnTo>
                <a:lnTo>
                  <a:pt x="521" y="1606"/>
                </a:lnTo>
                <a:lnTo>
                  <a:pt x="509" y="1594"/>
                </a:lnTo>
                <a:lnTo>
                  <a:pt x="498" y="1583"/>
                </a:lnTo>
                <a:lnTo>
                  <a:pt x="487" y="1572"/>
                </a:lnTo>
                <a:lnTo>
                  <a:pt x="475" y="1549"/>
                </a:lnTo>
                <a:lnTo>
                  <a:pt x="475" y="1538"/>
                </a:lnTo>
                <a:lnTo>
                  <a:pt x="464" y="1515"/>
                </a:lnTo>
                <a:lnTo>
                  <a:pt x="464" y="1493"/>
                </a:lnTo>
                <a:lnTo>
                  <a:pt x="453" y="1481"/>
                </a:lnTo>
                <a:lnTo>
                  <a:pt x="441" y="1459"/>
                </a:lnTo>
                <a:lnTo>
                  <a:pt x="430" y="1447"/>
                </a:lnTo>
                <a:lnTo>
                  <a:pt x="396" y="1413"/>
                </a:lnTo>
                <a:lnTo>
                  <a:pt x="351" y="1380"/>
                </a:lnTo>
                <a:lnTo>
                  <a:pt x="328" y="1357"/>
                </a:lnTo>
                <a:lnTo>
                  <a:pt x="317" y="1346"/>
                </a:lnTo>
                <a:lnTo>
                  <a:pt x="294" y="1334"/>
                </a:lnTo>
                <a:lnTo>
                  <a:pt x="283" y="1323"/>
                </a:lnTo>
                <a:lnTo>
                  <a:pt x="272" y="1312"/>
                </a:lnTo>
                <a:lnTo>
                  <a:pt x="260" y="1300"/>
                </a:lnTo>
                <a:lnTo>
                  <a:pt x="260" y="1289"/>
                </a:lnTo>
                <a:lnTo>
                  <a:pt x="249" y="1278"/>
                </a:lnTo>
                <a:lnTo>
                  <a:pt x="260" y="1278"/>
                </a:lnTo>
                <a:lnTo>
                  <a:pt x="272" y="1278"/>
                </a:lnTo>
                <a:lnTo>
                  <a:pt x="283" y="1278"/>
                </a:lnTo>
                <a:lnTo>
                  <a:pt x="306" y="1278"/>
                </a:lnTo>
                <a:lnTo>
                  <a:pt x="317" y="1278"/>
                </a:lnTo>
                <a:lnTo>
                  <a:pt x="340" y="1278"/>
                </a:lnTo>
                <a:lnTo>
                  <a:pt x="385" y="1278"/>
                </a:lnTo>
                <a:lnTo>
                  <a:pt x="419" y="1266"/>
                </a:lnTo>
                <a:lnTo>
                  <a:pt x="453" y="1266"/>
                </a:lnTo>
                <a:lnTo>
                  <a:pt x="464" y="1255"/>
                </a:lnTo>
                <a:lnTo>
                  <a:pt x="475" y="1255"/>
                </a:lnTo>
                <a:lnTo>
                  <a:pt x="475" y="1233"/>
                </a:lnTo>
                <a:lnTo>
                  <a:pt x="475" y="1221"/>
                </a:lnTo>
                <a:lnTo>
                  <a:pt x="464" y="1187"/>
                </a:lnTo>
                <a:lnTo>
                  <a:pt x="464" y="1165"/>
                </a:lnTo>
                <a:lnTo>
                  <a:pt x="453" y="1120"/>
                </a:lnTo>
                <a:lnTo>
                  <a:pt x="430" y="1086"/>
                </a:lnTo>
                <a:lnTo>
                  <a:pt x="419" y="1029"/>
                </a:lnTo>
                <a:lnTo>
                  <a:pt x="396" y="984"/>
                </a:lnTo>
                <a:lnTo>
                  <a:pt x="385" y="939"/>
                </a:lnTo>
                <a:lnTo>
                  <a:pt x="374" y="905"/>
                </a:lnTo>
                <a:lnTo>
                  <a:pt x="362" y="871"/>
                </a:lnTo>
                <a:lnTo>
                  <a:pt x="362" y="837"/>
                </a:lnTo>
                <a:lnTo>
                  <a:pt x="351" y="814"/>
                </a:lnTo>
                <a:lnTo>
                  <a:pt x="351" y="803"/>
                </a:lnTo>
                <a:lnTo>
                  <a:pt x="351" y="792"/>
                </a:lnTo>
                <a:lnTo>
                  <a:pt x="362" y="780"/>
                </a:lnTo>
                <a:lnTo>
                  <a:pt x="362" y="769"/>
                </a:lnTo>
                <a:lnTo>
                  <a:pt x="362" y="746"/>
                </a:lnTo>
                <a:lnTo>
                  <a:pt x="374" y="713"/>
                </a:lnTo>
                <a:lnTo>
                  <a:pt x="385" y="679"/>
                </a:lnTo>
                <a:lnTo>
                  <a:pt x="396" y="633"/>
                </a:lnTo>
                <a:lnTo>
                  <a:pt x="419" y="577"/>
                </a:lnTo>
                <a:lnTo>
                  <a:pt x="430" y="520"/>
                </a:lnTo>
                <a:lnTo>
                  <a:pt x="453" y="464"/>
                </a:lnTo>
                <a:lnTo>
                  <a:pt x="464" y="407"/>
                </a:lnTo>
                <a:lnTo>
                  <a:pt x="475" y="362"/>
                </a:lnTo>
                <a:lnTo>
                  <a:pt x="487" y="328"/>
                </a:lnTo>
                <a:lnTo>
                  <a:pt x="498" y="294"/>
                </a:lnTo>
                <a:lnTo>
                  <a:pt x="498" y="272"/>
                </a:lnTo>
                <a:lnTo>
                  <a:pt x="498" y="260"/>
                </a:lnTo>
                <a:lnTo>
                  <a:pt x="498" y="249"/>
                </a:lnTo>
                <a:lnTo>
                  <a:pt x="487" y="249"/>
                </a:lnTo>
                <a:lnTo>
                  <a:pt x="475" y="249"/>
                </a:lnTo>
                <a:lnTo>
                  <a:pt x="464" y="249"/>
                </a:lnTo>
                <a:lnTo>
                  <a:pt x="441" y="249"/>
                </a:lnTo>
                <a:lnTo>
                  <a:pt x="419" y="260"/>
                </a:lnTo>
                <a:lnTo>
                  <a:pt x="385" y="272"/>
                </a:lnTo>
                <a:lnTo>
                  <a:pt x="351" y="283"/>
                </a:lnTo>
                <a:lnTo>
                  <a:pt x="317" y="294"/>
                </a:lnTo>
                <a:lnTo>
                  <a:pt x="283" y="317"/>
                </a:lnTo>
                <a:lnTo>
                  <a:pt x="238" y="328"/>
                </a:lnTo>
                <a:lnTo>
                  <a:pt x="204" y="339"/>
                </a:lnTo>
                <a:lnTo>
                  <a:pt x="170" y="339"/>
                </a:lnTo>
                <a:lnTo>
                  <a:pt x="91" y="351"/>
                </a:lnTo>
                <a:lnTo>
                  <a:pt x="0" y="351"/>
                </a:lnTo>
                <a:lnTo>
                  <a:pt x="0" y="238"/>
                </a:lnTo>
                <a:lnTo>
                  <a:pt x="57" y="238"/>
                </a:lnTo>
                <a:lnTo>
                  <a:pt x="102" y="226"/>
                </a:lnTo>
                <a:lnTo>
                  <a:pt x="147" y="226"/>
                </a:lnTo>
                <a:lnTo>
                  <a:pt x="193" y="215"/>
                </a:lnTo>
                <a:lnTo>
                  <a:pt x="272" y="192"/>
                </a:lnTo>
                <a:lnTo>
                  <a:pt x="306" y="181"/>
                </a:lnTo>
                <a:lnTo>
                  <a:pt x="340" y="159"/>
                </a:lnTo>
                <a:lnTo>
                  <a:pt x="374" y="147"/>
                </a:lnTo>
                <a:lnTo>
                  <a:pt x="407" y="125"/>
                </a:lnTo>
                <a:lnTo>
                  <a:pt x="430" y="113"/>
                </a:lnTo>
                <a:lnTo>
                  <a:pt x="453" y="91"/>
                </a:lnTo>
                <a:lnTo>
                  <a:pt x="464" y="79"/>
                </a:lnTo>
                <a:lnTo>
                  <a:pt x="487" y="68"/>
                </a:lnTo>
                <a:lnTo>
                  <a:pt x="498" y="57"/>
                </a:lnTo>
                <a:lnTo>
                  <a:pt x="509" y="46"/>
                </a:lnTo>
                <a:lnTo>
                  <a:pt x="521" y="23"/>
                </a:lnTo>
                <a:lnTo>
                  <a:pt x="532" y="12"/>
                </a:lnTo>
                <a:lnTo>
                  <a:pt x="554" y="0"/>
                </a:lnTo>
                <a:lnTo>
                  <a:pt x="566" y="0"/>
                </a:lnTo>
                <a:lnTo>
                  <a:pt x="577" y="0"/>
                </a:lnTo>
                <a:lnTo>
                  <a:pt x="588" y="0"/>
                </a:lnTo>
                <a:lnTo>
                  <a:pt x="611" y="12"/>
                </a:lnTo>
                <a:lnTo>
                  <a:pt x="622" y="23"/>
                </a:lnTo>
                <a:lnTo>
                  <a:pt x="645" y="34"/>
                </a:lnTo>
                <a:lnTo>
                  <a:pt x="667" y="46"/>
                </a:lnTo>
                <a:lnTo>
                  <a:pt x="690" y="68"/>
                </a:lnTo>
                <a:lnTo>
                  <a:pt x="713" y="91"/>
                </a:lnTo>
                <a:lnTo>
                  <a:pt x="724" y="113"/>
                </a:lnTo>
                <a:lnTo>
                  <a:pt x="747" y="136"/>
                </a:lnTo>
                <a:lnTo>
                  <a:pt x="769" y="159"/>
                </a:lnTo>
                <a:lnTo>
                  <a:pt x="781" y="181"/>
                </a:lnTo>
                <a:lnTo>
                  <a:pt x="792" y="192"/>
                </a:lnTo>
                <a:lnTo>
                  <a:pt x="803" y="204"/>
                </a:lnTo>
                <a:lnTo>
                  <a:pt x="803" y="215"/>
                </a:lnTo>
                <a:lnTo>
                  <a:pt x="803" y="226"/>
                </a:lnTo>
                <a:lnTo>
                  <a:pt x="803" y="249"/>
                </a:lnTo>
                <a:lnTo>
                  <a:pt x="792" y="272"/>
                </a:lnTo>
                <a:lnTo>
                  <a:pt x="769" y="294"/>
                </a:lnTo>
                <a:lnTo>
                  <a:pt x="735" y="317"/>
                </a:lnTo>
                <a:lnTo>
                  <a:pt x="713" y="328"/>
                </a:lnTo>
                <a:lnTo>
                  <a:pt x="690" y="351"/>
                </a:lnTo>
                <a:lnTo>
                  <a:pt x="667" y="385"/>
                </a:lnTo>
                <a:lnTo>
                  <a:pt x="645" y="407"/>
                </a:lnTo>
                <a:lnTo>
                  <a:pt x="622" y="453"/>
                </a:lnTo>
                <a:lnTo>
                  <a:pt x="600" y="486"/>
                </a:lnTo>
                <a:lnTo>
                  <a:pt x="577" y="532"/>
                </a:lnTo>
                <a:lnTo>
                  <a:pt x="554" y="577"/>
                </a:lnTo>
                <a:lnTo>
                  <a:pt x="532" y="633"/>
                </a:lnTo>
                <a:lnTo>
                  <a:pt x="509" y="679"/>
                </a:lnTo>
                <a:lnTo>
                  <a:pt x="487" y="713"/>
                </a:lnTo>
                <a:lnTo>
                  <a:pt x="475" y="746"/>
                </a:lnTo>
                <a:lnTo>
                  <a:pt x="464" y="780"/>
                </a:lnTo>
                <a:lnTo>
                  <a:pt x="453" y="803"/>
                </a:lnTo>
                <a:lnTo>
                  <a:pt x="441" y="814"/>
                </a:lnTo>
                <a:lnTo>
                  <a:pt x="441" y="826"/>
                </a:lnTo>
                <a:lnTo>
                  <a:pt x="441" y="837"/>
                </a:lnTo>
                <a:lnTo>
                  <a:pt x="453" y="848"/>
                </a:lnTo>
                <a:lnTo>
                  <a:pt x="464" y="871"/>
                </a:lnTo>
                <a:lnTo>
                  <a:pt x="475" y="893"/>
                </a:lnTo>
                <a:lnTo>
                  <a:pt x="487" y="916"/>
                </a:lnTo>
                <a:lnTo>
                  <a:pt x="498" y="950"/>
                </a:lnTo>
                <a:lnTo>
                  <a:pt x="521" y="984"/>
                </a:lnTo>
                <a:lnTo>
                  <a:pt x="543" y="1018"/>
                </a:lnTo>
                <a:lnTo>
                  <a:pt x="588" y="1097"/>
                </a:lnTo>
                <a:lnTo>
                  <a:pt x="622" y="1165"/>
                </a:lnTo>
                <a:lnTo>
                  <a:pt x="634" y="1199"/>
                </a:lnTo>
                <a:lnTo>
                  <a:pt x="645" y="1233"/>
                </a:lnTo>
                <a:lnTo>
                  <a:pt x="656" y="1255"/>
                </a:lnTo>
                <a:lnTo>
                  <a:pt x="656" y="1289"/>
                </a:lnTo>
                <a:lnTo>
                  <a:pt x="656" y="1357"/>
                </a:lnTo>
                <a:lnTo>
                  <a:pt x="656" y="1413"/>
                </a:lnTo>
                <a:lnTo>
                  <a:pt x="645" y="1470"/>
                </a:lnTo>
                <a:lnTo>
                  <a:pt x="622" y="151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38"/>
          <p:cNvSpPr/>
          <p:nvPr/>
        </p:nvSpPr>
        <p:spPr>
          <a:xfrm>
            <a:off x="5618160" y="2403360"/>
            <a:ext cx="142920" cy="1743120"/>
          </a:xfrm>
          <a:custGeom>
            <a:avLst/>
            <a:gdLst>
              <a:gd name="textAreaLeft" fmla="*/ 0 w 142920"/>
              <a:gd name="textAreaRight" fmla="*/ 143280 w 142920"/>
              <a:gd name="textAreaTop" fmla="*/ 0 h 1743120"/>
              <a:gd name="textAreaBottom" fmla="*/ 1743480 h 1743120"/>
            </a:gdLst>
            <a:ahLst/>
            <a:rect l="textAreaLeft" t="textAreaTop" r="textAreaRight" b="textAreaBottom"/>
            <a:pathLst>
              <a:path w="226" h="2679">
                <a:moveTo>
                  <a:pt x="226" y="23"/>
                </a:moveTo>
                <a:lnTo>
                  <a:pt x="226" y="147"/>
                </a:lnTo>
                <a:lnTo>
                  <a:pt x="226" y="271"/>
                </a:lnTo>
                <a:lnTo>
                  <a:pt x="226" y="396"/>
                </a:lnTo>
                <a:lnTo>
                  <a:pt x="226" y="520"/>
                </a:lnTo>
                <a:lnTo>
                  <a:pt x="226" y="633"/>
                </a:lnTo>
                <a:lnTo>
                  <a:pt x="226" y="746"/>
                </a:lnTo>
                <a:lnTo>
                  <a:pt x="226" y="848"/>
                </a:lnTo>
                <a:lnTo>
                  <a:pt x="226" y="961"/>
                </a:lnTo>
                <a:lnTo>
                  <a:pt x="226" y="1063"/>
                </a:lnTo>
                <a:lnTo>
                  <a:pt x="226" y="1153"/>
                </a:lnTo>
                <a:lnTo>
                  <a:pt x="226" y="1255"/>
                </a:lnTo>
                <a:lnTo>
                  <a:pt x="226" y="1345"/>
                </a:lnTo>
                <a:lnTo>
                  <a:pt x="226" y="1425"/>
                </a:lnTo>
                <a:lnTo>
                  <a:pt x="226" y="1515"/>
                </a:lnTo>
                <a:lnTo>
                  <a:pt x="226" y="1594"/>
                </a:lnTo>
                <a:lnTo>
                  <a:pt x="226" y="1662"/>
                </a:lnTo>
                <a:lnTo>
                  <a:pt x="226" y="1741"/>
                </a:lnTo>
                <a:lnTo>
                  <a:pt x="226" y="1809"/>
                </a:lnTo>
                <a:lnTo>
                  <a:pt x="226" y="1877"/>
                </a:lnTo>
                <a:lnTo>
                  <a:pt x="226" y="1933"/>
                </a:lnTo>
                <a:lnTo>
                  <a:pt x="226" y="2001"/>
                </a:lnTo>
                <a:lnTo>
                  <a:pt x="226" y="2046"/>
                </a:lnTo>
                <a:lnTo>
                  <a:pt x="226" y="2103"/>
                </a:lnTo>
                <a:lnTo>
                  <a:pt x="226" y="2148"/>
                </a:lnTo>
                <a:lnTo>
                  <a:pt x="226" y="2193"/>
                </a:lnTo>
                <a:lnTo>
                  <a:pt x="226" y="2239"/>
                </a:lnTo>
                <a:lnTo>
                  <a:pt x="226" y="2272"/>
                </a:lnTo>
                <a:lnTo>
                  <a:pt x="215" y="2306"/>
                </a:lnTo>
                <a:lnTo>
                  <a:pt x="215" y="2340"/>
                </a:lnTo>
                <a:lnTo>
                  <a:pt x="215" y="2363"/>
                </a:lnTo>
                <a:lnTo>
                  <a:pt x="215" y="2385"/>
                </a:lnTo>
                <a:lnTo>
                  <a:pt x="215" y="2408"/>
                </a:lnTo>
                <a:lnTo>
                  <a:pt x="215" y="2442"/>
                </a:lnTo>
                <a:lnTo>
                  <a:pt x="215" y="2476"/>
                </a:lnTo>
                <a:lnTo>
                  <a:pt x="204" y="2510"/>
                </a:lnTo>
                <a:lnTo>
                  <a:pt x="204" y="2544"/>
                </a:lnTo>
                <a:lnTo>
                  <a:pt x="204" y="2566"/>
                </a:lnTo>
                <a:lnTo>
                  <a:pt x="192" y="2589"/>
                </a:lnTo>
                <a:lnTo>
                  <a:pt x="192" y="2612"/>
                </a:lnTo>
                <a:lnTo>
                  <a:pt x="192" y="2623"/>
                </a:lnTo>
                <a:lnTo>
                  <a:pt x="181" y="2646"/>
                </a:lnTo>
                <a:lnTo>
                  <a:pt x="181" y="2657"/>
                </a:lnTo>
                <a:lnTo>
                  <a:pt x="170" y="2668"/>
                </a:lnTo>
                <a:lnTo>
                  <a:pt x="158" y="2679"/>
                </a:lnTo>
                <a:lnTo>
                  <a:pt x="147" y="2679"/>
                </a:lnTo>
                <a:lnTo>
                  <a:pt x="136" y="2679"/>
                </a:lnTo>
                <a:lnTo>
                  <a:pt x="124" y="2668"/>
                </a:lnTo>
                <a:lnTo>
                  <a:pt x="113" y="2657"/>
                </a:lnTo>
                <a:lnTo>
                  <a:pt x="102" y="2634"/>
                </a:lnTo>
                <a:lnTo>
                  <a:pt x="91" y="2612"/>
                </a:lnTo>
                <a:lnTo>
                  <a:pt x="79" y="2589"/>
                </a:lnTo>
                <a:lnTo>
                  <a:pt x="68" y="2566"/>
                </a:lnTo>
                <a:lnTo>
                  <a:pt x="57" y="2532"/>
                </a:lnTo>
                <a:lnTo>
                  <a:pt x="57" y="2499"/>
                </a:lnTo>
                <a:lnTo>
                  <a:pt x="34" y="2453"/>
                </a:lnTo>
                <a:lnTo>
                  <a:pt x="23" y="2397"/>
                </a:lnTo>
                <a:lnTo>
                  <a:pt x="23" y="2385"/>
                </a:lnTo>
                <a:lnTo>
                  <a:pt x="23" y="2363"/>
                </a:lnTo>
                <a:lnTo>
                  <a:pt x="11" y="2352"/>
                </a:lnTo>
                <a:lnTo>
                  <a:pt x="11" y="2340"/>
                </a:lnTo>
                <a:lnTo>
                  <a:pt x="11" y="2329"/>
                </a:lnTo>
                <a:lnTo>
                  <a:pt x="11" y="2318"/>
                </a:lnTo>
                <a:lnTo>
                  <a:pt x="23" y="2306"/>
                </a:lnTo>
                <a:lnTo>
                  <a:pt x="23" y="2295"/>
                </a:lnTo>
                <a:lnTo>
                  <a:pt x="23" y="2272"/>
                </a:lnTo>
                <a:lnTo>
                  <a:pt x="23" y="2261"/>
                </a:lnTo>
                <a:lnTo>
                  <a:pt x="23" y="2239"/>
                </a:lnTo>
                <a:lnTo>
                  <a:pt x="23" y="2216"/>
                </a:lnTo>
                <a:lnTo>
                  <a:pt x="34" y="2182"/>
                </a:lnTo>
                <a:lnTo>
                  <a:pt x="34" y="2159"/>
                </a:lnTo>
                <a:lnTo>
                  <a:pt x="34" y="2125"/>
                </a:lnTo>
                <a:lnTo>
                  <a:pt x="45" y="2092"/>
                </a:lnTo>
                <a:lnTo>
                  <a:pt x="45" y="2058"/>
                </a:lnTo>
                <a:lnTo>
                  <a:pt x="45" y="2012"/>
                </a:lnTo>
                <a:lnTo>
                  <a:pt x="57" y="1979"/>
                </a:lnTo>
                <a:lnTo>
                  <a:pt x="57" y="1933"/>
                </a:lnTo>
                <a:lnTo>
                  <a:pt x="57" y="1888"/>
                </a:lnTo>
                <a:lnTo>
                  <a:pt x="68" y="1843"/>
                </a:lnTo>
                <a:lnTo>
                  <a:pt x="68" y="1798"/>
                </a:lnTo>
                <a:lnTo>
                  <a:pt x="68" y="1741"/>
                </a:lnTo>
                <a:lnTo>
                  <a:pt x="79" y="1685"/>
                </a:lnTo>
                <a:lnTo>
                  <a:pt x="79" y="1617"/>
                </a:lnTo>
                <a:lnTo>
                  <a:pt x="79" y="1560"/>
                </a:lnTo>
                <a:lnTo>
                  <a:pt x="79" y="1492"/>
                </a:lnTo>
                <a:lnTo>
                  <a:pt x="79" y="1425"/>
                </a:lnTo>
                <a:lnTo>
                  <a:pt x="91" y="1345"/>
                </a:lnTo>
                <a:lnTo>
                  <a:pt x="91" y="1278"/>
                </a:lnTo>
                <a:lnTo>
                  <a:pt x="91" y="1198"/>
                </a:lnTo>
                <a:lnTo>
                  <a:pt x="91" y="1108"/>
                </a:lnTo>
                <a:lnTo>
                  <a:pt x="91" y="1029"/>
                </a:lnTo>
                <a:lnTo>
                  <a:pt x="91" y="938"/>
                </a:lnTo>
                <a:lnTo>
                  <a:pt x="91" y="848"/>
                </a:lnTo>
                <a:lnTo>
                  <a:pt x="91" y="769"/>
                </a:lnTo>
                <a:lnTo>
                  <a:pt x="91" y="690"/>
                </a:lnTo>
                <a:lnTo>
                  <a:pt x="91" y="622"/>
                </a:lnTo>
                <a:lnTo>
                  <a:pt x="91" y="554"/>
                </a:lnTo>
                <a:lnTo>
                  <a:pt x="79" y="486"/>
                </a:lnTo>
                <a:lnTo>
                  <a:pt x="79" y="430"/>
                </a:lnTo>
                <a:lnTo>
                  <a:pt x="79" y="373"/>
                </a:lnTo>
                <a:lnTo>
                  <a:pt x="79" y="328"/>
                </a:lnTo>
                <a:lnTo>
                  <a:pt x="68" y="283"/>
                </a:lnTo>
                <a:lnTo>
                  <a:pt x="68" y="249"/>
                </a:lnTo>
                <a:lnTo>
                  <a:pt x="68" y="215"/>
                </a:lnTo>
                <a:lnTo>
                  <a:pt x="57" y="181"/>
                </a:lnTo>
                <a:lnTo>
                  <a:pt x="57" y="158"/>
                </a:lnTo>
                <a:lnTo>
                  <a:pt x="45" y="136"/>
                </a:lnTo>
                <a:lnTo>
                  <a:pt x="45" y="124"/>
                </a:lnTo>
                <a:lnTo>
                  <a:pt x="23" y="102"/>
                </a:lnTo>
                <a:lnTo>
                  <a:pt x="11" y="79"/>
                </a:lnTo>
                <a:lnTo>
                  <a:pt x="11" y="68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11" y="11"/>
                </a:lnTo>
                <a:lnTo>
                  <a:pt x="23" y="0"/>
                </a:lnTo>
                <a:lnTo>
                  <a:pt x="34" y="0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81" y="11"/>
                </a:lnTo>
                <a:lnTo>
                  <a:pt x="226" y="2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40"/>
          <p:cNvSpPr/>
          <p:nvPr/>
        </p:nvSpPr>
        <p:spPr>
          <a:xfrm>
            <a:off x="6321600" y="2338560"/>
            <a:ext cx="631800" cy="222120"/>
          </a:xfrm>
          <a:custGeom>
            <a:avLst/>
            <a:gdLst>
              <a:gd name="textAreaLeft" fmla="*/ 0 w 631800"/>
              <a:gd name="textAreaRight" fmla="*/ 632160 w 6318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95" h="340">
                <a:moveTo>
                  <a:pt x="384" y="125"/>
                </a:moveTo>
                <a:lnTo>
                  <a:pt x="475" y="91"/>
                </a:lnTo>
                <a:lnTo>
                  <a:pt x="509" y="79"/>
                </a:lnTo>
                <a:lnTo>
                  <a:pt x="554" y="68"/>
                </a:lnTo>
                <a:lnTo>
                  <a:pt x="588" y="57"/>
                </a:lnTo>
                <a:lnTo>
                  <a:pt x="611" y="57"/>
                </a:lnTo>
                <a:lnTo>
                  <a:pt x="644" y="46"/>
                </a:lnTo>
                <a:lnTo>
                  <a:pt x="667" y="34"/>
                </a:lnTo>
                <a:lnTo>
                  <a:pt x="690" y="23"/>
                </a:lnTo>
                <a:lnTo>
                  <a:pt x="712" y="23"/>
                </a:lnTo>
                <a:lnTo>
                  <a:pt x="735" y="12"/>
                </a:lnTo>
                <a:lnTo>
                  <a:pt x="757" y="12"/>
                </a:lnTo>
                <a:lnTo>
                  <a:pt x="769" y="12"/>
                </a:lnTo>
                <a:lnTo>
                  <a:pt x="780" y="0"/>
                </a:lnTo>
                <a:lnTo>
                  <a:pt x="791" y="0"/>
                </a:lnTo>
                <a:lnTo>
                  <a:pt x="814" y="0"/>
                </a:lnTo>
                <a:lnTo>
                  <a:pt x="837" y="12"/>
                </a:lnTo>
                <a:lnTo>
                  <a:pt x="871" y="23"/>
                </a:lnTo>
                <a:lnTo>
                  <a:pt x="916" y="34"/>
                </a:lnTo>
                <a:lnTo>
                  <a:pt x="950" y="57"/>
                </a:lnTo>
                <a:lnTo>
                  <a:pt x="972" y="79"/>
                </a:lnTo>
                <a:lnTo>
                  <a:pt x="984" y="102"/>
                </a:lnTo>
                <a:lnTo>
                  <a:pt x="995" y="136"/>
                </a:lnTo>
                <a:lnTo>
                  <a:pt x="995" y="147"/>
                </a:lnTo>
                <a:lnTo>
                  <a:pt x="984" y="159"/>
                </a:lnTo>
                <a:lnTo>
                  <a:pt x="972" y="170"/>
                </a:lnTo>
                <a:lnTo>
                  <a:pt x="961" y="181"/>
                </a:lnTo>
                <a:lnTo>
                  <a:pt x="950" y="193"/>
                </a:lnTo>
                <a:lnTo>
                  <a:pt x="927" y="193"/>
                </a:lnTo>
                <a:lnTo>
                  <a:pt x="904" y="204"/>
                </a:lnTo>
                <a:lnTo>
                  <a:pt x="882" y="215"/>
                </a:lnTo>
                <a:lnTo>
                  <a:pt x="859" y="226"/>
                </a:lnTo>
                <a:lnTo>
                  <a:pt x="825" y="226"/>
                </a:lnTo>
                <a:lnTo>
                  <a:pt x="791" y="238"/>
                </a:lnTo>
                <a:lnTo>
                  <a:pt x="757" y="249"/>
                </a:lnTo>
                <a:lnTo>
                  <a:pt x="724" y="260"/>
                </a:lnTo>
                <a:lnTo>
                  <a:pt x="690" y="260"/>
                </a:lnTo>
                <a:lnTo>
                  <a:pt x="644" y="272"/>
                </a:lnTo>
                <a:lnTo>
                  <a:pt x="554" y="294"/>
                </a:lnTo>
                <a:lnTo>
                  <a:pt x="475" y="306"/>
                </a:lnTo>
                <a:lnTo>
                  <a:pt x="407" y="328"/>
                </a:lnTo>
                <a:lnTo>
                  <a:pt x="350" y="328"/>
                </a:lnTo>
                <a:lnTo>
                  <a:pt x="294" y="340"/>
                </a:lnTo>
                <a:lnTo>
                  <a:pt x="249" y="340"/>
                </a:lnTo>
                <a:lnTo>
                  <a:pt x="204" y="340"/>
                </a:lnTo>
                <a:lnTo>
                  <a:pt x="181" y="328"/>
                </a:lnTo>
                <a:lnTo>
                  <a:pt x="147" y="328"/>
                </a:lnTo>
                <a:lnTo>
                  <a:pt x="113" y="317"/>
                </a:lnTo>
                <a:lnTo>
                  <a:pt x="90" y="317"/>
                </a:lnTo>
                <a:lnTo>
                  <a:pt x="68" y="306"/>
                </a:lnTo>
                <a:lnTo>
                  <a:pt x="57" y="306"/>
                </a:lnTo>
                <a:lnTo>
                  <a:pt x="45" y="294"/>
                </a:lnTo>
                <a:lnTo>
                  <a:pt x="34" y="283"/>
                </a:lnTo>
                <a:lnTo>
                  <a:pt x="23" y="272"/>
                </a:lnTo>
                <a:lnTo>
                  <a:pt x="11" y="260"/>
                </a:lnTo>
                <a:lnTo>
                  <a:pt x="0" y="249"/>
                </a:lnTo>
                <a:lnTo>
                  <a:pt x="11" y="238"/>
                </a:lnTo>
                <a:lnTo>
                  <a:pt x="11" y="226"/>
                </a:lnTo>
                <a:lnTo>
                  <a:pt x="23" y="226"/>
                </a:lnTo>
                <a:lnTo>
                  <a:pt x="34" y="226"/>
                </a:lnTo>
                <a:lnTo>
                  <a:pt x="45" y="226"/>
                </a:lnTo>
                <a:lnTo>
                  <a:pt x="57" y="215"/>
                </a:lnTo>
                <a:lnTo>
                  <a:pt x="79" y="215"/>
                </a:lnTo>
                <a:lnTo>
                  <a:pt x="90" y="215"/>
                </a:lnTo>
                <a:lnTo>
                  <a:pt x="113" y="204"/>
                </a:lnTo>
                <a:lnTo>
                  <a:pt x="147" y="193"/>
                </a:lnTo>
                <a:lnTo>
                  <a:pt x="170" y="193"/>
                </a:lnTo>
                <a:lnTo>
                  <a:pt x="204" y="181"/>
                </a:lnTo>
                <a:lnTo>
                  <a:pt x="237" y="170"/>
                </a:lnTo>
                <a:lnTo>
                  <a:pt x="271" y="159"/>
                </a:lnTo>
                <a:lnTo>
                  <a:pt x="305" y="147"/>
                </a:lnTo>
                <a:lnTo>
                  <a:pt x="350" y="136"/>
                </a:lnTo>
                <a:lnTo>
                  <a:pt x="384" y="12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41"/>
          <p:cNvSpPr/>
          <p:nvPr/>
        </p:nvSpPr>
        <p:spPr>
          <a:xfrm>
            <a:off x="6105600" y="2787480"/>
            <a:ext cx="1104840" cy="263520"/>
          </a:xfrm>
          <a:custGeom>
            <a:avLst/>
            <a:gdLst>
              <a:gd name="textAreaLeft" fmla="*/ 0 w 1104840"/>
              <a:gd name="textAreaRight" fmla="*/ 1105200 w 1104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741" h="407">
                <a:moveTo>
                  <a:pt x="1696" y="136"/>
                </a:moveTo>
                <a:lnTo>
                  <a:pt x="1707" y="158"/>
                </a:lnTo>
                <a:lnTo>
                  <a:pt x="1718" y="170"/>
                </a:lnTo>
                <a:lnTo>
                  <a:pt x="1730" y="192"/>
                </a:lnTo>
                <a:lnTo>
                  <a:pt x="1741" y="203"/>
                </a:lnTo>
                <a:lnTo>
                  <a:pt x="1730" y="215"/>
                </a:lnTo>
                <a:lnTo>
                  <a:pt x="1730" y="226"/>
                </a:lnTo>
                <a:lnTo>
                  <a:pt x="1707" y="226"/>
                </a:lnTo>
                <a:lnTo>
                  <a:pt x="1684" y="226"/>
                </a:lnTo>
                <a:lnTo>
                  <a:pt x="1662" y="237"/>
                </a:lnTo>
                <a:lnTo>
                  <a:pt x="1628" y="237"/>
                </a:lnTo>
                <a:lnTo>
                  <a:pt x="1594" y="237"/>
                </a:lnTo>
                <a:lnTo>
                  <a:pt x="1549" y="249"/>
                </a:lnTo>
                <a:lnTo>
                  <a:pt x="1492" y="249"/>
                </a:lnTo>
                <a:lnTo>
                  <a:pt x="1390" y="249"/>
                </a:lnTo>
                <a:lnTo>
                  <a:pt x="1289" y="249"/>
                </a:lnTo>
                <a:lnTo>
                  <a:pt x="1198" y="249"/>
                </a:lnTo>
                <a:lnTo>
                  <a:pt x="1119" y="260"/>
                </a:lnTo>
                <a:lnTo>
                  <a:pt x="1074" y="271"/>
                </a:lnTo>
                <a:lnTo>
                  <a:pt x="1029" y="271"/>
                </a:lnTo>
                <a:lnTo>
                  <a:pt x="983" y="283"/>
                </a:lnTo>
                <a:lnTo>
                  <a:pt x="927" y="294"/>
                </a:lnTo>
                <a:lnTo>
                  <a:pt x="870" y="305"/>
                </a:lnTo>
                <a:lnTo>
                  <a:pt x="803" y="317"/>
                </a:lnTo>
                <a:lnTo>
                  <a:pt x="735" y="339"/>
                </a:lnTo>
                <a:lnTo>
                  <a:pt x="656" y="350"/>
                </a:lnTo>
                <a:lnTo>
                  <a:pt x="576" y="362"/>
                </a:lnTo>
                <a:lnTo>
                  <a:pt x="509" y="384"/>
                </a:lnTo>
                <a:lnTo>
                  <a:pt x="441" y="384"/>
                </a:lnTo>
                <a:lnTo>
                  <a:pt x="384" y="396"/>
                </a:lnTo>
                <a:lnTo>
                  <a:pt x="339" y="407"/>
                </a:lnTo>
                <a:lnTo>
                  <a:pt x="305" y="407"/>
                </a:lnTo>
                <a:lnTo>
                  <a:pt x="271" y="407"/>
                </a:lnTo>
                <a:lnTo>
                  <a:pt x="237" y="407"/>
                </a:lnTo>
                <a:lnTo>
                  <a:pt x="215" y="407"/>
                </a:lnTo>
                <a:lnTo>
                  <a:pt x="192" y="407"/>
                </a:lnTo>
                <a:lnTo>
                  <a:pt x="158" y="396"/>
                </a:lnTo>
                <a:lnTo>
                  <a:pt x="124" y="384"/>
                </a:lnTo>
                <a:lnTo>
                  <a:pt x="102" y="362"/>
                </a:lnTo>
                <a:lnTo>
                  <a:pt x="68" y="339"/>
                </a:lnTo>
                <a:lnTo>
                  <a:pt x="34" y="317"/>
                </a:lnTo>
                <a:lnTo>
                  <a:pt x="0" y="294"/>
                </a:lnTo>
                <a:lnTo>
                  <a:pt x="45" y="271"/>
                </a:lnTo>
                <a:lnTo>
                  <a:pt x="90" y="260"/>
                </a:lnTo>
                <a:lnTo>
                  <a:pt x="136" y="249"/>
                </a:lnTo>
                <a:lnTo>
                  <a:pt x="192" y="249"/>
                </a:lnTo>
                <a:lnTo>
                  <a:pt x="203" y="249"/>
                </a:lnTo>
                <a:lnTo>
                  <a:pt x="215" y="237"/>
                </a:lnTo>
                <a:lnTo>
                  <a:pt x="237" y="237"/>
                </a:lnTo>
                <a:lnTo>
                  <a:pt x="260" y="237"/>
                </a:lnTo>
                <a:lnTo>
                  <a:pt x="283" y="237"/>
                </a:lnTo>
                <a:lnTo>
                  <a:pt x="316" y="226"/>
                </a:lnTo>
                <a:lnTo>
                  <a:pt x="350" y="226"/>
                </a:lnTo>
                <a:lnTo>
                  <a:pt x="384" y="215"/>
                </a:lnTo>
                <a:lnTo>
                  <a:pt x="429" y="203"/>
                </a:lnTo>
                <a:lnTo>
                  <a:pt x="475" y="192"/>
                </a:lnTo>
                <a:lnTo>
                  <a:pt x="531" y="181"/>
                </a:lnTo>
                <a:lnTo>
                  <a:pt x="588" y="181"/>
                </a:lnTo>
                <a:lnTo>
                  <a:pt x="644" y="170"/>
                </a:lnTo>
                <a:lnTo>
                  <a:pt x="701" y="147"/>
                </a:lnTo>
                <a:lnTo>
                  <a:pt x="769" y="136"/>
                </a:lnTo>
                <a:lnTo>
                  <a:pt x="836" y="124"/>
                </a:lnTo>
                <a:lnTo>
                  <a:pt x="916" y="113"/>
                </a:lnTo>
                <a:lnTo>
                  <a:pt x="972" y="102"/>
                </a:lnTo>
                <a:lnTo>
                  <a:pt x="1040" y="90"/>
                </a:lnTo>
                <a:lnTo>
                  <a:pt x="1096" y="79"/>
                </a:lnTo>
                <a:lnTo>
                  <a:pt x="1142" y="68"/>
                </a:lnTo>
                <a:lnTo>
                  <a:pt x="1198" y="56"/>
                </a:lnTo>
                <a:lnTo>
                  <a:pt x="1243" y="45"/>
                </a:lnTo>
                <a:lnTo>
                  <a:pt x="1289" y="34"/>
                </a:lnTo>
                <a:lnTo>
                  <a:pt x="1323" y="34"/>
                </a:lnTo>
                <a:lnTo>
                  <a:pt x="1356" y="23"/>
                </a:lnTo>
                <a:lnTo>
                  <a:pt x="1390" y="11"/>
                </a:lnTo>
                <a:lnTo>
                  <a:pt x="1413" y="11"/>
                </a:lnTo>
                <a:lnTo>
                  <a:pt x="1436" y="11"/>
                </a:lnTo>
                <a:lnTo>
                  <a:pt x="1458" y="11"/>
                </a:lnTo>
                <a:lnTo>
                  <a:pt x="1470" y="0"/>
                </a:lnTo>
                <a:lnTo>
                  <a:pt x="1481" y="0"/>
                </a:lnTo>
                <a:lnTo>
                  <a:pt x="1515" y="11"/>
                </a:lnTo>
                <a:lnTo>
                  <a:pt x="1549" y="11"/>
                </a:lnTo>
                <a:lnTo>
                  <a:pt x="1583" y="23"/>
                </a:lnTo>
                <a:lnTo>
                  <a:pt x="1605" y="34"/>
                </a:lnTo>
                <a:lnTo>
                  <a:pt x="1617" y="45"/>
                </a:lnTo>
                <a:lnTo>
                  <a:pt x="1639" y="45"/>
                </a:lnTo>
                <a:lnTo>
                  <a:pt x="1662" y="79"/>
                </a:lnTo>
                <a:lnTo>
                  <a:pt x="1673" y="102"/>
                </a:lnTo>
                <a:lnTo>
                  <a:pt x="169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42"/>
          <p:cNvSpPr/>
          <p:nvPr/>
        </p:nvSpPr>
        <p:spPr>
          <a:xfrm>
            <a:off x="6105600" y="3309840"/>
            <a:ext cx="207720" cy="506520"/>
          </a:xfrm>
          <a:custGeom>
            <a:avLst/>
            <a:gdLst>
              <a:gd name="textAreaLeft" fmla="*/ 0 w 207720"/>
              <a:gd name="textAreaRight" fmla="*/ 208080 w 20772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328" h="780">
                <a:moveTo>
                  <a:pt x="305" y="56"/>
                </a:moveTo>
                <a:lnTo>
                  <a:pt x="305" y="90"/>
                </a:lnTo>
                <a:lnTo>
                  <a:pt x="316" y="135"/>
                </a:lnTo>
                <a:lnTo>
                  <a:pt x="316" y="169"/>
                </a:lnTo>
                <a:lnTo>
                  <a:pt x="328" y="192"/>
                </a:lnTo>
                <a:lnTo>
                  <a:pt x="328" y="226"/>
                </a:lnTo>
                <a:lnTo>
                  <a:pt x="328" y="282"/>
                </a:lnTo>
                <a:lnTo>
                  <a:pt x="328" y="350"/>
                </a:lnTo>
                <a:lnTo>
                  <a:pt x="316" y="407"/>
                </a:lnTo>
                <a:lnTo>
                  <a:pt x="294" y="474"/>
                </a:lnTo>
                <a:lnTo>
                  <a:pt x="260" y="542"/>
                </a:lnTo>
                <a:lnTo>
                  <a:pt x="237" y="599"/>
                </a:lnTo>
                <a:lnTo>
                  <a:pt x="203" y="655"/>
                </a:lnTo>
                <a:lnTo>
                  <a:pt x="181" y="701"/>
                </a:lnTo>
                <a:lnTo>
                  <a:pt x="158" y="723"/>
                </a:lnTo>
                <a:lnTo>
                  <a:pt x="136" y="746"/>
                </a:lnTo>
                <a:lnTo>
                  <a:pt x="124" y="757"/>
                </a:lnTo>
                <a:lnTo>
                  <a:pt x="113" y="768"/>
                </a:lnTo>
                <a:lnTo>
                  <a:pt x="90" y="780"/>
                </a:lnTo>
                <a:lnTo>
                  <a:pt x="79" y="780"/>
                </a:lnTo>
                <a:lnTo>
                  <a:pt x="68" y="780"/>
                </a:lnTo>
                <a:lnTo>
                  <a:pt x="45" y="780"/>
                </a:lnTo>
                <a:lnTo>
                  <a:pt x="34" y="768"/>
                </a:lnTo>
                <a:lnTo>
                  <a:pt x="22" y="757"/>
                </a:lnTo>
                <a:lnTo>
                  <a:pt x="22" y="746"/>
                </a:lnTo>
                <a:lnTo>
                  <a:pt x="11" y="734"/>
                </a:lnTo>
                <a:lnTo>
                  <a:pt x="11" y="712"/>
                </a:lnTo>
                <a:lnTo>
                  <a:pt x="0" y="701"/>
                </a:lnTo>
                <a:lnTo>
                  <a:pt x="0" y="667"/>
                </a:lnTo>
                <a:lnTo>
                  <a:pt x="0" y="644"/>
                </a:lnTo>
                <a:lnTo>
                  <a:pt x="0" y="621"/>
                </a:lnTo>
                <a:lnTo>
                  <a:pt x="0" y="588"/>
                </a:lnTo>
                <a:lnTo>
                  <a:pt x="0" y="565"/>
                </a:lnTo>
                <a:lnTo>
                  <a:pt x="11" y="542"/>
                </a:lnTo>
                <a:lnTo>
                  <a:pt x="22" y="520"/>
                </a:lnTo>
                <a:lnTo>
                  <a:pt x="34" y="497"/>
                </a:lnTo>
                <a:lnTo>
                  <a:pt x="45" y="474"/>
                </a:lnTo>
                <a:lnTo>
                  <a:pt x="68" y="452"/>
                </a:lnTo>
                <a:lnTo>
                  <a:pt x="79" y="429"/>
                </a:lnTo>
                <a:lnTo>
                  <a:pt x="102" y="407"/>
                </a:lnTo>
                <a:lnTo>
                  <a:pt x="113" y="384"/>
                </a:lnTo>
                <a:lnTo>
                  <a:pt x="136" y="350"/>
                </a:lnTo>
                <a:lnTo>
                  <a:pt x="147" y="316"/>
                </a:lnTo>
                <a:lnTo>
                  <a:pt x="158" y="282"/>
                </a:lnTo>
                <a:lnTo>
                  <a:pt x="169" y="237"/>
                </a:lnTo>
                <a:lnTo>
                  <a:pt x="192" y="192"/>
                </a:lnTo>
                <a:lnTo>
                  <a:pt x="203" y="147"/>
                </a:lnTo>
                <a:lnTo>
                  <a:pt x="215" y="113"/>
                </a:lnTo>
                <a:lnTo>
                  <a:pt x="226" y="79"/>
                </a:lnTo>
                <a:lnTo>
                  <a:pt x="237" y="56"/>
                </a:lnTo>
                <a:lnTo>
                  <a:pt x="249" y="34"/>
                </a:lnTo>
                <a:lnTo>
                  <a:pt x="249" y="22"/>
                </a:lnTo>
                <a:lnTo>
                  <a:pt x="260" y="11"/>
                </a:lnTo>
                <a:lnTo>
                  <a:pt x="260" y="0"/>
                </a:lnTo>
                <a:lnTo>
                  <a:pt x="271" y="0"/>
                </a:lnTo>
                <a:lnTo>
                  <a:pt x="283" y="11"/>
                </a:lnTo>
                <a:lnTo>
                  <a:pt x="283" y="22"/>
                </a:lnTo>
                <a:lnTo>
                  <a:pt x="294" y="34"/>
                </a:lnTo>
                <a:lnTo>
                  <a:pt x="294" y="45"/>
                </a:lnTo>
                <a:lnTo>
                  <a:pt x="305" y="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43"/>
          <p:cNvSpPr/>
          <p:nvPr/>
        </p:nvSpPr>
        <p:spPr>
          <a:xfrm>
            <a:off x="6823080" y="3338640"/>
            <a:ext cx="423720" cy="425160"/>
          </a:xfrm>
          <a:custGeom>
            <a:avLst/>
            <a:gdLst>
              <a:gd name="textAreaLeft" fmla="*/ 0 w 423720"/>
              <a:gd name="textAreaRight" fmla="*/ 424080 w 42372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667" h="656">
                <a:moveTo>
                  <a:pt x="667" y="520"/>
                </a:moveTo>
                <a:lnTo>
                  <a:pt x="667" y="554"/>
                </a:lnTo>
                <a:lnTo>
                  <a:pt x="656" y="588"/>
                </a:lnTo>
                <a:lnTo>
                  <a:pt x="656" y="610"/>
                </a:lnTo>
                <a:lnTo>
                  <a:pt x="645" y="633"/>
                </a:lnTo>
                <a:lnTo>
                  <a:pt x="633" y="644"/>
                </a:lnTo>
                <a:lnTo>
                  <a:pt x="622" y="644"/>
                </a:lnTo>
                <a:lnTo>
                  <a:pt x="611" y="656"/>
                </a:lnTo>
                <a:lnTo>
                  <a:pt x="600" y="656"/>
                </a:lnTo>
                <a:lnTo>
                  <a:pt x="577" y="656"/>
                </a:lnTo>
                <a:lnTo>
                  <a:pt x="554" y="644"/>
                </a:lnTo>
                <a:lnTo>
                  <a:pt x="532" y="633"/>
                </a:lnTo>
                <a:lnTo>
                  <a:pt x="509" y="622"/>
                </a:lnTo>
                <a:lnTo>
                  <a:pt x="487" y="599"/>
                </a:lnTo>
                <a:lnTo>
                  <a:pt x="453" y="565"/>
                </a:lnTo>
                <a:lnTo>
                  <a:pt x="407" y="520"/>
                </a:lnTo>
                <a:lnTo>
                  <a:pt x="362" y="475"/>
                </a:lnTo>
                <a:lnTo>
                  <a:pt x="340" y="441"/>
                </a:lnTo>
                <a:lnTo>
                  <a:pt x="306" y="418"/>
                </a:lnTo>
                <a:lnTo>
                  <a:pt x="283" y="384"/>
                </a:lnTo>
                <a:lnTo>
                  <a:pt x="249" y="339"/>
                </a:lnTo>
                <a:lnTo>
                  <a:pt x="193" y="282"/>
                </a:lnTo>
                <a:lnTo>
                  <a:pt x="147" y="226"/>
                </a:lnTo>
                <a:lnTo>
                  <a:pt x="102" y="169"/>
                </a:lnTo>
                <a:lnTo>
                  <a:pt x="68" y="136"/>
                </a:lnTo>
                <a:lnTo>
                  <a:pt x="34" y="102"/>
                </a:lnTo>
                <a:lnTo>
                  <a:pt x="23" y="68"/>
                </a:lnTo>
                <a:lnTo>
                  <a:pt x="0" y="56"/>
                </a:lnTo>
                <a:lnTo>
                  <a:pt x="0" y="45"/>
                </a:lnTo>
                <a:lnTo>
                  <a:pt x="0" y="34"/>
                </a:lnTo>
                <a:lnTo>
                  <a:pt x="12" y="34"/>
                </a:lnTo>
                <a:lnTo>
                  <a:pt x="12" y="22"/>
                </a:lnTo>
                <a:lnTo>
                  <a:pt x="23" y="11"/>
                </a:lnTo>
                <a:lnTo>
                  <a:pt x="34" y="0"/>
                </a:lnTo>
                <a:lnTo>
                  <a:pt x="57" y="0"/>
                </a:lnTo>
                <a:lnTo>
                  <a:pt x="80" y="0"/>
                </a:lnTo>
                <a:lnTo>
                  <a:pt x="102" y="11"/>
                </a:lnTo>
                <a:lnTo>
                  <a:pt x="113" y="22"/>
                </a:lnTo>
                <a:lnTo>
                  <a:pt x="136" y="22"/>
                </a:lnTo>
                <a:lnTo>
                  <a:pt x="170" y="34"/>
                </a:lnTo>
                <a:lnTo>
                  <a:pt x="193" y="45"/>
                </a:lnTo>
                <a:lnTo>
                  <a:pt x="226" y="68"/>
                </a:lnTo>
                <a:lnTo>
                  <a:pt x="260" y="79"/>
                </a:lnTo>
                <a:lnTo>
                  <a:pt x="306" y="102"/>
                </a:lnTo>
                <a:lnTo>
                  <a:pt x="351" y="113"/>
                </a:lnTo>
                <a:lnTo>
                  <a:pt x="396" y="147"/>
                </a:lnTo>
                <a:lnTo>
                  <a:pt x="441" y="169"/>
                </a:lnTo>
                <a:lnTo>
                  <a:pt x="475" y="203"/>
                </a:lnTo>
                <a:lnTo>
                  <a:pt x="509" y="226"/>
                </a:lnTo>
                <a:lnTo>
                  <a:pt x="543" y="260"/>
                </a:lnTo>
                <a:lnTo>
                  <a:pt x="566" y="282"/>
                </a:lnTo>
                <a:lnTo>
                  <a:pt x="588" y="316"/>
                </a:lnTo>
                <a:lnTo>
                  <a:pt x="600" y="339"/>
                </a:lnTo>
                <a:lnTo>
                  <a:pt x="633" y="396"/>
                </a:lnTo>
                <a:lnTo>
                  <a:pt x="645" y="441"/>
                </a:lnTo>
                <a:lnTo>
                  <a:pt x="667" y="486"/>
                </a:lnTo>
                <a:lnTo>
                  <a:pt x="667" y="509"/>
                </a:lnTo>
                <a:lnTo>
                  <a:pt x="667" y="5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44"/>
          <p:cNvSpPr/>
          <p:nvPr/>
        </p:nvSpPr>
        <p:spPr>
          <a:xfrm>
            <a:off x="6335640" y="2919240"/>
            <a:ext cx="379440" cy="1293840"/>
          </a:xfrm>
          <a:custGeom>
            <a:avLst/>
            <a:gdLst>
              <a:gd name="textAreaLeft" fmla="*/ 0 w 379440"/>
              <a:gd name="textAreaRight" fmla="*/ 379800 w 379440"/>
              <a:gd name="textAreaTop" fmla="*/ 0 h 1293840"/>
              <a:gd name="textAreaBottom" fmla="*/ 1294200 h 1293840"/>
            </a:gdLst>
            <a:ahLst/>
            <a:rect l="textAreaLeft" t="textAreaTop" r="textAreaRight" b="textAreaBottom"/>
            <a:pathLst>
              <a:path w="599" h="1990">
                <a:moveTo>
                  <a:pt x="361" y="1470"/>
                </a:moveTo>
                <a:lnTo>
                  <a:pt x="373" y="1436"/>
                </a:lnTo>
                <a:lnTo>
                  <a:pt x="384" y="1391"/>
                </a:lnTo>
                <a:lnTo>
                  <a:pt x="384" y="1346"/>
                </a:lnTo>
                <a:lnTo>
                  <a:pt x="395" y="1289"/>
                </a:lnTo>
                <a:lnTo>
                  <a:pt x="395" y="1221"/>
                </a:lnTo>
                <a:lnTo>
                  <a:pt x="407" y="1142"/>
                </a:lnTo>
                <a:lnTo>
                  <a:pt x="407" y="1097"/>
                </a:lnTo>
                <a:lnTo>
                  <a:pt x="407" y="1052"/>
                </a:lnTo>
                <a:lnTo>
                  <a:pt x="407" y="1007"/>
                </a:lnTo>
                <a:lnTo>
                  <a:pt x="407" y="961"/>
                </a:lnTo>
                <a:lnTo>
                  <a:pt x="407" y="860"/>
                </a:lnTo>
                <a:lnTo>
                  <a:pt x="395" y="747"/>
                </a:lnTo>
                <a:lnTo>
                  <a:pt x="395" y="645"/>
                </a:lnTo>
                <a:lnTo>
                  <a:pt x="384" y="532"/>
                </a:lnTo>
                <a:lnTo>
                  <a:pt x="373" y="407"/>
                </a:lnTo>
                <a:lnTo>
                  <a:pt x="361" y="294"/>
                </a:lnTo>
                <a:lnTo>
                  <a:pt x="350" y="170"/>
                </a:lnTo>
                <a:lnTo>
                  <a:pt x="339" y="46"/>
                </a:lnTo>
                <a:lnTo>
                  <a:pt x="565" y="0"/>
                </a:lnTo>
                <a:lnTo>
                  <a:pt x="576" y="159"/>
                </a:lnTo>
                <a:lnTo>
                  <a:pt x="576" y="317"/>
                </a:lnTo>
                <a:lnTo>
                  <a:pt x="576" y="453"/>
                </a:lnTo>
                <a:lnTo>
                  <a:pt x="588" y="588"/>
                </a:lnTo>
                <a:lnTo>
                  <a:pt x="588" y="713"/>
                </a:lnTo>
                <a:lnTo>
                  <a:pt x="588" y="837"/>
                </a:lnTo>
                <a:lnTo>
                  <a:pt x="588" y="939"/>
                </a:lnTo>
                <a:lnTo>
                  <a:pt x="599" y="1041"/>
                </a:lnTo>
                <a:lnTo>
                  <a:pt x="599" y="1131"/>
                </a:lnTo>
                <a:lnTo>
                  <a:pt x="599" y="1210"/>
                </a:lnTo>
                <a:lnTo>
                  <a:pt x="599" y="1278"/>
                </a:lnTo>
                <a:lnTo>
                  <a:pt x="599" y="1346"/>
                </a:lnTo>
                <a:lnTo>
                  <a:pt x="599" y="1402"/>
                </a:lnTo>
                <a:lnTo>
                  <a:pt x="599" y="1436"/>
                </a:lnTo>
                <a:lnTo>
                  <a:pt x="599" y="1470"/>
                </a:lnTo>
                <a:lnTo>
                  <a:pt x="588" y="1504"/>
                </a:lnTo>
                <a:lnTo>
                  <a:pt x="588" y="1549"/>
                </a:lnTo>
                <a:lnTo>
                  <a:pt x="576" y="1583"/>
                </a:lnTo>
                <a:lnTo>
                  <a:pt x="554" y="1674"/>
                </a:lnTo>
                <a:lnTo>
                  <a:pt x="531" y="1753"/>
                </a:lnTo>
                <a:lnTo>
                  <a:pt x="497" y="1832"/>
                </a:lnTo>
                <a:lnTo>
                  <a:pt x="474" y="1877"/>
                </a:lnTo>
                <a:lnTo>
                  <a:pt x="452" y="1911"/>
                </a:lnTo>
                <a:lnTo>
                  <a:pt x="429" y="1934"/>
                </a:lnTo>
                <a:lnTo>
                  <a:pt x="418" y="1956"/>
                </a:lnTo>
                <a:lnTo>
                  <a:pt x="407" y="1979"/>
                </a:lnTo>
                <a:lnTo>
                  <a:pt x="384" y="1990"/>
                </a:lnTo>
                <a:lnTo>
                  <a:pt x="373" y="1990"/>
                </a:lnTo>
                <a:lnTo>
                  <a:pt x="361" y="1990"/>
                </a:lnTo>
                <a:lnTo>
                  <a:pt x="350" y="1990"/>
                </a:lnTo>
                <a:lnTo>
                  <a:pt x="339" y="1979"/>
                </a:lnTo>
                <a:lnTo>
                  <a:pt x="327" y="1968"/>
                </a:lnTo>
                <a:lnTo>
                  <a:pt x="316" y="1945"/>
                </a:lnTo>
                <a:lnTo>
                  <a:pt x="305" y="1922"/>
                </a:lnTo>
                <a:lnTo>
                  <a:pt x="305" y="1900"/>
                </a:lnTo>
                <a:lnTo>
                  <a:pt x="294" y="1877"/>
                </a:lnTo>
                <a:lnTo>
                  <a:pt x="260" y="1809"/>
                </a:lnTo>
                <a:lnTo>
                  <a:pt x="226" y="1753"/>
                </a:lnTo>
                <a:lnTo>
                  <a:pt x="203" y="1719"/>
                </a:lnTo>
                <a:lnTo>
                  <a:pt x="169" y="1696"/>
                </a:lnTo>
                <a:lnTo>
                  <a:pt x="147" y="1674"/>
                </a:lnTo>
                <a:lnTo>
                  <a:pt x="113" y="1651"/>
                </a:lnTo>
                <a:lnTo>
                  <a:pt x="90" y="1628"/>
                </a:lnTo>
                <a:lnTo>
                  <a:pt x="56" y="1606"/>
                </a:lnTo>
                <a:lnTo>
                  <a:pt x="34" y="1583"/>
                </a:lnTo>
                <a:lnTo>
                  <a:pt x="22" y="1572"/>
                </a:lnTo>
                <a:lnTo>
                  <a:pt x="11" y="1549"/>
                </a:lnTo>
                <a:lnTo>
                  <a:pt x="0" y="1538"/>
                </a:lnTo>
                <a:lnTo>
                  <a:pt x="0" y="1527"/>
                </a:lnTo>
                <a:lnTo>
                  <a:pt x="0" y="1515"/>
                </a:lnTo>
                <a:lnTo>
                  <a:pt x="11" y="1515"/>
                </a:lnTo>
                <a:lnTo>
                  <a:pt x="11" y="1504"/>
                </a:lnTo>
                <a:lnTo>
                  <a:pt x="34" y="1504"/>
                </a:lnTo>
                <a:lnTo>
                  <a:pt x="45" y="1504"/>
                </a:lnTo>
                <a:lnTo>
                  <a:pt x="67" y="1504"/>
                </a:lnTo>
                <a:lnTo>
                  <a:pt x="101" y="1515"/>
                </a:lnTo>
                <a:lnTo>
                  <a:pt x="135" y="1515"/>
                </a:lnTo>
                <a:lnTo>
                  <a:pt x="181" y="1527"/>
                </a:lnTo>
                <a:lnTo>
                  <a:pt x="214" y="1538"/>
                </a:lnTo>
                <a:lnTo>
                  <a:pt x="248" y="1549"/>
                </a:lnTo>
                <a:lnTo>
                  <a:pt x="282" y="1549"/>
                </a:lnTo>
                <a:lnTo>
                  <a:pt x="305" y="1538"/>
                </a:lnTo>
                <a:lnTo>
                  <a:pt x="327" y="1527"/>
                </a:lnTo>
                <a:lnTo>
                  <a:pt x="350" y="1515"/>
                </a:lnTo>
                <a:lnTo>
                  <a:pt x="361" y="1493"/>
                </a:lnTo>
                <a:lnTo>
                  <a:pt x="361" y="14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观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6"/>
          <p:cNvSpPr/>
          <p:nvPr/>
        </p:nvSpPr>
        <p:spPr>
          <a:xfrm>
            <a:off x="1227240" y="2075040"/>
            <a:ext cx="106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guā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59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38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“又”的最后一笔变成了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9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0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观看  观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1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青蛙坐在井里观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7"/>
          <p:cNvSpPr/>
          <p:nvPr/>
        </p:nvSpPr>
        <p:spPr>
          <a:xfrm>
            <a:off x="3492000" y="2352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4"/>
          <p:cNvSpPr/>
          <p:nvPr/>
        </p:nvSpPr>
        <p:spPr>
          <a:xfrm>
            <a:off x="5432400" y="2631960"/>
            <a:ext cx="709560" cy="1263600"/>
          </a:xfrm>
          <a:custGeom>
            <a:avLst/>
            <a:gdLst>
              <a:gd name="textAreaLeft" fmla="*/ 0 w 709560"/>
              <a:gd name="textAreaRight" fmla="*/ 709920 w 70956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1119" h="1944">
                <a:moveTo>
                  <a:pt x="0" y="1944"/>
                </a:moveTo>
                <a:lnTo>
                  <a:pt x="0" y="1933"/>
                </a:lnTo>
                <a:lnTo>
                  <a:pt x="0" y="1922"/>
                </a:lnTo>
                <a:lnTo>
                  <a:pt x="11" y="1899"/>
                </a:lnTo>
                <a:lnTo>
                  <a:pt x="23" y="1876"/>
                </a:lnTo>
                <a:lnTo>
                  <a:pt x="34" y="1865"/>
                </a:lnTo>
                <a:lnTo>
                  <a:pt x="57" y="1831"/>
                </a:lnTo>
                <a:lnTo>
                  <a:pt x="79" y="1809"/>
                </a:lnTo>
                <a:lnTo>
                  <a:pt x="113" y="1775"/>
                </a:lnTo>
                <a:lnTo>
                  <a:pt x="147" y="1741"/>
                </a:lnTo>
                <a:lnTo>
                  <a:pt x="170" y="1707"/>
                </a:lnTo>
                <a:lnTo>
                  <a:pt x="204" y="1662"/>
                </a:lnTo>
                <a:lnTo>
                  <a:pt x="237" y="1616"/>
                </a:lnTo>
                <a:lnTo>
                  <a:pt x="283" y="1571"/>
                </a:lnTo>
                <a:lnTo>
                  <a:pt x="317" y="1515"/>
                </a:lnTo>
                <a:lnTo>
                  <a:pt x="362" y="1447"/>
                </a:lnTo>
                <a:lnTo>
                  <a:pt x="396" y="1390"/>
                </a:lnTo>
                <a:lnTo>
                  <a:pt x="441" y="1323"/>
                </a:lnTo>
                <a:lnTo>
                  <a:pt x="475" y="1255"/>
                </a:lnTo>
                <a:lnTo>
                  <a:pt x="520" y="1176"/>
                </a:lnTo>
                <a:lnTo>
                  <a:pt x="554" y="1096"/>
                </a:lnTo>
                <a:lnTo>
                  <a:pt x="599" y="1017"/>
                </a:lnTo>
                <a:lnTo>
                  <a:pt x="633" y="927"/>
                </a:lnTo>
                <a:lnTo>
                  <a:pt x="667" y="836"/>
                </a:lnTo>
                <a:lnTo>
                  <a:pt x="701" y="746"/>
                </a:lnTo>
                <a:lnTo>
                  <a:pt x="712" y="701"/>
                </a:lnTo>
                <a:lnTo>
                  <a:pt x="724" y="656"/>
                </a:lnTo>
                <a:lnTo>
                  <a:pt x="746" y="610"/>
                </a:lnTo>
                <a:lnTo>
                  <a:pt x="758" y="565"/>
                </a:lnTo>
                <a:lnTo>
                  <a:pt x="769" y="531"/>
                </a:lnTo>
                <a:lnTo>
                  <a:pt x="780" y="497"/>
                </a:lnTo>
                <a:lnTo>
                  <a:pt x="780" y="463"/>
                </a:lnTo>
                <a:lnTo>
                  <a:pt x="791" y="429"/>
                </a:lnTo>
                <a:lnTo>
                  <a:pt x="803" y="407"/>
                </a:lnTo>
                <a:lnTo>
                  <a:pt x="803" y="384"/>
                </a:lnTo>
                <a:lnTo>
                  <a:pt x="814" y="362"/>
                </a:lnTo>
                <a:lnTo>
                  <a:pt x="814" y="339"/>
                </a:lnTo>
                <a:lnTo>
                  <a:pt x="814" y="328"/>
                </a:lnTo>
                <a:lnTo>
                  <a:pt x="825" y="316"/>
                </a:lnTo>
                <a:lnTo>
                  <a:pt x="825" y="305"/>
                </a:lnTo>
                <a:lnTo>
                  <a:pt x="825" y="294"/>
                </a:lnTo>
                <a:lnTo>
                  <a:pt x="825" y="260"/>
                </a:lnTo>
                <a:lnTo>
                  <a:pt x="825" y="237"/>
                </a:lnTo>
                <a:lnTo>
                  <a:pt x="814" y="215"/>
                </a:lnTo>
                <a:lnTo>
                  <a:pt x="814" y="203"/>
                </a:lnTo>
                <a:lnTo>
                  <a:pt x="803" y="203"/>
                </a:lnTo>
                <a:lnTo>
                  <a:pt x="791" y="192"/>
                </a:lnTo>
                <a:lnTo>
                  <a:pt x="769" y="203"/>
                </a:lnTo>
                <a:lnTo>
                  <a:pt x="758" y="203"/>
                </a:lnTo>
                <a:lnTo>
                  <a:pt x="724" y="203"/>
                </a:lnTo>
                <a:lnTo>
                  <a:pt x="701" y="215"/>
                </a:lnTo>
                <a:lnTo>
                  <a:pt x="667" y="226"/>
                </a:lnTo>
                <a:lnTo>
                  <a:pt x="622" y="237"/>
                </a:lnTo>
                <a:lnTo>
                  <a:pt x="588" y="249"/>
                </a:lnTo>
                <a:lnTo>
                  <a:pt x="543" y="260"/>
                </a:lnTo>
                <a:lnTo>
                  <a:pt x="509" y="271"/>
                </a:lnTo>
                <a:lnTo>
                  <a:pt x="475" y="282"/>
                </a:lnTo>
                <a:lnTo>
                  <a:pt x="452" y="282"/>
                </a:lnTo>
                <a:lnTo>
                  <a:pt x="418" y="294"/>
                </a:lnTo>
                <a:lnTo>
                  <a:pt x="407" y="294"/>
                </a:lnTo>
                <a:lnTo>
                  <a:pt x="384" y="294"/>
                </a:lnTo>
                <a:lnTo>
                  <a:pt x="373" y="294"/>
                </a:lnTo>
                <a:lnTo>
                  <a:pt x="362" y="294"/>
                </a:lnTo>
                <a:lnTo>
                  <a:pt x="328" y="294"/>
                </a:lnTo>
                <a:lnTo>
                  <a:pt x="305" y="294"/>
                </a:lnTo>
                <a:lnTo>
                  <a:pt x="283" y="282"/>
                </a:lnTo>
                <a:lnTo>
                  <a:pt x="260" y="260"/>
                </a:lnTo>
                <a:lnTo>
                  <a:pt x="237" y="249"/>
                </a:lnTo>
                <a:lnTo>
                  <a:pt x="226" y="215"/>
                </a:lnTo>
                <a:lnTo>
                  <a:pt x="215" y="192"/>
                </a:lnTo>
                <a:lnTo>
                  <a:pt x="237" y="192"/>
                </a:lnTo>
                <a:lnTo>
                  <a:pt x="271" y="192"/>
                </a:lnTo>
                <a:lnTo>
                  <a:pt x="317" y="181"/>
                </a:lnTo>
                <a:lnTo>
                  <a:pt x="351" y="181"/>
                </a:lnTo>
                <a:lnTo>
                  <a:pt x="396" y="169"/>
                </a:lnTo>
                <a:lnTo>
                  <a:pt x="441" y="158"/>
                </a:lnTo>
                <a:lnTo>
                  <a:pt x="498" y="147"/>
                </a:lnTo>
                <a:lnTo>
                  <a:pt x="543" y="135"/>
                </a:lnTo>
                <a:lnTo>
                  <a:pt x="599" y="124"/>
                </a:lnTo>
                <a:lnTo>
                  <a:pt x="644" y="113"/>
                </a:lnTo>
                <a:lnTo>
                  <a:pt x="690" y="102"/>
                </a:lnTo>
                <a:lnTo>
                  <a:pt x="724" y="90"/>
                </a:lnTo>
                <a:lnTo>
                  <a:pt x="758" y="79"/>
                </a:lnTo>
                <a:lnTo>
                  <a:pt x="780" y="56"/>
                </a:lnTo>
                <a:lnTo>
                  <a:pt x="803" y="45"/>
                </a:lnTo>
                <a:lnTo>
                  <a:pt x="825" y="34"/>
                </a:lnTo>
                <a:lnTo>
                  <a:pt x="837" y="22"/>
                </a:lnTo>
                <a:lnTo>
                  <a:pt x="859" y="0"/>
                </a:lnTo>
                <a:lnTo>
                  <a:pt x="882" y="0"/>
                </a:lnTo>
                <a:lnTo>
                  <a:pt x="893" y="0"/>
                </a:lnTo>
                <a:lnTo>
                  <a:pt x="916" y="0"/>
                </a:lnTo>
                <a:lnTo>
                  <a:pt x="950" y="11"/>
                </a:lnTo>
                <a:lnTo>
                  <a:pt x="995" y="34"/>
                </a:lnTo>
                <a:lnTo>
                  <a:pt x="1029" y="56"/>
                </a:lnTo>
                <a:lnTo>
                  <a:pt x="1051" y="79"/>
                </a:lnTo>
                <a:lnTo>
                  <a:pt x="1074" y="90"/>
                </a:lnTo>
                <a:lnTo>
                  <a:pt x="1085" y="102"/>
                </a:lnTo>
                <a:lnTo>
                  <a:pt x="1097" y="113"/>
                </a:lnTo>
                <a:lnTo>
                  <a:pt x="1108" y="124"/>
                </a:lnTo>
                <a:lnTo>
                  <a:pt x="1119" y="147"/>
                </a:lnTo>
                <a:lnTo>
                  <a:pt x="1119" y="158"/>
                </a:lnTo>
                <a:lnTo>
                  <a:pt x="1119" y="181"/>
                </a:lnTo>
                <a:lnTo>
                  <a:pt x="1108" y="203"/>
                </a:lnTo>
                <a:lnTo>
                  <a:pt x="1097" y="215"/>
                </a:lnTo>
                <a:lnTo>
                  <a:pt x="1085" y="226"/>
                </a:lnTo>
                <a:lnTo>
                  <a:pt x="1074" y="237"/>
                </a:lnTo>
                <a:lnTo>
                  <a:pt x="1051" y="260"/>
                </a:lnTo>
                <a:lnTo>
                  <a:pt x="1040" y="294"/>
                </a:lnTo>
                <a:lnTo>
                  <a:pt x="1029" y="328"/>
                </a:lnTo>
                <a:lnTo>
                  <a:pt x="1006" y="373"/>
                </a:lnTo>
                <a:lnTo>
                  <a:pt x="995" y="429"/>
                </a:lnTo>
                <a:lnTo>
                  <a:pt x="972" y="497"/>
                </a:lnTo>
                <a:lnTo>
                  <a:pt x="961" y="565"/>
                </a:lnTo>
                <a:lnTo>
                  <a:pt x="938" y="644"/>
                </a:lnTo>
                <a:lnTo>
                  <a:pt x="916" y="723"/>
                </a:lnTo>
                <a:lnTo>
                  <a:pt x="882" y="802"/>
                </a:lnTo>
                <a:lnTo>
                  <a:pt x="859" y="882"/>
                </a:lnTo>
                <a:lnTo>
                  <a:pt x="814" y="961"/>
                </a:lnTo>
                <a:lnTo>
                  <a:pt x="780" y="1040"/>
                </a:lnTo>
                <a:lnTo>
                  <a:pt x="735" y="1119"/>
                </a:lnTo>
                <a:lnTo>
                  <a:pt x="690" y="1209"/>
                </a:lnTo>
                <a:lnTo>
                  <a:pt x="633" y="1289"/>
                </a:lnTo>
                <a:lnTo>
                  <a:pt x="588" y="1368"/>
                </a:lnTo>
                <a:lnTo>
                  <a:pt x="531" y="1447"/>
                </a:lnTo>
                <a:lnTo>
                  <a:pt x="475" y="1515"/>
                </a:lnTo>
                <a:lnTo>
                  <a:pt x="430" y="1583"/>
                </a:lnTo>
                <a:lnTo>
                  <a:pt x="373" y="1650"/>
                </a:lnTo>
                <a:lnTo>
                  <a:pt x="317" y="1707"/>
                </a:lnTo>
                <a:lnTo>
                  <a:pt x="260" y="1763"/>
                </a:lnTo>
                <a:lnTo>
                  <a:pt x="204" y="1809"/>
                </a:lnTo>
                <a:lnTo>
                  <a:pt x="158" y="1854"/>
                </a:lnTo>
                <a:lnTo>
                  <a:pt x="113" y="1888"/>
                </a:lnTo>
                <a:lnTo>
                  <a:pt x="79" y="1910"/>
                </a:lnTo>
                <a:lnTo>
                  <a:pt x="45" y="1933"/>
                </a:lnTo>
                <a:lnTo>
                  <a:pt x="23" y="1933"/>
                </a:lnTo>
                <a:lnTo>
                  <a:pt x="11" y="1944"/>
                </a:lnTo>
                <a:lnTo>
                  <a:pt x="0" y="194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5"/>
          <p:cNvSpPr/>
          <p:nvPr/>
        </p:nvSpPr>
        <p:spPr>
          <a:xfrm>
            <a:off x="6243480" y="2549520"/>
            <a:ext cx="128880" cy="920880"/>
          </a:xfrm>
          <a:custGeom>
            <a:avLst/>
            <a:gdLst>
              <a:gd name="textAreaLeft" fmla="*/ 0 w 128880"/>
              <a:gd name="textAreaRight" fmla="*/ 129240 w 1288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03" h="1414">
                <a:moveTo>
                  <a:pt x="56" y="1267"/>
                </a:moveTo>
                <a:lnTo>
                  <a:pt x="45" y="1244"/>
                </a:lnTo>
                <a:lnTo>
                  <a:pt x="45" y="1221"/>
                </a:lnTo>
                <a:lnTo>
                  <a:pt x="45" y="1199"/>
                </a:lnTo>
                <a:lnTo>
                  <a:pt x="45" y="1165"/>
                </a:lnTo>
                <a:lnTo>
                  <a:pt x="45" y="1131"/>
                </a:lnTo>
                <a:lnTo>
                  <a:pt x="45" y="1086"/>
                </a:lnTo>
                <a:lnTo>
                  <a:pt x="45" y="1052"/>
                </a:lnTo>
                <a:lnTo>
                  <a:pt x="56" y="1007"/>
                </a:lnTo>
                <a:lnTo>
                  <a:pt x="67" y="916"/>
                </a:lnTo>
                <a:lnTo>
                  <a:pt x="67" y="826"/>
                </a:lnTo>
                <a:lnTo>
                  <a:pt x="79" y="735"/>
                </a:lnTo>
                <a:lnTo>
                  <a:pt x="79" y="645"/>
                </a:lnTo>
                <a:lnTo>
                  <a:pt x="79" y="566"/>
                </a:lnTo>
                <a:lnTo>
                  <a:pt x="79" y="487"/>
                </a:lnTo>
                <a:lnTo>
                  <a:pt x="79" y="419"/>
                </a:lnTo>
                <a:lnTo>
                  <a:pt x="67" y="351"/>
                </a:lnTo>
                <a:lnTo>
                  <a:pt x="56" y="294"/>
                </a:lnTo>
                <a:lnTo>
                  <a:pt x="45" y="249"/>
                </a:lnTo>
                <a:lnTo>
                  <a:pt x="33" y="193"/>
                </a:lnTo>
                <a:lnTo>
                  <a:pt x="33" y="147"/>
                </a:lnTo>
                <a:lnTo>
                  <a:pt x="22" y="114"/>
                </a:lnTo>
                <a:lnTo>
                  <a:pt x="11" y="80"/>
                </a:lnTo>
                <a:lnTo>
                  <a:pt x="11" y="57"/>
                </a:lnTo>
                <a:lnTo>
                  <a:pt x="0" y="34"/>
                </a:lnTo>
                <a:lnTo>
                  <a:pt x="11" y="23"/>
                </a:lnTo>
                <a:lnTo>
                  <a:pt x="11" y="12"/>
                </a:lnTo>
                <a:lnTo>
                  <a:pt x="33" y="12"/>
                </a:lnTo>
                <a:lnTo>
                  <a:pt x="56" y="0"/>
                </a:lnTo>
                <a:lnTo>
                  <a:pt x="79" y="12"/>
                </a:lnTo>
                <a:lnTo>
                  <a:pt x="124" y="12"/>
                </a:lnTo>
                <a:lnTo>
                  <a:pt x="158" y="23"/>
                </a:lnTo>
                <a:lnTo>
                  <a:pt x="203" y="46"/>
                </a:lnTo>
                <a:lnTo>
                  <a:pt x="203" y="181"/>
                </a:lnTo>
                <a:lnTo>
                  <a:pt x="203" y="317"/>
                </a:lnTo>
                <a:lnTo>
                  <a:pt x="203" y="430"/>
                </a:lnTo>
                <a:lnTo>
                  <a:pt x="203" y="543"/>
                </a:lnTo>
                <a:lnTo>
                  <a:pt x="203" y="656"/>
                </a:lnTo>
                <a:lnTo>
                  <a:pt x="203" y="758"/>
                </a:lnTo>
                <a:lnTo>
                  <a:pt x="192" y="848"/>
                </a:lnTo>
                <a:lnTo>
                  <a:pt x="192" y="927"/>
                </a:lnTo>
                <a:lnTo>
                  <a:pt x="192" y="995"/>
                </a:lnTo>
                <a:lnTo>
                  <a:pt x="192" y="1063"/>
                </a:lnTo>
                <a:lnTo>
                  <a:pt x="192" y="1131"/>
                </a:lnTo>
                <a:lnTo>
                  <a:pt x="192" y="1176"/>
                </a:lnTo>
                <a:lnTo>
                  <a:pt x="180" y="1221"/>
                </a:lnTo>
                <a:lnTo>
                  <a:pt x="180" y="1255"/>
                </a:lnTo>
                <a:lnTo>
                  <a:pt x="180" y="1289"/>
                </a:lnTo>
                <a:lnTo>
                  <a:pt x="180" y="1301"/>
                </a:lnTo>
                <a:lnTo>
                  <a:pt x="169" y="1334"/>
                </a:lnTo>
                <a:lnTo>
                  <a:pt x="158" y="1368"/>
                </a:lnTo>
                <a:lnTo>
                  <a:pt x="147" y="1380"/>
                </a:lnTo>
                <a:lnTo>
                  <a:pt x="147" y="1402"/>
                </a:lnTo>
                <a:lnTo>
                  <a:pt x="135" y="1414"/>
                </a:lnTo>
                <a:lnTo>
                  <a:pt x="124" y="1414"/>
                </a:lnTo>
                <a:lnTo>
                  <a:pt x="124" y="1402"/>
                </a:lnTo>
                <a:lnTo>
                  <a:pt x="113" y="1391"/>
                </a:lnTo>
                <a:lnTo>
                  <a:pt x="79" y="1334"/>
                </a:lnTo>
                <a:lnTo>
                  <a:pt x="67" y="1301"/>
                </a:lnTo>
                <a:lnTo>
                  <a:pt x="56" y="12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6"/>
          <p:cNvSpPr/>
          <p:nvPr/>
        </p:nvSpPr>
        <p:spPr>
          <a:xfrm>
            <a:off x="6321600" y="2433600"/>
            <a:ext cx="668160" cy="1071720"/>
          </a:xfrm>
          <a:custGeom>
            <a:avLst/>
            <a:gdLst>
              <a:gd name="textAreaLeft" fmla="*/ 0 w 668160"/>
              <a:gd name="textAreaRight" fmla="*/ 668520 w 66816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51" h="1650">
                <a:moveTo>
                  <a:pt x="701" y="45"/>
                </a:moveTo>
                <a:lnTo>
                  <a:pt x="723" y="22"/>
                </a:lnTo>
                <a:lnTo>
                  <a:pt x="735" y="11"/>
                </a:lnTo>
                <a:lnTo>
                  <a:pt x="757" y="11"/>
                </a:lnTo>
                <a:lnTo>
                  <a:pt x="780" y="0"/>
                </a:lnTo>
                <a:lnTo>
                  <a:pt x="780" y="11"/>
                </a:lnTo>
                <a:lnTo>
                  <a:pt x="791" y="11"/>
                </a:lnTo>
                <a:lnTo>
                  <a:pt x="803" y="11"/>
                </a:lnTo>
                <a:lnTo>
                  <a:pt x="825" y="22"/>
                </a:lnTo>
                <a:lnTo>
                  <a:pt x="848" y="33"/>
                </a:lnTo>
                <a:lnTo>
                  <a:pt x="870" y="45"/>
                </a:lnTo>
                <a:lnTo>
                  <a:pt x="893" y="56"/>
                </a:lnTo>
                <a:lnTo>
                  <a:pt x="927" y="67"/>
                </a:lnTo>
                <a:lnTo>
                  <a:pt x="950" y="90"/>
                </a:lnTo>
                <a:lnTo>
                  <a:pt x="972" y="101"/>
                </a:lnTo>
                <a:lnTo>
                  <a:pt x="995" y="124"/>
                </a:lnTo>
                <a:lnTo>
                  <a:pt x="1006" y="135"/>
                </a:lnTo>
                <a:lnTo>
                  <a:pt x="1029" y="147"/>
                </a:lnTo>
                <a:lnTo>
                  <a:pt x="1040" y="158"/>
                </a:lnTo>
                <a:lnTo>
                  <a:pt x="1040" y="169"/>
                </a:lnTo>
                <a:lnTo>
                  <a:pt x="1051" y="169"/>
                </a:lnTo>
                <a:lnTo>
                  <a:pt x="1051" y="192"/>
                </a:lnTo>
                <a:lnTo>
                  <a:pt x="1040" y="203"/>
                </a:lnTo>
                <a:lnTo>
                  <a:pt x="1029" y="226"/>
                </a:lnTo>
                <a:lnTo>
                  <a:pt x="1017" y="237"/>
                </a:lnTo>
                <a:lnTo>
                  <a:pt x="1006" y="248"/>
                </a:lnTo>
                <a:lnTo>
                  <a:pt x="995" y="248"/>
                </a:lnTo>
                <a:lnTo>
                  <a:pt x="995" y="271"/>
                </a:lnTo>
                <a:lnTo>
                  <a:pt x="983" y="282"/>
                </a:lnTo>
                <a:lnTo>
                  <a:pt x="983" y="305"/>
                </a:lnTo>
                <a:lnTo>
                  <a:pt x="983" y="339"/>
                </a:lnTo>
                <a:lnTo>
                  <a:pt x="972" y="373"/>
                </a:lnTo>
                <a:lnTo>
                  <a:pt x="972" y="407"/>
                </a:lnTo>
                <a:lnTo>
                  <a:pt x="972" y="440"/>
                </a:lnTo>
                <a:lnTo>
                  <a:pt x="972" y="486"/>
                </a:lnTo>
                <a:lnTo>
                  <a:pt x="972" y="531"/>
                </a:lnTo>
                <a:lnTo>
                  <a:pt x="961" y="587"/>
                </a:lnTo>
                <a:lnTo>
                  <a:pt x="961" y="633"/>
                </a:lnTo>
                <a:lnTo>
                  <a:pt x="961" y="700"/>
                </a:lnTo>
                <a:lnTo>
                  <a:pt x="961" y="757"/>
                </a:lnTo>
                <a:lnTo>
                  <a:pt x="961" y="825"/>
                </a:lnTo>
                <a:lnTo>
                  <a:pt x="961" y="893"/>
                </a:lnTo>
                <a:lnTo>
                  <a:pt x="961" y="961"/>
                </a:lnTo>
                <a:lnTo>
                  <a:pt x="961" y="1028"/>
                </a:lnTo>
                <a:lnTo>
                  <a:pt x="961" y="1085"/>
                </a:lnTo>
                <a:lnTo>
                  <a:pt x="961" y="1130"/>
                </a:lnTo>
                <a:lnTo>
                  <a:pt x="961" y="1187"/>
                </a:lnTo>
                <a:lnTo>
                  <a:pt x="961" y="1232"/>
                </a:lnTo>
                <a:lnTo>
                  <a:pt x="950" y="1277"/>
                </a:lnTo>
                <a:lnTo>
                  <a:pt x="950" y="1322"/>
                </a:lnTo>
                <a:lnTo>
                  <a:pt x="950" y="1356"/>
                </a:lnTo>
                <a:lnTo>
                  <a:pt x="950" y="1390"/>
                </a:lnTo>
                <a:lnTo>
                  <a:pt x="950" y="1424"/>
                </a:lnTo>
                <a:lnTo>
                  <a:pt x="950" y="1447"/>
                </a:lnTo>
                <a:lnTo>
                  <a:pt x="938" y="1469"/>
                </a:lnTo>
                <a:lnTo>
                  <a:pt x="938" y="1492"/>
                </a:lnTo>
                <a:lnTo>
                  <a:pt x="938" y="1514"/>
                </a:lnTo>
                <a:lnTo>
                  <a:pt x="927" y="1548"/>
                </a:lnTo>
                <a:lnTo>
                  <a:pt x="916" y="1571"/>
                </a:lnTo>
                <a:lnTo>
                  <a:pt x="916" y="1594"/>
                </a:lnTo>
                <a:lnTo>
                  <a:pt x="904" y="1616"/>
                </a:lnTo>
                <a:lnTo>
                  <a:pt x="893" y="1628"/>
                </a:lnTo>
                <a:lnTo>
                  <a:pt x="882" y="1639"/>
                </a:lnTo>
                <a:lnTo>
                  <a:pt x="882" y="1650"/>
                </a:lnTo>
                <a:lnTo>
                  <a:pt x="870" y="1650"/>
                </a:lnTo>
                <a:lnTo>
                  <a:pt x="859" y="1650"/>
                </a:lnTo>
                <a:lnTo>
                  <a:pt x="859" y="1639"/>
                </a:lnTo>
                <a:lnTo>
                  <a:pt x="848" y="1628"/>
                </a:lnTo>
                <a:lnTo>
                  <a:pt x="837" y="1605"/>
                </a:lnTo>
                <a:lnTo>
                  <a:pt x="825" y="1582"/>
                </a:lnTo>
                <a:lnTo>
                  <a:pt x="814" y="1560"/>
                </a:lnTo>
                <a:lnTo>
                  <a:pt x="803" y="1526"/>
                </a:lnTo>
                <a:lnTo>
                  <a:pt x="791" y="1492"/>
                </a:lnTo>
                <a:lnTo>
                  <a:pt x="780" y="1469"/>
                </a:lnTo>
                <a:lnTo>
                  <a:pt x="769" y="1447"/>
                </a:lnTo>
                <a:lnTo>
                  <a:pt x="769" y="1424"/>
                </a:lnTo>
                <a:lnTo>
                  <a:pt x="769" y="1379"/>
                </a:lnTo>
                <a:lnTo>
                  <a:pt x="780" y="1345"/>
                </a:lnTo>
                <a:lnTo>
                  <a:pt x="780" y="1334"/>
                </a:lnTo>
                <a:lnTo>
                  <a:pt x="780" y="1322"/>
                </a:lnTo>
                <a:lnTo>
                  <a:pt x="780" y="1311"/>
                </a:lnTo>
                <a:lnTo>
                  <a:pt x="780" y="1288"/>
                </a:lnTo>
                <a:lnTo>
                  <a:pt x="780" y="1266"/>
                </a:lnTo>
                <a:lnTo>
                  <a:pt x="791" y="1232"/>
                </a:lnTo>
                <a:lnTo>
                  <a:pt x="791" y="1209"/>
                </a:lnTo>
                <a:lnTo>
                  <a:pt x="791" y="1175"/>
                </a:lnTo>
                <a:lnTo>
                  <a:pt x="791" y="1130"/>
                </a:lnTo>
                <a:lnTo>
                  <a:pt x="791" y="1096"/>
                </a:lnTo>
                <a:lnTo>
                  <a:pt x="791" y="1040"/>
                </a:lnTo>
                <a:lnTo>
                  <a:pt x="791" y="994"/>
                </a:lnTo>
                <a:lnTo>
                  <a:pt x="791" y="949"/>
                </a:lnTo>
                <a:lnTo>
                  <a:pt x="791" y="893"/>
                </a:lnTo>
                <a:lnTo>
                  <a:pt x="803" y="825"/>
                </a:lnTo>
                <a:lnTo>
                  <a:pt x="803" y="768"/>
                </a:lnTo>
                <a:lnTo>
                  <a:pt x="803" y="700"/>
                </a:lnTo>
                <a:lnTo>
                  <a:pt x="803" y="644"/>
                </a:lnTo>
                <a:lnTo>
                  <a:pt x="803" y="587"/>
                </a:lnTo>
                <a:lnTo>
                  <a:pt x="803" y="542"/>
                </a:lnTo>
                <a:lnTo>
                  <a:pt x="803" y="497"/>
                </a:lnTo>
                <a:lnTo>
                  <a:pt x="791" y="452"/>
                </a:lnTo>
                <a:lnTo>
                  <a:pt x="791" y="418"/>
                </a:lnTo>
                <a:lnTo>
                  <a:pt x="791" y="373"/>
                </a:lnTo>
                <a:lnTo>
                  <a:pt x="791" y="350"/>
                </a:lnTo>
                <a:lnTo>
                  <a:pt x="791" y="316"/>
                </a:lnTo>
                <a:lnTo>
                  <a:pt x="791" y="294"/>
                </a:lnTo>
                <a:lnTo>
                  <a:pt x="780" y="271"/>
                </a:lnTo>
                <a:lnTo>
                  <a:pt x="780" y="260"/>
                </a:lnTo>
                <a:lnTo>
                  <a:pt x="780" y="237"/>
                </a:lnTo>
                <a:lnTo>
                  <a:pt x="780" y="226"/>
                </a:lnTo>
                <a:lnTo>
                  <a:pt x="757" y="203"/>
                </a:lnTo>
                <a:lnTo>
                  <a:pt x="735" y="192"/>
                </a:lnTo>
                <a:lnTo>
                  <a:pt x="712" y="192"/>
                </a:lnTo>
                <a:lnTo>
                  <a:pt x="690" y="180"/>
                </a:lnTo>
                <a:lnTo>
                  <a:pt x="678" y="192"/>
                </a:lnTo>
                <a:lnTo>
                  <a:pt x="667" y="192"/>
                </a:lnTo>
                <a:lnTo>
                  <a:pt x="644" y="192"/>
                </a:lnTo>
                <a:lnTo>
                  <a:pt x="622" y="203"/>
                </a:lnTo>
                <a:lnTo>
                  <a:pt x="599" y="203"/>
                </a:lnTo>
                <a:lnTo>
                  <a:pt x="565" y="214"/>
                </a:lnTo>
                <a:lnTo>
                  <a:pt x="531" y="214"/>
                </a:lnTo>
                <a:lnTo>
                  <a:pt x="486" y="226"/>
                </a:lnTo>
                <a:lnTo>
                  <a:pt x="441" y="237"/>
                </a:lnTo>
                <a:lnTo>
                  <a:pt x="396" y="248"/>
                </a:lnTo>
                <a:lnTo>
                  <a:pt x="339" y="260"/>
                </a:lnTo>
                <a:lnTo>
                  <a:pt x="283" y="271"/>
                </a:lnTo>
                <a:lnTo>
                  <a:pt x="226" y="282"/>
                </a:lnTo>
                <a:lnTo>
                  <a:pt x="158" y="294"/>
                </a:lnTo>
                <a:lnTo>
                  <a:pt x="79" y="305"/>
                </a:lnTo>
                <a:lnTo>
                  <a:pt x="0" y="327"/>
                </a:lnTo>
                <a:lnTo>
                  <a:pt x="0" y="214"/>
                </a:lnTo>
                <a:lnTo>
                  <a:pt x="34" y="214"/>
                </a:lnTo>
                <a:lnTo>
                  <a:pt x="68" y="203"/>
                </a:lnTo>
                <a:lnTo>
                  <a:pt x="102" y="203"/>
                </a:lnTo>
                <a:lnTo>
                  <a:pt x="147" y="192"/>
                </a:lnTo>
                <a:lnTo>
                  <a:pt x="203" y="180"/>
                </a:lnTo>
                <a:lnTo>
                  <a:pt x="260" y="169"/>
                </a:lnTo>
                <a:lnTo>
                  <a:pt x="328" y="147"/>
                </a:lnTo>
                <a:lnTo>
                  <a:pt x="396" y="135"/>
                </a:lnTo>
                <a:lnTo>
                  <a:pt x="452" y="124"/>
                </a:lnTo>
                <a:lnTo>
                  <a:pt x="520" y="101"/>
                </a:lnTo>
                <a:lnTo>
                  <a:pt x="565" y="90"/>
                </a:lnTo>
                <a:lnTo>
                  <a:pt x="610" y="79"/>
                </a:lnTo>
                <a:lnTo>
                  <a:pt x="644" y="67"/>
                </a:lnTo>
                <a:lnTo>
                  <a:pt x="678" y="56"/>
                </a:lnTo>
                <a:lnTo>
                  <a:pt x="690" y="45"/>
                </a:lnTo>
                <a:lnTo>
                  <a:pt x="701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7"/>
          <p:cNvSpPr/>
          <p:nvPr/>
        </p:nvSpPr>
        <p:spPr>
          <a:xfrm>
            <a:off x="5589720" y="2887560"/>
            <a:ext cx="517320" cy="765360"/>
          </a:xfrm>
          <a:custGeom>
            <a:avLst/>
            <a:gdLst>
              <a:gd name="textAreaLeft" fmla="*/ 0 w 517320"/>
              <a:gd name="textAreaRight" fmla="*/ 517680 w 51732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814" h="1176">
                <a:moveTo>
                  <a:pt x="746" y="769"/>
                </a:moveTo>
                <a:lnTo>
                  <a:pt x="769" y="826"/>
                </a:lnTo>
                <a:lnTo>
                  <a:pt x="791" y="882"/>
                </a:lnTo>
                <a:lnTo>
                  <a:pt x="802" y="939"/>
                </a:lnTo>
                <a:lnTo>
                  <a:pt x="814" y="995"/>
                </a:lnTo>
                <a:lnTo>
                  <a:pt x="814" y="1018"/>
                </a:lnTo>
                <a:lnTo>
                  <a:pt x="802" y="1041"/>
                </a:lnTo>
                <a:lnTo>
                  <a:pt x="802" y="1063"/>
                </a:lnTo>
                <a:lnTo>
                  <a:pt x="802" y="1086"/>
                </a:lnTo>
                <a:lnTo>
                  <a:pt x="802" y="1108"/>
                </a:lnTo>
                <a:lnTo>
                  <a:pt x="791" y="1120"/>
                </a:lnTo>
                <a:lnTo>
                  <a:pt x="791" y="1131"/>
                </a:lnTo>
                <a:lnTo>
                  <a:pt x="780" y="1131"/>
                </a:lnTo>
                <a:lnTo>
                  <a:pt x="780" y="1154"/>
                </a:lnTo>
                <a:lnTo>
                  <a:pt x="769" y="1165"/>
                </a:lnTo>
                <a:lnTo>
                  <a:pt x="757" y="1165"/>
                </a:lnTo>
                <a:lnTo>
                  <a:pt x="746" y="1176"/>
                </a:lnTo>
                <a:lnTo>
                  <a:pt x="746" y="1165"/>
                </a:lnTo>
                <a:lnTo>
                  <a:pt x="735" y="1165"/>
                </a:lnTo>
                <a:lnTo>
                  <a:pt x="723" y="1154"/>
                </a:lnTo>
                <a:lnTo>
                  <a:pt x="701" y="1131"/>
                </a:lnTo>
                <a:lnTo>
                  <a:pt x="689" y="1108"/>
                </a:lnTo>
                <a:lnTo>
                  <a:pt x="667" y="1086"/>
                </a:lnTo>
                <a:lnTo>
                  <a:pt x="644" y="1052"/>
                </a:lnTo>
                <a:lnTo>
                  <a:pt x="622" y="1018"/>
                </a:lnTo>
                <a:lnTo>
                  <a:pt x="565" y="939"/>
                </a:lnTo>
                <a:lnTo>
                  <a:pt x="509" y="848"/>
                </a:lnTo>
                <a:lnTo>
                  <a:pt x="452" y="769"/>
                </a:lnTo>
                <a:lnTo>
                  <a:pt x="384" y="668"/>
                </a:lnTo>
                <a:lnTo>
                  <a:pt x="316" y="577"/>
                </a:lnTo>
                <a:lnTo>
                  <a:pt x="260" y="475"/>
                </a:lnTo>
                <a:lnTo>
                  <a:pt x="192" y="374"/>
                </a:lnTo>
                <a:lnTo>
                  <a:pt x="124" y="272"/>
                </a:lnTo>
                <a:lnTo>
                  <a:pt x="90" y="215"/>
                </a:lnTo>
                <a:lnTo>
                  <a:pt x="68" y="181"/>
                </a:lnTo>
                <a:lnTo>
                  <a:pt x="45" y="136"/>
                </a:lnTo>
                <a:lnTo>
                  <a:pt x="34" y="102"/>
                </a:lnTo>
                <a:lnTo>
                  <a:pt x="22" y="80"/>
                </a:lnTo>
                <a:lnTo>
                  <a:pt x="11" y="57"/>
                </a:lnTo>
                <a:lnTo>
                  <a:pt x="0" y="34"/>
                </a:lnTo>
                <a:lnTo>
                  <a:pt x="0" y="23"/>
                </a:lnTo>
                <a:lnTo>
                  <a:pt x="0" y="12"/>
                </a:lnTo>
                <a:lnTo>
                  <a:pt x="11" y="12"/>
                </a:lnTo>
                <a:lnTo>
                  <a:pt x="11" y="0"/>
                </a:lnTo>
                <a:lnTo>
                  <a:pt x="22" y="0"/>
                </a:lnTo>
                <a:lnTo>
                  <a:pt x="34" y="0"/>
                </a:lnTo>
                <a:lnTo>
                  <a:pt x="45" y="12"/>
                </a:lnTo>
                <a:lnTo>
                  <a:pt x="56" y="23"/>
                </a:lnTo>
                <a:lnTo>
                  <a:pt x="68" y="34"/>
                </a:lnTo>
                <a:lnTo>
                  <a:pt x="79" y="46"/>
                </a:lnTo>
                <a:lnTo>
                  <a:pt x="102" y="57"/>
                </a:lnTo>
                <a:lnTo>
                  <a:pt x="124" y="80"/>
                </a:lnTo>
                <a:lnTo>
                  <a:pt x="147" y="102"/>
                </a:lnTo>
                <a:lnTo>
                  <a:pt x="169" y="125"/>
                </a:lnTo>
                <a:lnTo>
                  <a:pt x="192" y="147"/>
                </a:lnTo>
                <a:lnTo>
                  <a:pt x="226" y="181"/>
                </a:lnTo>
                <a:lnTo>
                  <a:pt x="249" y="215"/>
                </a:lnTo>
                <a:lnTo>
                  <a:pt x="282" y="249"/>
                </a:lnTo>
                <a:lnTo>
                  <a:pt x="328" y="283"/>
                </a:lnTo>
                <a:lnTo>
                  <a:pt x="362" y="317"/>
                </a:lnTo>
                <a:lnTo>
                  <a:pt x="441" y="396"/>
                </a:lnTo>
                <a:lnTo>
                  <a:pt x="509" y="475"/>
                </a:lnTo>
                <a:lnTo>
                  <a:pt x="565" y="543"/>
                </a:lnTo>
                <a:lnTo>
                  <a:pt x="622" y="600"/>
                </a:lnTo>
                <a:lnTo>
                  <a:pt x="667" y="656"/>
                </a:lnTo>
                <a:lnTo>
                  <a:pt x="701" y="701"/>
                </a:lnTo>
                <a:lnTo>
                  <a:pt x="723" y="735"/>
                </a:lnTo>
                <a:lnTo>
                  <a:pt x="735" y="758"/>
                </a:lnTo>
                <a:lnTo>
                  <a:pt x="746" y="76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8"/>
          <p:cNvSpPr/>
          <p:nvPr/>
        </p:nvSpPr>
        <p:spPr>
          <a:xfrm>
            <a:off x="5948280" y="2747880"/>
            <a:ext cx="739800" cy="1265400"/>
          </a:xfrm>
          <a:custGeom>
            <a:avLst/>
            <a:gdLst>
              <a:gd name="textAreaLeft" fmla="*/ 0 w 739800"/>
              <a:gd name="textAreaRight" fmla="*/ 740160 w 739800"/>
              <a:gd name="textAreaTop" fmla="*/ 0 h 1265400"/>
              <a:gd name="textAreaBottom" fmla="*/ 1265760 h 1265400"/>
            </a:gdLst>
            <a:ahLst/>
            <a:rect l="textAreaLeft" t="textAreaTop" r="textAreaRight" b="textAreaBottom"/>
            <a:pathLst>
              <a:path w="1164" h="1944">
                <a:moveTo>
                  <a:pt x="565" y="1662"/>
                </a:moveTo>
                <a:lnTo>
                  <a:pt x="486" y="1718"/>
                </a:lnTo>
                <a:lnTo>
                  <a:pt x="396" y="1786"/>
                </a:lnTo>
                <a:lnTo>
                  <a:pt x="294" y="1831"/>
                </a:lnTo>
                <a:lnTo>
                  <a:pt x="192" y="1876"/>
                </a:lnTo>
                <a:lnTo>
                  <a:pt x="147" y="1899"/>
                </a:lnTo>
                <a:lnTo>
                  <a:pt x="102" y="1910"/>
                </a:lnTo>
                <a:lnTo>
                  <a:pt x="68" y="1933"/>
                </a:lnTo>
                <a:lnTo>
                  <a:pt x="45" y="1933"/>
                </a:lnTo>
                <a:lnTo>
                  <a:pt x="23" y="1944"/>
                </a:lnTo>
                <a:lnTo>
                  <a:pt x="11" y="1944"/>
                </a:lnTo>
                <a:lnTo>
                  <a:pt x="0" y="1933"/>
                </a:lnTo>
                <a:lnTo>
                  <a:pt x="0" y="1922"/>
                </a:lnTo>
                <a:lnTo>
                  <a:pt x="0" y="1910"/>
                </a:lnTo>
                <a:lnTo>
                  <a:pt x="23" y="1899"/>
                </a:lnTo>
                <a:lnTo>
                  <a:pt x="34" y="1876"/>
                </a:lnTo>
                <a:lnTo>
                  <a:pt x="68" y="1854"/>
                </a:lnTo>
                <a:lnTo>
                  <a:pt x="102" y="1831"/>
                </a:lnTo>
                <a:lnTo>
                  <a:pt x="147" y="1809"/>
                </a:lnTo>
                <a:lnTo>
                  <a:pt x="192" y="1775"/>
                </a:lnTo>
                <a:lnTo>
                  <a:pt x="294" y="1707"/>
                </a:lnTo>
                <a:lnTo>
                  <a:pt x="384" y="1650"/>
                </a:lnTo>
                <a:lnTo>
                  <a:pt x="418" y="1616"/>
                </a:lnTo>
                <a:lnTo>
                  <a:pt x="464" y="1582"/>
                </a:lnTo>
                <a:lnTo>
                  <a:pt x="497" y="1549"/>
                </a:lnTo>
                <a:lnTo>
                  <a:pt x="531" y="1515"/>
                </a:lnTo>
                <a:lnTo>
                  <a:pt x="565" y="1481"/>
                </a:lnTo>
                <a:lnTo>
                  <a:pt x="588" y="1447"/>
                </a:lnTo>
                <a:lnTo>
                  <a:pt x="622" y="1402"/>
                </a:lnTo>
                <a:lnTo>
                  <a:pt x="656" y="1356"/>
                </a:lnTo>
                <a:lnTo>
                  <a:pt x="690" y="1311"/>
                </a:lnTo>
                <a:lnTo>
                  <a:pt x="712" y="1266"/>
                </a:lnTo>
                <a:lnTo>
                  <a:pt x="746" y="1209"/>
                </a:lnTo>
                <a:lnTo>
                  <a:pt x="780" y="1153"/>
                </a:lnTo>
                <a:lnTo>
                  <a:pt x="825" y="1051"/>
                </a:lnTo>
                <a:lnTo>
                  <a:pt x="871" y="938"/>
                </a:lnTo>
                <a:lnTo>
                  <a:pt x="893" y="882"/>
                </a:lnTo>
                <a:lnTo>
                  <a:pt x="904" y="814"/>
                </a:lnTo>
                <a:lnTo>
                  <a:pt x="916" y="757"/>
                </a:lnTo>
                <a:lnTo>
                  <a:pt x="927" y="701"/>
                </a:lnTo>
                <a:lnTo>
                  <a:pt x="938" y="599"/>
                </a:lnTo>
                <a:lnTo>
                  <a:pt x="950" y="497"/>
                </a:lnTo>
                <a:lnTo>
                  <a:pt x="950" y="395"/>
                </a:lnTo>
                <a:lnTo>
                  <a:pt x="950" y="305"/>
                </a:lnTo>
                <a:lnTo>
                  <a:pt x="950" y="260"/>
                </a:lnTo>
                <a:lnTo>
                  <a:pt x="950" y="226"/>
                </a:lnTo>
                <a:lnTo>
                  <a:pt x="950" y="192"/>
                </a:lnTo>
                <a:lnTo>
                  <a:pt x="938" y="169"/>
                </a:lnTo>
                <a:lnTo>
                  <a:pt x="938" y="147"/>
                </a:lnTo>
                <a:lnTo>
                  <a:pt x="927" y="124"/>
                </a:lnTo>
                <a:lnTo>
                  <a:pt x="927" y="113"/>
                </a:lnTo>
                <a:lnTo>
                  <a:pt x="916" y="101"/>
                </a:lnTo>
                <a:lnTo>
                  <a:pt x="904" y="79"/>
                </a:lnTo>
                <a:lnTo>
                  <a:pt x="893" y="56"/>
                </a:lnTo>
                <a:lnTo>
                  <a:pt x="882" y="45"/>
                </a:lnTo>
                <a:lnTo>
                  <a:pt x="893" y="22"/>
                </a:lnTo>
                <a:lnTo>
                  <a:pt x="904" y="11"/>
                </a:lnTo>
                <a:lnTo>
                  <a:pt x="927" y="0"/>
                </a:lnTo>
                <a:lnTo>
                  <a:pt x="938" y="0"/>
                </a:lnTo>
                <a:lnTo>
                  <a:pt x="950" y="0"/>
                </a:lnTo>
                <a:lnTo>
                  <a:pt x="972" y="0"/>
                </a:lnTo>
                <a:lnTo>
                  <a:pt x="995" y="11"/>
                </a:lnTo>
                <a:lnTo>
                  <a:pt x="1029" y="22"/>
                </a:lnTo>
                <a:lnTo>
                  <a:pt x="1063" y="22"/>
                </a:lnTo>
                <a:lnTo>
                  <a:pt x="1119" y="45"/>
                </a:lnTo>
                <a:lnTo>
                  <a:pt x="1131" y="56"/>
                </a:lnTo>
                <a:lnTo>
                  <a:pt x="1142" y="68"/>
                </a:lnTo>
                <a:lnTo>
                  <a:pt x="1153" y="90"/>
                </a:lnTo>
                <a:lnTo>
                  <a:pt x="1164" y="101"/>
                </a:lnTo>
                <a:lnTo>
                  <a:pt x="1164" y="113"/>
                </a:lnTo>
                <a:lnTo>
                  <a:pt x="1164" y="124"/>
                </a:lnTo>
                <a:lnTo>
                  <a:pt x="1164" y="147"/>
                </a:lnTo>
                <a:lnTo>
                  <a:pt x="1164" y="169"/>
                </a:lnTo>
                <a:lnTo>
                  <a:pt x="1164" y="192"/>
                </a:lnTo>
                <a:lnTo>
                  <a:pt x="1164" y="226"/>
                </a:lnTo>
                <a:lnTo>
                  <a:pt x="1153" y="260"/>
                </a:lnTo>
                <a:lnTo>
                  <a:pt x="1153" y="305"/>
                </a:lnTo>
                <a:lnTo>
                  <a:pt x="1142" y="350"/>
                </a:lnTo>
                <a:lnTo>
                  <a:pt x="1142" y="395"/>
                </a:lnTo>
                <a:lnTo>
                  <a:pt x="1131" y="452"/>
                </a:lnTo>
                <a:lnTo>
                  <a:pt x="1119" y="508"/>
                </a:lnTo>
                <a:lnTo>
                  <a:pt x="1119" y="565"/>
                </a:lnTo>
                <a:lnTo>
                  <a:pt x="1108" y="633"/>
                </a:lnTo>
                <a:lnTo>
                  <a:pt x="1085" y="701"/>
                </a:lnTo>
                <a:lnTo>
                  <a:pt x="1074" y="768"/>
                </a:lnTo>
                <a:lnTo>
                  <a:pt x="1063" y="836"/>
                </a:lnTo>
                <a:lnTo>
                  <a:pt x="1040" y="915"/>
                </a:lnTo>
                <a:lnTo>
                  <a:pt x="1029" y="983"/>
                </a:lnTo>
                <a:lnTo>
                  <a:pt x="1006" y="1040"/>
                </a:lnTo>
                <a:lnTo>
                  <a:pt x="984" y="1108"/>
                </a:lnTo>
                <a:lnTo>
                  <a:pt x="950" y="1175"/>
                </a:lnTo>
                <a:lnTo>
                  <a:pt x="927" y="1232"/>
                </a:lnTo>
                <a:lnTo>
                  <a:pt x="893" y="1288"/>
                </a:lnTo>
                <a:lnTo>
                  <a:pt x="859" y="1345"/>
                </a:lnTo>
                <a:lnTo>
                  <a:pt x="825" y="1390"/>
                </a:lnTo>
                <a:lnTo>
                  <a:pt x="780" y="1447"/>
                </a:lnTo>
                <a:lnTo>
                  <a:pt x="746" y="1492"/>
                </a:lnTo>
                <a:lnTo>
                  <a:pt x="701" y="1537"/>
                </a:lnTo>
                <a:lnTo>
                  <a:pt x="656" y="1582"/>
                </a:lnTo>
                <a:lnTo>
                  <a:pt x="611" y="1616"/>
                </a:lnTo>
                <a:lnTo>
                  <a:pt x="565" y="166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9"/>
          <p:cNvSpPr/>
          <p:nvPr/>
        </p:nvSpPr>
        <p:spPr>
          <a:xfrm>
            <a:off x="6622920" y="3395520"/>
            <a:ext cx="754200" cy="704880"/>
          </a:xfrm>
          <a:custGeom>
            <a:avLst/>
            <a:gdLst>
              <a:gd name="textAreaLeft" fmla="*/ 0 w 754200"/>
              <a:gd name="textAreaRight" fmla="*/ 754560 w 75420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187" h="1085">
                <a:moveTo>
                  <a:pt x="350" y="870"/>
                </a:moveTo>
                <a:lnTo>
                  <a:pt x="407" y="881"/>
                </a:lnTo>
                <a:lnTo>
                  <a:pt x="475" y="881"/>
                </a:lnTo>
                <a:lnTo>
                  <a:pt x="531" y="881"/>
                </a:lnTo>
                <a:lnTo>
                  <a:pt x="565" y="881"/>
                </a:lnTo>
                <a:lnTo>
                  <a:pt x="599" y="881"/>
                </a:lnTo>
                <a:lnTo>
                  <a:pt x="667" y="870"/>
                </a:lnTo>
                <a:lnTo>
                  <a:pt x="723" y="859"/>
                </a:lnTo>
                <a:lnTo>
                  <a:pt x="780" y="836"/>
                </a:lnTo>
                <a:lnTo>
                  <a:pt x="814" y="825"/>
                </a:lnTo>
                <a:lnTo>
                  <a:pt x="836" y="814"/>
                </a:lnTo>
                <a:lnTo>
                  <a:pt x="859" y="802"/>
                </a:lnTo>
                <a:lnTo>
                  <a:pt x="882" y="780"/>
                </a:lnTo>
                <a:lnTo>
                  <a:pt x="904" y="746"/>
                </a:lnTo>
                <a:lnTo>
                  <a:pt x="915" y="723"/>
                </a:lnTo>
                <a:lnTo>
                  <a:pt x="938" y="678"/>
                </a:lnTo>
                <a:lnTo>
                  <a:pt x="949" y="633"/>
                </a:lnTo>
                <a:lnTo>
                  <a:pt x="961" y="587"/>
                </a:lnTo>
                <a:lnTo>
                  <a:pt x="972" y="531"/>
                </a:lnTo>
                <a:lnTo>
                  <a:pt x="983" y="474"/>
                </a:lnTo>
                <a:lnTo>
                  <a:pt x="995" y="429"/>
                </a:lnTo>
                <a:lnTo>
                  <a:pt x="995" y="395"/>
                </a:lnTo>
                <a:lnTo>
                  <a:pt x="1006" y="361"/>
                </a:lnTo>
                <a:lnTo>
                  <a:pt x="1017" y="327"/>
                </a:lnTo>
                <a:lnTo>
                  <a:pt x="1029" y="316"/>
                </a:lnTo>
                <a:lnTo>
                  <a:pt x="1029" y="293"/>
                </a:lnTo>
                <a:lnTo>
                  <a:pt x="1040" y="293"/>
                </a:lnTo>
                <a:lnTo>
                  <a:pt x="1040" y="282"/>
                </a:lnTo>
                <a:lnTo>
                  <a:pt x="1051" y="293"/>
                </a:lnTo>
                <a:lnTo>
                  <a:pt x="1051" y="305"/>
                </a:lnTo>
                <a:lnTo>
                  <a:pt x="1062" y="327"/>
                </a:lnTo>
                <a:lnTo>
                  <a:pt x="1062" y="350"/>
                </a:lnTo>
                <a:lnTo>
                  <a:pt x="1074" y="395"/>
                </a:lnTo>
                <a:lnTo>
                  <a:pt x="1085" y="429"/>
                </a:lnTo>
                <a:lnTo>
                  <a:pt x="1085" y="486"/>
                </a:lnTo>
                <a:lnTo>
                  <a:pt x="1085" y="531"/>
                </a:lnTo>
                <a:lnTo>
                  <a:pt x="1096" y="576"/>
                </a:lnTo>
                <a:lnTo>
                  <a:pt x="1108" y="621"/>
                </a:lnTo>
                <a:lnTo>
                  <a:pt x="1119" y="667"/>
                </a:lnTo>
                <a:lnTo>
                  <a:pt x="1130" y="700"/>
                </a:lnTo>
                <a:lnTo>
                  <a:pt x="1142" y="723"/>
                </a:lnTo>
                <a:lnTo>
                  <a:pt x="1153" y="746"/>
                </a:lnTo>
                <a:lnTo>
                  <a:pt x="1175" y="768"/>
                </a:lnTo>
                <a:lnTo>
                  <a:pt x="1187" y="780"/>
                </a:lnTo>
                <a:lnTo>
                  <a:pt x="1187" y="802"/>
                </a:lnTo>
                <a:lnTo>
                  <a:pt x="1187" y="825"/>
                </a:lnTo>
                <a:lnTo>
                  <a:pt x="1187" y="847"/>
                </a:lnTo>
                <a:lnTo>
                  <a:pt x="1175" y="859"/>
                </a:lnTo>
                <a:lnTo>
                  <a:pt x="1164" y="881"/>
                </a:lnTo>
                <a:lnTo>
                  <a:pt x="1142" y="904"/>
                </a:lnTo>
                <a:lnTo>
                  <a:pt x="1119" y="915"/>
                </a:lnTo>
                <a:lnTo>
                  <a:pt x="1096" y="938"/>
                </a:lnTo>
                <a:lnTo>
                  <a:pt x="1074" y="960"/>
                </a:lnTo>
                <a:lnTo>
                  <a:pt x="1040" y="983"/>
                </a:lnTo>
                <a:lnTo>
                  <a:pt x="1006" y="994"/>
                </a:lnTo>
                <a:lnTo>
                  <a:pt x="961" y="1017"/>
                </a:lnTo>
                <a:lnTo>
                  <a:pt x="927" y="1028"/>
                </a:lnTo>
                <a:lnTo>
                  <a:pt x="882" y="1040"/>
                </a:lnTo>
                <a:lnTo>
                  <a:pt x="836" y="1051"/>
                </a:lnTo>
                <a:lnTo>
                  <a:pt x="735" y="1062"/>
                </a:lnTo>
                <a:lnTo>
                  <a:pt x="633" y="1074"/>
                </a:lnTo>
                <a:lnTo>
                  <a:pt x="542" y="1085"/>
                </a:lnTo>
                <a:lnTo>
                  <a:pt x="497" y="1074"/>
                </a:lnTo>
                <a:lnTo>
                  <a:pt x="452" y="1074"/>
                </a:lnTo>
                <a:lnTo>
                  <a:pt x="407" y="1074"/>
                </a:lnTo>
                <a:lnTo>
                  <a:pt x="362" y="1062"/>
                </a:lnTo>
                <a:lnTo>
                  <a:pt x="316" y="1051"/>
                </a:lnTo>
                <a:lnTo>
                  <a:pt x="282" y="1040"/>
                </a:lnTo>
                <a:lnTo>
                  <a:pt x="248" y="1028"/>
                </a:lnTo>
                <a:lnTo>
                  <a:pt x="215" y="1017"/>
                </a:lnTo>
                <a:lnTo>
                  <a:pt x="192" y="994"/>
                </a:lnTo>
                <a:lnTo>
                  <a:pt x="169" y="972"/>
                </a:lnTo>
                <a:lnTo>
                  <a:pt x="135" y="949"/>
                </a:lnTo>
                <a:lnTo>
                  <a:pt x="113" y="927"/>
                </a:lnTo>
                <a:lnTo>
                  <a:pt x="90" y="904"/>
                </a:lnTo>
                <a:lnTo>
                  <a:pt x="79" y="881"/>
                </a:lnTo>
                <a:lnTo>
                  <a:pt x="68" y="847"/>
                </a:lnTo>
                <a:lnTo>
                  <a:pt x="56" y="814"/>
                </a:lnTo>
                <a:lnTo>
                  <a:pt x="45" y="780"/>
                </a:lnTo>
                <a:lnTo>
                  <a:pt x="45" y="757"/>
                </a:lnTo>
                <a:lnTo>
                  <a:pt x="34" y="678"/>
                </a:lnTo>
                <a:lnTo>
                  <a:pt x="34" y="644"/>
                </a:lnTo>
                <a:lnTo>
                  <a:pt x="34" y="599"/>
                </a:lnTo>
                <a:lnTo>
                  <a:pt x="34" y="565"/>
                </a:lnTo>
                <a:lnTo>
                  <a:pt x="34" y="520"/>
                </a:lnTo>
                <a:lnTo>
                  <a:pt x="34" y="463"/>
                </a:lnTo>
                <a:lnTo>
                  <a:pt x="45" y="418"/>
                </a:lnTo>
                <a:lnTo>
                  <a:pt x="45" y="361"/>
                </a:lnTo>
                <a:lnTo>
                  <a:pt x="34" y="316"/>
                </a:lnTo>
                <a:lnTo>
                  <a:pt x="34" y="282"/>
                </a:lnTo>
                <a:lnTo>
                  <a:pt x="34" y="237"/>
                </a:lnTo>
                <a:lnTo>
                  <a:pt x="34" y="203"/>
                </a:lnTo>
                <a:lnTo>
                  <a:pt x="34" y="180"/>
                </a:lnTo>
                <a:lnTo>
                  <a:pt x="34" y="158"/>
                </a:lnTo>
                <a:lnTo>
                  <a:pt x="22" y="135"/>
                </a:lnTo>
                <a:lnTo>
                  <a:pt x="22" y="101"/>
                </a:lnTo>
                <a:lnTo>
                  <a:pt x="11" y="67"/>
                </a:lnTo>
                <a:lnTo>
                  <a:pt x="0" y="45"/>
                </a:lnTo>
                <a:lnTo>
                  <a:pt x="0" y="33"/>
                </a:lnTo>
                <a:lnTo>
                  <a:pt x="0" y="22"/>
                </a:lnTo>
                <a:lnTo>
                  <a:pt x="11" y="11"/>
                </a:lnTo>
                <a:lnTo>
                  <a:pt x="22" y="11"/>
                </a:lnTo>
                <a:lnTo>
                  <a:pt x="45" y="0"/>
                </a:lnTo>
                <a:lnTo>
                  <a:pt x="56" y="11"/>
                </a:lnTo>
                <a:lnTo>
                  <a:pt x="90" y="11"/>
                </a:lnTo>
                <a:lnTo>
                  <a:pt x="113" y="33"/>
                </a:lnTo>
                <a:lnTo>
                  <a:pt x="135" y="45"/>
                </a:lnTo>
                <a:lnTo>
                  <a:pt x="147" y="56"/>
                </a:lnTo>
                <a:lnTo>
                  <a:pt x="169" y="90"/>
                </a:lnTo>
                <a:lnTo>
                  <a:pt x="192" y="124"/>
                </a:lnTo>
                <a:lnTo>
                  <a:pt x="192" y="169"/>
                </a:lnTo>
                <a:lnTo>
                  <a:pt x="192" y="192"/>
                </a:lnTo>
                <a:lnTo>
                  <a:pt x="192" y="226"/>
                </a:lnTo>
                <a:lnTo>
                  <a:pt x="169" y="293"/>
                </a:lnTo>
                <a:lnTo>
                  <a:pt x="158" y="361"/>
                </a:lnTo>
                <a:lnTo>
                  <a:pt x="158" y="440"/>
                </a:lnTo>
                <a:lnTo>
                  <a:pt x="158" y="474"/>
                </a:lnTo>
                <a:lnTo>
                  <a:pt x="169" y="520"/>
                </a:lnTo>
                <a:lnTo>
                  <a:pt x="169" y="565"/>
                </a:lnTo>
                <a:lnTo>
                  <a:pt x="169" y="599"/>
                </a:lnTo>
                <a:lnTo>
                  <a:pt x="169" y="633"/>
                </a:lnTo>
                <a:lnTo>
                  <a:pt x="169" y="667"/>
                </a:lnTo>
                <a:lnTo>
                  <a:pt x="181" y="700"/>
                </a:lnTo>
                <a:lnTo>
                  <a:pt x="181" y="723"/>
                </a:lnTo>
                <a:lnTo>
                  <a:pt x="192" y="746"/>
                </a:lnTo>
                <a:lnTo>
                  <a:pt x="203" y="768"/>
                </a:lnTo>
                <a:lnTo>
                  <a:pt x="226" y="802"/>
                </a:lnTo>
                <a:lnTo>
                  <a:pt x="260" y="836"/>
                </a:lnTo>
                <a:lnTo>
                  <a:pt x="294" y="859"/>
                </a:lnTo>
                <a:lnTo>
                  <a:pt x="350" y="8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900000" y="2214720"/>
            <a:ext cx="82454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井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沿    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    口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  大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弄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无边无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里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3"/>
          <p:cNvSpPr/>
          <p:nvPr/>
        </p:nvSpPr>
        <p:spPr>
          <a:xfrm>
            <a:off x="1116000" y="1422360"/>
            <a:ext cx="922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9"/>
          <p:cNvSpPr/>
          <p:nvPr/>
        </p:nvSpPr>
        <p:spPr>
          <a:xfrm>
            <a:off x="2321280" y="1422360"/>
            <a:ext cx="1184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gu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"/>
          <p:cNvGrpSpPr/>
          <p:nvPr/>
        </p:nvGrpSpPr>
        <p:grpSpPr>
          <a:xfrm>
            <a:off x="612720" y="270000"/>
            <a:ext cx="2905200" cy="682560"/>
            <a:chOff x="612720" y="270000"/>
            <a:chExt cx="2905200" cy="682560"/>
          </a:xfrm>
        </p:grpSpPr>
        <p:sp>
          <p:nvSpPr>
            <p:cNvPr id="86" name="圆角矩形 31"/>
            <p:cNvSpPr/>
            <p:nvPr/>
          </p:nvSpPr>
          <p:spPr>
            <a:xfrm>
              <a:off x="1428480" y="41112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12720" y="27000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文本框 16"/>
            <p:cNvSpPr/>
            <p:nvPr/>
          </p:nvSpPr>
          <p:spPr>
            <a:xfrm>
              <a:off x="1688040" y="4309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矩形 34"/>
          <p:cNvSpPr/>
          <p:nvPr/>
        </p:nvSpPr>
        <p:spPr>
          <a:xfrm>
            <a:off x="4733640" y="1494000"/>
            <a:ext cx="70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k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5"/>
          <p:cNvSpPr/>
          <p:nvPr/>
        </p:nvSpPr>
        <p:spPr>
          <a:xfrm>
            <a:off x="6032520" y="1494000"/>
            <a:ext cx="72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6"/>
          <p:cNvSpPr/>
          <p:nvPr/>
        </p:nvSpPr>
        <p:spPr>
          <a:xfrm>
            <a:off x="7527600" y="1494000"/>
            <a:ext cx="95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7"/>
          <p:cNvSpPr/>
          <p:nvPr/>
        </p:nvSpPr>
        <p:spPr>
          <a:xfrm>
            <a:off x="662400" y="3006720"/>
            <a:ext cx="128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ò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8"/>
          <p:cNvSpPr/>
          <p:nvPr/>
        </p:nvSpPr>
        <p:spPr>
          <a:xfrm>
            <a:off x="1779840" y="3006720"/>
            <a:ext cx="914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9"/>
          <p:cNvSpPr/>
          <p:nvPr/>
        </p:nvSpPr>
        <p:spPr>
          <a:xfrm>
            <a:off x="4544640" y="3078000"/>
            <a:ext cx="40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0"/>
          <p:cNvSpPr/>
          <p:nvPr/>
        </p:nvSpPr>
        <p:spPr>
          <a:xfrm>
            <a:off x="5537520" y="3006720"/>
            <a:ext cx="726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1"/>
          <p:cNvSpPr/>
          <p:nvPr/>
        </p:nvSpPr>
        <p:spPr>
          <a:xfrm>
            <a:off x="7105680" y="3006720"/>
            <a:ext cx="75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任意多边形 19"/>
          <p:cNvSpPr/>
          <p:nvPr/>
        </p:nvSpPr>
        <p:spPr>
          <a:xfrm>
            <a:off x="1706400" y="2630520"/>
            <a:ext cx="6338880" cy="324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92520" bIns="9252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沿  观  渴  喝  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弄  错  际  哪  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0"/>
          <p:cNvSpPr/>
          <p:nvPr/>
        </p:nvSpPr>
        <p:spPr>
          <a:xfrm>
            <a:off x="6710400" y="3745080"/>
            <a:ext cx="106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1"/>
          <p:cNvSpPr/>
          <p:nvPr/>
        </p:nvSpPr>
        <p:spPr>
          <a:xfrm>
            <a:off x="1617840" y="2324160"/>
            <a:ext cx="102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2"/>
          <p:cNvSpPr/>
          <p:nvPr/>
        </p:nvSpPr>
        <p:spPr>
          <a:xfrm>
            <a:off x="2640600" y="2332080"/>
            <a:ext cx="135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gu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3"/>
          <p:cNvSpPr/>
          <p:nvPr/>
        </p:nvSpPr>
        <p:spPr>
          <a:xfrm>
            <a:off x="4166280" y="2338560"/>
            <a:ext cx="73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4"/>
          <p:cNvSpPr/>
          <p:nvPr/>
        </p:nvSpPr>
        <p:spPr>
          <a:xfrm>
            <a:off x="5400720" y="2343240"/>
            <a:ext cx="75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5"/>
          <p:cNvSpPr/>
          <p:nvPr/>
        </p:nvSpPr>
        <p:spPr>
          <a:xfrm>
            <a:off x="6473880" y="2347920"/>
            <a:ext cx="106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9"/>
          <p:cNvSpPr/>
          <p:nvPr/>
        </p:nvSpPr>
        <p:spPr>
          <a:xfrm>
            <a:off x="1459440" y="3762360"/>
            <a:ext cx="147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ò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0"/>
          <p:cNvSpPr/>
          <p:nvPr/>
        </p:nvSpPr>
        <p:spPr>
          <a:xfrm>
            <a:off x="2860560" y="3762360"/>
            <a:ext cx="100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u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1"/>
          <p:cNvSpPr/>
          <p:nvPr/>
        </p:nvSpPr>
        <p:spPr>
          <a:xfrm>
            <a:off x="4335840" y="3765600"/>
            <a:ext cx="46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2"/>
          <p:cNvSpPr/>
          <p:nvPr/>
        </p:nvSpPr>
        <p:spPr>
          <a:xfrm>
            <a:off x="5398560" y="3749760"/>
            <a:ext cx="76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n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2"/>
          <p:cNvGrpSpPr/>
          <p:nvPr/>
        </p:nvGrpSpPr>
        <p:grpSpPr>
          <a:xfrm>
            <a:off x="730080" y="1228680"/>
            <a:ext cx="2905200" cy="682560"/>
            <a:chOff x="730080" y="1228680"/>
            <a:chExt cx="2905200" cy="682560"/>
          </a:xfrm>
        </p:grpSpPr>
        <p:sp>
          <p:nvSpPr>
            <p:cNvPr id="109" name="圆角矩形 34"/>
            <p:cNvSpPr/>
            <p:nvPr/>
          </p:nvSpPr>
          <p:spPr>
            <a:xfrm>
              <a:off x="1545840" y="13698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286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文本框 16"/>
            <p:cNvSpPr/>
            <p:nvPr/>
          </p:nvSpPr>
          <p:spPr>
            <a:xfrm>
              <a:off x="1805400" y="1389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"/>
          <p:cNvSpPr/>
          <p:nvPr/>
        </p:nvSpPr>
        <p:spPr>
          <a:xfrm>
            <a:off x="446040" y="1949400"/>
            <a:ext cx="780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借助拼音，自主练读课文，看谁能读得正确、流利、通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1"/>
          <p:cNvSpPr/>
          <p:nvPr/>
        </p:nvSpPr>
        <p:spPr>
          <a:xfrm>
            <a:off x="757080" y="2070000"/>
            <a:ext cx="780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921b95"/>
                </a:solidFill>
                <a:latin typeface="黑体"/>
                <a:ea typeface="黑体"/>
              </a:rPr>
              <a:t>同桌合作读课文第一自然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21b95"/>
                </a:solidFill>
                <a:latin typeface="黑体"/>
                <a:ea typeface="黑体"/>
              </a:rPr>
              <a:t>一人扮演小鸟，一人扮演青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填一填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2430360"/>
            <a:ext cx="8231040" cy="18050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蛙坐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)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到的天只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鸟落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)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到的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      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8:52:00Z</dcterms:created>
  <dc:creator>雨林木风</dc:creator>
  <dc:description/>
  <dc:language>en-US</dc:language>
  <cp:lastModifiedBy>ASUS</cp:lastModifiedBy>
  <dcterms:modified xsi:type="dcterms:W3CDTF">2018-10-05T06:07:34Z</dcterms:modified>
  <cp:revision>60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