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7019925"/>
  <p:notesSz cx="681831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84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244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A6F6-69BA-41BC-93EA-9BB4F0CDBE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6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A6FE-A644-4C7F-989E-BDCB34A702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9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1EDC-61A9-48DB-B039-F9857151F8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2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BDEE-0B54-4D34-822C-FC395549BA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EF63-5110-484F-AA49-44002FFAEF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8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ACC8-1DE3-40E7-BB8A-AEB5B328CE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1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FCEB-DB54-41A1-8250-F1A428BF346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C8A1-2B3C-4BE1-AEA0-2A04350536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B7C9-7F5F-42E1-800F-1ED5AE8C04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77D-4019-4E7C-AA09-0274C5C5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990-6D51-4796-9FA1-2B32EF32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4E4-4478-4E05-A83C-4F18A154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84E9-F901-4110-9E1B-CECB9D53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7344-E341-4627-883B-A6116B9C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61FB-375F-45FE-BBEB-86752ABF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4CC-8BC0-4081-BF26-6AC26D86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885-5899-454C-93BF-E6FA5DD3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0800"/>
            <a:ext cx="823104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7F2-11B9-44AE-868B-E41D14B8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5A4C-6044-4A64-B215-924C6791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ECDC-D43C-4D14-B2C1-9670026A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416-DD88-45F9-8865-6696A42C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79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19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41520" indent="-2206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1337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6400800"/>
            <a:ext cx="28969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400800"/>
            <a:ext cx="213336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E90B-C924-4D18-9402-964E06BB8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855720" y="2540160"/>
            <a:ext cx="625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13. </a:t>
            </a:r>
            <a:r>
              <a:rPr b="0" lang="zh-CN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寒号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507960" y="1136520"/>
            <a:ext cx="52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编教材二年级上册第五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寒号鸟和喜鹊分别住在哪里？文中哪一自然段介绍了它们的住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读第一自然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566720"/>
            <a:ext cx="8231040" cy="46324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0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山脚下有一堵石崖，崖山有一道缝，寒号鸟就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当做自己的窝。石崖前面有一条小河，河边有一棵大树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住着喜鹊。寒号鸟和喜鹊面对面住着，成了邻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997440" y="214308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石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2989440" y="336708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杨树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1538720584891.jpg"/>
          <p:cNvPicPr/>
          <p:nvPr/>
        </p:nvPicPr>
        <p:blipFill>
          <a:blip r:embed="rId1"/>
          <a:stretch/>
        </p:blipFill>
        <p:spPr>
          <a:xfrm>
            <a:off x="252360" y="919080"/>
            <a:ext cx="4103640" cy="5381640"/>
          </a:xfrm>
          <a:prstGeom prst="rect">
            <a:avLst/>
          </a:prstGeom>
          <a:ln w="0">
            <a:noFill/>
          </a:ln>
        </p:spPr>
      </p:pic>
      <p:cxnSp>
        <p:nvCxnSpPr>
          <p:cNvPr id="90" name="直接箭头连接符 4"/>
          <p:cNvCxnSpPr/>
          <p:nvPr/>
        </p:nvCxnSpPr>
        <p:spPr>
          <a:xfrm flipV="1">
            <a:off x="2412720" y="558360"/>
            <a:ext cx="2664360" cy="7200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1" name="TextBox 5"/>
          <p:cNvSpPr/>
          <p:nvPr/>
        </p:nvSpPr>
        <p:spPr>
          <a:xfrm>
            <a:off x="5581800" y="485640"/>
            <a:ext cx="35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5437080" y="315108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接箭头连接符 8"/>
          <p:cNvCxnSpPr/>
          <p:nvPr/>
        </p:nvCxnSpPr>
        <p:spPr>
          <a:xfrm flipV="1">
            <a:off x="2052720" y="3798000"/>
            <a:ext cx="3745440" cy="723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4" name="TextBox 10"/>
          <p:cNvSpPr/>
          <p:nvPr/>
        </p:nvSpPr>
        <p:spPr>
          <a:xfrm>
            <a:off x="6445080" y="34308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6300720" y="300672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5581800" y="13510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5653080" y="4014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道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1538720584891.jpg"/>
          <p:cNvPicPr/>
          <p:nvPr/>
        </p:nvPicPr>
        <p:blipFill>
          <a:blip r:embed="rId1"/>
          <a:stretch/>
        </p:blipFill>
        <p:spPr>
          <a:xfrm>
            <a:off x="0" y="0"/>
            <a:ext cx="5221440" cy="6846840"/>
          </a:xfrm>
          <a:prstGeom prst="rect">
            <a:avLst/>
          </a:prstGeom>
          <a:ln w="0">
            <a:noFill/>
          </a:ln>
        </p:spPr>
      </p:pic>
      <p:cxnSp>
        <p:nvCxnSpPr>
          <p:cNvPr id="99" name="直接箭头连接符 2"/>
          <p:cNvCxnSpPr/>
          <p:nvPr/>
        </p:nvCxnSpPr>
        <p:spPr>
          <a:xfrm flipV="1">
            <a:off x="4428720" y="2719080"/>
            <a:ext cx="1585080" cy="10800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TextBox 5"/>
          <p:cNvSpPr/>
          <p:nvPr/>
        </p:nvSpPr>
        <p:spPr>
          <a:xfrm>
            <a:off x="6156360" y="2286000"/>
            <a:ext cx="216072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衔枯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8"/>
          <p:cNvGrpSpPr/>
          <p:nvPr/>
        </p:nvGrpSpPr>
        <p:grpSpPr>
          <a:xfrm>
            <a:off x="1765080" y="1135080"/>
            <a:ext cx="3888000" cy="1942920"/>
            <a:chOff x="1765080" y="1135080"/>
            <a:chExt cx="3888000" cy="1942920"/>
          </a:xfrm>
        </p:grpSpPr>
        <p:cxnSp>
          <p:nvCxnSpPr>
            <p:cNvPr id="102" name="直接箭头连接符 6"/>
            <p:cNvCxnSpPr/>
            <p:nvPr/>
          </p:nvCxnSpPr>
          <p:spPr>
            <a:xfrm flipV="1">
              <a:off x="1765080" y="1998360"/>
              <a:ext cx="1584360" cy="1080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03" name="TextBox 7"/>
            <p:cNvSpPr/>
            <p:nvPr/>
          </p:nvSpPr>
          <p:spPr>
            <a:xfrm>
              <a:off x="3493440" y="1135080"/>
              <a:ext cx="2159640" cy="76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睡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9"/>
          <p:cNvSpPr/>
          <p:nvPr/>
        </p:nvSpPr>
        <p:spPr>
          <a:xfrm>
            <a:off x="5292720" y="379872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 干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6360" y="342720"/>
            <a:ext cx="823140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概括主要内容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9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个故事发生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季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描写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喜鹊忙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寒号鸟不听劝告，最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2"/>
          <p:cNvGrpSpPr/>
          <p:nvPr/>
        </p:nvGrpSpPr>
        <p:grpSpPr>
          <a:xfrm>
            <a:off x="730080" y="1228680"/>
            <a:ext cx="2905200" cy="682560"/>
            <a:chOff x="730080" y="1228680"/>
            <a:chExt cx="2905200" cy="682560"/>
          </a:xfrm>
        </p:grpSpPr>
        <p:sp>
          <p:nvSpPr>
            <p:cNvPr id="108" name="圆角矩形 17"/>
            <p:cNvSpPr/>
            <p:nvPr/>
          </p:nvSpPr>
          <p:spPr>
            <a:xfrm>
              <a:off x="1545840" y="13698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286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16"/>
            <p:cNvSpPr/>
            <p:nvPr/>
          </p:nvSpPr>
          <p:spPr>
            <a:xfrm>
              <a:off x="1805400" y="1389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55600"/>
            <a:ext cx="2643120" cy="709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2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面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8"/>
          <p:cNvSpPr/>
          <p:nvPr/>
        </p:nvSpPr>
        <p:spPr>
          <a:xfrm>
            <a:off x="1384200" y="2075040"/>
            <a:ext cx="113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ià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15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52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撇从竖中线起笔，横折钩从横中线起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3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4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面  面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5"/>
          <p:cNvSpPr/>
          <p:nvPr/>
        </p:nvSpPr>
        <p:spPr>
          <a:xfrm>
            <a:off x="857160" y="5060880"/>
            <a:ext cx="33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村子前面有一条马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1"/>
          <p:cNvSpPr/>
          <p:nvPr/>
        </p:nvSpPr>
        <p:spPr>
          <a:xfrm>
            <a:off x="2230560" y="367308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5436720" y="2352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7"/>
          <p:cNvSpPr/>
          <p:nvPr/>
        </p:nvSpPr>
        <p:spPr>
          <a:xfrm>
            <a:off x="5568480" y="2271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5"/>
          <p:cNvSpPr/>
          <p:nvPr/>
        </p:nvSpPr>
        <p:spPr>
          <a:xfrm>
            <a:off x="5436720" y="22780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0"/>
          <p:cNvSpPr/>
          <p:nvPr/>
        </p:nvSpPr>
        <p:spPr>
          <a:xfrm>
            <a:off x="5581440" y="2352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73"/>
          <p:cNvSpPr/>
          <p:nvPr/>
        </p:nvSpPr>
        <p:spPr>
          <a:xfrm>
            <a:off x="5581800" y="3090960"/>
            <a:ext cx="225360" cy="1041480"/>
          </a:xfrm>
          <a:custGeom>
            <a:avLst/>
            <a:gdLst>
              <a:gd name="textAreaLeft" fmla="*/ 0 w 225360"/>
              <a:gd name="textAreaRight" fmla="*/ 225720 w 22536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354" h="1602">
                <a:moveTo>
                  <a:pt x="32" y="144"/>
                </a:moveTo>
                <a:lnTo>
                  <a:pt x="16" y="112"/>
                </a:lnTo>
                <a:lnTo>
                  <a:pt x="16" y="64"/>
                </a:lnTo>
                <a:lnTo>
                  <a:pt x="0" y="32"/>
                </a:lnTo>
                <a:lnTo>
                  <a:pt x="16" y="16"/>
                </a:lnTo>
                <a:lnTo>
                  <a:pt x="32" y="0"/>
                </a:lnTo>
                <a:lnTo>
                  <a:pt x="80" y="0"/>
                </a:lnTo>
                <a:lnTo>
                  <a:pt x="161" y="16"/>
                </a:lnTo>
                <a:lnTo>
                  <a:pt x="258" y="48"/>
                </a:lnTo>
                <a:lnTo>
                  <a:pt x="258" y="80"/>
                </a:lnTo>
                <a:lnTo>
                  <a:pt x="258" y="112"/>
                </a:lnTo>
                <a:lnTo>
                  <a:pt x="258" y="160"/>
                </a:lnTo>
                <a:lnTo>
                  <a:pt x="274" y="224"/>
                </a:lnTo>
                <a:lnTo>
                  <a:pt x="274" y="288"/>
                </a:lnTo>
                <a:lnTo>
                  <a:pt x="274" y="369"/>
                </a:lnTo>
                <a:lnTo>
                  <a:pt x="290" y="465"/>
                </a:lnTo>
                <a:lnTo>
                  <a:pt x="290" y="561"/>
                </a:lnTo>
                <a:lnTo>
                  <a:pt x="322" y="753"/>
                </a:lnTo>
                <a:lnTo>
                  <a:pt x="322" y="929"/>
                </a:lnTo>
                <a:lnTo>
                  <a:pt x="338" y="1105"/>
                </a:lnTo>
                <a:lnTo>
                  <a:pt x="354" y="1281"/>
                </a:lnTo>
                <a:lnTo>
                  <a:pt x="354" y="1345"/>
                </a:lnTo>
                <a:lnTo>
                  <a:pt x="338" y="1410"/>
                </a:lnTo>
                <a:lnTo>
                  <a:pt x="338" y="1474"/>
                </a:lnTo>
                <a:lnTo>
                  <a:pt x="338" y="1522"/>
                </a:lnTo>
                <a:lnTo>
                  <a:pt x="338" y="1554"/>
                </a:lnTo>
                <a:lnTo>
                  <a:pt x="322" y="1570"/>
                </a:lnTo>
                <a:lnTo>
                  <a:pt x="306" y="1586"/>
                </a:lnTo>
                <a:lnTo>
                  <a:pt x="290" y="1602"/>
                </a:lnTo>
                <a:lnTo>
                  <a:pt x="274" y="1586"/>
                </a:lnTo>
                <a:lnTo>
                  <a:pt x="258" y="1570"/>
                </a:lnTo>
                <a:lnTo>
                  <a:pt x="241" y="1538"/>
                </a:lnTo>
                <a:lnTo>
                  <a:pt x="241" y="1506"/>
                </a:lnTo>
                <a:lnTo>
                  <a:pt x="225" y="1474"/>
                </a:lnTo>
                <a:lnTo>
                  <a:pt x="225" y="1426"/>
                </a:lnTo>
                <a:lnTo>
                  <a:pt x="225" y="1377"/>
                </a:lnTo>
                <a:lnTo>
                  <a:pt x="209" y="1249"/>
                </a:lnTo>
                <a:lnTo>
                  <a:pt x="193" y="1169"/>
                </a:lnTo>
                <a:lnTo>
                  <a:pt x="193" y="1089"/>
                </a:lnTo>
                <a:lnTo>
                  <a:pt x="177" y="1009"/>
                </a:lnTo>
                <a:lnTo>
                  <a:pt x="177" y="913"/>
                </a:lnTo>
                <a:lnTo>
                  <a:pt x="161" y="801"/>
                </a:lnTo>
                <a:lnTo>
                  <a:pt x="161" y="689"/>
                </a:lnTo>
                <a:lnTo>
                  <a:pt x="145" y="577"/>
                </a:lnTo>
                <a:lnTo>
                  <a:pt x="129" y="481"/>
                </a:lnTo>
                <a:lnTo>
                  <a:pt x="113" y="401"/>
                </a:lnTo>
                <a:lnTo>
                  <a:pt x="97" y="336"/>
                </a:lnTo>
                <a:lnTo>
                  <a:pt x="80" y="272"/>
                </a:lnTo>
                <a:lnTo>
                  <a:pt x="64" y="224"/>
                </a:lnTo>
                <a:lnTo>
                  <a:pt x="48" y="176"/>
                </a:lnTo>
                <a:lnTo>
                  <a:pt x="32" y="14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1"/>
          <p:cNvSpPr/>
          <p:nvPr/>
        </p:nvSpPr>
        <p:spPr>
          <a:xfrm>
            <a:off x="6010200" y="2611440"/>
            <a:ext cx="368280" cy="511200"/>
          </a:xfrm>
          <a:custGeom>
            <a:avLst/>
            <a:gdLst>
              <a:gd name="textAreaLeft" fmla="*/ 0 w 368280"/>
              <a:gd name="textAreaRight" fmla="*/ 368640 w 3682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80" h="785">
                <a:moveTo>
                  <a:pt x="435" y="385"/>
                </a:moveTo>
                <a:lnTo>
                  <a:pt x="370" y="465"/>
                </a:lnTo>
                <a:lnTo>
                  <a:pt x="306" y="529"/>
                </a:lnTo>
                <a:lnTo>
                  <a:pt x="258" y="593"/>
                </a:lnTo>
                <a:lnTo>
                  <a:pt x="209" y="641"/>
                </a:lnTo>
                <a:lnTo>
                  <a:pt x="177" y="689"/>
                </a:lnTo>
                <a:lnTo>
                  <a:pt x="113" y="721"/>
                </a:lnTo>
                <a:lnTo>
                  <a:pt x="65" y="753"/>
                </a:lnTo>
                <a:lnTo>
                  <a:pt x="0" y="785"/>
                </a:lnTo>
                <a:lnTo>
                  <a:pt x="81" y="625"/>
                </a:lnTo>
                <a:lnTo>
                  <a:pt x="145" y="497"/>
                </a:lnTo>
                <a:lnTo>
                  <a:pt x="209" y="369"/>
                </a:lnTo>
                <a:lnTo>
                  <a:pt x="258" y="273"/>
                </a:lnTo>
                <a:lnTo>
                  <a:pt x="290" y="209"/>
                </a:lnTo>
                <a:lnTo>
                  <a:pt x="322" y="145"/>
                </a:lnTo>
                <a:lnTo>
                  <a:pt x="322" y="97"/>
                </a:lnTo>
                <a:lnTo>
                  <a:pt x="322" y="81"/>
                </a:lnTo>
                <a:lnTo>
                  <a:pt x="290" y="64"/>
                </a:lnTo>
                <a:lnTo>
                  <a:pt x="290" y="48"/>
                </a:lnTo>
                <a:lnTo>
                  <a:pt x="290" y="16"/>
                </a:lnTo>
                <a:lnTo>
                  <a:pt x="306" y="0"/>
                </a:lnTo>
                <a:lnTo>
                  <a:pt x="322" y="0"/>
                </a:lnTo>
                <a:lnTo>
                  <a:pt x="354" y="0"/>
                </a:lnTo>
                <a:lnTo>
                  <a:pt x="403" y="16"/>
                </a:lnTo>
                <a:lnTo>
                  <a:pt x="451" y="48"/>
                </a:lnTo>
                <a:lnTo>
                  <a:pt x="499" y="81"/>
                </a:lnTo>
                <a:lnTo>
                  <a:pt x="548" y="113"/>
                </a:lnTo>
                <a:lnTo>
                  <a:pt x="564" y="129"/>
                </a:lnTo>
                <a:lnTo>
                  <a:pt x="580" y="161"/>
                </a:lnTo>
                <a:lnTo>
                  <a:pt x="564" y="209"/>
                </a:lnTo>
                <a:lnTo>
                  <a:pt x="531" y="257"/>
                </a:lnTo>
                <a:lnTo>
                  <a:pt x="483" y="321"/>
                </a:lnTo>
                <a:lnTo>
                  <a:pt x="435" y="3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0"/>
          <p:cNvSpPr/>
          <p:nvPr/>
        </p:nvSpPr>
        <p:spPr>
          <a:xfrm>
            <a:off x="5837400" y="2382840"/>
            <a:ext cx="1042920" cy="26028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643" h="400">
                <a:moveTo>
                  <a:pt x="854" y="112"/>
                </a:moveTo>
                <a:lnTo>
                  <a:pt x="950" y="96"/>
                </a:lnTo>
                <a:lnTo>
                  <a:pt x="1047" y="64"/>
                </a:lnTo>
                <a:lnTo>
                  <a:pt x="1127" y="48"/>
                </a:lnTo>
                <a:lnTo>
                  <a:pt x="1192" y="32"/>
                </a:lnTo>
                <a:lnTo>
                  <a:pt x="1256" y="16"/>
                </a:lnTo>
                <a:lnTo>
                  <a:pt x="1305" y="16"/>
                </a:lnTo>
                <a:lnTo>
                  <a:pt x="1353" y="0"/>
                </a:lnTo>
                <a:lnTo>
                  <a:pt x="1385" y="0"/>
                </a:lnTo>
                <a:lnTo>
                  <a:pt x="1498" y="16"/>
                </a:lnTo>
                <a:lnTo>
                  <a:pt x="1578" y="32"/>
                </a:lnTo>
                <a:lnTo>
                  <a:pt x="1610" y="48"/>
                </a:lnTo>
                <a:lnTo>
                  <a:pt x="1627" y="80"/>
                </a:lnTo>
                <a:lnTo>
                  <a:pt x="1643" y="96"/>
                </a:lnTo>
                <a:lnTo>
                  <a:pt x="1643" y="112"/>
                </a:lnTo>
                <a:lnTo>
                  <a:pt x="1627" y="144"/>
                </a:lnTo>
                <a:lnTo>
                  <a:pt x="1594" y="160"/>
                </a:lnTo>
                <a:lnTo>
                  <a:pt x="1546" y="192"/>
                </a:lnTo>
                <a:lnTo>
                  <a:pt x="1466" y="208"/>
                </a:lnTo>
                <a:lnTo>
                  <a:pt x="1417" y="224"/>
                </a:lnTo>
                <a:lnTo>
                  <a:pt x="1353" y="240"/>
                </a:lnTo>
                <a:lnTo>
                  <a:pt x="1272" y="256"/>
                </a:lnTo>
                <a:lnTo>
                  <a:pt x="1192" y="272"/>
                </a:lnTo>
                <a:lnTo>
                  <a:pt x="1095" y="288"/>
                </a:lnTo>
                <a:lnTo>
                  <a:pt x="999" y="304"/>
                </a:lnTo>
                <a:lnTo>
                  <a:pt x="886" y="320"/>
                </a:lnTo>
                <a:lnTo>
                  <a:pt x="773" y="336"/>
                </a:lnTo>
                <a:lnTo>
                  <a:pt x="644" y="352"/>
                </a:lnTo>
                <a:lnTo>
                  <a:pt x="548" y="368"/>
                </a:lnTo>
                <a:lnTo>
                  <a:pt x="451" y="384"/>
                </a:lnTo>
                <a:lnTo>
                  <a:pt x="387" y="384"/>
                </a:lnTo>
                <a:lnTo>
                  <a:pt x="322" y="400"/>
                </a:lnTo>
                <a:lnTo>
                  <a:pt x="274" y="400"/>
                </a:lnTo>
                <a:lnTo>
                  <a:pt x="242" y="400"/>
                </a:lnTo>
                <a:lnTo>
                  <a:pt x="210" y="400"/>
                </a:lnTo>
                <a:lnTo>
                  <a:pt x="161" y="400"/>
                </a:lnTo>
                <a:lnTo>
                  <a:pt x="81" y="368"/>
                </a:lnTo>
                <a:lnTo>
                  <a:pt x="49" y="352"/>
                </a:lnTo>
                <a:lnTo>
                  <a:pt x="17" y="336"/>
                </a:lnTo>
                <a:lnTo>
                  <a:pt x="0" y="320"/>
                </a:lnTo>
                <a:lnTo>
                  <a:pt x="0" y="304"/>
                </a:lnTo>
                <a:lnTo>
                  <a:pt x="17" y="304"/>
                </a:lnTo>
                <a:lnTo>
                  <a:pt x="33" y="288"/>
                </a:lnTo>
                <a:lnTo>
                  <a:pt x="49" y="288"/>
                </a:lnTo>
                <a:lnTo>
                  <a:pt x="81" y="288"/>
                </a:lnTo>
                <a:lnTo>
                  <a:pt x="129" y="272"/>
                </a:lnTo>
                <a:lnTo>
                  <a:pt x="178" y="272"/>
                </a:lnTo>
                <a:lnTo>
                  <a:pt x="226" y="256"/>
                </a:lnTo>
                <a:lnTo>
                  <a:pt x="290" y="256"/>
                </a:lnTo>
                <a:lnTo>
                  <a:pt x="355" y="240"/>
                </a:lnTo>
                <a:lnTo>
                  <a:pt x="500" y="208"/>
                </a:lnTo>
                <a:lnTo>
                  <a:pt x="661" y="160"/>
                </a:lnTo>
                <a:lnTo>
                  <a:pt x="854" y="1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4"/>
          <p:cNvSpPr/>
          <p:nvPr/>
        </p:nvSpPr>
        <p:spPr>
          <a:xfrm>
            <a:off x="5664240" y="2903400"/>
            <a:ext cx="1542960" cy="130176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431" h="2002">
                <a:moveTo>
                  <a:pt x="1883" y="1890"/>
                </a:moveTo>
                <a:lnTo>
                  <a:pt x="1867" y="1810"/>
                </a:lnTo>
                <a:lnTo>
                  <a:pt x="1835" y="1730"/>
                </a:lnTo>
                <a:lnTo>
                  <a:pt x="1803" y="1633"/>
                </a:lnTo>
                <a:lnTo>
                  <a:pt x="1755" y="1537"/>
                </a:lnTo>
                <a:lnTo>
                  <a:pt x="1932" y="1537"/>
                </a:lnTo>
                <a:lnTo>
                  <a:pt x="1980" y="1393"/>
                </a:lnTo>
                <a:lnTo>
                  <a:pt x="2012" y="1233"/>
                </a:lnTo>
                <a:lnTo>
                  <a:pt x="2028" y="1057"/>
                </a:lnTo>
                <a:lnTo>
                  <a:pt x="2061" y="881"/>
                </a:lnTo>
                <a:lnTo>
                  <a:pt x="2061" y="801"/>
                </a:lnTo>
                <a:lnTo>
                  <a:pt x="2077" y="721"/>
                </a:lnTo>
                <a:lnTo>
                  <a:pt x="2077" y="657"/>
                </a:lnTo>
                <a:lnTo>
                  <a:pt x="2093" y="592"/>
                </a:lnTo>
                <a:lnTo>
                  <a:pt x="2093" y="528"/>
                </a:lnTo>
                <a:lnTo>
                  <a:pt x="2093" y="480"/>
                </a:lnTo>
                <a:lnTo>
                  <a:pt x="2093" y="416"/>
                </a:lnTo>
                <a:lnTo>
                  <a:pt x="2093" y="352"/>
                </a:lnTo>
                <a:lnTo>
                  <a:pt x="2093" y="304"/>
                </a:lnTo>
                <a:lnTo>
                  <a:pt x="2077" y="272"/>
                </a:lnTo>
                <a:lnTo>
                  <a:pt x="2077" y="240"/>
                </a:lnTo>
                <a:lnTo>
                  <a:pt x="2044" y="240"/>
                </a:lnTo>
                <a:lnTo>
                  <a:pt x="2012" y="224"/>
                </a:lnTo>
                <a:lnTo>
                  <a:pt x="1948" y="224"/>
                </a:lnTo>
                <a:lnTo>
                  <a:pt x="1867" y="224"/>
                </a:lnTo>
                <a:lnTo>
                  <a:pt x="1835" y="224"/>
                </a:lnTo>
                <a:lnTo>
                  <a:pt x="1803" y="224"/>
                </a:lnTo>
                <a:lnTo>
                  <a:pt x="1739" y="224"/>
                </a:lnTo>
                <a:lnTo>
                  <a:pt x="1674" y="224"/>
                </a:lnTo>
                <a:lnTo>
                  <a:pt x="1610" y="240"/>
                </a:lnTo>
                <a:lnTo>
                  <a:pt x="1513" y="240"/>
                </a:lnTo>
                <a:lnTo>
                  <a:pt x="1417" y="256"/>
                </a:lnTo>
                <a:lnTo>
                  <a:pt x="1304" y="272"/>
                </a:lnTo>
                <a:lnTo>
                  <a:pt x="1191" y="288"/>
                </a:lnTo>
                <a:lnTo>
                  <a:pt x="1046" y="304"/>
                </a:lnTo>
                <a:lnTo>
                  <a:pt x="901" y="320"/>
                </a:lnTo>
                <a:lnTo>
                  <a:pt x="740" y="336"/>
                </a:lnTo>
                <a:lnTo>
                  <a:pt x="579" y="368"/>
                </a:lnTo>
                <a:lnTo>
                  <a:pt x="402" y="384"/>
                </a:lnTo>
                <a:lnTo>
                  <a:pt x="209" y="416"/>
                </a:lnTo>
                <a:lnTo>
                  <a:pt x="0" y="432"/>
                </a:lnTo>
                <a:lnTo>
                  <a:pt x="0" y="320"/>
                </a:lnTo>
                <a:lnTo>
                  <a:pt x="112" y="320"/>
                </a:lnTo>
                <a:lnTo>
                  <a:pt x="225" y="304"/>
                </a:lnTo>
                <a:lnTo>
                  <a:pt x="354" y="288"/>
                </a:lnTo>
                <a:lnTo>
                  <a:pt x="483" y="272"/>
                </a:lnTo>
                <a:lnTo>
                  <a:pt x="644" y="256"/>
                </a:lnTo>
                <a:lnTo>
                  <a:pt x="805" y="240"/>
                </a:lnTo>
                <a:lnTo>
                  <a:pt x="998" y="208"/>
                </a:lnTo>
                <a:lnTo>
                  <a:pt x="1207" y="160"/>
                </a:lnTo>
                <a:lnTo>
                  <a:pt x="1320" y="144"/>
                </a:lnTo>
                <a:lnTo>
                  <a:pt x="1417" y="128"/>
                </a:lnTo>
                <a:lnTo>
                  <a:pt x="1497" y="128"/>
                </a:lnTo>
                <a:lnTo>
                  <a:pt x="1578" y="112"/>
                </a:lnTo>
                <a:lnTo>
                  <a:pt x="1642" y="96"/>
                </a:lnTo>
                <a:lnTo>
                  <a:pt x="1706" y="96"/>
                </a:lnTo>
                <a:lnTo>
                  <a:pt x="1755" y="80"/>
                </a:lnTo>
                <a:lnTo>
                  <a:pt x="1803" y="80"/>
                </a:lnTo>
                <a:lnTo>
                  <a:pt x="1867" y="64"/>
                </a:lnTo>
                <a:lnTo>
                  <a:pt x="1932" y="64"/>
                </a:lnTo>
                <a:lnTo>
                  <a:pt x="1980" y="48"/>
                </a:lnTo>
                <a:lnTo>
                  <a:pt x="2012" y="16"/>
                </a:lnTo>
                <a:lnTo>
                  <a:pt x="2077" y="0"/>
                </a:lnTo>
                <a:lnTo>
                  <a:pt x="2109" y="0"/>
                </a:lnTo>
                <a:lnTo>
                  <a:pt x="2125" y="0"/>
                </a:lnTo>
                <a:lnTo>
                  <a:pt x="2173" y="32"/>
                </a:lnTo>
                <a:lnTo>
                  <a:pt x="2222" y="64"/>
                </a:lnTo>
                <a:lnTo>
                  <a:pt x="2286" y="112"/>
                </a:lnTo>
                <a:lnTo>
                  <a:pt x="2350" y="160"/>
                </a:lnTo>
                <a:lnTo>
                  <a:pt x="2399" y="208"/>
                </a:lnTo>
                <a:lnTo>
                  <a:pt x="2415" y="240"/>
                </a:lnTo>
                <a:lnTo>
                  <a:pt x="2431" y="272"/>
                </a:lnTo>
                <a:lnTo>
                  <a:pt x="2431" y="288"/>
                </a:lnTo>
                <a:lnTo>
                  <a:pt x="2415" y="320"/>
                </a:lnTo>
                <a:lnTo>
                  <a:pt x="2399" y="336"/>
                </a:lnTo>
                <a:lnTo>
                  <a:pt x="2383" y="336"/>
                </a:lnTo>
                <a:lnTo>
                  <a:pt x="2366" y="352"/>
                </a:lnTo>
                <a:lnTo>
                  <a:pt x="2350" y="384"/>
                </a:lnTo>
                <a:lnTo>
                  <a:pt x="2334" y="416"/>
                </a:lnTo>
                <a:lnTo>
                  <a:pt x="2318" y="464"/>
                </a:lnTo>
                <a:lnTo>
                  <a:pt x="2318" y="512"/>
                </a:lnTo>
                <a:lnTo>
                  <a:pt x="2302" y="576"/>
                </a:lnTo>
                <a:lnTo>
                  <a:pt x="2302" y="640"/>
                </a:lnTo>
                <a:lnTo>
                  <a:pt x="2286" y="721"/>
                </a:lnTo>
                <a:lnTo>
                  <a:pt x="2270" y="881"/>
                </a:lnTo>
                <a:lnTo>
                  <a:pt x="2270" y="1025"/>
                </a:lnTo>
                <a:lnTo>
                  <a:pt x="2254" y="1137"/>
                </a:lnTo>
                <a:lnTo>
                  <a:pt x="2238" y="1249"/>
                </a:lnTo>
                <a:lnTo>
                  <a:pt x="2205" y="1457"/>
                </a:lnTo>
                <a:lnTo>
                  <a:pt x="2141" y="1649"/>
                </a:lnTo>
                <a:lnTo>
                  <a:pt x="2125" y="1730"/>
                </a:lnTo>
                <a:lnTo>
                  <a:pt x="2077" y="1810"/>
                </a:lnTo>
                <a:lnTo>
                  <a:pt x="2044" y="1874"/>
                </a:lnTo>
                <a:lnTo>
                  <a:pt x="2012" y="1922"/>
                </a:lnTo>
                <a:lnTo>
                  <a:pt x="1996" y="1954"/>
                </a:lnTo>
                <a:lnTo>
                  <a:pt x="1964" y="1986"/>
                </a:lnTo>
                <a:lnTo>
                  <a:pt x="1948" y="2002"/>
                </a:lnTo>
                <a:lnTo>
                  <a:pt x="1932" y="2002"/>
                </a:lnTo>
                <a:lnTo>
                  <a:pt x="1916" y="2002"/>
                </a:lnTo>
                <a:lnTo>
                  <a:pt x="1900" y="1970"/>
                </a:lnTo>
                <a:lnTo>
                  <a:pt x="1883" y="1938"/>
                </a:lnTo>
                <a:lnTo>
                  <a:pt x="1883" y="18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5"/>
          <p:cNvSpPr/>
          <p:nvPr/>
        </p:nvSpPr>
        <p:spPr>
          <a:xfrm>
            <a:off x="6051600" y="3090960"/>
            <a:ext cx="112680" cy="842760"/>
          </a:xfrm>
          <a:custGeom>
            <a:avLst/>
            <a:gdLst>
              <a:gd name="textAreaLeft" fmla="*/ 0 w 112680"/>
              <a:gd name="textAreaRight" fmla="*/ 113040 w 11268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177" h="1297">
                <a:moveTo>
                  <a:pt x="177" y="160"/>
                </a:moveTo>
                <a:lnTo>
                  <a:pt x="177" y="176"/>
                </a:lnTo>
                <a:lnTo>
                  <a:pt x="177" y="192"/>
                </a:lnTo>
                <a:lnTo>
                  <a:pt x="177" y="224"/>
                </a:lnTo>
                <a:lnTo>
                  <a:pt x="177" y="256"/>
                </a:lnTo>
                <a:lnTo>
                  <a:pt x="177" y="304"/>
                </a:lnTo>
                <a:lnTo>
                  <a:pt x="177" y="352"/>
                </a:lnTo>
                <a:lnTo>
                  <a:pt x="177" y="417"/>
                </a:lnTo>
                <a:lnTo>
                  <a:pt x="177" y="481"/>
                </a:lnTo>
                <a:lnTo>
                  <a:pt x="177" y="545"/>
                </a:lnTo>
                <a:lnTo>
                  <a:pt x="177" y="641"/>
                </a:lnTo>
                <a:lnTo>
                  <a:pt x="177" y="721"/>
                </a:lnTo>
                <a:lnTo>
                  <a:pt x="177" y="817"/>
                </a:lnTo>
                <a:lnTo>
                  <a:pt x="177" y="929"/>
                </a:lnTo>
                <a:lnTo>
                  <a:pt x="177" y="1041"/>
                </a:lnTo>
                <a:lnTo>
                  <a:pt x="177" y="1169"/>
                </a:lnTo>
                <a:lnTo>
                  <a:pt x="177" y="1297"/>
                </a:lnTo>
                <a:lnTo>
                  <a:pt x="64" y="1297"/>
                </a:lnTo>
                <a:lnTo>
                  <a:pt x="64" y="1169"/>
                </a:lnTo>
                <a:lnTo>
                  <a:pt x="48" y="1025"/>
                </a:lnTo>
                <a:lnTo>
                  <a:pt x="48" y="881"/>
                </a:lnTo>
                <a:lnTo>
                  <a:pt x="48" y="721"/>
                </a:lnTo>
                <a:lnTo>
                  <a:pt x="32" y="561"/>
                </a:lnTo>
                <a:lnTo>
                  <a:pt x="32" y="385"/>
                </a:lnTo>
                <a:lnTo>
                  <a:pt x="16" y="192"/>
                </a:lnTo>
                <a:lnTo>
                  <a:pt x="0" y="0"/>
                </a:lnTo>
                <a:lnTo>
                  <a:pt x="80" y="48"/>
                </a:lnTo>
                <a:lnTo>
                  <a:pt x="128" y="96"/>
                </a:lnTo>
                <a:lnTo>
                  <a:pt x="161" y="128"/>
                </a:lnTo>
                <a:lnTo>
                  <a:pt x="177" y="1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76"/>
          <p:cNvSpPr/>
          <p:nvPr/>
        </p:nvSpPr>
        <p:spPr>
          <a:xfrm>
            <a:off x="6461280" y="3040200"/>
            <a:ext cx="133200" cy="831600"/>
          </a:xfrm>
          <a:custGeom>
            <a:avLst/>
            <a:gdLst>
              <a:gd name="textAreaLeft" fmla="*/ 0 w 133200"/>
              <a:gd name="textAreaRight" fmla="*/ 133560 w 13320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209" h="1281">
                <a:moveTo>
                  <a:pt x="177" y="465"/>
                </a:moveTo>
                <a:lnTo>
                  <a:pt x="161" y="529"/>
                </a:lnTo>
                <a:lnTo>
                  <a:pt x="161" y="609"/>
                </a:lnTo>
                <a:lnTo>
                  <a:pt x="161" y="689"/>
                </a:lnTo>
                <a:lnTo>
                  <a:pt x="144" y="785"/>
                </a:lnTo>
                <a:lnTo>
                  <a:pt x="128" y="897"/>
                </a:lnTo>
                <a:lnTo>
                  <a:pt x="128" y="1009"/>
                </a:lnTo>
                <a:lnTo>
                  <a:pt x="112" y="1153"/>
                </a:lnTo>
                <a:lnTo>
                  <a:pt x="112" y="1281"/>
                </a:lnTo>
                <a:lnTo>
                  <a:pt x="0" y="1281"/>
                </a:lnTo>
                <a:lnTo>
                  <a:pt x="0" y="0"/>
                </a:lnTo>
                <a:lnTo>
                  <a:pt x="96" y="64"/>
                </a:lnTo>
                <a:lnTo>
                  <a:pt x="161" y="112"/>
                </a:lnTo>
                <a:lnTo>
                  <a:pt x="193" y="160"/>
                </a:lnTo>
                <a:lnTo>
                  <a:pt x="209" y="192"/>
                </a:lnTo>
                <a:lnTo>
                  <a:pt x="209" y="224"/>
                </a:lnTo>
                <a:lnTo>
                  <a:pt x="193" y="288"/>
                </a:lnTo>
                <a:lnTo>
                  <a:pt x="177" y="368"/>
                </a:lnTo>
                <a:lnTo>
                  <a:pt x="177" y="46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77"/>
          <p:cNvSpPr/>
          <p:nvPr/>
        </p:nvSpPr>
        <p:spPr>
          <a:xfrm>
            <a:off x="6093000" y="3278160"/>
            <a:ext cx="306360" cy="104760"/>
          </a:xfrm>
          <a:custGeom>
            <a:avLst/>
            <a:gdLst>
              <a:gd name="textAreaLeft" fmla="*/ 0 w 306360"/>
              <a:gd name="textAreaRight" fmla="*/ 306720 w 3063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83" h="161">
                <a:moveTo>
                  <a:pt x="209" y="48"/>
                </a:moveTo>
                <a:lnTo>
                  <a:pt x="274" y="32"/>
                </a:lnTo>
                <a:lnTo>
                  <a:pt x="338" y="16"/>
                </a:lnTo>
                <a:lnTo>
                  <a:pt x="386" y="0"/>
                </a:lnTo>
                <a:lnTo>
                  <a:pt x="419" y="0"/>
                </a:lnTo>
                <a:lnTo>
                  <a:pt x="451" y="0"/>
                </a:lnTo>
                <a:lnTo>
                  <a:pt x="467" y="16"/>
                </a:lnTo>
                <a:lnTo>
                  <a:pt x="483" y="16"/>
                </a:lnTo>
                <a:lnTo>
                  <a:pt x="483" y="32"/>
                </a:lnTo>
                <a:lnTo>
                  <a:pt x="467" y="64"/>
                </a:lnTo>
                <a:lnTo>
                  <a:pt x="451" y="97"/>
                </a:lnTo>
                <a:lnTo>
                  <a:pt x="435" y="113"/>
                </a:lnTo>
                <a:lnTo>
                  <a:pt x="419" y="129"/>
                </a:lnTo>
                <a:lnTo>
                  <a:pt x="386" y="129"/>
                </a:lnTo>
                <a:lnTo>
                  <a:pt x="338" y="145"/>
                </a:lnTo>
                <a:lnTo>
                  <a:pt x="290" y="145"/>
                </a:lnTo>
                <a:lnTo>
                  <a:pt x="241" y="145"/>
                </a:lnTo>
                <a:lnTo>
                  <a:pt x="177" y="145"/>
                </a:lnTo>
                <a:lnTo>
                  <a:pt x="97" y="161"/>
                </a:lnTo>
                <a:lnTo>
                  <a:pt x="0" y="161"/>
                </a:lnTo>
                <a:lnTo>
                  <a:pt x="0" y="64"/>
                </a:lnTo>
                <a:lnTo>
                  <a:pt x="48" y="64"/>
                </a:lnTo>
                <a:lnTo>
                  <a:pt x="97" y="64"/>
                </a:lnTo>
                <a:lnTo>
                  <a:pt x="145" y="48"/>
                </a:lnTo>
                <a:lnTo>
                  <a:pt x="209" y="4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8"/>
          <p:cNvSpPr/>
          <p:nvPr/>
        </p:nvSpPr>
        <p:spPr>
          <a:xfrm>
            <a:off x="6134040" y="3568680"/>
            <a:ext cx="265320" cy="95400"/>
          </a:xfrm>
          <a:custGeom>
            <a:avLst/>
            <a:gdLst>
              <a:gd name="textAreaLeft" fmla="*/ 0 w 265320"/>
              <a:gd name="textAreaRight" fmla="*/ 265680 w 2653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419" h="144">
                <a:moveTo>
                  <a:pt x="290" y="128"/>
                </a:moveTo>
                <a:lnTo>
                  <a:pt x="226" y="128"/>
                </a:lnTo>
                <a:lnTo>
                  <a:pt x="161" y="144"/>
                </a:lnTo>
                <a:lnTo>
                  <a:pt x="81" y="144"/>
                </a:lnTo>
                <a:lnTo>
                  <a:pt x="0" y="144"/>
                </a:lnTo>
                <a:lnTo>
                  <a:pt x="0" y="32"/>
                </a:lnTo>
                <a:lnTo>
                  <a:pt x="65" y="32"/>
                </a:lnTo>
                <a:lnTo>
                  <a:pt x="129" y="32"/>
                </a:lnTo>
                <a:lnTo>
                  <a:pt x="161" y="16"/>
                </a:lnTo>
                <a:lnTo>
                  <a:pt x="194" y="16"/>
                </a:lnTo>
                <a:lnTo>
                  <a:pt x="242" y="0"/>
                </a:lnTo>
                <a:lnTo>
                  <a:pt x="290" y="0"/>
                </a:lnTo>
                <a:lnTo>
                  <a:pt x="322" y="0"/>
                </a:lnTo>
                <a:lnTo>
                  <a:pt x="371" y="16"/>
                </a:lnTo>
                <a:lnTo>
                  <a:pt x="387" y="32"/>
                </a:lnTo>
                <a:lnTo>
                  <a:pt x="403" y="32"/>
                </a:lnTo>
                <a:lnTo>
                  <a:pt x="419" y="64"/>
                </a:lnTo>
                <a:lnTo>
                  <a:pt x="403" y="80"/>
                </a:lnTo>
                <a:lnTo>
                  <a:pt x="387" y="96"/>
                </a:lnTo>
                <a:lnTo>
                  <a:pt x="355" y="112"/>
                </a:lnTo>
                <a:lnTo>
                  <a:pt x="290" y="12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9"/>
          <p:cNvSpPr/>
          <p:nvPr/>
        </p:nvSpPr>
        <p:spPr>
          <a:xfrm>
            <a:off x="5745240" y="3819600"/>
            <a:ext cx="1135080" cy="19836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87" h="305">
                <a:moveTo>
                  <a:pt x="547" y="256"/>
                </a:moveTo>
                <a:lnTo>
                  <a:pt x="450" y="273"/>
                </a:lnTo>
                <a:lnTo>
                  <a:pt x="354" y="273"/>
                </a:lnTo>
                <a:lnTo>
                  <a:pt x="273" y="289"/>
                </a:lnTo>
                <a:lnTo>
                  <a:pt x="209" y="289"/>
                </a:lnTo>
                <a:lnTo>
                  <a:pt x="144" y="305"/>
                </a:lnTo>
                <a:lnTo>
                  <a:pt x="80" y="305"/>
                </a:lnTo>
                <a:lnTo>
                  <a:pt x="32" y="305"/>
                </a:lnTo>
                <a:lnTo>
                  <a:pt x="0" y="305"/>
                </a:lnTo>
                <a:lnTo>
                  <a:pt x="0" y="192"/>
                </a:lnTo>
                <a:lnTo>
                  <a:pt x="193" y="176"/>
                </a:lnTo>
                <a:lnTo>
                  <a:pt x="370" y="144"/>
                </a:lnTo>
                <a:lnTo>
                  <a:pt x="547" y="112"/>
                </a:lnTo>
                <a:lnTo>
                  <a:pt x="692" y="96"/>
                </a:lnTo>
                <a:lnTo>
                  <a:pt x="837" y="80"/>
                </a:lnTo>
                <a:lnTo>
                  <a:pt x="982" y="64"/>
                </a:lnTo>
                <a:lnTo>
                  <a:pt x="1094" y="48"/>
                </a:lnTo>
                <a:lnTo>
                  <a:pt x="1207" y="32"/>
                </a:lnTo>
                <a:lnTo>
                  <a:pt x="1304" y="32"/>
                </a:lnTo>
                <a:lnTo>
                  <a:pt x="1384" y="16"/>
                </a:lnTo>
                <a:lnTo>
                  <a:pt x="1465" y="16"/>
                </a:lnTo>
                <a:lnTo>
                  <a:pt x="1529" y="0"/>
                </a:lnTo>
                <a:lnTo>
                  <a:pt x="1577" y="0"/>
                </a:lnTo>
                <a:lnTo>
                  <a:pt x="1610" y="0"/>
                </a:lnTo>
                <a:lnTo>
                  <a:pt x="1626" y="0"/>
                </a:lnTo>
                <a:lnTo>
                  <a:pt x="1642" y="0"/>
                </a:lnTo>
                <a:lnTo>
                  <a:pt x="1674" y="16"/>
                </a:lnTo>
                <a:lnTo>
                  <a:pt x="1706" y="48"/>
                </a:lnTo>
                <a:lnTo>
                  <a:pt x="1754" y="96"/>
                </a:lnTo>
                <a:lnTo>
                  <a:pt x="1787" y="160"/>
                </a:lnTo>
                <a:lnTo>
                  <a:pt x="1481" y="160"/>
                </a:lnTo>
                <a:lnTo>
                  <a:pt x="1207" y="176"/>
                </a:lnTo>
                <a:lnTo>
                  <a:pt x="1062" y="176"/>
                </a:lnTo>
                <a:lnTo>
                  <a:pt x="901" y="192"/>
                </a:lnTo>
                <a:lnTo>
                  <a:pt x="740" y="224"/>
                </a:lnTo>
                <a:lnTo>
                  <a:pt x="547" y="2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38"/>
          <p:cNvSpPr/>
          <p:nvPr/>
        </p:nvSpPr>
        <p:spPr>
          <a:xfrm>
            <a:off x="5948280" y="2301840"/>
            <a:ext cx="279360" cy="233280"/>
          </a:xfrm>
          <a:custGeom>
            <a:avLst/>
            <a:gdLst>
              <a:gd name="textAreaLeft" fmla="*/ 0 w 279360"/>
              <a:gd name="textAreaRight" fmla="*/ 279720 w 2793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441" h="362">
                <a:moveTo>
                  <a:pt x="0" y="0"/>
                </a:moveTo>
                <a:lnTo>
                  <a:pt x="45" y="11"/>
                </a:lnTo>
                <a:lnTo>
                  <a:pt x="91" y="11"/>
                </a:lnTo>
                <a:lnTo>
                  <a:pt x="170" y="23"/>
                </a:lnTo>
                <a:lnTo>
                  <a:pt x="238" y="45"/>
                </a:lnTo>
                <a:lnTo>
                  <a:pt x="317" y="68"/>
                </a:lnTo>
                <a:lnTo>
                  <a:pt x="339" y="91"/>
                </a:lnTo>
                <a:lnTo>
                  <a:pt x="362" y="113"/>
                </a:lnTo>
                <a:lnTo>
                  <a:pt x="385" y="124"/>
                </a:lnTo>
                <a:lnTo>
                  <a:pt x="407" y="147"/>
                </a:lnTo>
                <a:lnTo>
                  <a:pt x="419" y="170"/>
                </a:lnTo>
                <a:lnTo>
                  <a:pt x="430" y="192"/>
                </a:lnTo>
                <a:lnTo>
                  <a:pt x="430" y="204"/>
                </a:lnTo>
                <a:lnTo>
                  <a:pt x="441" y="226"/>
                </a:lnTo>
                <a:lnTo>
                  <a:pt x="441" y="249"/>
                </a:lnTo>
                <a:lnTo>
                  <a:pt x="441" y="271"/>
                </a:lnTo>
                <a:lnTo>
                  <a:pt x="430" y="283"/>
                </a:lnTo>
                <a:lnTo>
                  <a:pt x="430" y="294"/>
                </a:lnTo>
                <a:lnTo>
                  <a:pt x="430" y="305"/>
                </a:lnTo>
                <a:lnTo>
                  <a:pt x="430" y="317"/>
                </a:lnTo>
                <a:lnTo>
                  <a:pt x="419" y="328"/>
                </a:lnTo>
                <a:lnTo>
                  <a:pt x="407" y="339"/>
                </a:lnTo>
                <a:lnTo>
                  <a:pt x="396" y="351"/>
                </a:lnTo>
                <a:lnTo>
                  <a:pt x="385" y="351"/>
                </a:lnTo>
                <a:lnTo>
                  <a:pt x="373" y="362"/>
                </a:lnTo>
                <a:lnTo>
                  <a:pt x="362" y="351"/>
                </a:lnTo>
                <a:lnTo>
                  <a:pt x="339" y="351"/>
                </a:lnTo>
                <a:lnTo>
                  <a:pt x="305" y="339"/>
                </a:lnTo>
                <a:lnTo>
                  <a:pt x="272" y="317"/>
                </a:lnTo>
                <a:lnTo>
                  <a:pt x="215" y="294"/>
                </a:lnTo>
                <a:lnTo>
                  <a:pt x="192" y="271"/>
                </a:lnTo>
                <a:lnTo>
                  <a:pt x="170" y="249"/>
                </a:lnTo>
                <a:lnTo>
                  <a:pt x="136" y="226"/>
                </a:lnTo>
                <a:lnTo>
                  <a:pt x="113" y="192"/>
                </a:lnTo>
                <a:lnTo>
                  <a:pt x="79" y="147"/>
                </a:lnTo>
                <a:lnTo>
                  <a:pt x="57" y="102"/>
                </a:lnTo>
                <a:lnTo>
                  <a:pt x="23" y="5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朗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5"/>
          <p:cNvSpPr/>
          <p:nvPr/>
        </p:nvSpPr>
        <p:spPr>
          <a:xfrm>
            <a:off x="1384200" y="2075040"/>
            <a:ext cx="1330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lǎ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48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4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右部的撇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朗   朗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今天天气晴朗，是郊游的好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7"/>
          <p:cNvSpPr/>
          <p:nvPr/>
        </p:nvSpPr>
        <p:spPr>
          <a:xfrm>
            <a:off x="327636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9"/>
          <p:cNvSpPr/>
          <p:nvPr/>
        </p:nvSpPr>
        <p:spPr>
          <a:xfrm>
            <a:off x="5740560" y="2616120"/>
            <a:ext cx="645840" cy="662040"/>
          </a:xfrm>
          <a:custGeom>
            <a:avLst/>
            <a:gdLst>
              <a:gd name="textAreaLeft" fmla="*/ 0 w 645840"/>
              <a:gd name="textAreaRight" fmla="*/ 646200 w 64584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1018" h="1018">
                <a:moveTo>
                  <a:pt x="882" y="520"/>
                </a:moveTo>
                <a:lnTo>
                  <a:pt x="860" y="645"/>
                </a:lnTo>
                <a:lnTo>
                  <a:pt x="837" y="769"/>
                </a:lnTo>
                <a:lnTo>
                  <a:pt x="803" y="893"/>
                </a:lnTo>
                <a:lnTo>
                  <a:pt x="769" y="1018"/>
                </a:lnTo>
                <a:lnTo>
                  <a:pt x="656" y="1018"/>
                </a:lnTo>
                <a:lnTo>
                  <a:pt x="667" y="927"/>
                </a:lnTo>
                <a:lnTo>
                  <a:pt x="667" y="848"/>
                </a:lnTo>
                <a:lnTo>
                  <a:pt x="679" y="769"/>
                </a:lnTo>
                <a:lnTo>
                  <a:pt x="679" y="701"/>
                </a:lnTo>
                <a:lnTo>
                  <a:pt x="690" y="645"/>
                </a:lnTo>
                <a:lnTo>
                  <a:pt x="690" y="577"/>
                </a:lnTo>
                <a:lnTo>
                  <a:pt x="701" y="520"/>
                </a:lnTo>
                <a:lnTo>
                  <a:pt x="701" y="475"/>
                </a:lnTo>
                <a:lnTo>
                  <a:pt x="701" y="430"/>
                </a:lnTo>
                <a:lnTo>
                  <a:pt x="713" y="396"/>
                </a:lnTo>
                <a:lnTo>
                  <a:pt x="713" y="362"/>
                </a:lnTo>
                <a:lnTo>
                  <a:pt x="713" y="328"/>
                </a:lnTo>
                <a:lnTo>
                  <a:pt x="713" y="305"/>
                </a:lnTo>
                <a:lnTo>
                  <a:pt x="713" y="283"/>
                </a:lnTo>
                <a:lnTo>
                  <a:pt x="713" y="272"/>
                </a:lnTo>
                <a:lnTo>
                  <a:pt x="713" y="260"/>
                </a:lnTo>
                <a:lnTo>
                  <a:pt x="701" y="249"/>
                </a:lnTo>
                <a:lnTo>
                  <a:pt x="701" y="238"/>
                </a:lnTo>
                <a:lnTo>
                  <a:pt x="690" y="215"/>
                </a:lnTo>
                <a:lnTo>
                  <a:pt x="667" y="204"/>
                </a:lnTo>
                <a:lnTo>
                  <a:pt x="656" y="204"/>
                </a:lnTo>
                <a:lnTo>
                  <a:pt x="645" y="192"/>
                </a:lnTo>
                <a:lnTo>
                  <a:pt x="622" y="192"/>
                </a:lnTo>
                <a:lnTo>
                  <a:pt x="600" y="192"/>
                </a:lnTo>
                <a:lnTo>
                  <a:pt x="577" y="204"/>
                </a:lnTo>
                <a:lnTo>
                  <a:pt x="543" y="204"/>
                </a:lnTo>
                <a:lnTo>
                  <a:pt x="498" y="215"/>
                </a:lnTo>
                <a:lnTo>
                  <a:pt x="453" y="226"/>
                </a:lnTo>
                <a:lnTo>
                  <a:pt x="407" y="238"/>
                </a:lnTo>
                <a:lnTo>
                  <a:pt x="351" y="249"/>
                </a:lnTo>
                <a:lnTo>
                  <a:pt x="294" y="260"/>
                </a:lnTo>
                <a:lnTo>
                  <a:pt x="238" y="272"/>
                </a:lnTo>
                <a:lnTo>
                  <a:pt x="193" y="283"/>
                </a:lnTo>
                <a:lnTo>
                  <a:pt x="147" y="294"/>
                </a:lnTo>
                <a:lnTo>
                  <a:pt x="102" y="305"/>
                </a:lnTo>
                <a:lnTo>
                  <a:pt x="68" y="305"/>
                </a:lnTo>
                <a:lnTo>
                  <a:pt x="34" y="305"/>
                </a:lnTo>
                <a:lnTo>
                  <a:pt x="0" y="317"/>
                </a:lnTo>
                <a:lnTo>
                  <a:pt x="0" y="204"/>
                </a:lnTo>
                <a:lnTo>
                  <a:pt x="34" y="204"/>
                </a:lnTo>
                <a:lnTo>
                  <a:pt x="79" y="204"/>
                </a:lnTo>
                <a:lnTo>
                  <a:pt x="113" y="192"/>
                </a:lnTo>
                <a:lnTo>
                  <a:pt x="170" y="181"/>
                </a:lnTo>
                <a:lnTo>
                  <a:pt x="215" y="170"/>
                </a:lnTo>
                <a:lnTo>
                  <a:pt x="249" y="170"/>
                </a:lnTo>
                <a:lnTo>
                  <a:pt x="283" y="159"/>
                </a:lnTo>
                <a:lnTo>
                  <a:pt x="317" y="147"/>
                </a:lnTo>
                <a:lnTo>
                  <a:pt x="351" y="147"/>
                </a:lnTo>
                <a:lnTo>
                  <a:pt x="396" y="136"/>
                </a:lnTo>
                <a:lnTo>
                  <a:pt x="441" y="113"/>
                </a:lnTo>
                <a:lnTo>
                  <a:pt x="475" y="102"/>
                </a:lnTo>
                <a:lnTo>
                  <a:pt x="509" y="102"/>
                </a:lnTo>
                <a:lnTo>
                  <a:pt x="543" y="91"/>
                </a:lnTo>
                <a:lnTo>
                  <a:pt x="566" y="79"/>
                </a:lnTo>
                <a:lnTo>
                  <a:pt x="600" y="68"/>
                </a:lnTo>
                <a:lnTo>
                  <a:pt x="611" y="57"/>
                </a:lnTo>
                <a:lnTo>
                  <a:pt x="633" y="45"/>
                </a:lnTo>
                <a:lnTo>
                  <a:pt x="645" y="34"/>
                </a:lnTo>
                <a:lnTo>
                  <a:pt x="656" y="34"/>
                </a:lnTo>
                <a:lnTo>
                  <a:pt x="667" y="23"/>
                </a:lnTo>
                <a:lnTo>
                  <a:pt x="679" y="12"/>
                </a:lnTo>
                <a:lnTo>
                  <a:pt x="701" y="0"/>
                </a:lnTo>
                <a:lnTo>
                  <a:pt x="713" y="0"/>
                </a:lnTo>
                <a:lnTo>
                  <a:pt x="735" y="12"/>
                </a:lnTo>
                <a:lnTo>
                  <a:pt x="769" y="12"/>
                </a:lnTo>
                <a:lnTo>
                  <a:pt x="803" y="23"/>
                </a:lnTo>
                <a:lnTo>
                  <a:pt x="848" y="45"/>
                </a:lnTo>
                <a:lnTo>
                  <a:pt x="882" y="68"/>
                </a:lnTo>
                <a:lnTo>
                  <a:pt x="916" y="79"/>
                </a:lnTo>
                <a:lnTo>
                  <a:pt x="950" y="102"/>
                </a:lnTo>
                <a:lnTo>
                  <a:pt x="984" y="125"/>
                </a:lnTo>
                <a:lnTo>
                  <a:pt x="1007" y="147"/>
                </a:lnTo>
                <a:lnTo>
                  <a:pt x="1018" y="159"/>
                </a:lnTo>
                <a:lnTo>
                  <a:pt x="1018" y="170"/>
                </a:lnTo>
                <a:lnTo>
                  <a:pt x="1018" y="181"/>
                </a:lnTo>
                <a:lnTo>
                  <a:pt x="1018" y="204"/>
                </a:lnTo>
                <a:lnTo>
                  <a:pt x="1018" y="215"/>
                </a:lnTo>
                <a:lnTo>
                  <a:pt x="995" y="226"/>
                </a:lnTo>
                <a:lnTo>
                  <a:pt x="984" y="238"/>
                </a:lnTo>
                <a:lnTo>
                  <a:pt x="973" y="249"/>
                </a:lnTo>
                <a:lnTo>
                  <a:pt x="961" y="260"/>
                </a:lnTo>
                <a:lnTo>
                  <a:pt x="950" y="283"/>
                </a:lnTo>
                <a:lnTo>
                  <a:pt x="939" y="317"/>
                </a:lnTo>
                <a:lnTo>
                  <a:pt x="927" y="362"/>
                </a:lnTo>
                <a:lnTo>
                  <a:pt x="916" y="407"/>
                </a:lnTo>
                <a:lnTo>
                  <a:pt x="905" y="464"/>
                </a:lnTo>
                <a:lnTo>
                  <a:pt x="882" y="5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0"/>
          <p:cNvSpPr/>
          <p:nvPr/>
        </p:nvSpPr>
        <p:spPr>
          <a:xfrm>
            <a:off x="5769000" y="2932200"/>
            <a:ext cx="315720" cy="118800"/>
          </a:xfrm>
          <a:custGeom>
            <a:avLst/>
            <a:gdLst>
              <a:gd name="textAreaLeft" fmla="*/ 0 w 315720"/>
              <a:gd name="textAreaRight" fmla="*/ 316080 w 3157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497" h="181">
                <a:moveTo>
                  <a:pt x="463" y="125"/>
                </a:moveTo>
                <a:lnTo>
                  <a:pt x="452" y="125"/>
                </a:lnTo>
                <a:lnTo>
                  <a:pt x="440" y="136"/>
                </a:lnTo>
                <a:lnTo>
                  <a:pt x="418" y="136"/>
                </a:lnTo>
                <a:lnTo>
                  <a:pt x="407" y="136"/>
                </a:lnTo>
                <a:lnTo>
                  <a:pt x="384" y="136"/>
                </a:lnTo>
                <a:lnTo>
                  <a:pt x="361" y="147"/>
                </a:lnTo>
                <a:lnTo>
                  <a:pt x="327" y="147"/>
                </a:lnTo>
                <a:lnTo>
                  <a:pt x="305" y="147"/>
                </a:lnTo>
                <a:lnTo>
                  <a:pt x="271" y="147"/>
                </a:lnTo>
                <a:lnTo>
                  <a:pt x="226" y="159"/>
                </a:lnTo>
                <a:lnTo>
                  <a:pt x="192" y="159"/>
                </a:lnTo>
                <a:lnTo>
                  <a:pt x="147" y="159"/>
                </a:lnTo>
                <a:lnTo>
                  <a:pt x="101" y="170"/>
                </a:lnTo>
                <a:lnTo>
                  <a:pt x="45" y="170"/>
                </a:lnTo>
                <a:lnTo>
                  <a:pt x="0" y="181"/>
                </a:lnTo>
                <a:lnTo>
                  <a:pt x="0" y="102"/>
                </a:lnTo>
                <a:lnTo>
                  <a:pt x="11" y="102"/>
                </a:lnTo>
                <a:lnTo>
                  <a:pt x="33" y="102"/>
                </a:lnTo>
                <a:lnTo>
                  <a:pt x="56" y="91"/>
                </a:lnTo>
                <a:lnTo>
                  <a:pt x="90" y="91"/>
                </a:lnTo>
                <a:lnTo>
                  <a:pt x="124" y="80"/>
                </a:lnTo>
                <a:lnTo>
                  <a:pt x="158" y="68"/>
                </a:lnTo>
                <a:lnTo>
                  <a:pt x="192" y="57"/>
                </a:lnTo>
                <a:lnTo>
                  <a:pt x="226" y="46"/>
                </a:lnTo>
                <a:lnTo>
                  <a:pt x="271" y="34"/>
                </a:lnTo>
                <a:lnTo>
                  <a:pt x="305" y="23"/>
                </a:lnTo>
                <a:lnTo>
                  <a:pt x="339" y="12"/>
                </a:lnTo>
                <a:lnTo>
                  <a:pt x="361" y="12"/>
                </a:lnTo>
                <a:lnTo>
                  <a:pt x="384" y="0"/>
                </a:lnTo>
                <a:lnTo>
                  <a:pt x="407" y="0"/>
                </a:lnTo>
                <a:lnTo>
                  <a:pt x="429" y="0"/>
                </a:lnTo>
                <a:lnTo>
                  <a:pt x="440" y="12"/>
                </a:lnTo>
                <a:lnTo>
                  <a:pt x="463" y="12"/>
                </a:lnTo>
                <a:lnTo>
                  <a:pt x="474" y="23"/>
                </a:lnTo>
                <a:lnTo>
                  <a:pt x="486" y="34"/>
                </a:lnTo>
                <a:lnTo>
                  <a:pt x="497" y="46"/>
                </a:lnTo>
                <a:lnTo>
                  <a:pt x="497" y="57"/>
                </a:lnTo>
                <a:lnTo>
                  <a:pt x="497" y="80"/>
                </a:lnTo>
                <a:lnTo>
                  <a:pt x="486" y="102"/>
                </a:lnTo>
                <a:lnTo>
                  <a:pt x="474" y="113"/>
                </a:lnTo>
                <a:lnTo>
                  <a:pt x="463" y="12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1"/>
          <p:cNvSpPr/>
          <p:nvPr/>
        </p:nvSpPr>
        <p:spPr>
          <a:xfrm>
            <a:off x="5769000" y="3197160"/>
            <a:ext cx="458640" cy="119160"/>
          </a:xfrm>
          <a:custGeom>
            <a:avLst/>
            <a:gdLst>
              <a:gd name="textAreaLeft" fmla="*/ 0 w 458640"/>
              <a:gd name="textAreaRight" fmla="*/ 459000 w 4586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723" h="181">
                <a:moveTo>
                  <a:pt x="0" y="68"/>
                </a:moveTo>
                <a:lnTo>
                  <a:pt x="67" y="68"/>
                </a:lnTo>
                <a:lnTo>
                  <a:pt x="135" y="57"/>
                </a:lnTo>
                <a:lnTo>
                  <a:pt x="203" y="46"/>
                </a:lnTo>
                <a:lnTo>
                  <a:pt x="271" y="34"/>
                </a:lnTo>
                <a:lnTo>
                  <a:pt x="305" y="23"/>
                </a:lnTo>
                <a:lnTo>
                  <a:pt x="339" y="23"/>
                </a:lnTo>
                <a:lnTo>
                  <a:pt x="395" y="12"/>
                </a:lnTo>
                <a:lnTo>
                  <a:pt x="440" y="12"/>
                </a:lnTo>
                <a:lnTo>
                  <a:pt x="497" y="12"/>
                </a:lnTo>
                <a:lnTo>
                  <a:pt x="565" y="12"/>
                </a:lnTo>
                <a:lnTo>
                  <a:pt x="644" y="0"/>
                </a:lnTo>
                <a:lnTo>
                  <a:pt x="723" y="0"/>
                </a:lnTo>
                <a:lnTo>
                  <a:pt x="689" y="102"/>
                </a:lnTo>
                <a:lnTo>
                  <a:pt x="621" y="113"/>
                </a:lnTo>
                <a:lnTo>
                  <a:pt x="554" y="125"/>
                </a:lnTo>
                <a:lnTo>
                  <a:pt x="474" y="125"/>
                </a:lnTo>
                <a:lnTo>
                  <a:pt x="384" y="136"/>
                </a:lnTo>
                <a:lnTo>
                  <a:pt x="294" y="147"/>
                </a:lnTo>
                <a:lnTo>
                  <a:pt x="203" y="159"/>
                </a:lnTo>
                <a:lnTo>
                  <a:pt x="101" y="170"/>
                </a:lnTo>
                <a:lnTo>
                  <a:pt x="0" y="181"/>
                </a:lnTo>
                <a:lnTo>
                  <a:pt x="0" y="6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2"/>
          <p:cNvSpPr/>
          <p:nvPr/>
        </p:nvSpPr>
        <p:spPr>
          <a:xfrm>
            <a:off x="6005520" y="2616120"/>
            <a:ext cx="652320" cy="1530360"/>
          </a:xfrm>
          <a:custGeom>
            <a:avLst/>
            <a:gdLst>
              <a:gd name="textAreaLeft" fmla="*/ 0 w 652320"/>
              <a:gd name="textAreaRight" fmla="*/ 652680 w 65232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028" h="2352">
                <a:moveTo>
                  <a:pt x="599" y="1990"/>
                </a:moveTo>
                <a:lnTo>
                  <a:pt x="565" y="2024"/>
                </a:lnTo>
                <a:lnTo>
                  <a:pt x="531" y="2058"/>
                </a:lnTo>
                <a:lnTo>
                  <a:pt x="486" y="2092"/>
                </a:lnTo>
                <a:lnTo>
                  <a:pt x="441" y="2126"/>
                </a:lnTo>
                <a:lnTo>
                  <a:pt x="395" y="2160"/>
                </a:lnTo>
                <a:lnTo>
                  <a:pt x="339" y="2193"/>
                </a:lnTo>
                <a:lnTo>
                  <a:pt x="294" y="2227"/>
                </a:lnTo>
                <a:lnTo>
                  <a:pt x="237" y="2261"/>
                </a:lnTo>
                <a:lnTo>
                  <a:pt x="181" y="2284"/>
                </a:lnTo>
                <a:lnTo>
                  <a:pt x="135" y="2307"/>
                </a:lnTo>
                <a:lnTo>
                  <a:pt x="101" y="2329"/>
                </a:lnTo>
                <a:lnTo>
                  <a:pt x="67" y="2340"/>
                </a:lnTo>
                <a:lnTo>
                  <a:pt x="45" y="2352"/>
                </a:lnTo>
                <a:lnTo>
                  <a:pt x="22" y="2352"/>
                </a:lnTo>
                <a:lnTo>
                  <a:pt x="11" y="2352"/>
                </a:lnTo>
                <a:lnTo>
                  <a:pt x="0" y="2352"/>
                </a:lnTo>
                <a:lnTo>
                  <a:pt x="0" y="2340"/>
                </a:lnTo>
                <a:lnTo>
                  <a:pt x="11" y="2329"/>
                </a:lnTo>
                <a:lnTo>
                  <a:pt x="34" y="2307"/>
                </a:lnTo>
                <a:lnTo>
                  <a:pt x="56" y="2284"/>
                </a:lnTo>
                <a:lnTo>
                  <a:pt x="90" y="2261"/>
                </a:lnTo>
                <a:lnTo>
                  <a:pt x="135" y="2227"/>
                </a:lnTo>
                <a:lnTo>
                  <a:pt x="181" y="2182"/>
                </a:lnTo>
                <a:lnTo>
                  <a:pt x="237" y="2148"/>
                </a:lnTo>
                <a:lnTo>
                  <a:pt x="294" y="2092"/>
                </a:lnTo>
                <a:lnTo>
                  <a:pt x="350" y="2046"/>
                </a:lnTo>
                <a:lnTo>
                  <a:pt x="407" y="1990"/>
                </a:lnTo>
                <a:lnTo>
                  <a:pt x="463" y="1933"/>
                </a:lnTo>
                <a:lnTo>
                  <a:pt x="508" y="1866"/>
                </a:lnTo>
                <a:lnTo>
                  <a:pt x="554" y="1809"/>
                </a:lnTo>
                <a:lnTo>
                  <a:pt x="599" y="1741"/>
                </a:lnTo>
                <a:lnTo>
                  <a:pt x="633" y="1673"/>
                </a:lnTo>
                <a:lnTo>
                  <a:pt x="701" y="1538"/>
                </a:lnTo>
                <a:lnTo>
                  <a:pt x="723" y="1470"/>
                </a:lnTo>
                <a:lnTo>
                  <a:pt x="757" y="1391"/>
                </a:lnTo>
                <a:lnTo>
                  <a:pt x="780" y="1323"/>
                </a:lnTo>
                <a:lnTo>
                  <a:pt x="802" y="1255"/>
                </a:lnTo>
                <a:lnTo>
                  <a:pt x="814" y="1176"/>
                </a:lnTo>
                <a:lnTo>
                  <a:pt x="836" y="1108"/>
                </a:lnTo>
                <a:lnTo>
                  <a:pt x="848" y="961"/>
                </a:lnTo>
                <a:lnTo>
                  <a:pt x="859" y="803"/>
                </a:lnTo>
                <a:lnTo>
                  <a:pt x="870" y="645"/>
                </a:lnTo>
                <a:lnTo>
                  <a:pt x="870" y="577"/>
                </a:lnTo>
                <a:lnTo>
                  <a:pt x="859" y="498"/>
                </a:lnTo>
                <a:lnTo>
                  <a:pt x="859" y="419"/>
                </a:lnTo>
                <a:lnTo>
                  <a:pt x="848" y="362"/>
                </a:lnTo>
                <a:lnTo>
                  <a:pt x="848" y="305"/>
                </a:lnTo>
                <a:lnTo>
                  <a:pt x="836" y="249"/>
                </a:lnTo>
                <a:lnTo>
                  <a:pt x="836" y="215"/>
                </a:lnTo>
                <a:lnTo>
                  <a:pt x="825" y="181"/>
                </a:lnTo>
                <a:lnTo>
                  <a:pt x="814" y="147"/>
                </a:lnTo>
                <a:lnTo>
                  <a:pt x="802" y="125"/>
                </a:lnTo>
                <a:lnTo>
                  <a:pt x="791" y="102"/>
                </a:lnTo>
                <a:lnTo>
                  <a:pt x="780" y="68"/>
                </a:lnTo>
                <a:lnTo>
                  <a:pt x="780" y="45"/>
                </a:lnTo>
                <a:lnTo>
                  <a:pt x="780" y="34"/>
                </a:lnTo>
                <a:lnTo>
                  <a:pt x="780" y="23"/>
                </a:lnTo>
                <a:lnTo>
                  <a:pt x="791" y="23"/>
                </a:lnTo>
                <a:lnTo>
                  <a:pt x="791" y="12"/>
                </a:lnTo>
                <a:lnTo>
                  <a:pt x="814" y="0"/>
                </a:lnTo>
                <a:lnTo>
                  <a:pt x="836" y="12"/>
                </a:lnTo>
                <a:lnTo>
                  <a:pt x="859" y="12"/>
                </a:lnTo>
                <a:lnTo>
                  <a:pt x="870" y="12"/>
                </a:lnTo>
                <a:lnTo>
                  <a:pt x="915" y="23"/>
                </a:lnTo>
                <a:lnTo>
                  <a:pt x="961" y="34"/>
                </a:lnTo>
                <a:lnTo>
                  <a:pt x="995" y="34"/>
                </a:lnTo>
                <a:lnTo>
                  <a:pt x="1028" y="34"/>
                </a:lnTo>
                <a:lnTo>
                  <a:pt x="1028" y="45"/>
                </a:lnTo>
                <a:lnTo>
                  <a:pt x="1028" y="57"/>
                </a:lnTo>
                <a:lnTo>
                  <a:pt x="1028" y="68"/>
                </a:lnTo>
                <a:lnTo>
                  <a:pt x="1028" y="91"/>
                </a:lnTo>
                <a:lnTo>
                  <a:pt x="1028" y="113"/>
                </a:lnTo>
                <a:lnTo>
                  <a:pt x="1028" y="136"/>
                </a:lnTo>
                <a:lnTo>
                  <a:pt x="1028" y="159"/>
                </a:lnTo>
                <a:lnTo>
                  <a:pt x="1028" y="181"/>
                </a:lnTo>
                <a:lnTo>
                  <a:pt x="1028" y="215"/>
                </a:lnTo>
                <a:lnTo>
                  <a:pt x="1028" y="238"/>
                </a:lnTo>
                <a:lnTo>
                  <a:pt x="1028" y="317"/>
                </a:lnTo>
                <a:lnTo>
                  <a:pt x="1028" y="396"/>
                </a:lnTo>
                <a:lnTo>
                  <a:pt x="1028" y="486"/>
                </a:lnTo>
                <a:lnTo>
                  <a:pt x="1028" y="577"/>
                </a:lnTo>
                <a:lnTo>
                  <a:pt x="1017" y="667"/>
                </a:lnTo>
                <a:lnTo>
                  <a:pt x="1017" y="758"/>
                </a:lnTo>
                <a:lnTo>
                  <a:pt x="1017" y="837"/>
                </a:lnTo>
                <a:lnTo>
                  <a:pt x="1006" y="916"/>
                </a:lnTo>
                <a:lnTo>
                  <a:pt x="1006" y="995"/>
                </a:lnTo>
                <a:lnTo>
                  <a:pt x="995" y="1063"/>
                </a:lnTo>
                <a:lnTo>
                  <a:pt x="983" y="1131"/>
                </a:lnTo>
                <a:lnTo>
                  <a:pt x="961" y="1255"/>
                </a:lnTo>
                <a:lnTo>
                  <a:pt x="927" y="1379"/>
                </a:lnTo>
                <a:lnTo>
                  <a:pt x="893" y="1504"/>
                </a:lnTo>
                <a:lnTo>
                  <a:pt x="848" y="1617"/>
                </a:lnTo>
                <a:lnTo>
                  <a:pt x="791" y="1719"/>
                </a:lnTo>
                <a:lnTo>
                  <a:pt x="734" y="1809"/>
                </a:lnTo>
                <a:lnTo>
                  <a:pt x="667" y="1911"/>
                </a:lnTo>
                <a:lnTo>
                  <a:pt x="599" y="19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3"/>
          <p:cNvSpPr/>
          <p:nvPr/>
        </p:nvSpPr>
        <p:spPr>
          <a:xfrm>
            <a:off x="6622920" y="2998800"/>
            <a:ext cx="301680" cy="88920"/>
          </a:xfrm>
          <a:custGeom>
            <a:avLst/>
            <a:gdLst>
              <a:gd name="textAreaLeft" fmla="*/ 0 w 301680"/>
              <a:gd name="textAreaRight" fmla="*/ 302040 w 301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75" h="136">
                <a:moveTo>
                  <a:pt x="362" y="113"/>
                </a:moveTo>
                <a:lnTo>
                  <a:pt x="339" y="124"/>
                </a:lnTo>
                <a:lnTo>
                  <a:pt x="316" y="124"/>
                </a:lnTo>
                <a:lnTo>
                  <a:pt x="271" y="124"/>
                </a:lnTo>
                <a:lnTo>
                  <a:pt x="237" y="136"/>
                </a:lnTo>
                <a:lnTo>
                  <a:pt x="181" y="136"/>
                </a:lnTo>
                <a:lnTo>
                  <a:pt x="124" y="136"/>
                </a:lnTo>
                <a:lnTo>
                  <a:pt x="68" y="136"/>
                </a:lnTo>
                <a:lnTo>
                  <a:pt x="0" y="136"/>
                </a:lnTo>
                <a:lnTo>
                  <a:pt x="0" y="34"/>
                </a:lnTo>
                <a:lnTo>
                  <a:pt x="34" y="34"/>
                </a:lnTo>
                <a:lnTo>
                  <a:pt x="68" y="34"/>
                </a:lnTo>
                <a:lnTo>
                  <a:pt x="90" y="34"/>
                </a:lnTo>
                <a:lnTo>
                  <a:pt x="124" y="23"/>
                </a:lnTo>
                <a:lnTo>
                  <a:pt x="147" y="23"/>
                </a:lnTo>
                <a:lnTo>
                  <a:pt x="169" y="23"/>
                </a:lnTo>
                <a:lnTo>
                  <a:pt x="181" y="11"/>
                </a:lnTo>
                <a:lnTo>
                  <a:pt x="203" y="11"/>
                </a:lnTo>
                <a:lnTo>
                  <a:pt x="226" y="0"/>
                </a:lnTo>
                <a:lnTo>
                  <a:pt x="260" y="0"/>
                </a:lnTo>
                <a:lnTo>
                  <a:pt x="283" y="0"/>
                </a:lnTo>
                <a:lnTo>
                  <a:pt x="316" y="0"/>
                </a:lnTo>
                <a:lnTo>
                  <a:pt x="339" y="0"/>
                </a:lnTo>
                <a:lnTo>
                  <a:pt x="362" y="0"/>
                </a:lnTo>
                <a:lnTo>
                  <a:pt x="396" y="0"/>
                </a:lnTo>
                <a:lnTo>
                  <a:pt x="418" y="11"/>
                </a:lnTo>
                <a:lnTo>
                  <a:pt x="429" y="11"/>
                </a:lnTo>
                <a:lnTo>
                  <a:pt x="441" y="23"/>
                </a:lnTo>
                <a:lnTo>
                  <a:pt x="463" y="34"/>
                </a:lnTo>
                <a:lnTo>
                  <a:pt x="475" y="45"/>
                </a:lnTo>
                <a:lnTo>
                  <a:pt x="475" y="57"/>
                </a:lnTo>
                <a:lnTo>
                  <a:pt x="463" y="79"/>
                </a:lnTo>
                <a:lnTo>
                  <a:pt x="452" y="79"/>
                </a:lnTo>
                <a:lnTo>
                  <a:pt x="441" y="91"/>
                </a:lnTo>
                <a:lnTo>
                  <a:pt x="429" y="91"/>
                </a:lnTo>
                <a:lnTo>
                  <a:pt x="407" y="102"/>
                </a:lnTo>
                <a:lnTo>
                  <a:pt x="384" y="113"/>
                </a:lnTo>
                <a:lnTo>
                  <a:pt x="362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3200" bIns="432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4"/>
          <p:cNvSpPr/>
          <p:nvPr/>
        </p:nvSpPr>
        <p:spPr>
          <a:xfrm>
            <a:off x="6594480" y="3330720"/>
            <a:ext cx="322200" cy="95040"/>
          </a:xfrm>
          <a:custGeom>
            <a:avLst/>
            <a:gdLst>
              <a:gd name="textAreaLeft" fmla="*/ 0 w 322200"/>
              <a:gd name="textAreaRight" fmla="*/ 322560 w 3222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508" h="147">
                <a:moveTo>
                  <a:pt x="226" y="22"/>
                </a:moveTo>
                <a:lnTo>
                  <a:pt x="260" y="11"/>
                </a:lnTo>
                <a:lnTo>
                  <a:pt x="294" y="11"/>
                </a:lnTo>
                <a:lnTo>
                  <a:pt x="316" y="0"/>
                </a:lnTo>
                <a:lnTo>
                  <a:pt x="350" y="0"/>
                </a:lnTo>
                <a:lnTo>
                  <a:pt x="373" y="0"/>
                </a:lnTo>
                <a:lnTo>
                  <a:pt x="395" y="0"/>
                </a:lnTo>
                <a:lnTo>
                  <a:pt x="418" y="0"/>
                </a:lnTo>
                <a:lnTo>
                  <a:pt x="441" y="11"/>
                </a:lnTo>
                <a:lnTo>
                  <a:pt x="463" y="22"/>
                </a:lnTo>
                <a:lnTo>
                  <a:pt x="486" y="34"/>
                </a:lnTo>
                <a:lnTo>
                  <a:pt x="497" y="45"/>
                </a:lnTo>
                <a:lnTo>
                  <a:pt x="508" y="56"/>
                </a:lnTo>
                <a:lnTo>
                  <a:pt x="508" y="68"/>
                </a:lnTo>
                <a:lnTo>
                  <a:pt x="497" y="90"/>
                </a:lnTo>
                <a:lnTo>
                  <a:pt x="474" y="102"/>
                </a:lnTo>
                <a:lnTo>
                  <a:pt x="463" y="102"/>
                </a:lnTo>
                <a:lnTo>
                  <a:pt x="452" y="113"/>
                </a:lnTo>
                <a:lnTo>
                  <a:pt x="441" y="113"/>
                </a:lnTo>
                <a:lnTo>
                  <a:pt x="429" y="124"/>
                </a:lnTo>
                <a:lnTo>
                  <a:pt x="418" y="124"/>
                </a:lnTo>
                <a:lnTo>
                  <a:pt x="395" y="124"/>
                </a:lnTo>
                <a:lnTo>
                  <a:pt x="384" y="136"/>
                </a:lnTo>
                <a:lnTo>
                  <a:pt x="361" y="136"/>
                </a:lnTo>
                <a:lnTo>
                  <a:pt x="339" y="136"/>
                </a:lnTo>
                <a:lnTo>
                  <a:pt x="305" y="136"/>
                </a:lnTo>
                <a:lnTo>
                  <a:pt x="282" y="147"/>
                </a:lnTo>
                <a:lnTo>
                  <a:pt x="248" y="147"/>
                </a:lnTo>
                <a:lnTo>
                  <a:pt x="214" y="147"/>
                </a:lnTo>
                <a:lnTo>
                  <a:pt x="181" y="147"/>
                </a:lnTo>
                <a:lnTo>
                  <a:pt x="135" y="147"/>
                </a:lnTo>
                <a:lnTo>
                  <a:pt x="90" y="147"/>
                </a:lnTo>
                <a:lnTo>
                  <a:pt x="45" y="147"/>
                </a:lnTo>
                <a:lnTo>
                  <a:pt x="0" y="147"/>
                </a:lnTo>
                <a:lnTo>
                  <a:pt x="0" y="45"/>
                </a:lnTo>
                <a:lnTo>
                  <a:pt x="22" y="45"/>
                </a:lnTo>
                <a:lnTo>
                  <a:pt x="45" y="45"/>
                </a:lnTo>
                <a:lnTo>
                  <a:pt x="68" y="45"/>
                </a:lnTo>
                <a:lnTo>
                  <a:pt x="90" y="34"/>
                </a:lnTo>
                <a:lnTo>
                  <a:pt x="124" y="34"/>
                </a:lnTo>
                <a:lnTo>
                  <a:pt x="147" y="34"/>
                </a:lnTo>
                <a:lnTo>
                  <a:pt x="226" y="2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5"/>
          <p:cNvSpPr/>
          <p:nvPr/>
        </p:nvSpPr>
        <p:spPr>
          <a:xfrm>
            <a:off x="6572160" y="2543040"/>
            <a:ext cx="603360" cy="1624320"/>
          </a:xfrm>
          <a:custGeom>
            <a:avLst/>
            <a:gdLst>
              <a:gd name="textAreaLeft" fmla="*/ 0 w 603360"/>
              <a:gd name="textAreaRight" fmla="*/ 603720 w 603360"/>
              <a:gd name="textAreaTop" fmla="*/ 0 h 1624320"/>
              <a:gd name="textAreaBottom" fmla="*/ 1624680 h 1624320"/>
            </a:gdLst>
            <a:ahLst/>
            <a:rect l="textAreaLeft" t="textAreaTop" r="textAreaRight" b="textAreaBottom"/>
            <a:pathLst>
              <a:path w="949" h="2499">
                <a:moveTo>
                  <a:pt x="701" y="1753"/>
                </a:moveTo>
                <a:lnTo>
                  <a:pt x="712" y="1662"/>
                </a:lnTo>
                <a:lnTo>
                  <a:pt x="712" y="1583"/>
                </a:lnTo>
                <a:lnTo>
                  <a:pt x="712" y="1515"/>
                </a:lnTo>
                <a:lnTo>
                  <a:pt x="712" y="1436"/>
                </a:lnTo>
                <a:lnTo>
                  <a:pt x="712" y="1379"/>
                </a:lnTo>
                <a:lnTo>
                  <a:pt x="712" y="1323"/>
                </a:lnTo>
                <a:lnTo>
                  <a:pt x="712" y="1266"/>
                </a:lnTo>
                <a:lnTo>
                  <a:pt x="712" y="1221"/>
                </a:lnTo>
                <a:lnTo>
                  <a:pt x="712" y="1165"/>
                </a:lnTo>
                <a:lnTo>
                  <a:pt x="712" y="1119"/>
                </a:lnTo>
                <a:lnTo>
                  <a:pt x="712" y="1052"/>
                </a:lnTo>
                <a:lnTo>
                  <a:pt x="712" y="984"/>
                </a:lnTo>
                <a:lnTo>
                  <a:pt x="712" y="905"/>
                </a:lnTo>
                <a:lnTo>
                  <a:pt x="712" y="825"/>
                </a:lnTo>
                <a:lnTo>
                  <a:pt x="712" y="735"/>
                </a:lnTo>
                <a:lnTo>
                  <a:pt x="701" y="633"/>
                </a:lnTo>
                <a:lnTo>
                  <a:pt x="701" y="588"/>
                </a:lnTo>
                <a:lnTo>
                  <a:pt x="701" y="532"/>
                </a:lnTo>
                <a:lnTo>
                  <a:pt x="701" y="498"/>
                </a:lnTo>
                <a:lnTo>
                  <a:pt x="689" y="452"/>
                </a:lnTo>
                <a:lnTo>
                  <a:pt x="689" y="407"/>
                </a:lnTo>
                <a:lnTo>
                  <a:pt x="689" y="373"/>
                </a:lnTo>
                <a:lnTo>
                  <a:pt x="689" y="339"/>
                </a:lnTo>
                <a:lnTo>
                  <a:pt x="678" y="317"/>
                </a:lnTo>
                <a:lnTo>
                  <a:pt x="678" y="283"/>
                </a:lnTo>
                <a:lnTo>
                  <a:pt x="678" y="260"/>
                </a:lnTo>
                <a:lnTo>
                  <a:pt x="667" y="249"/>
                </a:lnTo>
                <a:lnTo>
                  <a:pt x="667" y="226"/>
                </a:lnTo>
                <a:lnTo>
                  <a:pt x="667" y="215"/>
                </a:lnTo>
                <a:lnTo>
                  <a:pt x="655" y="204"/>
                </a:lnTo>
                <a:lnTo>
                  <a:pt x="655" y="192"/>
                </a:lnTo>
                <a:lnTo>
                  <a:pt x="644" y="192"/>
                </a:lnTo>
                <a:lnTo>
                  <a:pt x="633" y="192"/>
                </a:lnTo>
                <a:lnTo>
                  <a:pt x="610" y="181"/>
                </a:lnTo>
                <a:lnTo>
                  <a:pt x="588" y="181"/>
                </a:lnTo>
                <a:lnTo>
                  <a:pt x="554" y="181"/>
                </a:lnTo>
                <a:lnTo>
                  <a:pt x="508" y="181"/>
                </a:lnTo>
                <a:lnTo>
                  <a:pt x="452" y="192"/>
                </a:lnTo>
                <a:lnTo>
                  <a:pt x="395" y="192"/>
                </a:lnTo>
                <a:lnTo>
                  <a:pt x="339" y="204"/>
                </a:lnTo>
                <a:lnTo>
                  <a:pt x="271" y="215"/>
                </a:lnTo>
                <a:lnTo>
                  <a:pt x="215" y="226"/>
                </a:lnTo>
                <a:lnTo>
                  <a:pt x="158" y="238"/>
                </a:lnTo>
                <a:lnTo>
                  <a:pt x="113" y="238"/>
                </a:lnTo>
                <a:lnTo>
                  <a:pt x="79" y="238"/>
                </a:lnTo>
                <a:lnTo>
                  <a:pt x="45" y="226"/>
                </a:lnTo>
                <a:lnTo>
                  <a:pt x="11" y="226"/>
                </a:lnTo>
                <a:lnTo>
                  <a:pt x="0" y="215"/>
                </a:lnTo>
                <a:lnTo>
                  <a:pt x="0" y="147"/>
                </a:lnTo>
                <a:lnTo>
                  <a:pt x="22" y="147"/>
                </a:lnTo>
                <a:lnTo>
                  <a:pt x="56" y="147"/>
                </a:lnTo>
                <a:lnTo>
                  <a:pt x="90" y="147"/>
                </a:lnTo>
                <a:lnTo>
                  <a:pt x="124" y="136"/>
                </a:lnTo>
                <a:lnTo>
                  <a:pt x="169" y="136"/>
                </a:lnTo>
                <a:lnTo>
                  <a:pt x="215" y="125"/>
                </a:lnTo>
                <a:lnTo>
                  <a:pt x="271" y="113"/>
                </a:lnTo>
                <a:lnTo>
                  <a:pt x="328" y="102"/>
                </a:lnTo>
                <a:lnTo>
                  <a:pt x="373" y="91"/>
                </a:lnTo>
                <a:lnTo>
                  <a:pt x="418" y="79"/>
                </a:lnTo>
                <a:lnTo>
                  <a:pt x="463" y="68"/>
                </a:lnTo>
                <a:lnTo>
                  <a:pt x="497" y="57"/>
                </a:lnTo>
                <a:lnTo>
                  <a:pt x="531" y="57"/>
                </a:lnTo>
                <a:lnTo>
                  <a:pt x="554" y="45"/>
                </a:lnTo>
                <a:lnTo>
                  <a:pt x="565" y="34"/>
                </a:lnTo>
                <a:lnTo>
                  <a:pt x="576" y="23"/>
                </a:lnTo>
                <a:lnTo>
                  <a:pt x="599" y="12"/>
                </a:lnTo>
                <a:lnTo>
                  <a:pt x="610" y="0"/>
                </a:lnTo>
                <a:lnTo>
                  <a:pt x="633" y="0"/>
                </a:lnTo>
                <a:lnTo>
                  <a:pt x="667" y="0"/>
                </a:lnTo>
                <a:lnTo>
                  <a:pt x="701" y="12"/>
                </a:lnTo>
                <a:lnTo>
                  <a:pt x="735" y="23"/>
                </a:lnTo>
                <a:lnTo>
                  <a:pt x="780" y="45"/>
                </a:lnTo>
                <a:lnTo>
                  <a:pt x="814" y="57"/>
                </a:lnTo>
                <a:lnTo>
                  <a:pt x="836" y="79"/>
                </a:lnTo>
                <a:lnTo>
                  <a:pt x="859" y="91"/>
                </a:lnTo>
                <a:lnTo>
                  <a:pt x="882" y="113"/>
                </a:lnTo>
                <a:lnTo>
                  <a:pt x="904" y="125"/>
                </a:lnTo>
                <a:lnTo>
                  <a:pt x="915" y="147"/>
                </a:lnTo>
                <a:lnTo>
                  <a:pt x="927" y="158"/>
                </a:lnTo>
                <a:lnTo>
                  <a:pt x="938" y="170"/>
                </a:lnTo>
                <a:lnTo>
                  <a:pt x="949" y="181"/>
                </a:lnTo>
                <a:lnTo>
                  <a:pt x="949" y="192"/>
                </a:lnTo>
                <a:lnTo>
                  <a:pt x="949" y="215"/>
                </a:lnTo>
                <a:lnTo>
                  <a:pt x="938" y="226"/>
                </a:lnTo>
                <a:lnTo>
                  <a:pt x="927" y="249"/>
                </a:lnTo>
                <a:lnTo>
                  <a:pt x="904" y="260"/>
                </a:lnTo>
                <a:lnTo>
                  <a:pt x="893" y="272"/>
                </a:lnTo>
                <a:lnTo>
                  <a:pt x="893" y="283"/>
                </a:lnTo>
                <a:lnTo>
                  <a:pt x="893" y="294"/>
                </a:lnTo>
                <a:lnTo>
                  <a:pt x="882" y="317"/>
                </a:lnTo>
                <a:lnTo>
                  <a:pt x="882" y="339"/>
                </a:lnTo>
                <a:lnTo>
                  <a:pt x="882" y="362"/>
                </a:lnTo>
                <a:lnTo>
                  <a:pt x="882" y="396"/>
                </a:lnTo>
                <a:lnTo>
                  <a:pt x="882" y="430"/>
                </a:lnTo>
                <a:lnTo>
                  <a:pt x="870" y="464"/>
                </a:lnTo>
                <a:lnTo>
                  <a:pt x="870" y="509"/>
                </a:lnTo>
                <a:lnTo>
                  <a:pt x="870" y="554"/>
                </a:lnTo>
                <a:lnTo>
                  <a:pt x="870" y="599"/>
                </a:lnTo>
                <a:lnTo>
                  <a:pt x="882" y="645"/>
                </a:lnTo>
                <a:lnTo>
                  <a:pt x="882" y="701"/>
                </a:lnTo>
                <a:lnTo>
                  <a:pt x="882" y="758"/>
                </a:lnTo>
                <a:lnTo>
                  <a:pt x="882" y="1006"/>
                </a:lnTo>
                <a:lnTo>
                  <a:pt x="882" y="1255"/>
                </a:lnTo>
                <a:lnTo>
                  <a:pt x="882" y="1504"/>
                </a:lnTo>
                <a:lnTo>
                  <a:pt x="893" y="1753"/>
                </a:lnTo>
                <a:lnTo>
                  <a:pt x="893" y="1809"/>
                </a:lnTo>
                <a:lnTo>
                  <a:pt x="893" y="1866"/>
                </a:lnTo>
                <a:lnTo>
                  <a:pt x="893" y="1922"/>
                </a:lnTo>
                <a:lnTo>
                  <a:pt x="893" y="1979"/>
                </a:lnTo>
                <a:lnTo>
                  <a:pt x="893" y="2024"/>
                </a:lnTo>
                <a:lnTo>
                  <a:pt x="893" y="2080"/>
                </a:lnTo>
                <a:lnTo>
                  <a:pt x="893" y="2126"/>
                </a:lnTo>
                <a:lnTo>
                  <a:pt x="882" y="2159"/>
                </a:lnTo>
                <a:lnTo>
                  <a:pt x="882" y="2205"/>
                </a:lnTo>
                <a:lnTo>
                  <a:pt x="870" y="2239"/>
                </a:lnTo>
                <a:lnTo>
                  <a:pt x="859" y="2273"/>
                </a:lnTo>
                <a:lnTo>
                  <a:pt x="859" y="2295"/>
                </a:lnTo>
                <a:lnTo>
                  <a:pt x="848" y="2318"/>
                </a:lnTo>
                <a:lnTo>
                  <a:pt x="836" y="2352"/>
                </a:lnTo>
                <a:lnTo>
                  <a:pt x="825" y="2363"/>
                </a:lnTo>
                <a:lnTo>
                  <a:pt x="814" y="2386"/>
                </a:lnTo>
                <a:lnTo>
                  <a:pt x="791" y="2420"/>
                </a:lnTo>
                <a:lnTo>
                  <a:pt x="769" y="2442"/>
                </a:lnTo>
                <a:lnTo>
                  <a:pt x="746" y="2453"/>
                </a:lnTo>
                <a:lnTo>
                  <a:pt x="735" y="2476"/>
                </a:lnTo>
                <a:lnTo>
                  <a:pt x="712" y="2487"/>
                </a:lnTo>
                <a:lnTo>
                  <a:pt x="701" y="2499"/>
                </a:lnTo>
                <a:lnTo>
                  <a:pt x="689" y="2499"/>
                </a:lnTo>
                <a:lnTo>
                  <a:pt x="678" y="2499"/>
                </a:lnTo>
                <a:lnTo>
                  <a:pt x="667" y="2499"/>
                </a:lnTo>
                <a:lnTo>
                  <a:pt x="655" y="2487"/>
                </a:lnTo>
                <a:lnTo>
                  <a:pt x="644" y="2465"/>
                </a:lnTo>
                <a:lnTo>
                  <a:pt x="633" y="2453"/>
                </a:lnTo>
                <a:lnTo>
                  <a:pt x="622" y="2431"/>
                </a:lnTo>
                <a:lnTo>
                  <a:pt x="622" y="2408"/>
                </a:lnTo>
                <a:lnTo>
                  <a:pt x="610" y="2386"/>
                </a:lnTo>
                <a:lnTo>
                  <a:pt x="599" y="2363"/>
                </a:lnTo>
                <a:lnTo>
                  <a:pt x="576" y="2340"/>
                </a:lnTo>
                <a:lnTo>
                  <a:pt x="554" y="2318"/>
                </a:lnTo>
                <a:lnTo>
                  <a:pt x="520" y="2284"/>
                </a:lnTo>
                <a:lnTo>
                  <a:pt x="486" y="2261"/>
                </a:lnTo>
                <a:lnTo>
                  <a:pt x="452" y="2239"/>
                </a:lnTo>
                <a:lnTo>
                  <a:pt x="418" y="2205"/>
                </a:lnTo>
                <a:lnTo>
                  <a:pt x="384" y="2182"/>
                </a:lnTo>
                <a:lnTo>
                  <a:pt x="350" y="2159"/>
                </a:lnTo>
                <a:lnTo>
                  <a:pt x="316" y="2148"/>
                </a:lnTo>
                <a:lnTo>
                  <a:pt x="294" y="2126"/>
                </a:lnTo>
                <a:lnTo>
                  <a:pt x="282" y="2114"/>
                </a:lnTo>
                <a:lnTo>
                  <a:pt x="260" y="2103"/>
                </a:lnTo>
                <a:lnTo>
                  <a:pt x="260" y="2092"/>
                </a:lnTo>
                <a:lnTo>
                  <a:pt x="260" y="2080"/>
                </a:lnTo>
                <a:lnTo>
                  <a:pt x="271" y="2080"/>
                </a:lnTo>
                <a:lnTo>
                  <a:pt x="282" y="2080"/>
                </a:lnTo>
                <a:lnTo>
                  <a:pt x="305" y="2080"/>
                </a:lnTo>
                <a:lnTo>
                  <a:pt x="328" y="2080"/>
                </a:lnTo>
                <a:lnTo>
                  <a:pt x="362" y="2080"/>
                </a:lnTo>
                <a:lnTo>
                  <a:pt x="407" y="2080"/>
                </a:lnTo>
                <a:lnTo>
                  <a:pt x="441" y="2092"/>
                </a:lnTo>
                <a:lnTo>
                  <a:pt x="486" y="2103"/>
                </a:lnTo>
                <a:lnTo>
                  <a:pt x="531" y="2103"/>
                </a:lnTo>
                <a:lnTo>
                  <a:pt x="565" y="2114"/>
                </a:lnTo>
                <a:lnTo>
                  <a:pt x="588" y="2114"/>
                </a:lnTo>
                <a:lnTo>
                  <a:pt x="610" y="2114"/>
                </a:lnTo>
                <a:lnTo>
                  <a:pt x="633" y="2114"/>
                </a:lnTo>
                <a:lnTo>
                  <a:pt x="655" y="2114"/>
                </a:lnTo>
                <a:lnTo>
                  <a:pt x="667" y="2114"/>
                </a:lnTo>
                <a:lnTo>
                  <a:pt x="667" y="2103"/>
                </a:lnTo>
                <a:lnTo>
                  <a:pt x="667" y="2092"/>
                </a:lnTo>
                <a:lnTo>
                  <a:pt x="667" y="2080"/>
                </a:lnTo>
                <a:lnTo>
                  <a:pt x="678" y="2069"/>
                </a:lnTo>
                <a:lnTo>
                  <a:pt x="678" y="2058"/>
                </a:lnTo>
                <a:lnTo>
                  <a:pt x="678" y="2035"/>
                </a:lnTo>
                <a:lnTo>
                  <a:pt x="678" y="2013"/>
                </a:lnTo>
                <a:lnTo>
                  <a:pt x="689" y="1990"/>
                </a:lnTo>
                <a:lnTo>
                  <a:pt x="689" y="1967"/>
                </a:lnTo>
                <a:lnTo>
                  <a:pt x="689" y="1933"/>
                </a:lnTo>
                <a:lnTo>
                  <a:pt x="689" y="1899"/>
                </a:lnTo>
                <a:lnTo>
                  <a:pt x="701" y="1866"/>
                </a:lnTo>
                <a:lnTo>
                  <a:pt x="701" y="1832"/>
                </a:lnTo>
                <a:lnTo>
                  <a:pt x="701" y="1798"/>
                </a:lnTo>
                <a:lnTo>
                  <a:pt x="701" y="175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6"/>
          <p:cNvSpPr/>
          <p:nvPr/>
        </p:nvSpPr>
        <p:spPr>
          <a:xfrm>
            <a:off x="5589720" y="2733840"/>
            <a:ext cx="623880" cy="1234800"/>
          </a:xfrm>
          <a:custGeom>
            <a:avLst/>
            <a:gdLst>
              <a:gd name="textAreaLeft" fmla="*/ 0 w 623880"/>
              <a:gd name="textAreaRight" fmla="*/ 624240 w 623880"/>
              <a:gd name="textAreaTop" fmla="*/ 0 h 1234800"/>
              <a:gd name="textAreaBottom" fmla="*/ 1235160 h 1234800"/>
            </a:gdLst>
            <a:ahLst/>
            <a:rect l="textAreaLeft" t="textAreaTop" r="textAreaRight" b="textAreaBottom"/>
            <a:pathLst>
              <a:path w="984" h="1899">
                <a:moveTo>
                  <a:pt x="158" y="147"/>
                </a:moveTo>
                <a:lnTo>
                  <a:pt x="147" y="124"/>
                </a:lnTo>
                <a:lnTo>
                  <a:pt x="136" y="102"/>
                </a:lnTo>
                <a:lnTo>
                  <a:pt x="124" y="68"/>
                </a:lnTo>
                <a:lnTo>
                  <a:pt x="124" y="34"/>
                </a:lnTo>
                <a:lnTo>
                  <a:pt x="124" y="23"/>
                </a:lnTo>
                <a:lnTo>
                  <a:pt x="136" y="11"/>
                </a:lnTo>
                <a:lnTo>
                  <a:pt x="147" y="11"/>
                </a:lnTo>
                <a:lnTo>
                  <a:pt x="170" y="0"/>
                </a:lnTo>
                <a:lnTo>
                  <a:pt x="192" y="11"/>
                </a:lnTo>
                <a:lnTo>
                  <a:pt x="226" y="11"/>
                </a:lnTo>
                <a:lnTo>
                  <a:pt x="260" y="11"/>
                </a:lnTo>
                <a:lnTo>
                  <a:pt x="305" y="23"/>
                </a:lnTo>
                <a:lnTo>
                  <a:pt x="362" y="23"/>
                </a:lnTo>
                <a:lnTo>
                  <a:pt x="362" y="147"/>
                </a:lnTo>
                <a:lnTo>
                  <a:pt x="362" y="260"/>
                </a:lnTo>
                <a:lnTo>
                  <a:pt x="362" y="373"/>
                </a:lnTo>
                <a:lnTo>
                  <a:pt x="362" y="475"/>
                </a:lnTo>
                <a:lnTo>
                  <a:pt x="362" y="577"/>
                </a:lnTo>
                <a:lnTo>
                  <a:pt x="362" y="667"/>
                </a:lnTo>
                <a:lnTo>
                  <a:pt x="362" y="746"/>
                </a:lnTo>
                <a:lnTo>
                  <a:pt x="362" y="825"/>
                </a:lnTo>
                <a:lnTo>
                  <a:pt x="362" y="893"/>
                </a:lnTo>
                <a:lnTo>
                  <a:pt x="362" y="961"/>
                </a:lnTo>
                <a:lnTo>
                  <a:pt x="362" y="1018"/>
                </a:lnTo>
                <a:lnTo>
                  <a:pt x="350" y="1074"/>
                </a:lnTo>
                <a:lnTo>
                  <a:pt x="350" y="1119"/>
                </a:lnTo>
                <a:lnTo>
                  <a:pt x="350" y="1153"/>
                </a:lnTo>
                <a:lnTo>
                  <a:pt x="350" y="1187"/>
                </a:lnTo>
                <a:lnTo>
                  <a:pt x="350" y="1210"/>
                </a:lnTo>
                <a:lnTo>
                  <a:pt x="339" y="1255"/>
                </a:lnTo>
                <a:lnTo>
                  <a:pt x="339" y="1300"/>
                </a:lnTo>
                <a:lnTo>
                  <a:pt x="339" y="1334"/>
                </a:lnTo>
                <a:lnTo>
                  <a:pt x="339" y="1357"/>
                </a:lnTo>
                <a:lnTo>
                  <a:pt x="339" y="1379"/>
                </a:lnTo>
                <a:lnTo>
                  <a:pt x="339" y="1402"/>
                </a:lnTo>
                <a:lnTo>
                  <a:pt x="339" y="1413"/>
                </a:lnTo>
                <a:lnTo>
                  <a:pt x="350" y="1413"/>
                </a:lnTo>
                <a:lnTo>
                  <a:pt x="362" y="1413"/>
                </a:lnTo>
                <a:lnTo>
                  <a:pt x="373" y="1413"/>
                </a:lnTo>
                <a:lnTo>
                  <a:pt x="396" y="1413"/>
                </a:lnTo>
                <a:lnTo>
                  <a:pt x="418" y="1402"/>
                </a:lnTo>
                <a:lnTo>
                  <a:pt x="441" y="1391"/>
                </a:lnTo>
                <a:lnTo>
                  <a:pt x="475" y="1379"/>
                </a:lnTo>
                <a:lnTo>
                  <a:pt x="509" y="1357"/>
                </a:lnTo>
                <a:lnTo>
                  <a:pt x="554" y="1345"/>
                </a:lnTo>
                <a:lnTo>
                  <a:pt x="599" y="1323"/>
                </a:lnTo>
                <a:lnTo>
                  <a:pt x="656" y="1289"/>
                </a:lnTo>
                <a:lnTo>
                  <a:pt x="712" y="1266"/>
                </a:lnTo>
                <a:lnTo>
                  <a:pt x="769" y="1232"/>
                </a:lnTo>
                <a:lnTo>
                  <a:pt x="825" y="1210"/>
                </a:lnTo>
                <a:lnTo>
                  <a:pt x="904" y="1165"/>
                </a:lnTo>
                <a:lnTo>
                  <a:pt x="972" y="1131"/>
                </a:lnTo>
                <a:lnTo>
                  <a:pt x="984" y="1221"/>
                </a:lnTo>
                <a:lnTo>
                  <a:pt x="927" y="1255"/>
                </a:lnTo>
                <a:lnTo>
                  <a:pt x="870" y="1300"/>
                </a:lnTo>
                <a:lnTo>
                  <a:pt x="769" y="1368"/>
                </a:lnTo>
                <a:lnTo>
                  <a:pt x="678" y="1436"/>
                </a:lnTo>
                <a:lnTo>
                  <a:pt x="599" y="1492"/>
                </a:lnTo>
                <a:lnTo>
                  <a:pt x="520" y="1549"/>
                </a:lnTo>
                <a:lnTo>
                  <a:pt x="452" y="1605"/>
                </a:lnTo>
                <a:lnTo>
                  <a:pt x="396" y="1662"/>
                </a:lnTo>
                <a:lnTo>
                  <a:pt x="350" y="1707"/>
                </a:lnTo>
                <a:lnTo>
                  <a:pt x="305" y="1752"/>
                </a:lnTo>
                <a:lnTo>
                  <a:pt x="260" y="1786"/>
                </a:lnTo>
                <a:lnTo>
                  <a:pt x="226" y="1820"/>
                </a:lnTo>
                <a:lnTo>
                  <a:pt x="203" y="1854"/>
                </a:lnTo>
                <a:lnTo>
                  <a:pt x="170" y="1877"/>
                </a:lnTo>
                <a:lnTo>
                  <a:pt x="158" y="1888"/>
                </a:lnTo>
                <a:lnTo>
                  <a:pt x="136" y="1899"/>
                </a:lnTo>
                <a:lnTo>
                  <a:pt x="124" y="1899"/>
                </a:lnTo>
                <a:lnTo>
                  <a:pt x="113" y="1888"/>
                </a:lnTo>
                <a:lnTo>
                  <a:pt x="102" y="1888"/>
                </a:lnTo>
                <a:lnTo>
                  <a:pt x="90" y="1877"/>
                </a:lnTo>
                <a:lnTo>
                  <a:pt x="79" y="1865"/>
                </a:lnTo>
                <a:lnTo>
                  <a:pt x="68" y="1854"/>
                </a:lnTo>
                <a:lnTo>
                  <a:pt x="56" y="1832"/>
                </a:lnTo>
                <a:lnTo>
                  <a:pt x="45" y="1809"/>
                </a:lnTo>
                <a:lnTo>
                  <a:pt x="34" y="1786"/>
                </a:lnTo>
                <a:lnTo>
                  <a:pt x="23" y="1764"/>
                </a:lnTo>
                <a:lnTo>
                  <a:pt x="11" y="1730"/>
                </a:lnTo>
                <a:lnTo>
                  <a:pt x="0" y="1696"/>
                </a:lnTo>
                <a:lnTo>
                  <a:pt x="0" y="1673"/>
                </a:lnTo>
                <a:lnTo>
                  <a:pt x="0" y="1662"/>
                </a:lnTo>
                <a:lnTo>
                  <a:pt x="11" y="1651"/>
                </a:lnTo>
                <a:lnTo>
                  <a:pt x="11" y="1639"/>
                </a:lnTo>
                <a:lnTo>
                  <a:pt x="23" y="1628"/>
                </a:lnTo>
                <a:lnTo>
                  <a:pt x="45" y="1605"/>
                </a:lnTo>
                <a:lnTo>
                  <a:pt x="56" y="1583"/>
                </a:lnTo>
                <a:lnTo>
                  <a:pt x="79" y="1560"/>
                </a:lnTo>
                <a:lnTo>
                  <a:pt x="90" y="1538"/>
                </a:lnTo>
                <a:lnTo>
                  <a:pt x="102" y="1504"/>
                </a:lnTo>
                <a:lnTo>
                  <a:pt x="124" y="1470"/>
                </a:lnTo>
                <a:lnTo>
                  <a:pt x="136" y="1425"/>
                </a:lnTo>
                <a:lnTo>
                  <a:pt x="147" y="1379"/>
                </a:lnTo>
                <a:lnTo>
                  <a:pt x="158" y="1323"/>
                </a:lnTo>
                <a:lnTo>
                  <a:pt x="170" y="1266"/>
                </a:lnTo>
                <a:lnTo>
                  <a:pt x="181" y="1210"/>
                </a:lnTo>
                <a:lnTo>
                  <a:pt x="192" y="1142"/>
                </a:lnTo>
                <a:lnTo>
                  <a:pt x="203" y="1074"/>
                </a:lnTo>
                <a:lnTo>
                  <a:pt x="215" y="1006"/>
                </a:lnTo>
                <a:lnTo>
                  <a:pt x="215" y="927"/>
                </a:lnTo>
                <a:lnTo>
                  <a:pt x="215" y="848"/>
                </a:lnTo>
                <a:lnTo>
                  <a:pt x="226" y="769"/>
                </a:lnTo>
                <a:lnTo>
                  <a:pt x="226" y="678"/>
                </a:lnTo>
                <a:lnTo>
                  <a:pt x="226" y="588"/>
                </a:lnTo>
                <a:lnTo>
                  <a:pt x="226" y="543"/>
                </a:lnTo>
                <a:lnTo>
                  <a:pt x="226" y="498"/>
                </a:lnTo>
                <a:lnTo>
                  <a:pt x="215" y="464"/>
                </a:lnTo>
                <a:lnTo>
                  <a:pt x="215" y="418"/>
                </a:lnTo>
                <a:lnTo>
                  <a:pt x="215" y="351"/>
                </a:lnTo>
                <a:lnTo>
                  <a:pt x="203" y="294"/>
                </a:lnTo>
                <a:lnTo>
                  <a:pt x="192" y="238"/>
                </a:lnTo>
                <a:lnTo>
                  <a:pt x="181" y="204"/>
                </a:lnTo>
                <a:lnTo>
                  <a:pt x="170" y="170"/>
                </a:lnTo>
                <a:lnTo>
                  <a:pt x="158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7"/>
          <p:cNvSpPr/>
          <p:nvPr/>
        </p:nvSpPr>
        <p:spPr>
          <a:xfrm>
            <a:off x="6070680" y="3389400"/>
            <a:ext cx="228600" cy="293760"/>
          </a:xfrm>
          <a:custGeom>
            <a:avLst/>
            <a:gdLst>
              <a:gd name="textAreaLeft" fmla="*/ 0 w 228600"/>
              <a:gd name="textAreaRight" fmla="*/ 228960 w 22860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362" h="453">
                <a:moveTo>
                  <a:pt x="0" y="0"/>
                </a:moveTo>
                <a:lnTo>
                  <a:pt x="68" y="23"/>
                </a:lnTo>
                <a:lnTo>
                  <a:pt x="136" y="46"/>
                </a:lnTo>
                <a:lnTo>
                  <a:pt x="193" y="68"/>
                </a:lnTo>
                <a:lnTo>
                  <a:pt x="249" y="102"/>
                </a:lnTo>
                <a:lnTo>
                  <a:pt x="283" y="136"/>
                </a:lnTo>
                <a:lnTo>
                  <a:pt x="317" y="170"/>
                </a:lnTo>
                <a:lnTo>
                  <a:pt x="340" y="204"/>
                </a:lnTo>
                <a:lnTo>
                  <a:pt x="351" y="215"/>
                </a:lnTo>
                <a:lnTo>
                  <a:pt x="351" y="226"/>
                </a:lnTo>
                <a:lnTo>
                  <a:pt x="362" y="249"/>
                </a:lnTo>
                <a:lnTo>
                  <a:pt x="362" y="260"/>
                </a:lnTo>
                <a:lnTo>
                  <a:pt x="362" y="294"/>
                </a:lnTo>
                <a:lnTo>
                  <a:pt x="362" y="306"/>
                </a:lnTo>
                <a:lnTo>
                  <a:pt x="362" y="317"/>
                </a:lnTo>
                <a:lnTo>
                  <a:pt x="362" y="328"/>
                </a:lnTo>
                <a:lnTo>
                  <a:pt x="362" y="351"/>
                </a:lnTo>
                <a:lnTo>
                  <a:pt x="362" y="373"/>
                </a:lnTo>
                <a:lnTo>
                  <a:pt x="351" y="396"/>
                </a:lnTo>
                <a:lnTo>
                  <a:pt x="351" y="407"/>
                </a:lnTo>
                <a:lnTo>
                  <a:pt x="340" y="419"/>
                </a:lnTo>
                <a:lnTo>
                  <a:pt x="328" y="441"/>
                </a:lnTo>
                <a:lnTo>
                  <a:pt x="306" y="453"/>
                </a:lnTo>
                <a:lnTo>
                  <a:pt x="294" y="453"/>
                </a:lnTo>
                <a:lnTo>
                  <a:pt x="283" y="453"/>
                </a:lnTo>
                <a:lnTo>
                  <a:pt x="272" y="441"/>
                </a:lnTo>
                <a:lnTo>
                  <a:pt x="260" y="419"/>
                </a:lnTo>
                <a:lnTo>
                  <a:pt x="238" y="407"/>
                </a:lnTo>
                <a:lnTo>
                  <a:pt x="215" y="373"/>
                </a:lnTo>
                <a:lnTo>
                  <a:pt x="193" y="339"/>
                </a:lnTo>
                <a:lnTo>
                  <a:pt x="159" y="306"/>
                </a:lnTo>
                <a:lnTo>
                  <a:pt x="136" y="260"/>
                </a:lnTo>
                <a:lnTo>
                  <a:pt x="102" y="204"/>
                </a:lnTo>
                <a:lnTo>
                  <a:pt x="80" y="170"/>
                </a:lnTo>
                <a:lnTo>
                  <a:pt x="46" y="125"/>
                </a:lnTo>
                <a:lnTo>
                  <a:pt x="34" y="91"/>
                </a:lnTo>
                <a:lnTo>
                  <a:pt x="23" y="57"/>
                </a:lnTo>
                <a:lnTo>
                  <a:pt x="12" y="34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却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qu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77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3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第二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9"/>
          <p:cNvSpPr/>
          <p:nvPr/>
        </p:nvSpPr>
        <p:spPr>
          <a:xfrm>
            <a:off x="898560" y="4646520"/>
            <a:ext cx="342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却是  盛情难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住在温暖窝里的不是寒号鸟，却是喜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543672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0"/>
          <p:cNvSpPr/>
          <p:nvPr/>
        </p:nvSpPr>
        <p:spPr>
          <a:xfrm>
            <a:off x="5802480" y="2712960"/>
            <a:ext cx="674640" cy="206280"/>
          </a:xfrm>
          <a:custGeom>
            <a:avLst/>
            <a:gdLst>
              <a:gd name="textAreaLeft" fmla="*/ 0 w 674640"/>
              <a:gd name="textAreaRight" fmla="*/ 675000 w 6746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063" h="317">
                <a:moveTo>
                  <a:pt x="577" y="91"/>
                </a:moveTo>
                <a:lnTo>
                  <a:pt x="645" y="68"/>
                </a:lnTo>
                <a:lnTo>
                  <a:pt x="701" y="45"/>
                </a:lnTo>
                <a:lnTo>
                  <a:pt x="758" y="34"/>
                </a:lnTo>
                <a:lnTo>
                  <a:pt x="803" y="12"/>
                </a:lnTo>
                <a:lnTo>
                  <a:pt x="837" y="12"/>
                </a:lnTo>
                <a:lnTo>
                  <a:pt x="871" y="0"/>
                </a:lnTo>
                <a:lnTo>
                  <a:pt x="893" y="0"/>
                </a:lnTo>
                <a:lnTo>
                  <a:pt x="905" y="0"/>
                </a:lnTo>
                <a:lnTo>
                  <a:pt x="927" y="0"/>
                </a:lnTo>
                <a:lnTo>
                  <a:pt x="950" y="0"/>
                </a:lnTo>
                <a:lnTo>
                  <a:pt x="973" y="12"/>
                </a:lnTo>
                <a:lnTo>
                  <a:pt x="1006" y="23"/>
                </a:lnTo>
                <a:lnTo>
                  <a:pt x="1029" y="34"/>
                </a:lnTo>
                <a:lnTo>
                  <a:pt x="1052" y="57"/>
                </a:lnTo>
                <a:lnTo>
                  <a:pt x="1063" y="68"/>
                </a:lnTo>
                <a:lnTo>
                  <a:pt x="1063" y="79"/>
                </a:lnTo>
                <a:lnTo>
                  <a:pt x="1063" y="91"/>
                </a:lnTo>
                <a:lnTo>
                  <a:pt x="1052" y="102"/>
                </a:lnTo>
                <a:lnTo>
                  <a:pt x="1029" y="113"/>
                </a:lnTo>
                <a:lnTo>
                  <a:pt x="1006" y="125"/>
                </a:lnTo>
                <a:lnTo>
                  <a:pt x="984" y="136"/>
                </a:lnTo>
                <a:lnTo>
                  <a:pt x="961" y="147"/>
                </a:lnTo>
                <a:lnTo>
                  <a:pt x="916" y="158"/>
                </a:lnTo>
                <a:lnTo>
                  <a:pt x="871" y="170"/>
                </a:lnTo>
                <a:lnTo>
                  <a:pt x="814" y="192"/>
                </a:lnTo>
                <a:lnTo>
                  <a:pt x="746" y="204"/>
                </a:lnTo>
                <a:lnTo>
                  <a:pt x="679" y="215"/>
                </a:lnTo>
                <a:lnTo>
                  <a:pt x="588" y="238"/>
                </a:lnTo>
                <a:lnTo>
                  <a:pt x="543" y="238"/>
                </a:lnTo>
                <a:lnTo>
                  <a:pt x="509" y="249"/>
                </a:lnTo>
                <a:lnTo>
                  <a:pt x="464" y="260"/>
                </a:lnTo>
                <a:lnTo>
                  <a:pt x="430" y="272"/>
                </a:lnTo>
                <a:lnTo>
                  <a:pt x="396" y="272"/>
                </a:lnTo>
                <a:lnTo>
                  <a:pt x="373" y="283"/>
                </a:lnTo>
                <a:lnTo>
                  <a:pt x="339" y="283"/>
                </a:lnTo>
                <a:lnTo>
                  <a:pt x="317" y="294"/>
                </a:lnTo>
                <a:lnTo>
                  <a:pt x="294" y="294"/>
                </a:lnTo>
                <a:lnTo>
                  <a:pt x="272" y="305"/>
                </a:lnTo>
                <a:lnTo>
                  <a:pt x="260" y="305"/>
                </a:lnTo>
                <a:lnTo>
                  <a:pt x="238" y="305"/>
                </a:lnTo>
                <a:lnTo>
                  <a:pt x="226" y="305"/>
                </a:lnTo>
                <a:lnTo>
                  <a:pt x="215" y="305"/>
                </a:lnTo>
                <a:lnTo>
                  <a:pt x="204" y="317"/>
                </a:lnTo>
                <a:lnTo>
                  <a:pt x="181" y="305"/>
                </a:lnTo>
                <a:lnTo>
                  <a:pt x="159" y="305"/>
                </a:lnTo>
                <a:lnTo>
                  <a:pt x="125" y="294"/>
                </a:lnTo>
                <a:lnTo>
                  <a:pt x="91" y="272"/>
                </a:lnTo>
                <a:lnTo>
                  <a:pt x="68" y="272"/>
                </a:lnTo>
                <a:lnTo>
                  <a:pt x="45" y="260"/>
                </a:lnTo>
                <a:lnTo>
                  <a:pt x="34" y="249"/>
                </a:lnTo>
                <a:lnTo>
                  <a:pt x="23" y="249"/>
                </a:lnTo>
                <a:lnTo>
                  <a:pt x="12" y="238"/>
                </a:lnTo>
                <a:lnTo>
                  <a:pt x="12" y="226"/>
                </a:lnTo>
                <a:lnTo>
                  <a:pt x="0" y="226"/>
                </a:lnTo>
                <a:lnTo>
                  <a:pt x="0" y="215"/>
                </a:lnTo>
                <a:lnTo>
                  <a:pt x="12" y="215"/>
                </a:lnTo>
                <a:lnTo>
                  <a:pt x="23" y="204"/>
                </a:lnTo>
                <a:lnTo>
                  <a:pt x="45" y="204"/>
                </a:lnTo>
                <a:lnTo>
                  <a:pt x="57" y="192"/>
                </a:lnTo>
                <a:lnTo>
                  <a:pt x="91" y="192"/>
                </a:lnTo>
                <a:lnTo>
                  <a:pt x="113" y="181"/>
                </a:lnTo>
                <a:lnTo>
                  <a:pt x="159" y="181"/>
                </a:lnTo>
                <a:lnTo>
                  <a:pt x="192" y="170"/>
                </a:lnTo>
                <a:lnTo>
                  <a:pt x="238" y="170"/>
                </a:lnTo>
                <a:lnTo>
                  <a:pt x="283" y="158"/>
                </a:lnTo>
                <a:lnTo>
                  <a:pt x="328" y="147"/>
                </a:lnTo>
                <a:lnTo>
                  <a:pt x="385" y="136"/>
                </a:lnTo>
                <a:lnTo>
                  <a:pt x="452" y="125"/>
                </a:lnTo>
                <a:lnTo>
                  <a:pt x="509" y="102"/>
                </a:lnTo>
                <a:lnTo>
                  <a:pt x="577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2"/>
          <p:cNvSpPr/>
          <p:nvPr/>
        </p:nvSpPr>
        <p:spPr>
          <a:xfrm>
            <a:off x="6670800" y="2581200"/>
            <a:ext cx="596880" cy="976320"/>
          </a:xfrm>
          <a:custGeom>
            <a:avLst/>
            <a:gdLst>
              <a:gd name="textAreaLeft" fmla="*/ 0 w 596880"/>
              <a:gd name="textAreaRight" fmla="*/ 597240 w 59688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939" h="1503">
                <a:moveTo>
                  <a:pt x="780" y="1029"/>
                </a:moveTo>
                <a:lnTo>
                  <a:pt x="769" y="1096"/>
                </a:lnTo>
                <a:lnTo>
                  <a:pt x="758" y="1153"/>
                </a:lnTo>
                <a:lnTo>
                  <a:pt x="746" y="1198"/>
                </a:lnTo>
                <a:lnTo>
                  <a:pt x="735" y="1243"/>
                </a:lnTo>
                <a:lnTo>
                  <a:pt x="724" y="1289"/>
                </a:lnTo>
                <a:lnTo>
                  <a:pt x="701" y="1322"/>
                </a:lnTo>
                <a:lnTo>
                  <a:pt x="678" y="1356"/>
                </a:lnTo>
                <a:lnTo>
                  <a:pt x="656" y="1390"/>
                </a:lnTo>
                <a:lnTo>
                  <a:pt x="633" y="1413"/>
                </a:lnTo>
                <a:lnTo>
                  <a:pt x="622" y="1435"/>
                </a:lnTo>
                <a:lnTo>
                  <a:pt x="599" y="1458"/>
                </a:lnTo>
                <a:lnTo>
                  <a:pt x="588" y="1481"/>
                </a:lnTo>
                <a:lnTo>
                  <a:pt x="565" y="1492"/>
                </a:lnTo>
                <a:lnTo>
                  <a:pt x="554" y="1503"/>
                </a:lnTo>
                <a:lnTo>
                  <a:pt x="543" y="1503"/>
                </a:lnTo>
                <a:lnTo>
                  <a:pt x="532" y="1503"/>
                </a:lnTo>
                <a:lnTo>
                  <a:pt x="520" y="1503"/>
                </a:lnTo>
                <a:lnTo>
                  <a:pt x="509" y="1492"/>
                </a:lnTo>
                <a:lnTo>
                  <a:pt x="509" y="1481"/>
                </a:lnTo>
                <a:lnTo>
                  <a:pt x="498" y="1458"/>
                </a:lnTo>
                <a:lnTo>
                  <a:pt x="498" y="1447"/>
                </a:lnTo>
                <a:lnTo>
                  <a:pt x="486" y="1424"/>
                </a:lnTo>
                <a:lnTo>
                  <a:pt x="486" y="1402"/>
                </a:lnTo>
                <a:lnTo>
                  <a:pt x="475" y="1379"/>
                </a:lnTo>
                <a:lnTo>
                  <a:pt x="464" y="1356"/>
                </a:lnTo>
                <a:lnTo>
                  <a:pt x="452" y="1334"/>
                </a:lnTo>
                <a:lnTo>
                  <a:pt x="441" y="1311"/>
                </a:lnTo>
                <a:lnTo>
                  <a:pt x="418" y="1289"/>
                </a:lnTo>
                <a:lnTo>
                  <a:pt x="396" y="1266"/>
                </a:lnTo>
                <a:lnTo>
                  <a:pt x="362" y="1255"/>
                </a:lnTo>
                <a:lnTo>
                  <a:pt x="339" y="1232"/>
                </a:lnTo>
                <a:lnTo>
                  <a:pt x="294" y="1209"/>
                </a:lnTo>
                <a:lnTo>
                  <a:pt x="272" y="1187"/>
                </a:lnTo>
                <a:lnTo>
                  <a:pt x="249" y="1175"/>
                </a:lnTo>
                <a:lnTo>
                  <a:pt x="226" y="1164"/>
                </a:lnTo>
                <a:lnTo>
                  <a:pt x="204" y="1153"/>
                </a:lnTo>
                <a:lnTo>
                  <a:pt x="204" y="1142"/>
                </a:lnTo>
                <a:lnTo>
                  <a:pt x="192" y="1130"/>
                </a:lnTo>
                <a:lnTo>
                  <a:pt x="192" y="1119"/>
                </a:lnTo>
                <a:lnTo>
                  <a:pt x="204" y="1119"/>
                </a:lnTo>
                <a:lnTo>
                  <a:pt x="215" y="1119"/>
                </a:lnTo>
                <a:lnTo>
                  <a:pt x="238" y="1108"/>
                </a:lnTo>
                <a:lnTo>
                  <a:pt x="260" y="1119"/>
                </a:lnTo>
                <a:lnTo>
                  <a:pt x="283" y="1119"/>
                </a:lnTo>
                <a:lnTo>
                  <a:pt x="317" y="1119"/>
                </a:lnTo>
                <a:lnTo>
                  <a:pt x="362" y="1119"/>
                </a:lnTo>
                <a:lnTo>
                  <a:pt x="396" y="1130"/>
                </a:lnTo>
                <a:lnTo>
                  <a:pt x="430" y="1142"/>
                </a:lnTo>
                <a:lnTo>
                  <a:pt x="452" y="1142"/>
                </a:lnTo>
                <a:lnTo>
                  <a:pt x="486" y="1142"/>
                </a:lnTo>
                <a:lnTo>
                  <a:pt x="498" y="1142"/>
                </a:lnTo>
                <a:lnTo>
                  <a:pt x="520" y="1130"/>
                </a:lnTo>
                <a:lnTo>
                  <a:pt x="532" y="1119"/>
                </a:lnTo>
                <a:lnTo>
                  <a:pt x="543" y="1108"/>
                </a:lnTo>
                <a:lnTo>
                  <a:pt x="554" y="1108"/>
                </a:lnTo>
                <a:lnTo>
                  <a:pt x="554" y="1096"/>
                </a:lnTo>
                <a:lnTo>
                  <a:pt x="554" y="1085"/>
                </a:lnTo>
                <a:lnTo>
                  <a:pt x="554" y="1062"/>
                </a:lnTo>
                <a:lnTo>
                  <a:pt x="565" y="1051"/>
                </a:lnTo>
                <a:lnTo>
                  <a:pt x="565" y="1029"/>
                </a:lnTo>
                <a:lnTo>
                  <a:pt x="565" y="1006"/>
                </a:lnTo>
                <a:lnTo>
                  <a:pt x="577" y="983"/>
                </a:lnTo>
                <a:lnTo>
                  <a:pt x="577" y="949"/>
                </a:lnTo>
                <a:lnTo>
                  <a:pt x="588" y="915"/>
                </a:lnTo>
                <a:lnTo>
                  <a:pt x="588" y="882"/>
                </a:lnTo>
                <a:lnTo>
                  <a:pt x="599" y="848"/>
                </a:lnTo>
                <a:lnTo>
                  <a:pt x="599" y="802"/>
                </a:lnTo>
                <a:lnTo>
                  <a:pt x="611" y="757"/>
                </a:lnTo>
                <a:lnTo>
                  <a:pt x="611" y="712"/>
                </a:lnTo>
                <a:lnTo>
                  <a:pt x="622" y="655"/>
                </a:lnTo>
                <a:lnTo>
                  <a:pt x="622" y="610"/>
                </a:lnTo>
                <a:lnTo>
                  <a:pt x="633" y="565"/>
                </a:lnTo>
                <a:lnTo>
                  <a:pt x="633" y="520"/>
                </a:lnTo>
                <a:lnTo>
                  <a:pt x="633" y="486"/>
                </a:lnTo>
                <a:lnTo>
                  <a:pt x="633" y="452"/>
                </a:lnTo>
                <a:lnTo>
                  <a:pt x="633" y="418"/>
                </a:lnTo>
                <a:lnTo>
                  <a:pt x="633" y="384"/>
                </a:lnTo>
                <a:lnTo>
                  <a:pt x="633" y="350"/>
                </a:lnTo>
                <a:lnTo>
                  <a:pt x="633" y="328"/>
                </a:lnTo>
                <a:lnTo>
                  <a:pt x="633" y="305"/>
                </a:lnTo>
                <a:lnTo>
                  <a:pt x="633" y="282"/>
                </a:lnTo>
                <a:lnTo>
                  <a:pt x="633" y="260"/>
                </a:lnTo>
                <a:lnTo>
                  <a:pt x="622" y="248"/>
                </a:lnTo>
                <a:lnTo>
                  <a:pt x="622" y="226"/>
                </a:lnTo>
                <a:lnTo>
                  <a:pt x="611" y="215"/>
                </a:lnTo>
                <a:lnTo>
                  <a:pt x="599" y="203"/>
                </a:lnTo>
                <a:lnTo>
                  <a:pt x="588" y="203"/>
                </a:lnTo>
                <a:lnTo>
                  <a:pt x="565" y="192"/>
                </a:lnTo>
                <a:lnTo>
                  <a:pt x="554" y="192"/>
                </a:lnTo>
                <a:lnTo>
                  <a:pt x="532" y="192"/>
                </a:lnTo>
                <a:lnTo>
                  <a:pt x="498" y="192"/>
                </a:lnTo>
                <a:lnTo>
                  <a:pt x="464" y="192"/>
                </a:lnTo>
                <a:lnTo>
                  <a:pt x="430" y="192"/>
                </a:lnTo>
                <a:lnTo>
                  <a:pt x="385" y="203"/>
                </a:lnTo>
                <a:lnTo>
                  <a:pt x="351" y="203"/>
                </a:lnTo>
                <a:lnTo>
                  <a:pt x="294" y="215"/>
                </a:lnTo>
                <a:lnTo>
                  <a:pt x="249" y="226"/>
                </a:lnTo>
                <a:lnTo>
                  <a:pt x="192" y="226"/>
                </a:lnTo>
                <a:lnTo>
                  <a:pt x="125" y="237"/>
                </a:lnTo>
                <a:lnTo>
                  <a:pt x="68" y="248"/>
                </a:lnTo>
                <a:lnTo>
                  <a:pt x="0" y="260"/>
                </a:lnTo>
                <a:lnTo>
                  <a:pt x="0" y="158"/>
                </a:lnTo>
                <a:lnTo>
                  <a:pt x="34" y="158"/>
                </a:lnTo>
                <a:lnTo>
                  <a:pt x="68" y="158"/>
                </a:lnTo>
                <a:lnTo>
                  <a:pt x="113" y="158"/>
                </a:lnTo>
                <a:lnTo>
                  <a:pt x="158" y="147"/>
                </a:lnTo>
                <a:lnTo>
                  <a:pt x="249" y="135"/>
                </a:lnTo>
                <a:lnTo>
                  <a:pt x="294" y="124"/>
                </a:lnTo>
                <a:lnTo>
                  <a:pt x="351" y="101"/>
                </a:lnTo>
                <a:lnTo>
                  <a:pt x="396" y="90"/>
                </a:lnTo>
                <a:lnTo>
                  <a:pt x="441" y="90"/>
                </a:lnTo>
                <a:lnTo>
                  <a:pt x="475" y="79"/>
                </a:lnTo>
                <a:lnTo>
                  <a:pt x="509" y="68"/>
                </a:lnTo>
                <a:lnTo>
                  <a:pt x="532" y="56"/>
                </a:lnTo>
                <a:lnTo>
                  <a:pt x="554" y="45"/>
                </a:lnTo>
                <a:lnTo>
                  <a:pt x="577" y="34"/>
                </a:lnTo>
                <a:lnTo>
                  <a:pt x="588" y="22"/>
                </a:lnTo>
                <a:lnTo>
                  <a:pt x="599" y="11"/>
                </a:lnTo>
                <a:lnTo>
                  <a:pt x="611" y="11"/>
                </a:lnTo>
                <a:lnTo>
                  <a:pt x="633" y="0"/>
                </a:lnTo>
                <a:lnTo>
                  <a:pt x="645" y="0"/>
                </a:lnTo>
                <a:lnTo>
                  <a:pt x="656" y="11"/>
                </a:lnTo>
                <a:lnTo>
                  <a:pt x="667" y="11"/>
                </a:lnTo>
                <a:lnTo>
                  <a:pt x="690" y="22"/>
                </a:lnTo>
                <a:lnTo>
                  <a:pt x="701" y="34"/>
                </a:lnTo>
                <a:lnTo>
                  <a:pt x="724" y="45"/>
                </a:lnTo>
                <a:lnTo>
                  <a:pt x="746" y="56"/>
                </a:lnTo>
                <a:lnTo>
                  <a:pt x="780" y="68"/>
                </a:lnTo>
                <a:lnTo>
                  <a:pt x="814" y="79"/>
                </a:lnTo>
                <a:lnTo>
                  <a:pt x="837" y="101"/>
                </a:lnTo>
                <a:lnTo>
                  <a:pt x="871" y="113"/>
                </a:lnTo>
                <a:lnTo>
                  <a:pt x="882" y="135"/>
                </a:lnTo>
                <a:lnTo>
                  <a:pt x="905" y="147"/>
                </a:lnTo>
                <a:lnTo>
                  <a:pt x="916" y="158"/>
                </a:lnTo>
                <a:lnTo>
                  <a:pt x="927" y="181"/>
                </a:lnTo>
                <a:lnTo>
                  <a:pt x="927" y="192"/>
                </a:lnTo>
                <a:lnTo>
                  <a:pt x="939" y="203"/>
                </a:lnTo>
                <a:lnTo>
                  <a:pt x="927" y="215"/>
                </a:lnTo>
                <a:lnTo>
                  <a:pt x="927" y="237"/>
                </a:lnTo>
                <a:lnTo>
                  <a:pt x="916" y="260"/>
                </a:lnTo>
                <a:lnTo>
                  <a:pt x="893" y="282"/>
                </a:lnTo>
                <a:lnTo>
                  <a:pt x="882" y="294"/>
                </a:lnTo>
                <a:lnTo>
                  <a:pt x="871" y="316"/>
                </a:lnTo>
                <a:lnTo>
                  <a:pt x="859" y="339"/>
                </a:lnTo>
                <a:lnTo>
                  <a:pt x="859" y="373"/>
                </a:lnTo>
                <a:lnTo>
                  <a:pt x="848" y="407"/>
                </a:lnTo>
                <a:lnTo>
                  <a:pt x="848" y="441"/>
                </a:lnTo>
                <a:lnTo>
                  <a:pt x="837" y="486"/>
                </a:lnTo>
                <a:lnTo>
                  <a:pt x="837" y="542"/>
                </a:lnTo>
                <a:lnTo>
                  <a:pt x="825" y="599"/>
                </a:lnTo>
                <a:lnTo>
                  <a:pt x="825" y="655"/>
                </a:lnTo>
                <a:lnTo>
                  <a:pt x="814" y="780"/>
                </a:lnTo>
                <a:lnTo>
                  <a:pt x="803" y="904"/>
                </a:lnTo>
                <a:lnTo>
                  <a:pt x="780" y="102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6"/>
          <p:cNvSpPr/>
          <p:nvPr/>
        </p:nvSpPr>
        <p:spPr>
          <a:xfrm>
            <a:off x="6083280" y="2278080"/>
            <a:ext cx="185760" cy="963720"/>
          </a:xfrm>
          <a:custGeom>
            <a:avLst/>
            <a:gdLst>
              <a:gd name="textAreaLeft" fmla="*/ 0 w 185760"/>
              <a:gd name="textAreaRight" fmla="*/ 186120 w 18576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94" h="1481">
                <a:moveTo>
                  <a:pt x="170" y="1459"/>
                </a:moveTo>
                <a:lnTo>
                  <a:pt x="45" y="1481"/>
                </a:lnTo>
                <a:lnTo>
                  <a:pt x="45" y="1470"/>
                </a:lnTo>
                <a:lnTo>
                  <a:pt x="45" y="1459"/>
                </a:lnTo>
                <a:lnTo>
                  <a:pt x="57" y="1436"/>
                </a:lnTo>
                <a:lnTo>
                  <a:pt x="57" y="1425"/>
                </a:lnTo>
                <a:lnTo>
                  <a:pt x="57" y="1402"/>
                </a:lnTo>
                <a:lnTo>
                  <a:pt x="57" y="1379"/>
                </a:lnTo>
                <a:lnTo>
                  <a:pt x="57" y="1346"/>
                </a:lnTo>
                <a:lnTo>
                  <a:pt x="57" y="1323"/>
                </a:lnTo>
                <a:lnTo>
                  <a:pt x="57" y="1289"/>
                </a:lnTo>
                <a:lnTo>
                  <a:pt x="68" y="1255"/>
                </a:lnTo>
                <a:lnTo>
                  <a:pt x="68" y="1221"/>
                </a:lnTo>
                <a:lnTo>
                  <a:pt x="68" y="1176"/>
                </a:lnTo>
                <a:lnTo>
                  <a:pt x="68" y="1131"/>
                </a:lnTo>
                <a:lnTo>
                  <a:pt x="68" y="1086"/>
                </a:lnTo>
                <a:lnTo>
                  <a:pt x="79" y="1029"/>
                </a:lnTo>
                <a:lnTo>
                  <a:pt x="79" y="939"/>
                </a:lnTo>
                <a:lnTo>
                  <a:pt x="79" y="848"/>
                </a:lnTo>
                <a:lnTo>
                  <a:pt x="79" y="758"/>
                </a:lnTo>
                <a:lnTo>
                  <a:pt x="79" y="679"/>
                </a:lnTo>
                <a:lnTo>
                  <a:pt x="79" y="599"/>
                </a:lnTo>
                <a:lnTo>
                  <a:pt x="79" y="520"/>
                </a:lnTo>
                <a:lnTo>
                  <a:pt x="79" y="452"/>
                </a:lnTo>
                <a:lnTo>
                  <a:pt x="79" y="385"/>
                </a:lnTo>
                <a:lnTo>
                  <a:pt x="68" y="328"/>
                </a:lnTo>
                <a:lnTo>
                  <a:pt x="68" y="272"/>
                </a:lnTo>
                <a:lnTo>
                  <a:pt x="57" y="226"/>
                </a:lnTo>
                <a:lnTo>
                  <a:pt x="57" y="192"/>
                </a:lnTo>
                <a:lnTo>
                  <a:pt x="45" y="147"/>
                </a:lnTo>
                <a:lnTo>
                  <a:pt x="45" y="125"/>
                </a:lnTo>
                <a:lnTo>
                  <a:pt x="34" y="102"/>
                </a:lnTo>
                <a:lnTo>
                  <a:pt x="23" y="79"/>
                </a:lnTo>
                <a:lnTo>
                  <a:pt x="11" y="68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0" y="12"/>
                </a:lnTo>
                <a:lnTo>
                  <a:pt x="11" y="0"/>
                </a:lnTo>
                <a:lnTo>
                  <a:pt x="23" y="0"/>
                </a:lnTo>
                <a:lnTo>
                  <a:pt x="34" y="0"/>
                </a:lnTo>
                <a:lnTo>
                  <a:pt x="57" y="0"/>
                </a:lnTo>
                <a:lnTo>
                  <a:pt x="68" y="0"/>
                </a:lnTo>
                <a:lnTo>
                  <a:pt x="91" y="12"/>
                </a:lnTo>
                <a:lnTo>
                  <a:pt x="113" y="12"/>
                </a:lnTo>
                <a:lnTo>
                  <a:pt x="147" y="23"/>
                </a:lnTo>
                <a:lnTo>
                  <a:pt x="170" y="45"/>
                </a:lnTo>
                <a:lnTo>
                  <a:pt x="204" y="57"/>
                </a:lnTo>
                <a:lnTo>
                  <a:pt x="226" y="68"/>
                </a:lnTo>
                <a:lnTo>
                  <a:pt x="249" y="91"/>
                </a:lnTo>
                <a:lnTo>
                  <a:pt x="271" y="102"/>
                </a:lnTo>
                <a:lnTo>
                  <a:pt x="283" y="113"/>
                </a:lnTo>
                <a:lnTo>
                  <a:pt x="294" y="125"/>
                </a:lnTo>
                <a:lnTo>
                  <a:pt x="294" y="136"/>
                </a:lnTo>
                <a:lnTo>
                  <a:pt x="294" y="147"/>
                </a:lnTo>
                <a:lnTo>
                  <a:pt x="294" y="170"/>
                </a:lnTo>
                <a:lnTo>
                  <a:pt x="294" y="204"/>
                </a:lnTo>
                <a:lnTo>
                  <a:pt x="294" y="226"/>
                </a:lnTo>
                <a:lnTo>
                  <a:pt x="283" y="249"/>
                </a:lnTo>
                <a:lnTo>
                  <a:pt x="283" y="260"/>
                </a:lnTo>
                <a:lnTo>
                  <a:pt x="283" y="283"/>
                </a:lnTo>
                <a:lnTo>
                  <a:pt x="283" y="317"/>
                </a:lnTo>
                <a:lnTo>
                  <a:pt x="271" y="351"/>
                </a:lnTo>
                <a:lnTo>
                  <a:pt x="271" y="396"/>
                </a:lnTo>
                <a:lnTo>
                  <a:pt x="260" y="452"/>
                </a:lnTo>
                <a:lnTo>
                  <a:pt x="260" y="520"/>
                </a:lnTo>
                <a:lnTo>
                  <a:pt x="249" y="588"/>
                </a:lnTo>
                <a:lnTo>
                  <a:pt x="238" y="667"/>
                </a:lnTo>
                <a:lnTo>
                  <a:pt x="238" y="758"/>
                </a:lnTo>
                <a:lnTo>
                  <a:pt x="226" y="848"/>
                </a:lnTo>
                <a:lnTo>
                  <a:pt x="215" y="950"/>
                </a:lnTo>
                <a:lnTo>
                  <a:pt x="204" y="1063"/>
                </a:lnTo>
                <a:lnTo>
                  <a:pt x="192" y="1187"/>
                </a:lnTo>
                <a:lnTo>
                  <a:pt x="181" y="1323"/>
                </a:lnTo>
                <a:lnTo>
                  <a:pt x="170" y="14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1"/>
          <p:cNvSpPr/>
          <p:nvPr/>
        </p:nvSpPr>
        <p:spPr>
          <a:xfrm>
            <a:off x="6607080" y="2668680"/>
            <a:ext cx="136800" cy="1550880"/>
          </a:xfrm>
          <a:custGeom>
            <a:avLst/>
            <a:gdLst>
              <a:gd name="textAreaLeft" fmla="*/ 0 w 136800"/>
              <a:gd name="textAreaRight" fmla="*/ 137160 w 136800"/>
              <a:gd name="textAreaTop" fmla="*/ 0 h 1550880"/>
              <a:gd name="textAreaBottom" fmla="*/ 1551240 h 1550880"/>
            </a:gdLst>
            <a:ahLst/>
            <a:rect l="textAreaLeft" t="textAreaTop" r="textAreaRight" b="textAreaBottom"/>
            <a:pathLst>
              <a:path w="215" h="2386">
                <a:moveTo>
                  <a:pt x="0" y="102"/>
                </a:moveTo>
                <a:lnTo>
                  <a:pt x="0" y="80"/>
                </a:lnTo>
                <a:lnTo>
                  <a:pt x="0" y="57"/>
                </a:lnTo>
                <a:lnTo>
                  <a:pt x="0" y="46"/>
                </a:lnTo>
                <a:lnTo>
                  <a:pt x="0" y="23"/>
                </a:lnTo>
                <a:lnTo>
                  <a:pt x="12" y="12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80" y="0"/>
                </a:lnTo>
                <a:lnTo>
                  <a:pt x="125" y="12"/>
                </a:lnTo>
                <a:lnTo>
                  <a:pt x="170" y="23"/>
                </a:lnTo>
                <a:lnTo>
                  <a:pt x="215" y="34"/>
                </a:lnTo>
                <a:lnTo>
                  <a:pt x="215" y="136"/>
                </a:lnTo>
                <a:lnTo>
                  <a:pt x="215" y="238"/>
                </a:lnTo>
                <a:lnTo>
                  <a:pt x="215" y="340"/>
                </a:lnTo>
                <a:lnTo>
                  <a:pt x="215" y="441"/>
                </a:lnTo>
                <a:lnTo>
                  <a:pt x="215" y="532"/>
                </a:lnTo>
                <a:lnTo>
                  <a:pt x="215" y="622"/>
                </a:lnTo>
                <a:lnTo>
                  <a:pt x="215" y="713"/>
                </a:lnTo>
                <a:lnTo>
                  <a:pt x="204" y="792"/>
                </a:lnTo>
                <a:lnTo>
                  <a:pt x="204" y="871"/>
                </a:lnTo>
                <a:lnTo>
                  <a:pt x="204" y="950"/>
                </a:lnTo>
                <a:lnTo>
                  <a:pt x="204" y="1029"/>
                </a:lnTo>
                <a:lnTo>
                  <a:pt x="204" y="1108"/>
                </a:lnTo>
                <a:lnTo>
                  <a:pt x="204" y="1176"/>
                </a:lnTo>
                <a:lnTo>
                  <a:pt x="204" y="1244"/>
                </a:lnTo>
                <a:lnTo>
                  <a:pt x="204" y="1312"/>
                </a:lnTo>
                <a:lnTo>
                  <a:pt x="204" y="1380"/>
                </a:lnTo>
                <a:lnTo>
                  <a:pt x="204" y="1436"/>
                </a:lnTo>
                <a:lnTo>
                  <a:pt x="204" y="1493"/>
                </a:lnTo>
                <a:lnTo>
                  <a:pt x="193" y="1549"/>
                </a:lnTo>
                <a:lnTo>
                  <a:pt x="193" y="1606"/>
                </a:lnTo>
                <a:lnTo>
                  <a:pt x="193" y="1662"/>
                </a:lnTo>
                <a:lnTo>
                  <a:pt x="193" y="1707"/>
                </a:lnTo>
                <a:lnTo>
                  <a:pt x="193" y="1753"/>
                </a:lnTo>
                <a:lnTo>
                  <a:pt x="193" y="1798"/>
                </a:lnTo>
                <a:lnTo>
                  <a:pt x="193" y="1832"/>
                </a:lnTo>
                <a:lnTo>
                  <a:pt x="181" y="1877"/>
                </a:lnTo>
                <a:lnTo>
                  <a:pt x="181" y="1911"/>
                </a:lnTo>
                <a:lnTo>
                  <a:pt x="181" y="1945"/>
                </a:lnTo>
                <a:lnTo>
                  <a:pt x="181" y="1967"/>
                </a:lnTo>
                <a:lnTo>
                  <a:pt x="181" y="2001"/>
                </a:lnTo>
                <a:lnTo>
                  <a:pt x="181" y="2024"/>
                </a:lnTo>
                <a:lnTo>
                  <a:pt x="170" y="2047"/>
                </a:lnTo>
                <a:lnTo>
                  <a:pt x="170" y="2092"/>
                </a:lnTo>
                <a:lnTo>
                  <a:pt x="170" y="2126"/>
                </a:lnTo>
                <a:lnTo>
                  <a:pt x="159" y="2171"/>
                </a:lnTo>
                <a:lnTo>
                  <a:pt x="159" y="2205"/>
                </a:lnTo>
                <a:lnTo>
                  <a:pt x="147" y="2228"/>
                </a:lnTo>
                <a:lnTo>
                  <a:pt x="147" y="2261"/>
                </a:lnTo>
                <a:lnTo>
                  <a:pt x="136" y="2284"/>
                </a:lnTo>
                <a:lnTo>
                  <a:pt x="136" y="2307"/>
                </a:lnTo>
                <a:lnTo>
                  <a:pt x="136" y="2329"/>
                </a:lnTo>
                <a:lnTo>
                  <a:pt x="125" y="2341"/>
                </a:lnTo>
                <a:lnTo>
                  <a:pt x="125" y="2352"/>
                </a:lnTo>
                <a:lnTo>
                  <a:pt x="113" y="2374"/>
                </a:lnTo>
                <a:lnTo>
                  <a:pt x="113" y="2386"/>
                </a:lnTo>
                <a:lnTo>
                  <a:pt x="102" y="2386"/>
                </a:lnTo>
                <a:lnTo>
                  <a:pt x="91" y="2386"/>
                </a:lnTo>
                <a:lnTo>
                  <a:pt x="91" y="2374"/>
                </a:lnTo>
                <a:lnTo>
                  <a:pt x="80" y="2374"/>
                </a:lnTo>
                <a:lnTo>
                  <a:pt x="80" y="2363"/>
                </a:lnTo>
                <a:lnTo>
                  <a:pt x="80" y="2341"/>
                </a:lnTo>
                <a:lnTo>
                  <a:pt x="68" y="2329"/>
                </a:lnTo>
                <a:lnTo>
                  <a:pt x="68" y="2307"/>
                </a:lnTo>
                <a:lnTo>
                  <a:pt x="68" y="2284"/>
                </a:lnTo>
                <a:lnTo>
                  <a:pt x="68" y="2261"/>
                </a:lnTo>
                <a:lnTo>
                  <a:pt x="57" y="2239"/>
                </a:lnTo>
                <a:lnTo>
                  <a:pt x="57" y="2216"/>
                </a:lnTo>
                <a:lnTo>
                  <a:pt x="57" y="2182"/>
                </a:lnTo>
                <a:lnTo>
                  <a:pt x="57" y="2148"/>
                </a:lnTo>
                <a:lnTo>
                  <a:pt x="57" y="2114"/>
                </a:lnTo>
                <a:lnTo>
                  <a:pt x="46" y="2069"/>
                </a:lnTo>
                <a:lnTo>
                  <a:pt x="46" y="2035"/>
                </a:lnTo>
                <a:lnTo>
                  <a:pt x="46" y="1990"/>
                </a:lnTo>
                <a:lnTo>
                  <a:pt x="46" y="1934"/>
                </a:lnTo>
                <a:lnTo>
                  <a:pt x="46" y="1888"/>
                </a:lnTo>
                <a:lnTo>
                  <a:pt x="46" y="1832"/>
                </a:lnTo>
                <a:lnTo>
                  <a:pt x="34" y="1764"/>
                </a:lnTo>
                <a:lnTo>
                  <a:pt x="34" y="1707"/>
                </a:lnTo>
                <a:lnTo>
                  <a:pt x="34" y="1640"/>
                </a:lnTo>
                <a:lnTo>
                  <a:pt x="34" y="1572"/>
                </a:lnTo>
                <a:lnTo>
                  <a:pt x="34" y="1493"/>
                </a:lnTo>
                <a:lnTo>
                  <a:pt x="34" y="1414"/>
                </a:lnTo>
                <a:lnTo>
                  <a:pt x="34" y="1334"/>
                </a:lnTo>
                <a:lnTo>
                  <a:pt x="34" y="1244"/>
                </a:lnTo>
                <a:lnTo>
                  <a:pt x="34" y="1165"/>
                </a:lnTo>
                <a:lnTo>
                  <a:pt x="34" y="1074"/>
                </a:lnTo>
                <a:lnTo>
                  <a:pt x="34" y="973"/>
                </a:lnTo>
                <a:lnTo>
                  <a:pt x="34" y="882"/>
                </a:lnTo>
                <a:lnTo>
                  <a:pt x="34" y="792"/>
                </a:lnTo>
                <a:lnTo>
                  <a:pt x="34" y="713"/>
                </a:lnTo>
                <a:lnTo>
                  <a:pt x="34" y="633"/>
                </a:lnTo>
                <a:lnTo>
                  <a:pt x="34" y="554"/>
                </a:lnTo>
                <a:lnTo>
                  <a:pt x="34" y="487"/>
                </a:lnTo>
                <a:lnTo>
                  <a:pt x="34" y="430"/>
                </a:lnTo>
                <a:lnTo>
                  <a:pt x="23" y="373"/>
                </a:lnTo>
                <a:lnTo>
                  <a:pt x="23" y="317"/>
                </a:lnTo>
                <a:lnTo>
                  <a:pt x="23" y="272"/>
                </a:lnTo>
                <a:lnTo>
                  <a:pt x="23" y="226"/>
                </a:lnTo>
                <a:lnTo>
                  <a:pt x="12" y="193"/>
                </a:lnTo>
                <a:lnTo>
                  <a:pt x="12" y="159"/>
                </a:lnTo>
                <a:lnTo>
                  <a:pt x="12" y="136"/>
                </a:lnTo>
                <a:lnTo>
                  <a:pt x="0" y="113"/>
                </a:lnTo>
                <a:lnTo>
                  <a:pt x="0" y="1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3"/>
          <p:cNvSpPr/>
          <p:nvPr/>
        </p:nvSpPr>
        <p:spPr>
          <a:xfrm>
            <a:off x="5451480" y="3117960"/>
            <a:ext cx="1098720" cy="23328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730" h="362">
                <a:moveTo>
                  <a:pt x="79" y="294"/>
                </a:moveTo>
                <a:lnTo>
                  <a:pt x="57" y="283"/>
                </a:lnTo>
                <a:lnTo>
                  <a:pt x="46" y="271"/>
                </a:lnTo>
                <a:lnTo>
                  <a:pt x="23" y="260"/>
                </a:lnTo>
                <a:lnTo>
                  <a:pt x="12" y="249"/>
                </a:lnTo>
                <a:lnTo>
                  <a:pt x="12" y="237"/>
                </a:lnTo>
                <a:lnTo>
                  <a:pt x="0" y="226"/>
                </a:lnTo>
                <a:lnTo>
                  <a:pt x="0" y="215"/>
                </a:lnTo>
                <a:lnTo>
                  <a:pt x="0" y="204"/>
                </a:lnTo>
                <a:lnTo>
                  <a:pt x="12" y="192"/>
                </a:lnTo>
                <a:lnTo>
                  <a:pt x="23" y="192"/>
                </a:lnTo>
                <a:lnTo>
                  <a:pt x="46" y="192"/>
                </a:lnTo>
                <a:lnTo>
                  <a:pt x="68" y="181"/>
                </a:lnTo>
                <a:lnTo>
                  <a:pt x="102" y="181"/>
                </a:lnTo>
                <a:lnTo>
                  <a:pt x="136" y="181"/>
                </a:lnTo>
                <a:lnTo>
                  <a:pt x="181" y="181"/>
                </a:lnTo>
                <a:lnTo>
                  <a:pt x="226" y="181"/>
                </a:lnTo>
                <a:lnTo>
                  <a:pt x="272" y="181"/>
                </a:lnTo>
                <a:lnTo>
                  <a:pt x="328" y="181"/>
                </a:lnTo>
                <a:lnTo>
                  <a:pt x="385" y="181"/>
                </a:lnTo>
                <a:lnTo>
                  <a:pt x="441" y="181"/>
                </a:lnTo>
                <a:lnTo>
                  <a:pt x="498" y="170"/>
                </a:lnTo>
                <a:lnTo>
                  <a:pt x="566" y="158"/>
                </a:lnTo>
                <a:lnTo>
                  <a:pt x="633" y="158"/>
                </a:lnTo>
                <a:lnTo>
                  <a:pt x="769" y="136"/>
                </a:lnTo>
                <a:lnTo>
                  <a:pt x="905" y="113"/>
                </a:lnTo>
                <a:lnTo>
                  <a:pt x="1052" y="90"/>
                </a:lnTo>
                <a:lnTo>
                  <a:pt x="1199" y="57"/>
                </a:lnTo>
                <a:lnTo>
                  <a:pt x="1266" y="45"/>
                </a:lnTo>
                <a:lnTo>
                  <a:pt x="1334" y="34"/>
                </a:lnTo>
                <a:lnTo>
                  <a:pt x="1391" y="23"/>
                </a:lnTo>
                <a:lnTo>
                  <a:pt x="1436" y="11"/>
                </a:lnTo>
                <a:lnTo>
                  <a:pt x="1481" y="0"/>
                </a:lnTo>
                <a:lnTo>
                  <a:pt x="1515" y="0"/>
                </a:lnTo>
                <a:lnTo>
                  <a:pt x="1549" y="0"/>
                </a:lnTo>
                <a:lnTo>
                  <a:pt x="1572" y="0"/>
                </a:lnTo>
                <a:lnTo>
                  <a:pt x="1594" y="0"/>
                </a:lnTo>
                <a:lnTo>
                  <a:pt x="1628" y="0"/>
                </a:lnTo>
                <a:lnTo>
                  <a:pt x="1651" y="0"/>
                </a:lnTo>
                <a:lnTo>
                  <a:pt x="1685" y="11"/>
                </a:lnTo>
                <a:lnTo>
                  <a:pt x="1707" y="23"/>
                </a:lnTo>
                <a:lnTo>
                  <a:pt x="1719" y="34"/>
                </a:lnTo>
                <a:lnTo>
                  <a:pt x="1730" y="45"/>
                </a:lnTo>
                <a:lnTo>
                  <a:pt x="1730" y="57"/>
                </a:lnTo>
                <a:lnTo>
                  <a:pt x="1730" y="68"/>
                </a:lnTo>
                <a:lnTo>
                  <a:pt x="1719" y="79"/>
                </a:lnTo>
                <a:lnTo>
                  <a:pt x="1707" y="90"/>
                </a:lnTo>
                <a:lnTo>
                  <a:pt x="1696" y="102"/>
                </a:lnTo>
                <a:lnTo>
                  <a:pt x="1673" y="102"/>
                </a:lnTo>
                <a:lnTo>
                  <a:pt x="1651" y="113"/>
                </a:lnTo>
                <a:lnTo>
                  <a:pt x="1617" y="124"/>
                </a:lnTo>
                <a:lnTo>
                  <a:pt x="1583" y="124"/>
                </a:lnTo>
                <a:lnTo>
                  <a:pt x="1560" y="136"/>
                </a:lnTo>
                <a:lnTo>
                  <a:pt x="1538" y="136"/>
                </a:lnTo>
                <a:lnTo>
                  <a:pt x="1515" y="147"/>
                </a:lnTo>
                <a:lnTo>
                  <a:pt x="1481" y="147"/>
                </a:lnTo>
                <a:lnTo>
                  <a:pt x="1447" y="158"/>
                </a:lnTo>
                <a:lnTo>
                  <a:pt x="1413" y="170"/>
                </a:lnTo>
                <a:lnTo>
                  <a:pt x="1368" y="170"/>
                </a:lnTo>
                <a:lnTo>
                  <a:pt x="1334" y="181"/>
                </a:lnTo>
                <a:lnTo>
                  <a:pt x="1278" y="192"/>
                </a:lnTo>
                <a:lnTo>
                  <a:pt x="1233" y="204"/>
                </a:lnTo>
                <a:lnTo>
                  <a:pt x="1176" y="215"/>
                </a:lnTo>
                <a:lnTo>
                  <a:pt x="1131" y="226"/>
                </a:lnTo>
                <a:lnTo>
                  <a:pt x="1063" y="237"/>
                </a:lnTo>
                <a:lnTo>
                  <a:pt x="1006" y="249"/>
                </a:lnTo>
                <a:lnTo>
                  <a:pt x="939" y="260"/>
                </a:lnTo>
                <a:lnTo>
                  <a:pt x="871" y="271"/>
                </a:lnTo>
                <a:lnTo>
                  <a:pt x="803" y="283"/>
                </a:lnTo>
                <a:lnTo>
                  <a:pt x="735" y="294"/>
                </a:lnTo>
                <a:lnTo>
                  <a:pt x="667" y="305"/>
                </a:lnTo>
                <a:lnTo>
                  <a:pt x="611" y="317"/>
                </a:lnTo>
                <a:lnTo>
                  <a:pt x="554" y="328"/>
                </a:lnTo>
                <a:lnTo>
                  <a:pt x="509" y="339"/>
                </a:lnTo>
                <a:lnTo>
                  <a:pt x="464" y="339"/>
                </a:lnTo>
                <a:lnTo>
                  <a:pt x="419" y="350"/>
                </a:lnTo>
                <a:lnTo>
                  <a:pt x="385" y="350"/>
                </a:lnTo>
                <a:lnTo>
                  <a:pt x="351" y="362"/>
                </a:lnTo>
                <a:lnTo>
                  <a:pt x="317" y="362"/>
                </a:lnTo>
                <a:lnTo>
                  <a:pt x="294" y="362"/>
                </a:lnTo>
                <a:lnTo>
                  <a:pt x="272" y="362"/>
                </a:lnTo>
                <a:lnTo>
                  <a:pt x="260" y="362"/>
                </a:lnTo>
                <a:lnTo>
                  <a:pt x="238" y="362"/>
                </a:lnTo>
                <a:lnTo>
                  <a:pt x="204" y="350"/>
                </a:lnTo>
                <a:lnTo>
                  <a:pt x="170" y="339"/>
                </a:lnTo>
                <a:lnTo>
                  <a:pt x="125" y="328"/>
                </a:lnTo>
                <a:lnTo>
                  <a:pt x="102" y="317"/>
                </a:lnTo>
                <a:lnTo>
                  <a:pt x="79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4"/>
          <p:cNvSpPr/>
          <p:nvPr/>
        </p:nvSpPr>
        <p:spPr>
          <a:xfrm>
            <a:off x="5665680" y="3227400"/>
            <a:ext cx="733680" cy="676440"/>
          </a:xfrm>
          <a:custGeom>
            <a:avLst/>
            <a:gdLst>
              <a:gd name="textAreaLeft" fmla="*/ 0 w 733680"/>
              <a:gd name="textAreaRight" fmla="*/ 734040 w 7336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1154" h="1040">
                <a:moveTo>
                  <a:pt x="249" y="972"/>
                </a:moveTo>
                <a:lnTo>
                  <a:pt x="204" y="1006"/>
                </a:lnTo>
                <a:lnTo>
                  <a:pt x="170" y="1017"/>
                </a:lnTo>
                <a:lnTo>
                  <a:pt x="136" y="1040"/>
                </a:lnTo>
                <a:lnTo>
                  <a:pt x="125" y="1040"/>
                </a:lnTo>
                <a:lnTo>
                  <a:pt x="114" y="1040"/>
                </a:lnTo>
                <a:lnTo>
                  <a:pt x="102" y="1040"/>
                </a:lnTo>
                <a:lnTo>
                  <a:pt x="91" y="1028"/>
                </a:lnTo>
                <a:lnTo>
                  <a:pt x="80" y="1017"/>
                </a:lnTo>
                <a:lnTo>
                  <a:pt x="68" y="1006"/>
                </a:lnTo>
                <a:lnTo>
                  <a:pt x="57" y="994"/>
                </a:lnTo>
                <a:lnTo>
                  <a:pt x="57" y="972"/>
                </a:lnTo>
                <a:lnTo>
                  <a:pt x="46" y="949"/>
                </a:lnTo>
                <a:lnTo>
                  <a:pt x="23" y="915"/>
                </a:lnTo>
                <a:lnTo>
                  <a:pt x="12" y="881"/>
                </a:lnTo>
                <a:lnTo>
                  <a:pt x="0" y="847"/>
                </a:lnTo>
                <a:lnTo>
                  <a:pt x="12" y="825"/>
                </a:lnTo>
                <a:lnTo>
                  <a:pt x="12" y="814"/>
                </a:lnTo>
                <a:lnTo>
                  <a:pt x="23" y="814"/>
                </a:lnTo>
                <a:lnTo>
                  <a:pt x="34" y="802"/>
                </a:lnTo>
                <a:lnTo>
                  <a:pt x="46" y="791"/>
                </a:lnTo>
                <a:lnTo>
                  <a:pt x="68" y="780"/>
                </a:lnTo>
                <a:lnTo>
                  <a:pt x="80" y="768"/>
                </a:lnTo>
                <a:lnTo>
                  <a:pt x="102" y="746"/>
                </a:lnTo>
                <a:lnTo>
                  <a:pt x="125" y="734"/>
                </a:lnTo>
                <a:lnTo>
                  <a:pt x="159" y="712"/>
                </a:lnTo>
                <a:lnTo>
                  <a:pt x="181" y="689"/>
                </a:lnTo>
                <a:lnTo>
                  <a:pt x="215" y="667"/>
                </a:lnTo>
                <a:lnTo>
                  <a:pt x="238" y="633"/>
                </a:lnTo>
                <a:lnTo>
                  <a:pt x="272" y="610"/>
                </a:lnTo>
                <a:lnTo>
                  <a:pt x="306" y="565"/>
                </a:lnTo>
                <a:lnTo>
                  <a:pt x="340" y="520"/>
                </a:lnTo>
                <a:lnTo>
                  <a:pt x="419" y="440"/>
                </a:lnTo>
                <a:lnTo>
                  <a:pt x="475" y="350"/>
                </a:lnTo>
                <a:lnTo>
                  <a:pt x="532" y="271"/>
                </a:lnTo>
                <a:lnTo>
                  <a:pt x="577" y="192"/>
                </a:lnTo>
                <a:lnTo>
                  <a:pt x="600" y="158"/>
                </a:lnTo>
                <a:lnTo>
                  <a:pt x="622" y="124"/>
                </a:lnTo>
                <a:lnTo>
                  <a:pt x="645" y="90"/>
                </a:lnTo>
                <a:lnTo>
                  <a:pt x="656" y="67"/>
                </a:lnTo>
                <a:lnTo>
                  <a:pt x="667" y="45"/>
                </a:lnTo>
                <a:lnTo>
                  <a:pt x="679" y="22"/>
                </a:lnTo>
                <a:lnTo>
                  <a:pt x="690" y="11"/>
                </a:lnTo>
                <a:lnTo>
                  <a:pt x="690" y="0"/>
                </a:lnTo>
                <a:lnTo>
                  <a:pt x="724" y="34"/>
                </a:lnTo>
                <a:lnTo>
                  <a:pt x="747" y="67"/>
                </a:lnTo>
                <a:lnTo>
                  <a:pt x="758" y="101"/>
                </a:lnTo>
                <a:lnTo>
                  <a:pt x="781" y="124"/>
                </a:lnTo>
                <a:lnTo>
                  <a:pt x="792" y="147"/>
                </a:lnTo>
                <a:lnTo>
                  <a:pt x="803" y="169"/>
                </a:lnTo>
                <a:lnTo>
                  <a:pt x="803" y="180"/>
                </a:lnTo>
                <a:lnTo>
                  <a:pt x="803" y="192"/>
                </a:lnTo>
                <a:lnTo>
                  <a:pt x="803" y="203"/>
                </a:lnTo>
                <a:lnTo>
                  <a:pt x="792" y="226"/>
                </a:lnTo>
                <a:lnTo>
                  <a:pt x="769" y="248"/>
                </a:lnTo>
                <a:lnTo>
                  <a:pt x="747" y="282"/>
                </a:lnTo>
                <a:lnTo>
                  <a:pt x="713" y="316"/>
                </a:lnTo>
                <a:lnTo>
                  <a:pt x="679" y="361"/>
                </a:lnTo>
                <a:lnTo>
                  <a:pt x="634" y="407"/>
                </a:lnTo>
                <a:lnTo>
                  <a:pt x="577" y="463"/>
                </a:lnTo>
                <a:lnTo>
                  <a:pt x="532" y="508"/>
                </a:lnTo>
                <a:lnTo>
                  <a:pt x="487" y="554"/>
                </a:lnTo>
                <a:lnTo>
                  <a:pt x="441" y="599"/>
                </a:lnTo>
                <a:lnTo>
                  <a:pt x="419" y="633"/>
                </a:lnTo>
                <a:lnTo>
                  <a:pt x="396" y="655"/>
                </a:lnTo>
                <a:lnTo>
                  <a:pt x="374" y="678"/>
                </a:lnTo>
                <a:lnTo>
                  <a:pt x="374" y="689"/>
                </a:lnTo>
                <a:lnTo>
                  <a:pt x="374" y="701"/>
                </a:lnTo>
                <a:lnTo>
                  <a:pt x="385" y="712"/>
                </a:lnTo>
                <a:lnTo>
                  <a:pt x="396" y="712"/>
                </a:lnTo>
                <a:lnTo>
                  <a:pt x="407" y="712"/>
                </a:lnTo>
                <a:lnTo>
                  <a:pt x="430" y="712"/>
                </a:lnTo>
                <a:lnTo>
                  <a:pt x="441" y="712"/>
                </a:lnTo>
                <a:lnTo>
                  <a:pt x="464" y="712"/>
                </a:lnTo>
                <a:lnTo>
                  <a:pt x="498" y="701"/>
                </a:lnTo>
                <a:lnTo>
                  <a:pt x="520" y="701"/>
                </a:lnTo>
                <a:lnTo>
                  <a:pt x="554" y="689"/>
                </a:lnTo>
                <a:lnTo>
                  <a:pt x="577" y="689"/>
                </a:lnTo>
                <a:lnTo>
                  <a:pt x="622" y="678"/>
                </a:lnTo>
                <a:lnTo>
                  <a:pt x="656" y="678"/>
                </a:lnTo>
                <a:lnTo>
                  <a:pt x="701" y="667"/>
                </a:lnTo>
                <a:lnTo>
                  <a:pt x="747" y="655"/>
                </a:lnTo>
                <a:lnTo>
                  <a:pt x="826" y="633"/>
                </a:lnTo>
                <a:lnTo>
                  <a:pt x="916" y="621"/>
                </a:lnTo>
                <a:lnTo>
                  <a:pt x="1018" y="599"/>
                </a:lnTo>
                <a:lnTo>
                  <a:pt x="1120" y="576"/>
                </a:lnTo>
                <a:lnTo>
                  <a:pt x="1154" y="655"/>
                </a:lnTo>
                <a:lnTo>
                  <a:pt x="1108" y="667"/>
                </a:lnTo>
                <a:lnTo>
                  <a:pt x="1063" y="689"/>
                </a:lnTo>
                <a:lnTo>
                  <a:pt x="1007" y="701"/>
                </a:lnTo>
                <a:lnTo>
                  <a:pt x="939" y="723"/>
                </a:lnTo>
                <a:lnTo>
                  <a:pt x="882" y="734"/>
                </a:lnTo>
                <a:lnTo>
                  <a:pt x="803" y="757"/>
                </a:lnTo>
                <a:lnTo>
                  <a:pt x="735" y="780"/>
                </a:lnTo>
                <a:lnTo>
                  <a:pt x="656" y="802"/>
                </a:lnTo>
                <a:lnTo>
                  <a:pt x="577" y="825"/>
                </a:lnTo>
                <a:lnTo>
                  <a:pt x="509" y="847"/>
                </a:lnTo>
                <a:lnTo>
                  <a:pt x="453" y="870"/>
                </a:lnTo>
                <a:lnTo>
                  <a:pt x="396" y="893"/>
                </a:lnTo>
                <a:lnTo>
                  <a:pt x="351" y="915"/>
                </a:lnTo>
                <a:lnTo>
                  <a:pt x="306" y="938"/>
                </a:lnTo>
                <a:lnTo>
                  <a:pt x="272" y="961"/>
                </a:lnTo>
                <a:lnTo>
                  <a:pt x="249" y="9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5"/>
          <p:cNvSpPr/>
          <p:nvPr/>
        </p:nvSpPr>
        <p:spPr>
          <a:xfrm>
            <a:off x="6240600" y="3425760"/>
            <a:ext cx="236520" cy="360360"/>
          </a:xfrm>
          <a:custGeom>
            <a:avLst/>
            <a:gdLst>
              <a:gd name="textAreaLeft" fmla="*/ 0 w 236520"/>
              <a:gd name="textAreaRight" fmla="*/ 236880 w 236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373" h="554">
                <a:moveTo>
                  <a:pt x="305" y="169"/>
                </a:moveTo>
                <a:lnTo>
                  <a:pt x="328" y="215"/>
                </a:lnTo>
                <a:lnTo>
                  <a:pt x="362" y="271"/>
                </a:lnTo>
                <a:lnTo>
                  <a:pt x="373" y="328"/>
                </a:lnTo>
                <a:lnTo>
                  <a:pt x="373" y="362"/>
                </a:lnTo>
                <a:lnTo>
                  <a:pt x="373" y="396"/>
                </a:lnTo>
                <a:lnTo>
                  <a:pt x="373" y="429"/>
                </a:lnTo>
                <a:lnTo>
                  <a:pt x="373" y="452"/>
                </a:lnTo>
                <a:lnTo>
                  <a:pt x="373" y="475"/>
                </a:lnTo>
                <a:lnTo>
                  <a:pt x="373" y="497"/>
                </a:lnTo>
                <a:lnTo>
                  <a:pt x="362" y="520"/>
                </a:lnTo>
                <a:lnTo>
                  <a:pt x="362" y="531"/>
                </a:lnTo>
                <a:lnTo>
                  <a:pt x="350" y="542"/>
                </a:lnTo>
                <a:lnTo>
                  <a:pt x="350" y="554"/>
                </a:lnTo>
                <a:lnTo>
                  <a:pt x="339" y="554"/>
                </a:lnTo>
                <a:lnTo>
                  <a:pt x="328" y="554"/>
                </a:lnTo>
                <a:lnTo>
                  <a:pt x="316" y="542"/>
                </a:lnTo>
                <a:lnTo>
                  <a:pt x="305" y="531"/>
                </a:lnTo>
                <a:lnTo>
                  <a:pt x="294" y="520"/>
                </a:lnTo>
                <a:lnTo>
                  <a:pt x="283" y="509"/>
                </a:lnTo>
                <a:lnTo>
                  <a:pt x="271" y="497"/>
                </a:lnTo>
                <a:lnTo>
                  <a:pt x="260" y="475"/>
                </a:lnTo>
                <a:lnTo>
                  <a:pt x="237" y="452"/>
                </a:lnTo>
                <a:lnTo>
                  <a:pt x="226" y="429"/>
                </a:lnTo>
                <a:lnTo>
                  <a:pt x="203" y="407"/>
                </a:lnTo>
                <a:lnTo>
                  <a:pt x="192" y="373"/>
                </a:lnTo>
                <a:lnTo>
                  <a:pt x="169" y="350"/>
                </a:lnTo>
                <a:lnTo>
                  <a:pt x="147" y="316"/>
                </a:lnTo>
                <a:lnTo>
                  <a:pt x="113" y="249"/>
                </a:lnTo>
                <a:lnTo>
                  <a:pt x="79" y="192"/>
                </a:lnTo>
                <a:lnTo>
                  <a:pt x="56" y="135"/>
                </a:lnTo>
                <a:lnTo>
                  <a:pt x="34" y="90"/>
                </a:lnTo>
                <a:lnTo>
                  <a:pt x="11" y="56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11" y="0"/>
                </a:lnTo>
                <a:lnTo>
                  <a:pt x="22" y="0"/>
                </a:lnTo>
                <a:lnTo>
                  <a:pt x="45" y="0"/>
                </a:lnTo>
                <a:lnTo>
                  <a:pt x="56" y="11"/>
                </a:lnTo>
                <a:lnTo>
                  <a:pt x="79" y="11"/>
                </a:lnTo>
                <a:lnTo>
                  <a:pt x="102" y="11"/>
                </a:lnTo>
                <a:lnTo>
                  <a:pt x="124" y="22"/>
                </a:lnTo>
                <a:lnTo>
                  <a:pt x="169" y="45"/>
                </a:lnTo>
                <a:lnTo>
                  <a:pt x="215" y="79"/>
                </a:lnTo>
                <a:lnTo>
                  <a:pt x="260" y="124"/>
                </a:lnTo>
                <a:lnTo>
                  <a:pt x="305" y="16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夜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04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14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笔点在竖中线上，右下的捺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5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里    黑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7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里寒号鸟冻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>
            <a:off x="34192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8"/>
          <p:cNvSpPr/>
          <p:nvPr/>
        </p:nvSpPr>
        <p:spPr>
          <a:xfrm>
            <a:off x="5681520" y="2484360"/>
            <a:ext cx="1298880" cy="331920"/>
          </a:xfrm>
          <a:custGeom>
            <a:avLst/>
            <a:gdLst>
              <a:gd name="textAreaLeft" fmla="*/ 0 w 1298880"/>
              <a:gd name="textAreaRight" fmla="*/ 1299240 w 129888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046" h="509">
                <a:moveTo>
                  <a:pt x="56" y="441"/>
                </a:moveTo>
                <a:lnTo>
                  <a:pt x="45" y="430"/>
                </a:lnTo>
                <a:lnTo>
                  <a:pt x="22" y="407"/>
                </a:lnTo>
                <a:lnTo>
                  <a:pt x="22" y="396"/>
                </a:lnTo>
                <a:lnTo>
                  <a:pt x="11" y="396"/>
                </a:lnTo>
                <a:lnTo>
                  <a:pt x="11" y="385"/>
                </a:lnTo>
                <a:lnTo>
                  <a:pt x="0" y="374"/>
                </a:lnTo>
                <a:lnTo>
                  <a:pt x="0" y="362"/>
                </a:lnTo>
                <a:lnTo>
                  <a:pt x="11" y="362"/>
                </a:lnTo>
                <a:lnTo>
                  <a:pt x="22" y="362"/>
                </a:lnTo>
                <a:lnTo>
                  <a:pt x="34" y="362"/>
                </a:lnTo>
                <a:lnTo>
                  <a:pt x="56" y="362"/>
                </a:lnTo>
                <a:lnTo>
                  <a:pt x="79" y="362"/>
                </a:lnTo>
                <a:lnTo>
                  <a:pt x="102" y="351"/>
                </a:lnTo>
                <a:lnTo>
                  <a:pt x="124" y="351"/>
                </a:lnTo>
                <a:lnTo>
                  <a:pt x="158" y="351"/>
                </a:lnTo>
                <a:lnTo>
                  <a:pt x="192" y="351"/>
                </a:lnTo>
                <a:lnTo>
                  <a:pt x="237" y="340"/>
                </a:lnTo>
                <a:lnTo>
                  <a:pt x="294" y="340"/>
                </a:lnTo>
                <a:lnTo>
                  <a:pt x="350" y="328"/>
                </a:lnTo>
                <a:lnTo>
                  <a:pt x="418" y="317"/>
                </a:lnTo>
                <a:lnTo>
                  <a:pt x="497" y="294"/>
                </a:lnTo>
                <a:lnTo>
                  <a:pt x="576" y="283"/>
                </a:lnTo>
                <a:lnTo>
                  <a:pt x="667" y="260"/>
                </a:lnTo>
                <a:lnTo>
                  <a:pt x="859" y="215"/>
                </a:lnTo>
                <a:lnTo>
                  <a:pt x="1051" y="170"/>
                </a:lnTo>
                <a:lnTo>
                  <a:pt x="1232" y="125"/>
                </a:lnTo>
                <a:lnTo>
                  <a:pt x="1311" y="102"/>
                </a:lnTo>
                <a:lnTo>
                  <a:pt x="1402" y="80"/>
                </a:lnTo>
                <a:lnTo>
                  <a:pt x="1469" y="57"/>
                </a:lnTo>
                <a:lnTo>
                  <a:pt x="1537" y="34"/>
                </a:lnTo>
                <a:lnTo>
                  <a:pt x="1605" y="23"/>
                </a:lnTo>
                <a:lnTo>
                  <a:pt x="1650" y="12"/>
                </a:lnTo>
                <a:lnTo>
                  <a:pt x="1696" y="12"/>
                </a:lnTo>
                <a:lnTo>
                  <a:pt x="1741" y="0"/>
                </a:lnTo>
                <a:lnTo>
                  <a:pt x="1763" y="0"/>
                </a:lnTo>
                <a:lnTo>
                  <a:pt x="1786" y="0"/>
                </a:lnTo>
                <a:lnTo>
                  <a:pt x="1820" y="0"/>
                </a:lnTo>
                <a:lnTo>
                  <a:pt x="1865" y="12"/>
                </a:lnTo>
                <a:lnTo>
                  <a:pt x="1910" y="23"/>
                </a:lnTo>
                <a:lnTo>
                  <a:pt x="1933" y="34"/>
                </a:lnTo>
                <a:lnTo>
                  <a:pt x="1956" y="46"/>
                </a:lnTo>
                <a:lnTo>
                  <a:pt x="1967" y="57"/>
                </a:lnTo>
                <a:lnTo>
                  <a:pt x="1990" y="80"/>
                </a:lnTo>
                <a:lnTo>
                  <a:pt x="2012" y="91"/>
                </a:lnTo>
                <a:lnTo>
                  <a:pt x="2023" y="102"/>
                </a:lnTo>
                <a:lnTo>
                  <a:pt x="2035" y="102"/>
                </a:lnTo>
                <a:lnTo>
                  <a:pt x="2046" y="114"/>
                </a:lnTo>
                <a:lnTo>
                  <a:pt x="2046" y="125"/>
                </a:lnTo>
                <a:lnTo>
                  <a:pt x="2046" y="147"/>
                </a:lnTo>
                <a:lnTo>
                  <a:pt x="2035" y="170"/>
                </a:lnTo>
                <a:lnTo>
                  <a:pt x="2023" y="181"/>
                </a:lnTo>
                <a:lnTo>
                  <a:pt x="2001" y="204"/>
                </a:lnTo>
                <a:lnTo>
                  <a:pt x="1990" y="215"/>
                </a:lnTo>
                <a:lnTo>
                  <a:pt x="1967" y="227"/>
                </a:lnTo>
                <a:lnTo>
                  <a:pt x="1944" y="227"/>
                </a:lnTo>
                <a:lnTo>
                  <a:pt x="1922" y="238"/>
                </a:lnTo>
                <a:lnTo>
                  <a:pt x="1899" y="238"/>
                </a:lnTo>
                <a:lnTo>
                  <a:pt x="1865" y="238"/>
                </a:lnTo>
                <a:lnTo>
                  <a:pt x="1843" y="238"/>
                </a:lnTo>
                <a:lnTo>
                  <a:pt x="1797" y="249"/>
                </a:lnTo>
                <a:lnTo>
                  <a:pt x="1786" y="249"/>
                </a:lnTo>
                <a:lnTo>
                  <a:pt x="1752" y="249"/>
                </a:lnTo>
                <a:lnTo>
                  <a:pt x="1730" y="249"/>
                </a:lnTo>
                <a:lnTo>
                  <a:pt x="1696" y="249"/>
                </a:lnTo>
                <a:lnTo>
                  <a:pt x="1662" y="260"/>
                </a:lnTo>
                <a:lnTo>
                  <a:pt x="1616" y="260"/>
                </a:lnTo>
                <a:lnTo>
                  <a:pt x="1571" y="272"/>
                </a:lnTo>
                <a:lnTo>
                  <a:pt x="1515" y="272"/>
                </a:lnTo>
                <a:lnTo>
                  <a:pt x="1458" y="283"/>
                </a:lnTo>
                <a:lnTo>
                  <a:pt x="1402" y="294"/>
                </a:lnTo>
                <a:lnTo>
                  <a:pt x="1334" y="306"/>
                </a:lnTo>
                <a:lnTo>
                  <a:pt x="1266" y="317"/>
                </a:lnTo>
                <a:lnTo>
                  <a:pt x="1198" y="328"/>
                </a:lnTo>
                <a:lnTo>
                  <a:pt x="1119" y="340"/>
                </a:lnTo>
                <a:lnTo>
                  <a:pt x="1040" y="362"/>
                </a:lnTo>
                <a:lnTo>
                  <a:pt x="949" y="374"/>
                </a:lnTo>
                <a:lnTo>
                  <a:pt x="870" y="396"/>
                </a:lnTo>
                <a:lnTo>
                  <a:pt x="791" y="407"/>
                </a:lnTo>
                <a:lnTo>
                  <a:pt x="712" y="419"/>
                </a:lnTo>
                <a:lnTo>
                  <a:pt x="644" y="430"/>
                </a:lnTo>
                <a:lnTo>
                  <a:pt x="576" y="441"/>
                </a:lnTo>
                <a:lnTo>
                  <a:pt x="520" y="453"/>
                </a:lnTo>
                <a:lnTo>
                  <a:pt x="463" y="464"/>
                </a:lnTo>
                <a:lnTo>
                  <a:pt x="418" y="475"/>
                </a:lnTo>
                <a:lnTo>
                  <a:pt x="362" y="487"/>
                </a:lnTo>
                <a:lnTo>
                  <a:pt x="328" y="487"/>
                </a:lnTo>
                <a:lnTo>
                  <a:pt x="294" y="498"/>
                </a:lnTo>
                <a:lnTo>
                  <a:pt x="260" y="498"/>
                </a:lnTo>
                <a:lnTo>
                  <a:pt x="237" y="498"/>
                </a:lnTo>
                <a:lnTo>
                  <a:pt x="215" y="498"/>
                </a:lnTo>
                <a:lnTo>
                  <a:pt x="203" y="509"/>
                </a:lnTo>
                <a:lnTo>
                  <a:pt x="192" y="509"/>
                </a:lnTo>
                <a:lnTo>
                  <a:pt x="158" y="498"/>
                </a:lnTo>
                <a:lnTo>
                  <a:pt x="124" y="487"/>
                </a:lnTo>
                <a:lnTo>
                  <a:pt x="90" y="464"/>
                </a:lnTo>
                <a:lnTo>
                  <a:pt x="56" y="44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9"/>
          <p:cNvSpPr/>
          <p:nvPr/>
        </p:nvSpPr>
        <p:spPr>
          <a:xfrm>
            <a:off x="5402160" y="2846520"/>
            <a:ext cx="696960" cy="850680"/>
          </a:xfrm>
          <a:custGeom>
            <a:avLst/>
            <a:gdLst>
              <a:gd name="textAreaLeft" fmla="*/ 0 w 696960"/>
              <a:gd name="textAreaRight" fmla="*/ 696960 w 69696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1097" h="1312">
                <a:moveTo>
                  <a:pt x="0" y="1312"/>
                </a:moveTo>
                <a:lnTo>
                  <a:pt x="0" y="1301"/>
                </a:lnTo>
                <a:lnTo>
                  <a:pt x="0" y="1278"/>
                </a:lnTo>
                <a:lnTo>
                  <a:pt x="11" y="1255"/>
                </a:lnTo>
                <a:lnTo>
                  <a:pt x="34" y="1233"/>
                </a:lnTo>
                <a:lnTo>
                  <a:pt x="68" y="1199"/>
                </a:lnTo>
                <a:lnTo>
                  <a:pt x="102" y="1165"/>
                </a:lnTo>
                <a:lnTo>
                  <a:pt x="147" y="1120"/>
                </a:lnTo>
                <a:lnTo>
                  <a:pt x="192" y="1074"/>
                </a:lnTo>
                <a:lnTo>
                  <a:pt x="294" y="973"/>
                </a:lnTo>
                <a:lnTo>
                  <a:pt x="396" y="860"/>
                </a:lnTo>
                <a:lnTo>
                  <a:pt x="486" y="747"/>
                </a:lnTo>
                <a:lnTo>
                  <a:pt x="588" y="611"/>
                </a:lnTo>
                <a:lnTo>
                  <a:pt x="622" y="554"/>
                </a:lnTo>
                <a:lnTo>
                  <a:pt x="667" y="498"/>
                </a:lnTo>
                <a:lnTo>
                  <a:pt x="701" y="441"/>
                </a:lnTo>
                <a:lnTo>
                  <a:pt x="735" y="396"/>
                </a:lnTo>
                <a:lnTo>
                  <a:pt x="757" y="351"/>
                </a:lnTo>
                <a:lnTo>
                  <a:pt x="791" y="317"/>
                </a:lnTo>
                <a:lnTo>
                  <a:pt x="814" y="272"/>
                </a:lnTo>
                <a:lnTo>
                  <a:pt x="825" y="238"/>
                </a:lnTo>
                <a:lnTo>
                  <a:pt x="848" y="215"/>
                </a:lnTo>
                <a:lnTo>
                  <a:pt x="848" y="181"/>
                </a:lnTo>
                <a:lnTo>
                  <a:pt x="870" y="136"/>
                </a:lnTo>
                <a:lnTo>
                  <a:pt x="870" y="102"/>
                </a:lnTo>
                <a:lnTo>
                  <a:pt x="870" y="68"/>
                </a:lnTo>
                <a:lnTo>
                  <a:pt x="859" y="46"/>
                </a:lnTo>
                <a:lnTo>
                  <a:pt x="859" y="34"/>
                </a:lnTo>
                <a:lnTo>
                  <a:pt x="870" y="12"/>
                </a:lnTo>
                <a:lnTo>
                  <a:pt x="882" y="0"/>
                </a:lnTo>
                <a:lnTo>
                  <a:pt x="893" y="0"/>
                </a:lnTo>
                <a:lnTo>
                  <a:pt x="904" y="0"/>
                </a:lnTo>
                <a:lnTo>
                  <a:pt x="916" y="0"/>
                </a:lnTo>
                <a:lnTo>
                  <a:pt x="938" y="12"/>
                </a:lnTo>
                <a:lnTo>
                  <a:pt x="950" y="23"/>
                </a:lnTo>
                <a:lnTo>
                  <a:pt x="972" y="23"/>
                </a:lnTo>
                <a:lnTo>
                  <a:pt x="1017" y="57"/>
                </a:lnTo>
                <a:lnTo>
                  <a:pt x="1040" y="68"/>
                </a:lnTo>
                <a:lnTo>
                  <a:pt x="1051" y="80"/>
                </a:lnTo>
                <a:lnTo>
                  <a:pt x="1074" y="102"/>
                </a:lnTo>
                <a:lnTo>
                  <a:pt x="1085" y="113"/>
                </a:lnTo>
                <a:lnTo>
                  <a:pt x="1085" y="125"/>
                </a:lnTo>
                <a:lnTo>
                  <a:pt x="1097" y="147"/>
                </a:lnTo>
                <a:lnTo>
                  <a:pt x="1097" y="159"/>
                </a:lnTo>
                <a:lnTo>
                  <a:pt x="1097" y="170"/>
                </a:lnTo>
                <a:lnTo>
                  <a:pt x="1097" y="193"/>
                </a:lnTo>
                <a:lnTo>
                  <a:pt x="1097" y="204"/>
                </a:lnTo>
                <a:lnTo>
                  <a:pt x="1085" y="227"/>
                </a:lnTo>
                <a:lnTo>
                  <a:pt x="1074" y="249"/>
                </a:lnTo>
                <a:lnTo>
                  <a:pt x="1051" y="283"/>
                </a:lnTo>
                <a:lnTo>
                  <a:pt x="1029" y="317"/>
                </a:lnTo>
                <a:lnTo>
                  <a:pt x="1006" y="351"/>
                </a:lnTo>
                <a:lnTo>
                  <a:pt x="983" y="396"/>
                </a:lnTo>
                <a:lnTo>
                  <a:pt x="950" y="441"/>
                </a:lnTo>
                <a:lnTo>
                  <a:pt x="904" y="487"/>
                </a:lnTo>
                <a:lnTo>
                  <a:pt x="870" y="543"/>
                </a:lnTo>
                <a:lnTo>
                  <a:pt x="825" y="588"/>
                </a:lnTo>
                <a:lnTo>
                  <a:pt x="769" y="645"/>
                </a:lnTo>
                <a:lnTo>
                  <a:pt x="723" y="701"/>
                </a:lnTo>
                <a:lnTo>
                  <a:pt x="667" y="758"/>
                </a:lnTo>
                <a:lnTo>
                  <a:pt x="610" y="826"/>
                </a:lnTo>
                <a:lnTo>
                  <a:pt x="554" y="882"/>
                </a:lnTo>
                <a:lnTo>
                  <a:pt x="497" y="939"/>
                </a:lnTo>
                <a:lnTo>
                  <a:pt x="441" y="995"/>
                </a:lnTo>
                <a:lnTo>
                  <a:pt x="384" y="1040"/>
                </a:lnTo>
                <a:lnTo>
                  <a:pt x="339" y="1086"/>
                </a:lnTo>
                <a:lnTo>
                  <a:pt x="283" y="1131"/>
                </a:lnTo>
                <a:lnTo>
                  <a:pt x="237" y="1165"/>
                </a:lnTo>
                <a:lnTo>
                  <a:pt x="192" y="1199"/>
                </a:lnTo>
                <a:lnTo>
                  <a:pt x="147" y="1233"/>
                </a:lnTo>
                <a:lnTo>
                  <a:pt x="113" y="1255"/>
                </a:lnTo>
                <a:lnTo>
                  <a:pt x="79" y="1278"/>
                </a:lnTo>
                <a:lnTo>
                  <a:pt x="56" y="1301"/>
                </a:lnTo>
                <a:lnTo>
                  <a:pt x="34" y="1301"/>
                </a:lnTo>
                <a:lnTo>
                  <a:pt x="11" y="1312"/>
                </a:lnTo>
                <a:lnTo>
                  <a:pt x="0" y="13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40"/>
          <p:cNvSpPr/>
          <p:nvPr/>
        </p:nvSpPr>
        <p:spPr>
          <a:xfrm>
            <a:off x="5832360" y="3227400"/>
            <a:ext cx="150840" cy="1022400"/>
          </a:xfrm>
          <a:custGeom>
            <a:avLst/>
            <a:gdLst>
              <a:gd name="textAreaLeft" fmla="*/ 0 w 150840"/>
              <a:gd name="textAreaRight" fmla="*/ 151200 w 15084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238" h="1572">
                <a:moveTo>
                  <a:pt x="113" y="1572"/>
                </a:moveTo>
                <a:lnTo>
                  <a:pt x="113" y="1572"/>
                </a:lnTo>
                <a:lnTo>
                  <a:pt x="102" y="1560"/>
                </a:lnTo>
                <a:lnTo>
                  <a:pt x="102" y="1549"/>
                </a:lnTo>
                <a:lnTo>
                  <a:pt x="91" y="1538"/>
                </a:lnTo>
                <a:lnTo>
                  <a:pt x="79" y="1526"/>
                </a:lnTo>
                <a:lnTo>
                  <a:pt x="68" y="1504"/>
                </a:lnTo>
                <a:lnTo>
                  <a:pt x="68" y="1493"/>
                </a:lnTo>
                <a:lnTo>
                  <a:pt x="57" y="1459"/>
                </a:lnTo>
                <a:lnTo>
                  <a:pt x="45" y="1436"/>
                </a:lnTo>
                <a:lnTo>
                  <a:pt x="34" y="1413"/>
                </a:lnTo>
                <a:lnTo>
                  <a:pt x="23" y="1391"/>
                </a:lnTo>
                <a:lnTo>
                  <a:pt x="12" y="1368"/>
                </a:lnTo>
                <a:lnTo>
                  <a:pt x="12" y="1346"/>
                </a:lnTo>
                <a:lnTo>
                  <a:pt x="12" y="1334"/>
                </a:lnTo>
                <a:lnTo>
                  <a:pt x="0" y="1323"/>
                </a:lnTo>
                <a:lnTo>
                  <a:pt x="12" y="1300"/>
                </a:lnTo>
                <a:lnTo>
                  <a:pt x="12" y="1266"/>
                </a:lnTo>
                <a:lnTo>
                  <a:pt x="23" y="1233"/>
                </a:lnTo>
                <a:lnTo>
                  <a:pt x="23" y="1210"/>
                </a:lnTo>
                <a:lnTo>
                  <a:pt x="34" y="1187"/>
                </a:lnTo>
                <a:lnTo>
                  <a:pt x="34" y="1165"/>
                </a:lnTo>
                <a:lnTo>
                  <a:pt x="34" y="1131"/>
                </a:lnTo>
                <a:lnTo>
                  <a:pt x="45" y="1086"/>
                </a:lnTo>
                <a:lnTo>
                  <a:pt x="45" y="1040"/>
                </a:lnTo>
                <a:lnTo>
                  <a:pt x="57" y="984"/>
                </a:lnTo>
                <a:lnTo>
                  <a:pt x="57" y="927"/>
                </a:lnTo>
                <a:lnTo>
                  <a:pt x="57" y="848"/>
                </a:lnTo>
                <a:lnTo>
                  <a:pt x="68" y="769"/>
                </a:lnTo>
                <a:lnTo>
                  <a:pt x="68" y="701"/>
                </a:lnTo>
                <a:lnTo>
                  <a:pt x="79" y="633"/>
                </a:lnTo>
                <a:lnTo>
                  <a:pt x="79" y="566"/>
                </a:lnTo>
                <a:lnTo>
                  <a:pt x="79" y="509"/>
                </a:lnTo>
                <a:lnTo>
                  <a:pt x="91" y="464"/>
                </a:lnTo>
                <a:lnTo>
                  <a:pt x="91" y="419"/>
                </a:lnTo>
                <a:lnTo>
                  <a:pt x="91" y="385"/>
                </a:lnTo>
                <a:lnTo>
                  <a:pt x="91" y="351"/>
                </a:lnTo>
                <a:lnTo>
                  <a:pt x="91" y="328"/>
                </a:lnTo>
                <a:lnTo>
                  <a:pt x="91" y="294"/>
                </a:lnTo>
                <a:lnTo>
                  <a:pt x="91" y="260"/>
                </a:lnTo>
                <a:lnTo>
                  <a:pt x="79" y="215"/>
                </a:lnTo>
                <a:lnTo>
                  <a:pt x="79" y="170"/>
                </a:lnTo>
                <a:lnTo>
                  <a:pt x="79" y="125"/>
                </a:lnTo>
                <a:lnTo>
                  <a:pt x="68" y="68"/>
                </a:lnTo>
                <a:lnTo>
                  <a:pt x="68" y="0"/>
                </a:lnTo>
                <a:lnTo>
                  <a:pt x="102" y="23"/>
                </a:lnTo>
                <a:lnTo>
                  <a:pt x="136" y="46"/>
                </a:lnTo>
                <a:lnTo>
                  <a:pt x="170" y="68"/>
                </a:lnTo>
                <a:lnTo>
                  <a:pt x="192" y="91"/>
                </a:lnTo>
                <a:lnTo>
                  <a:pt x="204" y="102"/>
                </a:lnTo>
                <a:lnTo>
                  <a:pt x="226" y="125"/>
                </a:lnTo>
                <a:lnTo>
                  <a:pt x="238" y="136"/>
                </a:lnTo>
                <a:lnTo>
                  <a:pt x="238" y="147"/>
                </a:lnTo>
                <a:lnTo>
                  <a:pt x="238" y="159"/>
                </a:lnTo>
                <a:lnTo>
                  <a:pt x="238" y="170"/>
                </a:lnTo>
                <a:lnTo>
                  <a:pt x="238" y="192"/>
                </a:lnTo>
                <a:lnTo>
                  <a:pt x="238" y="226"/>
                </a:lnTo>
                <a:lnTo>
                  <a:pt x="238" y="260"/>
                </a:lnTo>
                <a:lnTo>
                  <a:pt x="238" y="294"/>
                </a:lnTo>
                <a:lnTo>
                  <a:pt x="226" y="339"/>
                </a:lnTo>
                <a:lnTo>
                  <a:pt x="226" y="396"/>
                </a:lnTo>
                <a:lnTo>
                  <a:pt x="215" y="509"/>
                </a:lnTo>
                <a:lnTo>
                  <a:pt x="215" y="622"/>
                </a:lnTo>
                <a:lnTo>
                  <a:pt x="215" y="735"/>
                </a:lnTo>
                <a:lnTo>
                  <a:pt x="215" y="848"/>
                </a:lnTo>
                <a:lnTo>
                  <a:pt x="204" y="973"/>
                </a:lnTo>
                <a:lnTo>
                  <a:pt x="192" y="1086"/>
                </a:lnTo>
                <a:lnTo>
                  <a:pt x="181" y="1210"/>
                </a:lnTo>
                <a:lnTo>
                  <a:pt x="181" y="1334"/>
                </a:lnTo>
                <a:lnTo>
                  <a:pt x="170" y="1391"/>
                </a:lnTo>
                <a:lnTo>
                  <a:pt x="158" y="1436"/>
                </a:lnTo>
                <a:lnTo>
                  <a:pt x="147" y="1481"/>
                </a:lnTo>
                <a:lnTo>
                  <a:pt x="147" y="1504"/>
                </a:lnTo>
                <a:lnTo>
                  <a:pt x="136" y="1538"/>
                </a:lnTo>
                <a:lnTo>
                  <a:pt x="125" y="1549"/>
                </a:lnTo>
                <a:lnTo>
                  <a:pt x="125" y="1560"/>
                </a:lnTo>
                <a:lnTo>
                  <a:pt x="113" y="15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41"/>
          <p:cNvSpPr/>
          <p:nvPr/>
        </p:nvSpPr>
        <p:spPr>
          <a:xfrm>
            <a:off x="6213600" y="2765520"/>
            <a:ext cx="350640" cy="587160"/>
          </a:xfrm>
          <a:custGeom>
            <a:avLst/>
            <a:gdLst>
              <a:gd name="textAreaLeft" fmla="*/ 0 w 350640"/>
              <a:gd name="textAreaRight" fmla="*/ 351000 w 35064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554" h="904">
                <a:moveTo>
                  <a:pt x="294" y="271"/>
                </a:moveTo>
                <a:lnTo>
                  <a:pt x="306" y="237"/>
                </a:lnTo>
                <a:lnTo>
                  <a:pt x="317" y="204"/>
                </a:lnTo>
                <a:lnTo>
                  <a:pt x="317" y="170"/>
                </a:lnTo>
                <a:lnTo>
                  <a:pt x="317" y="147"/>
                </a:lnTo>
                <a:lnTo>
                  <a:pt x="328" y="124"/>
                </a:lnTo>
                <a:lnTo>
                  <a:pt x="317" y="102"/>
                </a:lnTo>
                <a:lnTo>
                  <a:pt x="317" y="90"/>
                </a:lnTo>
                <a:lnTo>
                  <a:pt x="317" y="79"/>
                </a:lnTo>
                <a:lnTo>
                  <a:pt x="306" y="57"/>
                </a:lnTo>
                <a:lnTo>
                  <a:pt x="294" y="34"/>
                </a:lnTo>
                <a:lnTo>
                  <a:pt x="306" y="23"/>
                </a:lnTo>
                <a:lnTo>
                  <a:pt x="317" y="11"/>
                </a:lnTo>
                <a:lnTo>
                  <a:pt x="328" y="0"/>
                </a:lnTo>
                <a:lnTo>
                  <a:pt x="340" y="0"/>
                </a:lnTo>
                <a:lnTo>
                  <a:pt x="362" y="11"/>
                </a:lnTo>
                <a:lnTo>
                  <a:pt x="396" y="23"/>
                </a:lnTo>
                <a:lnTo>
                  <a:pt x="441" y="34"/>
                </a:lnTo>
                <a:lnTo>
                  <a:pt x="475" y="68"/>
                </a:lnTo>
                <a:lnTo>
                  <a:pt x="509" y="90"/>
                </a:lnTo>
                <a:lnTo>
                  <a:pt x="532" y="102"/>
                </a:lnTo>
                <a:lnTo>
                  <a:pt x="554" y="124"/>
                </a:lnTo>
                <a:lnTo>
                  <a:pt x="543" y="136"/>
                </a:lnTo>
                <a:lnTo>
                  <a:pt x="543" y="147"/>
                </a:lnTo>
                <a:lnTo>
                  <a:pt x="543" y="170"/>
                </a:lnTo>
                <a:lnTo>
                  <a:pt x="532" y="181"/>
                </a:lnTo>
                <a:lnTo>
                  <a:pt x="520" y="204"/>
                </a:lnTo>
                <a:lnTo>
                  <a:pt x="509" y="226"/>
                </a:lnTo>
                <a:lnTo>
                  <a:pt x="498" y="260"/>
                </a:lnTo>
                <a:lnTo>
                  <a:pt x="487" y="283"/>
                </a:lnTo>
                <a:lnTo>
                  <a:pt x="475" y="317"/>
                </a:lnTo>
                <a:lnTo>
                  <a:pt x="453" y="339"/>
                </a:lnTo>
                <a:lnTo>
                  <a:pt x="419" y="407"/>
                </a:lnTo>
                <a:lnTo>
                  <a:pt x="373" y="486"/>
                </a:lnTo>
                <a:lnTo>
                  <a:pt x="328" y="554"/>
                </a:lnTo>
                <a:lnTo>
                  <a:pt x="306" y="599"/>
                </a:lnTo>
                <a:lnTo>
                  <a:pt x="283" y="644"/>
                </a:lnTo>
                <a:lnTo>
                  <a:pt x="260" y="678"/>
                </a:lnTo>
                <a:lnTo>
                  <a:pt x="227" y="712"/>
                </a:lnTo>
                <a:lnTo>
                  <a:pt x="204" y="746"/>
                </a:lnTo>
                <a:lnTo>
                  <a:pt x="181" y="780"/>
                </a:lnTo>
                <a:lnTo>
                  <a:pt x="136" y="837"/>
                </a:lnTo>
                <a:lnTo>
                  <a:pt x="102" y="859"/>
                </a:lnTo>
                <a:lnTo>
                  <a:pt x="80" y="871"/>
                </a:lnTo>
                <a:lnTo>
                  <a:pt x="57" y="893"/>
                </a:lnTo>
                <a:lnTo>
                  <a:pt x="46" y="893"/>
                </a:lnTo>
                <a:lnTo>
                  <a:pt x="23" y="904"/>
                </a:lnTo>
                <a:lnTo>
                  <a:pt x="12" y="904"/>
                </a:lnTo>
                <a:lnTo>
                  <a:pt x="0" y="904"/>
                </a:lnTo>
                <a:lnTo>
                  <a:pt x="0" y="893"/>
                </a:lnTo>
                <a:lnTo>
                  <a:pt x="23" y="837"/>
                </a:lnTo>
                <a:lnTo>
                  <a:pt x="57" y="780"/>
                </a:lnTo>
                <a:lnTo>
                  <a:pt x="80" y="735"/>
                </a:lnTo>
                <a:lnTo>
                  <a:pt x="113" y="678"/>
                </a:lnTo>
                <a:lnTo>
                  <a:pt x="136" y="633"/>
                </a:lnTo>
                <a:lnTo>
                  <a:pt x="159" y="588"/>
                </a:lnTo>
                <a:lnTo>
                  <a:pt x="181" y="543"/>
                </a:lnTo>
                <a:lnTo>
                  <a:pt x="193" y="509"/>
                </a:lnTo>
                <a:lnTo>
                  <a:pt x="215" y="464"/>
                </a:lnTo>
                <a:lnTo>
                  <a:pt x="227" y="430"/>
                </a:lnTo>
                <a:lnTo>
                  <a:pt x="249" y="396"/>
                </a:lnTo>
                <a:lnTo>
                  <a:pt x="260" y="373"/>
                </a:lnTo>
                <a:lnTo>
                  <a:pt x="272" y="339"/>
                </a:lnTo>
                <a:lnTo>
                  <a:pt x="283" y="317"/>
                </a:lnTo>
                <a:lnTo>
                  <a:pt x="283" y="294"/>
                </a:lnTo>
                <a:lnTo>
                  <a:pt x="294" y="27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42"/>
          <p:cNvSpPr/>
          <p:nvPr/>
        </p:nvSpPr>
        <p:spPr>
          <a:xfrm>
            <a:off x="6048360" y="2940120"/>
            <a:ext cx="846000" cy="985680"/>
          </a:xfrm>
          <a:custGeom>
            <a:avLst/>
            <a:gdLst>
              <a:gd name="textAreaLeft" fmla="*/ 0 w 846000"/>
              <a:gd name="textAreaRight" fmla="*/ 846360 w 846000"/>
              <a:gd name="textAreaTop" fmla="*/ 0 h 985680"/>
              <a:gd name="textAreaBottom" fmla="*/ 986040 h 985680"/>
            </a:gdLst>
            <a:ahLst/>
            <a:rect l="textAreaLeft" t="textAreaTop" r="textAreaRight" b="textAreaBottom"/>
            <a:pathLst>
              <a:path w="1334" h="1515">
                <a:moveTo>
                  <a:pt x="577" y="1074"/>
                </a:moveTo>
                <a:lnTo>
                  <a:pt x="622" y="1018"/>
                </a:lnTo>
                <a:lnTo>
                  <a:pt x="667" y="961"/>
                </a:lnTo>
                <a:lnTo>
                  <a:pt x="713" y="905"/>
                </a:lnTo>
                <a:lnTo>
                  <a:pt x="758" y="848"/>
                </a:lnTo>
                <a:lnTo>
                  <a:pt x="803" y="780"/>
                </a:lnTo>
                <a:lnTo>
                  <a:pt x="837" y="713"/>
                </a:lnTo>
                <a:lnTo>
                  <a:pt x="871" y="633"/>
                </a:lnTo>
                <a:lnTo>
                  <a:pt x="905" y="566"/>
                </a:lnTo>
                <a:lnTo>
                  <a:pt x="939" y="487"/>
                </a:lnTo>
                <a:lnTo>
                  <a:pt x="961" y="419"/>
                </a:lnTo>
                <a:lnTo>
                  <a:pt x="984" y="362"/>
                </a:lnTo>
                <a:lnTo>
                  <a:pt x="995" y="317"/>
                </a:lnTo>
                <a:lnTo>
                  <a:pt x="1007" y="272"/>
                </a:lnTo>
                <a:lnTo>
                  <a:pt x="1018" y="249"/>
                </a:lnTo>
                <a:lnTo>
                  <a:pt x="1018" y="226"/>
                </a:lnTo>
                <a:lnTo>
                  <a:pt x="1018" y="204"/>
                </a:lnTo>
                <a:lnTo>
                  <a:pt x="1007" y="204"/>
                </a:lnTo>
                <a:lnTo>
                  <a:pt x="995" y="193"/>
                </a:lnTo>
                <a:lnTo>
                  <a:pt x="984" y="193"/>
                </a:lnTo>
                <a:lnTo>
                  <a:pt x="961" y="193"/>
                </a:lnTo>
                <a:lnTo>
                  <a:pt x="939" y="193"/>
                </a:lnTo>
                <a:lnTo>
                  <a:pt x="916" y="193"/>
                </a:lnTo>
                <a:lnTo>
                  <a:pt x="893" y="204"/>
                </a:lnTo>
                <a:lnTo>
                  <a:pt x="860" y="204"/>
                </a:lnTo>
                <a:lnTo>
                  <a:pt x="826" y="215"/>
                </a:lnTo>
                <a:lnTo>
                  <a:pt x="792" y="215"/>
                </a:lnTo>
                <a:lnTo>
                  <a:pt x="758" y="215"/>
                </a:lnTo>
                <a:lnTo>
                  <a:pt x="735" y="215"/>
                </a:lnTo>
                <a:lnTo>
                  <a:pt x="701" y="204"/>
                </a:lnTo>
                <a:lnTo>
                  <a:pt x="667" y="181"/>
                </a:lnTo>
                <a:lnTo>
                  <a:pt x="645" y="170"/>
                </a:lnTo>
                <a:lnTo>
                  <a:pt x="611" y="147"/>
                </a:lnTo>
                <a:lnTo>
                  <a:pt x="656" y="136"/>
                </a:lnTo>
                <a:lnTo>
                  <a:pt x="701" y="125"/>
                </a:lnTo>
                <a:lnTo>
                  <a:pt x="747" y="113"/>
                </a:lnTo>
                <a:lnTo>
                  <a:pt x="780" y="102"/>
                </a:lnTo>
                <a:lnTo>
                  <a:pt x="814" y="102"/>
                </a:lnTo>
                <a:lnTo>
                  <a:pt x="848" y="91"/>
                </a:lnTo>
                <a:lnTo>
                  <a:pt x="871" y="80"/>
                </a:lnTo>
                <a:lnTo>
                  <a:pt x="893" y="80"/>
                </a:lnTo>
                <a:lnTo>
                  <a:pt x="939" y="68"/>
                </a:lnTo>
                <a:lnTo>
                  <a:pt x="973" y="57"/>
                </a:lnTo>
                <a:lnTo>
                  <a:pt x="995" y="46"/>
                </a:lnTo>
                <a:lnTo>
                  <a:pt x="1018" y="23"/>
                </a:lnTo>
                <a:lnTo>
                  <a:pt x="1029" y="12"/>
                </a:lnTo>
                <a:lnTo>
                  <a:pt x="1040" y="12"/>
                </a:lnTo>
                <a:lnTo>
                  <a:pt x="1063" y="0"/>
                </a:lnTo>
                <a:lnTo>
                  <a:pt x="1097" y="0"/>
                </a:lnTo>
                <a:lnTo>
                  <a:pt x="1120" y="0"/>
                </a:lnTo>
                <a:lnTo>
                  <a:pt x="1154" y="12"/>
                </a:lnTo>
                <a:lnTo>
                  <a:pt x="1199" y="23"/>
                </a:lnTo>
                <a:lnTo>
                  <a:pt x="1221" y="34"/>
                </a:lnTo>
                <a:lnTo>
                  <a:pt x="1244" y="57"/>
                </a:lnTo>
                <a:lnTo>
                  <a:pt x="1255" y="68"/>
                </a:lnTo>
                <a:lnTo>
                  <a:pt x="1278" y="80"/>
                </a:lnTo>
                <a:lnTo>
                  <a:pt x="1300" y="91"/>
                </a:lnTo>
                <a:lnTo>
                  <a:pt x="1312" y="102"/>
                </a:lnTo>
                <a:lnTo>
                  <a:pt x="1323" y="113"/>
                </a:lnTo>
                <a:lnTo>
                  <a:pt x="1334" y="125"/>
                </a:lnTo>
                <a:lnTo>
                  <a:pt x="1334" y="136"/>
                </a:lnTo>
                <a:lnTo>
                  <a:pt x="1334" y="147"/>
                </a:lnTo>
                <a:lnTo>
                  <a:pt x="1323" y="159"/>
                </a:lnTo>
                <a:lnTo>
                  <a:pt x="1312" y="181"/>
                </a:lnTo>
                <a:lnTo>
                  <a:pt x="1300" y="193"/>
                </a:lnTo>
                <a:lnTo>
                  <a:pt x="1289" y="204"/>
                </a:lnTo>
                <a:lnTo>
                  <a:pt x="1278" y="215"/>
                </a:lnTo>
                <a:lnTo>
                  <a:pt x="1267" y="226"/>
                </a:lnTo>
                <a:lnTo>
                  <a:pt x="1255" y="238"/>
                </a:lnTo>
                <a:lnTo>
                  <a:pt x="1244" y="249"/>
                </a:lnTo>
                <a:lnTo>
                  <a:pt x="1233" y="272"/>
                </a:lnTo>
                <a:lnTo>
                  <a:pt x="1221" y="283"/>
                </a:lnTo>
                <a:lnTo>
                  <a:pt x="1210" y="306"/>
                </a:lnTo>
                <a:lnTo>
                  <a:pt x="1199" y="328"/>
                </a:lnTo>
                <a:lnTo>
                  <a:pt x="1187" y="351"/>
                </a:lnTo>
                <a:lnTo>
                  <a:pt x="1176" y="385"/>
                </a:lnTo>
                <a:lnTo>
                  <a:pt x="1165" y="419"/>
                </a:lnTo>
                <a:lnTo>
                  <a:pt x="1154" y="441"/>
                </a:lnTo>
                <a:lnTo>
                  <a:pt x="1131" y="487"/>
                </a:lnTo>
                <a:lnTo>
                  <a:pt x="1120" y="520"/>
                </a:lnTo>
                <a:lnTo>
                  <a:pt x="1108" y="566"/>
                </a:lnTo>
                <a:lnTo>
                  <a:pt x="1063" y="645"/>
                </a:lnTo>
                <a:lnTo>
                  <a:pt x="1029" y="713"/>
                </a:lnTo>
                <a:lnTo>
                  <a:pt x="995" y="780"/>
                </a:lnTo>
                <a:lnTo>
                  <a:pt x="950" y="848"/>
                </a:lnTo>
                <a:lnTo>
                  <a:pt x="916" y="905"/>
                </a:lnTo>
                <a:lnTo>
                  <a:pt x="882" y="961"/>
                </a:lnTo>
                <a:lnTo>
                  <a:pt x="837" y="1007"/>
                </a:lnTo>
                <a:lnTo>
                  <a:pt x="792" y="1052"/>
                </a:lnTo>
                <a:lnTo>
                  <a:pt x="758" y="1097"/>
                </a:lnTo>
                <a:lnTo>
                  <a:pt x="713" y="1142"/>
                </a:lnTo>
                <a:lnTo>
                  <a:pt x="679" y="1176"/>
                </a:lnTo>
                <a:lnTo>
                  <a:pt x="645" y="1210"/>
                </a:lnTo>
                <a:lnTo>
                  <a:pt x="600" y="1233"/>
                </a:lnTo>
                <a:lnTo>
                  <a:pt x="566" y="1255"/>
                </a:lnTo>
                <a:lnTo>
                  <a:pt x="532" y="1278"/>
                </a:lnTo>
                <a:lnTo>
                  <a:pt x="498" y="1300"/>
                </a:lnTo>
                <a:lnTo>
                  <a:pt x="464" y="1323"/>
                </a:lnTo>
                <a:lnTo>
                  <a:pt x="430" y="1346"/>
                </a:lnTo>
                <a:lnTo>
                  <a:pt x="351" y="1380"/>
                </a:lnTo>
                <a:lnTo>
                  <a:pt x="272" y="1425"/>
                </a:lnTo>
                <a:lnTo>
                  <a:pt x="181" y="1459"/>
                </a:lnTo>
                <a:lnTo>
                  <a:pt x="136" y="1481"/>
                </a:lnTo>
                <a:lnTo>
                  <a:pt x="102" y="1493"/>
                </a:lnTo>
                <a:lnTo>
                  <a:pt x="68" y="1504"/>
                </a:lnTo>
                <a:lnTo>
                  <a:pt x="46" y="1515"/>
                </a:lnTo>
                <a:lnTo>
                  <a:pt x="23" y="1515"/>
                </a:lnTo>
                <a:lnTo>
                  <a:pt x="12" y="1515"/>
                </a:lnTo>
                <a:lnTo>
                  <a:pt x="0" y="1504"/>
                </a:lnTo>
                <a:lnTo>
                  <a:pt x="0" y="1493"/>
                </a:lnTo>
                <a:lnTo>
                  <a:pt x="12" y="1481"/>
                </a:lnTo>
                <a:lnTo>
                  <a:pt x="23" y="1459"/>
                </a:lnTo>
                <a:lnTo>
                  <a:pt x="46" y="1447"/>
                </a:lnTo>
                <a:lnTo>
                  <a:pt x="68" y="1425"/>
                </a:lnTo>
                <a:lnTo>
                  <a:pt x="102" y="1402"/>
                </a:lnTo>
                <a:lnTo>
                  <a:pt x="147" y="1380"/>
                </a:lnTo>
                <a:lnTo>
                  <a:pt x="193" y="1357"/>
                </a:lnTo>
                <a:lnTo>
                  <a:pt x="249" y="1334"/>
                </a:lnTo>
                <a:lnTo>
                  <a:pt x="294" y="1300"/>
                </a:lnTo>
                <a:lnTo>
                  <a:pt x="340" y="1267"/>
                </a:lnTo>
                <a:lnTo>
                  <a:pt x="385" y="1233"/>
                </a:lnTo>
                <a:lnTo>
                  <a:pt x="441" y="1199"/>
                </a:lnTo>
                <a:lnTo>
                  <a:pt x="487" y="1154"/>
                </a:lnTo>
                <a:lnTo>
                  <a:pt x="577" y="107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43"/>
          <p:cNvSpPr/>
          <p:nvPr/>
        </p:nvSpPr>
        <p:spPr>
          <a:xfrm>
            <a:off x="6356520" y="3160800"/>
            <a:ext cx="215640" cy="206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339" h="316">
                <a:moveTo>
                  <a:pt x="260" y="67"/>
                </a:moveTo>
                <a:lnTo>
                  <a:pt x="282" y="79"/>
                </a:lnTo>
                <a:lnTo>
                  <a:pt x="305" y="101"/>
                </a:lnTo>
                <a:lnTo>
                  <a:pt x="316" y="113"/>
                </a:lnTo>
                <a:lnTo>
                  <a:pt x="327" y="135"/>
                </a:lnTo>
                <a:lnTo>
                  <a:pt x="327" y="158"/>
                </a:lnTo>
                <a:lnTo>
                  <a:pt x="339" y="169"/>
                </a:lnTo>
                <a:lnTo>
                  <a:pt x="339" y="192"/>
                </a:lnTo>
                <a:lnTo>
                  <a:pt x="339" y="226"/>
                </a:lnTo>
                <a:lnTo>
                  <a:pt x="327" y="248"/>
                </a:lnTo>
                <a:lnTo>
                  <a:pt x="327" y="260"/>
                </a:lnTo>
                <a:lnTo>
                  <a:pt x="316" y="282"/>
                </a:lnTo>
                <a:lnTo>
                  <a:pt x="316" y="293"/>
                </a:lnTo>
                <a:lnTo>
                  <a:pt x="305" y="305"/>
                </a:lnTo>
                <a:lnTo>
                  <a:pt x="293" y="316"/>
                </a:lnTo>
                <a:lnTo>
                  <a:pt x="282" y="316"/>
                </a:lnTo>
                <a:lnTo>
                  <a:pt x="271" y="305"/>
                </a:lnTo>
                <a:lnTo>
                  <a:pt x="260" y="305"/>
                </a:lnTo>
                <a:lnTo>
                  <a:pt x="248" y="293"/>
                </a:lnTo>
                <a:lnTo>
                  <a:pt x="237" y="282"/>
                </a:lnTo>
                <a:lnTo>
                  <a:pt x="226" y="271"/>
                </a:lnTo>
                <a:lnTo>
                  <a:pt x="203" y="248"/>
                </a:lnTo>
                <a:lnTo>
                  <a:pt x="192" y="237"/>
                </a:lnTo>
                <a:lnTo>
                  <a:pt x="169" y="214"/>
                </a:lnTo>
                <a:lnTo>
                  <a:pt x="146" y="192"/>
                </a:lnTo>
                <a:lnTo>
                  <a:pt x="135" y="169"/>
                </a:lnTo>
                <a:lnTo>
                  <a:pt x="113" y="135"/>
                </a:lnTo>
                <a:lnTo>
                  <a:pt x="79" y="101"/>
                </a:lnTo>
                <a:lnTo>
                  <a:pt x="56" y="67"/>
                </a:lnTo>
                <a:lnTo>
                  <a:pt x="33" y="33"/>
                </a:lnTo>
                <a:lnTo>
                  <a:pt x="0" y="0"/>
                </a:lnTo>
                <a:lnTo>
                  <a:pt x="45" y="0"/>
                </a:lnTo>
                <a:lnTo>
                  <a:pt x="90" y="0"/>
                </a:lnTo>
                <a:lnTo>
                  <a:pt x="124" y="11"/>
                </a:lnTo>
                <a:lnTo>
                  <a:pt x="158" y="11"/>
                </a:lnTo>
                <a:lnTo>
                  <a:pt x="192" y="22"/>
                </a:lnTo>
                <a:lnTo>
                  <a:pt x="214" y="33"/>
                </a:lnTo>
                <a:lnTo>
                  <a:pt x="237" y="45"/>
                </a:lnTo>
                <a:lnTo>
                  <a:pt x="260" y="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44"/>
          <p:cNvSpPr/>
          <p:nvPr/>
        </p:nvSpPr>
        <p:spPr>
          <a:xfrm>
            <a:off x="6099120" y="3338640"/>
            <a:ext cx="1219320" cy="7048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921" h="1085">
                <a:moveTo>
                  <a:pt x="56" y="90"/>
                </a:moveTo>
                <a:lnTo>
                  <a:pt x="33" y="79"/>
                </a:lnTo>
                <a:lnTo>
                  <a:pt x="11" y="68"/>
                </a:lnTo>
                <a:lnTo>
                  <a:pt x="0" y="56"/>
                </a:lnTo>
                <a:lnTo>
                  <a:pt x="0" y="45"/>
                </a:lnTo>
                <a:lnTo>
                  <a:pt x="22" y="22"/>
                </a:lnTo>
                <a:lnTo>
                  <a:pt x="33" y="11"/>
                </a:lnTo>
                <a:lnTo>
                  <a:pt x="56" y="0"/>
                </a:lnTo>
                <a:lnTo>
                  <a:pt x="67" y="0"/>
                </a:lnTo>
                <a:lnTo>
                  <a:pt x="90" y="0"/>
                </a:lnTo>
                <a:lnTo>
                  <a:pt x="113" y="0"/>
                </a:lnTo>
                <a:lnTo>
                  <a:pt x="146" y="11"/>
                </a:lnTo>
                <a:lnTo>
                  <a:pt x="192" y="34"/>
                </a:lnTo>
                <a:lnTo>
                  <a:pt x="237" y="68"/>
                </a:lnTo>
                <a:lnTo>
                  <a:pt x="282" y="102"/>
                </a:lnTo>
                <a:lnTo>
                  <a:pt x="305" y="124"/>
                </a:lnTo>
                <a:lnTo>
                  <a:pt x="339" y="147"/>
                </a:lnTo>
                <a:lnTo>
                  <a:pt x="373" y="169"/>
                </a:lnTo>
                <a:lnTo>
                  <a:pt x="407" y="203"/>
                </a:lnTo>
                <a:lnTo>
                  <a:pt x="463" y="237"/>
                </a:lnTo>
                <a:lnTo>
                  <a:pt x="520" y="271"/>
                </a:lnTo>
                <a:lnTo>
                  <a:pt x="587" y="316"/>
                </a:lnTo>
                <a:lnTo>
                  <a:pt x="667" y="373"/>
                </a:lnTo>
                <a:lnTo>
                  <a:pt x="746" y="418"/>
                </a:lnTo>
                <a:lnTo>
                  <a:pt x="836" y="486"/>
                </a:lnTo>
                <a:lnTo>
                  <a:pt x="938" y="543"/>
                </a:lnTo>
                <a:lnTo>
                  <a:pt x="1028" y="599"/>
                </a:lnTo>
                <a:lnTo>
                  <a:pt x="1119" y="656"/>
                </a:lnTo>
                <a:lnTo>
                  <a:pt x="1220" y="701"/>
                </a:lnTo>
                <a:lnTo>
                  <a:pt x="1311" y="735"/>
                </a:lnTo>
                <a:lnTo>
                  <a:pt x="1401" y="769"/>
                </a:lnTo>
                <a:lnTo>
                  <a:pt x="1492" y="803"/>
                </a:lnTo>
                <a:lnTo>
                  <a:pt x="1582" y="825"/>
                </a:lnTo>
                <a:lnTo>
                  <a:pt x="1616" y="836"/>
                </a:lnTo>
                <a:lnTo>
                  <a:pt x="1661" y="848"/>
                </a:lnTo>
                <a:lnTo>
                  <a:pt x="1695" y="859"/>
                </a:lnTo>
                <a:lnTo>
                  <a:pt x="1729" y="870"/>
                </a:lnTo>
                <a:lnTo>
                  <a:pt x="1763" y="882"/>
                </a:lnTo>
                <a:lnTo>
                  <a:pt x="1786" y="893"/>
                </a:lnTo>
                <a:lnTo>
                  <a:pt x="1808" y="893"/>
                </a:lnTo>
                <a:lnTo>
                  <a:pt x="1831" y="904"/>
                </a:lnTo>
                <a:lnTo>
                  <a:pt x="1854" y="916"/>
                </a:lnTo>
                <a:lnTo>
                  <a:pt x="1876" y="916"/>
                </a:lnTo>
                <a:lnTo>
                  <a:pt x="1887" y="927"/>
                </a:lnTo>
                <a:lnTo>
                  <a:pt x="1899" y="927"/>
                </a:lnTo>
                <a:lnTo>
                  <a:pt x="1910" y="938"/>
                </a:lnTo>
                <a:lnTo>
                  <a:pt x="1921" y="949"/>
                </a:lnTo>
                <a:lnTo>
                  <a:pt x="1921" y="972"/>
                </a:lnTo>
                <a:lnTo>
                  <a:pt x="1899" y="983"/>
                </a:lnTo>
                <a:lnTo>
                  <a:pt x="1876" y="995"/>
                </a:lnTo>
                <a:lnTo>
                  <a:pt x="1854" y="1006"/>
                </a:lnTo>
                <a:lnTo>
                  <a:pt x="1808" y="1017"/>
                </a:lnTo>
                <a:lnTo>
                  <a:pt x="1763" y="1029"/>
                </a:lnTo>
                <a:lnTo>
                  <a:pt x="1707" y="1040"/>
                </a:lnTo>
                <a:lnTo>
                  <a:pt x="1639" y="1040"/>
                </a:lnTo>
                <a:lnTo>
                  <a:pt x="1571" y="1051"/>
                </a:lnTo>
                <a:lnTo>
                  <a:pt x="1514" y="1063"/>
                </a:lnTo>
                <a:lnTo>
                  <a:pt x="1458" y="1074"/>
                </a:lnTo>
                <a:lnTo>
                  <a:pt x="1413" y="1074"/>
                </a:lnTo>
                <a:lnTo>
                  <a:pt x="1367" y="1074"/>
                </a:lnTo>
                <a:lnTo>
                  <a:pt x="1334" y="1085"/>
                </a:lnTo>
                <a:lnTo>
                  <a:pt x="1300" y="1085"/>
                </a:lnTo>
                <a:lnTo>
                  <a:pt x="1277" y="1085"/>
                </a:lnTo>
                <a:lnTo>
                  <a:pt x="1266" y="1074"/>
                </a:lnTo>
                <a:lnTo>
                  <a:pt x="1243" y="1063"/>
                </a:lnTo>
                <a:lnTo>
                  <a:pt x="1220" y="1051"/>
                </a:lnTo>
                <a:lnTo>
                  <a:pt x="1187" y="1040"/>
                </a:lnTo>
                <a:lnTo>
                  <a:pt x="1164" y="1006"/>
                </a:lnTo>
                <a:lnTo>
                  <a:pt x="1130" y="983"/>
                </a:lnTo>
                <a:lnTo>
                  <a:pt x="1096" y="949"/>
                </a:lnTo>
                <a:lnTo>
                  <a:pt x="1062" y="916"/>
                </a:lnTo>
                <a:lnTo>
                  <a:pt x="1017" y="870"/>
                </a:lnTo>
                <a:lnTo>
                  <a:pt x="972" y="825"/>
                </a:lnTo>
                <a:lnTo>
                  <a:pt x="915" y="780"/>
                </a:lnTo>
                <a:lnTo>
                  <a:pt x="859" y="723"/>
                </a:lnTo>
                <a:lnTo>
                  <a:pt x="791" y="667"/>
                </a:lnTo>
                <a:lnTo>
                  <a:pt x="723" y="610"/>
                </a:lnTo>
                <a:lnTo>
                  <a:pt x="644" y="543"/>
                </a:lnTo>
                <a:lnTo>
                  <a:pt x="553" y="475"/>
                </a:lnTo>
                <a:lnTo>
                  <a:pt x="520" y="441"/>
                </a:lnTo>
                <a:lnTo>
                  <a:pt x="474" y="407"/>
                </a:lnTo>
                <a:lnTo>
                  <a:pt x="440" y="373"/>
                </a:lnTo>
                <a:lnTo>
                  <a:pt x="407" y="339"/>
                </a:lnTo>
                <a:lnTo>
                  <a:pt x="339" y="294"/>
                </a:lnTo>
                <a:lnTo>
                  <a:pt x="282" y="249"/>
                </a:lnTo>
                <a:lnTo>
                  <a:pt x="248" y="203"/>
                </a:lnTo>
                <a:lnTo>
                  <a:pt x="203" y="181"/>
                </a:lnTo>
                <a:lnTo>
                  <a:pt x="180" y="158"/>
                </a:lnTo>
                <a:lnTo>
                  <a:pt x="158" y="147"/>
                </a:lnTo>
                <a:lnTo>
                  <a:pt x="135" y="124"/>
                </a:lnTo>
                <a:lnTo>
                  <a:pt x="113" y="113"/>
                </a:lnTo>
                <a:lnTo>
                  <a:pt x="79" y="102"/>
                </a:lnTo>
                <a:lnTo>
                  <a:pt x="56" y="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7"/>
          <p:cNvSpPr/>
          <p:nvPr/>
        </p:nvSpPr>
        <p:spPr>
          <a:xfrm>
            <a:off x="6162840" y="2263680"/>
            <a:ext cx="279360" cy="258840"/>
          </a:xfrm>
          <a:custGeom>
            <a:avLst/>
            <a:gdLst>
              <a:gd name="textAreaLeft" fmla="*/ 0 w 279360"/>
              <a:gd name="textAreaRight" fmla="*/ 279720 w 2793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441" h="396">
                <a:moveTo>
                  <a:pt x="260" y="46"/>
                </a:moveTo>
                <a:lnTo>
                  <a:pt x="306" y="79"/>
                </a:lnTo>
                <a:lnTo>
                  <a:pt x="351" y="102"/>
                </a:lnTo>
                <a:lnTo>
                  <a:pt x="385" y="125"/>
                </a:lnTo>
                <a:lnTo>
                  <a:pt x="396" y="136"/>
                </a:lnTo>
                <a:lnTo>
                  <a:pt x="407" y="147"/>
                </a:lnTo>
                <a:lnTo>
                  <a:pt x="419" y="181"/>
                </a:lnTo>
                <a:lnTo>
                  <a:pt x="430" y="215"/>
                </a:lnTo>
                <a:lnTo>
                  <a:pt x="441" y="238"/>
                </a:lnTo>
                <a:lnTo>
                  <a:pt x="441" y="272"/>
                </a:lnTo>
                <a:lnTo>
                  <a:pt x="441" y="306"/>
                </a:lnTo>
                <a:lnTo>
                  <a:pt x="430" y="339"/>
                </a:lnTo>
                <a:lnTo>
                  <a:pt x="419" y="362"/>
                </a:lnTo>
                <a:lnTo>
                  <a:pt x="407" y="373"/>
                </a:lnTo>
                <a:lnTo>
                  <a:pt x="396" y="373"/>
                </a:lnTo>
                <a:lnTo>
                  <a:pt x="385" y="385"/>
                </a:lnTo>
                <a:lnTo>
                  <a:pt x="362" y="385"/>
                </a:lnTo>
                <a:lnTo>
                  <a:pt x="351" y="396"/>
                </a:lnTo>
                <a:lnTo>
                  <a:pt x="339" y="396"/>
                </a:lnTo>
                <a:lnTo>
                  <a:pt x="328" y="396"/>
                </a:lnTo>
                <a:lnTo>
                  <a:pt x="317" y="385"/>
                </a:lnTo>
                <a:lnTo>
                  <a:pt x="294" y="385"/>
                </a:lnTo>
                <a:lnTo>
                  <a:pt x="283" y="373"/>
                </a:lnTo>
                <a:lnTo>
                  <a:pt x="272" y="362"/>
                </a:lnTo>
                <a:lnTo>
                  <a:pt x="249" y="351"/>
                </a:lnTo>
                <a:lnTo>
                  <a:pt x="238" y="339"/>
                </a:lnTo>
                <a:lnTo>
                  <a:pt x="215" y="317"/>
                </a:lnTo>
                <a:lnTo>
                  <a:pt x="192" y="294"/>
                </a:lnTo>
                <a:lnTo>
                  <a:pt x="159" y="260"/>
                </a:lnTo>
                <a:lnTo>
                  <a:pt x="136" y="226"/>
                </a:lnTo>
                <a:lnTo>
                  <a:pt x="113" y="192"/>
                </a:lnTo>
                <a:lnTo>
                  <a:pt x="79" y="159"/>
                </a:lnTo>
                <a:lnTo>
                  <a:pt x="57" y="125"/>
                </a:lnTo>
                <a:lnTo>
                  <a:pt x="34" y="91"/>
                </a:lnTo>
                <a:lnTo>
                  <a:pt x="23" y="68"/>
                </a:lnTo>
                <a:lnTo>
                  <a:pt x="12" y="46"/>
                </a:lnTo>
                <a:lnTo>
                  <a:pt x="0" y="23"/>
                </a:lnTo>
                <a:lnTo>
                  <a:pt x="0" y="12"/>
                </a:lnTo>
                <a:lnTo>
                  <a:pt x="12" y="0"/>
                </a:lnTo>
                <a:lnTo>
                  <a:pt x="34" y="0"/>
                </a:lnTo>
                <a:lnTo>
                  <a:pt x="57" y="0"/>
                </a:lnTo>
                <a:lnTo>
                  <a:pt x="91" y="0"/>
                </a:lnTo>
                <a:lnTo>
                  <a:pt x="125" y="0"/>
                </a:lnTo>
                <a:lnTo>
                  <a:pt x="170" y="12"/>
                </a:lnTo>
                <a:lnTo>
                  <a:pt x="215" y="23"/>
                </a:lnTo>
                <a:lnTo>
                  <a:pt x="238" y="34"/>
                </a:lnTo>
                <a:lnTo>
                  <a:pt x="260" y="4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用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勾出表示天气变化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6360" y="1422360"/>
            <a:ext cx="8231400" cy="27417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几阵秋风，树叶落尽，冬天快要到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冬天说到就到，寒风呼呼地刮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寒冬腊月，大雪纷飞。北风像狮子一样狂吼，崖缝里冷得像冰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1476360" y="509436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天气越来越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1405080" y="4302000"/>
            <a:ext cx="48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时间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"/>
          <p:cNvSpPr/>
          <p:nvPr/>
        </p:nvSpPr>
        <p:spPr>
          <a:xfrm>
            <a:off x="1981080" y="2575080"/>
            <a:ext cx="4305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21b95"/>
                </a:solidFill>
                <a:latin typeface="黑体"/>
                <a:ea typeface="黑体"/>
              </a:rPr>
              <a:t>寒号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2" descr="(VY4Q2@US`B@LWRGYU]{UCP"/>
          <p:cNvPicPr/>
          <p:nvPr/>
        </p:nvPicPr>
        <p:blipFill>
          <a:blip r:embed="rId1"/>
          <a:stretch/>
        </p:blipFill>
        <p:spPr>
          <a:xfrm>
            <a:off x="0" y="4446720"/>
            <a:ext cx="3348000" cy="25747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" descr="timg (69).jpg"/>
          <p:cNvPicPr/>
          <p:nvPr/>
        </p:nvPicPr>
        <p:blipFill>
          <a:blip r:embed="rId2"/>
          <a:stretch/>
        </p:blipFill>
        <p:spPr>
          <a:xfrm>
            <a:off x="0" y="198360"/>
            <a:ext cx="3795840" cy="25225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timg (70).jpg"/>
          <p:cNvPicPr/>
          <p:nvPr/>
        </p:nvPicPr>
        <p:blipFill>
          <a:blip r:embed="rId3"/>
          <a:stretch/>
        </p:blipFill>
        <p:spPr>
          <a:xfrm>
            <a:off x="3924360" y="198360"/>
            <a:ext cx="3816360" cy="2529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" descr="timg (71).jpg"/>
          <p:cNvPicPr/>
          <p:nvPr/>
        </p:nvPicPr>
        <p:blipFill>
          <a:blip r:embed="rId4"/>
          <a:stretch/>
        </p:blipFill>
        <p:spPr>
          <a:xfrm>
            <a:off x="3708360" y="4425840"/>
            <a:ext cx="44640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这样的天气给你怎样的感觉？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内容占位符 3" descr="timg (74).jpg"/>
          <p:cNvPicPr/>
          <p:nvPr/>
        </p:nvPicPr>
        <p:blipFill>
          <a:blip r:embed="rId1"/>
          <a:stretch/>
        </p:blipFill>
        <p:spPr>
          <a:xfrm>
            <a:off x="612720" y="1638360"/>
            <a:ext cx="8064720" cy="4824360"/>
          </a:xfrm>
          <a:prstGeom prst="rect">
            <a:avLst/>
          </a:prstGeom>
          <a:ln w="0">
            <a:noFill/>
          </a:ln>
        </p:spPr>
      </p:pic>
      <p:pic>
        <p:nvPicPr>
          <p:cNvPr id="235" name="纯音乐 - 风吹的声音.mp3" descr=""/>
          <p:cNvPicPr/>
          <p:nvPr/>
        </p:nvPicPr>
        <p:blipFill>
          <a:blip r:embed="rId2"/>
          <a:stretch/>
        </p:blipFill>
        <p:spPr>
          <a:xfrm>
            <a:off x="8029440" y="17114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35004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2"/>
          <p:cNvSpPr/>
          <p:nvPr/>
        </p:nvSpPr>
        <p:spPr>
          <a:xfrm>
            <a:off x="2124000" y="2646360"/>
            <a:ext cx="56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得直打哆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得像冰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1"/>
          <p:cNvSpPr/>
          <p:nvPr/>
        </p:nvSpPr>
        <p:spPr>
          <a:xfrm>
            <a:off x="442800" y="1003320"/>
            <a:ext cx="617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照样子，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"/>
          <p:cNvSpPr/>
          <p:nvPr/>
        </p:nvSpPr>
        <p:spPr>
          <a:xfrm>
            <a:off x="442800" y="1771560"/>
            <a:ext cx="8055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直打哆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嘴唇发白、手脚冰凉、直打寒颤、瑟瑟发抖…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像冰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全身发抖、蜷作一团、直流鼻涕、直跺脚…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1"/>
          <p:cNvSpPr/>
          <p:nvPr/>
        </p:nvSpPr>
        <p:spPr>
          <a:xfrm>
            <a:off x="1476360" y="1351080"/>
            <a:ext cx="5567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急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跺脚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吓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面如土色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馋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流口水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辣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冒汗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疼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满地打滚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1"/>
          <p:cNvSpPr/>
          <p:nvPr/>
        </p:nvSpPr>
        <p:spPr>
          <a:xfrm>
            <a:off x="324000" y="1047600"/>
            <a:ext cx="84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再读一读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"/>
          <p:cNvSpPr/>
          <p:nvPr/>
        </p:nvSpPr>
        <p:spPr>
          <a:xfrm>
            <a:off x="325440" y="2862360"/>
            <a:ext cx="8418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996600"/>
                </a:solidFill>
                <a:latin typeface="楷体"/>
                <a:ea typeface="楷体"/>
              </a:rPr>
              <a:t>几阵秋风，树叶落尽，冬天快要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666633"/>
                </a:solidFill>
                <a:latin typeface="楷体"/>
                <a:ea typeface="楷体"/>
              </a:rPr>
              <a:t>冬天说到就到，寒风呼呼地刮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寒冬腊月，大雪纷飞。北风像狮子一样狂吼，崖缝里冷得像冰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1"/>
          <p:cNvSpPr/>
          <p:nvPr/>
        </p:nvSpPr>
        <p:spPr>
          <a:xfrm>
            <a:off x="488880" y="1584360"/>
            <a:ext cx="81723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默读课文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21b95"/>
                </a:solidFill>
                <a:latin typeface="黑体"/>
                <a:ea typeface="黑体"/>
              </a:rPr>
              <a:t>在这样的天气情况下，故事里的寒号鸟和喜鹊各有什么不同的表现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1"/>
          <p:cNvSpPr/>
          <p:nvPr/>
        </p:nvSpPr>
        <p:spPr>
          <a:xfrm>
            <a:off x="684360" y="630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天气刚转凉时，喜鹊是怎么做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"/>
          <p:cNvSpPr/>
          <p:nvPr/>
        </p:nvSpPr>
        <p:spPr>
          <a:xfrm>
            <a:off x="539640" y="2143080"/>
            <a:ext cx="742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喜鹊一早飞出去，东寻西找，衔回来一些枯草，就忙着做窝，准备过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"/>
          <p:cNvSpPr/>
          <p:nvPr/>
        </p:nvSpPr>
        <p:spPr>
          <a:xfrm>
            <a:off x="1476360" y="4519440"/>
            <a:ext cx="56516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喜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文本框 1"/>
          <p:cNvSpPr/>
          <p:nvPr/>
        </p:nvSpPr>
        <p:spPr>
          <a:xfrm>
            <a:off x="612720" y="270000"/>
            <a:ext cx="7704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哪些地方看出寒号鸟懒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描写寒号鸟懒惰的词语用“”标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5"/>
          <p:cNvSpPr/>
          <p:nvPr/>
        </p:nvSpPr>
        <p:spPr>
          <a:xfrm>
            <a:off x="6229440" y="2070000"/>
            <a:ext cx="431640" cy="43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396720" y="3367080"/>
            <a:ext cx="777564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却只知道出去玩，累了就回来睡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躺在崖缝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伸伸懒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1"/>
          <p:cNvSpPr/>
          <p:nvPr/>
        </p:nvSpPr>
        <p:spPr>
          <a:xfrm>
            <a:off x="612720" y="270000"/>
            <a:ext cx="7704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哪些地方看出寒号鸟懒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描写寒号鸟懒惰的词语用“”标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等腰三角形 5"/>
          <p:cNvSpPr/>
          <p:nvPr/>
        </p:nvSpPr>
        <p:spPr>
          <a:xfrm>
            <a:off x="6229440" y="2070000"/>
            <a:ext cx="431640" cy="43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396720" y="3367080"/>
            <a:ext cx="777564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却只知道出去玩，累了就回来睡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躺在崖缝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伸伸懒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文本框 1"/>
          <p:cNvSpPr/>
          <p:nvPr/>
        </p:nvSpPr>
        <p:spPr>
          <a:xfrm>
            <a:off x="396720" y="0"/>
            <a:ext cx="89712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故事中几次写到寒号鸟说的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它说的话，你感受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1b95"/>
                </a:solidFill>
                <a:latin typeface="黑体"/>
                <a:ea typeface="黑体"/>
              </a:rPr>
              <a:t>喜鹊：寒号鸟，别睡了，天气暖和，赶快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傻喜鹊，不要吵。太阳高照，正好睡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哆啰啰，哆啰啰，寒风冻死我，明天就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1b95"/>
                </a:solidFill>
                <a:latin typeface="黑体"/>
                <a:ea typeface="黑体"/>
              </a:rPr>
              <a:t>喜鹊：趁天晴，快做窝。现在懒惰，将来难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傻喜鹊，别啰嗦。天气暖和，得过且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哆啰啰，哆啰啰，寒风冻死我，明天就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2413080" y="5094360"/>
            <a:ext cx="439236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得过且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"/>
          <p:cNvSpPr/>
          <p:nvPr/>
        </p:nvSpPr>
        <p:spPr>
          <a:xfrm>
            <a:off x="3708360" y="1062000"/>
            <a:ext cx="43052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寒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号</a:t>
            </a: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5940360" y="25750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楷体"/>
                <a:ea typeface="楷体"/>
              </a:rPr>
              <a:t>哀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6" descr="1538720584891.jpg"/>
          <p:cNvPicPr/>
          <p:nvPr/>
        </p:nvPicPr>
        <p:blipFill>
          <a:blip r:embed="rId1"/>
          <a:stretch/>
        </p:blipFill>
        <p:spPr>
          <a:xfrm>
            <a:off x="108000" y="846000"/>
            <a:ext cx="4105080" cy="5383440"/>
          </a:xfrm>
          <a:prstGeom prst="rect">
            <a:avLst/>
          </a:prstGeom>
          <a:ln w="0">
            <a:noFill/>
          </a:ln>
        </p:spPr>
      </p:pic>
      <p:cxnSp>
        <p:nvCxnSpPr>
          <p:cNvPr id="58" name="直接箭头连接符 8"/>
          <p:cNvCxnSpPr/>
          <p:nvPr/>
        </p:nvCxnSpPr>
        <p:spPr>
          <a:xfrm flipV="1">
            <a:off x="1405080" y="1638000"/>
            <a:ext cx="3024720" cy="17294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6360" y="2790360"/>
            <a:ext cx="8231400" cy="2303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0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亮了，太阳出来了，喜鹊在枝头呼唤寒号鸟。可是，喜鹊已经在夜里冻死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1836720" y="1206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想象，喜鹊会怎么呼唤寒号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1908000" y="53103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想对寒号鸟说：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联系生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在生活中你遇到过像寒号鸟一样得过且过的人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做一天和尚撞一天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文本框 1"/>
          <p:cNvSpPr/>
          <p:nvPr/>
        </p:nvSpPr>
        <p:spPr>
          <a:xfrm>
            <a:off x="351000" y="1001880"/>
            <a:ext cx="83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看看下面这些字有什么特点，在写法上又有何区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"/>
          <p:cNvSpPr/>
          <p:nvPr/>
        </p:nvSpPr>
        <p:spPr>
          <a:xfrm>
            <a:off x="1424160" y="2503440"/>
            <a:ext cx="62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朗 却 纷 阵 枯 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"/>
          <p:cNvSpPr/>
          <p:nvPr/>
        </p:nvSpPr>
        <p:spPr>
          <a:xfrm>
            <a:off x="768240" y="3676680"/>
            <a:ext cx="6037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等宽向中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不等窄让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等长要错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38"/>
          <p:cNvSpPr/>
          <p:nvPr/>
        </p:nvSpPr>
        <p:spPr>
          <a:xfrm>
            <a:off x="5557680" y="2395440"/>
            <a:ext cx="524160" cy="838440"/>
          </a:xfrm>
          <a:custGeom>
            <a:avLst/>
            <a:gdLst>
              <a:gd name="textAreaLeft" fmla="*/ 0 w 524160"/>
              <a:gd name="textAreaRight" fmla="*/ 524520 w 5241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825" h="1289">
                <a:moveTo>
                  <a:pt x="644" y="418"/>
                </a:moveTo>
                <a:lnTo>
                  <a:pt x="610" y="464"/>
                </a:lnTo>
                <a:lnTo>
                  <a:pt x="599" y="498"/>
                </a:lnTo>
                <a:lnTo>
                  <a:pt x="576" y="531"/>
                </a:lnTo>
                <a:lnTo>
                  <a:pt x="565" y="554"/>
                </a:lnTo>
                <a:lnTo>
                  <a:pt x="554" y="577"/>
                </a:lnTo>
                <a:lnTo>
                  <a:pt x="554" y="588"/>
                </a:lnTo>
                <a:lnTo>
                  <a:pt x="542" y="599"/>
                </a:lnTo>
                <a:lnTo>
                  <a:pt x="542" y="611"/>
                </a:lnTo>
                <a:lnTo>
                  <a:pt x="542" y="622"/>
                </a:lnTo>
                <a:lnTo>
                  <a:pt x="554" y="633"/>
                </a:lnTo>
                <a:lnTo>
                  <a:pt x="565" y="656"/>
                </a:lnTo>
                <a:lnTo>
                  <a:pt x="576" y="678"/>
                </a:lnTo>
                <a:lnTo>
                  <a:pt x="588" y="712"/>
                </a:lnTo>
                <a:lnTo>
                  <a:pt x="610" y="746"/>
                </a:lnTo>
                <a:lnTo>
                  <a:pt x="633" y="791"/>
                </a:lnTo>
                <a:lnTo>
                  <a:pt x="655" y="837"/>
                </a:lnTo>
                <a:lnTo>
                  <a:pt x="678" y="882"/>
                </a:lnTo>
                <a:lnTo>
                  <a:pt x="689" y="927"/>
                </a:lnTo>
                <a:lnTo>
                  <a:pt x="712" y="972"/>
                </a:lnTo>
                <a:lnTo>
                  <a:pt x="712" y="1006"/>
                </a:lnTo>
                <a:lnTo>
                  <a:pt x="723" y="1051"/>
                </a:lnTo>
                <a:lnTo>
                  <a:pt x="723" y="1085"/>
                </a:lnTo>
                <a:lnTo>
                  <a:pt x="723" y="1119"/>
                </a:lnTo>
                <a:lnTo>
                  <a:pt x="723" y="1142"/>
                </a:lnTo>
                <a:lnTo>
                  <a:pt x="712" y="1176"/>
                </a:lnTo>
                <a:lnTo>
                  <a:pt x="701" y="1198"/>
                </a:lnTo>
                <a:lnTo>
                  <a:pt x="689" y="1221"/>
                </a:lnTo>
                <a:lnTo>
                  <a:pt x="678" y="1244"/>
                </a:lnTo>
                <a:lnTo>
                  <a:pt x="667" y="1266"/>
                </a:lnTo>
                <a:lnTo>
                  <a:pt x="655" y="1278"/>
                </a:lnTo>
                <a:lnTo>
                  <a:pt x="644" y="1278"/>
                </a:lnTo>
                <a:lnTo>
                  <a:pt x="644" y="1289"/>
                </a:lnTo>
                <a:lnTo>
                  <a:pt x="622" y="1289"/>
                </a:lnTo>
                <a:lnTo>
                  <a:pt x="610" y="1289"/>
                </a:lnTo>
                <a:lnTo>
                  <a:pt x="599" y="1289"/>
                </a:lnTo>
                <a:lnTo>
                  <a:pt x="588" y="1278"/>
                </a:lnTo>
                <a:lnTo>
                  <a:pt x="576" y="1266"/>
                </a:lnTo>
                <a:lnTo>
                  <a:pt x="565" y="1255"/>
                </a:lnTo>
                <a:lnTo>
                  <a:pt x="565" y="1244"/>
                </a:lnTo>
                <a:lnTo>
                  <a:pt x="554" y="1221"/>
                </a:lnTo>
                <a:lnTo>
                  <a:pt x="554" y="1198"/>
                </a:lnTo>
                <a:lnTo>
                  <a:pt x="542" y="1187"/>
                </a:lnTo>
                <a:lnTo>
                  <a:pt x="520" y="1165"/>
                </a:lnTo>
                <a:lnTo>
                  <a:pt x="508" y="1142"/>
                </a:lnTo>
                <a:lnTo>
                  <a:pt x="486" y="1131"/>
                </a:lnTo>
                <a:lnTo>
                  <a:pt x="463" y="1108"/>
                </a:lnTo>
                <a:lnTo>
                  <a:pt x="429" y="1097"/>
                </a:lnTo>
                <a:lnTo>
                  <a:pt x="395" y="1085"/>
                </a:lnTo>
                <a:lnTo>
                  <a:pt x="362" y="1063"/>
                </a:lnTo>
                <a:lnTo>
                  <a:pt x="328" y="1051"/>
                </a:lnTo>
                <a:lnTo>
                  <a:pt x="305" y="1040"/>
                </a:lnTo>
                <a:lnTo>
                  <a:pt x="294" y="1029"/>
                </a:lnTo>
                <a:lnTo>
                  <a:pt x="271" y="1018"/>
                </a:lnTo>
                <a:lnTo>
                  <a:pt x="260" y="1006"/>
                </a:lnTo>
                <a:lnTo>
                  <a:pt x="260" y="995"/>
                </a:lnTo>
                <a:lnTo>
                  <a:pt x="271" y="995"/>
                </a:lnTo>
                <a:lnTo>
                  <a:pt x="282" y="995"/>
                </a:lnTo>
                <a:lnTo>
                  <a:pt x="305" y="995"/>
                </a:lnTo>
                <a:lnTo>
                  <a:pt x="316" y="984"/>
                </a:lnTo>
                <a:lnTo>
                  <a:pt x="339" y="984"/>
                </a:lnTo>
                <a:lnTo>
                  <a:pt x="362" y="984"/>
                </a:lnTo>
                <a:lnTo>
                  <a:pt x="395" y="984"/>
                </a:lnTo>
                <a:lnTo>
                  <a:pt x="418" y="984"/>
                </a:lnTo>
                <a:lnTo>
                  <a:pt x="452" y="984"/>
                </a:lnTo>
                <a:lnTo>
                  <a:pt x="475" y="984"/>
                </a:lnTo>
                <a:lnTo>
                  <a:pt x="508" y="972"/>
                </a:lnTo>
                <a:lnTo>
                  <a:pt x="520" y="961"/>
                </a:lnTo>
                <a:lnTo>
                  <a:pt x="520" y="938"/>
                </a:lnTo>
                <a:lnTo>
                  <a:pt x="520" y="927"/>
                </a:lnTo>
                <a:lnTo>
                  <a:pt x="520" y="905"/>
                </a:lnTo>
                <a:lnTo>
                  <a:pt x="508" y="871"/>
                </a:lnTo>
                <a:lnTo>
                  <a:pt x="497" y="837"/>
                </a:lnTo>
                <a:lnTo>
                  <a:pt x="486" y="791"/>
                </a:lnTo>
                <a:lnTo>
                  <a:pt x="475" y="758"/>
                </a:lnTo>
                <a:lnTo>
                  <a:pt x="463" y="724"/>
                </a:lnTo>
                <a:lnTo>
                  <a:pt x="452" y="690"/>
                </a:lnTo>
                <a:lnTo>
                  <a:pt x="441" y="667"/>
                </a:lnTo>
                <a:lnTo>
                  <a:pt x="429" y="644"/>
                </a:lnTo>
                <a:lnTo>
                  <a:pt x="429" y="633"/>
                </a:lnTo>
                <a:lnTo>
                  <a:pt x="418" y="622"/>
                </a:lnTo>
                <a:lnTo>
                  <a:pt x="418" y="611"/>
                </a:lnTo>
                <a:lnTo>
                  <a:pt x="418" y="599"/>
                </a:lnTo>
                <a:lnTo>
                  <a:pt x="429" y="588"/>
                </a:lnTo>
                <a:lnTo>
                  <a:pt x="429" y="577"/>
                </a:lnTo>
                <a:lnTo>
                  <a:pt x="441" y="543"/>
                </a:lnTo>
                <a:lnTo>
                  <a:pt x="452" y="520"/>
                </a:lnTo>
                <a:lnTo>
                  <a:pt x="463" y="486"/>
                </a:lnTo>
                <a:lnTo>
                  <a:pt x="475" y="441"/>
                </a:lnTo>
                <a:lnTo>
                  <a:pt x="486" y="407"/>
                </a:lnTo>
                <a:lnTo>
                  <a:pt x="508" y="362"/>
                </a:lnTo>
                <a:lnTo>
                  <a:pt x="520" y="328"/>
                </a:lnTo>
                <a:lnTo>
                  <a:pt x="520" y="294"/>
                </a:lnTo>
                <a:lnTo>
                  <a:pt x="531" y="271"/>
                </a:lnTo>
                <a:lnTo>
                  <a:pt x="531" y="249"/>
                </a:lnTo>
                <a:lnTo>
                  <a:pt x="531" y="226"/>
                </a:lnTo>
                <a:lnTo>
                  <a:pt x="531" y="215"/>
                </a:lnTo>
                <a:lnTo>
                  <a:pt x="520" y="204"/>
                </a:lnTo>
                <a:lnTo>
                  <a:pt x="508" y="204"/>
                </a:lnTo>
                <a:lnTo>
                  <a:pt x="497" y="204"/>
                </a:lnTo>
                <a:lnTo>
                  <a:pt x="475" y="204"/>
                </a:lnTo>
                <a:lnTo>
                  <a:pt x="441" y="215"/>
                </a:lnTo>
                <a:lnTo>
                  <a:pt x="418" y="215"/>
                </a:lnTo>
                <a:lnTo>
                  <a:pt x="384" y="226"/>
                </a:lnTo>
                <a:lnTo>
                  <a:pt x="339" y="238"/>
                </a:lnTo>
                <a:lnTo>
                  <a:pt x="294" y="249"/>
                </a:lnTo>
                <a:lnTo>
                  <a:pt x="260" y="260"/>
                </a:lnTo>
                <a:lnTo>
                  <a:pt x="181" y="271"/>
                </a:lnTo>
                <a:lnTo>
                  <a:pt x="90" y="283"/>
                </a:lnTo>
                <a:lnTo>
                  <a:pt x="0" y="283"/>
                </a:lnTo>
                <a:lnTo>
                  <a:pt x="0" y="158"/>
                </a:lnTo>
                <a:lnTo>
                  <a:pt x="68" y="158"/>
                </a:lnTo>
                <a:lnTo>
                  <a:pt x="124" y="158"/>
                </a:lnTo>
                <a:lnTo>
                  <a:pt x="181" y="147"/>
                </a:lnTo>
                <a:lnTo>
                  <a:pt x="226" y="147"/>
                </a:lnTo>
                <a:lnTo>
                  <a:pt x="271" y="147"/>
                </a:lnTo>
                <a:lnTo>
                  <a:pt x="305" y="136"/>
                </a:lnTo>
                <a:lnTo>
                  <a:pt x="339" y="124"/>
                </a:lnTo>
                <a:lnTo>
                  <a:pt x="362" y="113"/>
                </a:lnTo>
                <a:lnTo>
                  <a:pt x="418" y="102"/>
                </a:lnTo>
                <a:lnTo>
                  <a:pt x="441" y="91"/>
                </a:lnTo>
                <a:lnTo>
                  <a:pt x="452" y="79"/>
                </a:lnTo>
                <a:lnTo>
                  <a:pt x="475" y="68"/>
                </a:lnTo>
                <a:lnTo>
                  <a:pt x="486" y="57"/>
                </a:lnTo>
                <a:lnTo>
                  <a:pt x="497" y="45"/>
                </a:lnTo>
                <a:lnTo>
                  <a:pt x="508" y="45"/>
                </a:lnTo>
                <a:lnTo>
                  <a:pt x="520" y="23"/>
                </a:lnTo>
                <a:lnTo>
                  <a:pt x="531" y="11"/>
                </a:lnTo>
                <a:lnTo>
                  <a:pt x="554" y="0"/>
                </a:lnTo>
                <a:lnTo>
                  <a:pt x="576" y="0"/>
                </a:lnTo>
                <a:lnTo>
                  <a:pt x="588" y="0"/>
                </a:lnTo>
                <a:lnTo>
                  <a:pt x="599" y="11"/>
                </a:lnTo>
                <a:lnTo>
                  <a:pt x="622" y="11"/>
                </a:lnTo>
                <a:lnTo>
                  <a:pt x="644" y="23"/>
                </a:lnTo>
                <a:lnTo>
                  <a:pt x="667" y="34"/>
                </a:lnTo>
                <a:lnTo>
                  <a:pt x="689" y="45"/>
                </a:lnTo>
                <a:lnTo>
                  <a:pt x="723" y="57"/>
                </a:lnTo>
                <a:lnTo>
                  <a:pt x="746" y="68"/>
                </a:lnTo>
                <a:lnTo>
                  <a:pt x="768" y="79"/>
                </a:lnTo>
                <a:lnTo>
                  <a:pt x="780" y="91"/>
                </a:lnTo>
                <a:lnTo>
                  <a:pt x="802" y="113"/>
                </a:lnTo>
                <a:lnTo>
                  <a:pt x="814" y="124"/>
                </a:lnTo>
                <a:lnTo>
                  <a:pt x="825" y="136"/>
                </a:lnTo>
                <a:lnTo>
                  <a:pt x="825" y="147"/>
                </a:lnTo>
                <a:lnTo>
                  <a:pt x="825" y="158"/>
                </a:lnTo>
                <a:lnTo>
                  <a:pt x="814" y="181"/>
                </a:lnTo>
                <a:lnTo>
                  <a:pt x="802" y="192"/>
                </a:lnTo>
                <a:lnTo>
                  <a:pt x="791" y="215"/>
                </a:lnTo>
                <a:lnTo>
                  <a:pt x="768" y="215"/>
                </a:lnTo>
                <a:lnTo>
                  <a:pt x="757" y="226"/>
                </a:lnTo>
                <a:lnTo>
                  <a:pt x="746" y="249"/>
                </a:lnTo>
                <a:lnTo>
                  <a:pt x="723" y="271"/>
                </a:lnTo>
                <a:lnTo>
                  <a:pt x="701" y="305"/>
                </a:lnTo>
                <a:lnTo>
                  <a:pt x="689" y="339"/>
                </a:lnTo>
                <a:lnTo>
                  <a:pt x="667" y="373"/>
                </a:lnTo>
                <a:lnTo>
                  <a:pt x="644" y="41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阵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7"/>
          <p:cNvSpPr/>
          <p:nvPr/>
        </p:nvSpPr>
        <p:spPr>
          <a:xfrm>
            <a:off x="1268280" y="2075040"/>
            <a:ext cx="1317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è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66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耳旁偏上，右部下横较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阵雨  阵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几阵秋风过后，地上到处是落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4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7"/>
          <p:cNvSpPr/>
          <p:nvPr/>
        </p:nvSpPr>
        <p:spPr>
          <a:xfrm>
            <a:off x="5500800" y="2462040"/>
            <a:ext cx="150840" cy="1530360"/>
          </a:xfrm>
          <a:custGeom>
            <a:avLst/>
            <a:gdLst>
              <a:gd name="textAreaLeft" fmla="*/ 0 w 150840"/>
              <a:gd name="textAreaRight" fmla="*/ 151200 w 1508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238" h="2351">
                <a:moveTo>
                  <a:pt x="46" y="136"/>
                </a:moveTo>
                <a:lnTo>
                  <a:pt x="46" y="90"/>
                </a:lnTo>
                <a:lnTo>
                  <a:pt x="46" y="68"/>
                </a:lnTo>
                <a:lnTo>
                  <a:pt x="46" y="45"/>
                </a:lnTo>
                <a:lnTo>
                  <a:pt x="46" y="34"/>
                </a:lnTo>
                <a:lnTo>
                  <a:pt x="46" y="22"/>
                </a:lnTo>
                <a:lnTo>
                  <a:pt x="57" y="11"/>
                </a:lnTo>
                <a:lnTo>
                  <a:pt x="68" y="0"/>
                </a:lnTo>
                <a:lnTo>
                  <a:pt x="79" y="0"/>
                </a:lnTo>
                <a:lnTo>
                  <a:pt x="102" y="0"/>
                </a:lnTo>
                <a:lnTo>
                  <a:pt x="125" y="11"/>
                </a:lnTo>
                <a:lnTo>
                  <a:pt x="147" y="22"/>
                </a:lnTo>
                <a:lnTo>
                  <a:pt x="170" y="34"/>
                </a:lnTo>
                <a:lnTo>
                  <a:pt x="204" y="45"/>
                </a:lnTo>
                <a:lnTo>
                  <a:pt x="238" y="68"/>
                </a:lnTo>
                <a:lnTo>
                  <a:pt x="238" y="79"/>
                </a:lnTo>
                <a:lnTo>
                  <a:pt x="238" y="102"/>
                </a:lnTo>
                <a:lnTo>
                  <a:pt x="238" y="113"/>
                </a:lnTo>
                <a:lnTo>
                  <a:pt x="238" y="136"/>
                </a:lnTo>
                <a:lnTo>
                  <a:pt x="238" y="158"/>
                </a:lnTo>
                <a:lnTo>
                  <a:pt x="238" y="181"/>
                </a:lnTo>
                <a:lnTo>
                  <a:pt x="238" y="203"/>
                </a:lnTo>
                <a:lnTo>
                  <a:pt x="238" y="237"/>
                </a:lnTo>
                <a:lnTo>
                  <a:pt x="238" y="271"/>
                </a:lnTo>
                <a:lnTo>
                  <a:pt x="238" y="305"/>
                </a:lnTo>
                <a:lnTo>
                  <a:pt x="238" y="350"/>
                </a:lnTo>
                <a:lnTo>
                  <a:pt x="238" y="396"/>
                </a:lnTo>
                <a:lnTo>
                  <a:pt x="238" y="441"/>
                </a:lnTo>
                <a:lnTo>
                  <a:pt x="238" y="497"/>
                </a:lnTo>
                <a:lnTo>
                  <a:pt x="238" y="554"/>
                </a:lnTo>
                <a:lnTo>
                  <a:pt x="238" y="769"/>
                </a:lnTo>
                <a:lnTo>
                  <a:pt x="238" y="995"/>
                </a:lnTo>
                <a:lnTo>
                  <a:pt x="238" y="1221"/>
                </a:lnTo>
                <a:lnTo>
                  <a:pt x="238" y="1436"/>
                </a:lnTo>
                <a:lnTo>
                  <a:pt x="238" y="1537"/>
                </a:lnTo>
                <a:lnTo>
                  <a:pt x="226" y="1639"/>
                </a:lnTo>
                <a:lnTo>
                  <a:pt x="226" y="1741"/>
                </a:lnTo>
                <a:lnTo>
                  <a:pt x="215" y="1820"/>
                </a:lnTo>
                <a:lnTo>
                  <a:pt x="215" y="1910"/>
                </a:lnTo>
                <a:lnTo>
                  <a:pt x="215" y="1978"/>
                </a:lnTo>
                <a:lnTo>
                  <a:pt x="204" y="2046"/>
                </a:lnTo>
                <a:lnTo>
                  <a:pt x="204" y="2103"/>
                </a:lnTo>
                <a:lnTo>
                  <a:pt x="192" y="2170"/>
                </a:lnTo>
                <a:lnTo>
                  <a:pt x="192" y="2216"/>
                </a:lnTo>
                <a:lnTo>
                  <a:pt x="181" y="2261"/>
                </a:lnTo>
                <a:lnTo>
                  <a:pt x="170" y="2295"/>
                </a:lnTo>
                <a:lnTo>
                  <a:pt x="170" y="2317"/>
                </a:lnTo>
                <a:lnTo>
                  <a:pt x="159" y="2340"/>
                </a:lnTo>
                <a:lnTo>
                  <a:pt x="147" y="2351"/>
                </a:lnTo>
                <a:lnTo>
                  <a:pt x="136" y="2351"/>
                </a:lnTo>
                <a:lnTo>
                  <a:pt x="125" y="2351"/>
                </a:lnTo>
                <a:lnTo>
                  <a:pt x="113" y="2340"/>
                </a:lnTo>
                <a:lnTo>
                  <a:pt x="102" y="2329"/>
                </a:lnTo>
                <a:lnTo>
                  <a:pt x="91" y="2306"/>
                </a:lnTo>
                <a:lnTo>
                  <a:pt x="79" y="2295"/>
                </a:lnTo>
                <a:lnTo>
                  <a:pt x="68" y="2261"/>
                </a:lnTo>
                <a:lnTo>
                  <a:pt x="46" y="2238"/>
                </a:lnTo>
                <a:lnTo>
                  <a:pt x="34" y="2204"/>
                </a:lnTo>
                <a:lnTo>
                  <a:pt x="23" y="2182"/>
                </a:lnTo>
                <a:lnTo>
                  <a:pt x="12" y="2159"/>
                </a:lnTo>
                <a:lnTo>
                  <a:pt x="12" y="2137"/>
                </a:lnTo>
                <a:lnTo>
                  <a:pt x="0" y="2125"/>
                </a:lnTo>
                <a:lnTo>
                  <a:pt x="0" y="2103"/>
                </a:lnTo>
                <a:lnTo>
                  <a:pt x="0" y="2091"/>
                </a:lnTo>
                <a:lnTo>
                  <a:pt x="0" y="2080"/>
                </a:lnTo>
                <a:lnTo>
                  <a:pt x="0" y="2069"/>
                </a:lnTo>
                <a:lnTo>
                  <a:pt x="0" y="2057"/>
                </a:lnTo>
                <a:lnTo>
                  <a:pt x="0" y="2035"/>
                </a:lnTo>
                <a:lnTo>
                  <a:pt x="0" y="2012"/>
                </a:lnTo>
                <a:lnTo>
                  <a:pt x="12" y="1990"/>
                </a:lnTo>
                <a:lnTo>
                  <a:pt x="23" y="1956"/>
                </a:lnTo>
                <a:lnTo>
                  <a:pt x="23" y="1910"/>
                </a:lnTo>
                <a:lnTo>
                  <a:pt x="34" y="1877"/>
                </a:lnTo>
                <a:lnTo>
                  <a:pt x="46" y="1831"/>
                </a:lnTo>
                <a:lnTo>
                  <a:pt x="46" y="1786"/>
                </a:lnTo>
                <a:lnTo>
                  <a:pt x="57" y="1741"/>
                </a:lnTo>
                <a:lnTo>
                  <a:pt x="57" y="1696"/>
                </a:lnTo>
                <a:lnTo>
                  <a:pt x="57" y="1639"/>
                </a:lnTo>
                <a:lnTo>
                  <a:pt x="68" y="1583"/>
                </a:lnTo>
                <a:lnTo>
                  <a:pt x="68" y="1526"/>
                </a:lnTo>
                <a:lnTo>
                  <a:pt x="79" y="1458"/>
                </a:lnTo>
                <a:lnTo>
                  <a:pt x="79" y="1390"/>
                </a:lnTo>
                <a:lnTo>
                  <a:pt x="79" y="1323"/>
                </a:lnTo>
                <a:lnTo>
                  <a:pt x="79" y="1232"/>
                </a:lnTo>
                <a:lnTo>
                  <a:pt x="79" y="1142"/>
                </a:lnTo>
                <a:lnTo>
                  <a:pt x="79" y="1051"/>
                </a:lnTo>
                <a:lnTo>
                  <a:pt x="79" y="949"/>
                </a:lnTo>
                <a:lnTo>
                  <a:pt x="79" y="836"/>
                </a:lnTo>
                <a:lnTo>
                  <a:pt x="79" y="723"/>
                </a:lnTo>
                <a:lnTo>
                  <a:pt x="79" y="656"/>
                </a:lnTo>
                <a:lnTo>
                  <a:pt x="79" y="599"/>
                </a:lnTo>
                <a:lnTo>
                  <a:pt x="79" y="554"/>
                </a:lnTo>
                <a:lnTo>
                  <a:pt x="79" y="497"/>
                </a:lnTo>
                <a:lnTo>
                  <a:pt x="68" y="452"/>
                </a:lnTo>
                <a:lnTo>
                  <a:pt x="68" y="407"/>
                </a:lnTo>
                <a:lnTo>
                  <a:pt x="68" y="362"/>
                </a:lnTo>
                <a:lnTo>
                  <a:pt x="68" y="328"/>
                </a:lnTo>
                <a:lnTo>
                  <a:pt x="68" y="294"/>
                </a:lnTo>
                <a:lnTo>
                  <a:pt x="68" y="260"/>
                </a:lnTo>
                <a:lnTo>
                  <a:pt x="57" y="237"/>
                </a:lnTo>
                <a:lnTo>
                  <a:pt x="57" y="203"/>
                </a:lnTo>
                <a:lnTo>
                  <a:pt x="57" y="181"/>
                </a:lnTo>
                <a:lnTo>
                  <a:pt x="57" y="169"/>
                </a:lnTo>
                <a:lnTo>
                  <a:pt x="57" y="147"/>
                </a:lnTo>
                <a:lnTo>
                  <a:pt x="4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40"/>
          <p:cNvSpPr/>
          <p:nvPr/>
        </p:nvSpPr>
        <p:spPr>
          <a:xfrm>
            <a:off x="6138720" y="2521080"/>
            <a:ext cx="939960" cy="212760"/>
          </a:xfrm>
          <a:custGeom>
            <a:avLst/>
            <a:gdLst>
              <a:gd name="textAreaLeft" fmla="*/ 0 w 939960"/>
              <a:gd name="textAreaRight" fmla="*/ 940320 w 9399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481" h="328">
                <a:moveTo>
                  <a:pt x="0" y="226"/>
                </a:moveTo>
                <a:lnTo>
                  <a:pt x="136" y="204"/>
                </a:lnTo>
                <a:lnTo>
                  <a:pt x="283" y="170"/>
                </a:lnTo>
                <a:lnTo>
                  <a:pt x="407" y="147"/>
                </a:lnTo>
                <a:lnTo>
                  <a:pt x="521" y="125"/>
                </a:lnTo>
                <a:lnTo>
                  <a:pt x="634" y="113"/>
                </a:lnTo>
                <a:lnTo>
                  <a:pt x="735" y="91"/>
                </a:lnTo>
                <a:lnTo>
                  <a:pt x="826" y="79"/>
                </a:lnTo>
                <a:lnTo>
                  <a:pt x="905" y="57"/>
                </a:lnTo>
                <a:lnTo>
                  <a:pt x="984" y="46"/>
                </a:lnTo>
                <a:lnTo>
                  <a:pt x="1041" y="34"/>
                </a:lnTo>
                <a:lnTo>
                  <a:pt x="1097" y="23"/>
                </a:lnTo>
                <a:lnTo>
                  <a:pt x="1142" y="23"/>
                </a:lnTo>
                <a:lnTo>
                  <a:pt x="1188" y="12"/>
                </a:lnTo>
                <a:lnTo>
                  <a:pt x="1210" y="12"/>
                </a:lnTo>
                <a:lnTo>
                  <a:pt x="1233" y="0"/>
                </a:lnTo>
                <a:lnTo>
                  <a:pt x="1244" y="0"/>
                </a:lnTo>
                <a:lnTo>
                  <a:pt x="1278" y="12"/>
                </a:lnTo>
                <a:lnTo>
                  <a:pt x="1312" y="12"/>
                </a:lnTo>
                <a:lnTo>
                  <a:pt x="1346" y="23"/>
                </a:lnTo>
                <a:lnTo>
                  <a:pt x="1368" y="23"/>
                </a:lnTo>
                <a:lnTo>
                  <a:pt x="1391" y="34"/>
                </a:lnTo>
                <a:lnTo>
                  <a:pt x="1414" y="46"/>
                </a:lnTo>
                <a:lnTo>
                  <a:pt x="1436" y="46"/>
                </a:lnTo>
                <a:lnTo>
                  <a:pt x="1448" y="57"/>
                </a:lnTo>
                <a:lnTo>
                  <a:pt x="1459" y="68"/>
                </a:lnTo>
                <a:lnTo>
                  <a:pt x="1470" y="79"/>
                </a:lnTo>
                <a:lnTo>
                  <a:pt x="1481" y="91"/>
                </a:lnTo>
                <a:lnTo>
                  <a:pt x="1470" y="102"/>
                </a:lnTo>
                <a:lnTo>
                  <a:pt x="1448" y="113"/>
                </a:lnTo>
                <a:lnTo>
                  <a:pt x="1425" y="125"/>
                </a:lnTo>
                <a:lnTo>
                  <a:pt x="1391" y="147"/>
                </a:lnTo>
                <a:lnTo>
                  <a:pt x="1346" y="159"/>
                </a:lnTo>
                <a:lnTo>
                  <a:pt x="1289" y="170"/>
                </a:lnTo>
                <a:lnTo>
                  <a:pt x="1221" y="181"/>
                </a:lnTo>
                <a:lnTo>
                  <a:pt x="1154" y="204"/>
                </a:lnTo>
                <a:lnTo>
                  <a:pt x="995" y="226"/>
                </a:lnTo>
                <a:lnTo>
                  <a:pt x="837" y="249"/>
                </a:lnTo>
                <a:lnTo>
                  <a:pt x="679" y="272"/>
                </a:lnTo>
                <a:lnTo>
                  <a:pt x="532" y="294"/>
                </a:lnTo>
                <a:lnTo>
                  <a:pt x="453" y="294"/>
                </a:lnTo>
                <a:lnTo>
                  <a:pt x="385" y="306"/>
                </a:lnTo>
                <a:lnTo>
                  <a:pt x="328" y="317"/>
                </a:lnTo>
                <a:lnTo>
                  <a:pt x="283" y="317"/>
                </a:lnTo>
                <a:lnTo>
                  <a:pt x="238" y="328"/>
                </a:lnTo>
                <a:lnTo>
                  <a:pt x="204" y="328"/>
                </a:lnTo>
                <a:lnTo>
                  <a:pt x="181" y="328"/>
                </a:lnTo>
                <a:lnTo>
                  <a:pt x="159" y="328"/>
                </a:lnTo>
                <a:lnTo>
                  <a:pt x="125" y="328"/>
                </a:lnTo>
                <a:lnTo>
                  <a:pt x="102" y="317"/>
                </a:lnTo>
                <a:lnTo>
                  <a:pt x="80" y="306"/>
                </a:lnTo>
                <a:lnTo>
                  <a:pt x="46" y="294"/>
                </a:lnTo>
                <a:lnTo>
                  <a:pt x="34" y="283"/>
                </a:lnTo>
                <a:lnTo>
                  <a:pt x="23" y="283"/>
                </a:lnTo>
                <a:lnTo>
                  <a:pt x="12" y="260"/>
                </a:lnTo>
                <a:lnTo>
                  <a:pt x="0" y="249"/>
                </a:lnTo>
                <a:lnTo>
                  <a:pt x="0" y="2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42"/>
          <p:cNvSpPr/>
          <p:nvPr/>
        </p:nvSpPr>
        <p:spPr>
          <a:xfrm>
            <a:off x="5859360" y="3403440"/>
            <a:ext cx="1521000" cy="227160"/>
          </a:xfrm>
          <a:custGeom>
            <a:avLst/>
            <a:gdLst>
              <a:gd name="textAreaLeft" fmla="*/ 0 w 1521000"/>
              <a:gd name="textAreaRight" fmla="*/ 1521360 w 1521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2396" h="350">
                <a:moveTo>
                  <a:pt x="2396" y="147"/>
                </a:moveTo>
                <a:lnTo>
                  <a:pt x="2396" y="147"/>
                </a:lnTo>
                <a:lnTo>
                  <a:pt x="2385" y="158"/>
                </a:lnTo>
                <a:lnTo>
                  <a:pt x="2362" y="169"/>
                </a:lnTo>
                <a:lnTo>
                  <a:pt x="2351" y="181"/>
                </a:lnTo>
                <a:lnTo>
                  <a:pt x="2340" y="181"/>
                </a:lnTo>
                <a:lnTo>
                  <a:pt x="2328" y="181"/>
                </a:lnTo>
                <a:lnTo>
                  <a:pt x="2306" y="192"/>
                </a:lnTo>
                <a:lnTo>
                  <a:pt x="2283" y="192"/>
                </a:lnTo>
                <a:lnTo>
                  <a:pt x="2249" y="192"/>
                </a:lnTo>
                <a:lnTo>
                  <a:pt x="2227" y="192"/>
                </a:lnTo>
                <a:lnTo>
                  <a:pt x="2193" y="192"/>
                </a:lnTo>
                <a:lnTo>
                  <a:pt x="2148" y="181"/>
                </a:lnTo>
                <a:lnTo>
                  <a:pt x="2114" y="181"/>
                </a:lnTo>
                <a:lnTo>
                  <a:pt x="2012" y="169"/>
                </a:lnTo>
                <a:lnTo>
                  <a:pt x="1921" y="169"/>
                </a:lnTo>
                <a:lnTo>
                  <a:pt x="1820" y="169"/>
                </a:lnTo>
                <a:lnTo>
                  <a:pt x="1729" y="169"/>
                </a:lnTo>
                <a:lnTo>
                  <a:pt x="1673" y="169"/>
                </a:lnTo>
                <a:lnTo>
                  <a:pt x="1616" y="169"/>
                </a:lnTo>
                <a:lnTo>
                  <a:pt x="1560" y="169"/>
                </a:lnTo>
                <a:lnTo>
                  <a:pt x="1503" y="181"/>
                </a:lnTo>
                <a:lnTo>
                  <a:pt x="1435" y="181"/>
                </a:lnTo>
                <a:lnTo>
                  <a:pt x="1379" y="192"/>
                </a:lnTo>
                <a:lnTo>
                  <a:pt x="1311" y="192"/>
                </a:lnTo>
                <a:lnTo>
                  <a:pt x="1243" y="203"/>
                </a:lnTo>
                <a:lnTo>
                  <a:pt x="1085" y="226"/>
                </a:lnTo>
                <a:lnTo>
                  <a:pt x="927" y="249"/>
                </a:lnTo>
                <a:lnTo>
                  <a:pt x="768" y="271"/>
                </a:lnTo>
                <a:lnTo>
                  <a:pt x="689" y="283"/>
                </a:lnTo>
                <a:lnTo>
                  <a:pt x="599" y="294"/>
                </a:lnTo>
                <a:lnTo>
                  <a:pt x="554" y="305"/>
                </a:lnTo>
                <a:lnTo>
                  <a:pt x="520" y="316"/>
                </a:lnTo>
                <a:lnTo>
                  <a:pt x="486" y="316"/>
                </a:lnTo>
                <a:lnTo>
                  <a:pt x="440" y="328"/>
                </a:lnTo>
                <a:lnTo>
                  <a:pt x="384" y="328"/>
                </a:lnTo>
                <a:lnTo>
                  <a:pt x="327" y="339"/>
                </a:lnTo>
                <a:lnTo>
                  <a:pt x="282" y="339"/>
                </a:lnTo>
                <a:lnTo>
                  <a:pt x="248" y="350"/>
                </a:lnTo>
                <a:lnTo>
                  <a:pt x="226" y="350"/>
                </a:lnTo>
                <a:lnTo>
                  <a:pt x="203" y="350"/>
                </a:lnTo>
                <a:lnTo>
                  <a:pt x="169" y="350"/>
                </a:lnTo>
                <a:lnTo>
                  <a:pt x="147" y="339"/>
                </a:lnTo>
                <a:lnTo>
                  <a:pt x="113" y="328"/>
                </a:lnTo>
                <a:lnTo>
                  <a:pt x="101" y="316"/>
                </a:lnTo>
                <a:lnTo>
                  <a:pt x="79" y="294"/>
                </a:lnTo>
                <a:lnTo>
                  <a:pt x="67" y="283"/>
                </a:lnTo>
                <a:lnTo>
                  <a:pt x="45" y="271"/>
                </a:lnTo>
                <a:lnTo>
                  <a:pt x="33" y="260"/>
                </a:lnTo>
                <a:lnTo>
                  <a:pt x="22" y="249"/>
                </a:lnTo>
                <a:lnTo>
                  <a:pt x="11" y="237"/>
                </a:lnTo>
                <a:lnTo>
                  <a:pt x="11" y="226"/>
                </a:lnTo>
                <a:lnTo>
                  <a:pt x="0" y="215"/>
                </a:lnTo>
                <a:lnTo>
                  <a:pt x="0" y="203"/>
                </a:lnTo>
                <a:lnTo>
                  <a:pt x="124" y="192"/>
                </a:lnTo>
                <a:lnTo>
                  <a:pt x="237" y="181"/>
                </a:lnTo>
                <a:lnTo>
                  <a:pt x="350" y="169"/>
                </a:lnTo>
                <a:lnTo>
                  <a:pt x="452" y="158"/>
                </a:lnTo>
                <a:lnTo>
                  <a:pt x="474" y="147"/>
                </a:lnTo>
                <a:lnTo>
                  <a:pt x="497" y="147"/>
                </a:lnTo>
                <a:lnTo>
                  <a:pt x="531" y="147"/>
                </a:lnTo>
                <a:lnTo>
                  <a:pt x="565" y="147"/>
                </a:lnTo>
                <a:lnTo>
                  <a:pt x="599" y="136"/>
                </a:lnTo>
                <a:lnTo>
                  <a:pt x="644" y="136"/>
                </a:lnTo>
                <a:lnTo>
                  <a:pt x="689" y="124"/>
                </a:lnTo>
                <a:lnTo>
                  <a:pt x="734" y="124"/>
                </a:lnTo>
                <a:lnTo>
                  <a:pt x="780" y="113"/>
                </a:lnTo>
                <a:lnTo>
                  <a:pt x="836" y="113"/>
                </a:lnTo>
                <a:lnTo>
                  <a:pt x="881" y="102"/>
                </a:lnTo>
                <a:lnTo>
                  <a:pt x="938" y="102"/>
                </a:lnTo>
                <a:lnTo>
                  <a:pt x="1006" y="90"/>
                </a:lnTo>
                <a:lnTo>
                  <a:pt x="1062" y="79"/>
                </a:lnTo>
                <a:lnTo>
                  <a:pt x="1130" y="68"/>
                </a:lnTo>
                <a:lnTo>
                  <a:pt x="1198" y="68"/>
                </a:lnTo>
                <a:lnTo>
                  <a:pt x="1266" y="56"/>
                </a:lnTo>
                <a:lnTo>
                  <a:pt x="1334" y="45"/>
                </a:lnTo>
                <a:lnTo>
                  <a:pt x="1390" y="45"/>
                </a:lnTo>
                <a:lnTo>
                  <a:pt x="1458" y="34"/>
                </a:lnTo>
                <a:lnTo>
                  <a:pt x="1514" y="34"/>
                </a:lnTo>
                <a:lnTo>
                  <a:pt x="1571" y="23"/>
                </a:lnTo>
                <a:lnTo>
                  <a:pt x="1673" y="11"/>
                </a:lnTo>
                <a:lnTo>
                  <a:pt x="1763" y="11"/>
                </a:lnTo>
                <a:lnTo>
                  <a:pt x="1854" y="0"/>
                </a:lnTo>
                <a:lnTo>
                  <a:pt x="1933" y="0"/>
                </a:lnTo>
                <a:lnTo>
                  <a:pt x="2001" y="0"/>
                </a:lnTo>
                <a:lnTo>
                  <a:pt x="2057" y="0"/>
                </a:lnTo>
                <a:lnTo>
                  <a:pt x="2114" y="0"/>
                </a:lnTo>
                <a:lnTo>
                  <a:pt x="2159" y="0"/>
                </a:lnTo>
                <a:lnTo>
                  <a:pt x="2204" y="11"/>
                </a:lnTo>
                <a:lnTo>
                  <a:pt x="2238" y="11"/>
                </a:lnTo>
                <a:lnTo>
                  <a:pt x="2272" y="23"/>
                </a:lnTo>
                <a:lnTo>
                  <a:pt x="2306" y="34"/>
                </a:lnTo>
                <a:lnTo>
                  <a:pt x="2328" y="45"/>
                </a:lnTo>
                <a:lnTo>
                  <a:pt x="2351" y="79"/>
                </a:lnTo>
                <a:lnTo>
                  <a:pt x="2374" y="102"/>
                </a:lnTo>
                <a:lnTo>
                  <a:pt x="2385" y="124"/>
                </a:lnTo>
                <a:lnTo>
                  <a:pt x="2396" y="136"/>
                </a:lnTo>
                <a:lnTo>
                  <a:pt x="2396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9"/>
          <p:cNvSpPr/>
          <p:nvPr/>
        </p:nvSpPr>
        <p:spPr>
          <a:xfrm>
            <a:off x="6110280" y="2255760"/>
            <a:ext cx="968400" cy="1060560"/>
          </a:xfrm>
          <a:custGeom>
            <a:avLst/>
            <a:gdLst>
              <a:gd name="textAreaLeft" fmla="*/ 0 w 968400"/>
              <a:gd name="textAreaRight" fmla="*/ 968760 w 96840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1526" h="1628">
                <a:moveTo>
                  <a:pt x="0" y="1459"/>
                </a:moveTo>
                <a:lnTo>
                  <a:pt x="0" y="1447"/>
                </a:lnTo>
                <a:lnTo>
                  <a:pt x="0" y="1436"/>
                </a:lnTo>
                <a:lnTo>
                  <a:pt x="12" y="1425"/>
                </a:lnTo>
                <a:lnTo>
                  <a:pt x="23" y="1413"/>
                </a:lnTo>
                <a:lnTo>
                  <a:pt x="34" y="1402"/>
                </a:lnTo>
                <a:lnTo>
                  <a:pt x="45" y="1391"/>
                </a:lnTo>
                <a:lnTo>
                  <a:pt x="68" y="1380"/>
                </a:lnTo>
                <a:lnTo>
                  <a:pt x="79" y="1368"/>
                </a:lnTo>
                <a:lnTo>
                  <a:pt x="91" y="1368"/>
                </a:lnTo>
                <a:lnTo>
                  <a:pt x="102" y="1357"/>
                </a:lnTo>
                <a:lnTo>
                  <a:pt x="125" y="1334"/>
                </a:lnTo>
                <a:lnTo>
                  <a:pt x="147" y="1300"/>
                </a:lnTo>
                <a:lnTo>
                  <a:pt x="170" y="1255"/>
                </a:lnTo>
                <a:lnTo>
                  <a:pt x="204" y="1210"/>
                </a:lnTo>
                <a:lnTo>
                  <a:pt x="238" y="1142"/>
                </a:lnTo>
                <a:lnTo>
                  <a:pt x="283" y="1074"/>
                </a:lnTo>
                <a:lnTo>
                  <a:pt x="328" y="995"/>
                </a:lnTo>
                <a:lnTo>
                  <a:pt x="362" y="916"/>
                </a:lnTo>
                <a:lnTo>
                  <a:pt x="407" y="837"/>
                </a:lnTo>
                <a:lnTo>
                  <a:pt x="475" y="679"/>
                </a:lnTo>
                <a:lnTo>
                  <a:pt x="532" y="532"/>
                </a:lnTo>
                <a:lnTo>
                  <a:pt x="588" y="385"/>
                </a:lnTo>
                <a:lnTo>
                  <a:pt x="611" y="317"/>
                </a:lnTo>
                <a:lnTo>
                  <a:pt x="622" y="260"/>
                </a:lnTo>
                <a:lnTo>
                  <a:pt x="645" y="215"/>
                </a:lnTo>
                <a:lnTo>
                  <a:pt x="645" y="170"/>
                </a:lnTo>
                <a:lnTo>
                  <a:pt x="656" y="136"/>
                </a:lnTo>
                <a:lnTo>
                  <a:pt x="656" y="113"/>
                </a:lnTo>
                <a:lnTo>
                  <a:pt x="656" y="91"/>
                </a:lnTo>
                <a:lnTo>
                  <a:pt x="656" y="68"/>
                </a:lnTo>
                <a:lnTo>
                  <a:pt x="645" y="68"/>
                </a:lnTo>
                <a:lnTo>
                  <a:pt x="633" y="57"/>
                </a:lnTo>
                <a:lnTo>
                  <a:pt x="633" y="34"/>
                </a:lnTo>
                <a:lnTo>
                  <a:pt x="633" y="23"/>
                </a:lnTo>
                <a:lnTo>
                  <a:pt x="645" y="12"/>
                </a:lnTo>
                <a:lnTo>
                  <a:pt x="656" y="0"/>
                </a:lnTo>
                <a:lnTo>
                  <a:pt x="679" y="0"/>
                </a:lnTo>
                <a:lnTo>
                  <a:pt x="690" y="0"/>
                </a:lnTo>
                <a:lnTo>
                  <a:pt x="701" y="0"/>
                </a:lnTo>
                <a:lnTo>
                  <a:pt x="724" y="0"/>
                </a:lnTo>
                <a:lnTo>
                  <a:pt x="746" y="12"/>
                </a:lnTo>
                <a:lnTo>
                  <a:pt x="792" y="23"/>
                </a:lnTo>
                <a:lnTo>
                  <a:pt x="826" y="34"/>
                </a:lnTo>
                <a:lnTo>
                  <a:pt x="848" y="57"/>
                </a:lnTo>
                <a:lnTo>
                  <a:pt x="882" y="91"/>
                </a:lnTo>
                <a:lnTo>
                  <a:pt x="893" y="102"/>
                </a:lnTo>
                <a:lnTo>
                  <a:pt x="905" y="113"/>
                </a:lnTo>
                <a:lnTo>
                  <a:pt x="916" y="125"/>
                </a:lnTo>
                <a:lnTo>
                  <a:pt x="927" y="136"/>
                </a:lnTo>
                <a:lnTo>
                  <a:pt x="927" y="147"/>
                </a:lnTo>
                <a:lnTo>
                  <a:pt x="927" y="159"/>
                </a:lnTo>
                <a:lnTo>
                  <a:pt x="927" y="170"/>
                </a:lnTo>
                <a:lnTo>
                  <a:pt x="927" y="181"/>
                </a:lnTo>
                <a:lnTo>
                  <a:pt x="916" y="181"/>
                </a:lnTo>
                <a:lnTo>
                  <a:pt x="916" y="204"/>
                </a:lnTo>
                <a:lnTo>
                  <a:pt x="905" y="215"/>
                </a:lnTo>
                <a:lnTo>
                  <a:pt x="893" y="238"/>
                </a:lnTo>
                <a:lnTo>
                  <a:pt x="882" y="260"/>
                </a:lnTo>
                <a:lnTo>
                  <a:pt x="871" y="283"/>
                </a:lnTo>
                <a:lnTo>
                  <a:pt x="848" y="317"/>
                </a:lnTo>
                <a:lnTo>
                  <a:pt x="837" y="351"/>
                </a:lnTo>
                <a:lnTo>
                  <a:pt x="814" y="396"/>
                </a:lnTo>
                <a:lnTo>
                  <a:pt x="792" y="441"/>
                </a:lnTo>
                <a:lnTo>
                  <a:pt x="758" y="486"/>
                </a:lnTo>
                <a:lnTo>
                  <a:pt x="735" y="543"/>
                </a:lnTo>
                <a:lnTo>
                  <a:pt x="701" y="599"/>
                </a:lnTo>
                <a:lnTo>
                  <a:pt x="667" y="656"/>
                </a:lnTo>
                <a:lnTo>
                  <a:pt x="633" y="724"/>
                </a:lnTo>
                <a:lnTo>
                  <a:pt x="599" y="792"/>
                </a:lnTo>
                <a:lnTo>
                  <a:pt x="566" y="859"/>
                </a:lnTo>
                <a:lnTo>
                  <a:pt x="532" y="916"/>
                </a:lnTo>
                <a:lnTo>
                  <a:pt x="498" y="984"/>
                </a:lnTo>
                <a:lnTo>
                  <a:pt x="464" y="1040"/>
                </a:lnTo>
                <a:lnTo>
                  <a:pt x="441" y="1086"/>
                </a:lnTo>
                <a:lnTo>
                  <a:pt x="419" y="1131"/>
                </a:lnTo>
                <a:lnTo>
                  <a:pt x="396" y="1176"/>
                </a:lnTo>
                <a:lnTo>
                  <a:pt x="373" y="1210"/>
                </a:lnTo>
                <a:lnTo>
                  <a:pt x="362" y="1244"/>
                </a:lnTo>
                <a:lnTo>
                  <a:pt x="339" y="1278"/>
                </a:lnTo>
                <a:lnTo>
                  <a:pt x="328" y="1300"/>
                </a:lnTo>
                <a:lnTo>
                  <a:pt x="328" y="1323"/>
                </a:lnTo>
                <a:lnTo>
                  <a:pt x="317" y="1334"/>
                </a:lnTo>
                <a:lnTo>
                  <a:pt x="317" y="1346"/>
                </a:lnTo>
                <a:lnTo>
                  <a:pt x="317" y="1357"/>
                </a:lnTo>
                <a:lnTo>
                  <a:pt x="328" y="1368"/>
                </a:lnTo>
                <a:lnTo>
                  <a:pt x="339" y="1368"/>
                </a:lnTo>
                <a:lnTo>
                  <a:pt x="351" y="1368"/>
                </a:lnTo>
                <a:lnTo>
                  <a:pt x="373" y="1368"/>
                </a:lnTo>
                <a:lnTo>
                  <a:pt x="396" y="1357"/>
                </a:lnTo>
                <a:lnTo>
                  <a:pt x="419" y="1357"/>
                </a:lnTo>
                <a:lnTo>
                  <a:pt x="452" y="1357"/>
                </a:lnTo>
                <a:lnTo>
                  <a:pt x="475" y="1357"/>
                </a:lnTo>
                <a:lnTo>
                  <a:pt x="520" y="1346"/>
                </a:lnTo>
                <a:lnTo>
                  <a:pt x="554" y="1346"/>
                </a:lnTo>
                <a:lnTo>
                  <a:pt x="599" y="1334"/>
                </a:lnTo>
                <a:lnTo>
                  <a:pt x="645" y="1323"/>
                </a:lnTo>
                <a:lnTo>
                  <a:pt x="701" y="1312"/>
                </a:lnTo>
                <a:lnTo>
                  <a:pt x="758" y="1312"/>
                </a:lnTo>
                <a:lnTo>
                  <a:pt x="814" y="1300"/>
                </a:lnTo>
                <a:lnTo>
                  <a:pt x="871" y="1289"/>
                </a:lnTo>
                <a:lnTo>
                  <a:pt x="927" y="1278"/>
                </a:lnTo>
                <a:lnTo>
                  <a:pt x="984" y="1266"/>
                </a:lnTo>
                <a:lnTo>
                  <a:pt x="1029" y="1255"/>
                </a:lnTo>
                <a:lnTo>
                  <a:pt x="1074" y="1255"/>
                </a:lnTo>
                <a:lnTo>
                  <a:pt x="1119" y="1244"/>
                </a:lnTo>
                <a:lnTo>
                  <a:pt x="1153" y="1244"/>
                </a:lnTo>
                <a:lnTo>
                  <a:pt x="1199" y="1233"/>
                </a:lnTo>
                <a:lnTo>
                  <a:pt x="1221" y="1233"/>
                </a:lnTo>
                <a:lnTo>
                  <a:pt x="1255" y="1233"/>
                </a:lnTo>
                <a:lnTo>
                  <a:pt x="1278" y="1221"/>
                </a:lnTo>
                <a:lnTo>
                  <a:pt x="1300" y="1221"/>
                </a:lnTo>
                <a:lnTo>
                  <a:pt x="1312" y="1221"/>
                </a:lnTo>
                <a:lnTo>
                  <a:pt x="1334" y="1221"/>
                </a:lnTo>
                <a:lnTo>
                  <a:pt x="1346" y="1221"/>
                </a:lnTo>
                <a:lnTo>
                  <a:pt x="1357" y="1221"/>
                </a:lnTo>
                <a:lnTo>
                  <a:pt x="1391" y="1221"/>
                </a:lnTo>
                <a:lnTo>
                  <a:pt x="1413" y="1233"/>
                </a:lnTo>
                <a:lnTo>
                  <a:pt x="1459" y="1244"/>
                </a:lnTo>
                <a:lnTo>
                  <a:pt x="1481" y="1266"/>
                </a:lnTo>
                <a:lnTo>
                  <a:pt x="1504" y="1278"/>
                </a:lnTo>
                <a:lnTo>
                  <a:pt x="1515" y="1300"/>
                </a:lnTo>
                <a:lnTo>
                  <a:pt x="1526" y="1300"/>
                </a:lnTo>
                <a:lnTo>
                  <a:pt x="1526" y="1312"/>
                </a:lnTo>
                <a:lnTo>
                  <a:pt x="1515" y="1323"/>
                </a:lnTo>
                <a:lnTo>
                  <a:pt x="1515" y="1334"/>
                </a:lnTo>
                <a:lnTo>
                  <a:pt x="1493" y="1346"/>
                </a:lnTo>
                <a:lnTo>
                  <a:pt x="1481" y="1357"/>
                </a:lnTo>
                <a:lnTo>
                  <a:pt x="1470" y="1357"/>
                </a:lnTo>
                <a:lnTo>
                  <a:pt x="1447" y="1368"/>
                </a:lnTo>
                <a:lnTo>
                  <a:pt x="1436" y="1368"/>
                </a:lnTo>
                <a:lnTo>
                  <a:pt x="1413" y="1380"/>
                </a:lnTo>
                <a:lnTo>
                  <a:pt x="1391" y="1380"/>
                </a:lnTo>
                <a:lnTo>
                  <a:pt x="1357" y="1380"/>
                </a:lnTo>
                <a:lnTo>
                  <a:pt x="1334" y="1380"/>
                </a:lnTo>
                <a:lnTo>
                  <a:pt x="1300" y="1391"/>
                </a:lnTo>
                <a:lnTo>
                  <a:pt x="1266" y="1391"/>
                </a:lnTo>
                <a:lnTo>
                  <a:pt x="1187" y="1391"/>
                </a:lnTo>
                <a:lnTo>
                  <a:pt x="1108" y="1402"/>
                </a:lnTo>
                <a:lnTo>
                  <a:pt x="1029" y="1402"/>
                </a:lnTo>
                <a:lnTo>
                  <a:pt x="939" y="1413"/>
                </a:lnTo>
                <a:lnTo>
                  <a:pt x="848" y="1425"/>
                </a:lnTo>
                <a:lnTo>
                  <a:pt x="746" y="1436"/>
                </a:lnTo>
                <a:lnTo>
                  <a:pt x="633" y="1459"/>
                </a:lnTo>
                <a:lnTo>
                  <a:pt x="577" y="1470"/>
                </a:lnTo>
                <a:lnTo>
                  <a:pt x="520" y="1493"/>
                </a:lnTo>
                <a:lnTo>
                  <a:pt x="452" y="1504"/>
                </a:lnTo>
                <a:lnTo>
                  <a:pt x="396" y="1515"/>
                </a:lnTo>
                <a:lnTo>
                  <a:pt x="351" y="1538"/>
                </a:lnTo>
                <a:lnTo>
                  <a:pt x="305" y="1549"/>
                </a:lnTo>
                <a:lnTo>
                  <a:pt x="272" y="1560"/>
                </a:lnTo>
                <a:lnTo>
                  <a:pt x="249" y="1572"/>
                </a:lnTo>
                <a:lnTo>
                  <a:pt x="226" y="1583"/>
                </a:lnTo>
                <a:lnTo>
                  <a:pt x="204" y="1594"/>
                </a:lnTo>
                <a:lnTo>
                  <a:pt x="170" y="1606"/>
                </a:lnTo>
                <a:lnTo>
                  <a:pt x="147" y="1628"/>
                </a:lnTo>
                <a:lnTo>
                  <a:pt x="125" y="1628"/>
                </a:lnTo>
                <a:lnTo>
                  <a:pt x="113" y="1628"/>
                </a:lnTo>
                <a:lnTo>
                  <a:pt x="102" y="1628"/>
                </a:lnTo>
                <a:lnTo>
                  <a:pt x="91" y="1628"/>
                </a:lnTo>
                <a:lnTo>
                  <a:pt x="68" y="1617"/>
                </a:lnTo>
                <a:lnTo>
                  <a:pt x="57" y="1594"/>
                </a:lnTo>
                <a:lnTo>
                  <a:pt x="45" y="1572"/>
                </a:lnTo>
                <a:lnTo>
                  <a:pt x="23" y="1538"/>
                </a:lnTo>
                <a:lnTo>
                  <a:pt x="12" y="1515"/>
                </a:lnTo>
                <a:lnTo>
                  <a:pt x="0" y="1481"/>
                </a:lnTo>
                <a:lnTo>
                  <a:pt x="0" y="14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1"/>
          <p:cNvSpPr/>
          <p:nvPr/>
        </p:nvSpPr>
        <p:spPr>
          <a:xfrm>
            <a:off x="6526080" y="2830680"/>
            <a:ext cx="187560" cy="1411200"/>
          </a:xfrm>
          <a:custGeom>
            <a:avLst/>
            <a:gdLst>
              <a:gd name="textAreaLeft" fmla="*/ 0 w 187560"/>
              <a:gd name="textAreaRight" fmla="*/ 187920 w 187560"/>
              <a:gd name="textAreaTop" fmla="*/ 0 h 1411200"/>
              <a:gd name="textAreaBottom" fmla="*/ 1411560 h 1411200"/>
            </a:gdLst>
            <a:ahLst/>
            <a:rect l="textAreaLeft" t="textAreaTop" r="textAreaRight" b="textAreaBottom"/>
            <a:pathLst>
              <a:path w="294" h="2171">
                <a:moveTo>
                  <a:pt x="23" y="91"/>
                </a:moveTo>
                <a:lnTo>
                  <a:pt x="11" y="79"/>
                </a:lnTo>
                <a:lnTo>
                  <a:pt x="11" y="57"/>
                </a:lnTo>
                <a:lnTo>
                  <a:pt x="0" y="45"/>
                </a:lnTo>
                <a:lnTo>
                  <a:pt x="0" y="34"/>
                </a:lnTo>
                <a:lnTo>
                  <a:pt x="11" y="23"/>
                </a:lnTo>
                <a:lnTo>
                  <a:pt x="11" y="11"/>
                </a:lnTo>
                <a:lnTo>
                  <a:pt x="23" y="11"/>
                </a:lnTo>
                <a:lnTo>
                  <a:pt x="34" y="11"/>
                </a:lnTo>
                <a:lnTo>
                  <a:pt x="45" y="0"/>
                </a:lnTo>
                <a:lnTo>
                  <a:pt x="56" y="0"/>
                </a:lnTo>
                <a:lnTo>
                  <a:pt x="68" y="0"/>
                </a:lnTo>
                <a:lnTo>
                  <a:pt x="90" y="11"/>
                </a:lnTo>
                <a:lnTo>
                  <a:pt x="113" y="11"/>
                </a:lnTo>
                <a:lnTo>
                  <a:pt x="147" y="23"/>
                </a:lnTo>
                <a:lnTo>
                  <a:pt x="170" y="34"/>
                </a:lnTo>
                <a:lnTo>
                  <a:pt x="203" y="45"/>
                </a:lnTo>
                <a:lnTo>
                  <a:pt x="226" y="68"/>
                </a:lnTo>
                <a:lnTo>
                  <a:pt x="249" y="79"/>
                </a:lnTo>
                <a:lnTo>
                  <a:pt x="260" y="91"/>
                </a:lnTo>
                <a:lnTo>
                  <a:pt x="283" y="102"/>
                </a:lnTo>
                <a:lnTo>
                  <a:pt x="294" y="102"/>
                </a:lnTo>
                <a:lnTo>
                  <a:pt x="294" y="113"/>
                </a:lnTo>
                <a:lnTo>
                  <a:pt x="294" y="124"/>
                </a:lnTo>
                <a:lnTo>
                  <a:pt x="294" y="147"/>
                </a:lnTo>
                <a:lnTo>
                  <a:pt x="294" y="170"/>
                </a:lnTo>
                <a:lnTo>
                  <a:pt x="294" y="181"/>
                </a:lnTo>
                <a:lnTo>
                  <a:pt x="283" y="204"/>
                </a:lnTo>
                <a:lnTo>
                  <a:pt x="283" y="215"/>
                </a:lnTo>
                <a:lnTo>
                  <a:pt x="271" y="238"/>
                </a:lnTo>
                <a:lnTo>
                  <a:pt x="271" y="260"/>
                </a:lnTo>
                <a:lnTo>
                  <a:pt x="260" y="283"/>
                </a:lnTo>
                <a:lnTo>
                  <a:pt x="260" y="317"/>
                </a:lnTo>
                <a:lnTo>
                  <a:pt x="249" y="351"/>
                </a:lnTo>
                <a:lnTo>
                  <a:pt x="249" y="384"/>
                </a:lnTo>
                <a:lnTo>
                  <a:pt x="237" y="430"/>
                </a:lnTo>
                <a:lnTo>
                  <a:pt x="237" y="452"/>
                </a:lnTo>
                <a:lnTo>
                  <a:pt x="237" y="475"/>
                </a:lnTo>
                <a:lnTo>
                  <a:pt x="237" y="509"/>
                </a:lnTo>
                <a:lnTo>
                  <a:pt x="237" y="531"/>
                </a:lnTo>
                <a:lnTo>
                  <a:pt x="237" y="565"/>
                </a:lnTo>
                <a:lnTo>
                  <a:pt x="226" y="611"/>
                </a:lnTo>
                <a:lnTo>
                  <a:pt x="226" y="645"/>
                </a:lnTo>
                <a:lnTo>
                  <a:pt x="226" y="690"/>
                </a:lnTo>
                <a:lnTo>
                  <a:pt x="226" y="735"/>
                </a:lnTo>
                <a:lnTo>
                  <a:pt x="226" y="780"/>
                </a:lnTo>
                <a:lnTo>
                  <a:pt x="226" y="837"/>
                </a:lnTo>
                <a:lnTo>
                  <a:pt x="226" y="882"/>
                </a:lnTo>
                <a:lnTo>
                  <a:pt x="226" y="938"/>
                </a:lnTo>
                <a:lnTo>
                  <a:pt x="226" y="1006"/>
                </a:lnTo>
                <a:lnTo>
                  <a:pt x="226" y="1063"/>
                </a:lnTo>
                <a:lnTo>
                  <a:pt x="226" y="1131"/>
                </a:lnTo>
                <a:lnTo>
                  <a:pt x="226" y="1255"/>
                </a:lnTo>
                <a:lnTo>
                  <a:pt x="226" y="1368"/>
                </a:lnTo>
                <a:lnTo>
                  <a:pt x="226" y="1481"/>
                </a:lnTo>
                <a:lnTo>
                  <a:pt x="215" y="1583"/>
                </a:lnTo>
                <a:lnTo>
                  <a:pt x="215" y="1673"/>
                </a:lnTo>
                <a:lnTo>
                  <a:pt x="203" y="1764"/>
                </a:lnTo>
                <a:lnTo>
                  <a:pt x="192" y="1843"/>
                </a:lnTo>
                <a:lnTo>
                  <a:pt x="192" y="1911"/>
                </a:lnTo>
                <a:lnTo>
                  <a:pt x="181" y="1967"/>
                </a:lnTo>
                <a:lnTo>
                  <a:pt x="170" y="2024"/>
                </a:lnTo>
                <a:lnTo>
                  <a:pt x="158" y="2069"/>
                </a:lnTo>
                <a:lnTo>
                  <a:pt x="147" y="2103"/>
                </a:lnTo>
                <a:lnTo>
                  <a:pt x="136" y="2125"/>
                </a:lnTo>
                <a:lnTo>
                  <a:pt x="136" y="2148"/>
                </a:lnTo>
                <a:lnTo>
                  <a:pt x="124" y="2159"/>
                </a:lnTo>
                <a:lnTo>
                  <a:pt x="124" y="2171"/>
                </a:lnTo>
                <a:lnTo>
                  <a:pt x="113" y="2159"/>
                </a:lnTo>
                <a:lnTo>
                  <a:pt x="102" y="2148"/>
                </a:lnTo>
                <a:lnTo>
                  <a:pt x="90" y="2137"/>
                </a:lnTo>
                <a:lnTo>
                  <a:pt x="90" y="2103"/>
                </a:lnTo>
                <a:lnTo>
                  <a:pt x="79" y="2069"/>
                </a:lnTo>
                <a:lnTo>
                  <a:pt x="79" y="2035"/>
                </a:lnTo>
                <a:lnTo>
                  <a:pt x="68" y="1979"/>
                </a:lnTo>
                <a:lnTo>
                  <a:pt x="68" y="1922"/>
                </a:lnTo>
                <a:lnTo>
                  <a:pt x="68" y="1888"/>
                </a:lnTo>
                <a:lnTo>
                  <a:pt x="56" y="1843"/>
                </a:lnTo>
                <a:lnTo>
                  <a:pt x="56" y="1798"/>
                </a:lnTo>
                <a:lnTo>
                  <a:pt x="56" y="1752"/>
                </a:lnTo>
                <a:lnTo>
                  <a:pt x="56" y="1707"/>
                </a:lnTo>
                <a:lnTo>
                  <a:pt x="56" y="1651"/>
                </a:lnTo>
                <a:lnTo>
                  <a:pt x="56" y="1594"/>
                </a:lnTo>
                <a:lnTo>
                  <a:pt x="56" y="1526"/>
                </a:lnTo>
                <a:lnTo>
                  <a:pt x="56" y="1458"/>
                </a:lnTo>
                <a:lnTo>
                  <a:pt x="56" y="1391"/>
                </a:lnTo>
                <a:lnTo>
                  <a:pt x="56" y="1323"/>
                </a:lnTo>
                <a:lnTo>
                  <a:pt x="56" y="1244"/>
                </a:lnTo>
                <a:lnTo>
                  <a:pt x="56" y="1165"/>
                </a:lnTo>
                <a:lnTo>
                  <a:pt x="56" y="1074"/>
                </a:lnTo>
                <a:lnTo>
                  <a:pt x="68" y="984"/>
                </a:lnTo>
                <a:lnTo>
                  <a:pt x="68" y="893"/>
                </a:lnTo>
                <a:lnTo>
                  <a:pt x="68" y="803"/>
                </a:lnTo>
                <a:lnTo>
                  <a:pt x="68" y="712"/>
                </a:lnTo>
                <a:lnTo>
                  <a:pt x="68" y="633"/>
                </a:lnTo>
                <a:lnTo>
                  <a:pt x="68" y="554"/>
                </a:lnTo>
                <a:lnTo>
                  <a:pt x="56" y="486"/>
                </a:lnTo>
                <a:lnTo>
                  <a:pt x="56" y="418"/>
                </a:lnTo>
                <a:lnTo>
                  <a:pt x="56" y="362"/>
                </a:lnTo>
                <a:lnTo>
                  <a:pt x="56" y="305"/>
                </a:lnTo>
                <a:lnTo>
                  <a:pt x="56" y="260"/>
                </a:lnTo>
                <a:lnTo>
                  <a:pt x="45" y="226"/>
                </a:lnTo>
                <a:lnTo>
                  <a:pt x="45" y="181"/>
                </a:lnTo>
                <a:lnTo>
                  <a:pt x="45" y="158"/>
                </a:lnTo>
                <a:lnTo>
                  <a:pt x="34" y="124"/>
                </a:lnTo>
                <a:lnTo>
                  <a:pt x="34" y="113"/>
                </a:lnTo>
                <a:lnTo>
                  <a:pt x="34" y="91"/>
                </a:lnTo>
                <a:lnTo>
                  <a:pt x="23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reeform 30"/>
          <p:cNvSpPr/>
          <p:nvPr/>
        </p:nvSpPr>
        <p:spPr>
          <a:xfrm>
            <a:off x="5565600" y="2874960"/>
            <a:ext cx="768600" cy="243000"/>
          </a:xfrm>
          <a:custGeom>
            <a:avLst/>
            <a:gdLst>
              <a:gd name="textAreaLeft" fmla="*/ 0 w 768600"/>
              <a:gd name="textAreaRight" fmla="*/ 768960 w 7686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10" h="373">
                <a:moveTo>
                  <a:pt x="633" y="113"/>
                </a:moveTo>
                <a:lnTo>
                  <a:pt x="678" y="101"/>
                </a:lnTo>
                <a:lnTo>
                  <a:pt x="724" y="90"/>
                </a:lnTo>
                <a:lnTo>
                  <a:pt x="769" y="79"/>
                </a:lnTo>
                <a:lnTo>
                  <a:pt x="814" y="67"/>
                </a:lnTo>
                <a:lnTo>
                  <a:pt x="848" y="56"/>
                </a:lnTo>
                <a:lnTo>
                  <a:pt x="893" y="45"/>
                </a:lnTo>
                <a:lnTo>
                  <a:pt x="927" y="34"/>
                </a:lnTo>
                <a:lnTo>
                  <a:pt x="950" y="34"/>
                </a:lnTo>
                <a:lnTo>
                  <a:pt x="984" y="22"/>
                </a:lnTo>
                <a:lnTo>
                  <a:pt x="1006" y="11"/>
                </a:lnTo>
                <a:lnTo>
                  <a:pt x="1029" y="11"/>
                </a:lnTo>
                <a:lnTo>
                  <a:pt x="1051" y="11"/>
                </a:lnTo>
                <a:lnTo>
                  <a:pt x="1074" y="0"/>
                </a:lnTo>
                <a:lnTo>
                  <a:pt x="1085" y="0"/>
                </a:lnTo>
                <a:lnTo>
                  <a:pt x="1097" y="0"/>
                </a:lnTo>
                <a:lnTo>
                  <a:pt x="1108" y="0"/>
                </a:lnTo>
                <a:lnTo>
                  <a:pt x="1142" y="0"/>
                </a:lnTo>
                <a:lnTo>
                  <a:pt x="1164" y="11"/>
                </a:lnTo>
                <a:lnTo>
                  <a:pt x="1187" y="22"/>
                </a:lnTo>
                <a:lnTo>
                  <a:pt x="1210" y="34"/>
                </a:lnTo>
                <a:lnTo>
                  <a:pt x="1210" y="45"/>
                </a:lnTo>
                <a:lnTo>
                  <a:pt x="1210" y="56"/>
                </a:lnTo>
                <a:lnTo>
                  <a:pt x="1210" y="67"/>
                </a:lnTo>
                <a:lnTo>
                  <a:pt x="1198" y="79"/>
                </a:lnTo>
                <a:lnTo>
                  <a:pt x="1187" y="90"/>
                </a:lnTo>
                <a:lnTo>
                  <a:pt x="1176" y="101"/>
                </a:lnTo>
                <a:lnTo>
                  <a:pt x="1153" y="113"/>
                </a:lnTo>
                <a:lnTo>
                  <a:pt x="1131" y="124"/>
                </a:lnTo>
                <a:lnTo>
                  <a:pt x="1097" y="135"/>
                </a:lnTo>
                <a:lnTo>
                  <a:pt x="1051" y="158"/>
                </a:lnTo>
                <a:lnTo>
                  <a:pt x="1006" y="169"/>
                </a:lnTo>
                <a:lnTo>
                  <a:pt x="938" y="192"/>
                </a:lnTo>
                <a:lnTo>
                  <a:pt x="871" y="214"/>
                </a:lnTo>
                <a:lnTo>
                  <a:pt x="837" y="226"/>
                </a:lnTo>
                <a:lnTo>
                  <a:pt x="791" y="237"/>
                </a:lnTo>
                <a:lnTo>
                  <a:pt x="746" y="248"/>
                </a:lnTo>
                <a:lnTo>
                  <a:pt x="701" y="260"/>
                </a:lnTo>
                <a:lnTo>
                  <a:pt x="611" y="294"/>
                </a:lnTo>
                <a:lnTo>
                  <a:pt x="531" y="316"/>
                </a:lnTo>
                <a:lnTo>
                  <a:pt x="452" y="327"/>
                </a:lnTo>
                <a:lnTo>
                  <a:pt x="384" y="350"/>
                </a:lnTo>
                <a:lnTo>
                  <a:pt x="328" y="361"/>
                </a:lnTo>
                <a:lnTo>
                  <a:pt x="271" y="373"/>
                </a:lnTo>
                <a:lnTo>
                  <a:pt x="226" y="373"/>
                </a:lnTo>
                <a:lnTo>
                  <a:pt x="181" y="373"/>
                </a:lnTo>
                <a:lnTo>
                  <a:pt x="147" y="373"/>
                </a:lnTo>
                <a:lnTo>
                  <a:pt x="113" y="373"/>
                </a:lnTo>
                <a:lnTo>
                  <a:pt x="90" y="373"/>
                </a:lnTo>
                <a:lnTo>
                  <a:pt x="68" y="361"/>
                </a:lnTo>
                <a:lnTo>
                  <a:pt x="45" y="361"/>
                </a:lnTo>
                <a:lnTo>
                  <a:pt x="34" y="350"/>
                </a:lnTo>
                <a:lnTo>
                  <a:pt x="23" y="339"/>
                </a:lnTo>
                <a:lnTo>
                  <a:pt x="11" y="327"/>
                </a:lnTo>
                <a:lnTo>
                  <a:pt x="0" y="316"/>
                </a:lnTo>
                <a:lnTo>
                  <a:pt x="0" y="305"/>
                </a:lnTo>
                <a:lnTo>
                  <a:pt x="0" y="294"/>
                </a:lnTo>
                <a:lnTo>
                  <a:pt x="0" y="282"/>
                </a:lnTo>
                <a:lnTo>
                  <a:pt x="11" y="271"/>
                </a:lnTo>
                <a:lnTo>
                  <a:pt x="23" y="271"/>
                </a:lnTo>
                <a:lnTo>
                  <a:pt x="34" y="260"/>
                </a:lnTo>
                <a:lnTo>
                  <a:pt x="45" y="260"/>
                </a:lnTo>
                <a:lnTo>
                  <a:pt x="68" y="248"/>
                </a:lnTo>
                <a:lnTo>
                  <a:pt x="90" y="248"/>
                </a:lnTo>
                <a:lnTo>
                  <a:pt x="113" y="237"/>
                </a:lnTo>
                <a:lnTo>
                  <a:pt x="136" y="237"/>
                </a:lnTo>
                <a:lnTo>
                  <a:pt x="147" y="237"/>
                </a:lnTo>
                <a:lnTo>
                  <a:pt x="158" y="226"/>
                </a:lnTo>
                <a:lnTo>
                  <a:pt x="181" y="226"/>
                </a:lnTo>
                <a:lnTo>
                  <a:pt x="204" y="226"/>
                </a:lnTo>
                <a:lnTo>
                  <a:pt x="226" y="214"/>
                </a:lnTo>
                <a:lnTo>
                  <a:pt x="249" y="214"/>
                </a:lnTo>
                <a:lnTo>
                  <a:pt x="271" y="203"/>
                </a:lnTo>
                <a:lnTo>
                  <a:pt x="305" y="192"/>
                </a:lnTo>
                <a:lnTo>
                  <a:pt x="339" y="192"/>
                </a:lnTo>
                <a:lnTo>
                  <a:pt x="373" y="181"/>
                </a:lnTo>
                <a:lnTo>
                  <a:pt x="452" y="158"/>
                </a:lnTo>
                <a:lnTo>
                  <a:pt x="531" y="135"/>
                </a:lnTo>
                <a:lnTo>
                  <a:pt x="633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枯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k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92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木的最后一笔变成了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枯草  枯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乌鸦在枯树上搭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54860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1"/>
          <p:cNvSpPr/>
          <p:nvPr/>
        </p:nvSpPr>
        <p:spPr>
          <a:xfrm>
            <a:off x="5945040" y="2263680"/>
            <a:ext cx="187560" cy="1978200"/>
          </a:xfrm>
          <a:custGeom>
            <a:avLst/>
            <a:gdLst>
              <a:gd name="textAreaLeft" fmla="*/ 0 w 187560"/>
              <a:gd name="textAreaRight" fmla="*/ 187920 w 187560"/>
              <a:gd name="textAreaTop" fmla="*/ 0 h 1978200"/>
              <a:gd name="textAreaBottom" fmla="*/ 1978560 h 1978200"/>
            </a:gdLst>
            <a:ahLst/>
            <a:rect l="textAreaLeft" t="textAreaTop" r="textAreaRight" b="textAreaBottom"/>
            <a:pathLst>
              <a:path w="294" h="3041">
                <a:moveTo>
                  <a:pt x="113" y="950"/>
                </a:moveTo>
                <a:lnTo>
                  <a:pt x="113" y="871"/>
                </a:lnTo>
                <a:lnTo>
                  <a:pt x="125" y="780"/>
                </a:lnTo>
                <a:lnTo>
                  <a:pt x="125" y="701"/>
                </a:lnTo>
                <a:lnTo>
                  <a:pt x="125" y="633"/>
                </a:lnTo>
                <a:lnTo>
                  <a:pt x="125" y="554"/>
                </a:lnTo>
                <a:lnTo>
                  <a:pt x="125" y="498"/>
                </a:lnTo>
                <a:lnTo>
                  <a:pt x="113" y="430"/>
                </a:lnTo>
                <a:lnTo>
                  <a:pt x="113" y="373"/>
                </a:lnTo>
                <a:lnTo>
                  <a:pt x="113" y="317"/>
                </a:lnTo>
                <a:lnTo>
                  <a:pt x="102" y="272"/>
                </a:lnTo>
                <a:lnTo>
                  <a:pt x="91" y="226"/>
                </a:lnTo>
                <a:lnTo>
                  <a:pt x="91" y="192"/>
                </a:lnTo>
                <a:lnTo>
                  <a:pt x="79" y="170"/>
                </a:lnTo>
                <a:lnTo>
                  <a:pt x="68" y="147"/>
                </a:lnTo>
                <a:lnTo>
                  <a:pt x="57" y="125"/>
                </a:lnTo>
                <a:lnTo>
                  <a:pt x="45" y="125"/>
                </a:lnTo>
                <a:lnTo>
                  <a:pt x="23" y="102"/>
                </a:lnTo>
                <a:lnTo>
                  <a:pt x="0" y="91"/>
                </a:lnTo>
                <a:lnTo>
                  <a:pt x="0" y="68"/>
                </a:lnTo>
                <a:lnTo>
                  <a:pt x="0" y="34"/>
                </a:lnTo>
                <a:lnTo>
                  <a:pt x="12" y="23"/>
                </a:lnTo>
                <a:lnTo>
                  <a:pt x="23" y="12"/>
                </a:lnTo>
                <a:lnTo>
                  <a:pt x="34" y="12"/>
                </a:lnTo>
                <a:lnTo>
                  <a:pt x="45" y="0"/>
                </a:lnTo>
                <a:lnTo>
                  <a:pt x="57" y="0"/>
                </a:lnTo>
                <a:lnTo>
                  <a:pt x="79" y="0"/>
                </a:lnTo>
                <a:lnTo>
                  <a:pt x="102" y="12"/>
                </a:lnTo>
                <a:lnTo>
                  <a:pt x="147" y="23"/>
                </a:lnTo>
                <a:lnTo>
                  <a:pt x="181" y="34"/>
                </a:lnTo>
                <a:lnTo>
                  <a:pt x="215" y="46"/>
                </a:lnTo>
                <a:lnTo>
                  <a:pt x="249" y="46"/>
                </a:lnTo>
                <a:lnTo>
                  <a:pt x="272" y="68"/>
                </a:lnTo>
                <a:lnTo>
                  <a:pt x="283" y="91"/>
                </a:lnTo>
                <a:lnTo>
                  <a:pt x="294" y="125"/>
                </a:lnTo>
                <a:lnTo>
                  <a:pt x="294" y="147"/>
                </a:lnTo>
                <a:lnTo>
                  <a:pt x="294" y="181"/>
                </a:lnTo>
                <a:lnTo>
                  <a:pt x="294" y="204"/>
                </a:lnTo>
                <a:lnTo>
                  <a:pt x="294" y="226"/>
                </a:lnTo>
                <a:lnTo>
                  <a:pt x="283" y="260"/>
                </a:lnTo>
                <a:lnTo>
                  <a:pt x="283" y="272"/>
                </a:lnTo>
                <a:lnTo>
                  <a:pt x="283" y="283"/>
                </a:lnTo>
                <a:lnTo>
                  <a:pt x="272" y="294"/>
                </a:lnTo>
                <a:lnTo>
                  <a:pt x="272" y="317"/>
                </a:lnTo>
                <a:lnTo>
                  <a:pt x="272" y="339"/>
                </a:lnTo>
                <a:lnTo>
                  <a:pt x="272" y="373"/>
                </a:lnTo>
                <a:lnTo>
                  <a:pt x="272" y="407"/>
                </a:lnTo>
                <a:lnTo>
                  <a:pt x="260" y="441"/>
                </a:lnTo>
                <a:lnTo>
                  <a:pt x="260" y="475"/>
                </a:lnTo>
                <a:lnTo>
                  <a:pt x="260" y="520"/>
                </a:lnTo>
                <a:lnTo>
                  <a:pt x="260" y="566"/>
                </a:lnTo>
                <a:lnTo>
                  <a:pt x="260" y="622"/>
                </a:lnTo>
                <a:lnTo>
                  <a:pt x="249" y="679"/>
                </a:lnTo>
                <a:lnTo>
                  <a:pt x="249" y="735"/>
                </a:lnTo>
                <a:lnTo>
                  <a:pt x="249" y="803"/>
                </a:lnTo>
                <a:lnTo>
                  <a:pt x="249" y="871"/>
                </a:lnTo>
                <a:lnTo>
                  <a:pt x="238" y="1153"/>
                </a:lnTo>
                <a:lnTo>
                  <a:pt x="226" y="1447"/>
                </a:lnTo>
                <a:lnTo>
                  <a:pt x="226" y="1741"/>
                </a:lnTo>
                <a:lnTo>
                  <a:pt x="226" y="2035"/>
                </a:lnTo>
                <a:lnTo>
                  <a:pt x="215" y="2114"/>
                </a:lnTo>
                <a:lnTo>
                  <a:pt x="215" y="2182"/>
                </a:lnTo>
                <a:lnTo>
                  <a:pt x="215" y="2250"/>
                </a:lnTo>
                <a:lnTo>
                  <a:pt x="215" y="2318"/>
                </a:lnTo>
                <a:lnTo>
                  <a:pt x="215" y="2374"/>
                </a:lnTo>
                <a:lnTo>
                  <a:pt x="204" y="2431"/>
                </a:lnTo>
                <a:lnTo>
                  <a:pt x="204" y="2487"/>
                </a:lnTo>
                <a:lnTo>
                  <a:pt x="204" y="2544"/>
                </a:lnTo>
                <a:lnTo>
                  <a:pt x="204" y="2589"/>
                </a:lnTo>
                <a:lnTo>
                  <a:pt x="192" y="2634"/>
                </a:lnTo>
                <a:lnTo>
                  <a:pt x="192" y="2680"/>
                </a:lnTo>
                <a:lnTo>
                  <a:pt x="192" y="2725"/>
                </a:lnTo>
                <a:lnTo>
                  <a:pt x="181" y="2759"/>
                </a:lnTo>
                <a:lnTo>
                  <a:pt x="181" y="2793"/>
                </a:lnTo>
                <a:lnTo>
                  <a:pt x="181" y="2827"/>
                </a:lnTo>
                <a:lnTo>
                  <a:pt x="170" y="2849"/>
                </a:lnTo>
                <a:lnTo>
                  <a:pt x="170" y="2906"/>
                </a:lnTo>
                <a:lnTo>
                  <a:pt x="158" y="2940"/>
                </a:lnTo>
                <a:lnTo>
                  <a:pt x="147" y="2974"/>
                </a:lnTo>
                <a:lnTo>
                  <a:pt x="136" y="2996"/>
                </a:lnTo>
                <a:lnTo>
                  <a:pt x="125" y="3019"/>
                </a:lnTo>
                <a:lnTo>
                  <a:pt x="125" y="3030"/>
                </a:lnTo>
                <a:lnTo>
                  <a:pt x="113" y="3041"/>
                </a:lnTo>
                <a:lnTo>
                  <a:pt x="102" y="3030"/>
                </a:lnTo>
                <a:lnTo>
                  <a:pt x="91" y="3030"/>
                </a:lnTo>
                <a:lnTo>
                  <a:pt x="79" y="3019"/>
                </a:lnTo>
                <a:lnTo>
                  <a:pt x="79" y="2996"/>
                </a:lnTo>
                <a:lnTo>
                  <a:pt x="68" y="2985"/>
                </a:lnTo>
                <a:lnTo>
                  <a:pt x="57" y="2962"/>
                </a:lnTo>
                <a:lnTo>
                  <a:pt x="57" y="2940"/>
                </a:lnTo>
                <a:lnTo>
                  <a:pt x="45" y="2906"/>
                </a:lnTo>
                <a:lnTo>
                  <a:pt x="45" y="2883"/>
                </a:lnTo>
                <a:lnTo>
                  <a:pt x="34" y="2849"/>
                </a:lnTo>
                <a:lnTo>
                  <a:pt x="34" y="2827"/>
                </a:lnTo>
                <a:lnTo>
                  <a:pt x="34" y="2804"/>
                </a:lnTo>
                <a:lnTo>
                  <a:pt x="23" y="2781"/>
                </a:lnTo>
                <a:lnTo>
                  <a:pt x="23" y="2759"/>
                </a:lnTo>
                <a:lnTo>
                  <a:pt x="23" y="2736"/>
                </a:lnTo>
                <a:lnTo>
                  <a:pt x="23" y="2725"/>
                </a:lnTo>
                <a:lnTo>
                  <a:pt x="23" y="2714"/>
                </a:lnTo>
                <a:lnTo>
                  <a:pt x="23" y="2702"/>
                </a:lnTo>
                <a:lnTo>
                  <a:pt x="23" y="2691"/>
                </a:lnTo>
                <a:lnTo>
                  <a:pt x="23" y="2668"/>
                </a:lnTo>
                <a:lnTo>
                  <a:pt x="23" y="2646"/>
                </a:lnTo>
                <a:lnTo>
                  <a:pt x="34" y="2612"/>
                </a:lnTo>
                <a:lnTo>
                  <a:pt x="34" y="2578"/>
                </a:lnTo>
                <a:lnTo>
                  <a:pt x="45" y="2533"/>
                </a:lnTo>
                <a:lnTo>
                  <a:pt x="57" y="2487"/>
                </a:lnTo>
                <a:lnTo>
                  <a:pt x="57" y="2442"/>
                </a:lnTo>
                <a:lnTo>
                  <a:pt x="57" y="2408"/>
                </a:lnTo>
                <a:lnTo>
                  <a:pt x="68" y="2386"/>
                </a:lnTo>
                <a:lnTo>
                  <a:pt x="68" y="2352"/>
                </a:lnTo>
                <a:lnTo>
                  <a:pt x="68" y="2307"/>
                </a:lnTo>
                <a:lnTo>
                  <a:pt x="68" y="2273"/>
                </a:lnTo>
                <a:lnTo>
                  <a:pt x="68" y="2227"/>
                </a:lnTo>
                <a:lnTo>
                  <a:pt x="79" y="2182"/>
                </a:lnTo>
                <a:lnTo>
                  <a:pt x="79" y="2137"/>
                </a:lnTo>
                <a:lnTo>
                  <a:pt x="79" y="2092"/>
                </a:lnTo>
                <a:lnTo>
                  <a:pt x="79" y="2035"/>
                </a:lnTo>
                <a:lnTo>
                  <a:pt x="79" y="1979"/>
                </a:lnTo>
                <a:lnTo>
                  <a:pt x="91" y="1922"/>
                </a:lnTo>
                <a:lnTo>
                  <a:pt x="91" y="1866"/>
                </a:lnTo>
                <a:lnTo>
                  <a:pt x="91" y="1798"/>
                </a:lnTo>
                <a:lnTo>
                  <a:pt x="91" y="1673"/>
                </a:lnTo>
                <a:lnTo>
                  <a:pt x="102" y="1560"/>
                </a:lnTo>
                <a:lnTo>
                  <a:pt x="102" y="1447"/>
                </a:lnTo>
                <a:lnTo>
                  <a:pt x="102" y="1334"/>
                </a:lnTo>
                <a:lnTo>
                  <a:pt x="102" y="1233"/>
                </a:lnTo>
                <a:lnTo>
                  <a:pt x="102" y="1142"/>
                </a:lnTo>
                <a:lnTo>
                  <a:pt x="113" y="1040"/>
                </a:lnTo>
                <a:lnTo>
                  <a:pt x="113" y="9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2"/>
          <p:cNvSpPr/>
          <p:nvPr/>
        </p:nvSpPr>
        <p:spPr>
          <a:xfrm>
            <a:off x="5500800" y="2948040"/>
            <a:ext cx="574560" cy="933480"/>
          </a:xfrm>
          <a:custGeom>
            <a:avLst/>
            <a:gdLst>
              <a:gd name="textAreaLeft" fmla="*/ 0 w 574560"/>
              <a:gd name="textAreaRight" fmla="*/ 574920 w 5745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905" h="1435">
                <a:moveTo>
                  <a:pt x="192" y="1311"/>
                </a:moveTo>
                <a:lnTo>
                  <a:pt x="147" y="1345"/>
                </a:lnTo>
                <a:lnTo>
                  <a:pt x="113" y="1379"/>
                </a:lnTo>
                <a:lnTo>
                  <a:pt x="91" y="1402"/>
                </a:lnTo>
                <a:lnTo>
                  <a:pt x="57" y="1413"/>
                </a:lnTo>
                <a:lnTo>
                  <a:pt x="46" y="1424"/>
                </a:lnTo>
                <a:lnTo>
                  <a:pt x="23" y="1424"/>
                </a:lnTo>
                <a:lnTo>
                  <a:pt x="12" y="1435"/>
                </a:lnTo>
                <a:lnTo>
                  <a:pt x="12" y="1424"/>
                </a:lnTo>
                <a:lnTo>
                  <a:pt x="0" y="1424"/>
                </a:lnTo>
                <a:lnTo>
                  <a:pt x="12" y="1402"/>
                </a:lnTo>
                <a:lnTo>
                  <a:pt x="12" y="1390"/>
                </a:lnTo>
                <a:lnTo>
                  <a:pt x="23" y="1368"/>
                </a:lnTo>
                <a:lnTo>
                  <a:pt x="46" y="1345"/>
                </a:lnTo>
                <a:lnTo>
                  <a:pt x="57" y="1311"/>
                </a:lnTo>
                <a:lnTo>
                  <a:pt x="91" y="1277"/>
                </a:lnTo>
                <a:lnTo>
                  <a:pt x="113" y="1243"/>
                </a:lnTo>
                <a:lnTo>
                  <a:pt x="147" y="1209"/>
                </a:lnTo>
                <a:lnTo>
                  <a:pt x="181" y="1164"/>
                </a:lnTo>
                <a:lnTo>
                  <a:pt x="215" y="1119"/>
                </a:lnTo>
                <a:lnTo>
                  <a:pt x="249" y="1074"/>
                </a:lnTo>
                <a:lnTo>
                  <a:pt x="294" y="1028"/>
                </a:lnTo>
                <a:lnTo>
                  <a:pt x="328" y="972"/>
                </a:lnTo>
                <a:lnTo>
                  <a:pt x="373" y="904"/>
                </a:lnTo>
                <a:lnTo>
                  <a:pt x="419" y="848"/>
                </a:lnTo>
                <a:lnTo>
                  <a:pt x="441" y="814"/>
                </a:lnTo>
                <a:lnTo>
                  <a:pt x="464" y="780"/>
                </a:lnTo>
                <a:lnTo>
                  <a:pt x="486" y="735"/>
                </a:lnTo>
                <a:lnTo>
                  <a:pt x="509" y="701"/>
                </a:lnTo>
                <a:lnTo>
                  <a:pt x="543" y="655"/>
                </a:lnTo>
                <a:lnTo>
                  <a:pt x="566" y="610"/>
                </a:lnTo>
                <a:lnTo>
                  <a:pt x="599" y="565"/>
                </a:lnTo>
                <a:lnTo>
                  <a:pt x="622" y="508"/>
                </a:lnTo>
                <a:lnTo>
                  <a:pt x="656" y="452"/>
                </a:lnTo>
                <a:lnTo>
                  <a:pt x="690" y="395"/>
                </a:lnTo>
                <a:lnTo>
                  <a:pt x="724" y="339"/>
                </a:lnTo>
                <a:lnTo>
                  <a:pt x="746" y="282"/>
                </a:lnTo>
                <a:lnTo>
                  <a:pt x="780" y="214"/>
                </a:lnTo>
                <a:lnTo>
                  <a:pt x="814" y="147"/>
                </a:lnTo>
                <a:lnTo>
                  <a:pt x="848" y="68"/>
                </a:lnTo>
                <a:lnTo>
                  <a:pt x="882" y="0"/>
                </a:lnTo>
                <a:lnTo>
                  <a:pt x="905" y="294"/>
                </a:lnTo>
                <a:lnTo>
                  <a:pt x="848" y="407"/>
                </a:lnTo>
                <a:lnTo>
                  <a:pt x="814" y="463"/>
                </a:lnTo>
                <a:lnTo>
                  <a:pt x="792" y="520"/>
                </a:lnTo>
                <a:lnTo>
                  <a:pt x="758" y="576"/>
                </a:lnTo>
                <a:lnTo>
                  <a:pt x="735" y="621"/>
                </a:lnTo>
                <a:lnTo>
                  <a:pt x="713" y="667"/>
                </a:lnTo>
                <a:lnTo>
                  <a:pt x="690" y="712"/>
                </a:lnTo>
                <a:lnTo>
                  <a:pt x="667" y="757"/>
                </a:lnTo>
                <a:lnTo>
                  <a:pt x="645" y="791"/>
                </a:lnTo>
                <a:lnTo>
                  <a:pt x="622" y="836"/>
                </a:lnTo>
                <a:lnTo>
                  <a:pt x="599" y="870"/>
                </a:lnTo>
                <a:lnTo>
                  <a:pt x="577" y="904"/>
                </a:lnTo>
                <a:lnTo>
                  <a:pt x="554" y="927"/>
                </a:lnTo>
                <a:lnTo>
                  <a:pt x="532" y="961"/>
                </a:lnTo>
                <a:lnTo>
                  <a:pt x="509" y="983"/>
                </a:lnTo>
                <a:lnTo>
                  <a:pt x="430" y="1074"/>
                </a:lnTo>
                <a:lnTo>
                  <a:pt x="351" y="1164"/>
                </a:lnTo>
                <a:lnTo>
                  <a:pt x="272" y="1243"/>
                </a:lnTo>
                <a:lnTo>
                  <a:pt x="192" y="13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3"/>
          <p:cNvSpPr/>
          <p:nvPr/>
        </p:nvSpPr>
        <p:spPr>
          <a:xfrm>
            <a:off x="6060960" y="3257640"/>
            <a:ext cx="257400" cy="234720"/>
          </a:xfrm>
          <a:custGeom>
            <a:avLst/>
            <a:gdLst>
              <a:gd name="textAreaLeft" fmla="*/ 0 w 257400"/>
              <a:gd name="textAreaRight" fmla="*/ 257760 w 2574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407" h="361">
                <a:moveTo>
                  <a:pt x="249" y="45"/>
                </a:moveTo>
                <a:lnTo>
                  <a:pt x="294" y="79"/>
                </a:lnTo>
                <a:lnTo>
                  <a:pt x="339" y="113"/>
                </a:lnTo>
                <a:lnTo>
                  <a:pt x="373" y="146"/>
                </a:lnTo>
                <a:lnTo>
                  <a:pt x="396" y="192"/>
                </a:lnTo>
                <a:lnTo>
                  <a:pt x="407" y="226"/>
                </a:lnTo>
                <a:lnTo>
                  <a:pt x="407" y="260"/>
                </a:lnTo>
                <a:lnTo>
                  <a:pt x="407" y="293"/>
                </a:lnTo>
                <a:lnTo>
                  <a:pt x="396" y="316"/>
                </a:lnTo>
                <a:lnTo>
                  <a:pt x="373" y="327"/>
                </a:lnTo>
                <a:lnTo>
                  <a:pt x="373" y="339"/>
                </a:lnTo>
                <a:lnTo>
                  <a:pt x="362" y="350"/>
                </a:lnTo>
                <a:lnTo>
                  <a:pt x="351" y="361"/>
                </a:lnTo>
                <a:lnTo>
                  <a:pt x="339" y="361"/>
                </a:lnTo>
                <a:lnTo>
                  <a:pt x="328" y="350"/>
                </a:lnTo>
                <a:lnTo>
                  <a:pt x="317" y="350"/>
                </a:lnTo>
                <a:lnTo>
                  <a:pt x="317" y="339"/>
                </a:lnTo>
                <a:lnTo>
                  <a:pt x="305" y="339"/>
                </a:lnTo>
                <a:lnTo>
                  <a:pt x="294" y="327"/>
                </a:lnTo>
                <a:lnTo>
                  <a:pt x="271" y="305"/>
                </a:lnTo>
                <a:lnTo>
                  <a:pt x="260" y="293"/>
                </a:lnTo>
                <a:lnTo>
                  <a:pt x="238" y="271"/>
                </a:lnTo>
                <a:lnTo>
                  <a:pt x="215" y="248"/>
                </a:lnTo>
                <a:lnTo>
                  <a:pt x="192" y="226"/>
                </a:lnTo>
                <a:lnTo>
                  <a:pt x="170" y="192"/>
                </a:lnTo>
                <a:lnTo>
                  <a:pt x="136" y="158"/>
                </a:lnTo>
                <a:lnTo>
                  <a:pt x="113" y="124"/>
                </a:lnTo>
                <a:lnTo>
                  <a:pt x="79" y="90"/>
                </a:lnTo>
                <a:lnTo>
                  <a:pt x="45" y="56"/>
                </a:lnTo>
                <a:lnTo>
                  <a:pt x="0" y="11"/>
                </a:lnTo>
                <a:lnTo>
                  <a:pt x="34" y="0"/>
                </a:lnTo>
                <a:lnTo>
                  <a:pt x="68" y="0"/>
                </a:lnTo>
                <a:lnTo>
                  <a:pt x="102" y="0"/>
                </a:lnTo>
                <a:lnTo>
                  <a:pt x="136" y="11"/>
                </a:lnTo>
                <a:lnTo>
                  <a:pt x="158" y="11"/>
                </a:lnTo>
                <a:lnTo>
                  <a:pt x="192" y="22"/>
                </a:lnTo>
                <a:lnTo>
                  <a:pt x="215" y="33"/>
                </a:lnTo>
                <a:lnTo>
                  <a:pt x="249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4"/>
          <p:cNvSpPr/>
          <p:nvPr/>
        </p:nvSpPr>
        <p:spPr>
          <a:xfrm>
            <a:off x="6326280" y="2881440"/>
            <a:ext cx="976320" cy="264960"/>
          </a:xfrm>
          <a:custGeom>
            <a:avLst/>
            <a:gdLst>
              <a:gd name="textAreaLeft" fmla="*/ 0 w 976320"/>
              <a:gd name="textAreaRight" fmla="*/ 976680 w 9763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538" h="407">
                <a:moveTo>
                  <a:pt x="68" y="373"/>
                </a:moveTo>
                <a:lnTo>
                  <a:pt x="34" y="362"/>
                </a:lnTo>
                <a:lnTo>
                  <a:pt x="12" y="350"/>
                </a:lnTo>
                <a:lnTo>
                  <a:pt x="0" y="339"/>
                </a:lnTo>
                <a:lnTo>
                  <a:pt x="0" y="316"/>
                </a:lnTo>
                <a:lnTo>
                  <a:pt x="12" y="316"/>
                </a:lnTo>
                <a:lnTo>
                  <a:pt x="23" y="305"/>
                </a:lnTo>
                <a:lnTo>
                  <a:pt x="34" y="305"/>
                </a:lnTo>
                <a:lnTo>
                  <a:pt x="46" y="305"/>
                </a:lnTo>
                <a:lnTo>
                  <a:pt x="68" y="294"/>
                </a:lnTo>
                <a:lnTo>
                  <a:pt x="91" y="294"/>
                </a:lnTo>
                <a:lnTo>
                  <a:pt x="113" y="283"/>
                </a:lnTo>
                <a:lnTo>
                  <a:pt x="136" y="283"/>
                </a:lnTo>
                <a:lnTo>
                  <a:pt x="170" y="271"/>
                </a:lnTo>
                <a:lnTo>
                  <a:pt x="204" y="271"/>
                </a:lnTo>
                <a:lnTo>
                  <a:pt x="238" y="260"/>
                </a:lnTo>
                <a:lnTo>
                  <a:pt x="272" y="249"/>
                </a:lnTo>
                <a:lnTo>
                  <a:pt x="317" y="249"/>
                </a:lnTo>
                <a:lnTo>
                  <a:pt x="362" y="237"/>
                </a:lnTo>
                <a:lnTo>
                  <a:pt x="532" y="203"/>
                </a:lnTo>
                <a:lnTo>
                  <a:pt x="690" y="170"/>
                </a:lnTo>
                <a:lnTo>
                  <a:pt x="769" y="147"/>
                </a:lnTo>
                <a:lnTo>
                  <a:pt x="848" y="124"/>
                </a:lnTo>
                <a:lnTo>
                  <a:pt x="916" y="102"/>
                </a:lnTo>
                <a:lnTo>
                  <a:pt x="984" y="68"/>
                </a:lnTo>
                <a:lnTo>
                  <a:pt x="1052" y="56"/>
                </a:lnTo>
                <a:lnTo>
                  <a:pt x="1108" y="34"/>
                </a:lnTo>
                <a:lnTo>
                  <a:pt x="1154" y="23"/>
                </a:lnTo>
                <a:lnTo>
                  <a:pt x="1210" y="11"/>
                </a:lnTo>
                <a:lnTo>
                  <a:pt x="1244" y="0"/>
                </a:lnTo>
                <a:lnTo>
                  <a:pt x="1278" y="0"/>
                </a:lnTo>
                <a:lnTo>
                  <a:pt x="1312" y="0"/>
                </a:lnTo>
                <a:lnTo>
                  <a:pt x="1334" y="0"/>
                </a:lnTo>
                <a:lnTo>
                  <a:pt x="1481" y="45"/>
                </a:lnTo>
                <a:lnTo>
                  <a:pt x="1504" y="56"/>
                </a:lnTo>
                <a:lnTo>
                  <a:pt x="1527" y="68"/>
                </a:lnTo>
                <a:lnTo>
                  <a:pt x="1538" y="79"/>
                </a:lnTo>
                <a:lnTo>
                  <a:pt x="1538" y="102"/>
                </a:lnTo>
                <a:lnTo>
                  <a:pt x="1538" y="113"/>
                </a:lnTo>
                <a:lnTo>
                  <a:pt x="1527" y="113"/>
                </a:lnTo>
                <a:lnTo>
                  <a:pt x="1515" y="124"/>
                </a:lnTo>
                <a:lnTo>
                  <a:pt x="1504" y="124"/>
                </a:lnTo>
                <a:lnTo>
                  <a:pt x="1493" y="136"/>
                </a:lnTo>
                <a:lnTo>
                  <a:pt x="1481" y="147"/>
                </a:lnTo>
                <a:lnTo>
                  <a:pt x="1459" y="147"/>
                </a:lnTo>
                <a:lnTo>
                  <a:pt x="1436" y="158"/>
                </a:lnTo>
                <a:lnTo>
                  <a:pt x="1414" y="170"/>
                </a:lnTo>
                <a:lnTo>
                  <a:pt x="1357" y="181"/>
                </a:lnTo>
                <a:lnTo>
                  <a:pt x="1300" y="192"/>
                </a:lnTo>
                <a:lnTo>
                  <a:pt x="1221" y="215"/>
                </a:lnTo>
                <a:lnTo>
                  <a:pt x="905" y="271"/>
                </a:lnTo>
                <a:lnTo>
                  <a:pt x="577" y="339"/>
                </a:lnTo>
                <a:lnTo>
                  <a:pt x="498" y="350"/>
                </a:lnTo>
                <a:lnTo>
                  <a:pt x="430" y="362"/>
                </a:lnTo>
                <a:lnTo>
                  <a:pt x="373" y="373"/>
                </a:lnTo>
                <a:lnTo>
                  <a:pt x="317" y="384"/>
                </a:lnTo>
                <a:lnTo>
                  <a:pt x="283" y="396"/>
                </a:lnTo>
                <a:lnTo>
                  <a:pt x="249" y="396"/>
                </a:lnTo>
                <a:lnTo>
                  <a:pt x="215" y="407"/>
                </a:lnTo>
                <a:lnTo>
                  <a:pt x="204" y="407"/>
                </a:lnTo>
                <a:lnTo>
                  <a:pt x="170" y="407"/>
                </a:lnTo>
                <a:lnTo>
                  <a:pt x="147" y="396"/>
                </a:lnTo>
                <a:lnTo>
                  <a:pt x="113" y="384"/>
                </a:lnTo>
                <a:lnTo>
                  <a:pt x="68" y="37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5"/>
          <p:cNvSpPr/>
          <p:nvPr/>
        </p:nvSpPr>
        <p:spPr>
          <a:xfrm>
            <a:off x="6676920" y="2295360"/>
            <a:ext cx="195480" cy="1227240"/>
          </a:xfrm>
          <a:custGeom>
            <a:avLst/>
            <a:gdLst>
              <a:gd name="textAreaLeft" fmla="*/ 0 w 195480"/>
              <a:gd name="textAreaRight" fmla="*/ 195840 w 195480"/>
              <a:gd name="textAreaTop" fmla="*/ 0 h 1227240"/>
              <a:gd name="textAreaBottom" fmla="*/ 1227600 h 1227240"/>
            </a:gdLst>
            <a:ahLst/>
            <a:rect l="textAreaLeft" t="textAreaTop" r="textAreaRight" b="textAreaBottom"/>
            <a:pathLst>
              <a:path w="306" h="1887">
                <a:moveTo>
                  <a:pt x="193" y="1085"/>
                </a:moveTo>
                <a:lnTo>
                  <a:pt x="181" y="1220"/>
                </a:lnTo>
                <a:lnTo>
                  <a:pt x="170" y="1345"/>
                </a:lnTo>
                <a:lnTo>
                  <a:pt x="159" y="1458"/>
                </a:lnTo>
                <a:lnTo>
                  <a:pt x="147" y="1560"/>
                </a:lnTo>
                <a:lnTo>
                  <a:pt x="147" y="1650"/>
                </a:lnTo>
                <a:lnTo>
                  <a:pt x="136" y="1741"/>
                </a:lnTo>
                <a:lnTo>
                  <a:pt x="136" y="1820"/>
                </a:lnTo>
                <a:lnTo>
                  <a:pt x="125" y="1887"/>
                </a:lnTo>
                <a:lnTo>
                  <a:pt x="0" y="1887"/>
                </a:lnTo>
                <a:lnTo>
                  <a:pt x="12" y="1741"/>
                </a:lnTo>
                <a:lnTo>
                  <a:pt x="23" y="1594"/>
                </a:lnTo>
                <a:lnTo>
                  <a:pt x="23" y="1447"/>
                </a:lnTo>
                <a:lnTo>
                  <a:pt x="34" y="1322"/>
                </a:lnTo>
                <a:lnTo>
                  <a:pt x="46" y="1198"/>
                </a:lnTo>
                <a:lnTo>
                  <a:pt x="46" y="1085"/>
                </a:lnTo>
                <a:lnTo>
                  <a:pt x="57" y="972"/>
                </a:lnTo>
                <a:lnTo>
                  <a:pt x="57" y="870"/>
                </a:lnTo>
                <a:lnTo>
                  <a:pt x="68" y="780"/>
                </a:lnTo>
                <a:lnTo>
                  <a:pt x="68" y="700"/>
                </a:lnTo>
                <a:lnTo>
                  <a:pt x="68" y="621"/>
                </a:lnTo>
                <a:lnTo>
                  <a:pt x="79" y="553"/>
                </a:lnTo>
                <a:lnTo>
                  <a:pt x="79" y="497"/>
                </a:lnTo>
                <a:lnTo>
                  <a:pt x="79" y="440"/>
                </a:lnTo>
                <a:lnTo>
                  <a:pt x="79" y="407"/>
                </a:lnTo>
                <a:lnTo>
                  <a:pt x="79" y="361"/>
                </a:lnTo>
                <a:lnTo>
                  <a:pt x="79" y="316"/>
                </a:lnTo>
                <a:lnTo>
                  <a:pt x="68" y="260"/>
                </a:lnTo>
                <a:lnTo>
                  <a:pt x="68" y="214"/>
                </a:lnTo>
                <a:lnTo>
                  <a:pt x="57" y="180"/>
                </a:lnTo>
                <a:lnTo>
                  <a:pt x="57" y="146"/>
                </a:lnTo>
                <a:lnTo>
                  <a:pt x="46" y="113"/>
                </a:lnTo>
                <a:lnTo>
                  <a:pt x="46" y="90"/>
                </a:lnTo>
                <a:lnTo>
                  <a:pt x="34" y="79"/>
                </a:lnTo>
                <a:lnTo>
                  <a:pt x="23" y="56"/>
                </a:lnTo>
                <a:lnTo>
                  <a:pt x="12" y="33"/>
                </a:lnTo>
                <a:lnTo>
                  <a:pt x="12" y="22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8" y="0"/>
                </a:lnTo>
                <a:lnTo>
                  <a:pt x="79" y="0"/>
                </a:lnTo>
                <a:lnTo>
                  <a:pt x="102" y="0"/>
                </a:lnTo>
                <a:lnTo>
                  <a:pt x="125" y="0"/>
                </a:lnTo>
                <a:lnTo>
                  <a:pt x="159" y="0"/>
                </a:lnTo>
                <a:lnTo>
                  <a:pt x="181" y="11"/>
                </a:lnTo>
                <a:lnTo>
                  <a:pt x="204" y="22"/>
                </a:lnTo>
                <a:lnTo>
                  <a:pt x="226" y="33"/>
                </a:lnTo>
                <a:lnTo>
                  <a:pt x="238" y="45"/>
                </a:lnTo>
                <a:lnTo>
                  <a:pt x="260" y="56"/>
                </a:lnTo>
                <a:lnTo>
                  <a:pt x="272" y="56"/>
                </a:lnTo>
                <a:lnTo>
                  <a:pt x="283" y="67"/>
                </a:lnTo>
                <a:lnTo>
                  <a:pt x="283" y="79"/>
                </a:lnTo>
                <a:lnTo>
                  <a:pt x="294" y="101"/>
                </a:lnTo>
                <a:lnTo>
                  <a:pt x="306" y="124"/>
                </a:lnTo>
                <a:lnTo>
                  <a:pt x="306" y="158"/>
                </a:lnTo>
                <a:lnTo>
                  <a:pt x="294" y="180"/>
                </a:lnTo>
                <a:lnTo>
                  <a:pt x="294" y="203"/>
                </a:lnTo>
                <a:lnTo>
                  <a:pt x="294" y="226"/>
                </a:lnTo>
                <a:lnTo>
                  <a:pt x="283" y="248"/>
                </a:lnTo>
                <a:lnTo>
                  <a:pt x="283" y="271"/>
                </a:lnTo>
                <a:lnTo>
                  <a:pt x="272" y="293"/>
                </a:lnTo>
                <a:lnTo>
                  <a:pt x="272" y="327"/>
                </a:lnTo>
                <a:lnTo>
                  <a:pt x="272" y="361"/>
                </a:lnTo>
                <a:lnTo>
                  <a:pt x="260" y="395"/>
                </a:lnTo>
                <a:lnTo>
                  <a:pt x="260" y="418"/>
                </a:lnTo>
                <a:lnTo>
                  <a:pt x="260" y="440"/>
                </a:lnTo>
                <a:lnTo>
                  <a:pt x="249" y="463"/>
                </a:lnTo>
                <a:lnTo>
                  <a:pt x="249" y="497"/>
                </a:lnTo>
                <a:lnTo>
                  <a:pt x="249" y="520"/>
                </a:lnTo>
                <a:lnTo>
                  <a:pt x="249" y="565"/>
                </a:lnTo>
                <a:lnTo>
                  <a:pt x="238" y="599"/>
                </a:lnTo>
                <a:lnTo>
                  <a:pt x="238" y="644"/>
                </a:lnTo>
                <a:lnTo>
                  <a:pt x="226" y="689"/>
                </a:lnTo>
                <a:lnTo>
                  <a:pt x="226" y="734"/>
                </a:lnTo>
                <a:lnTo>
                  <a:pt x="215" y="791"/>
                </a:lnTo>
                <a:lnTo>
                  <a:pt x="215" y="836"/>
                </a:lnTo>
                <a:lnTo>
                  <a:pt x="204" y="893"/>
                </a:lnTo>
                <a:lnTo>
                  <a:pt x="204" y="960"/>
                </a:lnTo>
                <a:lnTo>
                  <a:pt x="193" y="1017"/>
                </a:lnTo>
                <a:lnTo>
                  <a:pt x="193" y="10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6"/>
          <p:cNvSpPr/>
          <p:nvPr/>
        </p:nvSpPr>
        <p:spPr>
          <a:xfrm>
            <a:off x="6391440" y="3498840"/>
            <a:ext cx="185400" cy="603360"/>
          </a:xfrm>
          <a:custGeom>
            <a:avLst/>
            <a:gdLst>
              <a:gd name="textAreaLeft" fmla="*/ 0 w 185400"/>
              <a:gd name="textAreaRight" fmla="*/ 185760 w 185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294" h="927">
                <a:moveTo>
                  <a:pt x="23" y="147"/>
                </a:moveTo>
                <a:lnTo>
                  <a:pt x="11" y="124"/>
                </a:lnTo>
                <a:lnTo>
                  <a:pt x="11" y="113"/>
                </a:lnTo>
                <a:lnTo>
                  <a:pt x="0" y="90"/>
                </a:lnTo>
                <a:lnTo>
                  <a:pt x="0" y="79"/>
                </a:lnTo>
                <a:lnTo>
                  <a:pt x="0" y="56"/>
                </a:lnTo>
                <a:lnTo>
                  <a:pt x="11" y="45"/>
                </a:lnTo>
                <a:lnTo>
                  <a:pt x="11" y="33"/>
                </a:lnTo>
                <a:lnTo>
                  <a:pt x="23" y="22"/>
                </a:lnTo>
                <a:lnTo>
                  <a:pt x="34" y="11"/>
                </a:lnTo>
                <a:lnTo>
                  <a:pt x="45" y="11"/>
                </a:lnTo>
                <a:lnTo>
                  <a:pt x="68" y="0"/>
                </a:lnTo>
                <a:lnTo>
                  <a:pt x="91" y="0"/>
                </a:lnTo>
                <a:lnTo>
                  <a:pt x="113" y="11"/>
                </a:lnTo>
                <a:lnTo>
                  <a:pt x="136" y="22"/>
                </a:lnTo>
                <a:lnTo>
                  <a:pt x="158" y="33"/>
                </a:lnTo>
                <a:lnTo>
                  <a:pt x="181" y="33"/>
                </a:lnTo>
                <a:lnTo>
                  <a:pt x="215" y="33"/>
                </a:lnTo>
                <a:lnTo>
                  <a:pt x="226" y="113"/>
                </a:lnTo>
                <a:lnTo>
                  <a:pt x="238" y="180"/>
                </a:lnTo>
                <a:lnTo>
                  <a:pt x="249" y="237"/>
                </a:lnTo>
                <a:lnTo>
                  <a:pt x="249" y="305"/>
                </a:lnTo>
                <a:lnTo>
                  <a:pt x="260" y="361"/>
                </a:lnTo>
                <a:lnTo>
                  <a:pt x="260" y="418"/>
                </a:lnTo>
                <a:lnTo>
                  <a:pt x="271" y="463"/>
                </a:lnTo>
                <a:lnTo>
                  <a:pt x="271" y="520"/>
                </a:lnTo>
                <a:lnTo>
                  <a:pt x="283" y="565"/>
                </a:lnTo>
                <a:lnTo>
                  <a:pt x="283" y="599"/>
                </a:lnTo>
                <a:lnTo>
                  <a:pt x="283" y="633"/>
                </a:lnTo>
                <a:lnTo>
                  <a:pt x="283" y="667"/>
                </a:lnTo>
                <a:lnTo>
                  <a:pt x="294" y="700"/>
                </a:lnTo>
                <a:lnTo>
                  <a:pt x="294" y="734"/>
                </a:lnTo>
                <a:lnTo>
                  <a:pt x="294" y="757"/>
                </a:lnTo>
                <a:lnTo>
                  <a:pt x="294" y="768"/>
                </a:lnTo>
                <a:lnTo>
                  <a:pt x="294" y="802"/>
                </a:lnTo>
                <a:lnTo>
                  <a:pt x="294" y="836"/>
                </a:lnTo>
                <a:lnTo>
                  <a:pt x="283" y="859"/>
                </a:lnTo>
                <a:lnTo>
                  <a:pt x="283" y="881"/>
                </a:lnTo>
                <a:lnTo>
                  <a:pt x="283" y="904"/>
                </a:lnTo>
                <a:lnTo>
                  <a:pt x="271" y="915"/>
                </a:lnTo>
                <a:lnTo>
                  <a:pt x="271" y="927"/>
                </a:lnTo>
                <a:lnTo>
                  <a:pt x="260" y="927"/>
                </a:lnTo>
                <a:lnTo>
                  <a:pt x="249" y="915"/>
                </a:lnTo>
                <a:lnTo>
                  <a:pt x="226" y="904"/>
                </a:lnTo>
                <a:lnTo>
                  <a:pt x="215" y="881"/>
                </a:lnTo>
                <a:lnTo>
                  <a:pt x="215" y="870"/>
                </a:lnTo>
                <a:lnTo>
                  <a:pt x="204" y="847"/>
                </a:lnTo>
                <a:lnTo>
                  <a:pt x="192" y="814"/>
                </a:lnTo>
                <a:lnTo>
                  <a:pt x="181" y="780"/>
                </a:lnTo>
                <a:lnTo>
                  <a:pt x="170" y="734"/>
                </a:lnTo>
                <a:lnTo>
                  <a:pt x="158" y="678"/>
                </a:lnTo>
                <a:lnTo>
                  <a:pt x="147" y="610"/>
                </a:lnTo>
                <a:lnTo>
                  <a:pt x="136" y="542"/>
                </a:lnTo>
                <a:lnTo>
                  <a:pt x="125" y="463"/>
                </a:lnTo>
                <a:lnTo>
                  <a:pt x="113" y="395"/>
                </a:lnTo>
                <a:lnTo>
                  <a:pt x="91" y="339"/>
                </a:lnTo>
                <a:lnTo>
                  <a:pt x="79" y="282"/>
                </a:lnTo>
                <a:lnTo>
                  <a:pt x="68" y="237"/>
                </a:lnTo>
                <a:lnTo>
                  <a:pt x="57" y="203"/>
                </a:lnTo>
                <a:lnTo>
                  <a:pt x="45" y="169"/>
                </a:lnTo>
                <a:lnTo>
                  <a:pt x="23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7"/>
          <p:cNvSpPr/>
          <p:nvPr/>
        </p:nvSpPr>
        <p:spPr>
          <a:xfrm>
            <a:off x="6469200" y="3411360"/>
            <a:ext cx="733320" cy="522360"/>
          </a:xfrm>
          <a:custGeom>
            <a:avLst/>
            <a:gdLst>
              <a:gd name="textAreaLeft" fmla="*/ 0 w 733320"/>
              <a:gd name="textAreaRight" fmla="*/ 733680 w 73332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1153" h="803">
                <a:moveTo>
                  <a:pt x="813" y="294"/>
                </a:moveTo>
                <a:lnTo>
                  <a:pt x="825" y="271"/>
                </a:lnTo>
                <a:lnTo>
                  <a:pt x="825" y="249"/>
                </a:lnTo>
                <a:lnTo>
                  <a:pt x="825" y="237"/>
                </a:lnTo>
                <a:lnTo>
                  <a:pt x="825" y="226"/>
                </a:lnTo>
                <a:lnTo>
                  <a:pt x="825" y="215"/>
                </a:lnTo>
                <a:lnTo>
                  <a:pt x="825" y="203"/>
                </a:lnTo>
                <a:lnTo>
                  <a:pt x="813" y="192"/>
                </a:lnTo>
                <a:lnTo>
                  <a:pt x="813" y="181"/>
                </a:lnTo>
                <a:lnTo>
                  <a:pt x="802" y="181"/>
                </a:lnTo>
                <a:lnTo>
                  <a:pt x="791" y="169"/>
                </a:lnTo>
                <a:lnTo>
                  <a:pt x="768" y="169"/>
                </a:lnTo>
                <a:lnTo>
                  <a:pt x="757" y="169"/>
                </a:lnTo>
                <a:lnTo>
                  <a:pt x="734" y="181"/>
                </a:lnTo>
                <a:lnTo>
                  <a:pt x="712" y="181"/>
                </a:lnTo>
                <a:lnTo>
                  <a:pt x="678" y="181"/>
                </a:lnTo>
                <a:lnTo>
                  <a:pt x="644" y="192"/>
                </a:lnTo>
                <a:lnTo>
                  <a:pt x="599" y="192"/>
                </a:lnTo>
                <a:lnTo>
                  <a:pt x="553" y="203"/>
                </a:lnTo>
                <a:lnTo>
                  <a:pt x="497" y="215"/>
                </a:lnTo>
                <a:lnTo>
                  <a:pt x="373" y="237"/>
                </a:lnTo>
                <a:lnTo>
                  <a:pt x="248" y="260"/>
                </a:lnTo>
                <a:lnTo>
                  <a:pt x="124" y="271"/>
                </a:lnTo>
                <a:lnTo>
                  <a:pt x="0" y="283"/>
                </a:lnTo>
                <a:lnTo>
                  <a:pt x="0" y="169"/>
                </a:lnTo>
                <a:lnTo>
                  <a:pt x="113" y="169"/>
                </a:lnTo>
                <a:lnTo>
                  <a:pt x="226" y="158"/>
                </a:lnTo>
                <a:lnTo>
                  <a:pt x="339" y="147"/>
                </a:lnTo>
                <a:lnTo>
                  <a:pt x="395" y="136"/>
                </a:lnTo>
                <a:lnTo>
                  <a:pt x="452" y="113"/>
                </a:lnTo>
                <a:lnTo>
                  <a:pt x="508" y="102"/>
                </a:lnTo>
                <a:lnTo>
                  <a:pt x="565" y="90"/>
                </a:lnTo>
                <a:lnTo>
                  <a:pt x="610" y="79"/>
                </a:lnTo>
                <a:lnTo>
                  <a:pt x="644" y="68"/>
                </a:lnTo>
                <a:lnTo>
                  <a:pt x="678" y="56"/>
                </a:lnTo>
                <a:lnTo>
                  <a:pt x="712" y="45"/>
                </a:lnTo>
                <a:lnTo>
                  <a:pt x="734" y="34"/>
                </a:lnTo>
                <a:lnTo>
                  <a:pt x="746" y="23"/>
                </a:lnTo>
                <a:lnTo>
                  <a:pt x="768" y="11"/>
                </a:lnTo>
                <a:lnTo>
                  <a:pt x="791" y="0"/>
                </a:lnTo>
                <a:lnTo>
                  <a:pt x="813" y="0"/>
                </a:lnTo>
                <a:lnTo>
                  <a:pt x="825" y="0"/>
                </a:lnTo>
                <a:lnTo>
                  <a:pt x="847" y="11"/>
                </a:lnTo>
                <a:lnTo>
                  <a:pt x="870" y="23"/>
                </a:lnTo>
                <a:lnTo>
                  <a:pt x="881" y="34"/>
                </a:lnTo>
                <a:lnTo>
                  <a:pt x="904" y="34"/>
                </a:lnTo>
                <a:lnTo>
                  <a:pt x="927" y="45"/>
                </a:lnTo>
                <a:lnTo>
                  <a:pt x="960" y="56"/>
                </a:lnTo>
                <a:lnTo>
                  <a:pt x="983" y="79"/>
                </a:lnTo>
                <a:lnTo>
                  <a:pt x="1028" y="90"/>
                </a:lnTo>
                <a:lnTo>
                  <a:pt x="1051" y="113"/>
                </a:lnTo>
                <a:lnTo>
                  <a:pt x="1073" y="136"/>
                </a:lnTo>
                <a:lnTo>
                  <a:pt x="1096" y="147"/>
                </a:lnTo>
                <a:lnTo>
                  <a:pt x="1119" y="169"/>
                </a:lnTo>
                <a:lnTo>
                  <a:pt x="1130" y="181"/>
                </a:lnTo>
                <a:lnTo>
                  <a:pt x="1141" y="192"/>
                </a:lnTo>
                <a:lnTo>
                  <a:pt x="1153" y="203"/>
                </a:lnTo>
                <a:lnTo>
                  <a:pt x="1153" y="215"/>
                </a:lnTo>
                <a:lnTo>
                  <a:pt x="1153" y="249"/>
                </a:lnTo>
                <a:lnTo>
                  <a:pt x="1141" y="271"/>
                </a:lnTo>
                <a:lnTo>
                  <a:pt x="1119" y="283"/>
                </a:lnTo>
                <a:lnTo>
                  <a:pt x="1096" y="294"/>
                </a:lnTo>
                <a:lnTo>
                  <a:pt x="1085" y="305"/>
                </a:lnTo>
                <a:lnTo>
                  <a:pt x="1073" y="316"/>
                </a:lnTo>
                <a:lnTo>
                  <a:pt x="1073" y="328"/>
                </a:lnTo>
                <a:lnTo>
                  <a:pt x="1062" y="339"/>
                </a:lnTo>
                <a:lnTo>
                  <a:pt x="1040" y="362"/>
                </a:lnTo>
                <a:lnTo>
                  <a:pt x="1028" y="384"/>
                </a:lnTo>
                <a:lnTo>
                  <a:pt x="1017" y="407"/>
                </a:lnTo>
                <a:lnTo>
                  <a:pt x="994" y="430"/>
                </a:lnTo>
                <a:lnTo>
                  <a:pt x="983" y="463"/>
                </a:lnTo>
                <a:lnTo>
                  <a:pt x="960" y="509"/>
                </a:lnTo>
                <a:lnTo>
                  <a:pt x="938" y="543"/>
                </a:lnTo>
                <a:lnTo>
                  <a:pt x="927" y="588"/>
                </a:lnTo>
                <a:lnTo>
                  <a:pt x="904" y="633"/>
                </a:lnTo>
                <a:lnTo>
                  <a:pt x="881" y="690"/>
                </a:lnTo>
                <a:lnTo>
                  <a:pt x="859" y="735"/>
                </a:lnTo>
                <a:lnTo>
                  <a:pt x="825" y="803"/>
                </a:lnTo>
                <a:lnTo>
                  <a:pt x="734" y="803"/>
                </a:lnTo>
                <a:lnTo>
                  <a:pt x="757" y="701"/>
                </a:lnTo>
                <a:lnTo>
                  <a:pt x="768" y="622"/>
                </a:lnTo>
                <a:lnTo>
                  <a:pt x="791" y="543"/>
                </a:lnTo>
                <a:lnTo>
                  <a:pt x="802" y="475"/>
                </a:lnTo>
                <a:lnTo>
                  <a:pt x="802" y="418"/>
                </a:lnTo>
                <a:lnTo>
                  <a:pt x="813" y="373"/>
                </a:lnTo>
                <a:lnTo>
                  <a:pt x="813" y="328"/>
                </a:lnTo>
                <a:lnTo>
                  <a:pt x="813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8"/>
          <p:cNvSpPr/>
          <p:nvPr/>
        </p:nvSpPr>
        <p:spPr>
          <a:xfrm>
            <a:off x="6526080" y="3860640"/>
            <a:ext cx="582840" cy="154080"/>
          </a:xfrm>
          <a:custGeom>
            <a:avLst/>
            <a:gdLst>
              <a:gd name="textAreaLeft" fmla="*/ 0 w 582840"/>
              <a:gd name="textAreaRight" fmla="*/ 583200 w 5828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916" h="237">
                <a:moveTo>
                  <a:pt x="893" y="56"/>
                </a:moveTo>
                <a:lnTo>
                  <a:pt x="916" y="79"/>
                </a:lnTo>
                <a:lnTo>
                  <a:pt x="916" y="90"/>
                </a:lnTo>
                <a:lnTo>
                  <a:pt x="916" y="113"/>
                </a:lnTo>
                <a:lnTo>
                  <a:pt x="904" y="124"/>
                </a:lnTo>
                <a:lnTo>
                  <a:pt x="882" y="135"/>
                </a:lnTo>
                <a:lnTo>
                  <a:pt x="870" y="135"/>
                </a:lnTo>
                <a:lnTo>
                  <a:pt x="837" y="146"/>
                </a:lnTo>
                <a:lnTo>
                  <a:pt x="803" y="146"/>
                </a:lnTo>
                <a:lnTo>
                  <a:pt x="769" y="158"/>
                </a:lnTo>
                <a:lnTo>
                  <a:pt x="723" y="169"/>
                </a:lnTo>
                <a:lnTo>
                  <a:pt x="667" y="169"/>
                </a:lnTo>
                <a:lnTo>
                  <a:pt x="610" y="180"/>
                </a:lnTo>
                <a:lnTo>
                  <a:pt x="543" y="192"/>
                </a:lnTo>
                <a:lnTo>
                  <a:pt x="463" y="192"/>
                </a:lnTo>
                <a:lnTo>
                  <a:pt x="384" y="203"/>
                </a:lnTo>
                <a:lnTo>
                  <a:pt x="305" y="214"/>
                </a:lnTo>
                <a:lnTo>
                  <a:pt x="203" y="214"/>
                </a:lnTo>
                <a:lnTo>
                  <a:pt x="113" y="226"/>
                </a:lnTo>
                <a:lnTo>
                  <a:pt x="0" y="237"/>
                </a:lnTo>
                <a:lnTo>
                  <a:pt x="0" y="124"/>
                </a:lnTo>
                <a:lnTo>
                  <a:pt x="90" y="101"/>
                </a:lnTo>
                <a:lnTo>
                  <a:pt x="181" y="90"/>
                </a:lnTo>
                <a:lnTo>
                  <a:pt x="249" y="79"/>
                </a:lnTo>
                <a:lnTo>
                  <a:pt x="328" y="67"/>
                </a:lnTo>
                <a:lnTo>
                  <a:pt x="396" y="56"/>
                </a:lnTo>
                <a:lnTo>
                  <a:pt x="452" y="45"/>
                </a:lnTo>
                <a:lnTo>
                  <a:pt x="509" y="33"/>
                </a:lnTo>
                <a:lnTo>
                  <a:pt x="565" y="33"/>
                </a:lnTo>
                <a:lnTo>
                  <a:pt x="610" y="22"/>
                </a:lnTo>
                <a:lnTo>
                  <a:pt x="656" y="11"/>
                </a:lnTo>
                <a:lnTo>
                  <a:pt x="690" y="11"/>
                </a:lnTo>
                <a:lnTo>
                  <a:pt x="723" y="0"/>
                </a:lnTo>
                <a:lnTo>
                  <a:pt x="746" y="0"/>
                </a:lnTo>
                <a:lnTo>
                  <a:pt x="769" y="0"/>
                </a:lnTo>
                <a:lnTo>
                  <a:pt x="791" y="0"/>
                </a:lnTo>
                <a:lnTo>
                  <a:pt x="803" y="0"/>
                </a:lnTo>
                <a:lnTo>
                  <a:pt x="825" y="11"/>
                </a:lnTo>
                <a:lnTo>
                  <a:pt x="848" y="22"/>
                </a:lnTo>
                <a:lnTo>
                  <a:pt x="882" y="33"/>
                </a:lnTo>
                <a:lnTo>
                  <a:pt x="893" y="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做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u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20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部分结构紧凑，中间的“古”窄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饭  做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42"/>
          <p:cNvSpPr/>
          <p:nvPr/>
        </p:nvSpPr>
        <p:spPr>
          <a:xfrm>
            <a:off x="857160" y="5060880"/>
            <a:ext cx="343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妈妈每天都帮我做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中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7"/>
          <p:cNvSpPr/>
          <p:nvPr/>
        </p:nvSpPr>
        <p:spPr>
          <a:xfrm>
            <a:off x="349200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9"/>
          <p:cNvSpPr/>
          <p:nvPr/>
        </p:nvSpPr>
        <p:spPr>
          <a:xfrm>
            <a:off x="5467320" y="2309760"/>
            <a:ext cx="568440" cy="1063800"/>
          </a:xfrm>
          <a:custGeom>
            <a:avLst/>
            <a:gdLst>
              <a:gd name="textAreaLeft" fmla="*/ 0 w 568440"/>
              <a:gd name="textAreaRight" fmla="*/ 568800 w 568440"/>
              <a:gd name="textAreaTop" fmla="*/ 0 h 1063800"/>
              <a:gd name="textAreaBottom" fmla="*/ 1064160 h 1063800"/>
            </a:gdLst>
            <a:ahLst/>
            <a:rect l="textAreaLeft" t="textAreaTop" r="textAreaRight" b="textAreaBottom"/>
            <a:pathLst>
              <a:path w="893" h="1639">
                <a:moveTo>
                  <a:pt x="0" y="1639"/>
                </a:moveTo>
                <a:lnTo>
                  <a:pt x="0" y="1628"/>
                </a:lnTo>
                <a:lnTo>
                  <a:pt x="0" y="1617"/>
                </a:lnTo>
                <a:lnTo>
                  <a:pt x="11" y="1594"/>
                </a:lnTo>
                <a:lnTo>
                  <a:pt x="11" y="1572"/>
                </a:lnTo>
                <a:lnTo>
                  <a:pt x="22" y="1549"/>
                </a:lnTo>
                <a:lnTo>
                  <a:pt x="45" y="1526"/>
                </a:lnTo>
                <a:lnTo>
                  <a:pt x="56" y="1492"/>
                </a:lnTo>
                <a:lnTo>
                  <a:pt x="79" y="1459"/>
                </a:lnTo>
                <a:lnTo>
                  <a:pt x="101" y="1413"/>
                </a:lnTo>
                <a:lnTo>
                  <a:pt x="124" y="1379"/>
                </a:lnTo>
                <a:lnTo>
                  <a:pt x="158" y="1334"/>
                </a:lnTo>
                <a:lnTo>
                  <a:pt x="180" y="1289"/>
                </a:lnTo>
                <a:lnTo>
                  <a:pt x="214" y="1232"/>
                </a:lnTo>
                <a:lnTo>
                  <a:pt x="248" y="1176"/>
                </a:lnTo>
                <a:lnTo>
                  <a:pt x="282" y="1119"/>
                </a:lnTo>
                <a:lnTo>
                  <a:pt x="316" y="1052"/>
                </a:lnTo>
                <a:lnTo>
                  <a:pt x="350" y="984"/>
                </a:lnTo>
                <a:lnTo>
                  <a:pt x="384" y="916"/>
                </a:lnTo>
                <a:lnTo>
                  <a:pt x="418" y="848"/>
                </a:lnTo>
                <a:lnTo>
                  <a:pt x="452" y="780"/>
                </a:lnTo>
                <a:lnTo>
                  <a:pt x="486" y="701"/>
                </a:lnTo>
                <a:lnTo>
                  <a:pt x="520" y="622"/>
                </a:lnTo>
                <a:lnTo>
                  <a:pt x="554" y="543"/>
                </a:lnTo>
                <a:lnTo>
                  <a:pt x="587" y="452"/>
                </a:lnTo>
                <a:lnTo>
                  <a:pt x="610" y="373"/>
                </a:lnTo>
                <a:lnTo>
                  <a:pt x="633" y="305"/>
                </a:lnTo>
                <a:lnTo>
                  <a:pt x="644" y="249"/>
                </a:lnTo>
                <a:lnTo>
                  <a:pt x="655" y="192"/>
                </a:lnTo>
                <a:lnTo>
                  <a:pt x="667" y="147"/>
                </a:lnTo>
                <a:lnTo>
                  <a:pt x="667" y="124"/>
                </a:lnTo>
                <a:lnTo>
                  <a:pt x="667" y="91"/>
                </a:lnTo>
                <a:lnTo>
                  <a:pt x="667" y="79"/>
                </a:lnTo>
                <a:lnTo>
                  <a:pt x="655" y="68"/>
                </a:lnTo>
                <a:lnTo>
                  <a:pt x="644" y="45"/>
                </a:lnTo>
                <a:lnTo>
                  <a:pt x="644" y="34"/>
                </a:lnTo>
                <a:lnTo>
                  <a:pt x="655" y="11"/>
                </a:lnTo>
                <a:lnTo>
                  <a:pt x="667" y="0"/>
                </a:lnTo>
                <a:lnTo>
                  <a:pt x="689" y="0"/>
                </a:lnTo>
                <a:lnTo>
                  <a:pt x="712" y="0"/>
                </a:lnTo>
                <a:lnTo>
                  <a:pt x="746" y="11"/>
                </a:lnTo>
                <a:lnTo>
                  <a:pt x="768" y="34"/>
                </a:lnTo>
                <a:lnTo>
                  <a:pt x="791" y="57"/>
                </a:lnTo>
                <a:lnTo>
                  <a:pt x="825" y="79"/>
                </a:lnTo>
                <a:lnTo>
                  <a:pt x="847" y="113"/>
                </a:lnTo>
                <a:lnTo>
                  <a:pt x="870" y="136"/>
                </a:lnTo>
                <a:lnTo>
                  <a:pt x="881" y="158"/>
                </a:lnTo>
                <a:lnTo>
                  <a:pt x="893" y="181"/>
                </a:lnTo>
                <a:lnTo>
                  <a:pt x="893" y="192"/>
                </a:lnTo>
                <a:lnTo>
                  <a:pt x="893" y="204"/>
                </a:lnTo>
                <a:lnTo>
                  <a:pt x="893" y="215"/>
                </a:lnTo>
                <a:lnTo>
                  <a:pt x="881" y="238"/>
                </a:lnTo>
                <a:lnTo>
                  <a:pt x="881" y="271"/>
                </a:lnTo>
                <a:lnTo>
                  <a:pt x="870" y="294"/>
                </a:lnTo>
                <a:lnTo>
                  <a:pt x="859" y="328"/>
                </a:lnTo>
                <a:lnTo>
                  <a:pt x="836" y="373"/>
                </a:lnTo>
                <a:lnTo>
                  <a:pt x="825" y="418"/>
                </a:lnTo>
                <a:lnTo>
                  <a:pt x="802" y="464"/>
                </a:lnTo>
                <a:lnTo>
                  <a:pt x="780" y="520"/>
                </a:lnTo>
                <a:lnTo>
                  <a:pt x="757" y="577"/>
                </a:lnTo>
                <a:lnTo>
                  <a:pt x="723" y="633"/>
                </a:lnTo>
                <a:lnTo>
                  <a:pt x="689" y="701"/>
                </a:lnTo>
                <a:lnTo>
                  <a:pt x="644" y="780"/>
                </a:lnTo>
                <a:lnTo>
                  <a:pt x="610" y="859"/>
                </a:lnTo>
                <a:lnTo>
                  <a:pt x="565" y="938"/>
                </a:lnTo>
                <a:lnTo>
                  <a:pt x="508" y="1029"/>
                </a:lnTo>
                <a:lnTo>
                  <a:pt x="463" y="1108"/>
                </a:lnTo>
                <a:lnTo>
                  <a:pt x="418" y="1187"/>
                </a:lnTo>
                <a:lnTo>
                  <a:pt x="373" y="1255"/>
                </a:lnTo>
                <a:lnTo>
                  <a:pt x="327" y="1312"/>
                </a:lnTo>
                <a:lnTo>
                  <a:pt x="282" y="1368"/>
                </a:lnTo>
                <a:lnTo>
                  <a:pt x="237" y="1425"/>
                </a:lnTo>
                <a:lnTo>
                  <a:pt x="203" y="1470"/>
                </a:lnTo>
                <a:lnTo>
                  <a:pt x="158" y="1515"/>
                </a:lnTo>
                <a:lnTo>
                  <a:pt x="124" y="1549"/>
                </a:lnTo>
                <a:lnTo>
                  <a:pt x="90" y="1583"/>
                </a:lnTo>
                <a:lnTo>
                  <a:pt x="67" y="1605"/>
                </a:lnTo>
                <a:lnTo>
                  <a:pt x="45" y="1617"/>
                </a:lnTo>
                <a:lnTo>
                  <a:pt x="22" y="1628"/>
                </a:lnTo>
                <a:lnTo>
                  <a:pt x="11" y="1639"/>
                </a:lnTo>
                <a:lnTo>
                  <a:pt x="0" y="163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40"/>
          <p:cNvSpPr/>
          <p:nvPr/>
        </p:nvSpPr>
        <p:spPr>
          <a:xfrm>
            <a:off x="5762520" y="2919240"/>
            <a:ext cx="120600" cy="1249560"/>
          </a:xfrm>
          <a:custGeom>
            <a:avLst/>
            <a:gdLst>
              <a:gd name="textAreaLeft" fmla="*/ 0 w 120600"/>
              <a:gd name="textAreaRight" fmla="*/ 120960 w 12060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192" h="1922">
                <a:moveTo>
                  <a:pt x="158" y="159"/>
                </a:moveTo>
                <a:lnTo>
                  <a:pt x="158" y="170"/>
                </a:lnTo>
                <a:lnTo>
                  <a:pt x="170" y="181"/>
                </a:lnTo>
                <a:lnTo>
                  <a:pt x="170" y="204"/>
                </a:lnTo>
                <a:lnTo>
                  <a:pt x="170" y="227"/>
                </a:lnTo>
                <a:lnTo>
                  <a:pt x="181" y="260"/>
                </a:lnTo>
                <a:lnTo>
                  <a:pt x="181" y="294"/>
                </a:lnTo>
                <a:lnTo>
                  <a:pt x="181" y="328"/>
                </a:lnTo>
                <a:lnTo>
                  <a:pt x="181" y="374"/>
                </a:lnTo>
                <a:lnTo>
                  <a:pt x="181" y="419"/>
                </a:lnTo>
                <a:lnTo>
                  <a:pt x="192" y="475"/>
                </a:lnTo>
                <a:lnTo>
                  <a:pt x="192" y="532"/>
                </a:lnTo>
                <a:lnTo>
                  <a:pt x="192" y="600"/>
                </a:lnTo>
                <a:lnTo>
                  <a:pt x="192" y="667"/>
                </a:lnTo>
                <a:lnTo>
                  <a:pt x="192" y="747"/>
                </a:lnTo>
                <a:lnTo>
                  <a:pt x="192" y="826"/>
                </a:lnTo>
                <a:lnTo>
                  <a:pt x="192" y="905"/>
                </a:lnTo>
                <a:lnTo>
                  <a:pt x="192" y="995"/>
                </a:lnTo>
                <a:lnTo>
                  <a:pt x="192" y="1074"/>
                </a:lnTo>
                <a:lnTo>
                  <a:pt x="192" y="1154"/>
                </a:lnTo>
                <a:lnTo>
                  <a:pt x="192" y="1221"/>
                </a:lnTo>
                <a:lnTo>
                  <a:pt x="192" y="1289"/>
                </a:lnTo>
                <a:lnTo>
                  <a:pt x="192" y="1357"/>
                </a:lnTo>
                <a:lnTo>
                  <a:pt x="192" y="1414"/>
                </a:lnTo>
                <a:lnTo>
                  <a:pt x="181" y="1470"/>
                </a:lnTo>
                <a:lnTo>
                  <a:pt x="181" y="1527"/>
                </a:lnTo>
                <a:lnTo>
                  <a:pt x="181" y="1572"/>
                </a:lnTo>
                <a:lnTo>
                  <a:pt x="181" y="1617"/>
                </a:lnTo>
                <a:lnTo>
                  <a:pt x="181" y="1651"/>
                </a:lnTo>
                <a:lnTo>
                  <a:pt x="181" y="1685"/>
                </a:lnTo>
                <a:lnTo>
                  <a:pt x="170" y="1719"/>
                </a:lnTo>
                <a:lnTo>
                  <a:pt x="170" y="1741"/>
                </a:lnTo>
                <a:lnTo>
                  <a:pt x="170" y="1764"/>
                </a:lnTo>
                <a:lnTo>
                  <a:pt x="158" y="1798"/>
                </a:lnTo>
                <a:lnTo>
                  <a:pt x="147" y="1832"/>
                </a:lnTo>
                <a:lnTo>
                  <a:pt x="147" y="1855"/>
                </a:lnTo>
                <a:lnTo>
                  <a:pt x="136" y="1877"/>
                </a:lnTo>
                <a:lnTo>
                  <a:pt x="124" y="1900"/>
                </a:lnTo>
                <a:lnTo>
                  <a:pt x="124" y="1911"/>
                </a:lnTo>
                <a:lnTo>
                  <a:pt x="113" y="1911"/>
                </a:lnTo>
                <a:lnTo>
                  <a:pt x="113" y="1922"/>
                </a:lnTo>
                <a:lnTo>
                  <a:pt x="102" y="1911"/>
                </a:lnTo>
                <a:lnTo>
                  <a:pt x="91" y="1900"/>
                </a:lnTo>
                <a:lnTo>
                  <a:pt x="79" y="1888"/>
                </a:lnTo>
                <a:lnTo>
                  <a:pt x="79" y="1877"/>
                </a:lnTo>
                <a:lnTo>
                  <a:pt x="68" y="1855"/>
                </a:lnTo>
                <a:lnTo>
                  <a:pt x="57" y="1832"/>
                </a:lnTo>
                <a:lnTo>
                  <a:pt x="45" y="1809"/>
                </a:lnTo>
                <a:lnTo>
                  <a:pt x="45" y="1775"/>
                </a:lnTo>
                <a:lnTo>
                  <a:pt x="34" y="1753"/>
                </a:lnTo>
                <a:lnTo>
                  <a:pt x="23" y="1730"/>
                </a:lnTo>
                <a:lnTo>
                  <a:pt x="23" y="1708"/>
                </a:lnTo>
                <a:lnTo>
                  <a:pt x="23" y="1685"/>
                </a:lnTo>
                <a:lnTo>
                  <a:pt x="11" y="1674"/>
                </a:lnTo>
                <a:lnTo>
                  <a:pt x="11" y="1662"/>
                </a:lnTo>
                <a:lnTo>
                  <a:pt x="11" y="1651"/>
                </a:lnTo>
                <a:lnTo>
                  <a:pt x="11" y="1640"/>
                </a:lnTo>
                <a:lnTo>
                  <a:pt x="11" y="1628"/>
                </a:lnTo>
                <a:lnTo>
                  <a:pt x="11" y="1594"/>
                </a:lnTo>
                <a:lnTo>
                  <a:pt x="23" y="1561"/>
                </a:lnTo>
                <a:lnTo>
                  <a:pt x="23" y="1515"/>
                </a:lnTo>
                <a:lnTo>
                  <a:pt x="23" y="1459"/>
                </a:lnTo>
                <a:lnTo>
                  <a:pt x="34" y="1402"/>
                </a:lnTo>
                <a:lnTo>
                  <a:pt x="34" y="1334"/>
                </a:lnTo>
                <a:lnTo>
                  <a:pt x="45" y="1255"/>
                </a:lnTo>
                <a:lnTo>
                  <a:pt x="45" y="1188"/>
                </a:lnTo>
                <a:lnTo>
                  <a:pt x="45" y="1108"/>
                </a:lnTo>
                <a:lnTo>
                  <a:pt x="57" y="1018"/>
                </a:lnTo>
                <a:lnTo>
                  <a:pt x="57" y="939"/>
                </a:lnTo>
                <a:lnTo>
                  <a:pt x="57" y="848"/>
                </a:lnTo>
                <a:lnTo>
                  <a:pt x="57" y="758"/>
                </a:lnTo>
                <a:lnTo>
                  <a:pt x="57" y="667"/>
                </a:lnTo>
                <a:lnTo>
                  <a:pt x="57" y="577"/>
                </a:lnTo>
                <a:lnTo>
                  <a:pt x="57" y="487"/>
                </a:lnTo>
                <a:lnTo>
                  <a:pt x="45" y="396"/>
                </a:lnTo>
                <a:lnTo>
                  <a:pt x="45" y="317"/>
                </a:lnTo>
                <a:lnTo>
                  <a:pt x="34" y="238"/>
                </a:lnTo>
                <a:lnTo>
                  <a:pt x="23" y="159"/>
                </a:lnTo>
                <a:lnTo>
                  <a:pt x="11" y="80"/>
                </a:lnTo>
                <a:lnTo>
                  <a:pt x="0" y="0"/>
                </a:lnTo>
                <a:lnTo>
                  <a:pt x="34" y="23"/>
                </a:lnTo>
                <a:lnTo>
                  <a:pt x="57" y="46"/>
                </a:lnTo>
                <a:lnTo>
                  <a:pt x="79" y="68"/>
                </a:lnTo>
                <a:lnTo>
                  <a:pt x="102" y="91"/>
                </a:lnTo>
                <a:lnTo>
                  <a:pt x="124" y="102"/>
                </a:lnTo>
                <a:lnTo>
                  <a:pt x="136" y="125"/>
                </a:lnTo>
                <a:lnTo>
                  <a:pt x="147" y="136"/>
                </a:lnTo>
                <a:lnTo>
                  <a:pt x="158" y="1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42"/>
          <p:cNvSpPr/>
          <p:nvPr/>
        </p:nvSpPr>
        <p:spPr>
          <a:xfrm>
            <a:off x="5956200" y="2832120"/>
            <a:ext cx="567000" cy="212760"/>
          </a:xfrm>
          <a:custGeom>
            <a:avLst/>
            <a:gdLst>
              <a:gd name="textAreaLeft" fmla="*/ 0 w 567000"/>
              <a:gd name="textAreaRight" fmla="*/ 567360 w 5670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893" h="328">
                <a:moveTo>
                  <a:pt x="0" y="260"/>
                </a:moveTo>
                <a:lnTo>
                  <a:pt x="0" y="260"/>
                </a:lnTo>
                <a:lnTo>
                  <a:pt x="12" y="249"/>
                </a:lnTo>
                <a:lnTo>
                  <a:pt x="23" y="249"/>
                </a:lnTo>
                <a:lnTo>
                  <a:pt x="34" y="237"/>
                </a:lnTo>
                <a:lnTo>
                  <a:pt x="46" y="226"/>
                </a:lnTo>
                <a:lnTo>
                  <a:pt x="68" y="226"/>
                </a:lnTo>
                <a:lnTo>
                  <a:pt x="91" y="215"/>
                </a:lnTo>
                <a:lnTo>
                  <a:pt x="113" y="203"/>
                </a:lnTo>
                <a:lnTo>
                  <a:pt x="136" y="192"/>
                </a:lnTo>
                <a:lnTo>
                  <a:pt x="170" y="181"/>
                </a:lnTo>
                <a:lnTo>
                  <a:pt x="204" y="169"/>
                </a:lnTo>
                <a:lnTo>
                  <a:pt x="238" y="158"/>
                </a:lnTo>
                <a:lnTo>
                  <a:pt x="283" y="135"/>
                </a:lnTo>
                <a:lnTo>
                  <a:pt x="328" y="124"/>
                </a:lnTo>
                <a:lnTo>
                  <a:pt x="373" y="113"/>
                </a:lnTo>
                <a:lnTo>
                  <a:pt x="419" y="102"/>
                </a:lnTo>
                <a:lnTo>
                  <a:pt x="453" y="90"/>
                </a:lnTo>
                <a:lnTo>
                  <a:pt x="498" y="68"/>
                </a:lnTo>
                <a:lnTo>
                  <a:pt x="532" y="68"/>
                </a:lnTo>
                <a:lnTo>
                  <a:pt x="566" y="56"/>
                </a:lnTo>
                <a:lnTo>
                  <a:pt x="600" y="45"/>
                </a:lnTo>
                <a:lnTo>
                  <a:pt x="622" y="34"/>
                </a:lnTo>
                <a:lnTo>
                  <a:pt x="645" y="22"/>
                </a:lnTo>
                <a:lnTo>
                  <a:pt x="679" y="22"/>
                </a:lnTo>
                <a:lnTo>
                  <a:pt x="690" y="11"/>
                </a:lnTo>
                <a:lnTo>
                  <a:pt x="713" y="11"/>
                </a:lnTo>
                <a:lnTo>
                  <a:pt x="724" y="11"/>
                </a:lnTo>
                <a:lnTo>
                  <a:pt x="747" y="0"/>
                </a:lnTo>
                <a:lnTo>
                  <a:pt x="758" y="0"/>
                </a:lnTo>
                <a:lnTo>
                  <a:pt x="769" y="0"/>
                </a:lnTo>
                <a:lnTo>
                  <a:pt x="780" y="0"/>
                </a:lnTo>
                <a:lnTo>
                  <a:pt x="792" y="11"/>
                </a:lnTo>
                <a:lnTo>
                  <a:pt x="814" y="11"/>
                </a:lnTo>
                <a:lnTo>
                  <a:pt x="837" y="22"/>
                </a:lnTo>
                <a:lnTo>
                  <a:pt x="860" y="45"/>
                </a:lnTo>
                <a:lnTo>
                  <a:pt x="882" y="56"/>
                </a:lnTo>
                <a:lnTo>
                  <a:pt x="882" y="68"/>
                </a:lnTo>
                <a:lnTo>
                  <a:pt x="893" y="79"/>
                </a:lnTo>
                <a:lnTo>
                  <a:pt x="882" y="90"/>
                </a:lnTo>
                <a:lnTo>
                  <a:pt x="871" y="102"/>
                </a:lnTo>
                <a:lnTo>
                  <a:pt x="848" y="113"/>
                </a:lnTo>
                <a:lnTo>
                  <a:pt x="837" y="124"/>
                </a:lnTo>
                <a:lnTo>
                  <a:pt x="814" y="124"/>
                </a:lnTo>
                <a:lnTo>
                  <a:pt x="803" y="135"/>
                </a:lnTo>
                <a:lnTo>
                  <a:pt x="780" y="147"/>
                </a:lnTo>
                <a:lnTo>
                  <a:pt x="747" y="158"/>
                </a:lnTo>
                <a:lnTo>
                  <a:pt x="724" y="158"/>
                </a:lnTo>
                <a:lnTo>
                  <a:pt x="690" y="169"/>
                </a:lnTo>
                <a:lnTo>
                  <a:pt x="656" y="181"/>
                </a:lnTo>
                <a:lnTo>
                  <a:pt x="622" y="192"/>
                </a:lnTo>
                <a:lnTo>
                  <a:pt x="577" y="203"/>
                </a:lnTo>
                <a:lnTo>
                  <a:pt x="543" y="226"/>
                </a:lnTo>
                <a:lnTo>
                  <a:pt x="498" y="237"/>
                </a:lnTo>
                <a:lnTo>
                  <a:pt x="453" y="249"/>
                </a:lnTo>
                <a:lnTo>
                  <a:pt x="419" y="260"/>
                </a:lnTo>
                <a:lnTo>
                  <a:pt x="373" y="271"/>
                </a:lnTo>
                <a:lnTo>
                  <a:pt x="340" y="282"/>
                </a:lnTo>
                <a:lnTo>
                  <a:pt x="317" y="282"/>
                </a:lnTo>
                <a:lnTo>
                  <a:pt x="283" y="294"/>
                </a:lnTo>
                <a:lnTo>
                  <a:pt x="260" y="305"/>
                </a:lnTo>
                <a:lnTo>
                  <a:pt x="238" y="305"/>
                </a:lnTo>
                <a:lnTo>
                  <a:pt x="215" y="316"/>
                </a:lnTo>
                <a:lnTo>
                  <a:pt x="193" y="316"/>
                </a:lnTo>
                <a:lnTo>
                  <a:pt x="181" y="328"/>
                </a:lnTo>
                <a:lnTo>
                  <a:pt x="170" y="328"/>
                </a:lnTo>
                <a:lnTo>
                  <a:pt x="159" y="328"/>
                </a:lnTo>
                <a:lnTo>
                  <a:pt x="147" y="328"/>
                </a:lnTo>
                <a:lnTo>
                  <a:pt x="136" y="328"/>
                </a:lnTo>
                <a:lnTo>
                  <a:pt x="125" y="328"/>
                </a:lnTo>
                <a:lnTo>
                  <a:pt x="102" y="328"/>
                </a:lnTo>
                <a:lnTo>
                  <a:pt x="79" y="316"/>
                </a:lnTo>
                <a:lnTo>
                  <a:pt x="57" y="305"/>
                </a:lnTo>
                <a:lnTo>
                  <a:pt x="34" y="294"/>
                </a:lnTo>
                <a:lnTo>
                  <a:pt x="12" y="282"/>
                </a:lnTo>
                <a:lnTo>
                  <a:pt x="0" y="271"/>
                </a:lnTo>
                <a:lnTo>
                  <a:pt x="0" y="2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43"/>
          <p:cNvSpPr/>
          <p:nvPr/>
        </p:nvSpPr>
        <p:spPr>
          <a:xfrm>
            <a:off x="5991120" y="3352680"/>
            <a:ext cx="136800" cy="542880"/>
          </a:xfrm>
          <a:custGeom>
            <a:avLst/>
            <a:gdLst>
              <a:gd name="textAreaLeft" fmla="*/ 0 w 136800"/>
              <a:gd name="textAreaRight" fmla="*/ 137160 w 1368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5" h="837">
                <a:moveTo>
                  <a:pt x="22" y="136"/>
                </a:moveTo>
                <a:lnTo>
                  <a:pt x="11" y="114"/>
                </a:lnTo>
                <a:lnTo>
                  <a:pt x="11" y="91"/>
                </a:lnTo>
                <a:lnTo>
                  <a:pt x="0" y="57"/>
                </a:lnTo>
                <a:lnTo>
                  <a:pt x="0" y="23"/>
                </a:lnTo>
                <a:lnTo>
                  <a:pt x="11" y="0"/>
                </a:lnTo>
                <a:lnTo>
                  <a:pt x="22" y="0"/>
                </a:lnTo>
                <a:lnTo>
                  <a:pt x="45" y="0"/>
                </a:lnTo>
                <a:lnTo>
                  <a:pt x="56" y="0"/>
                </a:lnTo>
                <a:lnTo>
                  <a:pt x="79" y="12"/>
                </a:lnTo>
                <a:lnTo>
                  <a:pt x="113" y="12"/>
                </a:lnTo>
                <a:lnTo>
                  <a:pt x="147" y="23"/>
                </a:lnTo>
                <a:lnTo>
                  <a:pt x="181" y="46"/>
                </a:lnTo>
                <a:lnTo>
                  <a:pt x="181" y="159"/>
                </a:lnTo>
                <a:lnTo>
                  <a:pt x="192" y="283"/>
                </a:lnTo>
                <a:lnTo>
                  <a:pt x="192" y="407"/>
                </a:lnTo>
                <a:lnTo>
                  <a:pt x="203" y="543"/>
                </a:lnTo>
                <a:lnTo>
                  <a:pt x="203" y="611"/>
                </a:lnTo>
                <a:lnTo>
                  <a:pt x="215" y="667"/>
                </a:lnTo>
                <a:lnTo>
                  <a:pt x="203" y="713"/>
                </a:lnTo>
                <a:lnTo>
                  <a:pt x="203" y="747"/>
                </a:lnTo>
                <a:lnTo>
                  <a:pt x="203" y="781"/>
                </a:lnTo>
                <a:lnTo>
                  <a:pt x="203" y="803"/>
                </a:lnTo>
                <a:lnTo>
                  <a:pt x="192" y="826"/>
                </a:lnTo>
                <a:lnTo>
                  <a:pt x="192" y="837"/>
                </a:lnTo>
                <a:lnTo>
                  <a:pt x="181" y="837"/>
                </a:lnTo>
                <a:lnTo>
                  <a:pt x="169" y="837"/>
                </a:lnTo>
                <a:lnTo>
                  <a:pt x="158" y="837"/>
                </a:lnTo>
                <a:lnTo>
                  <a:pt x="147" y="826"/>
                </a:lnTo>
                <a:lnTo>
                  <a:pt x="147" y="814"/>
                </a:lnTo>
                <a:lnTo>
                  <a:pt x="136" y="803"/>
                </a:lnTo>
                <a:lnTo>
                  <a:pt x="136" y="792"/>
                </a:lnTo>
                <a:lnTo>
                  <a:pt x="124" y="769"/>
                </a:lnTo>
                <a:lnTo>
                  <a:pt x="113" y="747"/>
                </a:lnTo>
                <a:lnTo>
                  <a:pt x="113" y="724"/>
                </a:lnTo>
                <a:lnTo>
                  <a:pt x="102" y="690"/>
                </a:lnTo>
                <a:lnTo>
                  <a:pt x="102" y="645"/>
                </a:lnTo>
                <a:lnTo>
                  <a:pt x="90" y="588"/>
                </a:lnTo>
                <a:lnTo>
                  <a:pt x="90" y="532"/>
                </a:lnTo>
                <a:lnTo>
                  <a:pt x="79" y="475"/>
                </a:lnTo>
                <a:lnTo>
                  <a:pt x="79" y="419"/>
                </a:lnTo>
                <a:lnTo>
                  <a:pt x="68" y="362"/>
                </a:lnTo>
                <a:lnTo>
                  <a:pt x="68" y="306"/>
                </a:lnTo>
                <a:lnTo>
                  <a:pt x="56" y="260"/>
                </a:lnTo>
                <a:lnTo>
                  <a:pt x="45" y="227"/>
                </a:lnTo>
                <a:lnTo>
                  <a:pt x="45" y="193"/>
                </a:lnTo>
                <a:lnTo>
                  <a:pt x="34" y="159"/>
                </a:lnTo>
                <a:lnTo>
                  <a:pt x="22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46"/>
          <p:cNvSpPr/>
          <p:nvPr/>
        </p:nvSpPr>
        <p:spPr>
          <a:xfrm>
            <a:off x="6450120" y="2271600"/>
            <a:ext cx="423720" cy="993960"/>
          </a:xfrm>
          <a:custGeom>
            <a:avLst/>
            <a:gdLst>
              <a:gd name="textAreaLeft" fmla="*/ 0 w 423720"/>
              <a:gd name="textAreaRight" fmla="*/ 424080 w 42372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667" h="1526">
                <a:moveTo>
                  <a:pt x="0" y="1526"/>
                </a:moveTo>
                <a:lnTo>
                  <a:pt x="0" y="1515"/>
                </a:lnTo>
                <a:lnTo>
                  <a:pt x="0" y="1503"/>
                </a:lnTo>
                <a:lnTo>
                  <a:pt x="0" y="1481"/>
                </a:lnTo>
                <a:lnTo>
                  <a:pt x="12" y="1458"/>
                </a:lnTo>
                <a:lnTo>
                  <a:pt x="23" y="1424"/>
                </a:lnTo>
                <a:lnTo>
                  <a:pt x="34" y="1390"/>
                </a:lnTo>
                <a:lnTo>
                  <a:pt x="46" y="1345"/>
                </a:lnTo>
                <a:lnTo>
                  <a:pt x="68" y="1300"/>
                </a:lnTo>
                <a:lnTo>
                  <a:pt x="91" y="1254"/>
                </a:lnTo>
                <a:lnTo>
                  <a:pt x="113" y="1198"/>
                </a:lnTo>
                <a:lnTo>
                  <a:pt x="147" y="1141"/>
                </a:lnTo>
                <a:lnTo>
                  <a:pt x="170" y="1074"/>
                </a:lnTo>
                <a:lnTo>
                  <a:pt x="204" y="1006"/>
                </a:lnTo>
                <a:lnTo>
                  <a:pt x="227" y="927"/>
                </a:lnTo>
                <a:lnTo>
                  <a:pt x="260" y="847"/>
                </a:lnTo>
                <a:lnTo>
                  <a:pt x="283" y="757"/>
                </a:lnTo>
                <a:lnTo>
                  <a:pt x="317" y="678"/>
                </a:lnTo>
                <a:lnTo>
                  <a:pt x="340" y="610"/>
                </a:lnTo>
                <a:lnTo>
                  <a:pt x="362" y="531"/>
                </a:lnTo>
                <a:lnTo>
                  <a:pt x="373" y="474"/>
                </a:lnTo>
                <a:lnTo>
                  <a:pt x="396" y="418"/>
                </a:lnTo>
                <a:lnTo>
                  <a:pt x="407" y="361"/>
                </a:lnTo>
                <a:lnTo>
                  <a:pt x="419" y="316"/>
                </a:lnTo>
                <a:lnTo>
                  <a:pt x="430" y="271"/>
                </a:lnTo>
                <a:lnTo>
                  <a:pt x="441" y="237"/>
                </a:lnTo>
                <a:lnTo>
                  <a:pt x="441" y="203"/>
                </a:lnTo>
                <a:lnTo>
                  <a:pt x="441" y="180"/>
                </a:lnTo>
                <a:lnTo>
                  <a:pt x="441" y="147"/>
                </a:lnTo>
                <a:lnTo>
                  <a:pt x="441" y="124"/>
                </a:lnTo>
                <a:lnTo>
                  <a:pt x="441" y="101"/>
                </a:lnTo>
                <a:lnTo>
                  <a:pt x="441" y="79"/>
                </a:lnTo>
                <a:lnTo>
                  <a:pt x="430" y="67"/>
                </a:lnTo>
                <a:lnTo>
                  <a:pt x="430" y="56"/>
                </a:lnTo>
                <a:lnTo>
                  <a:pt x="419" y="45"/>
                </a:lnTo>
                <a:lnTo>
                  <a:pt x="419" y="34"/>
                </a:lnTo>
                <a:lnTo>
                  <a:pt x="419" y="22"/>
                </a:lnTo>
                <a:lnTo>
                  <a:pt x="419" y="11"/>
                </a:lnTo>
                <a:lnTo>
                  <a:pt x="430" y="11"/>
                </a:lnTo>
                <a:lnTo>
                  <a:pt x="430" y="0"/>
                </a:lnTo>
                <a:lnTo>
                  <a:pt x="441" y="0"/>
                </a:lnTo>
                <a:lnTo>
                  <a:pt x="464" y="0"/>
                </a:lnTo>
                <a:lnTo>
                  <a:pt x="487" y="11"/>
                </a:lnTo>
                <a:lnTo>
                  <a:pt x="520" y="22"/>
                </a:lnTo>
                <a:lnTo>
                  <a:pt x="543" y="34"/>
                </a:lnTo>
                <a:lnTo>
                  <a:pt x="566" y="56"/>
                </a:lnTo>
                <a:lnTo>
                  <a:pt x="588" y="67"/>
                </a:lnTo>
                <a:lnTo>
                  <a:pt x="600" y="79"/>
                </a:lnTo>
                <a:lnTo>
                  <a:pt x="622" y="101"/>
                </a:lnTo>
                <a:lnTo>
                  <a:pt x="634" y="113"/>
                </a:lnTo>
                <a:lnTo>
                  <a:pt x="645" y="135"/>
                </a:lnTo>
                <a:lnTo>
                  <a:pt x="656" y="147"/>
                </a:lnTo>
                <a:lnTo>
                  <a:pt x="667" y="147"/>
                </a:lnTo>
                <a:lnTo>
                  <a:pt x="667" y="169"/>
                </a:lnTo>
                <a:lnTo>
                  <a:pt x="667" y="180"/>
                </a:lnTo>
                <a:lnTo>
                  <a:pt x="656" y="214"/>
                </a:lnTo>
                <a:lnTo>
                  <a:pt x="656" y="237"/>
                </a:lnTo>
                <a:lnTo>
                  <a:pt x="645" y="282"/>
                </a:lnTo>
                <a:lnTo>
                  <a:pt x="622" y="327"/>
                </a:lnTo>
                <a:lnTo>
                  <a:pt x="611" y="373"/>
                </a:lnTo>
                <a:lnTo>
                  <a:pt x="588" y="429"/>
                </a:lnTo>
                <a:lnTo>
                  <a:pt x="566" y="486"/>
                </a:lnTo>
                <a:lnTo>
                  <a:pt x="543" y="542"/>
                </a:lnTo>
                <a:lnTo>
                  <a:pt x="487" y="678"/>
                </a:lnTo>
                <a:lnTo>
                  <a:pt x="419" y="814"/>
                </a:lnTo>
                <a:lnTo>
                  <a:pt x="362" y="961"/>
                </a:lnTo>
                <a:lnTo>
                  <a:pt x="328" y="1028"/>
                </a:lnTo>
                <a:lnTo>
                  <a:pt x="294" y="1096"/>
                </a:lnTo>
                <a:lnTo>
                  <a:pt x="272" y="1153"/>
                </a:lnTo>
                <a:lnTo>
                  <a:pt x="238" y="1209"/>
                </a:lnTo>
                <a:lnTo>
                  <a:pt x="204" y="1266"/>
                </a:lnTo>
                <a:lnTo>
                  <a:pt x="181" y="1311"/>
                </a:lnTo>
                <a:lnTo>
                  <a:pt x="159" y="1356"/>
                </a:lnTo>
                <a:lnTo>
                  <a:pt x="136" y="1401"/>
                </a:lnTo>
                <a:lnTo>
                  <a:pt x="102" y="1435"/>
                </a:lnTo>
                <a:lnTo>
                  <a:pt x="80" y="1458"/>
                </a:lnTo>
                <a:lnTo>
                  <a:pt x="57" y="1481"/>
                </a:lnTo>
                <a:lnTo>
                  <a:pt x="46" y="1503"/>
                </a:lnTo>
                <a:lnTo>
                  <a:pt x="23" y="1515"/>
                </a:lnTo>
                <a:lnTo>
                  <a:pt x="12" y="1526"/>
                </a:lnTo>
                <a:lnTo>
                  <a:pt x="0" y="15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47"/>
          <p:cNvSpPr/>
          <p:nvPr/>
        </p:nvSpPr>
        <p:spPr>
          <a:xfrm>
            <a:off x="6615000" y="2757600"/>
            <a:ext cx="574920" cy="228600"/>
          </a:xfrm>
          <a:custGeom>
            <a:avLst/>
            <a:gdLst>
              <a:gd name="textAreaLeft" fmla="*/ 0 w 574920"/>
              <a:gd name="textAreaRight" fmla="*/ 575280 w 57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05" h="350">
                <a:moveTo>
                  <a:pt x="905" y="113"/>
                </a:moveTo>
                <a:lnTo>
                  <a:pt x="905" y="113"/>
                </a:lnTo>
                <a:lnTo>
                  <a:pt x="894" y="124"/>
                </a:lnTo>
                <a:lnTo>
                  <a:pt x="882" y="124"/>
                </a:lnTo>
                <a:lnTo>
                  <a:pt x="871" y="135"/>
                </a:lnTo>
                <a:lnTo>
                  <a:pt x="848" y="135"/>
                </a:lnTo>
                <a:lnTo>
                  <a:pt x="837" y="147"/>
                </a:lnTo>
                <a:lnTo>
                  <a:pt x="814" y="158"/>
                </a:lnTo>
                <a:lnTo>
                  <a:pt x="780" y="158"/>
                </a:lnTo>
                <a:lnTo>
                  <a:pt x="758" y="169"/>
                </a:lnTo>
                <a:lnTo>
                  <a:pt x="724" y="181"/>
                </a:lnTo>
                <a:lnTo>
                  <a:pt x="690" y="192"/>
                </a:lnTo>
                <a:lnTo>
                  <a:pt x="656" y="203"/>
                </a:lnTo>
                <a:lnTo>
                  <a:pt x="611" y="215"/>
                </a:lnTo>
                <a:lnTo>
                  <a:pt x="566" y="226"/>
                </a:lnTo>
                <a:lnTo>
                  <a:pt x="520" y="237"/>
                </a:lnTo>
                <a:lnTo>
                  <a:pt x="430" y="260"/>
                </a:lnTo>
                <a:lnTo>
                  <a:pt x="351" y="282"/>
                </a:lnTo>
                <a:lnTo>
                  <a:pt x="272" y="305"/>
                </a:lnTo>
                <a:lnTo>
                  <a:pt x="204" y="316"/>
                </a:lnTo>
                <a:lnTo>
                  <a:pt x="136" y="328"/>
                </a:lnTo>
                <a:lnTo>
                  <a:pt x="91" y="339"/>
                </a:lnTo>
                <a:lnTo>
                  <a:pt x="46" y="350"/>
                </a:lnTo>
                <a:lnTo>
                  <a:pt x="0" y="350"/>
                </a:lnTo>
                <a:lnTo>
                  <a:pt x="0" y="226"/>
                </a:lnTo>
                <a:lnTo>
                  <a:pt x="34" y="226"/>
                </a:lnTo>
                <a:lnTo>
                  <a:pt x="80" y="215"/>
                </a:lnTo>
                <a:lnTo>
                  <a:pt x="125" y="203"/>
                </a:lnTo>
                <a:lnTo>
                  <a:pt x="170" y="192"/>
                </a:lnTo>
                <a:lnTo>
                  <a:pt x="227" y="181"/>
                </a:lnTo>
                <a:lnTo>
                  <a:pt x="283" y="158"/>
                </a:lnTo>
                <a:lnTo>
                  <a:pt x="351" y="135"/>
                </a:lnTo>
                <a:lnTo>
                  <a:pt x="419" y="113"/>
                </a:lnTo>
                <a:lnTo>
                  <a:pt x="475" y="90"/>
                </a:lnTo>
                <a:lnTo>
                  <a:pt x="532" y="68"/>
                </a:lnTo>
                <a:lnTo>
                  <a:pt x="588" y="45"/>
                </a:lnTo>
                <a:lnTo>
                  <a:pt x="622" y="34"/>
                </a:lnTo>
                <a:lnTo>
                  <a:pt x="656" y="22"/>
                </a:lnTo>
                <a:lnTo>
                  <a:pt x="690" y="11"/>
                </a:lnTo>
                <a:lnTo>
                  <a:pt x="713" y="0"/>
                </a:lnTo>
                <a:lnTo>
                  <a:pt x="724" y="0"/>
                </a:lnTo>
                <a:lnTo>
                  <a:pt x="758" y="0"/>
                </a:lnTo>
                <a:lnTo>
                  <a:pt x="780" y="11"/>
                </a:lnTo>
                <a:lnTo>
                  <a:pt x="814" y="22"/>
                </a:lnTo>
                <a:lnTo>
                  <a:pt x="848" y="34"/>
                </a:lnTo>
                <a:lnTo>
                  <a:pt x="871" y="45"/>
                </a:lnTo>
                <a:lnTo>
                  <a:pt x="894" y="68"/>
                </a:lnTo>
                <a:lnTo>
                  <a:pt x="905" y="90"/>
                </a:lnTo>
                <a:lnTo>
                  <a:pt x="905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48"/>
          <p:cNvSpPr/>
          <p:nvPr/>
        </p:nvSpPr>
        <p:spPr>
          <a:xfrm>
            <a:off x="6272280" y="2905200"/>
            <a:ext cx="689040" cy="1138320"/>
          </a:xfrm>
          <a:custGeom>
            <a:avLst/>
            <a:gdLst>
              <a:gd name="textAreaLeft" fmla="*/ 0 w 689040"/>
              <a:gd name="textAreaRight" fmla="*/ 689400 w 689040"/>
              <a:gd name="textAreaTop" fmla="*/ 0 h 1138320"/>
              <a:gd name="textAreaBottom" fmla="*/ 1138680 h 1138320"/>
            </a:gdLst>
            <a:ahLst/>
            <a:rect l="textAreaLeft" t="textAreaTop" r="textAreaRight" b="textAreaBottom"/>
            <a:pathLst>
              <a:path w="1085" h="1752">
                <a:moveTo>
                  <a:pt x="0" y="1730"/>
                </a:moveTo>
                <a:lnTo>
                  <a:pt x="11" y="1718"/>
                </a:lnTo>
                <a:lnTo>
                  <a:pt x="22" y="1707"/>
                </a:lnTo>
                <a:lnTo>
                  <a:pt x="45" y="1684"/>
                </a:lnTo>
                <a:lnTo>
                  <a:pt x="68" y="1673"/>
                </a:lnTo>
                <a:lnTo>
                  <a:pt x="102" y="1639"/>
                </a:lnTo>
                <a:lnTo>
                  <a:pt x="135" y="1616"/>
                </a:lnTo>
                <a:lnTo>
                  <a:pt x="181" y="1583"/>
                </a:lnTo>
                <a:lnTo>
                  <a:pt x="237" y="1549"/>
                </a:lnTo>
                <a:lnTo>
                  <a:pt x="282" y="1515"/>
                </a:lnTo>
                <a:lnTo>
                  <a:pt x="339" y="1481"/>
                </a:lnTo>
                <a:lnTo>
                  <a:pt x="384" y="1436"/>
                </a:lnTo>
                <a:lnTo>
                  <a:pt x="429" y="1390"/>
                </a:lnTo>
                <a:lnTo>
                  <a:pt x="475" y="1334"/>
                </a:lnTo>
                <a:lnTo>
                  <a:pt x="520" y="1277"/>
                </a:lnTo>
                <a:lnTo>
                  <a:pt x="565" y="1210"/>
                </a:lnTo>
                <a:lnTo>
                  <a:pt x="610" y="1153"/>
                </a:lnTo>
                <a:lnTo>
                  <a:pt x="644" y="1085"/>
                </a:lnTo>
                <a:lnTo>
                  <a:pt x="678" y="1017"/>
                </a:lnTo>
                <a:lnTo>
                  <a:pt x="712" y="938"/>
                </a:lnTo>
                <a:lnTo>
                  <a:pt x="746" y="870"/>
                </a:lnTo>
                <a:lnTo>
                  <a:pt x="769" y="803"/>
                </a:lnTo>
                <a:lnTo>
                  <a:pt x="791" y="735"/>
                </a:lnTo>
                <a:lnTo>
                  <a:pt x="814" y="656"/>
                </a:lnTo>
                <a:lnTo>
                  <a:pt x="825" y="576"/>
                </a:lnTo>
                <a:lnTo>
                  <a:pt x="848" y="429"/>
                </a:lnTo>
                <a:lnTo>
                  <a:pt x="870" y="294"/>
                </a:lnTo>
                <a:lnTo>
                  <a:pt x="882" y="147"/>
                </a:lnTo>
                <a:lnTo>
                  <a:pt x="882" y="0"/>
                </a:lnTo>
                <a:lnTo>
                  <a:pt x="927" y="34"/>
                </a:lnTo>
                <a:lnTo>
                  <a:pt x="972" y="68"/>
                </a:lnTo>
                <a:lnTo>
                  <a:pt x="1006" y="102"/>
                </a:lnTo>
                <a:lnTo>
                  <a:pt x="1029" y="136"/>
                </a:lnTo>
                <a:lnTo>
                  <a:pt x="1051" y="158"/>
                </a:lnTo>
                <a:lnTo>
                  <a:pt x="1074" y="169"/>
                </a:lnTo>
                <a:lnTo>
                  <a:pt x="1085" y="181"/>
                </a:lnTo>
                <a:lnTo>
                  <a:pt x="1085" y="192"/>
                </a:lnTo>
                <a:lnTo>
                  <a:pt x="1085" y="203"/>
                </a:lnTo>
                <a:lnTo>
                  <a:pt x="1085" y="215"/>
                </a:lnTo>
                <a:lnTo>
                  <a:pt x="1085" y="237"/>
                </a:lnTo>
                <a:lnTo>
                  <a:pt x="1074" y="271"/>
                </a:lnTo>
                <a:lnTo>
                  <a:pt x="1074" y="294"/>
                </a:lnTo>
                <a:lnTo>
                  <a:pt x="1062" y="328"/>
                </a:lnTo>
                <a:lnTo>
                  <a:pt x="1062" y="373"/>
                </a:lnTo>
                <a:lnTo>
                  <a:pt x="1051" y="418"/>
                </a:lnTo>
                <a:lnTo>
                  <a:pt x="1029" y="509"/>
                </a:lnTo>
                <a:lnTo>
                  <a:pt x="1017" y="565"/>
                </a:lnTo>
                <a:lnTo>
                  <a:pt x="1006" y="610"/>
                </a:lnTo>
                <a:lnTo>
                  <a:pt x="995" y="667"/>
                </a:lnTo>
                <a:lnTo>
                  <a:pt x="972" y="723"/>
                </a:lnTo>
                <a:lnTo>
                  <a:pt x="949" y="791"/>
                </a:lnTo>
                <a:lnTo>
                  <a:pt x="927" y="859"/>
                </a:lnTo>
                <a:lnTo>
                  <a:pt x="904" y="927"/>
                </a:lnTo>
                <a:lnTo>
                  <a:pt x="882" y="983"/>
                </a:lnTo>
                <a:lnTo>
                  <a:pt x="825" y="1108"/>
                </a:lnTo>
                <a:lnTo>
                  <a:pt x="802" y="1164"/>
                </a:lnTo>
                <a:lnTo>
                  <a:pt x="769" y="1221"/>
                </a:lnTo>
                <a:lnTo>
                  <a:pt x="735" y="1277"/>
                </a:lnTo>
                <a:lnTo>
                  <a:pt x="689" y="1334"/>
                </a:lnTo>
                <a:lnTo>
                  <a:pt x="655" y="1379"/>
                </a:lnTo>
                <a:lnTo>
                  <a:pt x="610" y="1424"/>
                </a:lnTo>
                <a:lnTo>
                  <a:pt x="565" y="1470"/>
                </a:lnTo>
                <a:lnTo>
                  <a:pt x="531" y="1503"/>
                </a:lnTo>
                <a:lnTo>
                  <a:pt x="486" y="1549"/>
                </a:lnTo>
                <a:lnTo>
                  <a:pt x="441" y="1571"/>
                </a:lnTo>
                <a:lnTo>
                  <a:pt x="395" y="1605"/>
                </a:lnTo>
                <a:lnTo>
                  <a:pt x="339" y="1639"/>
                </a:lnTo>
                <a:lnTo>
                  <a:pt x="294" y="1662"/>
                </a:lnTo>
                <a:lnTo>
                  <a:pt x="249" y="1684"/>
                </a:lnTo>
                <a:lnTo>
                  <a:pt x="215" y="1696"/>
                </a:lnTo>
                <a:lnTo>
                  <a:pt x="169" y="1707"/>
                </a:lnTo>
                <a:lnTo>
                  <a:pt x="147" y="1718"/>
                </a:lnTo>
                <a:lnTo>
                  <a:pt x="113" y="1730"/>
                </a:lnTo>
                <a:lnTo>
                  <a:pt x="90" y="1741"/>
                </a:lnTo>
                <a:lnTo>
                  <a:pt x="79" y="1741"/>
                </a:lnTo>
                <a:lnTo>
                  <a:pt x="56" y="1752"/>
                </a:lnTo>
                <a:lnTo>
                  <a:pt x="45" y="1752"/>
                </a:lnTo>
                <a:lnTo>
                  <a:pt x="22" y="1752"/>
                </a:lnTo>
                <a:lnTo>
                  <a:pt x="11" y="1741"/>
                </a:lnTo>
                <a:lnTo>
                  <a:pt x="0" y="173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49"/>
          <p:cNvSpPr/>
          <p:nvPr/>
        </p:nvSpPr>
        <p:spPr>
          <a:xfrm>
            <a:off x="6537240" y="3235320"/>
            <a:ext cx="854280" cy="846000"/>
          </a:xfrm>
          <a:custGeom>
            <a:avLst/>
            <a:gdLst>
              <a:gd name="textAreaLeft" fmla="*/ 0 w 854280"/>
              <a:gd name="textAreaRight" fmla="*/ 854640 w 8542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1345" h="1300">
                <a:moveTo>
                  <a:pt x="0" y="0"/>
                </a:moveTo>
                <a:lnTo>
                  <a:pt x="23" y="0"/>
                </a:lnTo>
                <a:lnTo>
                  <a:pt x="45" y="11"/>
                </a:lnTo>
                <a:lnTo>
                  <a:pt x="68" y="11"/>
                </a:lnTo>
                <a:lnTo>
                  <a:pt x="91" y="22"/>
                </a:lnTo>
                <a:lnTo>
                  <a:pt x="102" y="34"/>
                </a:lnTo>
                <a:lnTo>
                  <a:pt x="124" y="45"/>
                </a:lnTo>
                <a:lnTo>
                  <a:pt x="147" y="67"/>
                </a:lnTo>
                <a:lnTo>
                  <a:pt x="170" y="90"/>
                </a:lnTo>
                <a:lnTo>
                  <a:pt x="181" y="113"/>
                </a:lnTo>
                <a:lnTo>
                  <a:pt x="204" y="147"/>
                </a:lnTo>
                <a:lnTo>
                  <a:pt x="237" y="180"/>
                </a:lnTo>
                <a:lnTo>
                  <a:pt x="271" y="226"/>
                </a:lnTo>
                <a:lnTo>
                  <a:pt x="317" y="282"/>
                </a:lnTo>
                <a:lnTo>
                  <a:pt x="362" y="350"/>
                </a:lnTo>
                <a:lnTo>
                  <a:pt x="407" y="418"/>
                </a:lnTo>
                <a:lnTo>
                  <a:pt x="464" y="497"/>
                </a:lnTo>
                <a:lnTo>
                  <a:pt x="520" y="587"/>
                </a:lnTo>
                <a:lnTo>
                  <a:pt x="588" y="667"/>
                </a:lnTo>
                <a:lnTo>
                  <a:pt x="656" y="734"/>
                </a:lnTo>
                <a:lnTo>
                  <a:pt x="724" y="802"/>
                </a:lnTo>
                <a:lnTo>
                  <a:pt x="791" y="870"/>
                </a:lnTo>
                <a:lnTo>
                  <a:pt x="871" y="927"/>
                </a:lnTo>
                <a:lnTo>
                  <a:pt x="950" y="983"/>
                </a:lnTo>
                <a:lnTo>
                  <a:pt x="1018" y="1028"/>
                </a:lnTo>
                <a:lnTo>
                  <a:pt x="1097" y="1074"/>
                </a:lnTo>
                <a:lnTo>
                  <a:pt x="1153" y="1107"/>
                </a:lnTo>
                <a:lnTo>
                  <a:pt x="1210" y="1141"/>
                </a:lnTo>
                <a:lnTo>
                  <a:pt x="1255" y="1175"/>
                </a:lnTo>
                <a:lnTo>
                  <a:pt x="1289" y="1198"/>
                </a:lnTo>
                <a:lnTo>
                  <a:pt x="1323" y="1221"/>
                </a:lnTo>
                <a:lnTo>
                  <a:pt x="1334" y="1232"/>
                </a:lnTo>
                <a:lnTo>
                  <a:pt x="1345" y="1232"/>
                </a:lnTo>
                <a:lnTo>
                  <a:pt x="1345" y="1243"/>
                </a:lnTo>
                <a:lnTo>
                  <a:pt x="1334" y="1243"/>
                </a:lnTo>
                <a:lnTo>
                  <a:pt x="1323" y="1254"/>
                </a:lnTo>
                <a:lnTo>
                  <a:pt x="1300" y="1254"/>
                </a:lnTo>
                <a:lnTo>
                  <a:pt x="1278" y="1266"/>
                </a:lnTo>
                <a:lnTo>
                  <a:pt x="1244" y="1277"/>
                </a:lnTo>
                <a:lnTo>
                  <a:pt x="1210" y="1277"/>
                </a:lnTo>
                <a:lnTo>
                  <a:pt x="1176" y="1288"/>
                </a:lnTo>
                <a:lnTo>
                  <a:pt x="1131" y="1300"/>
                </a:lnTo>
                <a:lnTo>
                  <a:pt x="1097" y="1300"/>
                </a:lnTo>
                <a:lnTo>
                  <a:pt x="1051" y="1300"/>
                </a:lnTo>
                <a:lnTo>
                  <a:pt x="1018" y="1300"/>
                </a:lnTo>
                <a:lnTo>
                  <a:pt x="995" y="1300"/>
                </a:lnTo>
                <a:lnTo>
                  <a:pt x="961" y="1300"/>
                </a:lnTo>
                <a:lnTo>
                  <a:pt x="938" y="1300"/>
                </a:lnTo>
                <a:lnTo>
                  <a:pt x="916" y="1300"/>
                </a:lnTo>
                <a:lnTo>
                  <a:pt x="871" y="1288"/>
                </a:lnTo>
                <a:lnTo>
                  <a:pt x="825" y="1277"/>
                </a:lnTo>
                <a:lnTo>
                  <a:pt x="791" y="1243"/>
                </a:lnTo>
                <a:lnTo>
                  <a:pt x="769" y="1232"/>
                </a:lnTo>
                <a:lnTo>
                  <a:pt x="758" y="1209"/>
                </a:lnTo>
                <a:lnTo>
                  <a:pt x="746" y="1198"/>
                </a:lnTo>
                <a:lnTo>
                  <a:pt x="735" y="1175"/>
                </a:lnTo>
                <a:lnTo>
                  <a:pt x="712" y="1141"/>
                </a:lnTo>
                <a:lnTo>
                  <a:pt x="690" y="1107"/>
                </a:lnTo>
                <a:lnTo>
                  <a:pt x="656" y="1062"/>
                </a:lnTo>
                <a:lnTo>
                  <a:pt x="622" y="1006"/>
                </a:lnTo>
                <a:lnTo>
                  <a:pt x="577" y="949"/>
                </a:lnTo>
                <a:lnTo>
                  <a:pt x="531" y="881"/>
                </a:lnTo>
                <a:lnTo>
                  <a:pt x="486" y="802"/>
                </a:lnTo>
                <a:lnTo>
                  <a:pt x="430" y="712"/>
                </a:lnTo>
                <a:lnTo>
                  <a:pt x="373" y="610"/>
                </a:lnTo>
                <a:lnTo>
                  <a:pt x="305" y="508"/>
                </a:lnTo>
                <a:lnTo>
                  <a:pt x="237" y="395"/>
                </a:lnTo>
                <a:lnTo>
                  <a:pt x="158" y="271"/>
                </a:lnTo>
                <a:lnTo>
                  <a:pt x="79" y="13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41"/>
          <p:cNvSpPr/>
          <p:nvPr/>
        </p:nvSpPr>
        <p:spPr>
          <a:xfrm>
            <a:off x="6178680" y="2338560"/>
            <a:ext cx="158760" cy="1044360"/>
          </a:xfrm>
          <a:custGeom>
            <a:avLst/>
            <a:gdLst>
              <a:gd name="textAreaLeft" fmla="*/ 0 w 158760"/>
              <a:gd name="textAreaRight" fmla="*/ 159120 w 15876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249" h="1606">
                <a:moveTo>
                  <a:pt x="192" y="690"/>
                </a:moveTo>
                <a:lnTo>
                  <a:pt x="181" y="769"/>
                </a:lnTo>
                <a:lnTo>
                  <a:pt x="181" y="871"/>
                </a:lnTo>
                <a:lnTo>
                  <a:pt x="169" y="973"/>
                </a:lnTo>
                <a:lnTo>
                  <a:pt x="169" y="1086"/>
                </a:lnTo>
                <a:lnTo>
                  <a:pt x="158" y="1199"/>
                </a:lnTo>
                <a:lnTo>
                  <a:pt x="147" y="1323"/>
                </a:lnTo>
                <a:lnTo>
                  <a:pt x="135" y="1447"/>
                </a:lnTo>
                <a:lnTo>
                  <a:pt x="124" y="1594"/>
                </a:lnTo>
                <a:lnTo>
                  <a:pt x="11" y="1606"/>
                </a:lnTo>
                <a:lnTo>
                  <a:pt x="11" y="1436"/>
                </a:lnTo>
                <a:lnTo>
                  <a:pt x="22" y="1289"/>
                </a:lnTo>
                <a:lnTo>
                  <a:pt x="34" y="1142"/>
                </a:lnTo>
                <a:lnTo>
                  <a:pt x="34" y="995"/>
                </a:lnTo>
                <a:lnTo>
                  <a:pt x="45" y="871"/>
                </a:lnTo>
                <a:lnTo>
                  <a:pt x="45" y="746"/>
                </a:lnTo>
                <a:lnTo>
                  <a:pt x="45" y="633"/>
                </a:lnTo>
                <a:lnTo>
                  <a:pt x="56" y="520"/>
                </a:lnTo>
                <a:lnTo>
                  <a:pt x="56" y="475"/>
                </a:lnTo>
                <a:lnTo>
                  <a:pt x="56" y="430"/>
                </a:lnTo>
                <a:lnTo>
                  <a:pt x="56" y="385"/>
                </a:lnTo>
                <a:lnTo>
                  <a:pt x="56" y="340"/>
                </a:lnTo>
                <a:lnTo>
                  <a:pt x="56" y="306"/>
                </a:lnTo>
                <a:lnTo>
                  <a:pt x="45" y="272"/>
                </a:lnTo>
                <a:lnTo>
                  <a:pt x="45" y="238"/>
                </a:lnTo>
                <a:lnTo>
                  <a:pt x="45" y="215"/>
                </a:lnTo>
                <a:lnTo>
                  <a:pt x="45" y="181"/>
                </a:lnTo>
                <a:lnTo>
                  <a:pt x="45" y="159"/>
                </a:lnTo>
                <a:lnTo>
                  <a:pt x="34" y="136"/>
                </a:lnTo>
                <a:lnTo>
                  <a:pt x="34" y="125"/>
                </a:lnTo>
                <a:lnTo>
                  <a:pt x="34" y="102"/>
                </a:lnTo>
                <a:lnTo>
                  <a:pt x="22" y="91"/>
                </a:lnTo>
                <a:lnTo>
                  <a:pt x="22" y="79"/>
                </a:lnTo>
                <a:lnTo>
                  <a:pt x="0" y="57"/>
                </a:lnTo>
                <a:lnTo>
                  <a:pt x="0" y="34"/>
                </a:lnTo>
                <a:lnTo>
                  <a:pt x="0" y="23"/>
                </a:lnTo>
                <a:lnTo>
                  <a:pt x="22" y="12"/>
                </a:lnTo>
                <a:lnTo>
                  <a:pt x="22" y="0"/>
                </a:lnTo>
                <a:lnTo>
                  <a:pt x="34" y="0"/>
                </a:lnTo>
                <a:lnTo>
                  <a:pt x="45" y="0"/>
                </a:lnTo>
                <a:lnTo>
                  <a:pt x="68" y="0"/>
                </a:lnTo>
                <a:lnTo>
                  <a:pt x="79" y="0"/>
                </a:lnTo>
                <a:lnTo>
                  <a:pt x="102" y="12"/>
                </a:lnTo>
                <a:lnTo>
                  <a:pt x="124" y="23"/>
                </a:lnTo>
                <a:lnTo>
                  <a:pt x="147" y="34"/>
                </a:lnTo>
                <a:lnTo>
                  <a:pt x="169" y="46"/>
                </a:lnTo>
                <a:lnTo>
                  <a:pt x="192" y="68"/>
                </a:lnTo>
                <a:lnTo>
                  <a:pt x="203" y="79"/>
                </a:lnTo>
                <a:lnTo>
                  <a:pt x="226" y="91"/>
                </a:lnTo>
                <a:lnTo>
                  <a:pt x="237" y="113"/>
                </a:lnTo>
                <a:lnTo>
                  <a:pt x="237" y="125"/>
                </a:lnTo>
                <a:lnTo>
                  <a:pt x="249" y="136"/>
                </a:lnTo>
                <a:lnTo>
                  <a:pt x="249" y="147"/>
                </a:lnTo>
                <a:lnTo>
                  <a:pt x="249" y="170"/>
                </a:lnTo>
                <a:lnTo>
                  <a:pt x="249" y="204"/>
                </a:lnTo>
                <a:lnTo>
                  <a:pt x="237" y="238"/>
                </a:lnTo>
                <a:lnTo>
                  <a:pt x="237" y="272"/>
                </a:lnTo>
                <a:lnTo>
                  <a:pt x="226" y="294"/>
                </a:lnTo>
                <a:lnTo>
                  <a:pt x="226" y="328"/>
                </a:lnTo>
                <a:lnTo>
                  <a:pt x="215" y="373"/>
                </a:lnTo>
                <a:lnTo>
                  <a:pt x="215" y="419"/>
                </a:lnTo>
                <a:lnTo>
                  <a:pt x="203" y="475"/>
                </a:lnTo>
                <a:lnTo>
                  <a:pt x="203" y="532"/>
                </a:lnTo>
                <a:lnTo>
                  <a:pt x="192" y="611"/>
                </a:lnTo>
                <a:lnTo>
                  <a:pt x="192" y="6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44"/>
          <p:cNvSpPr/>
          <p:nvPr/>
        </p:nvSpPr>
        <p:spPr>
          <a:xfrm>
            <a:off x="6041880" y="3278160"/>
            <a:ext cx="452520" cy="433440"/>
          </a:xfrm>
          <a:custGeom>
            <a:avLst/>
            <a:gdLst>
              <a:gd name="textAreaLeft" fmla="*/ 0 w 452520"/>
              <a:gd name="textAreaRight" fmla="*/ 452880 w 45252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712" h="667">
                <a:moveTo>
                  <a:pt x="531" y="667"/>
                </a:moveTo>
                <a:lnTo>
                  <a:pt x="418" y="667"/>
                </a:lnTo>
                <a:lnTo>
                  <a:pt x="430" y="611"/>
                </a:lnTo>
                <a:lnTo>
                  <a:pt x="441" y="554"/>
                </a:lnTo>
                <a:lnTo>
                  <a:pt x="441" y="509"/>
                </a:lnTo>
                <a:lnTo>
                  <a:pt x="452" y="464"/>
                </a:lnTo>
                <a:lnTo>
                  <a:pt x="464" y="419"/>
                </a:lnTo>
                <a:lnTo>
                  <a:pt x="464" y="385"/>
                </a:lnTo>
                <a:lnTo>
                  <a:pt x="475" y="351"/>
                </a:lnTo>
                <a:lnTo>
                  <a:pt x="475" y="317"/>
                </a:lnTo>
                <a:lnTo>
                  <a:pt x="475" y="294"/>
                </a:lnTo>
                <a:lnTo>
                  <a:pt x="475" y="272"/>
                </a:lnTo>
                <a:lnTo>
                  <a:pt x="475" y="260"/>
                </a:lnTo>
                <a:lnTo>
                  <a:pt x="464" y="238"/>
                </a:lnTo>
                <a:lnTo>
                  <a:pt x="464" y="227"/>
                </a:lnTo>
                <a:lnTo>
                  <a:pt x="452" y="215"/>
                </a:lnTo>
                <a:lnTo>
                  <a:pt x="452" y="204"/>
                </a:lnTo>
                <a:lnTo>
                  <a:pt x="441" y="193"/>
                </a:lnTo>
                <a:lnTo>
                  <a:pt x="430" y="193"/>
                </a:lnTo>
                <a:lnTo>
                  <a:pt x="418" y="193"/>
                </a:lnTo>
                <a:lnTo>
                  <a:pt x="407" y="193"/>
                </a:lnTo>
                <a:lnTo>
                  <a:pt x="396" y="193"/>
                </a:lnTo>
                <a:lnTo>
                  <a:pt x="384" y="193"/>
                </a:lnTo>
                <a:lnTo>
                  <a:pt x="362" y="204"/>
                </a:lnTo>
                <a:lnTo>
                  <a:pt x="339" y="204"/>
                </a:lnTo>
                <a:lnTo>
                  <a:pt x="317" y="204"/>
                </a:lnTo>
                <a:lnTo>
                  <a:pt x="283" y="215"/>
                </a:lnTo>
                <a:lnTo>
                  <a:pt x="249" y="215"/>
                </a:lnTo>
                <a:lnTo>
                  <a:pt x="215" y="227"/>
                </a:lnTo>
                <a:lnTo>
                  <a:pt x="181" y="238"/>
                </a:lnTo>
                <a:lnTo>
                  <a:pt x="136" y="249"/>
                </a:lnTo>
                <a:lnTo>
                  <a:pt x="102" y="260"/>
                </a:lnTo>
                <a:lnTo>
                  <a:pt x="57" y="272"/>
                </a:lnTo>
                <a:lnTo>
                  <a:pt x="0" y="283"/>
                </a:lnTo>
                <a:lnTo>
                  <a:pt x="0" y="159"/>
                </a:lnTo>
                <a:lnTo>
                  <a:pt x="23" y="159"/>
                </a:lnTo>
                <a:lnTo>
                  <a:pt x="45" y="159"/>
                </a:lnTo>
                <a:lnTo>
                  <a:pt x="68" y="147"/>
                </a:lnTo>
                <a:lnTo>
                  <a:pt x="90" y="147"/>
                </a:lnTo>
                <a:lnTo>
                  <a:pt x="124" y="136"/>
                </a:lnTo>
                <a:lnTo>
                  <a:pt x="158" y="136"/>
                </a:lnTo>
                <a:lnTo>
                  <a:pt x="192" y="125"/>
                </a:lnTo>
                <a:lnTo>
                  <a:pt x="237" y="113"/>
                </a:lnTo>
                <a:lnTo>
                  <a:pt x="271" y="102"/>
                </a:lnTo>
                <a:lnTo>
                  <a:pt x="305" y="91"/>
                </a:lnTo>
                <a:lnTo>
                  <a:pt x="339" y="80"/>
                </a:lnTo>
                <a:lnTo>
                  <a:pt x="373" y="68"/>
                </a:lnTo>
                <a:lnTo>
                  <a:pt x="396" y="68"/>
                </a:lnTo>
                <a:lnTo>
                  <a:pt x="407" y="57"/>
                </a:lnTo>
                <a:lnTo>
                  <a:pt x="430" y="46"/>
                </a:lnTo>
                <a:lnTo>
                  <a:pt x="441" y="34"/>
                </a:lnTo>
                <a:lnTo>
                  <a:pt x="452" y="23"/>
                </a:lnTo>
                <a:lnTo>
                  <a:pt x="475" y="12"/>
                </a:lnTo>
                <a:lnTo>
                  <a:pt x="497" y="0"/>
                </a:lnTo>
                <a:lnTo>
                  <a:pt x="509" y="0"/>
                </a:lnTo>
                <a:lnTo>
                  <a:pt x="520" y="0"/>
                </a:lnTo>
                <a:lnTo>
                  <a:pt x="531" y="12"/>
                </a:lnTo>
                <a:lnTo>
                  <a:pt x="543" y="12"/>
                </a:lnTo>
                <a:lnTo>
                  <a:pt x="554" y="23"/>
                </a:lnTo>
                <a:lnTo>
                  <a:pt x="588" y="46"/>
                </a:lnTo>
                <a:lnTo>
                  <a:pt x="633" y="68"/>
                </a:lnTo>
                <a:lnTo>
                  <a:pt x="656" y="91"/>
                </a:lnTo>
                <a:lnTo>
                  <a:pt x="667" y="102"/>
                </a:lnTo>
                <a:lnTo>
                  <a:pt x="690" y="113"/>
                </a:lnTo>
                <a:lnTo>
                  <a:pt x="701" y="136"/>
                </a:lnTo>
                <a:lnTo>
                  <a:pt x="701" y="147"/>
                </a:lnTo>
                <a:lnTo>
                  <a:pt x="712" y="159"/>
                </a:lnTo>
                <a:lnTo>
                  <a:pt x="712" y="170"/>
                </a:lnTo>
                <a:lnTo>
                  <a:pt x="712" y="181"/>
                </a:lnTo>
                <a:lnTo>
                  <a:pt x="712" y="204"/>
                </a:lnTo>
                <a:lnTo>
                  <a:pt x="701" y="215"/>
                </a:lnTo>
                <a:lnTo>
                  <a:pt x="678" y="238"/>
                </a:lnTo>
                <a:lnTo>
                  <a:pt x="667" y="249"/>
                </a:lnTo>
                <a:lnTo>
                  <a:pt x="667" y="260"/>
                </a:lnTo>
                <a:lnTo>
                  <a:pt x="656" y="272"/>
                </a:lnTo>
                <a:lnTo>
                  <a:pt x="656" y="283"/>
                </a:lnTo>
                <a:lnTo>
                  <a:pt x="644" y="294"/>
                </a:lnTo>
                <a:lnTo>
                  <a:pt x="633" y="317"/>
                </a:lnTo>
                <a:lnTo>
                  <a:pt x="622" y="340"/>
                </a:lnTo>
                <a:lnTo>
                  <a:pt x="611" y="362"/>
                </a:lnTo>
                <a:lnTo>
                  <a:pt x="611" y="396"/>
                </a:lnTo>
                <a:lnTo>
                  <a:pt x="599" y="430"/>
                </a:lnTo>
                <a:lnTo>
                  <a:pt x="588" y="464"/>
                </a:lnTo>
                <a:lnTo>
                  <a:pt x="577" y="498"/>
                </a:lnTo>
                <a:lnTo>
                  <a:pt x="565" y="532"/>
                </a:lnTo>
                <a:lnTo>
                  <a:pt x="554" y="577"/>
                </a:lnTo>
                <a:lnTo>
                  <a:pt x="543" y="622"/>
                </a:lnTo>
                <a:lnTo>
                  <a:pt x="531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45"/>
          <p:cNvSpPr/>
          <p:nvPr/>
        </p:nvSpPr>
        <p:spPr>
          <a:xfrm>
            <a:off x="6093000" y="3668760"/>
            <a:ext cx="336240" cy="147600"/>
          </a:xfrm>
          <a:custGeom>
            <a:avLst/>
            <a:gdLst>
              <a:gd name="textAreaLeft" fmla="*/ 0 w 336240"/>
              <a:gd name="textAreaRight" fmla="*/ 336600 w 3362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532" h="226">
                <a:moveTo>
                  <a:pt x="249" y="45"/>
                </a:moveTo>
                <a:lnTo>
                  <a:pt x="317" y="22"/>
                </a:lnTo>
                <a:lnTo>
                  <a:pt x="362" y="11"/>
                </a:lnTo>
                <a:lnTo>
                  <a:pt x="418" y="0"/>
                </a:lnTo>
                <a:lnTo>
                  <a:pt x="452" y="0"/>
                </a:lnTo>
                <a:lnTo>
                  <a:pt x="486" y="0"/>
                </a:lnTo>
                <a:lnTo>
                  <a:pt x="498" y="11"/>
                </a:lnTo>
                <a:lnTo>
                  <a:pt x="520" y="34"/>
                </a:lnTo>
                <a:lnTo>
                  <a:pt x="520" y="45"/>
                </a:lnTo>
                <a:lnTo>
                  <a:pt x="532" y="56"/>
                </a:lnTo>
                <a:lnTo>
                  <a:pt x="532" y="67"/>
                </a:lnTo>
                <a:lnTo>
                  <a:pt x="520" y="67"/>
                </a:lnTo>
                <a:lnTo>
                  <a:pt x="520" y="79"/>
                </a:lnTo>
                <a:lnTo>
                  <a:pt x="498" y="90"/>
                </a:lnTo>
                <a:lnTo>
                  <a:pt x="486" y="101"/>
                </a:lnTo>
                <a:lnTo>
                  <a:pt x="464" y="113"/>
                </a:lnTo>
                <a:lnTo>
                  <a:pt x="430" y="113"/>
                </a:lnTo>
                <a:lnTo>
                  <a:pt x="407" y="124"/>
                </a:lnTo>
                <a:lnTo>
                  <a:pt x="373" y="135"/>
                </a:lnTo>
                <a:lnTo>
                  <a:pt x="328" y="147"/>
                </a:lnTo>
                <a:lnTo>
                  <a:pt x="283" y="158"/>
                </a:lnTo>
                <a:lnTo>
                  <a:pt x="238" y="169"/>
                </a:lnTo>
                <a:lnTo>
                  <a:pt x="181" y="180"/>
                </a:lnTo>
                <a:lnTo>
                  <a:pt x="125" y="192"/>
                </a:lnTo>
                <a:lnTo>
                  <a:pt x="68" y="214"/>
                </a:lnTo>
                <a:lnTo>
                  <a:pt x="0" y="226"/>
                </a:lnTo>
                <a:lnTo>
                  <a:pt x="0" y="67"/>
                </a:lnTo>
                <a:lnTo>
                  <a:pt x="57" y="67"/>
                </a:lnTo>
                <a:lnTo>
                  <a:pt x="125" y="56"/>
                </a:lnTo>
                <a:lnTo>
                  <a:pt x="192" y="56"/>
                </a:lnTo>
                <a:lnTo>
                  <a:pt x="249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将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31"/>
          <p:cNvSpPr/>
          <p:nvPr/>
        </p:nvSpPr>
        <p:spPr>
          <a:xfrm>
            <a:off x="1282680" y="2075040"/>
            <a:ext cx="1349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ā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5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43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右边的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4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5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要   将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6"/>
          <p:cNvSpPr/>
          <p:nvPr/>
        </p:nvSpPr>
        <p:spPr>
          <a:xfrm>
            <a:off x="857160" y="5060880"/>
            <a:ext cx="328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这学期将要结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7"/>
          <p:cNvSpPr/>
          <p:nvPr/>
        </p:nvSpPr>
        <p:spPr>
          <a:xfrm>
            <a:off x="34192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8"/>
          <p:cNvSpPr/>
          <p:nvPr/>
        </p:nvSpPr>
        <p:spPr>
          <a:xfrm>
            <a:off x="5445000" y="3198960"/>
            <a:ext cx="567000" cy="425160"/>
          </a:xfrm>
          <a:custGeom>
            <a:avLst/>
            <a:gdLst>
              <a:gd name="textAreaLeft" fmla="*/ 0 w 567000"/>
              <a:gd name="textAreaRight" fmla="*/ 567360 w 56700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893" h="656">
                <a:moveTo>
                  <a:pt x="203" y="656"/>
                </a:moveTo>
                <a:lnTo>
                  <a:pt x="181" y="656"/>
                </a:lnTo>
                <a:lnTo>
                  <a:pt x="158" y="644"/>
                </a:lnTo>
                <a:lnTo>
                  <a:pt x="135" y="633"/>
                </a:lnTo>
                <a:lnTo>
                  <a:pt x="113" y="622"/>
                </a:lnTo>
                <a:lnTo>
                  <a:pt x="101" y="611"/>
                </a:lnTo>
                <a:lnTo>
                  <a:pt x="79" y="577"/>
                </a:lnTo>
                <a:lnTo>
                  <a:pt x="45" y="554"/>
                </a:lnTo>
                <a:lnTo>
                  <a:pt x="34" y="520"/>
                </a:lnTo>
                <a:lnTo>
                  <a:pt x="22" y="509"/>
                </a:lnTo>
                <a:lnTo>
                  <a:pt x="11" y="486"/>
                </a:lnTo>
                <a:lnTo>
                  <a:pt x="0" y="464"/>
                </a:lnTo>
                <a:lnTo>
                  <a:pt x="0" y="441"/>
                </a:lnTo>
                <a:lnTo>
                  <a:pt x="0" y="418"/>
                </a:lnTo>
                <a:lnTo>
                  <a:pt x="0" y="407"/>
                </a:lnTo>
                <a:lnTo>
                  <a:pt x="11" y="396"/>
                </a:lnTo>
                <a:lnTo>
                  <a:pt x="34" y="396"/>
                </a:lnTo>
                <a:lnTo>
                  <a:pt x="56" y="396"/>
                </a:lnTo>
                <a:lnTo>
                  <a:pt x="68" y="396"/>
                </a:lnTo>
                <a:lnTo>
                  <a:pt x="79" y="396"/>
                </a:lnTo>
                <a:lnTo>
                  <a:pt x="101" y="407"/>
                </a:lnTo>
                <a:lnTo>
                  <a:pt x="124" y="418"/>
                </a:lnTo>
                <a:lnTo>
                  <a:pt x="147" y="418"/>
                </a:lnTo>
                <a:lnTo>
                  <a:pt x="158" y="418"/>
                </a:lnTo>
                <a:lnTo>
                  <a:pt x="169" y="407"/>
                </a:lnTo>
                <a:lnTo>
                  <a:pt x="181" y="396"/>
                </a:lnTo>
                <a:lnTo>
                  <a:pt x="203" y="396"/>
                </a:lnTo>
                <a:lnTo>
                  <a:pt x="226" y="373"/>
                </a:lnTo>
                <a:lnTo>
                  <a:pt x="248" y="362"/>
                </a:lnTo>
                <a:lnTo>
                  <a:pt x="282" y="351"/>
                </a:lnTo>
                <a:lnTo>
                  <a:pt x="316" y="328"/>
                </a:lnTo>
                <a:lnTo>
                  <a:pt x="362" y="305"/>
                </a:lnTo>
                <a:lnTo>
                  <a:pt x="407" y="271"/>
                </a:lnTo>
                <a:lnTo>
                  <a:pt x="463" y="249"/>
                </a:lnTo>
                <a:lnTo>
                  <a:pt x="520" y="215"/>
                </a:lnTo>
                <a:lnTo>
                  <a:pt x="588" y="181"/>
                </a:lnTo>
                <a:lnTo>
                  <a:pt x="655" y="136"/>
                </a:lnTo>
                <a:lnTo>
                  <a:pt x="723" y="91"/>
                </a:lnTo>
                <a:lnTo>
                  <a:pt x="802" y="45"/>
                </a:lnTo>
                <a:lnTo>
                  <a:pt x="893" y="0"/>
                </a:lnTo>
                <a:lnTo>
                  <a:pt x="893" y="102"/>
                </a:lnTo>
                <a:lnTo>
                  <a:pt x="825" y="158"/>
                </a:lnTo>
                <a:lnTo>
                  <a:pt x="768" y="204"/>
                </a:lnTo>
                <a:lnTo>
                  <a:pt x="712" y="249"/>
                </a:lnTo>
                <a:lnTo>
                  <a:pt x="655" y="294"/>
                </a:lnTo>
                <a:lnTo>
                  <a:pt x="610" y="339"/>
                </a:lnTo>
                <a:lnTo>
                  <a:pt x="565" y="373"/>
                </a:lnTo>
                <a:lnTo>
                  <a:pt x="520" y="407"/>
                </a:lnTo>
                <a:lnTo>
                  <a:pt x="486" y="441"/>
                </a:lnTo>
                <a:lnTo>
                  <a:pt x="452" y="475"/>
                </a:lnTo>
                <a:lnTo>
                  <a:pt x="418" y="497"/>
                </a:lnTo>
                <a:lnTo>
                  <a:pt x="395" y="520"/>
                </a:lnTo>
                <a:lnTo>
                  <a:pt x="373" y="543"/>
                </a:lnTo>
                <a:lnTo>
                  <a:pt x="350" y="554"/>
                </a:lnTo>
                <a:lnTo>
                  <a:pt x="339" y="577"/>
                </a:lnTo>
                <a:lnTo>
                  <a:pt x="328" y="588"/>
                </a:lnTo>
                <a:lnTo>
                  <a:pt x="316" y="599"/>
                </a:lnTo>
                <a:lnTo>
                  <a:pt x="282" y="622"/>
                </a:lnTo>
                <a:lnTo>
                  <a:pt x="260" y="644"/>
                </a:lnTo>
                <a:lnTo>
                  <a:pt x="226" y="656"/>
                </a:lnTo>
                <a:lnTo>
                  <a:pt x="215" y="656"/>
                </a:lnTo>
                <a:lnTo>
                  <a:pt x="203" y="6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9"/>
          <p:cNvSpPr/>
          <p:nvPr/>
        </p:nvSpPr>
        <p:spPr>
          <a:xfrm>
            <a:off x="5602320" y="2771640"/>
            <a:ext cx="237960" cy="295560"/>
          </a:xfrm>
          <a:custGeom>
            <a:avLst/>
            <a:gdLst>
              <a:gd name="textAreaLeft" fmla="*/ 0 w 237960"/>
              <a:gd name="textAreaRight" fmla="*/ 238320 w 2379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374" h="453">
                <a:moveTo>
                  <a:pt x="362" y="249"/>
                </a:moveTo>
                <a:lnTo>
                  <a:pt x="374" y="294"/>
                </a:lnTo>
                <a:lnTo>
                  <a:pt x="374" y="340"/>
                </a:lnTo>
                <a:lnTo>
                  <a:pt x="374" y="351"/>
                </a:lnTo>
                <a:lnTo>
                  <a:pt x="362" y="373"/>
                </a:lnTo>
                <a:lnTo>
                  <a:pt x="351" y="385"/>
                </a:lnTo>
                <a:lnTo>
                  <a:pt x="340" y="407"/>
                </a:lnTo>
                <a:lnTo>
                  <a:pt x="328" y="419"/>
                </a:lnTo>
                <a:lnTo>
                  <a:pt x="317" y="430"/>
                </a:lnTo>
                <a:lnTo>
                  <a:pt x="294" y="441"/>
                </a:lnTo>
                <a:lnTo>
                  <a:pt x="283" y="453"/>
                </a:lnTo>
                <a:lnTo>
                  <a:pt x="272" y="453"/>
                </a:lnTo>
                <a:lnTo>
                  <a:pt x="260" y="453"/>
                </a:lnTo>
                <a:lnTo>
                  <a:pt x="249" y="441"/>
                </a:lnTo>
                <a:lnTo>
                  <a:pt x="238" y="430"/>
                </a:lnTo>
                <a:lnTo>
                  <a:pt x="215" y="407"/>
                </a:lnTo>
                <a:lnTo>
                  <a:pt x="204" y="373"/>
                </a:lnTo>
                <a:lnTo>
                  <a:pt x="181" y="340"/>
                </a:lnTo>
                <a:lnTo>
                  <a:pt x="159" y="294"/>
                </a:lnTo>
                <a:lnTo>
                  <a:pt x="125" y="249"/>
                </a:lnTo>
                <a:lnTo>
                  <a:pt x="102" y="193"/>
                </a:lnTo>
                <a:lnTo>
                  <a:pt x="68" y="147"/>
                </a:lnTo>
                <a:lnTo>
                  <a:pt x="57" y="113"/>
                </a:lnTo>
                <a:lnTo>
                  <a:pt x="34" y="79"/>
                </a:lnTo>
                <a:lnTo>
                  <a:pt x="23" y="46"/>
                </a:lnTo>
                <a:lnTo>
                  <a:pt x="12" y="34"/>
                </a:lnTo>
                <a:lnTo>
                  <a:pt x="0" y="12"/>
                </a:lnTo>
                <a:lnTo>
                  <a:pt x="12" y="0"/>
                </a:lnTo>
                <a:lnTo>
                  <a:pt x="34" y="0"/>
                </a:lnTo>
                <a:lnTo>
                  <a:pt x="57" y="0"/>
                </a:lnTo>
                <a:lnTo>
                  <a:pt x="68" y="0"/>
                </a:lnTo>
                <a:lnTo>
                  <a:pt x="80" y="0"/>
                </a:lnTo>
                <a:lnTo>
                  <a:pt x="125" y="12"/>
                </a:lnTo>
                <a:lnTo>
                  <a:pt x="147" y="23"/>
                </a:lnTo>
                <a:lnTo>
                  <a:pt x="170" y="34"/>
                </a:lnTo>
                <a:lnTo>
                  <a:pt x="193" y="46"/>
                </a:lnTo>
                <a:lnTo>
                  <a:pt x="227" y="57"/>
                </a:lnTo>
                <a:lnTo>
                  <a:pt x="260" y="79"/>
                </a:lnTo>
                <a:lnTo>
                  <a:pt x="283" y="102"/>
                </a:lnTo>
                <a:lnTo>
                  <a:pt x="306" y="125"/>
                </a:lnTo>
                <a:lnTo>
                  <a:pt x="317" y="147"/>
                </a:lnTo>
                <a:lnTo>
                  <a:pt x="340" y="170"/>
                </a:lnTo>
                <a:lnTo>
                  <a:pt x="351" y="193"/>
                </a:lnTo>
                <a:lnTo>
                  <a:pt x="362" y="226"/>
                </a:lnTo>
                <a:lnTo>
                  <a:pt x="362" y="2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40"/>
          <p:cNvSpPr/>
          <p:nvPr/>
        </p:nvSpPr>
        <p:spPr>
          <a:xfrm>
            <a:off x="6242040" y="2263680"/>
            <a:ext cx="480960" cy="582840"/>
          </a:xfrm>
          <a:custGeom>
            <a:avLst/>
            <a:gdLst>
              <a:gd name="textAreaLeft" fmla="*/ 0 w 480960"/>
              <a:gd name="textAreaRight" fmla="*/ 481320 w 480960"/>
              <a:gd name="textAreaTop" fmla="*/ 0 h 582840"/>
              <a:gd name="textAreaBottom" fmla="*/ 583200 h 582840"/>
            </a:gdLst>
            <a:ahLst/>
            <a:rect l="textAreaLeft" t="textAreaTop" r="textAreaRight" b="textAreaBottom"/>
            <a:pathLst>
              <a:path w="757" h="893">
                <a:moveTo>
                  <a:pt x="497" y="57"/>
                </a:moveTo>
                <a:lnTo>
                  <a:pt x="486" y="46"/>
                </a:lnTo>
                <a:lnTo>
                  <a:pt x="486" y="34"/>
                </a:lnTo>
                <a:lnTo>
                  <a:pt x="486" y="23"/>
                </a:lnTo>
                <a:lnTo>
                  <a:pt x="486" y="12"/>
                </a:lnTo>
                <a:lnTo>
                  <a:pt x="497" y="12"/>
                </a:lnTo>
                <a:lnTo>
                  <a:pt x="508" y="0"/>
                </a:lnTo>
                <a:lnTo>
                  <a:pt x="520" y="0"/>
                </a:lnTo>
                <a:lnTo>
                  <a:pt x="554" y="0"/>
                </a:lnTo>
                <a:lnTo>
                  <a:pt x="587" y="12"/>
                </a:lnTo>
                <a:lnTo>
                  <a:pt x="621" y="23"/>
                </a:lnTo>
                <a:lnTo>
                  <a:pt x="644" y="34"/>
                </a:lnTo>
                <a:lnTo>
                  <a:pt x="667" y="46"/>
                </a:lnTo>
                <a:lnTo>
                  <a:pt x="689" y="68"/>
                </a:lnTo>
                <a:lnTo>
                  <a:pt x="712" y="79"/>
                </a:lnTo>
                <a:lnTo>
                  <a:pt x="723" y="91"/>
                </a:lnTo>
                <a:lnTo>
                  <a:pt x="734" y="102"/>
                </a:lnTo>
                <a:lnTo>
                  <a:pt x="746" y="113"/>
                </a:lnTo>
                <a:lnTo>
                  <a:pt x="757" y="125"/>
                </a:lnTo>
                <a:lnTo>
                  <a:pt x="757" y="136"/>
                </a:lnTo>
                <a:lnTo>
                  <a:pt x="757" y="159"/>
                </a:lnTo>
                <a:lnTo>
                  <a:pt x="757" y="170"/>
                </a:lnTo>
                <a:lnTo>
                  <a:pt x="746" y="192"/>
                </a:lnTo>
                <a:lnTo>
                  <a:pt x="734" y="215"/>
                </a:lnTo>
                <a:lnTo>
                  <a:pt x="712" y="249"/>
                </a:lnTo>
                <a:lnTo>
                  <a:pt x="689" y="283"/>
                </a:lnTo>
                <a:lnTo>
                  <a:pt x="655" y="317"/>
                </a:lnTo>
                <a:lnTo>
                  <a:pt x="621" y="362"/>
                </a:lnTo>
                <a:lnTo>
                  <a:pt x="587" y="407"/>
                </a:lnTo>
                <a:lnTo>
                  <a:pt x="542" y="464"/>
                </a:lnTo>
                <a:lnTo>
                  <a:pt x="486" y="509"/>
                </a:lnTo>
                <a:lnTo>
                  <a:pt x="441" y="554"/>
                </a:lnTo>
                <a:lnTo>
                  <a:pt x="395" y="599"/>
                </a:lnTo>
                <a:lnTo>
                  <a:pt x="350" y="645"/>
                </a:lnTo>
                <a:lnTo>
                  <a:pt x="305" y="690"/>
                </a:lnTo>
                <a:lnTo>
                  <a:pt x="203" y="758"/>
                </a:lnTo>
                <a:lnTo>
                  <a:pt x="169" y="792"/>
                </a:lnTo>
                <a:lnTo>
                  <a:pt x="124" y="826"/>
                </a:lnTo>
                <a:lnTo>
                  <a:pt x="90" y="848"/>
                </a:lnTo>
                <a:lnTo>
                  <a:pt x="56" y="871"/>
                </a:lnTo>
                <a:lnTo>
                  <a:pt x="34" y="882"/>
                </a:lnTo>
                <a:lnTo>
                  <a:pt x="22" y="893"/>
                </a:lnTo>
                <a:lnTo>
                  <a:pt x="0" y="893"/>
                </a:lnTo>
                <a:lnTo>
                  <a:pt x="0" y="882"/>
                </a:lnTo>
                <a:lnTo>
                  <a:pt x="0" y="871"/>
                </a:lnTo>
                <a:lnTo>
                  <a:pt x="11" y="859"/>
                </a:lnTo>
                <a:lnTo>
                  <a:pt x="22" y="837"/>
                </a:lnTo>
                <a:lnTo>
                  <a:pt x="45" y="803"/>
                </a:lnTo>
                <a:lnTo>
                  <a:pt x="79" y="769"/>
                </a:lnTo>
                <a:lnTo>
                  <a:pt x="113" y="735"/>
                </a:lnTo>
                <a:lnTo>
                  <a:pt x="158" y="679"/>
                </a:lnTo>
                <a:lnTo>
                  <a:pt x="237" y="588"/>
                </a:lnTo>
                <a:lnTo>
                  <a:pt x="316" y="486"/>
                </a:lnTo>
                <a:lnTo>
                  <a:pt x="384" y="396"/>
                </a:lnTo>
                <a:lnTo>
                  <a:pt x="418" y="339"/>
                </a:lnTo>
                <a:lnTo>
                  <a:pt x="441" y="294"/>
                </a:lnTo>
                <a:lnTo>
                  <a:pt x="463" y="260"/>
                </a:lnTo>
                <a:lnTo>
                  <a:pt x="486" y="215"/>
                </a:lnTo>
                <a:lnTo>
                  <a:pt x="497" y="181"/>
                </a:lnTo>
                <a:lnTo>
                  <a:pt x="508" y="147"/>
                </a:lnTo>
                <a:lnTo>
                  <a:pt x="508" y="125"/>
                </a:lnTo>
                <a:lnTo>
                  <a:pt x="508" y="102"/>
                </a:lnTo>
                <a:lnTo>
                  <a:pt x="508" y="79"/>
                </a:lnTo>
                <a:lnTo>
                  <a:pt x="497" y="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41"/>
          <p:cNvSpPr/>
          <p:nvPr/>
        </p:nvSpPr>
        <p:spPr>
          <a:xfrm>
            <a:off x="6392880" y="2698920"/>
            <a:ext cx="214200" cy="212400"/>
          </a:xfrm>
          <a:custGeom>
            <a:avLst/>
            <a:gdLst>
              <a:gd name="textAreaLeft" fmla="*/ 0 w 214200"/>
              <a:gd name="textAreaRight" fmla="*/ 214560 w 21420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339" h="328">
                <a:moveTo>
                  <a:pt x="260" y="91"/>
                </a:moveTo>
                <a:lnTo>
                  <a:pt x="294" y="125"/>
                </a:lnTo>
                <a:lnTo>
                  <a:pt x="317" y="159"/>
                </a:lnTo>
                <a:lnTo>
                  <a:pt x="328" y="181"/>
                </a:lnTo>
                <a:lnTo>
                  <a:pt x="339" y="215"/>
                </a:lnTo>
                <a:lnTo>
                  <a:pt x="328" y="249"/>
                </a:lnTo>
                <a:lnTo>
                  <a:pt x="328" y="272"/>
                </a:lnTo>
                <a:lnTo>
                  <a:pt x="317" y="294"/>
                </a:lnTo>
                <a:lnTo>
                  <a:pt x="294" y="317"/>
                </a:lnTo>
                <a:lnTo>
                  <a:pt x="294" y="328"/>
                </a:lnTo>
                <a:lnTo>
                  <a:pt x="283" y="328"/>
                </a:lnTo>
                <a:lnTo>
                  <a:pt x="271" y="317"/>
                </a:lnTo>
                <a:lnTo>
                  <a:pt x="260" y="317"/>
                </a:lnTo>
                <a:lnTo>
                  <a:pt x="249" y="306"/>
                </a:lnTo>
                <a:lnTo>
                  <a:pt x="237" y="294"/>
                </a:lnTo>
                <a:lnTo>
                  <a:pt x="215" y="283"/>
                </a:lnTo>
                <a:lnTo>
                  <a:pt x="204" y="260"/>
                </a:lnTo>
                <a:lnTo>
                  <a:pt x="181" y="238"/>
                </a:lnTo>
                <a:lnTo>
                  <a:pt x="158" y="215"/>
                </a:lnTo>
                <a:lnTo>
                  <a:pt x="136" y="192"/>
                </a:lnTo>
                <a:lnTo>
                  <a:pt x="113" y="159"/>
                </a:lnTo>
                <a:lnTo>
                  <a:pt x="90" y="125"/>
                </a:lnTo>
                <a:lnTo>
                  <a:pt x="57" y="91"/>
                </a:lnTo>
                <a:lnTo>
                  <a:pt x="34" y="46"/>
                </a:lnTo>
                <a:lnTo>
                  <a:pt x="0" y="0"/>
                </a:lnTo>
                <a:lnTo>
                  <a:pt x="45" y="12"/>
                </a:lnTo>
                <a:lnTo>
                  <a:pt x="79" y="23"/>
                </a:lnTo>
                <a:lnTo>
                  <a:pt x="124" y="23"/>
                </a:lnTo>
                <a:lnTo>
                  <a:pt x="158" y="34"/>
                </a:lnTo>
                <a:lnTo>
                  <a:pt x="192" y="57"/>
                </a:lnTo>
                <a:lnTo>
                  <a:pt x="215" y="68"/>
                </a:lnTo>
                <a:lnTo>
                  <a:pt x="237" y="79"/>
                </a:lnTo>
                <a:lnTo>
                  <a:pt x="260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42"/>
          <p:cNvSpPr/>
          <p:nvPr/>
        </p:nvSpPr>
        <p:spPr>
          <a:xfrm>
            <a:off x="6327720" y="3456000"/>
            <a:ext cx="201600" cy="271440"/>
          </a:xfrm>
          <a:custGeom>
            <a:avLst/>
            <a:gdLst>
              <a:gd name="textAreaLeft" fmla="*/ 0 w 201600"/>
              <a:gd name="textAreaRight" fmla="*/ 201960 w 2016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17" h="418">
                <a:moveTo>
                  <a:pt x="306" y="305"/>
                </a:moveTo>
                <a:lnTo>
                  <a:pt x="306" y="328"/>
                </a:lnTo>
                <a:lnTo>
                  <a:pt x="306" y="339"/>
                </a:lnTo>
                <a:lnTo>
                  <a:pt x="294" y="362"/>
                </a:lnTo>
                <a:lnTo>
                  <a:pt x="294" y="384"/>
                </a:lnTo>
                <a:lnTo>
                  <a:pt x="283" y="395"/>
                </a:lnTo>
                <a:lnTo>
                  <a:pt x="272" y="407"/>
                </a:lnTo>
                <a:lnTo>
                  <a:pt x="260" y="418"/>
                </a:lnTo>
                <a:lnTo>
                  <a:pt x="249" y="418"/>
                </a:lnTo>
                <a:lnTo>
                  <a:pt x="238" y="418"/>
                </a:lnTo>
                <a:lnTo>
                  <a:pt x="226" y="418"/>
                </a:lnTo>
                <a:lnTo>
                  <a:pt x="215" y="407"/>
                </a:lnTo>
                <a:lnTo>
                  <a:pt x="192" y="395"/>
                </a:lnTo>
                <a:lnTo>
                  <a:pt x="181" y="373"/>
                </a:lnTo>
                <a:lnTo>
                  <a:pt x="159" y="350"/>
                </a:lnTo>
                <a:lnTo>
                  <a:pt x="147" y="316"/>
                </a:lnTo>
                <a:lnTo>
                  <a:pt x="125" y="271"/>
                </a:lnTo>
                <a:lnTo>
                  <a:pt x="102" y="226"/>
                </a:lnTo>
                <a:lnTo>
                  <a:pt x="68" y="181"/>
                </a:lnTo>
                <a:lnTo>
                  <a:pt x="46" y="147"/>
                </a:lnTo>
                <a:lnTo>
                  <a:pt x="34" y="113"/>
                </a:lnTo>
                <a:lnTo>
                  <a:pt x="12" y="79"/>
                </a:lnTo>
                <a:lnTo>
                  <a:pt x="0" y="56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23" y="0"/>
                </a:lnTo>
                <a:lnTo>
                  <a:pt x="46" y="11"/>
                </a:lnTo>
                <a:lnTo>
                  <a:pt x="68" y="11"/>
                </a:lnTo>
                <a:lnTo>
                  <a:pt x="102" y="22"/>
                </a:lnTo>
                <a:lnTo>
                  <a:pt x="136" y="45"/>
                </a:lnTo>
                <a:lnTo>
                  <a:pt x="170" y="56"/>
                </a:lnTo>
                <a:lnTo>
                  <a:pt x="204" y="68"/>
                </a:lnTo>
                <a:lnTo>
                  <a:pt x="226" y="90"/>
                </a:lnTo>
                <a:lnTo>
                  <a:pt x="249" y="113"/>
                </a:lnTo>
                <a:lnTo>
                  <a:pt x="283" y="135"/>
                </a:lnTo>
                <a:lnTo>
                  <a:pt x="294" y="158"/>
                </a:lnTo>
                <a:lnTo>
                  <a:pt x="317" y="192"/>
                </a:lnTo>
                <a:lnTo>
                  <a:pt x="317" y="226"/>
                </a:lnTo>
                <a:lnTo>
                  <a:pt x="317" y="260"/>
                </a:lnTo>
                <a:lnTo>
                  <a:pt x="306" y="30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3"/>
          <p:cNvSpPr/>
          <p:nvPr/>
        </p:nvSpPr>
        <p:spPr>
          <a:xfrm>
            <a:off x="6111720" y="3154320"/>
            <a:ext cx="1206720" cy="250920"/>
          </a:xfrm>
          <a:custGeom>
            <a:avLst/>
            <a:gdLst>
              <a:gd name="textAreaLeft" fmla="*/ 0 w 1206720"/>
              <a:gd name="textAreaRight" fmla="*/ 1207080 w 120672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899" h="385">
                <a:moveTo>
                  <a:pt x="848" y="147"/>
                </a:moveTo>
                <a:lnTo>
                  <a:pt x="950" y="125"/>
                </a:lnTo>
                <a:lnTo>
                  <a:pt x="1029" y="113"/>
                </a:lnTo>
                <a:lnTo>
                  <a:pt x="1108" y="91"/>
                </a:lnTo>
                <a:lnTo>
                  <a:pt x="1187" y="79"/>
                </a:lnTo>
                <a:lnTo>
                  <a:pt x="1255" y="68"/>
                </a:lnTo>
                <a:lnTo>
                  <a:pt x="1312" y="57"/>
                </a:lnTo>
                <a:lnTo>
                  <a:pt x="1368" y="34"/>
                </a:lnTo>
                <a:lnTo>
                  <a:pt x="1413" y="23"/>
                </a:lnTo>
                <a:lnTo>
                  <a:pt x="1481" y="23"/>
                </a:lnTo>
                <a:lnTo>
                  <a:pt x="1538" y="12"/>
                </a:lnTo>
                <a:lnTo>
                  <a:pt x="1594" y="0"/>
                </a:lnTo>
                <a:lnTo>
                  <a:pt x="1639" y="0"/>
                </a:lnTo>
                <a:lnTo>
                  <a:pt x="1673" y="0"/>
                </a:lnTo>
                <a:lnTo>
                  <a:pt x="1707" y="12"/>
                </a:lnTo>
                <a:lnTo>
                  <a:pt x="1752" y="34"/>
                </a:lnTo>
                <a:lnTo>
                  <a:pt x="1775" y="45"/>
                </a:lnTo>
                <a:lnTo>
                  <a:pt x="1798" y="57"/>
                </a:lnTo>
                <a:lnTo>
                  <a:pt x="1820" y="68"/>
                </a:lnTo>
                <a:lnTo>
                  <a:pt x="1843" y="79"/>
                </a:lnTo>
                <a:lnTo>
                  <a:pt x="1854" y="91"/>
                </a:lnTo>
                <a:lnTo>
                  <a:pt x="1877" y="113"/>
                </a:lnTo>
                <a:lnTo>
                  <a:pt x="1888" y="125"/>
                </a:lnTo>
                <a:lnTo>
                  <a:pt x="1888" y="136"/>
                </a:lnTo>
                <a:lnTo>
                  <a:pt x="1899" y="147"/>
                </a:lnTo>
                <a:lnTo>
                  <a:pt x="1899" y="159"/>
                </a:lnTo>
                <a:lnTo>
                  <a:pt x="1899" y="170"/>
                </a:lnTo>
                <a:lnTo>
                  <a:pt x="1888" y="181"/>
                </a:lnTo>
                <a:lnTo>
                  <a:pt x="1877" y="181"/>
                </a:lnTo>
                <a:lnTo>
                  <a:pt x="1865" y="192"/>
                </a:lnTo>
                <a:lnTo>
                  <a:pt x="1854" y="192"/>
                </a:lnTo>
                <a:lnTo>
                  <a:pt x="1832" y="204"/>
                </a:lnTo>
                <a:lnTo>
                  <a:pt x="1809" y="204"/>
                </a:lnTo>
                <a:lnTo>
                  <a:pt x="1786" y="204"/>
                </a:lnTo>
                <a:lnTo>
                  <a:pt x="1764" y="204"/>
                </a:lnTo>
                <a:lnTo>
                  <a:pt x="1741" y="215"/>
                </a:lnTo>
                <a:lnTo>
                  <a:pt x="1707" y="215"/>
                </a:lnTo>
                <a:lnTo>
                  <a:pt x="1673" y="215"/>
                </a:lnTo>
                <a:lnTo>
                  <a:pt x="1628" y="215"/>
                </a:lnTo>
                <a:lnTo>
                  <a:pt x="1594" y="215"/>
                </a:lnTo>
                <a:lnTo>
                  <a:pt x="1549" y="215"/>
                </a:lnTo>
                <a:lnTo>
                  <a:pt x="1458" y="215"/>
                </a:lnTo>
                <a:lnTo>
                  <a:pt x="1357" y="215"/>
                </a:lnTo>
                <a:lnTo>
                  <a:pt x="1266" y="226"/>
                </a:lnTo>
                <a:lnTo>
                  <a:pt x="1153" y="238"/>
                </a:lnTo>
                <a:lnTo>
                  <a:pt x="1040" y="249"/>
                </a:lnTo>
                <a:lnTo>
                  <a:pt x="927" y="260"/>
                </a:lnTo>
                <a:lnTo>
                  <a:pt x="814" y="272"/>
                </a:lnTo>
                <a:lnTo>
                  <a:pt x="690" y="294"/>
                </a:lnTo>
                <a:lnTo>
                  <a:pt x="622" y="305"/>
                </a:lnTo>
                <a:lnTo>
                  <a:pt x="565" y="317"/>
                </a:lnTo>
                <a:lnTo>
                  <a:pt x="509" y="328"/>
                </a:lnTo>
                <a:lnTo>
                  <a:pt x="452" y="339"/>
                </a:lnTo>
                <a:lnTo>
                  <a:pt x="407" y="339"/>
                </a:lnTo>
                <a:lnTo>
                  <a:pt x="362" y="351"/>
                </a:lnTo>
                <a:lnTo>
                  <a:pt x="328" y="362"/>
                </a:lnTo>
                <a:lnTo>
                  <a:pt x="283" y="362"/>
                </a:lnTo>
                <a:lnTo>
                  <a:pt x="249" y="373"/>
                </a:lnTo>
                <a:lnTo>
                  <a:pt x="226" y="373"/>
                </a:lnTo>
                <a:lnTo>
                  <a:pt x="204" y="373"/>
                </a:lnTo>
                <a:lnTo>
                  <a:pt x="181" y="385"/>
                </a:lnTo>
                <a:lnTo>
                  <a:pt x="158" y="385"/>
                </a:lnTo>
                <a:lnTo>
                  <a:pt x="147" y="385"/>
                </a:lnTo>
                <a:lnTo>
                  <a:pt x="136" y="385"/>
                </a:lnTo>
                <a:lnTo>
                  <a:pt x="113" y="385"/>
                </a:lnTo>
                <a:lnTo>
                  <a:pt x="102" y="373"/>
                </a:lnTo>
                <a:lnTo>
                  <a:pt x="79" y="362"/>
                </a:lnTo>
                <a:lnTo>
                  <a:pt x="68" y="351"/>
                </a:lnTo>
                <a:lnTo>
                  <a:pt x="45" y="328"/>
                </a:lnTo>
                <a:lnTo>
                  <a:pt x="23" y="305"/>
                </a:lnTo>
                <a:lnTo>
                  <a:pt x="11" y="283"/>
                </a:lnTo>
                <a:lnTo>
                  <a:pt x="0" y="260"/>
                </a:lnTo>
                <a:lnTo>
                  <a:pt x="0" y="249"/>
                </a:lnTo>
                <a:lnTo>
                  <a:pt x="23" y="249"/>
                </a:lnTo>
                <a:lnTo>
                  <a:pt x="57" y="249"/>
                </a:lnTo>
                <a:lnTo>
                  <a:pt x="91" y="249"/>
                </a:lnTo>
                <a:lnTo>
                  <a:pt x="124" y="249"/>
                </a:lnTo>
                <a:lnTo>
                  <a:pt x="158" y="238"/>
                </a:lnTo>
                <a:lnTo>
                  <a:pt x="204" y="238"/>
                </a:lnTo>
                <a:lnTo>
                  <a:pt x="238" y="226"/>
                </a:lnTo>
                <a:lnTo>
                  <a:pt x="283" y="226"/>
                </a:lnTo>
                <a:lnTo>
                  <a:pt x="328" y="226"/>
                </a:lnTo>
                <a:lnTo>
                  <a:pt x="385" y="215"/>
                </a:lnTo>
                <a:lnTo>
                  <a:pt x="441" y="204"/>
                </a:lnTo>
                <a:lnTo>
                  <a:pt x="509" y="192"/>
                </a:lnTo>
                <a:lnTo>
                  <a:pt x="588" y="192"/>
                </a:lnTo>
                <a:lnTo>
                  <a:pt x="667" y="170"/>
                </a:lnTo>
                <a:lnTo>
                  <a:pt x="758" y="159"/>
                </a:lnTo>
                <a:lnTo>
                  <a:pt x="848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44"/>
          <p:cNvSpPr/>
          <p:nvPr/>
        </p:nvSpPr>
        <p:spPr>
          <a:xfrm>
            <a:off x="6248520" y="2470320"/>
            <a:ext cx="839520" cy="728640"/>
          </a:xfrm>
          <a:custGeom>
            <a:avLst/>
            <a:gdLst>
              <a:gd name="textAreaLeft" fmla="*/ 0 w 839520"/>
              <a:gd name="textAreaRight" fmla="*/ 839880 w 8395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1323" h="1119">
                <a:moveTo>
                  <a:pt x="215" y="1051"/>
                </a:moveTo>
                <a:lnTo>
                  <a:pt x="158" y="1074"/>
                </a:lnTo>
                <a:lnTo>
                  <a:pt x="124" y="1096"/>
                </a:lnTo>
                <a:lnTo>
                  <a:pt x="90" y="1108"/>
                </a:lnTo>
                <a:lnTo>
                  <a:pt x="56" y="1119"/>
                </a:lnTo>
                <a:lnTo>
                  <a:pt x="34" y="1119"/>
                </a:lnTo>
                <a:lnTo>
                  <a:pt x="11" y="1119"/>
                </a:lnTo>
                <a:lnTo>
                  <a:pt x="0" y="1119"/>
                </a:lnTo>
                <a:lnTo>
                  <a:pt x="0" y="1108"/>
                </a:lnTo>
                <a:lnTo>
                  <a:pt x="0" y="1096"/>
                </a:lnTo>
                <a:lnTo>
                  <a:pt x="23" y="1085"/>
                </a:lnTo>
                <a:lnTo>
                  <a:pt x="45" y="1063"/>
                </a:lnTo>
                <a:lnTo>
                  <a:pt x="79" y="1040"/>
                </a:lnTo>
                <a:lnTo>
                  <a:pt x="113" y="1017"/>
                </a:lnTo>
                <a:lnTo>
                  <a:pt x="158" y="983"/>
                </a:lnTo>
                <a:lnTo>
                  <a:pt x="215" y="949"/>
                </a:lnTo>
                <a:lnTo>
                  <a:pt x="316" y="882"/>
                </a:lnTo>
                <a:lnTo>
                  <a:pt x="418" y="814"/>
                </a:lnTo>
                <a:lnTo>
                  <a:pt x="509" y="735"/>
                </a:lnTo>
                <a:lnTo>
                  <a:pt x="599" y="667"/>
                </a:lnTo>
                <a:lnTo>
                  <a:pt x="667" y="599"/>
                </a:lnTo>
                <a:lnTo>
                  <a:pt x="735" y="531"/>
                </a:lnTo>
                <a:lnTo>
                  <a:pt x="803" y="452"/>
                </a:lnTo>
                <a:lnTo>
                  <a:pt x="870" y="384"/>
                </a:lnTo>
                <a:lnTo>
                  <a:pt x="893" y="339"/>
                </a:lnTo>
                <a:lnTo>
                  <a:pt x="916" y="305"/>
                </a:lnTo>
                <a:lnTo>
                  <a:pt x="938" y="282"/>
                </a:lnTo>
                <a:lnTo>
                  <a:pt x="950" y="249"/>
                </a:lnTo>
                <a:lnTo>
                  <a:pt x="961" y="226"/>
                </a:lnTo>
                <a:lnTo>
                  <a:pt x="961" y="215"/>
                </a:lnTo>
                <a:lnTo>
                  <a:pt x="961" y="203"/>
                </a:lnTo>
                <a:lnTo>
                  <a:pt x="961" y="192"/>
                </a:lnTo>
                <a:lnTo>
                  <a:pt x="938" y="192"/>
                </a:lnTo>
                <a:lnTo>
                  <a:pt x="916" y="181"/>
                </a:lnTo>
                <a:lnTo>
                  <a:pt x="882" y="192"/>
                </a:lnTo>
                <a:lnTo>
                  <a:pt x="848" y="192"/>
                </a:lnTo>
                <a:lnTo>
                  <a:pt x="803" y="203"/>
                </a:lnTo>
                <a:lnTo>
                  <a:pt x="757" y="203"/>
                </a:lnTo>
                <a:lnTo>
                  <a:pt x="712" y="203"/>
                </a:lnTo>
                <a:lnTo>
                  <a:pt x="656" y="203"/>
                </a:lnTo>
                <a:lnTo>
                  <a:pt x="610" y="215"/>
                </a:lnTo>
                <a:lnTo>
                  <a:pt x="576" y="215"/>
                </a:lnTo>
                <a:lnTo>
                  <a:pt x="543" y="215"/>
                </a:lnTo>
                <a:lnTo>
                  <a:pt x="509" y="203"/>
                </a:lnTo>
                <a:lnTo>
                  <a:pt x="486" y="192"/>
                </a:lnTo>
                <a:lnTo>
                  <a:pt x="475" y="181"/>
                </a:lnTo>
                <a:lnTo>
                  <a:pt x="463" y="169"/>
                </a:lnTo>
                <a:lnTo>
                  <a:pt x="452" y="158"/>
                </a:lnTo>
                <a:lnTo>
                  <a:pt x="441" y="147"/>
                </a:lnTo>
                <a:lnTo>
                  <a:pt x="430" y="124"/>
                </a:lnTo>
                <a:lnTo>
                  <a:pt x="418" y="102"/>
                </a:lnTo>
                <a:lnTo>
                  <a:pt x="497" y="102"/>
                </a:lnTo>
                <a:lnTo>
                  <a:pt x="565" y="102"/>
                </a:lnTo>
                <a:lnTo>
                  <a:pt x="622" y="102"/>
                </a:lnTo>
                <a:lnTo>
                  <a:pt x="678" y="90"/>
                </a:lnTo>
                <a:lnTo>
                  <a:pt x="735" y="90"/>
                </a:lnTo>
                <a:lnTo>
                  <a:pt x="780" y="90"/>
                </a:lnTo>
                <a:lnTo>
                  <a:pt x="825" y="79"/>
                </a:lnTo>
                <a:lnTo>
                  <a:pt x="859" y="79"/>
                </a:lnTo>
                <a:lnTo>
                  <a:pt x="893" y="68"/>
                </a:lnTo>
                <a:lnTo>
                  <a:pt x="916" y="68"/>
                </a:lnTo>
                <a:lnTo>
                  <a:pt x="938" y="56"/>
                </a:lnTo>
                <a:lnTo>
                  <a:pt x="961" y="45"/>
                </a:lnTo>
                <a:lnTo>
                  <a:pt x="983" y="45"/>
                </a:lnTo>
                <a:lnTo>
                  <a:pt x="995" y="34"/>
                </a:lnTo>
                <a:lnTo>
                  <a:pt x="1006" y="22"/>
                </a:lnTo>
                <a:lnTo>
                  <a:pt x="1017" y="22"/>
                </a:lnTo>
                <a:lnTo>
                  <a:pt x="1040" y="11"/>
                </a:lnTo>
                <a:lnTo>
                  <a:pt x="1063" y="0"/>
                </a:lnTo>
                <a:lnTo>
                  <a:pt x="1074" y="0"/>
                </a:lnTo>
                <a:lnTo>
                  <a:pt x="1097" y="0"/>
                </a:lnTo>
                <a:lnTo>
                  <a:pt x="1108" y="0"/>
                </a:lnTo>
                <a:lnTo>
                  <a:pt x="1130" y="11"/>
                </a:lnTo>
                <a:lnTo>
                  <a:pt x="1142" y="11"/>
                </a:lnTo>
                <a:lnTo>
                  <a:pt x="1153" y="22"/>
                </a:lnTo>
                <a:lnTo>
                  <a:pt x="1176" y="45"/>
                </a:lnTo>
                <a:lnTo>
                  <a:pt x="1198" y="56"/>
                </a:lnTo>
                <a:lnTo>
                  <a:pt x="1221" y="79"/>
                </a:lnTo>
                <a:lnTo>
                  <a:pt x="1243" y="102"/>
                </a:lnTo>
                <a:lnTo>
                  <a:pt x="1266" y="124"/>
                </a:lnTo>
                <a:lnTo>
                  <a:pt x="1277" y="136"/>
                </a:lnTo>
                <a:lnTo>
                  <a:pt x="1300" y="158"/>
                </a:lnTo>
                <a:lnTo>
                  <a:pt x="1311" y="169"/>
                </a:lnTo>
                <a:lnTo>
                  <a:pt x="1311" y="181"/>
                </a:lnTo>
                <a:lnTo>
                  <a:pt x="1323" y="192"/>
                </a:lnTo>
                <a:lnTo>
                  <a:pt x="1323" y="203"/>
                </a:lnTo>
                <a:lnTo>
                  <a:pt x="1300" y="215"/>
                </a:lnTo>
                <a:lnTo>
                  <a:pt x="1289" y="226"/>
                </a:lnTo>
                <a:lnTo>
                  <a:pt x="1255" y="237"/>
                </a:lnTo>
                <a:lnTo>
                  <a:pt x="1243" y="237"/>
                </a:lnTo>
                <a:lnTo>
                  <a:pt x="1210" y="260"/>
                </a:lnTo>
                <a:lnTo>
                  <a:pt x="1187" y="271"/>
                </a:lnTo>
                <a:lnTo>
                  <a:pt x="1153" y="305"/>
                </a:lnTo>
                <a:lnTo>
                  <a:pt x="1119" y="339"/>
                </a:lnTo>
                <a:lnTo>
                  <a:pt x="1085" y="373"/>
                </a:lnTo>
                <a:lnTo>
                  <a:pt x="1051" y="418"/>
                </a:lnTo>
                <a:lnTo>
                  <a:pt x="1006" y="475"/>
                </a:lnTo>
                <a:lnTo>
                  <a:pt x="972" y="520"/>
                </a:lnTo>
                <a:lnTo>
                  <a:pt x="927" y="576"/>
                </a:lnTo>
                <a:lnTo>
                  <a:pt x="882" y="622"/>
                </a:lnTo>
                <a:lnTo>
                  <a:pt x="837" y="667"/>
                </a:lnTo>
                <a:lnTo>
                  <a:pt x="780" y="701"/>
                </a:lnTo>
                <a:lnTo>
                  <a:pt x="735" y="746"/>
                </a:lnTo>
                <a:lnTo>
                  <a:pt x="633" y="814"/>
                </a:lnTo>
                <a:lnTo>
                  <a:pt x="531" y="882"/>
                </a:lnTo>
                <a:lnTo>
                  <a:pt x="418" y="949"/>
                </a:lnTo>
                <a:lnTo>
                  <a:pt x="316" y="1006"/>
                </a:lnTo>
                <a:lnTo>
                  <a:pt x="215" y="105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5"/>
          <p:cNvSpPr/>
          <p:nvPr/>
        </p:nvSpPr>
        <p:spPr>
          <a:xfrm>
            <a:off x="6541920" y="3029040"/>
            <a:ext cx="338400" cy="1220760"/>
          </a:xfrm>
          <a:custGeom>
            <a:avLst/>
            <a:gdLst>
              <a:gd name="textAreaLeft" fmla="*/ 0 w 338400"/>
              <a:gd name="textAreaRight" fmla="*/ 338760 w 338400"/>
              <a:gd name="textAreaTop" fmla="*/ 0 h 1220760"/>
              <a:gd name="textAreaBottom" fmla="*/ 1221120 h 1220760"/>
            </a:gdLst>
            <a:ahLst/>
            <a:rect l="textAreaLeft" t="textAreaTop" r="textAreaRight" b="textAreaBottom"/>
            <a:pathLst>
              <a:path w="532" h="1877">
                <a:moveTo>
                  <a:pt x="272" y="1775"/>
                </a:moveTo>
                <a:lnTo>
                  <a:pt x="260" y="1752"/>
                </a:lnTo>
                <a:lnTo>
                  <a:pt x="260" y="1730"/>
                </a:lnTo>
                <a:lnTo>
                  <a:pt x="238" y="1707"/>
                </a:lnTo>
                <a:lnTo>
                  <a:pt x="227" y="1685"/>
                </a:lnTo>
                <a:lnTo>
                  <a:pt x="204" y="1662"/>
                </a:lnTo>
                <a:lnTo>
                  <a:pt x="181" y="1639"/>
                </a:lnTo>
                <a:lnTo>
                  <a:pt x="147" y="1617"/>
                </a:lnTo>
                <a:lnTo>
                  <a:pt x="125" y="1594"/>
                </a:lnTo>
                <a:lnTo>
                  <a:pt x="91" y="1571"/>
                </a:lnTo>
                <a:lnTo>
                  <a:pt x="68" y="1560"/>
                </a:lnTo>
                <a:lnTo>
                  <a:pt x="46" y="1538"/>
                </a:lnTo>
                <a:lnTo>
                  <a:pt x="23" y="1526"/>
                </a:lnTo>
                <a:lnTo>
                  <a:pt x="12" y="1515"/>
                </a:lnTo>
                <a:lnTo>
                  <a:pt x="0" y="1504"/>
                </a:lnTo>
                <a:lnTo>
                  <a:pt x="0" y="1492"/>
                </a:lnTo>
                <a:lnTo>
                  <a:pt x="0" y="1481"/>
                </a:lnTo>
                <a:lnTo>
                  <a:pt x="12" y="1481"/>
                </a:lnTo>
                <a:lnTo>
                  <a:pt x="23" y="1481"/>
                </a:lnTo>
                <a:lnTo>
                  <a:pt x="34" y="1481"/>
                </a:lnTo>
                <a:lnTo>
                  <a:pt x="57" y="1481"/>
                </a:lnTo>
                <a:lnTo>
                  <a:pt x="80" y="1481"/>
                </a:lnTo>
                <a:lnTo>
                  <a:pt x="113" y="1481"/>
                </a:lnTo>
                <a:lnTo>
                  <a:pt x="147" y="1492"/>
                </a:lnTo>
                <a:lnTo>
                  <a:pt x="181" y="1492"/>
                </a:lnTo>
                <a:lnTo>
                  <a:pt x="215" y="1492"/>
                </a:lnTo>
                <a:lnTo>
                  <a:pt x="238" y="1504"/>
                </a:lnTo>
                <a:lnTo>
                  <a:pt x="272" y="1504"/>
                </a:lnTo>
                <a:lnTo>
                  <a:pt x="294" y="1504"/>
                </a:lnTo>
                <a:lnTo>
                  <a:pt x="306" y="1492"/>
                </a:lnTo>
                <a:lnTo>
                  <a:pt x="328" y="1492"/>
                </a:lnTo>
                <a:lnTo>
                  <a:pt x="340" y="1492"/>
                </a:lnTo>
                <a:lnTo>
                  <a:pt x="340" y="1481"/>
                </a:lnTo>
                <a:lnTo>
                  <a:pt x="351" y="1470"/>
                </a:lnTo>
                <a:lnTo>
                  <a:pt x="362" y="1436"/>
                </a:lnTo>
                <a:lnTo>
                  <a:pt x="362" y="1413"/>
                </a:lnTo>
                <a:lnTo>
                  <a:pt x="362" y="1368"/>
                </a:lnTo>
                <a:lnTo>
                  <a:pt x="374" y="1323"/>
                </a:lnTo>
                <a:lnTo>
                  <a:pt x="374" y="1278"/>
                </a:lnTo>
                <a:lnTo>
                  <a:pt x="374" y="1210"/>
                </a:lnTo>
                <a:lnTo>
                  <a:pt x="374" y="1153"/>
                </a:lnTo>
                <a:lnTo>
                  <a:pt x="374" y="1085"/>
                </a:lnTo>
                <a:lnTo>
                  <a:pt x="374" y="1006"/>
                </a:lnTo>
                <a:lnTo>
                  <a:pt x="374" y="938"/>
                </a:lnTo>
                <a:lnTo>
                  <a:pt x="374" y="848"/>
                </a:lnTo>
                <a:lnTo>
                  <a:pt x="362" y="757"/>
                </a:lnTo>
                <a:lnTo>
                  <a:pt x="362" y="667"/>
                </a:lnTo>
                <a:lnTo>
                  <a:pt x="362" y="565"/>
                </a:lnTo>
                <a:lnTo>
                  <a:pt x="362" y="509"/>
                </a:lnTo>
                <a:lnTo>
                  <a:pt x="351" y="464"/>
                </a:lnTo>
                <a:lnTo>
                  <a:pt x="351" y="418"/>
                </a:lnTo>
                <a:lnTo>
                  <a:pt x="351" y="384"/>
                </a:lnTo>
                <a:lnTo>
                  <a:pt x="340" y="339"/>
                </a:lnTo>
                <a:lnTo>
                  <a:pt x="340" y="305"/>
                </a:lnTo>
                <a:lnTo>
                  <a:pt x="340" y="271"/>
                </a:lnTo>
                <a:lnTo>
                  <a:pt x="328" y="249"/>
                </a:lnTo>
                <a:lnTo>
                  <a:pt x="328" y="215"/>
                </a:lnTo>
                <a:lnTo>
                  <a:pt x="317" y="192"/>
                </a:lnTo>
                <a:lnTo>
                  <a:pt x="317" y="170"/>
                </a:lnTo>
                <a:lnTo>
                  <a:pt x="306" y="158"/>
                </a:lnTo>
                <a:lnTo>
                  <a:pt x="306" y="147"/>
                </a:lnTo>
                <a:lnTo>
                  <a:pt x="294" y="136"/>
                </a:lnTo>
                <a:lnTo>
                  <a:pt x="294" y="124"/>
                </a:lnTo>
                <a:lnTo>
                  <a:pt x="283" y="113"/>
                </a:lnTo>
                <a:lnTo>
                  <a:pt x="260" y="90"/>
                </a:lnTo>
                <a:lnTo>
                  <a:pt x="249" y="79"/>
                </a:lnTo>
                <a:lnTo>
                  <a:pt x="238" y="45"/>
                </a:lnTo>
                <a:lnTo>
                  <a:pt x="249" y="23"/>
                </a:lnTo>
                <a:lnTo>
                  <a:pt x="249" y="11"/>
                </a:lnTo>
                <a:lnTo>
                  <a:pt x="260" y="11"/>
                </a:lnTo>
                <a:lnTo>
                  <a:pt x="272" y="0"/>
                </a:lnTo>
                <a:lnTo>
                  <a:pt x="294" y="0"/>
                </a:lnTo>
                <a:lnTo>
                  <a:pt x="317" y="0"/>
                </a:lnTo>
                <a:lnTo>
                  <a:pt x="340" y="0"/>
                </a:lnTo>
                <a:lnTo>
                  <a:pt x="362" y="0"/>
                </a:lnTo>
                <a:lnTo>
                  <a:pt x="396" y="11"/>
                </a:lnTo>
                <a:lnTo>
                  <a:pt x="430" y="23"/>
                </a:lnTo>
                <a:lnTo>
                  <a:pt x="453" y="34"/>
                </a:lnTo>
                <a:lnTo>
                  <a:pt x="475" y="34"/>
                </a:lnTo>
                <a:lnTo>
                  <a:pt x="487" y="45"/>
                </a:lnTo>
                <a:lnTo>
                  <a:pt x="509" y="57"/>
                </a:lnTo>
                <a:lnTo>
                  <a:pt x="509" y="68"/>
                </a:lnTo>
                <a:lnTo>
                  <a:pt x="520" y="79"/>
                </a:lnTo>
                <a:lnTo>
                  <a:pt x="520" y="90"/>
                </a:lnTo>
                <a:lnTo>
                  <a:pt x="520" y="113"/>
                </a:lnTo>
                <a:lnTo>
                  <a:pt x="520" y="136"/>
                </a:lnTo>
                <a:lnTo>
                  <a:pt x="520" y="170"/>
                </a:lnTo>
                <a:lnTo>
                  <a:pt x="509" y="204"/>
                </a:lnTo>
                <a:lnTo>
                  <a:pt x="509" y="226"/>
                </a:lnTo>
                <a:lnTo>
                  <a:pt x="509" y="237"/>
                </a:lnTo>
                <a:lnTo>
                  <a:pt x="509" y="260"/>
                </a:lnTo>
                <a:lnTo>
                  <a:pt x="498" y="283"/>
                </a:lnTo>
                <a:lnTo>
                  <a:pt x="498" y="305"/>
                </a:lnTo>
                <a:lnTo>
                  <a:pt x="498" y="339"/>
                </a:lnTo>
                <a:lnTo>
                  <a:pt x="498" y="362"/>
                </a:lnTo>
                <a:lnTo>
                  <a:pt x="498" y="396"/>
                </a:lnTo>
                <a:lnTo>
                  <a:pt x="498" y="441"/>
                </a:lnTo>
                <a:lnTo>
                  <a:pt x="498" y="475"/>
                </a:lnTo>
                <a:lnTo>
                  <a:pt x="498" y="520"/>
                </a:lnTo>
                <a:lnTo>
                  <a:pt x="498" y="565"/>
                </a:lnTo>
                <a:lnTo>
                  <a:pt x="509" y="622"/>
                </a:lnTo>
                <a:lnTo>
                  <a:pt x="509" y="667"/>
                </a:lnTo>
                <a:lnTo>
                  <a:pt x="509" y="724"/>
                </a:lnTo>
                <a:lnTo>
                  <a:pt x="509" y="791"/>
                </a:lnTo>
                <a:lnTo>
                  <a:pt x="509" y="904"/>
                </a:lnTo>
                <a:lnTo>
                  <a:pt x="520" y="1018"/>
                </a:lnTo>
                <a:lnTo>
                  <a:pt x="520" y="1119"/>
                </a:lnTo>
                <a:lnTo>
                  <a:pt x="520" y="1210"/>
                </a:lnTo>
                <a:lnTo>
                  <a:pt x="520" y="1300"/>
                </a:lnTo>
                <a:lnTo>
                  <a:pt x="532" y="1379"/>
                </a:lnTo>
                <a:lnTo>
                  <a:pt x="520" y="1447"/>
                </a:lnTo>
                <a:lnTo>
                  <a:pt x="520" y="1504"/>
                </a:lnTo>
                <a:lnTo>
                  <a:pt x="520" y="1560"/>
                </a:lnTo>
                <a:lnTo>
                  <a:pt x="509" y="1605"/>
                </a:lnTo>
                <a:lnTo>
                  <a:pt x="509" y="1651"/>
                </a:lnTo>
                <a:lnTo>
                  <a:pt x="498" y="1696"/>
                </a:lnTo>
                <a:lnTo>
                  <a:pt x="487" y="1730"/>
                </a:lnTo>
                <a:lnTo>
                  <a:pt x="487" y="1764"/>
                </a:lnTo>
                <a:lnTo>
                  <a:pt x="475" y="1786"/>
                </a:lnTo>
                <a:lnTo>
                  <a:pt x="464" y="1809"/>
                </a:lnTo>
                <a:lnTo>
                  <a:pt x="430" y="1831"/>
                </a:lnTo>
                <a:lnTo>
                  <a:pt x="407" y="1854"/>
                </a:lnTo>
                <a:lnTo>
                  <a:pt x="385" y="1865"/>
                </a:lnTo>
                <a:lnTo>
                  <a:pt x="374" y="1877"/>
                </a:lnTo>
                <a:lnTo>
                  <a:pt x="362" y="1877"/>
                </a:lnTo>
                <a:lnTo>
                  <a:pt x="351" y="1877"/>
                </a:lnTo>
                <a:lnTo>
                  <a:pt x="328" y="1865"/>
                </a:lnTo>
                <a:lnTo>
                  <a:pt x="317" y="1865"/>
                </a:lnTo>
                <a:lnTo>
                  <a:pt x="306" y="1854"/>
                </a:lnTo>
                <a:lnTo>
                  <a:pt x="306" y="1843"/>
                </a:lnTo>
                <a:lnTo>
                  <a:pt x="294" y="1820"/>
                </a:lnTo>
                <a:lnTo>
                  <a:pt x="283" y="1809"/>
                </a:lnTo>
                <a:lnTo>
                  <a:pt x="272" y="17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7"/>
          <p:cNvSpPr/>
          <p:nvPr/>
        </p:nvSpPr>
        <p:spPr>
          <a:xfrm>
            <a:off x="5889600" y="2344680"/>
            <a:ext cx="187200" cy="1854360"/>
          </a:xfrm>
          <a:custGeom>
            <a:avLst/>
            <a:gdLst>
              <a:gd name="textAreaLeft" fmla="*/ 0 w 187200"/>
              <a:gd name="textAreaRight" fmla="*/ 187560 w 18720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294" h="2849">
                <a:moveTo>
                  <a:pt x="248" y="1650"/>
                </a:moveTo>
                <a:lnTo>
                  <a:pt x="248" y="1775"/>
                </a:lnTo>
                <a:lnTo>
                  <a:pt x="248" y="1888"/>
                </a:lnTo>
                <a:lnTo>
                  <a:pt x="248" y="1989"/>
                </a:lnTo>
                <a:lnTo>
                  <a:pt x="248" y="2091"/>
                </a:lnTo>
                <a:lnTo>
                  <a:pt x="248" y="2182"/>
                </a:lnTo>
                <a:lnTo>
                  <a:pt x="248" y="2261"/>
                </a:lnTo>
                <a:lnTo>
                  <a:pt x="248" y="2340"/>
                </a:lnTo>
                <a:lnTo>
                  <a:pt x="237" y="2408"/>
                </a:lnTo>
                <a:lnTo>
                  <a:pt x="237" y="2475"/>
                </a:lnTo>
                <a:lnTo>
                  <a:pt x="237" y="2532"/>
                </a:lnTo>
                <a:lnTo>
                  <a:pt x="237" y="2577"/>
                </a:lnTo>
                <a:lnTo>
                  <a:pt x="226" y="2622"/>
                </a:lnTo>
                <a:lnTo>
                  <a:pt x="226" y="2668"/>
                </a:lnTo>
                <a:lnTo>
                  <a:pt x="226" y="2702"/>
                </a:lnTo>
                <a:lnTo>
                  <a:pt x="214" y="2724"/>
                </a:lnTo>
                <a:lnTo>
                  <a:pt x="214" y="2736"/>
                </a:lnTo>
                <a:lnTo>
                  <a:pt x="203" y="2758"/>
                </a:lnTo>
                <a:lnTo>
                  <a:pt x="192" y="2781"/>
                </a:lnTo>
                <a:lnTo>
                  <a:pt x="181" y="2803"/>
                </a:lnTo>
                <a:lnTo>
                  <a:pt x="181" y="2815"/>
                </a:lnTo>
                <a:lnTo>
                  <a:pt x="169" y="2826"/>
                </a:lnTo>
                <a:lnTo>
                  <a:pt x="158" y="2837"/>
                </a:lnTo>
                <a:lnTo>
                  <a:pt x="147" y="2849"/>
                </a:lnTo>
                <a:lnTo>
                  <a:pt x="147" y="2837"/>
                </a:lnTo>
                <a:lnTo>
                  <a:pt x="135" y="2826"/>
                </a:lnTo>
                <a:lnTo>
                  <a:pt x="135" y="2815"/>
                </a:lnTo>
                <a:lnTo>
                  <a:pt x="124" y="2803"/>
                </a:lnTo>
                <a:lnTo>
                  <a:pt x="113" y="2781"/>
                </a:lnTo>
                <a:lnTo>
                  <a:pt x="101" y="2769"/>
                </a:lnTo>
                <a:lnTo>
                  <a:pt x="101" y="2736"/>
                </a:lnTo>
                <a:lnTo>
                  <a:pt x="90" y="2713"/>
                </a:lnTo>
                <a:lnTo>
                  <a:pt x="79" y="2679"/>
                </a:lnTo>
                <a:lnTo>
                  <a:pt x="67" y="2656"/>
                </a:lnTo>
                <a:lnTo>
                  <a:pt x="67" y="2634"/>
                </a:lnTo>
                <a:lnTo>
                  <a:pt x="56" y="2611"/>
                </a:lnTo>
                <a:lnTo>
                  <a:pt x="56" y="2589"/>
                </a:lnTo>
                <a:lnTo>
                  <a:pt x="56" y="2577"/>
                </a:lnTo>
                <a:lnTo>
                  <a:pt x="45" y="2555"/>
                </a:lnTo>
                <a:lnTo>
                  <a:pt x="56" y="2543"/>
                </a:lnTo>
                <a:lnTo>
                  <a:pt x="56" y="2532"/>
                </a:lnTo>
                <a:lnTo>
                  <a:pt x="56" y="2521"/>
                </a:lnTo>
                <a:lnTo>
                  <a:pt x="56" y="2498"/>
                </a:lnTo>
                <a:lnTo>
                  <a:pt x="67" y="2464"/>
                </a:lnTo>
                <a:lnTo>
                  <a:pt x="67" y="2430"/>
                </a:lnTo>
                <a:lnTo>
                  <a:pt x="79" y="2385"/>
                </a:lnTo>
                <a:lnTo>
                  <a:pt x="90" y="2340"/>
                </a:lnTo>
                <a:lnTo>
                  <a:pt x="90" y="2317"/>
                </a:lnTo>
                <a:lnTo>
                  <a:pt x="90" y="2295"/>
                </a:lnTo>
                <a:lnTo>
                  <a:pt x="90" y="2261"/>
                </a:lnTo>
                <a:lnTo>
                  <a:pt x="101" y="2238"/>
                </a:lnTo>
                <a:lnTo>
                  <a:pt x="101" y="2170"/>
                </a:lnTo>
                <a:lnTo>
                  <a:pt x="101" y="2091"/>
                </a:lnTo>
                <a:lnTo>
                  <a:pt x="113" y="2001"/>
                </a:lnTo>
                <a:lnTo>
                  <a:pt x="113" y="1910"/>
                </a:lnTo>
                <a:lnTo>
                  <a:pt x="124" y="1808"/>
                </a:lnTo>
                <a:lnTo>
                  <a:pt x="124" y="1695"/>
                </a:lnTo>
                <a:lnTo>
                  <a:pt x="124" y="1582"/>
                </a:lnTo>
                <a:lnTo>
                  <a:pt x="124" y="1481"/>
                </a:lnTo>
                <a:lnTo>
                  <a:pt x="124" y="1390"/>
                </a:lnTo>
                <a:lnTo>
                  <a:pt x="124" y="1300"/>
                </a:lnTo>
                <a:lnTo>
                  <a:pt x="124" y="1209"/>
                </a:lnTo>
                <a:lnTo>
                  <a:pt x="124" y="1141"/>
                </a:lnTo>
                <a:lnTo>
                  <a:pt x="124" y="1074"/>
                </a:lnTo>
                <a:lnTo>
                  <a:pt x="124" y="1006"/>
                </a:lnTo>
                <a:lnTo>
                  <a:pt x="124" y="949"/>
                </a:lnTo>
                <a:lnTo>
                  <a:pt x="124" y="893"/>
                </a:lnTo>
                <a:lnTo>
                  <a:pt x="124" y="825"/>
                </a:lnTo>
                <a:lnTo>
                  <a:pt x="124" y="757"/>
                </a:lnTo>
                <a:lnTo>
                  <a:pt x="124" y="689"/>
                </a:lnTo>
                <a:lnTo>
                  <a:pt x="124" y="610"/>
                </a:lnTo>
                <a:lnTo>
                  <a:pt x="113" y="531"/>
                </a:lnTo>
                <a:lnTo>
                  <a:pt x="113" y="452"/>
                </a:lnTo>
                <a:lnTo>
                  <a:pt x="113" y="373"/>
                </a:lnTo>
                <a:lnTo>
                  <a:pt x="101" y="316"/>
                </a:lnTo>
                <a:lnTo>
                  <a:pt x="90" y="248"/>
                </a:lnTo>
                <a:lnTo>
                  <a:pt x="90" y="203"/>
                </a:lnTo>
                <a:lnTo>
                  <a:pt x="79" y="169"/>
                </a:lnTo>
                <a:lnTo>
                  <a:pt x="67" y="135"/>
                </a:lnTo>
                <a:lnTo>
                  <a:pt x="56" y="113"/>
                </a:lnTo>
                <a:lnTo>
                  <a:pt x="34" y="90"/>
                </a:lnTo>
                <a:lnTo>
                  <a:pt x="11" y="79"/>
                </a:lnTo>
                <a:lnTo>
                  <a:pt x="0" y="67"/>
                </a:lnTo>
                <a:lnTo>
                  <a:pt x="0" y="45"/>
                </a:lnTo>
                <a:lnTo>
                  <a:pt x="0" y="11"/>
                </a:lnTo>
                <a:lnTo>
                  <a:pt x="11" y="11"/>
                </a:lnTo>
                <a:lnTo>
                  <a:pt x="22" y="0"/>
                </a:lnTo>
                <a:lnTo>
                  <a:pt x="34" y="0"/>
                </a:lnTo>
                <a:lnTo>
                  <a:pt x="45" y="0"/>
                </a:lnTo>
                <a:lnTo>
                  <a:pt x="67" y="0"/>
                </a:lnTo>
                <a:lnTo>
                  <a:pt x="90" y="0"/>
                </a:lnTo>
                <a:lnTo>
                  <a:pt x="124" y="11"/>
                </a:lnTo>
                <a:lnTo>
                  <a:pt x="147" y="11"/>
                </a:lnTo>
                <a:lnTo>
                  <a:pt x="181" y="34"/>
                </a:lnTo>
                <a:lnTo>
                  <a:pt x="203" y="45"/>
                </a:lnTo>
                <a:lnTo>
                  <a:pt x="226" y="56"/>
                </a:lnTo>
                <a:lnTo>
                  <a:pt x="248" y="67"/>
                </a:lnTo>
                <a:lnTo>
                  <a:pt x="260" y="79"/>
                </a:lnTo>
                <a:lnTo>
                  <a:pt x="271" y="79"/>
                </a:lnTo>
                <a:lnTo>
                  <a:pt x="282" y="90"/>
                </a:lnTo>
                <a:lnTo>
                  <a:pt x="294" y="90"/>
                </a:lnTo>
                <a:lnTo>
                  <a:pt x="294" y="101"/>
                </a:lnTo>
                <a:lnTo>
                  <a:pt x="294" y="113"/>
                </a:lnTo>
                <a:lnTo>
                  <a:pt x="294" y="135"/>
                </a:lnTo>
                <a:lnTo>
                  <a:pt x="294" y="158"/>
                </a:lnTo>
                <a:lnTo>
                  <a:pt x="294" y="192"/>
                </a:lnTo>
                <a:lnTo>
                  <a:pt x="282" y="214"/>
                </a:lnTo>
                <a:lnTo>
                  <a:pt x="282" y="237"/>
                </a:lnTo>
                <a:lnTo>
                  <a:pt x="271" y="260"/>
                </a:lnTo>
                <a:lnTo>
                  <a:pt x="271" y="294"/>
                </a:lnTo>
                <a:lnTo>
                  <a:pt x="271" y="339"/>
                </a:lnTo>
                <a:lnTo>
                  <a:pt x="260" y="373"/>
                </a:lnTo>
                <a:lnTo>
                  <a:pt x="260" y="418"/>
                </a:lnTo>
                <a:lnTo>
                  <a:pt x="260" y="463"/>
                </a:lnTo>
                <a:lnTo>
                  <a:pt x="260" y="497"/>
                </a:lnTo>
                <a:lnTo>
                  <a:pt x="260" y="531"/>
                </a:lnTo>
                <a:lnTo>
                  <a:pt x="260" y="576"/>
                </a:lnTo>
                <a:lnTo>
                  <a:pt x="260" y="621"/>
                </a:lnTo>
                <a:lnTo>
                  <a:pt x="260" y="678"/>
                </a:lnTo>
                <a:lnTo>
                  <a:pt x="260" y="734"/>
                </a:lnTo>
                <a:lnTo>
                  <a:pt x="260" y="802"/>
                </a:lnTo>
                <a:lnTo>
                  <a:pt x="260" y="870"/>
                </a:lnTo>
                <a:lnTo>
                  <a:pt x="260" y="949"/>
                </a:lnTo>
                <a:lnTo>
                  <a:pt x="260" y="1028"/>
                </a:lnTo>
                <a:lnTo>
                  <a:pt x="260" y="1119"/>
                </a:lnTo>
                <a:lnTo>
                  <a:pt x="260" y="1221"/>
                </a:lnTo>
                <a:lnTo>
                  <a:pt x="260" y="1322"/>
                </a:lnTo>
                <a:lnTo>
                  <a:pt x="260" y="1424"/>
                </a:lnTo>
                <a:lnTo>
                  <a:pt x="248" y="1537"/>
                </a:lnTo>
                <a:lnTo>
                  <a:pt x="248" y="16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reeform 34"/>
          <p:cNvSpPr/>
          <p:nvPr/>
        </p:nvSpPr>
        <p:spPr>
          <a:xfrm>
            <a:off x="5508720" y="3529080"/>
            <a:ext cx="644400" cy="307800"/>
          </a:xfrm>
          <a:custGeom>
            <a:avLst/>
            <a:gdLst>
              <a:gd name="textAreaLeft" fmla="*/ 0 w 644400"/>
              <a:gd name="textAreaRight" fmla="*/ 644760 w 64440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017" h="475">
                <a:moveTo>
                  <a:pt x="158" y="475"/>
                </a:moveTo>
                <a:lnTo>
                  <a:pt x="147" y="475"/>
                </a:lnTo>
                <a:lnTo>
                  <a:pt x="124" y="475"/>
                </a:lnTo>
                <a:lnTo>
                  <a:pt x="113" y="464"/>
                </a:lnTo>
                <a:lnTo>
                  <a:pt x="101" y="452"/>
                </a:lnTo>
                <a:lnTo>
                  <a:pt x="90" y="441"/>
                </a:lnTo>
                <a:lnTo>
                  <a:pt x="67" y="418"/>
                </a:lnTo>
                <a:lnTo>
                  <a:pt x="56" y="396"/>
                </a:lnTo>
                <a:lnTo>
                  <a:pt x="45" y="373"/>
                </a:lnTo>
                <a:lnTo>
                  <a:pt x="34" y="351"/>
                </a:lnTo>
                <a:lnTo>
                  <a:pt x="11" y="328"/>
                </a:lnTo>
                <a:lnTo>
                  <a:pt x="11" y="305"/>
                </a:lnTo>
                <a:lnTo>
                  <a:pt x="0" y="294"/>
                </a:lnTo>
                <a:lnTo>
                  <a:pt x="0" y="271"/>
                </a:lnTo>
                <a:lnTo>
                  <a:pt x="0" y="260"/>
                </a:lnTo>
                <a:lnTo>
                  <a:pt x="0" y="249"/>
                </a:lnTo>
                <a:lnTo>
                  <a:pt x="11" y="249"/>
                </a:lnTo>
                <a:lnTo>
                  <a:pt x="22" y="238"/>
                </a:lnTo>
                <a:lnTo>
                  <a:pt x="45" y="238"/>
                </a:lnTo>
                <a:lnTo>
                  <a:pt x="67" y="226"/>
                </a:lnTo>
                <a:lnTo>
                  <a:pt x="90" y="226"/>
                </a:lnTo>
                <a:lnTo>
                  <a:pt x="124" y="238"/>
                </a:lnTo>
                <a:lnTo>
                  <a:pt x="147" y="238"/>
                </a:lnTo>
                <a:lnTo>
                  <a:pt x="169" y="238"/>
                </a:lnTo>
                <a:lnTo>
                  <a:pt x="192" y="226"/>
                </a:lnTo>
                <a:lnTo>
                  <a:pt x="203" y="226"/>
                </a:lnTo>
                <a:lnTo>
                  <a:pt x="226" y="226"/>
                </a:lnTo>
                <a:lnTo>
                  <a:pt x="248" y="215"/>
                </a:lnTo>
                <a:lnTo>
                  <a:pt x="260" y="215"/>
                </a:lnTo>
                <a:lnTo>
                  <a:pt x="282" y="215"/>
                </a:lnTo>
                <a:lnTo>
                  <a:pt x="305" y="204"/>
                </a:lnTo>
                <a:lnTo>
                  <a:pt x="327" y="192"/>
                </a:lnTo>
                <a:lnTo>
                  <a:pt x="361" y="181"/>
                </a:lnTo>
                <a:lnTo>
                  <a:pt x="384" y="181"/>
                </a:lnTo>
                <a:lnTo>
                  <a:pt x="418" y="170"/>
                </a:lnTo>
                <a:lnTo>
                  <a:pt x="452" y="158"/>
                </a:lnTo>
                <a:lnTo>
                  <a:pt x="486" y="147"/>
                </a:lnTo>
                <a:lnTo>
                  <a:pt x="531" y="124"/>
                </a:lnTo>
                <a:lnTo>
                  <a:pt x="576" y="113"/>
                </a:lnTo>
                <a:lnTo>
                  <a:pt x="621" y="102"/>
                </a:lnTo>
                <a:lnTo>
                  <a:pt x="655" y="91"/>
                </a:lnTo>
                <a:lnTo>
                  <a:pt x="689" y="79"/>
                </a:lnTo>
                <a:lnTo>
                  <a:pt x="723" y="57"/>
                </a:lnTo>
                <a:lnTo>
                  <a:pt x="757" y="57"/>
                </a:lnTo>
                <a:lnTo>
                  <a:pt x="791" y="45"/>
                </a:lnTo>
                <a:lnTo>
                  <a:pt x="847" y="23"/>
                </a:lnTo>
                <a:lnTo>
                  <a:pt x="893" y="11"/>
                </a:lnTo>
                <a:lnTo>
                  <a:pt x="927" y="0"/>
                </a:lnTo>
                <a:lnTo>
                  <a:pt x="949" y="0"/>
                </a:lnTo>
                <a:lnTo>
                  <a:pt x="972" y="0"/>
                </a:lnTo>
                <a:lnTo>
                  <a:pt x="994" y="0"/>
                </a:lnTo>
                <a:lnTo>
                  <a:pt x="1006" y="0"/>
                </a:lnTo>
                <a:lnTo>
                  <a:pt x="1017" y="0"/>
                </a:lnTo>
                <a:lnTo>
                  <a:pt x="1017" y="11"/>
                </a:lnTo>
                <a:lnTo>
                  <a:pt x="1006" y="23"/>
                </a:lnTo>
                <a:lnTo>
                  <a:pt x="994" y="34"/>
                </a:lnTo>
                <a:lnTo>
                  <a:pt x="972" y="45"/>
                </a:lnTo>
                <a:lnTo>
                  <a:pt x="961" y="57"/>
                </a:lnTo>
                <a:lnTo>
                  <a:pt x="938" y="68"/>
                </a:lnTo>
                <a:lnTo>
                  <a:pt x="915" y="79"/>
                </a:lnTo>
                <a:lnTo>
                  <a:pt x="893" y="102"/>
                </a:lnTo>
                <a:lnTo>
                  <a:pt x="859" y="113"/>
                </a:lnTo>
                <a:lnTo>
                  <a:pt x="825" y="136"/>
                </a:lnTo>
                <a:lnTo>
                  <a:pt x="791" y="158"/>
                </a:lnTo>
                <a:lnTo>
                  <a:pt x="757" y="181"/>
                </a:lnTo>
                <a:lnTo>
                  <a:pt x="712" y="204"/>
                </a:lnTo>
                <a:lnTo>
                  <a:pt x="667" y="226"/>
                </a:lnTo>
                <a:lnTo>
                  <a:pt x="621" y="260"/>
                </a:lnTo>
                <a:lnTo>
                  <a:pt x="576" y="283"/>
                </a:lnTo>
                <a:lnTo>
                  <a:pt x="531" y="305"/>
                </a:lnTo>
                <a:lnTo>
                  <a:pt x="486" y="328"/>
                </a:lnTo>
                <a:lnTo>
                  <a:pt x="441" y="351"/>
                </a:lnTo>
                <a:lnTo>
                  <a:pt x="407" y="373"/>
                </a:lnTo>
                <a:lnTo>
                  <a:pt x="361" y="396"/>
                </a:lnTo>
                <a:lnTo>
                  <a:pt x="327" y="407"/>
                </a:lnTo>
                <a:lnTo>
                  <a:pt x="305" y="418"/>
                </a:lnTo>
                <a:lnTo>
                  <a:pt x="271" y="441"/>
                </a:lnTo>
                <a:lnTo>
                  <a:pt x="248" y="452"/>
                </a:lnTo>
                <a:lnTo>
                  <a:pt x="226" y="452"/>
                </a:lnTo>
                <a:lnTo>
                  <a:pt x="203" y="464"/>
                </a:lnTo>
                <a:lnTo>
                  <a:pt x="192" y="475"/>
                </a:lnTo>
                <a:lnTo>
                  <a:pt x="180" y="475"/>
                </a:lnTo>
                <a:lnTo>
                  <a:pt x="169" y="475"/>
                </a:lnTo>
                <a:lnTo>
                  <a:pt x="158" y="4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纷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ē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8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Box 37"/>
          <p:cNvSpPr/>
          <p:nvPr/>
        </p:nvSpPr>
        <p:spPr>
          <a:xfrm>
            <a:off x="4621320" y="4898880"/>
            <a:ext cx="4074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刀的横折钩接近横中线，注意笔画穿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3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纷飞   纷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4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大雪纷飞的日子里，他依旧坚持站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7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30"/>
          <p:cNvSpPr/>
          <p:nvPr/>
        </p:nvSpPr>
        <p:spPr>
          <a:xfrm>
            <a:off x="5565600" y="2344680"/>
            <a:ext cx="438480" cy="720720"/>
          </a:xfrm>
          <a:custGeom>
            <a:avLst/>
            <a:gdLst>
              <a:gd name="textAreaLeft" fmla="*/ 0 w 438480"/>
              <a:gd name="textAreaRight" fmla="*/ 438840 w 4384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690" h="1108">
                <a:moveTo>
                  <a:pt x="260" y="1074"/>
                </a:moveTo>
                <a:lnTo>
                  <a:pt x="215" y="1085"/>
                </a:lnTo>
                <a:lnTo>
                  <a:pt x="181" y="1108"/>
                </a:lnTo>
                <a:lnTo>
                  <a:pt x="147" y="1108"/>
                </a:lnTo>
                <a:lnTo>
                  <a:pt x="113" y="1108"/>
                </a:lnTo>
                <a:lnTo>
                  <a:pt x="90" y="1108"/>
                </a:lnTo>
                <a:lnTo>
                  <a:pt x="68" y="1097"/>
                </a:lnTo>
                <a:lnTo>
                  <a:pt x="57" y="1085"/>
                </a:lnTo>
                <a:lnTo>
                  <a:pt x="45" y="1074"/>
                </a:lnTo>
                <a:lnTo>
                  <a:pt x="45" y="1063"/>
                </a:lnTo>
                <a:lnTo>
                  <a:pt x="23" y="1029"/>
                </a:lnTo>
                <a:lnTo>
                  <a:pt x="11" y="1006"/>
                </a:lnTo>
                <a:lnTo>
                  <a:pt x="11" y="984"/>
                </a:lnTo>
                <a:lnTo>
                  <a:pt x="0" y="961"/>
                </a:lnTo>
                <a:lnTo>
                  <a:pt x="11" y="927"/>
                </a:lnTo>
                <a:lnTo>
                  <a:pt x="23" y="904"/>
                </a:lnTo>
                <a:lnTo>
                  <a:pt x="45" y="893"/>
                </a:lnTo>
                <a:lnTo>
                  <a:pt x="68" y="882"/>
                </a:lnTo>
                <a:lnTo>
                  <a:pt x="79" y="870"/>
                </a:lnTo>
                <a:lnTo>
                  <a:pt x="102" y="859"/>
                </a:lnTo>
                <a:lnTo>
                  <a:pt x="113" y="837"/>
                </a:lnTo>
                <a:lnTo>
                  <a:pt x="136" y="814"/>
                </a:lnTo>
                <a:lnTo>
                  <a:pt x="158" y="780"/>
                </a:lnTo>
                <a:lnTo>
                  <a:pt x="181" y="746"/>
                </a:lnTo>
                <a:lnTo>
                  <a:pt x="215" y="712"/>
                </a:lnTo>
                <a:lnTo>
                  <a:pt x="237" y="667"/>
                </a:lnTo>
                <a:lnTo>
                  <a:pt x="294" y="577"/>
                </a:lnTo>
                <a:lnTo>
                  <a:pt x="339" y="486"/>
                </a:lnTo>
                <a:lnTo>
                  <a:pt x="384" y="396"/>
                </a:lnTo>
                <a:lnTo>
                  <a:pt x="430" y="305"/>
                </a:lnTo>
                <a:lnTo>
                  <a:pt x="452" y="260"/>
                </a:lnTo>
                <a:lnTo>
                  <a:pt x="464" y="226"/>
                </a:lnTo>
                <a:lnTo>
                  <a:pt x="475" y="192"/>
                </a:lnTo>
                <a:lnTo>
                  <a:pt x="486" y="158"/>
                </a:lnTo>
                <a:lnTo>
                  <a:pt x="486" y="136"/>
                </a:lnTo>
                <a:lnTo>
                  <a:pt x="486" y="113"/>
                </a:lnTo>
                <a:lnTo>
                  <a:pt x="486" y="102"/>
                </a:lnTo>
                <a:lnTo>
                  <a:pt x="486" y="79"/>
                </a:lnTo>
                <a:lnTo>
                  <a:pt x="475" y="56"/>
                </a:lnTo>
                <a:lnTo>
                  <a:pt x="475" y="34"/>
                </a:lnTo>
                <a:lnTo>
                  <a:pt x="475" y="11"/>
                </a:lnTo>
                <a:lnTo>
                  <a:pt x="486" y="0"/>
                </a:lnTo>
                <a:lnTo>
                  <a:pt x="497" y="0"/>
                </a:lnTo>
                <a:lnTo>
                  <a:pt x="509" y="0"/>
                </a:lnTo>
                <a:lnTo>
                  <a:pt x="520" y="0"/>
                </a:lnTo>
                <a:lnTo>
                  <a:pt x="531" y="11"/>
                </a:lnTo>
                <a:lnTo>
                  <a:pt x="543" y="23"/>
                </a:lnTo>
                <a:lnTo>
                  <a:pt x="554" y="34"/>
                </a:lnTo>
                <a:lnTo>
                  <a:pt x="565" y="45"/>
                </a:lnTo>
                <a:lnTo>
                  <a:pt x="599" y="68"/>
                </a:lnTo>
                <a:lnTo>
                  <a:pt x="622" y="90"/>
                </a:lnTo>
                <a:lnTo>
                  <a:pt x="644" y="124"/>
                </a:lnTo>
                <a:lnTo>
                  <a:pt x="667" y="147"/>
                </a:lnTo>
                <a:lnTo>
                  <a:pt x="678" y="170"/>
                </a:lnTo>
                <a:lnTo>
                  <a:pt x="678" y="192"/>
                </a:lnTo>
                <a:lnTo>
                  <a:pt x="690" y="215"/>
                </a:lnTo>
                <a:lnTo>
                  <a:pt x="678" y="237"/>
                </a:lnTo>
                <a:lnTo>
                  <a:pt x="667" y="260"/>
                </a:lnTo>
                <a:lnTo>
                  <a:pt x="667" y="271"/>
                </a:lnTo>
                <a:lnTo>
                  <a:pt x="656" y="294"/>
                </a:lnTo>
                <a:lnTo>
                  <a:pt x="644" y="305"/>
                </a:lnTo>
                <a:lnTo>
                  <a:pt x="633" y="305"/>
                </a:lnTo>
                <a:lnTo>
                  <a:pt x="622" y="317"/>
                </a:lnTo>
                <a:lnTo>
                  <a:pt x="611" y="339"/>
                </a:lnTo>
                <a:lnTo>
                  <a:pt x="599" y="350"/>
                </a:lnTo>
                <a:lnTo>
                  <a:pt x="577" y="373"/>
                </a:lnTo>
                <a:lnTo>
                  <a:pt x="565" y="396"/>
                </a:lnTo>
                <a:lnTo>
                  <a:pt x="543" y="430"/>
                </a:lnTo>
                <a:lnTo>
                  <a:pt x="520" y="463"/>
                </a:lnTo>
                <a:lnTo>
                  <a:pt x="475" y="531"/>
                </a:lnTo>
                <a:lnTo>
                  <a:pt x="430" y="599"/>
                </a:lnTo>
                <a:lnTo>
                  <a:pt x="373" y="678"/>
                </a:lnTo>
                <a:lnTo>
                  <a:pt x="328" y="746"/>
                </a:lnTo>
                <a:lnTo>
                  <a:pt x="294" y="780"/>
                </a:lnTo>
                <a:lnTo>
                  <a:pt x="271" y="814"/>
                </a:lnTo>
                <a:lnTo>
                  <a:pt x="260" y="848"/>
                </a:lnTo>
                <a:lnTo>
                  <a:pt x="237" y="870"/>
                </a:lnTo>
                <a:lnTo>
                  <a:pt x="237" y="882"/>
                </a:lnTo>
                <a:lnTo>
                  <a:pt x="226" y="904"/>
                </a:lnTo>
                <a:lnTo>
                  <a:pt x="226" y="916"/>
                </a:lnTo>
                <a:lnTo>
                  <a:pt x="237" y="916"/>
                </a:lnTo>
                <a:lnTo>
                  <a:pt x="249" y="927"/>
                </a:lnTo>
                <a:lnTo>
                  <a:pt x="260" y="927"/>
                </a:lnTo>
                <a:lnTo>
                  <a:pt x="271" y="927"/>
                </a:lnTo>
                <a:lnTo>
                  <a:pt x="294" y="927"/>
                </a:lnTo>
                <a:lnTo>
                  <a:pt x="317" y="927"/>
                </a:lnTo>
                <a:lnTo>
                  <a:pt x="351" y="927"/>
                </a:lnTo>
                <a:lnTo>
                  <a:pt x="373" y="927"/>
                </a:lnTo>
                <a:lnTo>
                  <a:pt x="407" y="927"/>
                </a:lnTo>
                <a:lnTo>
                  <a:pt x="441" y="927"/>
                </a:lnTo>
                <a:lnTo>
                  <a:pt x="486" y="927"/>
                </a:lnTo>
                <a:lnTo>
                  <a:pt x="520" y="927"/>
                </a:lnTo>
                <a:lnTo>
                  <a:pt x="565" y="916"/>
                </a:lnTo>
                <a:lnTo>
                  <a:pt x="622" y="916"/>
                </a:lnTo>
                <a:lnTo>
                  <a:pt x="667" y="916"/>
                </a:lnTo>
                <a:lnTo>
                  <a:pt x="656" y="1006"/>
                </a:lnTo>
                <a:lnTo>
                  <a:pt x="588" y="1017"/>
                </a:lnTo>
                <a:lnTo>
                  <a:pt x="520" y="1017"/>
                </a:lnTo>
                <a:lnTo>
                  <a:pt x="464" y="1029"/>
                </a:lnTo>
                <a:lnTo>
                  <a:pt x="407" y="1040"/>
                </a:lnTo>
                <a:lnTo>
                  <a:pt x="362" y="1040"/>
                </a:lnTo>
                <a:lnTo>
                  <a:pt x="317" y="1051"/>
                </a:lnTo>
                <a:lnTo>
                  <a:pt x="294" y="1063"/>
                </a:lnTo>
                <a:lnTo>
                  <a:pt x="260" y="107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31"/>
          <p:cNvSpPr/>
          <p:nvPr/>
        </p:nvSpPr>
        <p:spPr>
          <a:xfrm>
            <a:off x="5622840" y="2682720"/>
            <a:ext cx="552600" cy="779760"/>
          </a:xfrm>
          <a:custGeom>
            <a:avLst/>
            <a:gdLst>
              <a:gd name="textAreaLeft" fmla="*/ 0 w 552600"/>
              <a:gd name="textAreaRight" fmla="*/ 552960 w 552600"/>
              <a:gd name="textAreaTop" fmla="*/ 0 h 779760"/>
              <a:gd name="textAreaBottom" fmla="*/ 780120 h 779760"/>
            </a:gdLst>
            <a:ahLst/>
            <a:rect l="textAreaLeft" t="textAreaTop" r="textAreaRight" b="textAreaBottom"/>
            <a:pathLst>
              <a:path w="871" h="1198">
                <a:moveTo>
                  <a:pt x="803" y="79"/>
                </a:moveTo>
                <a:lnTo>
                  <a:pt x="826" y="113"/>
                </a:lnTo>
                <a:lnTo>
                  <a:pt x="860" y="147"/>
                </a:lnTo>
                <a:lnTo>
                  <a:pt x="871" y="170"/>
                </a:lnTo>
                <a:lnTo>
                  <a:pt x="871" y="203"/>
                </a:lnTo>
                <a:lnTo>
                  <a:pt x="871" y="226"/>
                </a:lnTo>
                <a:lnTo>
                  <a:pt x="860" y="249"/>
                </a:lnTo>
                <a:lnTo>
                  <a:pt x="826" y="283"/>
                </a:lnTo>
                <a:lnTo>
                  <a:pt x="803" y="305"/>
                </a:lnTo>
                <a:lnTo>
                  <a:pt x="781" y="328"/>
                </a:lnTo>
                <a:lnTo>
                  <a:pt x="758" y="350"/>
                </a:lnTo>
                <a:lnTo>
                  <a:pt x="724" y="373"/>
                </a:lnTo>
                <a:lnTo>
                  <a:pt x="690" y="418"/>
                </a:lnTo>
                <a:lnTo>
                  <a:pt x="645" y="452"/>
                </a:lnTo>
                <a:lnTo>
                  <a:pt x="600" y="509"/>
                </a:lnTo>
                <a:lnTo>
                  <a:pt x="543" y="565"/>
                </a:lnTo>
                <a:lnTo>
                  <a:pt x="487" y="633"/>
                </a:lnTo>
                <a:lnTo>
                  <a:pt x="441" y="701"/>
                </a:lnTo>
                <a:lnTo>
                  <a:pt x="385" y="757"/>
                </a:lnTo>
                <a:lnTo>
                  <a:pt x="351" y="803"/>
                </a:lnTo>
                <a:lnTo>
                  <a:pt x="317" y="837"/>
                </a:lnTo>
                <a:lnTo>
                  <a:pt x="294" y="871"/>
                </a:lnTo>
                <a:lnTo>
                  <a:pt x="283" y="893"/>
                </a:lnTo>
                <a:lnTo>
                  <a:pt x="272" y="904"/>
                </a:lnTo>
                <a:lnTo>
                  <a:pt x="272" y="916"/>
                </a:lnTo>
                <a:lnTo>
                  <a:pt x="283" y="927"/>
                </a:lnTo>
                <a:lnTo>
                  <a:pt x="294" y="927"/>
                </a:lnTo>
                <a:lnTo>
                  <a:pt x="317" y="916"/>
                </a:lnTo>
                <a:lnTo>
                  <a:pt x="340" y="916"/>
                </a:lnTo>
                <a:lnTo>
                  <a:pt x="374" y="904"/>
                </a:lnTo>
                <a:lnTo>
                  <a:pt x="407" y="893"/>
                </a:lnTo>
                <a:lnTo>
                  <a:pt x="464" y="882"/>
                </a:lnTo>
                <a:lnTo>
                  <a:pt x="521" y="871"/>
                </a:lnTo>
                <a:lnTo>
                  <a:pt x="577" y="848"/>
                </a:lnTo>
                <a:lnTo>
                  <a:pt x="622" y="837"/>
                </a:lnTo>
                <a:lnTo>
                  <a:pt x="656" y="837"/>
                </a:lnTo>
                <a:lnTo>
                  <a:pt x="690" y="825"/>
                </a:lnTo>
                <a:lnTo>
                  <a:pt x="713" y="825"/>
                </a:lnTo>
                <a:lnTo>
                  <a:pt x="735" y="825"/>
                </a:lnTo>
                <a:lnTo>
                  <a:pt x="747" y="837"/>
                </a:lnTo>
                <a:lnTo>
                  <a:pt x="747" y="848"/>
                </a:lnTo>
                <a:lnTo>
                  <a:pt x="735" y="859"/>
                </a:lnTo>
                <a:lnTo>
                  <a:pt x="713" y="882"/>
                </a:lnTo>
                <a:lnTo>
                  <a:pt x="679" y="893"/>
                </a:lnTo>
                <a:lnTo>
                  <a:pt x="645" y="916"/>
                </a:lnTo>
                <a:lnTo>
                  <a:pt x="600" y="938"/>
                </a:lnTo>
                <a:lnTo>
                  <a:pt x="543" y="972"/>
                </a:lnTo>
                <a:lnTo>
                  <a:pt x="475" y="995"/>
                </a:lnTo>
                <a:lnTo>
                  <a:pt x="419" y="1029"/>
                </a:lnTo>
                <a:lnTo>
                  <a:pt x="351" y="1051"/>
                </a:lnTo>
                <a:lnTo>
                  <a:pt x="306" y="1074"/>
                </a:lnTo>
                <a:lnTo>
                  <a:pt x="261" y="1097"/>
                </a:lnTo>
                <a:lnTo>
                  <a:pt x="215" y="1119"/>
                </a:lnTo>
                <a:lnTo>
                  <a:pt x="193" y="1131"/>
                </a:lnTo>
                <a:lnTo>
                  <a:pt x="170" y="1153"/>
                </a:lnTo>
                <a:lnTo>
                  <a:pt x="147" y="1164"/>
                </a:lnTo>
                <a:lnTo>
                  <a:pt x="136" y="1176"/>
                </a:lnTo>
                <a:lnTo>
                  <a:pt x="125" y="1187"/>
                </a:lnTo>
                <a:lnTo>
                  <a:pt x="102" y="1198"/>
                </a:lnTo>
                <a:lnTo>
                  <a:pt x="91" y="1198"/>
                </a:lnTo>
                <a:lnTo>
                  <a:pt x="80" y="1198"/>
                </a:lnTo>
                <a:lnTo>
                  <a:pt x="68" y="1187"/>
                </a:lnTo>
                <a:lnTo>
                  <a:pt x="57" y="1176"/>
                </a:lnTo>
                <a:lnTo>
                  <a:pt x="46" y="1164"/>
                </a:lnTo>
                <a:lnTo>
                  <a:pt x="34" y="1142"/>
                </a:lnTo>
                <a:lnTo>
                  <a:pt x="23" y="1108"/>
                </a:lnTo>
                <a:lnTo>
                  <a:pt x="12" y="1074"/>
                </a:lnTo>
                <a:lnTo>
                  <a:pt x="0" y="1051"/>
                </a:lnTo>
                <a:lnTo>
                  <a:pt x="0" y="1017"/>
                </a:lnTo>
                <a:lnTo>
                  <a:pt x="0" y="995"/>
                </a:lnTo>
                <a:lnTo>
                  <a:pt x="12" y="995"/>
                </a:lnTo>
                <a:lnTo>
                  <a:pt x="12" y="984"/>
                </a:lnTo>
                <a:lnTo>
                  <a:pt x="23" y="972"/>
                </a:lnTo>
                <a:lnTo>
                  <a:pt x="34" y="961"/>
                </a:lnTo>
                <a:lnTo>
                  <a:pt x="46" y="938"/>
                </a:lnTo>
                <a:lnTo>
                  <a:pt x="80" y="916"/>
                </a:lnTo>
                <a:lnTo>
                  <a:pt x="91" y="916"/>
                </a:lnTo>
                <a:lnTo>
                  <a:pt x="102" y="893"/>
                </a:lnTo>
                <a:lnTo>
                  <a:pt x="125" y="882"/>
                </a:lnTo>
                <a:lnTo>
                  <a:pt x="147" y="848"/>
                </a:lnTo>
                <a:lnTo>
                  <a:pt x="181" y="825"/>
                </a:lnTo>
                <a:lnTo>
                  <a:pt x="204" y="780"/>
                </a:lnTo>
                <a:lnTo>
                  <a:pt x="249" y="746"/>
                </a:lnTo>
                <a:lnTo>
                  <a:pt x="283" y="701"/>
                </a:lnTo>
                <a:lnTo>
                  <a:pt x="362" y="599"/>
                </a:lnTo>
                <a:lnTo>
                  <a:pt x="430" y="497"/>
                </a:lnTo>
                <a:lnTo>
                  <a:pt x="498" y="407"/>
                </a:lnTo>
                <a:lnTo>
                  <a:pt x="566" y="317"/>
                </a:lnTo>
                <a:lnTo>
                  <a:pt x="588" y="271"/>
                </a:lnTo>
                <a:lnTo>
                  <a:pt x="611" y="237"/>
                </a:lnTo>
                <a:lnTo>
                  <a:pt x="634" y="203"/>
                </a:lnTo>
                <a:lnTo>
                  <a:pt x="645" y="170"/>
                </a:lnTo>
                <a:lnTo>
                  <a:pt x="656" y="136"/>
                </a:lnTo>
                <a:lnTo>
                  <a:pt x="667" y="113"/>
                </a:lnTo>
                <a:lnTo>
                  <a:pt x="679" y="90"/>
                </a:lnTo>
                <a:lnTo>
                  <a:pt x="679" y="68"/>
                </a:lnTo>
                <a:lnTo>
                  <a:pt x="679" y="45"/>
                </a:lnTo>
                <a:lnTo>
                  <a:pt x="690" y="23"/>
                </a:lnTo>
                <a:lnTo>
                  <a:pt x="701" y="11"/>
                </a:lnTo>
                <a:lnTo>
                  <a:pt x="713" y="0"/>
                </a:lnTo>
                <a:lnTo>
                  <a:pt x="724" y="11"/>
                </a:lnTo>
                <a:lnTo>
                  <a:pt x="735" y="11"/>
                </a:lnTo>
                <a:lnTo>
                  <a:pt x="747" y="23"/>
                </a:lnTo>
                <a:lnTo>
                  <a:pt x="758" y="34"/>
                </a:lnTo>
                <a:lnTo>
                  <a:pt x="769" y="45"/>
                </a:lnTo>
                <a:lnTo>
                  <a:pt x="781" y="68"/>
                </a:lnTo>
                <a:lnTo>
                  <a:pt x="803" y="7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2"/>
          <p:cNvSpPr/>
          <p:nvPr/>
        </p:nvSpPr>
        <p:spPr>
          <a:xfrm>
            <a:off x="6081840" y="2763720"/>
            <a:ext cx="415800" cy="639720"/>
          </a:xfrm>
          <a:custGeom>
            <a:avLst/>
            <a:gdLst>
              <a:gd name="textAreaLeft" fmla="*/ 0 w 415800"/>
              <a:gd name="textAreaRight" fmla="*/ 416160 w 41580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656" h="984">
                <a:moveTo>
                  <a:pt x="441" y="91"/>
                </a:moveTo>
                <a:lnTo>
                  <a:pt x="441" y="68"/>
                </a:lnTo>
                <a:lnTo>
                  <a:pt x="430" y="46"/>
                </a:lnTo>
                <a:lnTo>
                  <a:pt x="441" y="23"/>
                </a:lnTo>
                <a:lnTo>
                  <a:pt x="441" y="12"/>
                </a:lnTo>
                <a:lnTo>
                  <a:pt x="452" y="0"/>
                </a:lnTo>
                <a:lnTo>
                  <a:pt x="475" y="0"/>
                </a:lnTo>
                <a:lnTo>
                  <a:pt x="497" y="0"/>
                </a:lnTo>
                <a:lnTo>
                  <a:pt x="531" y="12"/>
                </a:lnTo>
                <a:lnTo>
                  <a:pt x="554" y="34"/>
                </a:lnTo>
                <a:lnTo>
                  <a:pt x="588" y="57"/>
                </a:lnTo>
                <a:lnTo>
                  <a:pt x="611" y="79"/>
                </a:lnTo>
                <a:lnTo>
                  <a:pt x="633" y="102"/>
                </a:lnTo>
                <a:lnTo>
                  <a:pt x="644" y="125"/>
                </a:lnTo>
                <a:lnTo>
                  <a:pt x="656" y="159"/>
                </a:lnTo>
                <a:lnTo>
                  <a:pt x="656" y="181"/>
                </a:lnTo>
                <a:lnTo>
                  <a:pt x="656" y="204"/>
                </a:lnTo>
                <a:lnTo>
                  <a:pt x="644" y="226"/>
                </a:lnTo>
                <a:lnTo>
                  <a:pt x="633" y="249"/>
                </a:lnTo>
                <a:lnTo>
                  <a:pt x="622" y="283"/>
                </a:lnTo>
                <a:lnTo>
                  <a:pt x="599" y="317"/>
                </a:lnTo>
                <a:lnTo>
                  <a:pt x="577" y="351"/>
                </a:lnTo>
                <a:lnTo>
                  <a:pt x="543" y="396"/>
                </a:lnTo>
                <a:lnTo>
                  <a:pt x="509" y="453"/>
                </a:lnTo>
                <a:lnTo>
                  <a:pt x="464" y="509"/>
                </a:lnTo>
                <a:lnTo>
                  <a:pt x="430" y="566"/>
                </a:lnTo>
                <a:lnTo>
                  <a:pt x="384" y="622"/>
                </a:lnTo>
                <a:lnTo>
                  <a:pt x="350" y="679"/>
                </a:lnTo>
                <a:lnTo>
                  <a:pt x="317" y="724"/>
                </a:lnTo>
                <a:lnTo>
                  <a:pt x="271" y="769"/>
                </a:lnTo>
                <a:lnTo>
                  <a:pt x="237" y="803"/>
                </a:lnTo>
                <a:lnTo>
                  <a:pt x="204" y="837"/>
                </a:lnTo>
                <a:lnTo>
                  <a:pt x="170" y="871"/>
                </a:lnTo>
                <a:lnTo>
                  <a:pt x="147" y="905"/>
                </a:lnTo>
                <a:lnTo>
                  <a:pt x="113" y="927"/>
                </a:lnTo>
                <a:lnTo>
                  <a:pt x="90" y="939"/>
                </a:lnTo>
                <a:lnTo>
                  <a:pt x="68" y="961"/>
                </a:lnTo>
                <a:lnTo>
                  <a:pt x="45" y="973"/>
                </a:lnTo>
                <a:lnTo>
                  <a:pt x="34" y="973"/>
                </a:lnTo>
                <a:lnTo>
                  <a:pt x="23" y="984"/>
                </a:lnTo>
                <a:lnTo>
                  <a:pt x="11" y="973"/>
                </a:lnTo>
                <a:lnTo>
                  <a:pt x="0" y="961"/>
                </a:lnTo>
                <a:lnTo>
                  <a:pt x="11" y="950"/>
                </a:lnTo>
                <a:lnTo>
                  <a:pt x="11" y="939"/>
                </a:lnTo>
                <a:lnTo>
                  <a:pt x="23" y="916"/>
                </a:lnTo>
                <a:lnTo>
                  <a:pt x="34" y="893"/>
                </a:lnTo>
                <a:lnTo>
                  <a:pt x="57" y="871"/>
                </a:lnTo>
                <a:lnTo>
                  <a:pt x="79" y="837"/>
                </a:lnTo>
                <a:lnTo>
                  <a:pt x="124" y="769"/>
                </a:lnTo>
                <a:lnTo>
                  <a:pt x="170" y="701"/>
                </a:lnTo>
                <a:lnTo>
                  <a:pt x="226" y="633"/>
                </a:lnTo>
                <a:lnTo>
                  <a:pt x="271" y="554"/>
                </a:lnTo>
                <a:lnTo>
                  <a:pt x="317" y="486"/>
                </a:lnTo>
                <a:lnTo>
                  <a:pt x="350" y="419"/>
                </a:lnTo>
                <a:lnTo>
                  <a:pt x="384" y="340"/>
                </a:lnTo>
                <a:lnTo>
                  <a:pt x="418" y="272"/>
                </a:lnTo>
                <a:lnTo>
                  <a:pt x="430" y="238"/>
                </a:lnTo>
                <a:lnTo>
                  <a:pt x="441" y="215"/>
                </a:lnTo>
                <a:lnTo>
                  <a:pt x="441" y="181"/>
                </a:lnTo>
                <a:lnTo>
                  <a:pt x="452" y="159"/>
                </a:lnTo>
                <a:lnTo>
                  <a:pt x="452" y="136"/>
                </a:lnTo>
                <a:lnTo>
                  <a:pt x="452" y="125"/>
                </a:lnTo>
                <a:lnTo>
                  <a:pt x="441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3"/>
          <p:cNvSpPr/>
          <p:nvPr/>
        </p:nvSpPr>
        <p:spPr>
          <a:xfrm>
            <a:off x="6440400" y="2374920"/>
            <a:ext cx="939960" cy="830160"/>
          </a:xfrm>
          <a:custGeom>
            <a:avLst/>
            <a:gdLst>
              <a:gd name="textAreaLeft" fmla="*/ 0 w 939960"/>
              <a:gd name="textAreaRight" fmla="*/ 940320 w 939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481" h="1278">
                <a:moveTo>
                  <a:pt x="859" y="1221"/>
                </a:moveTo>
                <a:lnTo>
                  <a:pt x="848" y="1210"/>
                </a:lnTo>
                <a:lnTo>
                  <a:pt x="837" y="1199"/>
                </a:lnTo>
                <a:lnTo>
                  <a:pt x="814" y="1187"/>
                </a:lnTo>
                <a:lnTo>
                  <a:pt x="803" y="1176"/>
                </a:lnTo>
                <a:lnTo>
                  <a:pt x="780" y="1153"/>
                </a:lnTo>
                <a:lnTo>
                  <a:pt x="769" y="1131"/>
                </a:lnTo>
                <a:lnTo>
                  <a:pt x="746" y="1108"/>
                </a:lnTo>
                <a:lnTo>
                  <a:pt x="724" y="1074"/>
                </a:lnTo>
                <a:lnTo>
                  <a:pt x="701" y="1052"/>
                </a:lnTo>
                <a:lnTo>
                  <a:pt x="679" y="1018"/>
                </a:lnTo>
                <a:lnTo>
                  <a:pt x="656" y="972"/>
                </a:lnTo>
                <a:lnTo>
                  <a:pt x="633" y="939"/>
                </a:lnTo>
                <a:lnTo>
                  <a:pt x="611" y="893"/>
                </a:lnTo>
                <a:lnTo>
                  <a:pt x="588" y="848"/>
                </a:lnTo>
                <a:lnTo>
                  <a:pt x="566" y="803"/>
                </a:lnTo>
                <a:lnTo>
                  <a:pt x="543" y="758"/>
                </a:lnTo>
                <a:lnTo>
                  <a:pt x="520" y="701"/>
                </a:lnTo>
                <a:lnTo>
                  <a:pt x="486" y="656"/>
                </a:lnTo>
                <a:lnTo>
                  <a:pt x="464" y="611"/>
                </a:lnTo>
                <a:lnTo>
                  <a:pt x="441" y="565"/>
                </a:lnTo>
                <a:lnTo>
                  <a:pt x="419" y="532"/>
                </a:lnTo>
                <a:lnTo>
                  <a:pt x="396" y="486"/>
                </a:lnTo>
                <a:lnTo>
                  <a:pt x="362" y="418"/>
                </a:lnTo>
                <a:lnTo>
                  <a:pt x="328" y="362"/>
                </a:lnTo>
                <a:lnTo>
                  <a:pt x="294" y="305"/>
                </a:lnTo>
                <a:lnTo>
                  <a:pt x="272" y="260"/>
                </a:lnTo>
                <a:lnTo>
                  <a:pt x="249" y="238"/>
                </a:lnTo>
                <a:lnTo>
                  <a:pt x="226" y="204"/>
                </a:lnTo>
                <a:lnTo>
                  <a:pt x="215" y="181"/>
                </a:lnTo>
                <a:lnTo>
                  <a:pt x="192" y="158"/>
                </a:lnTo>
                <a:lnTo>
                  <a:pt x="170" y="136"/>
                </a:lnTo>
                <a:lnTo>
                  <a:pt x="147" y="113"/>
                </a:lnTo>
                <a:lnTo>
                  <a:pt x="136" y="102"/>
                </a:lnTo>
                <a:lnTo>
                  <a:pt x="91" y="79"/>
                </a:lnTo>
                <a:lnTo>
                  <a:pt x="68" y="68"/>
                </a:lnTo>
                <a:lnTo>
                  <a:pt x="46" y="57"/>
                </a:lnTo>
                <a:lnTo>
                  <a:pt x="34" y="45"/>
                </a:lnTo>
                <a:lnTo>
                  <a:pt x="23" y="34"/>
                </a:lnTo>
                <a:lnTo>
                  <a:pt x="12" y="34"/>
                </a:lnTo>
                <a:lnTo>
                  <a:pt x="12" y="23"/>
                </a:lnTo>
                <a:lnTo>
                  <a:pt x="0" y="11"/>
                </a:lnTo>
                <a:lnTo>
                  <a:pt x="12" y="0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8" y="0"/>
                </a:lnTo>
                <a:lnTo>
                  <a:pt x="91" y="0"/>
                </a:lnTo>
                <a:lnTo>
                  <a:pt x="125" y="0"/>
                </a:lnTo>
                <a:lnTo>
                  <a:pt x="170" y="0"/>
                </a:lnTo>
                <a:lnTo>
                  <a:pt x="215" y="11"/>
                </a:lnTo>
                <a:lnTo>
                  <a:pt x="249" y="23"/>
                </a:lnTo>
                <a:lnTo>
                  <a:pt x="272" y="34"/>
                </a:lnTo>
                <a:lnTo>
                  <a:pt x="283" y="57"/>
                </a:lnTo>
                <a:lnTo>
                  <a:pt x="306" y="79"/>
                </a:lnTo>
                <a:lnTo>
                  <a:pt x="317" y="113"/>
                </a:lnTo>
                <a:lnTo>
                  <a:pt x="351" y="158"/>
                </a:lnTo>
                <a:lnTo>
                  <a:pt x="385" y="204"/>
                </a:lnTo>
                <a:lnTo>
                  <a:pt x="419" y="260"/>
                </a:lnTo>
                <a:lnTo>
                  <a:pt x="464" y="328"/>
                </a:lnTo>
                <a:lnTo>
                  <a:pt x="509" y="407"/>
                </a:lnTo>
                <a:lnTo>
                  <a:pt x="554" y="475"/>
                </a:lnTo>
                <a:lnTo>
                  <a:pt x="599" y="554"/>
                </a:lnTo>
                <a:lnTo>
                  <a:pt x="656" y="611"/>
                </a:lnTo>
                <a:lnTo>
                  <a:pt x="701" y="678"/>
                </a:lnTo>
                <a:lnTo>
                  <a:pt x="746" y="735"/>
                </a:lnTo>
                <a:lnTo>
                  <a:pt x="792" y="780"/>
                </a:lnTo>
                <a:lnTo>
                  <a:pt x="837" y="825"/>
                </a:lnTo>
                <a:lnTo>
                  <a:pt x="882" y="871"/>
                </a:lnTo>
                <a:lnTo>
                  <a:pt x="927" y="905"/>
                </a:lnTo>
                <a:lnTo>
                  <a:pt x="984" y="950"/>
                </a:lnTo>
                <a:lnTo>
                  <a:pt x="1074" y="1006"/>
                </a:lnTo>
                <a:lnTo>
                  <a:pt x="1176" y="1063"/>
                </a:lnTo>
                <a:lnTo>
                  <a:pt x="1278" y="1119"/>
                </a:lnTo>
                <a:lnTo>
                  <a:pt x="1323" y="1142"/>
                </a:lnTo>
                <a:lnTo>
                  <a:pt x="1368" y="1165"/>
                </a:lnTo>
                <a:lnTo>
                  <a:pt x="1402" y="1187"/>
                </a:lnTo>
                <a:lnTo>
                  <a:pt x="1425" y="1199"/>
                </a:lnTo>
                <a:lnTo>
                  <a:pt x="1447" y="1210"/>
                </a:lnTo>
                <a:lnTo>
                  <a:pt x="1470" y="1232"/>
                </a:lnTo>
                <a:lnTo>
                  <a:pt x="1470" y="1244"/>
                </a:lnTo>
                <a:lnTo>
                  <a:pt x="1481" y="1255"/>
                </a:lnTo>
                <a:lnTo>
                  <a:pt x="1470" y="1255"/>
                </a:lnTo>
                <a:lnTo>
                  <a:pt x="1459" y="1266"/>
                </a:lnTo>
                <a:lnTo>
                  <a:pt x="1436" y="1278"/>
                </a:lnTo>
                <a:lnTo>
                  <a:pt x="1413" y="1278"/>
                </a:lnTo>
                <a:lnTo>
                  <a:pt x="1380" y="1278"/>
                </a:lnTo>
                <a:lnTo>
                  <a:pt x="1334" y="1278"/>
                </a:lnTo>
                <a:lnTo>
                  <a:pt x="1289" y="1278"/>
                </a:lnTo>
                <a:lnTo>
                  <a:pt x="1233" y="1278"/>
                </a:lnTo>
                <a:lnTo>
                  <a:pt x="1165" y="1278"/>
                </a:lnTo>
                <a:lnTo>
                  <a:pt x="1108" y="1278"/>
                </a:lnTo>
                <a:lnTo>
                  <a:pt x="1063" y="1266"/>
                </a:lnTo>
                <a:lnTo>
                  <a:pt x="1006" y="1266"/>
                </a:lnTo>
                <a:lnTo>
                  <a:pt x="961" y="1255"/>
                </a:lnTo>
                <a:lnTo>
                  <a:pt x="927" y="1244"/>
                </a:lnTo>
                <a:lnTo>
                  <a:pt x="893" y="1232"/>
                </a:lnTo>
                <a:lnTo>
                  <a:pt x="859" y="122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5"/>
          <p:cNvSpPr/>
          <p:nvPr/>
        </p:nvSpPr>
        <p:spPr>
          <a:xfrm>
            <a:off x="6289560" y="3205080"/>
            <a:ext cx="654120" cy="955800"/>
          </a:xfrm>
          <a:custGeom>
            <a:avLst/>
            <a:gdLst>
              <a:gd name="textAreaLeft" fmla="*/ 0 w 654120"/>
              <a:gd name="textAreaRight" fmla="*/ 654480 w 654120"/>
              <a:gd name="textAreaTop" fmla="*/ 0 h 955800"/>
              <a:gd name="textAreaBottom" fmla="*/ 956160 h 955800"/>
            </a:gdLst>
            <a:ahLst/>
            <a:rect l="textAreaLeft" t="textAreaTop" r="textAreaRight" b="textAreaBottom"/>
            <a:pathLst>
              <a:path w="1029" h="1469">
                <a:moveTo>
                  <a:pt x="328" y="1175"/>
                </a:moveTo>
                <a:lnTo>
                  <a:pt x="294" y="1153"/>
                </a:lnTo>
                <a:lnTo>
                  <a:pt x="271" y="1130"/>
                </a:lnTo>
                <a:lnTo>
                  <a:pt x="260" y="1108"/>
                </a:lnTo>
                <a:lnTo>
                  <a:pt x="237" y="1096"/>
                </a:lnTo>
                <a:lnTo>
                  <a:pt x="226" y="1074"/>
                </a:lnTo>
                <a:lnTo>
                  <a:pt x="226" y="1062"/>
                </a:lnTo>
                <a:lnTo>
                  <a:pt x="215" y="1051"/>
                </a:lnTo>
                <a:lnTo>
                  <a:pt x="215" y="1040"/>
                </a:lnTo>
                <a:lnTo>
                  <a:pt x="226" y="1040"/>
                </a:lnTo>
                <a:lnTo>
                  <a:pt x="237" y="1028"/>
                </a:lnTo>
                <a:lnTo>
                  <a:pt x="249" y="1028"/>
                </a:lnTo>
                <a:lnTo>
                  <a:pt x="271" y="1040"/>
                </a:lnTo>
                <a:lnTo>
                  <a:pt x="294" y="1040"/>
                </a:lnTo>
                <a:lnTo>
                  <a:pt x="316" y="1051"/>
                </a:lnTo>
                <a:lnTo>
                  <a:pt x="350" y="1051"/>
                </a:lnTo>
                <a:lnTo>
                  <a:pt x="384" y="1062"/>
                </a:lnTo>
                <a:lnTo>
                  <a:pt x="407" y="1074"/>
                </a:lnTo>
                <a:lnTo>
                  <a:pt x="429" y="1074"/>
                </a:lnTo>
                <a:lnTo>
                  <a:pt x="452" y="1085"/>
                </a:lnTo>
                <a:lnTo>
                  <a:pt x="486" y="1085"/>
                </a:lnTo>
                <a:lnTo>
                  <a:pt x="509" y="1085"/>
                </a:lnTo>
                <a:lnTo>
                  <a:pt x="520" y="1085"/>
                </a:lnTo>
                <a:lnTo>
                  <a:pt x="531" y="1074"/>
                </a:lnTo>
                <a:lnTo>
                  <a:pt x="554" y="1062"/>
                </a:lnTo>
                <a:lnTo>
                  <a:pt x="565" y="1040"/>
                </a:lnTo>
                <a:lnTo>
                  <a:pt x="576" y="1017"/>
                </a:lnTo>
                <a:lnTo>
                  <a:pt x="599" y="995"/>
                </a:lnTo>
                <a:lnTo>
                  <a:pt x="610" y="961"/>
                </a:lnTo>
                <a:lnTo>
                  <a:pt x="622" y="915"/>
                </a:lnTo>
                <a:lnTo>
                  <a:pt x="644" y="870"/>
                </a:lnTo>
                <a:lnTo>
                  <a:pt x="701" y="678"/>
                </a:lnTo>
                <a:lnTo>
                  <a:pt x="723" y="576"/>
                </a:lnTo>
                <a:lnTo>
                  <a:pt x="746" y="486"/>
                </a:lnTo>
                <a:lnTo>
                  <a:pt x="746" y="441"/>
                </a:lnTo>
                <a:lnTo>
                  <a:pt x="746" y="395"/>
                </a:lnTo>
                <a:lnTo>
                  <a:pt x="757" y="361"/>
                </a:lnTo>
                <a:lnTo>
                  <a:pt x="757" y="339"/>
                </a:lnTo>
                <a:lnTo>
                  <a:pt x="757" y="305"/>
                </a:lnTo>
                <a:lnTo>
                  <a:pt x="757" y="282"/>
                </a:lnTo>
                <a:lnTo>
                  <a:pt x="757" y="260"/>
                </a:lnTo>
                <a:lnTo>
                  <a:pt x="757" y="248"/>
                </a:lnTo>
                <a:lnTo>
                  <a:pt x="746" y="237"/>
                </a:lnTo>
                <a:lnTo>
                  <a:pt x="746" y="226"/>
                </a:lnTo>
                <a:lnTo>
                  <a:pt x="723" y="203"/>
                </a:lnTo>
                <a:lnTo>
                  <a:pt x="701" y="192"/>
                </a:lnTo>
                <a:lnTo>
                  <a:pt x="678" y="181"/>
                </a:lnTo>
                <a:lnTo>
                  <a:pt x="656" y="181"/>
                </a:lnTo>
                <a:lnTo>
                  <a:pt x="633" y="181"/>
                </a:lnTo>
                <a:lnTo>
                  <a:pt x="599" y="192"/>
                </a:lnTo>
                <a:lnTo>
                  <a:pt x="565" y="192"/>
                </a:lnTo>
                <a:lnTo>
                  <a:pt x="531" y="203"/>
                </a:lnTo>
                <a:lnTo>
                  <a:pt x="486" y="203"/>
                </a:lnTo>
                <a:lnTo>
                  <a:pt x="429" y="214"/>
                </a:lnTo>
                <a:lnTo>
                  <a:pt x="373" y="237"/>
                </a:lnTo>
                <a:lnTo>
                  <a:pt x="316" y="248"/>
                </a:lnTo>
                <a:lnTo>
                  <a:pt x="271" y="260"/>
                </a:lnTo>
                <a:lnTo>
                  <a:pt x="226" y="271"/>
                </a:lnTo>
                <a:lnTo>
                  <a:pt x="181" y="282"/>
                </a:lnTo>
                <a:lnTo>
                  <a:pt x="147" y="282"/>
                </a:lnTo>
                <a:lnTo>
                  <a:pt x="124" y="294"/>
                </a:lnTo>
                <a:lnTo>
                  <a:pt x="102" y="294"/>
                </a:lnTo>
                <a:lnTo>
                  <a:pt x="90" y="294"/>
                </a:lnTo>
                <a:lnTo>
                  <a:pt x="79" y="294"/>
                </a:lnTo>
                <a:lnTo>
                  <a:pt x="68" y="294"/>
                </a:lnTo>
                <a:lnTo>
                  <a:pt x="45" y="282"/>
                </a:lnTo>
                <a:lnTo>
                  <a:pt x="34" y="260"/>
                </a:lnTo>
                <a:lnTo>
                  <a:pt x="22" y="237"/>
                </a:lnTo>
                <a:lnTo>
                  <a:pt x="11" y="214"/>
                </a:lnTo>
                <a:lnTo>
                  <a:pt x="0" y="203"/>
                </a:lnTo>
                <a:lnTo>
                  <a:pt x="0" y="192"/>
                </a:lnTo>
                <a:lnTo>
                  <a:pt x="0" y="181"/>
                </a:lnTo>
                <a:lnTo>
                  <a:pt x="22" y="181"/>
                </a:lnTo>
                <a:lnTo>
                  <a:pt x="34" y="181"/>
                </a:lnTo>
                <a:lnTo>
                  <a:pt x="45" y="181"/>
                </a:lnTo>
                <a:lnTo>
                  <a:pt x="56" y="169"/>
                </a:lnTo>
                <a:lnTo>
                  <a:pt x="102" y="169"/>
                </a:lnTo>
                <a:lnTo>
                  <a:pt x="136" y="158"/>
                </a:lnTo>
                <a:lnTo>
                  <a:pt x="169" y="147"/>
                </a:lnTo>
                <a:lnTo>
                  <a:pt x="192" y="147"/>
                </a:lnTo>
                <a:lnTo>
                  <a:pt x="226" y="135"/>
                </a:lnTo>
                <a:lnTo>
                  <a:pt x="271" y="135"/>
                </a:lnTo>
                <a:lnTo>
                  <a:pt x="305" y="124"/>
                </a:lnTo>
                <a:lnTo>
                  <a:pt x="350" y="124"/>
                </a:lnTo>
                <a:lnTo>
                  <a:pt x="396" y="113"/>
                </a:lnTo>
                <a:lnTo>
                  <a:pt x="452" y="101"/>
                </a:lnTo>
                <a:lnTo>
                  <a:pt x="497" y="90"/>
                </a:lnTo>
                <a:lnTo>
                  <a:pt x="543" y="79"/>
                </a:lnTo>
                <a:lnTo>
                  <a:pt x="576" y="68"/>
                </a:lnTo>
                <a:lnTo>
                  <a:pt x="610" y="68"/>
                </a:lnTo>
                <a:lnTo>
                  <a:pt x="644" y="56"/>
                </a:lnTo>
                <a:lnTo>
                  <a:pt x="667" y="45"/>
                </a:lnTo>
                <a:lnTo>
                  <a:pt x="689" y="34"/>
                </a:lnTo>
                <a:lnTo>
                  <a:pt x="701" y="22"/>
                </a:lnTo>
                <a:lnTo>
                  <a:pt x="723" y="11"/>
                </a:lnTo>
                <a:lnTo>
                  <a:pt x="746" y="11"/>
                </a:lnTo>
                <a:lnTo>
                  <a:pt x="757" y="0"/>
                </a:lnTo>
                <a:lnTo>
                  <a:pt x="780" y="0"/>
                </a:lnTo>
                <a:lnTo>
                  <a:pt x="791" y="0"/>
                </a:lnTo>
                <a:lnTo>
                  <a:pt x="791" y="11"/>
                </a:lnTo>
                <a:lnTo>
                  <a:pt x="814" y="22"/>
                </a:lnTo>
                <a:lnTo>
                  <a:pt x="825" y="22"/>
                </a:lnTo>
                <a:lnTo>
                  <a:pt x="848" y="34"/>
                </a:lnTo>
                <a:lnTo>
                  <a:pt x="859" y="45"/>
                </a:lnTo>
                <a:lnTo>
                  <a:pt x="893" y="68"/>
                </a:lnTo>
                <a:lnTo>
                  <a:pt x="916" y="79"/>
                </a:lnTo>
                <a:lnTo>
                  <a:pt x="938" y="90"/>
                </a:lnTo>
                <a:lnTo>
                  <a:pt x="961" y="113"/>
                </a:lnTo>
                <a:lnTo>
                  <a:pt x="983" y="124"/>
                </a:lnTo>
                <a:lnTo>
                  <a:pt x="995" y="147"/>
                </a:lnTo>
                <a:lnTo>
                  <a:pt x="1006" y="158"/>
                </a:lnTo>
                <a:lnTo>
                  <a:pt x="1017" y="169"/>
                </a:lnTo>
                <a:lnTo>
                  <a:pt x="1029" y="169"/>
                </a:lnTo>
                <a:lnTo>
                  <a:pt x="1029" y="181"/>
                </a:lnTo>
                <a:lnTo>
                  <a:pt x="1029" y="203"/>
                </a:lnTo>
                <a:lnTo>
                  <a:pt x="1017" y="214"/>
                </a:lnTo>
                <a:lnTo>
                  <a:pt x="1006" y="237"/>
                </a:lnTo>
                <a:lnTo>
                  <a:pt x="1006" y="248"/>
                </a:lnTo>
                <a:lnTo>
                  <a:pt x="995" y="260"/>
                </a:lnTo>
                <a:lnTo>
                  <a:pt x="983" y="282"/>
                </a:lnTo>
                <a:lnTo>
                  <a:pt x="972" y="305"/>
                </a:lnTo>
                <a:lnTo>
                  <a:pt x="961" y="339"/>
                </a:lnTo>
                <a:lnTo>
                  <a:pt x="950" y="373"/>
                </a:lnTo>
                <a:lnTo>
                  <a:pt x="950" y="418"/>
                </a:lnTo>
                <a:lnTo>
                  <a:pt x="938" y="474"/>
                </a:lnTo>
                <a:lnTo>
                  <a:pt x="927" y="531"/>
                </a:lnTo>
                <a:lnTo>
                  <a:pt x="904" y="655"/>
                </a:lnTo>
                <a:lnTo>
                  <a:pt x="882" y="791"/>
                </a:lnTo>
                <a:lnTo>
                  <a:pt x="848" y="904"/>
                </a:lnTo>
                <a:lnTo>
                  <a:pt x="803" y="1028"/>
                </a:lnTo>
                <a:lnTo>
                  <a:pt x="780" y="1085"/>
                </a:lnTo>
                <a:lnTo>
                  <a:pt x="757" y="1141"/>
                </a:lnTo>
                <a:lnTo>
                  <a:pt x="735" y="1187"/>
                </a:lnTo>
                <a:lnTo>
                  <a:pt x="701" y="1232"/>
                </a:lnTo>
                <a:lnTo>
                  <a:pt x="678" y="1277"/>
                </a:lnTo>
                <a:lnTo>
                  <a:pt x="656" y="1311"/>
                </a:lnTo>
                <a:lnTo>
                  <a:pt x="633" y="1345"/>
                </a:lnTo>
                <a:lnTo>
                  <a:pt x="610" y="1368"/>
                </a:lnTo>
                <a:lnTo>
                  <a:pt x="588" y="1390"/>
                </a:lnTo>
                <a:lnTo>
                  <a:pt x="565" y="1413"/>
                </a:lnTo>
                <a:lnTo>
                  <a:pt x="543" y="1435"/>
                </a:lnTo>
                <a:lnTo>
                  <a:pt x="531" y="1447"/>
                </a:lnTo>
                <a:lnTo>
                  <a:pt x="509" y="1458"/>
                </a:lnTo>
                <a:lnTo>
                  <a:pt x="497" y="1469"/>
                </a:lnTo>
                <a:lnTo>
                  <a:pt x="486" y="1469"/>
                </a:lnTo>
                <a:lnTo>
                  <a:pt x="475" y="1469"/>
                </a:lnTo>
                <a:lnTo>
                  <a:pt x="463" y="1469"/>
                </a:lnTo>
                <a:lnTo>
                  <a:pt x="452" y="1458"/>
                </a:lnTo>
                <a:lnTo>
                  <a:pt x="452" y="1447"/>
                </a:lnTo>
                <a:lnTo>
                  <a:pt x="441" y="1435"/>
                </a:lnTo>
                <a:lnTo>
                  <a:pt x="441" y="1413"/>
                </a:lnTo>
                <a:lnTo>
                  <a:pt x="441" y="1402"/>
                </a:lnTo>
                <a:lnTo>
                  <a:pt x="441" y="1379"/>
                </a:lnTo>
                <a:lnTo>
                  <a:pt x="452" y="1356"/>
                </a:lnTo>
                <a:lnTo>
                  <a:pt x="441" y="1334"/>
                </a:lnTo>
                <a:lnTo>
                  <a:pt x="441" y="1311"/>
                </a:lnTo>
                <a:lnTo>
                  <a:pt x="429" y="1277"/>
                </a:lnTo>
                <a:lnTo>
                  <a:pt x="418" y="1255"/>
                </a:lnTo>
                <a:lnTo>
                  <a:pt x="396" y="1232"/>
                </a:lnTo>
                <a:lnTo>
                  <a:pt x="384" y="1209"/>
                </a:lnTo>
                <a:lnTo>
                  <a:pt x="350" y="1198"/>
                </a:lnTo>
                <a:lnTo>
                  <a:pt x="328" y="11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6"/>
          <p:cNvSpPr/>
          <p:nvPr/>
        </p:nvSpPr>
        <p:spPr>
          <a:xfrm>
            <a:off x="5981760" y="3330720"/>
            <a:ext cx="581040" cy="711000"/>
          </a:xfrm>
          <a:custGeom>
            <a:avLst/>
            <a:gdLst>
              <a:gd name="textAreaLeft" fmla="*/ 0 w 581040"/>
              <a:gd name="textAreaRight" fmla="*/ 581400 w 58104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915" h="1096">
                <a:moveTo>
                  <a:pt x="622" y="667"/>
                </a:moveTo>
                <a:lnTo>
                  <a:pt x="588" y="712"/>
                </a:lnTo>
                <a:lnTo>
                  <a:pt x="542" y="757"/>
                </a:lnTo>
                <a:lnTo>
                  <a:pt x="452" y="848"/>
                </a:lnTo>
                <a:lnTo>
                  <a:pt x="350" y="927"/>
                </a:lnTo>
                <a:lnTo>
                  <a:pt x="248" y="995"/>
                </a:lnTo>
                <a:lnTo>
                  <a:pt x="192" y="1029"/>
                </a:lnTo>
                <a:lnTo>
                  <a:pt x="147" y="1051"/>
                </a:lnTo>
                <a:lnTo>
                  <a:pt x="101" y="1074"/>
                </a:lnTo>
                <a:lnTo>
                  <a:pt x="68" y="1085"/>
                </a:lnTo>
                <a:lnTo>
                  <a:pt x="45" y="1096"/>
                </a:lnTo>
                <a:lnTo>
                  <a:pt x="22" y="1096"/>
                </a:lnTo>
                <a:lnTo>
                  <a:pt x="11" y="1096"/>
                </a:lnTo>
                <a:lnTo>
                  <a:pt x="0" y="1096"/>
                </a:lnTo>
                <a:lnTo>
                  <a:pt x="0" y="1085"/>
                </a:lnTo>
                <a:lnTo>
                  <a:pt x="0" y="1074"/>
                </a:lnTo>
                <a:lnTo>
                  <a:pt x="11" y="1063"/>
                </a:lnTo>
                <a:lnTo>
                  <a:pt x="34" y="1040"/>
                </a:lnTo>
                <a:lnTo>
                  <a:pt x="56" y="1017"/>
                </a:lnTo>
                <a:lnTo>
                  <a:pt x="90" y="995"/>
                </a:lnTo>
                <a:lnTo>
                  <a:pt x="124" y="961"/>
                </a:lnTo>
                <a:lnTo>
                  <a:pt x="169" y="927"/>
                </a:lnTo>
                <a:lnTo>
                  <a:pt x="260" y="859"/>
                </a:lnTo>
                <a:lnTo>
                  <a:pt x="339" y="780"/>
                </a:lnTo>
                <a:lnTo>
                  <a:pt x="373" y="746"/>
                </a:lnTo>
                <a:lnTo>
                  <a:pt x="407" y="701"/>
                </a:lnTo>
                <a:lnTo>
                  <a:pt x="441" y="667"/>
                </a:lnTo>
                <a:lnTo>
                  <a:pt x="463" y="633"/>
                </a:lnTo>
                <a:lnTo>
                  <a:pt x="520" y="554"/>
                </a:lnTo>
                <a:lnTo>
                  <a:pt x="565" y="486"/>
                </a:lnTo>
                <a:lnTo>
                  <a:pt x="610" y="396"/>
                </a:lnTo>
                <a:lnTo>
                  <a:pt x="655" y="316"/>
                </a:lnTo>
                <a:lnTo>
                  <a:pt x="678" y="237"/>
                </a:lnTo>
                <a:lnTo>
                  <a:pt x="712" y="158"/>
                </a:lnTo>
                <a:lnTo>
                  <a:pt x="723" y="79"/>
                </a:lnTo>
                <a:lnTo>
                  <a:pt x="735" y="0"/>
                </a:lnTo>
                <a:lnTo>
                  <a:pt x="780" y="22"/>
                </a:lnTo>
                <a:lnTo>
                  <a:pt x="814" y="34"/>
                </a:lnTo>
                <a:lnTo>
                  <a:pt x="836" y="56"/>
                </a:lnTo>
                <a:lnTo>
                  <a:pt x="859" y="68"/>
                </a:lnTo>
                <a:lnTo>
                  <a:pt x="882" y="90"/>
                </a:lnTo>
                <a:lnTo>
                  <a:pt x="893" y="102"/>
                </a:lnTo>
                <a:lnTo>
                  <a:pt x="904" y="113"/>
                </a:lnTo>
                <a:lnTo>
                  <a:pt x="904" y="136"/>
                </a:lnTo>
                <a:lnTo>
                  <a:pt x="915" y="147"/>
                </a:lnTo>
                <a:lnTo>
                  <a:pt x="915" y="169"/>
                </a:lnTo>
                <a:lnTo>
                  <a:pt x="904" y="192"/>
                </a:lnTo>
                <a:lnTo>
                  <a:pt x="904" y="215"/>
                </a:lnTo>
                <a:lnTo>
                  <a:pt x="893" y="237"/>
                </a:lnTo>
                <a:lnTo>
                  <a:pt x="882" y="260"/>
                </a:lnTo>
                <a:lnTo>
                  <a:pt x="870" y="294"/>
                </a:lnTo>
                <a:lnTo>
                  <a:pt x="859" y="328"/>
                </a:lnTo>
                <a:lnTo>
                  <a:pt x="836" y="362"/>
                </a:lnTo>
                <a:lnTo>
                  <a:pt x="814" y="396"/>
                </a:lnTo>
                <a:lnTo>
                  <a:pt x="791" y="441"/>
                </a:lnTo>
                <a:lnTo>
                  <a:pt x="769" y="486"/>
                </a:lnTo>
                <a:lnTo>
                  <a:pt x="735" y="531"/>
                </a:lnTo>
                <a:lnTo>
                  <a:pt x="701" y="576"/>
                </a:lnTo>
                <a:lnTo>
                  <a:pt x="667" y="622"/>
                </a:lnTo>
                <a:lnTo>
                  <a:pt x="622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4610b912c8fcc3cebd1fb8909a45d688d53f20b1.jpg"/>
          <p:cNvPicPr/>
          <p:nvPr/>
        </p:nvPicPr>
        <p:blipFill>
          <a:blip r:embed="rId1"/>
          <a:stretch/>
        </p:blipFill>
        <p:spPr>
          <a:xfrm>
            <a:off x="-115920" y="-96840"/>
            <a:ext cx="4797360" cy="37418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7a899e510fb30f24ff87fbfdc095d143ad4b032a.jpg"/>
          <p:cNvPicPr/>
          <p:nvPr/>
        </p:nvPicPr>
        <p:blipFill>
          <a:blip r:embed="rId2"/>
          <a:stretch/>
        </p:blipFill>
        <p:spPr>
          <a:xfrm>
            <a:off x="0" y="3610080"/>
            <a:ext cx="4680000" cy="3411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5005440" y="414360"/>
            <a:ext cx="3887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寒号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它其实是一种像老鼠一样的啮齿类动物，体型像松鼠，前后脚之间有宽大的膜，居住在山崖的石壁缝隙中，因为怕冷，它经常日夜哀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612720" y="2862360"/>
            <a:ext cx="569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0"/>
          <p:cNvGrpSpPr/>
          <p:nvPr/>
        </p:nvGrpSpPr>
        <p:grpSpPr>
          <a:xfrm>
            <a:off x="1405080" y="1998720"/>
            <a:ext cx="5999040" cy="2628720"/>
            <a:chOff x="1405080" y="1998720"/>
            <a:chExt cx="5999040" cy="2628720"/>
          </a:xfrm>
        </p:grpSpPr>
        <p:sp>
          <p:nvSpPr>
            <p:cNvPr id="64" name="左大括号 21"/>
            <p:cNvSpPr/>
            <p:nvPr/>
          </p:nvSpPr>
          <p:spPr>
            <a:xfrm>
              <a:off x="1405080" y="2358720"/>
              <a:ext cx="815040" cy="2268720"/>
            </a:xfrm>
            <a:custGeom>
              <a:avLst/>
              <a:gdLst>
                <a:gd name="textAreaLeft" fmla="*/ 520920 w 815040"/>
                <a:gd name="textAreaRight" fmla="*/ 815400 w 815040"/>
                <a:gd name="textAreaTop" fmla="*/ 16920 h 2268720"/>
                <a:gd name="textAreaBottom" fmla="*/ 2251800 h 22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61"/>
                    <a:pt x="10800" y="522"/>
                  </a:cubicBezTo>
                  <a:lnTo>
                    <a:pt x="10800" y="10278"/>
                  </a:lnTo>
                  <a:cubicBezTo>
                    <a:pt x="10800" y="10539"/>
                    <a:pt x="5400" y="10800"/>
                    <a:pt x="0" y="10800"/>
                  </a:cubicBezTo>
                  <a:cubicBezTo>
                    <a:pt x="5400" y="10800"/>
                    <a:pt x="10800" y="11061"/>
                    <a:pt x="10800" y="11322"/>
                  </a:cubicBezTo>
                  <a:lnTo>
                    <a:pt x="10800" y="21078"/>
                  </a:lnTo>
                  <a:cubicBezTo>
                    <a:pt x="10800" y="21339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22"/>
            <p:cNvSpPr/>
            <p:nvPr/>
          </p:nvSpPr>
          <p:spPr>
            <a:xfrm>
              <a:off x="2292120" y="1998720"/>
              <a:ext cx="51120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áo</a:t>
              </a:r>
              <a:r>
                <a:rPr b="1" lang="zh-CN" sz="5400" spc="-1" strike="noStrike">
                  <a:solidFill>
                    <a:srgbClr val="ff0000"/>
                  </a:solidFill>
                  <a:latin typeface="宋体"/>
                </a:rPr>
                <a:t>（号叫 哀号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ào</a:t>
              </a:r>
              <a:r>
                <a:rPr b="1" lang="zh-CN" sz="5400" spc="-1" strike="noStrike">
                  <a:solidFill>
                    <a:srgbClr val="ff0000"/>
                  </a:solidFill>
                  <a:latin typeface="宋体"/>
                </a:rPr>
                <a:t>（口号 几号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"/>
          <p:cNvGrpSpPr/>
          <p:nvPr/>
        </p:nvGrpSpPr>
        <p:grpSpPr>
          <a:xfrm>
            <a:off x="757080" y="343080"/>
            <a:ext cx="2905200" cy="682560"/>
            <a:chOff x="757080" y="343080"/>
            <a:chExt cx="2905200" cy="682560"/>
          </a:xfrm>
        </p:grpSpPr>
        <p:sp>
          <p:nvSpPr>
            <p:cNvPr id="67" name="圆角矩形 31"/>
            <p:cNvSpPr/>
            <p:nvPr/>
          </p:nvSpPr>
          <p:spPr>
            <a:xfrm>
              <a:off x="1572840" y="4842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57080" y="3430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文本框 16"/>
            <p:cNvSpPr/>
            <p:nvPr/>
          </p:nvSpPr>
          <p:spPr>
            <a:xfrm>
              <a:off x="1832400" y="504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自读要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自由轻声读课文，画出课文中的生字新词，在不理解的词语和句子上做标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给自然段标上序号，结合插图想想：寒号鸟和喜鹊分别住在哪里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读完课文想想这究竟是一只怎样的寒号鸟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寒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号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鸟  一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堵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崖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当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做  喜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鹊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晴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朗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衔回来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枯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告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将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来 得过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且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过  寒冬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腊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月  狂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吼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重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复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哀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4"/>
          <p:cNvSpPr/>
          <p:nvPr/>
        </p:nvSpPr>
        <p:spPr>
          <a:xfrm>
            <a:off x="2629080" y="1711440"/>
            <a:ext cx="5283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àn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暖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hu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2"/>
          <p:cNvGrpSpPr/>
          <p:nvPr/>
        </p:nvGrpSpPr>
        <p:grpSpPr>
          <a:xfrm>
            <a:off x="882720" y="1384200"/>
            <a:ext cx="2905200" cy="682560"/>
            <a:chOff x="882720" y="1384200"/>
            <a:chExt cx="2905200" cy="682560"/>
          </a:xfrm>
        </p:grpSpPr>
        <p:sp>
          <p:nvSpPr>
            <p:cNvPr id="76" name="圆角矩形 31"/>
            <p:cNvSpPr/>
            <p:nvPr/>
          </p:nvSpPr>
          <p:spPr>
            <a:xfrm>
              <a:off x="1698480" y="152532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8420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文本框 16"/>
            <p:cNvSpPr/>
            <p:nvPr/>
          </p:nvSpPr>
          <p:spPr>
            <a:xfrm>
              <a:off x="1958040" y="15451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"/>
          <p:cNvSpPr/>
          <p:nvPr/>
        </p:nvSpPr>
        <p:spPr>
          <a:xfrm>
            <a:off x="1332000" y="3367080"/>
            <a:ext cx="792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5"/>
          <p:cNvGrpSpPr/>
          <p:nvPr/>
        </p:nvGrpSpPr>
        <p:grpSpPr>
          <a:xfrm>
            <a:off x="2484360" y="2935440"/>
            <a:ext cx="5662800" cy="1922040"/>
            <a:chOff x="2484360" y="2935440"/>
            <a:chExt cx="5662800" cy="1922040"/>
          </a:xfrm>
        </p:grpSpPr>
        <p:sp>
          <p:nvSpPr>
            <p:cNvPr id="81" name="左大括号 16"/>
            <p:cNvSpPr/>
            <p:nvPr/>
          </p:nvSpPr>
          <p:spPr>
            <a:xfrm>
              <a:off x="2484360" y="3007080"/>
              <a:ext cx="376200" cy="1789200"/>
            </a:xfrm>
            <a:custGeom>
              <a:avLst/>
              <a:gdLst>
                <a:gd name="textAreaLeft" fmla="*/ 240480 w 376200"/>
                <a:gd name="textAreaRight" fmla="*/ 376560 w 376200"/>
                <a:gd name="textAreaTop" fmla="*/ 10800 h 1789200"/>
                <a:gd name="textAreaBottom" fmla="*/ 1778400 h 178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17"/>
            <p:cNvSpPr/>
            <p:nvPr/>
          </p:nvSpPr>
          <p:spPr>
            <a:xfrm>
              <a:off x="2914560" y="2935440"/>
              <a:ext cx="523260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āng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（当时 应当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…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àng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（当做 上当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…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8:52:00Z</dcterms:created>
  <dc:creator>雨林木风</dc:creator>
  <dc:description/>
  <dc:language>en-US</dc:language>
  <cp:lastModifiedBy>ASUS</cp:lastModifiedBy>
  <dcterms:modified xsi:type="dcterms:W3CDTF">2018-10-05T08:29:22Z</dcterms:modified>
  <cp:revision>5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